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E4C8-3527-420D-8A4E-5D7333D6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923-6651-4386-9D90-83D34ED0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874-13F1-4CFB-9815-4D038A52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5F5-EADB-410F-92B3-0862646C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FC3F-EAAD-419E-BD12-90B98454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A176-35D9-409C-82C7-50EB5FBB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23BE-46E3-4299-8694-FB60B634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847F-4DC1-4B36-B0A9-A0397FFDA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FECB-9DFF-40C7-A917-3929500D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4F01-DF85-4977-B8FC-462786B7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85A2-2488-436D-AC7D-4FE87D13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4F4-757F-43F5-A46B-F01B5CD8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79C7-7C80-4712-AE9F-26D2300D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CF0F-D171-4EE7-8C04-0BECE86C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9D27-FE23-4A0B-8039-71EC9F0D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A97D-6611-4487-9CC8-D5C8D1F5B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8005-9128-476E-95AE-F22EA5302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BD52-105A-4FE0-AAFB-00F1EC329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2045D-ED8E-480C-844C-0F1CA4BD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38E7-8014-4B8D-B24A-1065537D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AB696-111C-4236-948B-BADCDF34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BFAFC-B78B-420D-8D08-A1066C5F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B74-0B10-4422-9CC5-B57CE7C95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1A712-E8CA-4904-83A9-884C17EA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936C-F291-4B5E-BE82-285117B9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5CAFD-F3A2-4DE7-8BB4-A23B918D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656BD-6DE1-4C83-90E2-D5690580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16496-30DA-4128-A257-4BD1D918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6F448-32B6-4484-A2C7-7FC5AF80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5A2BD-185E-4AA5-9A4E-E6548E01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F7AC6-EEAD-4E6D-BDC1-75C6BF7B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59D48-32FE-4C23-B8C5-31DAC9C8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5A4A5-E180-4F09-98C0-A1759D0F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EED3-80C6-4001-8801-C56BB872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D8F43-14CE-42F0-9189-03299114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E3FC4-47E2-49B2-94D3-38BCCA3F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99DF9-7E55-4113-89AD-4E672CA4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CD6A7-1F20-4F85-B61F-C3916F08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E0A65-156B-40F3-9E18-BB8863AE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53FE7-DF74-4191-B206-28DEDF91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102B-BE24-4A71-B6B5-44820DBA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C930F-46C6-485A-B3A9-D7E641A1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63F48-5C4D-4C88-858C-4F0823E4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D26-4774-4FE9-9878-4F7E3356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E5C2-75D1-4D14-9505-3C283FE8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E56-5FB5-449E-A8AA-3D0B1136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DE7-BB65-41EF-9B62-079C0A8C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48E-39D1-4BDE-8782-1DDDE909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1695-9228-4C5E-A1E9-A2E027D9E8E0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0E72-D3FE-42D8-9E85-4F21C49D95FF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igura a mano libera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igura a mano libera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po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igura a mano libera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igura a mano libera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igura a mano libera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igura a mano libera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C814-1055-4229-95A4-56F888A3553B}" type="slidenum">
              <a:rPr b="0" lang="it-IT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itaglia e arrotonda singolo angolo rettangolo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olo rettangolo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igura a mano libera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igura a mano libera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2179-CA72-49FE-9EDD-89DDD10682F3}" type="slidenum">
              <a:rPr b="0" lang="it-IT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olo 1" descr=""/>
          <p:cNvPicPr/>
          <p:nvPr/>
        </p:nvPicPr>
        <p:blipFill>
          <a:blip r:embed="rId1"/>
          <a:stretch/>
        </p:blipFill>
        <p:spPr>
          <a:xfrm>
            <a:off x="530280" y="1206360"/>
            <a:ext cx="8289720" cy="2060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3008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L’alterazione del “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” e’ la base della malattia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Relazione del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Giornalista (Albo speciale)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Specializzato in Sanita’ da 40 anni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dr. G. Paolo Vanoli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ON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 medico) ma Naturopata.</a:t>
            </a:r>
            <a:br>
              <a:rPr sz="2000"/>
            </a:br>
            <a:r>
              <a:rPr b="1" lang="it-IT" sz="2000" spc="-1" strike="noStrike">
                <a:solidFill>
                  <a:srgbClr val="dbf5f9"/>
                </a:solidFill>
                <a:latin typeface="Calibri"/>
              </a:rPr>
              <a:t>Webmaster</a:t>
            </a:r>
            <a:r>
              <a:rPr b="0" lang="it-IT" sz="2000" spc="-1" strike="noStrike">
                <a:solidFill>
                  <a:srgbClr val="dbf5f9"/>
                </a:solidFill>
                <a:latin typeface="Calibri"/>
              </a:rPr>
              <a:t> di</a:t>
            </a:r>
            <a:r>
              <a:rPr b="1" lang="it-IT" sz="2000" spc="-1" strike="noStrike">
                <a:solidFill>
                  <a:srgbClr val="dbf5f9"/>
                </a:solidFill>
                <a:latin typeface="Calibri"/>
              </a:rPr>
              <a:t> http://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www.mednat.org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Guida alla Salute Naturale</a:t>
            </a: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”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Calibri"/>
              </a:rPr>
              <a:t>e.mail: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fo@mednat.org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ff0000"/>
                </a:solidFill>
                <a:latin typeface="Calibri"/>
              </a:rPr>
              <a:t>VACCINI e TERRENO (c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Virus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che sono anche neutropici (sostanza attratta dal sistema nervoso periferico e centrale), possono anche essere trasportati fin dentro nel cervello dal sangue e/o dalla via purinica, alterando fortemente il tessuto nervoso ed eccitando la glia ed i neuroni, ed impedendo anche alle altre cellule di sintetizzare la mielina sostanza che ricopre i nervi, i neuroni quindi  "impazziscono", e le sinapsi sono alterate; si altera anche il rapporto acido/base e generando stress ossidativo nelle cellule ed ischemie,  quindi nascono turbe neurologiche, che sfociano anche nell'autismo, epilessie, disfunzioni dello sviluppo, adhd, adem e non solo...senza contare gl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innumerevol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altri sintomi che vengono chiamati impropriamente "malattie" e che possono essere anche collaterali e presentarsi poco dopo, ma alle volte questi possono rimanere latenti, e sfociare e manifestarsi con il tempo, anche dopo anni e/o decenn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NON esiste malattia che non possa essere scatenata dai Vaccini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–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gni vaccinato ha delle predisposizioni anche genetiche ereditate, quindi con 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Vacci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i espone a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omatizzazione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qualsiasi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tip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i sintomo (malatti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ff0000"/>
                </a:solidFill>
                <a:latin typeface="Calibri"/>
              </a:rPr>
              <a:t>VACCINI e TERRENO (d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Nelle cellule il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vaccin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con le sue tossine)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alter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l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funzioni principal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ella cellula, cioe' il suo metabolismo, che principalmente comprende il ciclo di krebs, la produzione e sintesi con specializzazione delle proteine e la produzione di ATP per le alterazioni indotte ai mitocondri, nei quali si altera facilmente il DNA/RNA, generando anche mutazioni genetiche trasmissibili e riproducibili nella prole, specie se questa verra' vaccinata; questo processo si chiama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slatentizzazio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l virus della Polio (anche se attenuato) o qualsiasi altro virus, iniettato con il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vacci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oltre a creare mutazioni genetiche trasmissibili alla prole,  il virus vaccinico (proteina di lipidi, complessa, tossica, a DNA ed eterologa=estranea, che facilmente con l'apporto dei linfociti che li coorpano, intasano ed alle volte ostruiscono il microcircolo dei tessuti generando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ischemi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..che possono anche rimanere latenti ed esplodere in uno stato febbrile, anche in la negli anni)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000080"/>
            <a:ext cx="8229600" cy="53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oltre i vaccini creano mutazioni Genetiche  nei Mitocondri delle cellule, mutazioni che sono trasmissibili alla prole, dalla via della madr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le cellule infettate d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iru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risvegli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i retrovirus piu’ vecchi. Dei ricercatori hanno osservato che quando il metabolismo della cellula infettata da un virus (NdR: che puo’ essere anche vaccinale) essa viene ingannata al fine di riprodurre il virus, pero’ in ess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cad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la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funzionalità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alcune reazioni biochimiche di contenimento e di funzione cellulare: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intesi e specializzazione delle prote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specializzazione degli enzimi e duplicazione del D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'infezione da virus vaccinale e’ in grado quindi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riattivare genomi di precedenti viru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o d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quelli iniettati con i vacci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i genitori, nonni, avi del vaccinato, virus, che erano divenuti parte del genoma delle cellule dei genitori, nonni, avi, generando anticipatamente qualsiasi tipo di patologia; il meccanismo si chiama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slatentizz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 fatto 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acci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ono un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cocktail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oss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ltament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ericolo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he possono rimanere inerti per anni e riesplodere come bombe a tempo anche dopo 30-40 anni o piu’… che alterano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in modo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mportant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specie negli organismi non perfettamente sani, per problemi ereditari e/o di alimentazione inadatta alla Perfetta Salut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TERRENO e VACCI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4617b"/>
                </a:solidFill>
                <a:latin typeface="Calibri"/>
              </a:rPr>
              <a:t>Terren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: si identificano con questo termine i liquidi del corpo (liquidi extra ed intra cellulari) di un essere Vivente che sono soluzioni biologiche ed i suoi valori sono identificabili e certificabili, con le apparecchiature gia’ indicate.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I suoi valori di pH (acido-base) + rH (carica bioelettronica) + ro’ (conducibilita’ o resitivita’ = resistenza della soluzione al passaggio della corrente) essendo identificabili, permettono di controllare tutte le possibili variazioni che possono intervenire con l’introduzione nell’organismo analizzato (es. con i </a:t>
            </a:r>
            <a:r>
              <a:rPr b="1" lang="it-IT" sz="1700" spc="-1" strike="noStrike">
                <a:solidFill>
                  <a:srgbClr val="ff0000"/>
                </a:solidFill>
                <a:latin typeface="Calibri"/>
              </a:rPr>
              <a:t>Vaccini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700"/>
            </a:br>
            <a:r>
              <a:rPr b="1" lang="it-IT" sz="1700" spc="-1" strike="noStrike">
                <a:solidFill>
                  <a:srgbClr val="ff0000"/>
                </a:solidFill>
                <a:latin typeface="Calibri"/>
              </a:rPr>
              <a:t>Nessun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nella medicina ufficiale utilizza queste apparecchiature, e neppure le conosce ! Eppure sarebbero molto utili per fare delle indagini in campo sanitario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La prima alterazione che un vaccino produce e’ di tipo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Bioelettronic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(pH + rH + ro’) e quindi si alterano i valori della Perfetta salute, all’introduzione di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qualsiasi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700" spc="-1" strike="noStrike">
                <a:solidFill>
                  <a:srgbClr val="ff0000"/>
                </a:solidFill>
                <a:latin typeface="Calibri"/>
              </a:rPr>
              <a:t>vaccin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1700"/>
            </a:b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Di caduta, cioe’ a cascata, le variazioni bioelettroniche determinano quelle biochimiche nel </a:t>
            </a:r>
            <a:r>
              <a:rPr b="1" lang="it-IT" sz="1700" spc="-1" strike="noStrike">
                <a:solidFill>
                  <a:srgbClr val="04617b"/>
                </a:solidFill>
                <a:latin typeface="Calibri"/>
              </a:rPr>
              <a:t>Terren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(i liquidi extra ed intra cellulari) e quindi nella Matrice e nella micro circolazione e quindi con la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malfunzione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cellulare per il ridotto apporto di </a:t>
            </a:r>
            <a:r>
              <a:rPr b="1" lang="it-IT" sz="1700" spc="-1" strike="noStrike">
                <a:solidFill>
                  <a:srgbClr val="04617b"/>
                </a:solidFill>
                <a:latin typeface="Calibri"/>
              </a:rPr>
              <a:t>ossigen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e quello dei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nutrienti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ed </a:t>
            </a:r>
            <a:r>
              <a:rPr b="1" lang="it-IT" sz="1700" spc="-1" strike="noStrike">
                <a:solidFill>
                  <a:srgbClr val="ff0000"/>
                </a:solidFill>
                <a:latin typeface="Calibri"/>
              </a:rPr>
              <a:t>impedendo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 l’eliminazione di cio’ che non necessita e/o </a:t>
            </a:r>
            <a:r>
              <a:rPr b="1" lang="it-IT" sz="1700" spc="-1" strike="noStrike">
                <a:solidFill>
                  <a:srgbClr val="ff0000"/>
                </a:solidFill>
                <a:latin typeface="Calibri"/>
              </a:rPr>
              <a:t>tossine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, alterando quindi le funzioni piu’ importanti delle </a:t>
            </a:r>
            <a:r>
              <a:rPr b="1" lang="it-IT" sz="1700" spc="-1" strike="noStrike">
                <a:solidFill>
                  <a:srgbClr val="000000"/>
                </a:solidFill>
                <a:latin typeface="Calibri"/>
              </a:rPr>
              <a:t>cellule</a:t>
            </a:r>
            <a:r>
              <a:rPr b="0" lang="it-IT" sz="1700" spc="-1" strike="noStrike">
                <a:solidFill>
                  <a:srgbClr val="000000"/>
                </a:solidFill>
                <a:latin typeface="Calibri"/>
              </a:rPr>
              <a:t>, con le conseguenze del caso nei tessuti e negli organi o sistemi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MICRO CIRCOLAZIONE</a:t>
            </a:r>
            <a:br>
              <a:rPr sz="5000"/>
            </a:b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venosa ed arteriosa)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Segnaposto contenuto 3" descr="micro_circolazione.gif"/>
          <p:cNvPicPr/>
          <p:nvPr/>
        </p:nvPicPr>
        <p:blipFill>
          <a:blip r:embed="rId1"/>
          <a:stretch/>
        </p:blipFill>
        <p:spPr>
          <a:xfrm>
            <a:off x="755640" y="2349360"/>
            <a:ext cx="3809880" cy="2928960"/>
          </a:xfrm>
          <a:prstGeom prst="rect">
            <a:avLst/>
          </a:prstGeom>
          <a:ln w="0">
            <a:noFill/>
          </a:ln>
        </p:spPr>
      </p:pic>
      <p:pic>
        <p:nvPicPr>
          <p:cNvPr id="223" name="Immagine 4" descr="sistema_nervoso_simpatico_microcircolazione.gif"/>
          <p:cNvPicPr/>
          <p:nvPr/>
        </p:nvPicPr>
        <p:blipFill>
          <a:blip r:embed="rId2"/>
          <a:stretch/>
        </p:blipFill>
        <p:spPr>
          <a:xfrm>
            <a:off x="4788000" y="2349360"/>
            <a:ext cx="4155840" cy="2951280"/>
          </a:xfrm>
          <a:prstGeom prst="rect">
            <a:avLst/>
          </a:prstGeom>
          <a:ln w="0">
            <a:noFill/>
          </a:ln>
        </p:spPr>
      </p:pic>
      <p:sp>
        <p:nvSpPr>
          <p:cNvPr id="224" name="Rettangolo 5"/>
          <p:cNvSpPr/>
          <p:nvPr/>
        </p:nvSpPr>
        <p:spPr>
          <a:xfrm>
            <a:off x="539640" y="5661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i fatti la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alatt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qualsiasi)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nas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ologicament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propri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l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icrocircol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TERRENO e VACCI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cco 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alcune delle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principali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 alterazio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l Terreno dopo un qualsiasi vaccino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terazione della funzione cellulare (Il DNA corporeo per mezzo del CEM, la via sanguigna e linfatica informano immediatamente le cellule delle proteine tossiche a DNA introdotte con la vaccinazione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schemie piu’ o meno importanti nei tessuti biologici del corp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terazione della funzione dei mitocondri nelle cellule per l’alterazione del DNA mitocondrial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terazione della flora batterica autoctona (per la alterazione del pH + rH + ro’ dei liquidi dell’apparato digerente) e quindi quella delle normali digestioni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terazione degli enzimi e quindi del sistema enzimatico, essenziale per i processi biochimici essenziali alla perfetta salut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 potremmo continuare……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indi qualsiasi tipo di malattia puo’ essere creata in un soggetto se questo si sottopone a queste infauste profilassi in-sanitarie !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Mutazioni Genetiche indotte  con i vaccini, possono essere anche regalate alla prole che le slatentizzera’ facilmente in tenera eta’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TERRENO e MATRICE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4617b"/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’ rappresentato dai liquidi del corpo (extra ed intra cellulari)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finizion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Matric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biologia la matrice è il materiale viscoso ed amorfo che collega le cellule alle fibre, dando cosi origine al Tessuto Connettivo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 seconda del tipo di tessuto in cui si trova, si differenzia per quantità e composizione, variando il proprio stato da gel denso a sol liquido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 generale, è composto da acqua (fase disperdente), mucopolisaccaridi acidi e glicoproteine strutturali (fase dispersa). Sono comunque reperibili in essa enzimi, vitamine, anticorpi, etc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a matrice extracellulare ha compiti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nutrimen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ifesa dalle sostanze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ossich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che ci avvelenano,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tossican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ed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fiamm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indi il corpo umano s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ammal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olamente quando in essa quest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iusti Rapport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Calibri"/>
              </a:rPr>
              <a:t>altera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la guarigio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EV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seguir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ssolutament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d in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imi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per il riordino di questi rapporti alterati. 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indi quando la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truttura base della matric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xtracellulare ed intracellulare si altera, nascono le intossicazioni,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fiamma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el tessuto e quindi i primi sintomi, nelle zone interessate (organi o sistemi) della malatt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RIORDINO della MATR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e abbiamo visto la Matrice e’ la base sulla quale si innesta=crea, cio e’ i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essuto connettiv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che è un particolare tipo di tessuto delle forme viventi superiori che provvede al collegamento, sostegno e nutrimento dei tessuti dei vari organi derivante dal tessuto connettivo embrional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Il Corpo Uman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cosi come tutti gli esseri Viventi)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 e' ben not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e' un'insieme di cellule e quindi esso segue e sopravvive con i Principi e gli Schemi del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funzionamento della Cellul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la quale come e' ben evidenziato in questa pagina funziona per mezzo dei </a:t>
            </a:r>
            <a:r>
              <a:rPr b="1" lang="it-IT" sz="2000" spc="-1" strike="noStrike">
                <a:solidFill>
                  <a:srgbClr val="04617b"/>
                </a:solidFill>
                <a:latin typeface="Calibri"/>
              </a:rPr>
              <a:t>Giusti Rapporti</a:t>
            </a:r>
            <a:r>
              <a:rPr b="0" lang="it-IT" sz="2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fra l'ambiente esterno il liquido extracellulare e quello interno (liquido intracellulare), i quali sono determinati in primis dai rispettiv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- regolati nei loro giusti rapporti dai process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acidi-bas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dalla loro carica ionica - bio elettronic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H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 dallo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ro'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resistivita' e/o conducibilita') extra ed intra cellulare, e cioe' dal tipo di potere ossido-riduttivo d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Matric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= i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erren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RIORDINO della MATR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ando la </a:t>
            </a:r>
            <a:r>
              <a:rPr b="1" lang="it-IT" sz="2000" spc="-1" strike="noStrike">
                <a:solidFill>
                  <a:srgbClr val="04617b"/>
                </a:solidFill>
                <a:latin typeface="Calibri"/>
              </a:rPr>
              <a:t>Matric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alter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lo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stress ossidativo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ellulare compare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 Ricordarsi che le alterazioni degli enzimi, della flora, del pH digestivo e e dell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mucos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testinale influenzano  la salute,  non soltanto a livello intestinale, ma anche a distanza in qualsiasi parte dell'organismo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riordinare la Matrice occorre variare il pH + rH + ro’ dei liquidi del corpo e quindi quelli della Matrice + Tessuto Connettivo extracellulare e quindi per cascata chimica, quelli intra cellular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r fare cio’ e’ necessario utilizzare i Sali tampone (Ipocloruro di sodio, Bicarbonato di Sodio, Magnesio, Ascorbato di Potassio ecc.) ed inserire una alimentazione prettamente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Crugivor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frutta e verdura di stagione frullate) – con questo tipo di alimentazione otteniamo due scopi: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isintossicazio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disinfiammazione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deionizzazio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dell’organismo, iniziando dall’apparato digeren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RIORDINO della MATRI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ntemporaneamente occorre far assumere dei fermenti lattici (scegliere il tipo a seconda dei casi) + enzimi vegetali + carbone vegetale, finocchio ed anice il tutto in capsule, dopo i pasti + capsule di aglio + biancospino alla sera prima di dormir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idrocolon Terapia sara’ di ausilio in moltissimi casi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Assunzione giornaliera di alghe Kelp, per detossificare assieme al carbone vegeta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idro terapia esterna sara’ di ausilio in molti cas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’applicazione giornaliera dell’equilibratore ionico, per scaricare le tensioni di energia elettrostatica che sempre sono presenti in ognuno di noi per il tipo di inquinamento (elettrosmog) elettromagnetic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vorare anche sulla psiche del malato con appositi test e terapie per ottenere nei vari casi, il miglioramento di attenzione, concentrazione e linguaggi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 VACCINI sono soluzioni biologiche eterologhe, cioe’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OTALMENTE estranee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ll’organismo umano, il piu’ delle volte derivanti da colture preparate con cellule animali (scimmie, polli, ecc..) – sono da definirsi, quelli a virus, come Proteine di lipidi (grassi) complesse, contenenti un frammento di DNA/RNA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– i Virus NON  SONO  MICRO ORGANISMI, come falsamente ci raccontan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 Vaccini contengono tanti prodotti tossico-nocivi (formaldeide, metalli pesanti, nanoparticelle, antibiotici potenti, contaminanti occulti, sostanze pericolose, virus tossici ecc.)  e forse nei prossimi anni, anche chips per il controllo degli umani ed animali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ON e’ possibile, per ammissione degli stessi fabbricanti, creare soluzioni vaccinali PURE 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’inoculazione dei Vaccini avviene “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bypassando le vie naturali di difesa del Sistema Immunitari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”, perche con l’iniezione vaccinale si passano tutte quelle barriere che la natura ha preparato in milioni di anni per preservare le varie specie animali ed umane dal proprio annientament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200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br>
              <a:rPr sz="4500"/>
            </a:br>
            <a:r>
              <a:rPr b="1" lang="it-IT" sz="5400" spc="-1" strike="noStrike">
                <a:solidFill>
                  <a:srgbClr val="ff0000"/>
                </a:solidFill>
                <a:latin typeface="Calibri"/>
              </a:rPr>
              <a:t>Per TUTTI i particolari </a:t>
            </a:r>
            <a:br>
              <a:rPr sz="5400"/>
            </a:br>
            <a:r>
              <a:rPr b="1" lang="it-IT" sz="4400" spc="-1" strike="noStrike">
                <a:solidFill>
                  <a:srgbClr val="ff0000"/>
                </a:solidFill>
                <a:latin typeface="Calibri"/>
              </a:rPr>
              <a:t>di questa Relazione</a:t>
            </a:r>
            <a:br>
              <a:rPr sz="44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78568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it-IT" sz="2900" spc="-1" strike="noStrike">
                <a:solidFill>
                  <a:srgbClr val="ff0000"/>
                </a:solidFill>
                <a:latin typeface="Arial"/>
                <a:ea typeface="Arial"/>
              </a:rPr>
              <a:t>Visitate il piu’ completo Portale </a:t>
            </a:r>
            <a:r>
              <a:rPr b="0" lang="it-IT" sz="2900" spc="-1" strike="noStrike">
                <a:solidFill>
                  <a:srgbClr val="000000"/>
                </a:solidFill>
                <a:latin typeface="Arial"/>
                <a:ea typeface="Arial"/>
              </a:rPr>
              <a:t>web </a:t>
            </a:r>
            <a:br>
              <a:rPr sz="2900"/>
            </a:br>
            <a:r>
              <a:rPr b="0" lang="it-IT" sz="2900" spc="-1" strike="noStrike">
                <a:solidFill>
                  <a:srgbClr val="000000"/>
                </a:solidFill>
                <a:latin typeface="Arial"/>
                <a:ea typeface="Arial"/>
              </a:rPr>
              <a:t>sulle Medicine Biologico Naturali: </a:t>
            </a:r>
            <a:br>
              <a:rPr sz="2900"/>
            </a:br>
            <a:r>
              <a:rPr b="1" lang="it-IT" sz="2900" spc="-1" strike="noStrike">
                <a:solidFill>
                  <a:srgbClr val="ff0000"/>
                </a:solidFill>
                <a:latin typeface="Arial"/>
                <a:ea typeface="Arial"/>
              </a:rPr>
              <a:t>www.mednat.org</a:t>
            </a:r>
            <a:br>
              <a:rPr sz="2900"/>
            </a:b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Webmaster: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dr.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G. Paolo Vano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(Giornalista specializzato in Sanita’ da 40 anni e Consulente in Scienza della Nutrizione e Medicine Naturali)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nfo@mednat.or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Un virus vie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uplicato=replicat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a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"ospitante“, cioe’ dalla cellula, solo quando l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condi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que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rreno = Matric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so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alterat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citoplasma della cellula), cioe' quando un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virus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portatore d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informa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atogene nel caso di virus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Eterolog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tossico nociv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Eterolog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 organo, tessuto o sostanza organica che proviene da una specie diversa da quella in oggetto), e non tossico quando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Autolog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corporeo, proveniente da materiale proprio, di scarto (proteine complesse a DNA provenienti dall’apoptosi cellulare, ed in special modo dai mitocondri, scarti da eliminare),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sso viene isolato ed in genere immediatamente eliminato od isolato ed immagazzinato nei grassi dei tessuti, perche' decodificato = riconosciuto dal DNA del mitocondrio, come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oss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ma se il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erre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ellulare (citoplasma cellulare con il suo contenuto anche genetico) e'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gia' alterato,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on e' in grado di riconoscerlo subito com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Tossi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esso viene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rroneamente introdotto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per le alterazioni cellulari preesistenti),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quindi decodificato, replicato (dal sistema di "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duplicazione del DN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" della cellula stessa + la funzione cellulare di "sintesi e specializzazione delle proteine") e ridistribuito alle altre cellule, che se malate anch'esse, riproducono lo stesso meccanismo, creando quindi una reazione a catena che fa scattare l'infezione tissutale e con il tempo anche organica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717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Quando il sistema Immunitario aspecifico, viene super stimolato, con i vaccini, bypassando le normali e naturali barriere immunitarie (informatiche + biochimiche + biofisiologiche) esso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  <a:ea typeface="Arial"/>
              </a:rPr>
              <a:t>va in confusion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, cioe’ non e’ piu’ capace, per i vaccini introdotti, di reagire a 360° per la  Perfetta Salute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Es. i giusti rapporti fra T1 e T2 (ormoni) vengono alterat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Noi nasciamo con un Sistema Immunitario (aspecifico) adatto a reazioni a 360°, cioe’ a qualsiasi evenienza –  il vaccino tende e tenta di specializzarlo e quindi il Sist. Immunitario NON e’ piu’ in grado di reagire in difesa immunitaria  a 360° , con tutte le conseguenze del caso, perche’ va in confusion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Ecco perche’ i bambini figli di vaccinati (siamo alla 3° generazione) sono sempre piu’ deboli della generazione precedente e si ammalano sempre di piu’ dei NON vaccinati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  <a:ea typeface="Arial"/>
              </a:rPr>
              <a:t>I pediatri sono allarmati per questo esponenziale aumento nei bambini di: allergie, otiti, asma, anemie, leucemie, epilessie, autismo, adhd, dislessie, cancri, linfomi, malformazioni genetiche, malattie autoimmuni,  gastroenteriche, distrofie, sclerosi, ec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ggi 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vaccini singoli NON esistono piu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’; sono stati ritirati dal commercio per poter vendere e spacciare per obbligatori anche quelli che non lo sono, tipo il vaccino per il morbillo, rosolia, pertosse, ecc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ggi siamo arrivati ad iniettare in un colpo solo 6 vaccini nell’esavalente, ma sono in preparazione gli eptavalenti e presto vaccino contenti 12 e piu’ vaccini, e in un prossimo, forse anche contenenti dei Chips per il “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ntroll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” degli esseri umani, probabilmente anche quello per l’influenza detta “pandemica” creata e diffusa appositamente per spaventare i popoli della Terr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Queste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soluzioni TOSSICHE eterologhe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 i 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Vacci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una volta inoculate negli organismi viventi, creano reazioni Bioelettroniche e di conseguenza e successivamente per caduta, reazioni Biochimiche che destabilizzano il </a:t>
            </a:r>
            <a:r>
              <a:rPr b="1" lang="it-IT" sz="2000" spc="-1" strike="noStrike">
                <a:solidFill>
                  <a:srgbClr val="0b5395"/>
                </a:solidFill>
                <a:latin typeface="Calibri"/>
              </a:rPr>
              <a:t>TERRENO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(i liquidi del corpo) dalla Perfetta Salut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Calibri"/>
              </a:rPr>
              <a:t>OGNIUNO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 ha un suo proprio e particolare tipo di </a:t>
            </a:r>
            <a:r>
              <a:rPr b="1" lang="it-IT" sz="1900" spc="-1" strike="noStrike">
                <a:solidFill>
                  <a:srgbClr val="0b5395"/>
                </a:solidFill>
                <a:latin typeface="Calibri"/>
              </a:rPr>
              <a:t>TERRENO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, che e’ identificabile con semplici tecniche di ambulatorio (SISBQ) e/o con apparecchiature bio Elettroniche (BTA=BEV).</a:t>
            </a:r>
            <a:br>
              <a:rPr sz="1900"/>
            </a:b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Ecco perche’ prima di fare </a:t>
            </a:r>
            <a:r>
              <a:rPr b="1" lang="it-IT" sz="1900" spc="-1" strike="noStrike">
                <a:solidFill>
                  <a:srgbClr val="ff0000"/>
                </a:solidFill>
                <a:latin typeface="Calibri"/>
              </a:rPr>
              <a:t>Terrorismo psicologico Iatrogeno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, per mezzo dei mass media, 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i medici dovrebbero testare il paziente con la Semeiotica Biofisica Quantistica 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(SISBQ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), per conoscere il suo proprio </a:t>
            </a:r>
            <a:r>
              <a:rPr b="1" lang="it-IT" sz="1900" spc="-1" strike="noStrike">
                <a:solidFill>
                  <a:srgbClr val="0b5395"/>
                </a:solidFill>
                <a:latin typeface="Calibri"/>
              </a:rPr>
              <a:t>TERRENO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, ma l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e Universita’ 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che li 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dovrebbe istruire, </a:t>
            </a:r>
            <a:r>
              <a:rPr b="1" lang="it-IT" sz="1900" spc="-1" strike="noStrike">
                <a:solidFill>
                  <a:srgbClr val="ff0000"/>
                </a:solidFill>
                <a:latin typeface="Calibri"/>
              </a:rPr>
              <a:t>NON lo fanno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….per i noti “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collegamenti ideologici” 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con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it-IT" sz="1900" spc="-1" strike="noStrike">
                <a:solidFill>
                  <a:srgbClr val="ff0000"/>
                </a:solidFill>
                <a:latin typeface="Calibri"/>
              </a:rPr>
              <a:t>BIG PHARMA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, che controlla le loro linee guida di insegnamento ai futuri medici, e finanzia e controlla negli USA  e negli altri paesi del mondo, i vari Enti governativi: EMEA, AIFA, Ministeri 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della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 “sanita”, I.S.S., Ordini 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dei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 medici 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 medici stessi….</a:t>
            </a:r>
            <a:br>
              <a:rPr sz="1900"/>
            </a:br>
            <a:r>
              <a:rPr b="1" lang="it-IT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it-IT" sz="1900" spc="-1" strike="noStrike">
                <a:solidFill>
                  <a:srgbClr val="ff0000"/>
                </a:solidFill>
                <a:latin typeface="Calibri"/>
              </a:rPr>
              <a:t>virus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 lo ripetiamo,  </a:t>
            </a:r>
            <a:r>
              <a:rPr b="1" lang="it-IT" sz="1900" spc="-1" strike="noStrike">
                <a:solidFill>
                  <a:srgbClr val="ff0000"/>
                </a:solidFill>
                <a:latin typeface="Calibri"/>
              </a:rPr>
              <a:t>NON sono esseri viventi</a:t>
            </a:r>
            <a:r>
              <a:rPr b="0" lang="it-IT" sz="1900" spc="-1" strike="noStrike">
                <a:solidFill>
                  <a:srgbClr val="000000"/>
                </a:solidFill>
                <a:latin typeface="Calibri"/>
              </a:rPr>
              <a:t>, bensì un’involucro (capside) di Proteine complesse lipidiche (grassi) con all’interno un frammento di DNA eterologo, cioe’ estraneo al DNA umano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ff0000"/>
                </a:solidFill>
                <a:latin typeface="Calibri"/>
              </a:rPr>
              <a:t>VACCINI e TERREN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125360"/>
            <a:ext cx="822960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NESSUN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Ente governativo: FDA (USA) - EMEA (EU) – in Italia,  Ministero della Salute, ISS + NAS, effettua un qualsiasi tipo di analisi dei vaccini in commercio, per controllarne il contenuto e/o la tossicita’ dei vari prodotti inseriti in essi, salvo su richiesta di un Giudice del Tribunale.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TUTTI gli Enti governativi si “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fidan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” dei documenti di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BIG PHARMA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….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NESSUN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nel mondo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ha MA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effettuato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un studio in “doppio cieco” fra bambini vaccinati e bambini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A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vaccinati.</a:t>
            </a:r>
            <a:br>
              <a:rPr sz="1600"/>
            </a:b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NESSUN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ha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MAI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controllat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cosa avviene nei vaccinati, dopo 3 mesi, 1 anno, 3 anni, 5 anni, 10 anni, 20 anni, 30 anni !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Le prove ?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it-IT" sz="1600" spc="-1" strike="noStrike">
                <a:solidFill>
                  <a:srgbClr val="ff0000"/>
                </a:solidFill>
                <a:latin typeface="Calibri"/>
              </a:rPr>
              <a:t>www.mednat.org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trovate tutte le email inviate al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inistero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Italiano della “salute” + AIFA + EMEA, ISS, ecc. i quali sono stati 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informat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sui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Danni dei Vaccin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, con la varia e molteplice corrispondenza intercorsa fra il sottoscritto e questi Enti…..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 quali fino ad oggi NON hanno ancora risposto in modo chiaro ed esaustivo ed hanno ammesso che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NON fanno nessun tipo di control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ui vaccini !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Questi i meccanismi di azione dei Vaccini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Siccome ogni cosa esistente in natura e quindi anche le soluzioni biologiche, possono essere identificate e denominate con precisione, per mezzo delle loro frequenze e/o Campo Elettromagnetico, con apposite apparecchiature bioelettroniche (es. Bioelettrometro); queste possibilita’ di analisi precise, permettono di quantificare i valori bioelettronici (pH + rH + ro’, resistivita’ o conducibilita’ di qualsiasi soluzione biologica, lo sono anche i liquidi dei corpi Viventi) e  quindi diviene facile identificare e dimostrare le alterazioni che essi subiscono quando si interviene dall’esterno con qualsiasi azione (es. la </a:t>
            </a:r>
            <a:r>
              <a:rPr b="1" lang="it-IT" sz="1600" spc="-1" strike="noStrike">
                <a:solidFill>
                  <a:srgbClr val="ff0000"/>
                </a:solidFill>
                <a:latin typeface="Calibri"/>
              </a:rPr>
              <a:t>Vaccinazione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000" spc="-1" strike="noStrike">
                <a:solidFill>
                  <a:srgbClr val="ff0000"/>
                </a:solidFill>
                <a:latin typeface="Calibri"/>
              </a:rPr>
              <a:t>VACCINI e TERRENO (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seconde alterazioni dei Vaccini avvengono a livello tissutale provocando ischemie ed alterazioni delle funzioni delle cellule, perche’ queste ultime, dopo il vaccino possono non essere piu’ capaci di sintetizzare e specializzare le proteine, perche’ i Geni che ordinano all’interno delle cellule queste funzioni, vanno in confusione, anche perche la microcircolazione tissutale, una volta intasata dalle sostanza tossiche vaccinali, vi si creano e manifestano in diversi soggetti anche delle ischemie, che con il protrarsi del tempo generano gravi handicap nei bambini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Inoltre i vaccini creano mutazioni Genetiche nei Mitocondri delle cellule, mutazioni che sono trasmissibili alla prole, dalla via della madre, e nei mitocondri alterano anche la produzione di ATP , cioe’ la produzione di energ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i fatto i Vaccini sono un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cocktail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d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ossi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altamente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pericolos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che possono rimanere inerti per anni e riesplodere come bombe a tempo anche dopo 30-40 anni o piu’… e che alterano il Terreno in modo importante, specie negli organismi non perfettamente sani, per problemi ereditari e/o di alimentazione inadatta alla Perfetta Salut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Nel sito 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www.mednat.org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visionare il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Contenuto dei Vacci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sotto Danni dei Vaccin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500" spc="-1" strike="noStrike">
                <a:solidFill>
                  <a:srgbClr val="ff0000"/>
                </a:solidFill>
                <a:latin typeface="Calibri"/>
              </a:rPr>
              <a:t>VACCINI e TERRENO (b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Meccanismo dei DANNI dei Vacci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dell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Amalgami dental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/o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 Metalli Tossici</a:t>
            </a:r>
            <a:r>
              <a:rPr b="0" lang="it-IT" sz="1800" spc="-1" strike="noStrike">
                <a:solidFill>
                  <a:srgbClr val="ff0000"/>
                </a:solidFill>
                <a:latin typeface="Calibri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(che hanno le madri durante la gravidanza)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Questo meccanismo vale anche per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TUTTI i Vaccini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!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Con un qualsiasi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vaccino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si immette direttamente, saltando le barriere naturali immunitarie, pelle, mucose, ecc., nei tessuti, di conseguenza nel sangue e quindi anche nelle cellule del soggetto vaccinato, le tossine che contiene, oltre ai virus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vaccinal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creando immediatamente importanti intossicazioni, disbiosi, rottura od anomalia del sistema enzimatico, pH digestivo alterato, la flora specie dell'intestino tenue e' scompensata e vi si creano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fiammazion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 quindi facilmente si insediano i parassiti e la candida prolifera abbondantemente....nasce la tubercolosi intestinale, la mucosa dell'apparato digerente si </a:t>
            </a:r>
            <a:r>
              <a:rPr b="1" lang="it-IT" sz="1800" spc="-1" strike="noStrike">
                <a:solidFill>
                  <a:srgbClr val="ff0000"/>
                </a:solidFill>
                <a:latin typeface="Calibri"/>
              </a:rPr>
              <a:t>infiamma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ed iniziano il malassorbimento (intestino permeabile e malattie gastointestinali od autoimmuni)  e quindi anche la malnutrizione di cellule e tessuti che generano malfunzioni organiche.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9:36:48Z</dcterms:created>
  <dc:creator>G.Paolo</dc:creator>
  <dc:description/>
  <dc:language>en-US</dc:language>
  <cp:lastModifiedBy>G.Paolo</cp:lastModifiedBy>
  <dcterms:modified xsi:type="dcterms:W3CDTF">2011-02-05T09:37:54Z</dcterms:modified>
  <cp:revision>57</cp:revision>
  <dc:subject/>
  <dc:title>VACCINI – TERRENO e Riordino della MATRICE</dc:title>
</cp:coreProperties>
</file>