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BF4-265A-44A5-B9A8-B45C4A20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675-098B-4FD0-BBAC-EE515133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F4D-8854-40B2-808C-4AEC8457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AB0-335A-4CE8-9E2A-5A2A785D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31C-AEAE-4153-B0A5-787B721A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A708-EA90-4C39-A197-A02287BB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C4C4-FAFA-4D01-A6BB-3011AAB6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4711-6D58-42A3-9D17-079F8876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E690-C9E1-4CFC-AA3D-4C0CC6D1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5B1B-09A8-4BF9-92D6-6DB4D691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4A27-943F-41E1-A5BF-F05BD19E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35B-C819-4F5C-A069-F8FE23EC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C04D-6011-44DE-BE5D-19BA5EB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6FC9-56E9-4288-9ED5-C66F9AC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1621-2DBC-4325-9DA9-B4F512F9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848E-0F3C-4D36-B937-E675A190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39A5-FD80-4D5D-ADBC-FDF37E53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D964D-02FC-4150-9C30-D74FAA0F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F4D9-1006-4D31-89EC-B265B900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9C56-69E3-42EA-B1C3-C49AD635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1811-EE80-4511-A821-B81213C4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5002-DDC8-4C64-AF92-C256D5D2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9F4-E85E-46BD-83D7-8C5D991B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3DE9-7824-462B-BC72-45A88C61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3E728-B21C-4BF6-9891-524B7CE2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7998-5151-4C6A-896B-DABB9B74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C69F-FB9F-4EAF-8F95-0A4DA604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4A6E-F39C-49F2-AF85-ADA5AFB0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B8FF-16AB-491C-B079-8B97B451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E1E93-5A24-4C20-859A-A4EEC8FC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CF1F-787F-40B5-98B8-F0875318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F6A9C-FDE4-44DD-9D16-E287C3BD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0990-F41F-4031-AF66-C6B92CC2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44F-F5EC-48CF-9353-EB4DA7C7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DF15-3809-46C5-938F-91A8C0B3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B5C6-6986-417F-8B20-B7C4188F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BBCAD-2F0E-4F05-91FF-43574BC2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E9926-504E-4DE6-89F7-20393976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DD24-5AB5-47AE-BAE5-4453354E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29942-F1BD-4DFF-9D4A-E6A8D5D5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3CBF2-36F1-42B8-866E-8174D87C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D500-2A46-4176-A8C3-D879C9A7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F379-2E8C-4226-ADBF-48D2EE83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516-3D57-4141-87BD-F3B00EEA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9CB-618F-46E0-9624-B927950C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D04-BD28-40F4-9755-F6D4EACD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1A7-26DD-4FD0-8EC6-B8045285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7B3-10FB-4B15-A96A-2262AFB9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9E4A-5180-4C44-BB35-6D43C895547D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A3FC-415E-4C94-9B7D-75C81B7B332C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8B48-C4CD-4771-B7B3-890C107EEA95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9B25-2CEA-427C-8E31-03B5FD62B544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olo 1" descr=""/>
          <p:cNvPicPr/>
          <p:nvPr/>
        </p:nvPicPr>
        <p:blipFill>
          <a:blip r:embed="rId1"/>
          <a:stretch/>
        </p:blipFill>
        <p:spPr>
          <a:xfrm>
            <a:off x="530280" y="1206360"/>
            <a:ext cx="8289720" cy="2060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008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L’alterazione del “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” e’ la base della malatti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Relazione del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Giornalista (Albo speciale)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Specializzato in Sanita’ da 40 anni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dr. G. Paolo Vanoli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ON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medico) ma Naturopata.</a:t>
            </a:r>
            <a:br>
              <a:rPr sz="2000"/>
            </a:br>
            <a:r>
              <a:rPr b="1" lang="it-IT" sz="2000" spc="-1" strike="noStrike">
                <a:solidFill>
                  <a:srgbClr val="dbf5f9"/>
                </a:solidFill>
                <a:latin typeface="Calibri"/>
              </a:rPr>
              <a:t>Webmaster</a:t>
            </a:r>
            <a:r>
              <a:rPr b="0" lang="it-IT" sz="2000" spc="-1" strike="noStrike">
                <a:solidFill>
                  <a:srgbClr val="dbf5f9"/>
                </a:solidFill>
                <a:latin typeface="Calibri"/>
              </a:rPr>
              <a:t> di</a:t>
            </a:r>
            <a:r>
              <a:rPr b="1" lang="it-IT" sz="2000" spc="-1" strike="noStrike">
                <a:solidFill>
                  <a:srgbClr val="dbf5f9"/>
                </a:solidFill>
                <a:latin typeface="Calibri"/>
              </a:rPr>
              <a:t> http://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www.mednat.org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Guida alla Salute Naturale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”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e.mail: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fo@mednat.org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ff0000"/>
                </a:solidFill>
                <a:latin typeface="Calibri"/>
              </a:rPr>
              <a:t>VACCINI e TERRENO (c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irus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che sono anche neutropici (sostanza attratta dal sistema nervoso periferico e centrale), possono anche essere trasportati fin dentro nel cervello dal sangue e/o dalla via purinica, alterando fortemente il tessuto nervoso ed eccitando la glia ed i neuroni, ed impedendo anche alle altre cellule di sintetizzare la mielina sostanza che ricopre i nervi, i neuroni quindi  "impazziscono", e le sinapsi sono alterate; si altera anche il rapporto acido/base e generando stress ossidativo nelle cellule ed ischemie,  quindi nascono turbe neurologiche, che sfociano anche nell'autismo, epilessie, disfunzioni dello sviluppo, adhd, adem e non solo...senza contare gl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innumerevol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altri sintomi che vengono chiamati impropriamente "malattie" e che possono essere anche collaterali e presentarsi poco dopo, ma alle volte questi possono rimanere latenti, e sfociare e manifestarsi con il tempo, anche dopo anni e/o decenn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NON esiste malattia che non possa essere scatenata dai Vaccini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gni vaccinato ha delle predisposizioni anche genetiche ereditate, quindi con 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acci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espone a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omatizzazione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qualsiasi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tip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i sintomo (malatti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ff0000"/>
                </a:solidFill>
                <a:latin typeface="Calibri"/>
              </a:rPr>
              <a:t>VACCINI e TERRENO (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elle cellule il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acci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con le sue tossine)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alter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l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funzioni principal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la cellula, cioe' il suo metabolismo, che principalmente comprende il ciclo di krebs, la produzione e sintesi con specializzazione delle proteine e la produzione di ATP per le alterazioni indotte ai mitocondri, nei quali si altera facilmente il DNA/RNA, generando anche mutazioni genetiche trasmissibili e riproducibili nella prole, specie se questa verra' vaccinata; questo processo si chiama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slatentizzaz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l virus della Polio (anche se attenuato) o qualsiasi altro virus, iniettato con il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acci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oltre a creare mutazioni genetiche trasmissibili alla prole,  il virus vaccinico (proteina di lipidi, complessa, tossica, a DNA ed eterologa=estranea, che facilmente con l'apporto dei linfociti che li coorpano, intasano ed alle volte ostruiscono il microcircolo dei tessuti generando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ischemi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..che possono anche rimanere latenti ed esplodere in uno stato febbrile, anche in la negli anni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oltre i vaccini creano mutazioni Genetiche  nei Mitocondri delle cellule, mutazioni che sono trasmissibili alla prole, dalla via della madr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le cellule infettate d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iru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risvegli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i retrovirus piu’ vecchi. Dei ricercatori hanno osservato che quando il metabolismo della cellula infettata da un virus (NdR: che puo’ essere anche vaccinale) essa viene ingannata al fine di riprodurre il virus, pero’ in ess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cad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funzionalità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alcune reazioni biochimiche di contenimento e di funzione cellulare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intesi e specializzazione delle prote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pecializzazione degli enzimi e duplicazione del D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'infezione da virus vaccinale e’ in grado quindi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iattivare genomi di precedenti viru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o d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quelli iniettati con i vacci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i genitori, nonni, avi del vaccinato, virus, che erano divenuti parte del genoma delle cellule dei genitori, nonni, avi, generando anticipatamente qualsiasi tipo di patologia; il meccanismo si chiama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latentizz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 fatto 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acci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ono un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ocktail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ss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ltament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ericolo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he possono rimanere inerti per anni e riesplodere come bombe a tempo anche dopo 30-40 anni o piu’… che alterano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in modo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mportant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specie negli organismi non perfettamente sani, per problemi ereditari e/o di alimentazione inadatta alla Perfetta Salut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TERRENO e VACCI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4617b"/>
                </a:solidFill>
                <a:latin typeface="Calibri"/>
              </a:rPr>
              <a:t>Terren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: si identificano con questo termine i liquidi del corpo (liquidi extra ed intra cellulari) di un essere Vivente che sono soluzioni biologiche ed i suoi valori sono identificabili e certificabili, con le apparecchiature gia’ indicate.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 suoi valori di pH (acido-base) + rH (carica bioelettronica) + ro’ (conducibilita’ o resitivita’ = resistenza della soluzione al passaggio della corrente) essendo identificabili, permettono di controllare tutte le possibili variazioni che possono intervenire con l’introduzione nell’organismo analizzato (es. con i </a:t>
            </a:r>
            <a:r>
              <a:rPr b="1" lang="it-IT" sz="1700" spc="-1" strike="noStrike">
                <a:solidFill>
                  <a:srgbClr val="ff0000"/>
                </a:solidFill>
                <a:latin typeface="Calibri"/>
              </a:rPr>
              <a:t>Vaccini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700"/>
            </a:br>
            <a:r>
              <a:rPr b="1" lang="it-IT" sz="1700" spc="-1" strike="noStrike">
                <a:solidFill>
                  <a:srgbClr val="ff0000"/>
                </a:solidFill>
                <a:latin typeface="Calibri"/>
              </a:rPr>
              <a:t>Nessun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nella medicina ufficiale utilizza queste apparecchiature, e neppure le conosce ! Eppure sarebbero molto utili per fare delle indagini in campo sanitario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La prima alterazione che un vaccino produce e’ di tipo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Bioelettronic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(pH + rH + ro’) e quindi si alterano i valori della Perfetta salute, all’introduzione di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qualsiasi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700" spc="-1" strike="noStrike">
                <a:solidFill>
                  <a:srgbClr val="ff0000"/>
                </a:solidFill>
                <a:latin typeface="Calibri"/>
              </a:rPr>
              <a:t>vaccin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Di caduta, cioe’ a cascata, le variazioni bioelettroniche determinano quelle biochimiche nel </a:t>
            </a:r>
            <a:r>
              <a:rPr b="1" lang="it-IT" sz="1700" spc="-1" strike="noStrike">
                <a:solidFill>
                  <a:srgbClr val="04617b"/>
                </a:solidFill>
                <a:latin typeface="Calibri"/>
              </a:rPr>
              <a:t>Terren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(i liquidi extra ed intra cellulari) e quindi nella Matrice e nella micro circolazione e quindi con la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malfunzione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cellulare per il ridotto apporto di </a:t>
            </a:r>
            <a:r>
              <a:rPr b="1" lang="it-IT" sz="1700" spc="-1" strike="noStrike">
                <a:solidFill>
                  <a:srgbClr val="04617b"/>
                </a:solidFill>
                <a:latin typeface="Calibri"/>
              </a:rPr>
              <a:t>ossigen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e quello dei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nutrienti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ed </a:t>
            </a:r>
            <a:r>
              <a:rPr b="1" lang="it-IT" sz="1700" spc="-1" strike="noStrike">
                <a:solidFill>
                  <a:srgbClr val="ff0000"/>
                </a:solidFill>
                <a:latin typeface="Calibri"/>
              </a:rPr>
              <a:t>impedend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l’eliminazione di cio’ che non necessita e/o </a:t>
            </a:r>
            <a:r>
              <a:rPr b="1" lang="it-IT" sz="1700" spc="-1" strike="noStrike">
                <a:solidFill>
                  <a:srgbClr val="ff0000"/>
                </a:solidFill>
                <a:latin typeface="Calibri"/>
              </a:rPr>
              <a:t>tossine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, alterando quindi le funzioni piu’ importanti delle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cellule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, con le conseguenze del caso nei tessuti e negli organi o sistemi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MICRO CIRCOLAZIONE</a:t>
            </a:r>
            <a:br>
              <a:rPr sz="5000"/>
            </a:b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venosa ed arteriosa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Segnaposto contenuto 3" descr="micro_circolazione.gif"/>
          <p:cNvPicPr/>
          <p:nvPr/>
        </p:nvPicPr>
        <p:blipFill>
          <a:blip r:embed="rId1"/>
          <a:stretch/>
        </p:blipFill>
        <p:spPr>
          <a:xfrm>
            <a:off x="755640" y="2349360"/>
            <a:ext cx="3809880" cy="2928960"/>
          </a:xfrm>
          <a:prstGeom prst="rect">
            <a:avLst/>
          </a:prstGeom>
          <a:ln w="0">
            <a:noFill/>
          </a:ln>
        </p:spPr>
      </p:pic>
      <p:pic>
        <p:nvPicPr>
          <p:cNvPr id="223" name="Immagine 4" descr="sistema_nervoso_simpatico_microcircolazione.gif"/>
          <p:cNvPicPr/>
          <p:nvPr/>
        </p:nvPicPr>
        <p:blipFill>
          <a:blip r:embed="rId2"/>
          <a:stretch/>
        </p:blipFill>
        <p:spPr>
          <a:xfrm>
            <a:off x="4788000" y="2349360"/>
            <a:ext cx="4155840" cy="2951280"/>
          </a:xfrm>
          <a:prstGeom prst="rect">
            <a:avLst/>
          </a:prstGeom>
          <a:ln w="0">
            <a:noFill/>
          </a:ln>
        </p:spPr>
      </p:pic>
      <p:sp>
        <p:nvSpPr>
          <p:cNvPr id="224" name="Rettangolo 5"/>
          <p:cNvSpPr/>
          <p:nvPr/>
        </p:nvSpPr>
        <p:spPr>
          <a:xfrm>
            <a:off x="539640" y="5661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i fatti l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alatt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qualsiasi)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nas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ologicam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propri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l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icrocirco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TERRENO e VACCI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cco 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alcune dell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rincipali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 alterazio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l Terreno dopo un qualsiasi vaccino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terazione della funzione cellulare (Il DNA corporeo per mezzo del CEM, la via sanguigna e linfatica informano immediatamente le cellule delle proteine tossiche a DNA introdotte con la vaccinazion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chemie piu’ o meno importanti nei tessuti biologici del corp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terazione della funzione dei mitocondri nelle cellule per l’alterazione del DNA mitocondria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terazione della flora batterica autoctona (per la alterazione del pH + rH + ro’ dei liquidi dell’apparato digerente) e quindi quella delle normali digestioni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terazione degli enzimi e quindi del sistema enzimatico, essenziale per i processi biochimici essenziali alla perfetta salu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 potremmo continuare……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qualsiasi tipo di malattia puo’ essere creata in un soggetto se questo si sottopone a queste infauste profilassi in-sanitarie !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Mutazioni Genetiche indotte  con i vaccini, possono essere anche regalate alla prole che le slatentizzera’ facilmente in tenera eta’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TERRENO e MATRIC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4617b"/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’ rappresentato dai liquidi del corpo (extra ed intra cellulari)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finizion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atric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biologia la matrice è il materiale viscoso ed amorfo che collega le cellule alle fibre, dando cosi origine al Tessuto Connettivo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 seconda del tipo di tessuto in cui si trova, si differenzia per quantità e composizione, variando il proprio stato da gel denso a sol liquido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generale, è composto da acqua (fase disperdente), mucopolisaccaridi acidi e glicoproteine strutturali (fase dispersa). Sono comunque reperibili in essa enzimi, vitamine, anticorpi, etc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matrice extracellulare ha compiti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utrimen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ifesa dalle sostanz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ssich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che ci avvelenano,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tossican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ed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fiamm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il corpo umano s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ammal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olamente quando in essa quest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iusti Rapport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alter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la guarigio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V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eguir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ssolutament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d i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imi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per il riordino di questi rapporti alterati. 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quando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truttura base della matric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xtracellulare ed intracellulare si altera, nascono le intossicazioni,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fiamm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el tessuto e quindi i primi sintomi, nelle zone interessate (organi o sistemi) della malatt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e abbiamo visto la Matrice e’ la base sulla quale si innesta=crea, cio e’ i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essuto connettiv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che è un particolare tipo di tessuto delle forme viventi superiori che provvede al collegamento, sostegno e nutrimento dei tessuti dei vari organi derivante dal tessuto connettivo embriona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l Corpo Uma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cosi come tutti gli esseri Viventi)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e' ben not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e' un'insieme di cellule e quindi esso segue e sopravvive con i Principi e gli Schemi del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funzionamento della Cellul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la quale come e' ben evidenziato in questa pagina funziona per mezzo dei </a:t>
            </a:r>
            <a:r>
              <a:rPr b="1" lang="it-IT" sz="2000" spc="-1" strike="noStrike">
                <a:solidFill>
                  <a:srgbClr val="04617b"/>
                </a:solidFill>
                <a:latin typeface="Calibri"/>
              </a:rPr>
              <a:t>Giusti Rapporti</a:t>
            </a:r>
            <a:r>
              <a:rPr b="0" lang="it-IT" sz="2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ra l'ambiente esterno il liquido extracellulare e quello interno (liquido intracellulare), i quali sono determinati in primis dai rispettiv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- regolati nei loro giusti rapporti dai process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cidi-bas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dalla loro carica ionica - bio elettronic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H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 dallo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o'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resistivita' e/o conducibilita') extra ed intra cellulare, e cioe' dal tipo di potere ossido-riduttivo d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Matric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= i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ndo la </a:t>
            </a:r>
            <a:r>
              <a:rPr b="1" lang="it-IT" sz="2000" spc="-1" strike="noStrike">
                <a:solidFill>
                  <a:srgbClr val="04617b"/>
                </a:solidFill>
                <a:latin typeface="Calibri"/>
              </a:rPr>
              <a:t>Matric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alter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lo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stress ossidativ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ellulare compare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Ricordarsi che le alterazioni degli enzimi, della flora, del pH digestivo e e d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mucos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testinale influenzano  la salute,  non soltanto a livello intestinale, ma anche a distanza in qualsiasi parte dell'organismo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riordinare la Matrice occorre variare il pH + rH + ro’ dei liquidi del corpo e quindi quelli della Matrice + Tessuto Connettivo extracellulare e quindi per cascata chimica, quelli intra cellul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fare cio’ e’ necessario utilizzare i Sali tampone (Ipocloruro di sodio, Bicarbonato di Sodio, Magnesio, Ascorbato di Potassio ecc.) ed inserire una alimentazione prettamente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Crugivor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frutta e verdura di stagione frullate) – con questo tipo di alimentazione otteniamo due scopi: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isintossicaz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disinfiammazion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deionizzaz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l’organismo, iniziando dall’apparato digeren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temporaneamente occorre far assumere dei fermenti lattici (scegliere il tipo a seconda dei casi) + enzimi vegetali + carbone vegetale, finocchio ed anice il tutto in capsule, dopo i pasti + capsule di aglio + biancospino alla sera prima di dormi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idrocolon Terapia sara’ di ausilio in moltissimi cas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ssunzione giornaliera di alghe Kelp, per detossificare assieme al carbone vegeta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idro terapia esterna sara’ di ausilio in molti cas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applicazione giornaliera dell’equilibratore ionico, per scaricare le tensioni di energia elettrostatica che sempre sono presenti in ognuno di noi per il tipo di inquinamento (elettrosmog) elettromagnetic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vorare anche sulla psiche del malato con appositi test e terapie per ottenere nei vari casi, il miglioramento di attenzione, concentrazione e linguaggi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 VACCINI sono soluzioni biologiche eterologhe, cioe’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TALMENTE estrane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l’organismo umano, il piu’ delle volte derivanti da colture preparate con cellule animali (scimmie, polli, ecc..) – sono da definirsi, quelli a virus, come Proteine di lipidi (grassi) complesse, contenenti un frammento di DNA/RN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– i Virus NON  SONO  MICRO ORGANISMI, come falsamente ci raccont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 Vaccini contengono tanti prodotti tossico-nocivi (formaldeide, metalli pesanti, nanoparticelle, antibiotici potenti, contaminanti occulti, sostanze pericolose, virus tossici ecc.)  e forse nei prossimi anni, anche chips per il controllo degli umani ed animali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ON e’ possibile, per ammissione degli stessi fabbricanti, creare soluzioni vaccinali PURE 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’inoculazione dei Vaccini avviene “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bypassando le vie naturali di difesa del Sistema Immunitari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”, perche con l’iniezione vaccinale si passano tutte quelle barriere che la natura ha preparato in milioni di anni per preservare le varie specie animali ed umane dal proprio annientament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Per TUTTI i particolari </a:t>
            </a:r>
            <a:br>
              <a:rPr sz="5400"/>
            </a:b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di questa Relazione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785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2900" spc="-1" strike="noStrike">
                <a:solidFill>
                  <a:srgbClr val="ff0000"/>
                </a:solidFill>
                <a:latin typeface="Arial"/>
                <a:ea typeface="Arial"/>
              </a:rPr>
              <a:t>Visitate il piu’ completo Portale 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  <a:ea typeface="Arial"/>
              </a:rPr>
              <a:t>web </a:t>
            </a:r>
            <a:br>
              <a:rPr sz="2900"/>
            </a:br>
            <a:r>
              <a:rPr b="0" lang="it-IT" sz="2900" spc="-1" strike="noStrike">
                <a:solidFill>
                  <a:srgbClr val="000000"/>
                </a:solidFill>
                <a:latin typeface="Arial"/>
                <a:ea typeface="Arial"/>
              </a:rPr>
              <a:t>sulle Medicine Biologico Naturali: </a:t>
            </a:r>
            <a:br>
              <a:rPr sz="2900"/>
            </a:br>
            <a:r>
              <a:rPr b="1" lang="it-IT" sz="2900" spc="-1" strike="noStrike">
                <a:solidFill>
                  <a:srgbClr val="ff0000"/>
                </a:solidFill>
                <a:latin typeface="Arial"/>
                <a:ea typeface="Arial"/>
              </a:rPr>
              <a:t>www.mednat.org</a:t>
            </a:r>
            <a:br>
              <a:rPr sz="29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Webmaster: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r.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. Paolo Vano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Giornalista specializzato in Sanita’ da 40 anni e Consulente in Scienza della Nutrizione e Medicine Naturali)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fo@mednat.or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n virus vie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uplicato=replica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a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"ospitante“, cioe’ dalla cellula, solo quando l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ndi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que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reno = Matric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o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alterat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citoplasma della cellula), cioe' quando un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viru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portator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form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togene nel caso di virus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Eterolog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tossico nociv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Eterolog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 organo, tessuto o sostanza organica che proviene da una specie diversa da quella in oggetto), e non tossico quand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Autolog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corporeo, proveniente da materiale proprio, di scarto (proteine complesse a DNA provenienti dall’apoptosi cellulare, ed in special modo dai mitocondri, scarti da eliminare),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so viene isolato ed in genere immediatamente eliminato od isolato ed immagazzinato nei grassi dei tessuti, perche' decodificato = riconosciuto dal DNA del mitocondrio, com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ss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ma se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ellulare (citoplasma cellulare con il suo contenuto anche genetico) e'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ia' alterato,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on e' in grado di riconoscerlo subito com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oss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esso vie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rroneamente introdott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per le alterazioni cellulari preesistenti),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decodificato, replicato (dal sistema di "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duplicazione del D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" della cellula stessa + la funzione cellulare di "sintesi e specializzazione delle proteine") e ridistribuito alle altre cellule, che se malate anch'esse, riproducono lo stesso meccanismo, creando quindi una reazione a catena che fa scattare l'infezione tissutale e con il tempo anche organica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Quando il sistema Immunitario aspecifico, viene super stimolato, con i vaccini, bypassando le normali e naturali barriere immunitarie (informatiche + biochimiche + biofisiologiche) esso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  <a:ea typeface="Arial"/>
              </a:rPr>
              <a:t>va in confus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, cioe’ non e’ piu’ capace, per i vaccini introdotti, di reagire a 360° per la  Perfetta Salute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Es. i giusti rapporti fra T1 e T2 (ormoni) vengono alterat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Noi nasciamo con un Sistema Immunitario (aspecifico) adatto a reazioni a 360°, cioe’ a qualsiasi evenienza –  il vaccino tende e tenta di specializzarlo e quindi il Sist. Immunitario NON e’ piu’ in grado di reagire in difesa immunitaria  a 360° , con tutte le conseguenze del caso, perche’ va in confusi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Ecco perche’ i bambini figli di vaccinati (siamo alla 3° generazione) sono sempre piu’ deboli della generazione precedente e si ammalano sempre di piu’ dei NON vaccinat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I pediatri sono allarmati per questo esponenziale aumento nei bambini di: allergie, otiti, asma, anemie, leucemie, epilessie, autismo, adhd, dislessie, cancri, linfomi, malformazioni genetiche, malattie autoimmuni,  gastroenteriche, distrofie, sclerosi, ec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ggi 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accini singoli NON esistono piu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’; sono stati ritirati dal commercio per poter vendere e spacciare per obbligatori anche quelli che non lo sono, tipo il vaccino per il morbillo, rosolia, pertosse, ecc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ggi siamo arrivati ad iniettare in un colpo solo 6 vaccini nell’esavalente, ma sono in preparazione gli eptavalenti e presto vaccino contenti 12 e piu’ vaccini, e in un prossimo, forse anche contenenti dei Chips per il “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troll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” degli esseri umani, probabilmente anche quello per l’influenza detta “pandemica” creata e diffusa appositamente per spaventare i popoli della Terr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este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soluzioni TOSSICHE eterologh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 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acci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una volta inoculate negli organismi viventi, creano reazioni Bioelettroniche e di conseguenza e successivamente per caduta, reazioni Biochimiche che destabilizzano il </a:t>
            </a:r>
            <a:r>
              <a:rPr b="1" lang="it-IT" sz="2000" spc="-1" strike="noStrike">
                <a:solidFill>
                  <a:srgbClr val="0b5395"/>
                </a:solidFill>
                <a:latin typeface="Calibri"/>
              </a:rPr>
              <a:t>TERRE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i liquidi del corpo) dalla Perfetta Salu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OGNIUNO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 ha un suo proprio e particolare tipo di </a:t>
            </a:r>
            <a:r>
              <a:rPr b="1" lang="it-IT" sz="1900" spc="-1" strike="noStrike">
                <a:solidFill>
                  <a:srgbClr val="0b5395"/>
                </a:solidFill>
                <a:latin typeface="Calibri"/>
              </a:rPr>
              <a:t>TERRENO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, che e’ identificabile con semplici tecniche di ambulatorio (SISBQ) e/o con apparecchiature bio Elettroniche (BTA=BEV).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Ecco perche’ prima di fare </a:t>
            </a: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Terrorismo psicologico Iatrogeno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, per mezzo dei mass media, 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i medici dovrebbero testare il paziente con la Semeiotica Biofisica Quantistica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(SISBQ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), per conoscere il suo proprio </a:t>
            </a:r>
            <a:r>
              <a:rPr b="1" lang="it-IT" sz="1900" spc="-1" strike="noStrike">
                <a:solidFill>
                  <a:srgbClr val="0b5395"/>
                </a:solidFill>
                <a:latin typeface="Calibri"/>
              </a:rPr>
              <a:t>TERRENO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, ma l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e Universita’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che li 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dovrebbe istruire, </a:t>
            </a: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NON lo fanno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….per i noti “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collegamenti ideologici”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con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BIG PHARMA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, che controlla le loro linee guida di insegnamento ai futuri medici, e finanzia e controlla negli USA  e negli altri paesi del mondo, i vari Enti governativi: EMEA, AIFA, Ministeri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della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 “sanita”, I.S.S., Ordini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dei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 medici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 medici stessi….</a:t>
            </a:r>
            <a:br>
              <a:rPr sz="1900"/>
            </a:b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virus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 lo ripetiamo,  </a:t>
            </a: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NON sono esseri viventi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, bensì un’involucro (capside) di Proteine complesse lipidiche (grassi) con all’interno un frammento di DNA eterologo, cioe’ estraneo al DNA uman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NESSUN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Ente governativo: FDA (USA) - EMEA (EU) – in Italia,  Ministero della Salute, ISS + NAS, effettua un qualsiasi tipo di analisi dei vaccini in commercio, per controllarne il contenuto e/o la tossicita’ dei vari prodotti inseriti in essi, salvo su richiesta di un Giudice del Tribunale.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TUTTI gli Enti governativi si “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fidan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” dei documenti di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BIG PHARMA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…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NESSUN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nel mondo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ha MA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effettuato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un studio in “doppio cieco” fra bambini vaccinati e bambin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A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vaccinati.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NESSUN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ha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MAI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controllat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sa avviene nei vaccinati, dopo 3 mesi, 1 anno, 3 anni, 5 anni, 10 anni, 20 anni, 30 anni !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e prove ?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www.mednat.org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trovate tutte le email inviate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iniste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Italiano della “salute” + AIFA + EMEA, ISS, ecc. i quali sono stati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informat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sui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Danni dei Vaccin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, con la varia e molteplice corrispondenza intercorsa fra il sottoscritto e questi Enti…..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 quali fino ad oggi NON hanno ancora risposto in modo chiaro ed esaustivo ed hanno ammesso che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NON fanno nessun tipo di control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ui vaccini !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Questi i meccanismi di azione dei Vaccin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iccome ogni cosa esistente in natura e quindi anche le soluzioni biologiche, possono essere identificate e denominate con precisione, per mezzo delle loro frequenze e/o Campo Elettromagnetico, con apposite apparecchiature bioelettroniche (es. Bioelettrometro); queste possibilita’ di analisi precise, permettono di quantificare i valori bioelettronici (pH + rH + ro’, resistivita’ o conducibilita’ di qualsiasi soluzione biologica, lo sono anche i liquidi dei corpi Viventi) e  quindi diviene facile identificare e dimostrare le alterazioni che essi subiscono quando si interviene dall’esterno con qualsiasi azione (es. la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Vaccin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 (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seconde alterazioni dei Vaccini avvengono a livello tissutale provocando ischemie ed alterazioni delle funzioni delle cellule, perche’ queste ultime, dopo il vaccino possono non essere piu’ capaci di sintetizzare e specializzare le proteine, perche’ i Geni che ordinano all’interno delle cellule queste funzioni, vanno in confusione, anche perche la microcircolazione tissutale, una volta intasata dalle sostanza tossiche vaccinali, vi si creano e manifestano in diversi soggetti anche delle ischemie, che con il protrarsi del tempo generano gravi handicap nei bambini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oltre i vaccini creano mutazioni Genetiche nei Mitocondri delle cellule, mutazioni che sono trasmissibili alla prole, dalla via della madre, e nei mitocondri alterano anche la produzione di ATP , cioe’ la produzione di energ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 fatto i Vaccini sono un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ocktail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ss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ltament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ericolo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he possono rimanere inerti per anni e riesplodere come bombe a tempo anche dopo 30-40 anni o piu’… e che alterano il Terreno in modo importante, specie negli organismi non perfettamente sani, per problemi ereditari e/o di alimentazione inadatta alla Perfetta Salut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 sito 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www.mednat.org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visionare il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ontenuto dei Vacci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otto Danni dei Vaccin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ff0000"/>
                </a:solidFill>
                <a:latin typeface="Calibri"/>
              </a:rPr>
              <a:t>VACCINI e TERRENO (b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Meccanismo dei DANNI dei Vacci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ll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Amalgami dental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/o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 Metalli Tossici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che hanno le madri durante la gravidanza)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Questo meccanismo vale anche per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UTTI i Vacci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Con un qualsias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acci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si immette direttamente, saltando le barriere naturali immunitarie, pelle, mucose, ecc., nei tessuti, di conseguenza nel sangue e quindi anche nelle cellule del soggetto vaccinato, le tossine che contiene, oltre ai virus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vaccinal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reando immediatamente importanti intossicazioni, disbiosi, rottura od anomalia del sistema enzimatico, pH digestivo alterato, la flora specie dell'intestino tenue e' scompensata e vi si creano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fiamm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quindi facilmente si insediano i parassiti e la candida prolifera abbondantemente....nasce la tubercolosi intestinale, la mucosa dell'apparato digerente s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fiamm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d iniziano il malassorbimento (intestino permeabile e malattie gastointestinali od autoimmuni)  e quindi anche la malnutrizione di cellule e tessuti che generano malfunzioni organiche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9:36:48Z</dcterms:created>
  <dc:creator>G.Paolo</dc:creator>
  <dc:description/>
  <dc:language>en-US</dc:language>
  <cp:lastModifiedBy>G.Paolo</cp:lastModifiedBy>
  <dcterms:modified xsi:type="dcterms:W3CDTF">2011-02-05T09:37:54Z</dcterms:modified>
  <cp:revision>57</cp:revision>
  <dc:subject/>
  <dc:title>VACCINI – TERRENO e Riordino della MATRICE</dc:title>
</cp:coreProperties>
</file>