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283A-85D4-4D1B-AF1C-16A1244D6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1E2-4370-46BE-B176-DC025D89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1DD8-D898-4C0E-9C81-141E98EF8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C21-2F96-4B71-BB71-30944C97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82BA-C4F5-4295-A241-CED80E83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1883-C787-4A43-AE0D-1A62D2EC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2B9A-B70F-4729-953E-6F670BCB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91B5-0C47-4E1E-AE92-07A5A345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4EA8-9C58-4374-90C1-DA5FB145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8187-346B-4F8A-9A55-11792410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4E3C-B600-4571-9119-5BA92D42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08C-43B5-433F-9373-46DEA9A3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6D4B-C2E1-41AC-82AC-F6890CEB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E8F2-7D28-4196-9724-A762A99A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9A3B-DFED-4F4C-AF73-81419B0B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758D-CD7C-49F3-8738-3E00F044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5850-04B7-42D2-89F0-7819A3FC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C368-CEFD-435D-A684-1F39B59B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410C-106E-424E-A177-6240B753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454-12B4-4105-82F7-D704849F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229-30A7-4694-9259-C5A0C35A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E015-8C48-4388-851D-53BBC2BA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676-92B0-4E85-8F95-50C250B6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A21-95B7-48BC-A052-6DD0090F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uppo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igura a mano libera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igura a mano libera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it-IT" sz="5600" spc="-1" strike="noStrike">
                <a:solidFill>
                  <a:srgbClr val="50e0ea"/>
                </a:solidFill>
                <a:latin typeface="Calibri"/>
              </a:rPr>
              <a:t>Fare clic per modificare lo stile del titolo</a:t>
            </a:r>
            <a:endParaRPr b="0" lang="it-IT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C505D2-6C88-41A7-97E7-83747440375E}" type="slidenum">
              <a:rPr b="0" lang="it-IT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it-IT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it-IT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it-IT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it-IT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it-IT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it-IT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it-IT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it-IT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it-IT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igura a mano libera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igura a mano libera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uppo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igura a mano libera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igura a mano libera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it-IT" sz="5000" spc="-1" strike="noStrike">
                <a:solidFill>
                  <a:srgbClr val="04617b"/>
                </a:solidFill>
                <a:latin typeface="Calibri"/>
              </a:rPr>
              <a:t>Fare clic per modificare lo stile del titolo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Fare clic per modificare stili del testo dello schema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it-IT" sz="2400" spc="-1" strike="noStrike">
                <a:solidFill>
                  <a:srgbClr val="000000"/>
                </a:solidFill>
                <a:latin typeface="Constantia"/>
              </a:rPr>
              <a:t>Secondo livello</a:t>
            </a:r>
            <a:endParaRPr b="0" lang="it-IT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it-IT" sz="2100" spc="-1" strike="noStrike">
                <a:solidFill>
                  <a:srgbClr val="000000"/>
                </a:solidFill>
                <a:latin typeface="Constantia"/>
              </a:rPr>
              <a:t>Terzo livello</a:t>
            </a:r>
            <a:endParaRPr b="0" lang="it-IT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Quarto livello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onstantia"/>
              </a:rPr>
              <a:t>Quinto livello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it-IT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it-IT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3D66A3-2854-4A4B-8F10-3D8210548A7F}" type="slidenum">
              <a:rPr b="0" lang="it-IT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nat.org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t.wikipedia.org/wiki/Cellula" TargetMode="External"/><Relationship Id="rId2" Type="http://schemas.openxmlformats.org/officeDocument/2006/relationships/hyperlink" Target="http://it.wikipedia.org/wiki/Tessuto_connettivo" TargetMode="External"/><Relationship Id="rId3" Type="http://schemas.openxmlformats.org/officeDocument/2006/relationships/hyperlink" Target="http://it.wikipedia.org/wiki/Tessuto_connettivo" TargetMode="External"/><Relationship Id="rId4" Type="http://schemas.openxmlformats.org/officeDocument/2006/relationships/hyperlink" Target="http://it.wikipedia.org/wiki/Acqua" TargetMode="External"/><Relationship Id="rId5" Type="http://schemas.openxmlformats.org/officeDocument/2006/relationships/hyperlink" Target="http://www.mednat.org/cure_natur/enzimi.htm" TargetMode="External"/><Relationship Id="rId6" Type="http://schemas.openxmlformats.org/officeDocument/2006/relationships/hyperlink" Target="http://www.mednat.org/cure_natur/vitamine.htm" TargetMode="External"/><Relationship Id="rId7" Type="http://schemas.openxmlformats.org/officeDocument/2006/relationships/hyperlink" Target="http://it.wikipedia.org/wiki/Anticorpi" TargetMode="External"/><Relationship Id="rId8" Type="http://schemas.openxmlformats.org/officeDocument/2006/relationships/hyperlink" Target="http://it.wikipedia.org/wiki/Respirazione_cellulare" TargetMode="External"/><Relationship Id="rId9" Type="http://schemas.openxmlformats.org/officeDocument/2006/relationships/hyperlink" Target="http://www.mednat.org/cure_natur/intossicazione.htm" TargetMode="External"/><Relationship Id="rId10" Type="http://schemas.openxmlformats.org/officeDocument/2006/relationships/hyperlink" Target="http://www.mednat.org/cure_natur/infiammazione.htm" TargetMode="External"/><Relationship Id="rId11" Type="http://schemas.openxmlformats.org/officeDocument/2006/relationships/hyperlink" Target="http://www.mednat.org/malattia_definizione.htm" TargetMode="External"/><Relationship Id="rId1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t.wikipedia.org/wiki/Respirazione_cellulare" TargetMode="External"/><Relationship Id="rId2" Type="http://schemas.openxmlformats.org/officeDocument/2006/relationships/hyperlink" Target="file:///F:/Siti%20web%20Gen%202009/MedNat%2001%2009%202009/bioelettr/acidi_basi.htm" TargetMode="External"/><Relationship Id="rId3" Type="http://schemas.openxmlformats.org/officeDocument/2006/relationships/hyperlink" Target="file:///F:/Siti%20web%20Gen%202009/MedNat%2001%2009%202009/bioelettr/acidi_basi.htm" TargetMode="External"/><Relationship Id="rId4" Type="http://schemas.openxmlformats.org/officeDocument/2006/relationships/hyperlink" Target="file:///F:/Siti%20web%20Gen%202009/MedNat%2001%2009%202009/bioelettr/ossido_riduzione.htm" TargetMode="External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F:/Siti%20web%20Gen%202009/MedNat%2001%2009%202009/cure_natur/stress_ossidativo.htm" TargetMode="External"/><Relationship Id="rId2" Type="http://schemas.openxmlformats.org/officeDocument/2006/relationships/hyperlink" Target="file:///F:/Siti%20web%20Gen%202009/MedNat%2001%2009%202009/cure_natur/enzimi.htm" TargetMode="External"/><Relationship Id="rId3" Type="http://schemas.openxmlformats.org/officeDocument/2006/relationships/hyperlink" Target="file:///F:/Siti%20web%20Gen%202009/MedNat%2001%2009%202009/cure_natur/fermenti_nemici.htm" TargetMode="External"/><Relationship Id="rId4" Type="http://schemas.openxmlformats.org/officeDocument/2006/relationships/hyperlink" Target="file:///F:/Siti%20web%20Gen%202009/MedNat%2001%2009%202009/bioelettr/acidi_basi.htm" TargetMode="External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F:/Siti%20web%20Gen%202009/MedNat%2001%2009%202009/cure_natur/nozione_terreno.htm" TargetMode="External"/><Relationship Id="rId2" Type="http://schemas.openxmlformats.org/officeDocument/2006/relationships/hyperlink" Target="file:///F:/Siti%20web%20Gen%202009/MedNat%2001%2009%202009/cure_natur/matrice.htm" TargetMode="External"/><Relationship Id="rId3" Type="http://schemas.openxmlformats.org/officeDocument/2006/relationships/hyperlink" Target="http://it.wikipedia.org/wiki/Citoplasma" TargetMode="External"/><Relationship Id="rId4" Type="http://schemas.openxmlformats.org/officeDocument/2006/relationships/hyperlink" Target="file:///F:/Siti%20web%20Gen%202009/MedNat%2001%2009%202009/cure_natur/cellule.htm" TargetMode="External"/><Relationship Id="rId5" Type="http://schemas.openxmlformats.org/officeDocument/2006/relationships/hyperlink" Target="file:///F:/Siti%20web%20Gen%202009/MedNat%2001%2009%202009/cure_natur/DNA.htm" TargetMode="External"/><Relationship Id="rId6" Type="http://schemas.openxmlformats.org/officeDocument/2006/relationships/hyperlink" Target="file:///F:/Siti%20web%20Gen%202009/MedNat%2001%2009%202009/cure_natur/matrice2.htm" TargetMode="External"/><Relationship Id="rId7" Type="http://schemas.openxmlformats.org/officeDocument/2006/relationships/hyperlink" Target="http://it.wikipedia.org/wiki/Citoplasma" TargetMode="External"/><Relationship Id="rId8" Type="http://schemas.openxmlformats.org/officeDocument/2006/relationships/hyperlink" Target="http://it.wikipedia.org/wiki/Duplicazione_del_DNA" TargetMode="External"/><Relationship Id="rId9" Type="http://schemas.openxmlformats.org/officeDocument/2006/relationships/hyperlink" Target="http://it.wikipedia.org/wiki/Sintesi_proteica" TargetMode="External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ednat.org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ednat.org/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it-IT" sz="6000" spc="-1" strike="noStrike">
                <a:solidFill>
                  <a:srgbClr val="ff0000"/>
                </a:solidFill>
                <a:latin typeface="Calibri"/>
              </a:rPr>
              <a:t>VACCINI – TERRENO </a:t>
            </a:r>
            <a:r>
              <a:rPr b="1" lang="it-IT" sz="5400" spc="-1" strike="noStrike">
                <a:solidFill>
                  <a:srgbClr val="ffff00"/>
                </a:solidFill>
                <a:latin typeface="Calibri"/>
              </a:rPr>
              <a:t>e</a:t>
            </a:r>
            <a:br>
              <a:rPr sz="5400"/>
            </a:br>
            <a:r>
              <a:rPr b="1" lang="it-IT" sz="5400" spc="-1" strike="noStrike">
                <a:solidFill>
                  <a:srgbClr val="ffff00"/>
                </a:solidFill>
                <a:latin typeface="Calibri"/>
              </a:rPr>
              <a:t>Riordino della MATRICE</a:t>
            </a:r>
            <a:endParaRPr b="0" lang="it-IT" sz="5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L’alterazione del “Terreno” e’ la base della malatti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Relazione del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Giornalista (Albo speciale) 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 dr. G. Paolo Vanoli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(non medico) ma Naturopata. </a:t>
            </a:r>
            <a:br>
              <a:rPr sz="2000"/>
            </a:b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Webmaster di </a:t>
            </a:r>
            <a:r>
              <a:rPr b="0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http://www.mednat.org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Guida alla Salute Naturale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”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e.mail: info@mednat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TERRENO e VACCINI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3000"/>
          </a:bodyPr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Ecco </a:t>
            </a:r>
            <a:r>
              <a:rPr b="0" lang="it-IT" sz="2600" spc="-1" strike="noStrike">
                <a:solidFill>
                  <a:srgbClr val="ff0000"/>
                </a:solidFill>
                <a:latin typeface="Calibri"/>
              </a:rPr>
              <a:t>alcune delle principali alterazioni 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del Terreno dopo un qualsiasi vaccino: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Alterazione della funzione cellulare (Il DNA corporeo per mezzo del CEM, la via sanguigna e linfatica informano immediatamente le cellule delle proteine tossiche a DNA introdotte con la vaccinazione)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Ischemie piu’ o meno importanti nei tessuti biologici del corpo.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Alterazione della funzione dei mitocondri nelle cellule per l’alterazione del DNA mitocondriale.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Alterazione della flora batterica autoctona (per la alterazione del pH + rH + ro’ dei liquidi dell’apparato digerente) e quindi quella delle normali digestioni.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Alterazione degli enzimi e quindi del sistema enzimatico, essenziale per i processi biochimici essenziali alla perfetta salute.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E potremmo continuare…….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  <a:p>
            <a:pPr marL="246600" indent="-2466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Quindi qualsiasi tipo di malattia puo’ essere creata in un soggetto se questo si sottopone a queste infauste profilassi in-sanitarie !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Le Mutazioni Genetiche indotte  con i vaccini, possono essere anche regalate alla prole che le slatentizzera’ facilmente in tenera eta’. 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240" cy="12139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TERRENO e MATRICE</a:t>
            </a:r>
            <a:endParaRPr b="0" lang="it-IT" sz="5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ERRENO e’ rappresentato dai liquidi del corpo (extra ed intra cellulari)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finizion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atric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biologia la matrice è il materiale viscoso ed amorfo che collega le 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cellu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alle 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fibr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dando cosi origine al 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Tessuto Connettiv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 seconda del tipo di tessuto in cui si trova, si differenzia per quantità e composizione, variando il proprio stato da gel denso a sol liquido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generale, è composto da 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acqu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(fase disperdente), mucopolisaccaridi acidi e glicoproteine strutturali (fase dispersa). Sono comunque reperibili in essa 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5"/>
              </a:rPr>
              <a:t>enzim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6"/>
              </a:rPr>
              <a:t>vitam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7"/>
              </a:rPr>
              <a:t>anticorp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etc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matrice extracellulare ha compiti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utrimen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ifesa dalle sostanze tossiche che ci avvelenano, intossicano ed infiamma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Quindi il corpo umano s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mmal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olamente quando in essa quest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Giusti Rapport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8"/>
              </a:rPr>
              <a:t>altera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la guarigion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V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eguir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ssolutament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d i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imi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per il riordino di questi rapporti alterati. 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Quindi quando 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truttura base della matric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xtracellulare ed intracellulare si altera, nascono le 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9"/>
              </a:rPr>
              <a:t>intossicaz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10"/>
              </a:rPr>
              <a:t>infiammaz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el tessuto e quindi i primi sintomi, nelle zone interessate (organi o sistemi) della 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11"/>
              </a:rPr>
              <a:t>malatti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RIORDINO della MATRICE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me abbiamo visto la Matrice e’ la base sulla quale si innesta=crea, il Tessuto connettivo (I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essuto connettiv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è un particolare tipo di tessuto delle forme viventi superiori che provvede al collegamento, sostegno e nutrimento dei tessuti dei vari organi derivante dal tessuto connettivo embrionale. 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l Corpo Uman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(cosi come tutti gli esseri Viventi)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e' ben not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e' un'insieme di cellule e quindi esso segue e sopravvive con i Principi e gli Schemi del </a:t>
            </a:r>
            <a:r>
              <a:rPr b="0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funzionamento della Cellul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la quale come e' ben evidenziato in questa pagina funziona per mezzo de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iusti Rapport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fra l'ambiente esterno il liquido extracellulare e quello interno (liquido intracellulare), i quali sono determinati in primis dai rispettivi </a:t>
            </a:r>
            <a:r>
              <a:rPr b="1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pH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- regolati nei loro giusti rapporti dai processi </a:t>
            </a:r>
            <a:r>
              <a:rPr b="0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acidi-bas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dalla loro carica ionica - bio elettronic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rH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 dallo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ro'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resistivita' e/o conducibilita') extra ed intra cellulare, e cioe' dal tipo di potere </a:t>
            </a:r>
            <a:r>
              <a:rPr b="0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ossido-riduttiv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el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Matric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= i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erren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RIORDINO della MATRICE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ando la Matrice si altera, lo </a:t>
            </a:r>
            <a:r>
              <a:rPr b="0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stress ossidativo cellular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compare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 Ricordarsi che le alterazioni degli </a:t>
            </a:r>
            <a:r>
              <a:rPr b="0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enzim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della </a:t>
            </a:r>
            <a:r>
              <a:rPr b="0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flora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el </a:t>
            </a:r>
            <a:r>
              <a:rPr b="0" lang="it-IT" sz="20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pH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igestivo e e del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mucos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testinale influenzano  la salute,  non soltanto a livello intestinale, ma anche a distanza in qualsiasi parte dell'organismo. 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r riordinare la Matrice occorre variare il pH + rH + ro’ dei liquidi del corpo e quindi quelli della Matrice + Tessuto Connettivo extracellulare e quindi per cascata chimica, quelli intra cellulari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r fare cio’ e’ necessario utilizzare i Sali tampone (Ipocloruro di sodio, Bicarbonato di Sodio, Magnesio, Ascorbato di Potassio ecc.) ed inserire un’ alimentazione prettamente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Crugivor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(frutta e verdura di stagione frullate) – con questo tipo di alimentazione otteniamo due scopi: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isintossicazio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disinfiammazio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ell’organismo, iniziando dall’apparato digerente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RIORDINO della MATRICE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temporaneamente occorre far assumere dei fermenti lattici (scegliere il tipo a seconda dei casi) + enzimi vegetali + carbone vegetale, finocchio ed anice il tutto in capsule, dopo i pasti + capsule di aglio + biancospino alla sera prima di dormire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’idrocolon Terapia sara’ di ausilio in moltissimi cas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ssunzione giornaliera di alghe Kelp, per detossificare assieme al carbone vegetale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’idro terapia esterna sara’ di ausilio in molti casi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’applicazione giornaliera dell’equilibratore ionico, per scaricare le tensioni di energia elettrostatica che sempre sono presenti in ognuno di noi per il tipo di inquinamento (elettrosmog) elettromagnetico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vorare anche sulla psiche del malato con appositi test e terapie per ottenere nei vari casi, il miglioramento di attenzione, concentrazione e linguaggio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20102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5000"/>
            </a:br>
            <a:br>
              <a:rPr sz="5000"/>
            </a:br>
            <a:br>
              <a:rPr sz="5000"/>
            </a:br>
            <a:r>
              <a:rPr b="1" lang="it-IT" sz="6000" spc="-1" strike="noStrike">
                <a:solidFill>
                  <a:srgbClr val="ff0000"/>
                </a:solidFill>
                <a:latin typeface="Calibri"/>
              </a:rPr>
              <a:t>Per TUTTI i particolari </a:t>
            </a:r>
            <a:br>
              <a:rPr sz="6000"/>
            </a:br>
            <a:r>
              <a:rPr b="1" lang="it-IT" sz="6000" spc="-1" strike="noStrike">
                <a:solidFill>
                  <a:srgbClr val="ff0000"/>
                </a:solidFill>
                <a:latin typeface="Calibri"/>
              </a:rPr>
              <a:t>di questa Relazione</a:t>
            </a:r>
            <a:endParaRPr b="0" lang="it-IT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786040"/>
            <a:ext cx="822924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2000"/>
          </a:bodyPr>
          <a:p>
            <a:pPr marL="242640" indent="-242640" algn="ctr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Visitate il piu’ completo Portale web sulle 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edicine Biologico Naturali: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www.mednat.org</a:t>
            </a:r>
            <a:br>
              <a:rPr sz="2600"/>
            </a:b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Webmaster: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G. Paolo Vanoli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(Giornalista e consulente in Scienza della Nutrizione e Medicine Naturali)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nfo@vanoli.net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2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 VACCINI sono soluzioni biologiche eterologhe, cioe’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TOTALMENTE estrane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ll’organismo umano, il piu’ delle volte derivanti da colture preparate con cellule animali (scimmie, polli, ecc..) – sono da definirsi come complesse Proteine di lipidi (grassi) contenenti un frammento di DNA – NON  SONO  MICRO ORGANISMI, come falsamente ci raccontano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ssi contengono tanti prodotti tossico-nocivi (formaldeide, metalli pesanti, antibiotici potenti, contaminanti occulti, sostanze pericolose, virus tossici ecc.)  e forse da quest’anno anche chips per il controllo degli umani ed animal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ON e’ possibile, per ammissione degli stessi fabbricanti, creare soluzioni vaccinali PURE !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’inoculazione dei Vaccini avviene “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bypassando le vie naturali di difesa del Sistema Immunitari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”, perche con l’iniezione vaccinale si passano tutte quelle barriere che la natura ha preparato in milioni di anni per preservare le varie specie animali ed umane dal proprio annientamento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9997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2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Un virus vien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uplicato=replica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al </a:t>
            </a:r>
            <a:r>
              <a:rPr b="1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"ospitante", solo quando l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ondiz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quel </a:t>
            </a:r>
            <a:r>
              <a:rPr b="1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2"/>
              </a:rPr>
              <a:t>Terreno = Matric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o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lterat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3"/>
              </a:rPr>
              <a:t>citoplasm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ella 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4"/>
              </a:rPr>
              <a:t>cellul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), cioe' quando esso e' portator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formaz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atogene nel caso di virus Eterologo tossico nociv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Eterologo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 organo, tessuto o sostanza organica che proviene da una specie diversa da quella in oggetto), od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Autolog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corporeo, proveniente da materiale proprio, di scarto proteico, a DNA, da eliminare),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sso viene isolato ed in genere immediatamente eliminato, od isolato ed immagazzinato nei grassi dei tessuti, perche' decodificato =riconosciuto dal 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5"/>
              </a:rPr>
              <a:t>D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orporeo , com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ossi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ma se il </a:t>
            </a:r>
            <a:r>
              <a:rPr b="1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6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ellulare (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7"/>
              </a:rPr>
              <a:t>citoplasm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ellulare con il suo contenuto anche genetico) e'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gia' molto alterat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on e' quindi in grado di riconoscerlo subito com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ossi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esso vien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rroneamente riconosciut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per le alterazioni preesistenti),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ome virus autologo, quindi decodificato, replicato (dal sistema di "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8"/>
              </a:rPr>
              <a:t>duplicazione del D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" della cellula stessa + dalla funzione cellulare di "</a:t>
            </a:r>
            <a:r>
              <a:rPr b="0" lang="it-IT" sz="1800" spc="-1" strike="noStrike" u="sng">
                <a:solidFill>
                  <a:srgbClr val="e2d700"/>
                </a:solidFill>
                <a:uFillTx/>
                <a:latin typeface="Calibri"/>
                <a:hlinkClick r:id="rId9"/>
              </a:rPr>
              <a:t>sintesi e specializzazione delle prote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") e ridistribuito alle altre cellule, che se malate anch'esse, riproducono lo stesso meccanismo, creando quindi una reazione a catena che fa scattare l'infezione tissutale e con il tempo anche organica. 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2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7000"/>
          </a:bodyPr>
          <a:p>
            <a:pPr marL="262080" indent="-2620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ndo il sistema Immunitario viene super stimolato, bypassando le sue normali e naturali barriere (informatiche + biochimiche) che ha sempre in attenzione, esso </a:t>
            </a: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va in confusione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cioe’ non e’ piu’ capace, per il vaccino introdotto, di reagire a 360° per la  Perfetta Salute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s. i giusti rapporti fra T1 e T2 (ormoni) vengono alterati</a:t>
            </a:r>
            <a:endParaRPr b="0" lang="it-IT" sz="2800" spc="-1" strike="noStrike">
              <a:solidFill>
                <a:srgbClr val="000000"/>
              </a:solidFill>
              <a:latin typeface="Constantia"/>
            </a:endParaRPr>
          </a:p>
          <a:p>
            <a:pPr marL="262080" indent="-2620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Noi nasciamo con un Sistema Immunitario atto a reazioni a 360°, cioe’ a qualsiasi evenienza –  il vaccino tende e tenta di specializzarlo e quindi il Sist. Immunitario NON e’ piu’ in grado di reagire in difesa immunitaria  a 360° , con tutte le conseguenze del caso.</a:t>
            </a:r>
            <a:endParaRPr b="0" lang="it-IT" sz="2800" spc="-1" strike="noStrike">
              <a:solidFill>
                <a:srgbClr val="000000"/>
              </a:solidFill>
              <a:latin typeface="Constantia"/>
            </a:endParaRPr>
          </a:p>
          <a:p>
            <a:pPr marL="262080" indent="-2620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Ecco perche’ i bambini figli di vaccinati (3° generazione) sono sempre piu’ deboli della generazione precedente e si ammalano sempre di piu’ dei NON vaccinati.</a:t>
            </a:r>
            <a:endParaRPr b="0" lang="it-IT" sz="2800" spc="-1" strike="noStrike">
              <a:solidFill>
                <a:srgbClr val="000000"/>
              </a:solidFill>
              <a:latin typeface="Constantia"/>
            </a:endParaRPr>
          </a:p>
          <a:p>
            <a:pPr marL="262080" indent="-2620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 pediatri sono allarmati per questo esponenziale aumento nei bambini di allergie, otiti, asma, epilessie, autismo, adhd, dislessia, cancri, linfomi, malformazioni genetiche, malattie autoimmuni,  gastroenteriche, distrofie, sclerosi, ecc.</a:t>
            </a:r>
            <a:endParaRPr b="0" lang="it-IT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240" cy="9997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24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Oggi 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vaccini singoli NON esistono piu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’; sono stati ritirati dal commercio per poter vendere e spacciare per obbligatori anche quelli che non lo sono, tipo il vaccino per il morbillo, rosolia, pertosse, ecc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Oggi siamo arrivati ad iniettare in un colpo solo 6 vaccini nell’esavalente, ma sono in preparazione gli eptavalenti…….e piu’ vaccini, e forse anche vaccini contenenti dei chips per il “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ontroll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” degli esseri umani (probabilmente anche quello per l’influenza…maiala…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OGNIU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ha un suo proprio e particolare tipo di </a:t>
            </a:r>
            <a:r>
              <a:rPr b="1" lang="it-IT" sz="1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he e’ identificabile con semplici tecniche di ambulatorio e/o con apparecchiature bio Elettroniche.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cco perche’ prima di fare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errorismo psicologico Iatrog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per mezzo dei mass media,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 medici dovrebbero testare il paziente per conoscere il suo proprio </a:t>
            </a:r>
            <a:r>
              <a:rPr b="1" lang="it-IT" sz="1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ma l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 Universita’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he l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ovrebbe istruire,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NON lo f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….per i noti “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ollegamenti ideologici”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ra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 BIG PHARMA, Minister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lla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“salute”, I.S.S., Ordin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i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medic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medici stessi….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Queste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soluzioni TOSSICHE eterologh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 i Vaccini, una volta inoculate negli organismi viventi, creano reazioni Bioelettroniche e di conseguenza e successivamente per caduta, reazioni Biochimiche che destabilizzano il </a:t>
            </a:r>
            <a:r>
              <a:rPr b="1" lang="it-IT" sz="18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i liquidi del corpo) della Perfetta Salute.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2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238680" indent="-2386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virus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lo ripetiamo, 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NON sono esseri viventi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bensì un’involucro (capside) di Proteine complesse lipidiche (grassi) con all’interno un frammento di DNA eterologo, cioe’ estraneo al DNA umano.</a:t>
            </a:r>
            <a:endParaRPr b="0" lang="it-IT" sz="2800" spc="-1" strike="noStrike">
              <a:solidFill>
                <a:srgbClr val="000000"/>
              </a:solidFill>
              <a:latin typeface="Constantia"/>
            </a:endParaRPr>
          </a:p>
          <a:p>
            <a:pPr marL="238680" indent="-2386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NESSUN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Ente governativo: FDA (USA) - EMEA (EU) – in Italia,  Ministero della Salute, ISS + NAS, effettua un qualsiasi tipo di analisi dei vaccini in commercio, per controllarne il contenuto e/o la tossicita’ dei vari prodotti inseriti in essi, salvo su richiesta di un Giudice del Tribunale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UTTI gli Enti governativi si “fidano” dei documenti di BIG PHARMA…..</a:t>
            </a:r>
            <a:endParaRPr b="0" lang="it-IT" sz="2800" spc="-1" strike="noStrike">
              <a:solidFill>
                <a:srgbClr val="000000"/>
              </a:solidFill>
              <a:latin typeface="Constantia"/>
            </a:endParaRPr>
          </a:p>
          <a:p>
            <a:pPr marL="238680" indent="-238680">
              <a:lnSpc>
                <a:spcPct val="100000"/>
              </a:lnSpc>
              <a:spcBef>
                <a:spcPts val="561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NESSUN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nel mondo ha MAI effettuato un studio in “doppio cieco” fra bambini vaccinati e non vaccinati.</a:t>
            </a: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NESSUN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ha MAI controllato cosa avviene nei vaccinati, dopo 3 mesi, 1 anno, 3 anni, 5 anni, 10 anni, 20 anni, 30 anni !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e prove ?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Vedere in </a:t>
            </a:r>
            <a:r>
              <a:rPr b="0" lang="it-IT" sz="28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www.mednat.org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/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Ministero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Italiano della “salute” + AIFA + EMEA, sono stati  </a:t>
            </a: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informati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sui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Danni dei Vaccini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, con la varia e molteplice corrispondenza intercorsa fra il sottoscritto e questi Enti….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 quali fino ad oggi NON hanno ancora risposto in modo chiaro ed esaustivo ed hanno ammesso che </a:t>
            </a:r>
            <a:r>
              <a:rPr b="1" lang="it-IT" sz="2800" spc="-1" strike="noStrike">
                <a:solidFill>
                  <a:srgbClr val="ff0000"/>
                </a:solidFill>
                <a:latin typeface="Calibri"/>
              </a:rPr>
              <a:t>NON fanno nessun tipo di controlli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ui vaccini !.</a:t>
            </a:r>
            <a:endParaRPr b="0" lang="it-IT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it-IT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24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Questi i meccanismi di azione dei Vaccini: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Siccome ogni cosa esistente in natura e quindi anche le soluzioni biologiche, possono essere identificate e denominate con precisione, per mezzo delle loro frequenze e/o Campo Elettromagnetico, con apposite apparecchiature bioelettroniche (es. Bioelettrometro); queste possibilita’ di analisi precise, permettono di quantificare i valori bioelettronici (pH + rH + ro’, resistivita’ o conducibilita’ di qualsiasi soluzione biologica, lo sono anche i liquidi dei corpi Viventi) e  quindi diviene facile identificare e dimostrare le alterazioni che essi subiscono quando si interviene dall’esterno con qualsiasi azione (es. la Vaccinazione)</a:t>
            </a:r>
            <a:endParaRPr b="0" lang="it-IT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e seconde alterazioni dei Vaccini avvengono a livello tissutale provocando ischemie ed alterazioni delle funzioni delle cellule, perche’ queste ultime, dopo il vaccino possono non essere piu’ capaci di sintetizzare e specializzare le proteine, perche’ i Geni che ordinano all’interno delle cellule queste funzioni, vanno in confusione.</a:t>
            </a:r>
            <a:endParaRPr b="0" lang="it-IT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oltre i vaccini creano mutazioni Genetiche  nei Mitocondri delle cellule, mutazioni che sono trasmissibili alla prole, dalla via della madre.</a:t>
            </a:r>
            <a:endParaRPr b="0" lang="it-IT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Di fatto i Vaccini sono un </a:t>
            </a:r>
            <a:r>
              <a:rPr b="0" lang="it-IT" sz="1600" spc="-1" strike="noStrike">
                <a:solidFill>
                  <a:srgbClr val="ff0000"/>
                </a:solidFill>
                <a:latin typeface="Calibri"/>
              </a:rPr>
              <a:t>cocktail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di </a:t>
            </a:r>
            <a:r>
              <a:rPr b="0" lang="it-IT" sz="1600" spc="-1" strike="noStrike">
                <a:solidFill>
                  <a:srgbClr val="ff0000"/>
                </a:solidFill>
                <a:latin typeface="Calibri"/>
              </a:rPr>
              <a:t>Tossi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altamente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pericolos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che possono rimanere inerti per anni e riesplodere come bombe a tempo anche dopo 30-40 anni o piu’… e che alterano il Terreno in modo importante, specie negli organismi non perfettamente sani, per problemi ereditari e/o di alimentazione inadatta alla Perfetta Salute. </a:t>
            </a:r>
            <a:endParaRPr b="0" lang="it-IT" sz="1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2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Nel sito </a:t>
            </a:r>
            <a:r>
              <a:rPr b="0" lang="it-IT" sz="16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www.mednat.org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visionare il </a:t>
            </a:r>
            <a:r>
              <a:rPr b="0" lang="it-IT" sz="1600" spc="-1" strike="noStrike">
                <a:solidFill>
                  <a:srgbClr val="ff0000"/>
                </a:solidFill>
                <a:latin typeface="Calibri"/>
              </a:rPr>
              <a:t>Contenuto dei Vaccin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sotto Danni dei Vaccini</a:t>
            </a:r>
            <a:endParaRPr b="0" lang="it-IT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24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240" cy="53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oltre i vaccini creano mutazioni Genetiche  nei Mitocondri delle cellule, mutazioni che sono trasmissibili alla prole, dalla via della madre.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elle cellule infettate d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iru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risveglia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i retrovirus piu’ vecchi. Dei ricercatori hanno osservato che quando il metabolismo della cellula infettata da un virus (NdR: che puo’ essere anche vaccinale) essa viene ingannata al fine di riprodurre il virus, pero’ in ess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cad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la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funzionalità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alcune reazioni biochimiche di contenimento e di funzione cellulare: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intesi e specializzazione delle prote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specializzazione degli enzimi e duplicazione del D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'infezione da virus vaccinale e’ in grado quindi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riattivare genomi di precedenti viru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o d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quelli iniettati con i vaccin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i genitori, nonni, avi del vaccinato, virus, che erano divenuti parte del genoma delle cellule dei genitori, nonni, avi, generando anticipatamente qualsiasi tipo di patologia; il meccanismo si chiama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slatentizz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 fatto 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acci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ono un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cocktail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oss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altament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ericolo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he possono rimanere inerti per anni e riesplodere come bombe a tempo anche dopo 30-40 anni o piu’… che alterano i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in modo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mportant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specie negli organismi non perfettamente sani, per problemi ereditari e/o di alimentazione inadatta alla Perfetta Salute. </a:t>
            </a:r>
            <a:endParaRPr b="0" lang="it-IT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24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TERRENO e VACCINI</a:t>
            </a:r>
            <a:endParaRPr b="0" lang="it-IT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4000"/>
          </a:bodyPr>
          <a:p>
            <a:pPr marL="248760" indent="-24876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Terreno: si identificano con questo termine i liquidi del corpo (liquidi extra ed intra cellulari) di un essere Vivente che sono soluzioni biologiche ed i suoi valori sono identificabili e certificabili, con le apparecchiature gia’ indicate.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 suoi valori di pH (acido-base) + rH (carica elettronica) + ro’ Conducibilita’ o Resitivita’ (resistenza della soluzione al passaggio della corrente) essendo identificabili, permettono di controllare tutte le possibili variazioni che possono intervenire con l’introduzione nell’organismo analizzato (es. con i Vaccini)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essuno nella medicina ufficiale utilizza queste apparecchiature, e neppure le conosce !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marL="248760" indent="-24876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ppure sarebbero molto utili per fare delle indagini in campo sanitario.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 prima alterazione che un vaccino produce e’ di tipo Bioelettronico e quindi si alterano i valori della Perfetta salute immediatamente, all’introduzione dei vaccini (qualsiasi), il pH + rH + ro’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i caduta, cioe’ a cascata, le variazioni bioelettroniche determinano quelle biochimiche nel Terreno (i liquidi extra ed intra cellulari) e quindi nella Matrice con le conseguenze del caso</a:t>
            </a: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it-IT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Equinozio">
  <a:themeElements>
    <a:clrScheme name="Equinozio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Equinozio">
  <a:themeElements>
    <a:clrScheme name="Equinozio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  <Words>1185</Words>
  <Paragraphs>6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9:36:48Z</dcterms:created>
  <dc:creator>G.Paolo</dc:creator>
  <dc:description/>
  <dc:language>en-US</dc:language>
  <cp:lastModifiedBy>G.Paolo</cp:lastModifiedBy>
  <dcterms:modified xsi:type="dcterms:W3CDTF">2010-05-08T05:29:42Z</dcterms:modified>
  <cp:revision>42</cp:revision>
  <dc:subject/>
  <dc:title>VACCINI – TERRENO e Riordino della MATR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Presentazione su schermo (4:3)</vt:lpwstr>
  </property>
  <property fmtid="{D5CDD505-2E9C-101B-9397-08002B2CF9AE}" pid="3" name="Slides">
    <vt:r8>15</vt:r8>
  </property>
</Properties>
</file>