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17D-A244-4AD7-9901-D75B102A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715-3B68-432B-A628-9F5958DC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3ED-A768-4A24-AA79-F2C56DEB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FCF-5CC9-408E-8D01-CBF61584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E339-D146-4D63-9391-33C474F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D46E-77E7-4097-B139-EE3EA24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379A-1FAE-47CB-AF41-5B2439B0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D9EA-A51C-4DF1-B91A-26BB57B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7ED-97B9-43B4-98D4-748DF78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DF8-9815-46D3-93F6-3967E22E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1E63-4BAA-4F17-AF4D-5C04112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044-EA45-4F18-8894-A5410FE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6E9F-5022-419D-AF95-9ED7C9B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547-196F-44C6-BE86-84C15B9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7DE4-CB62-4AF7-B2EE-17D1C2A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C30-3E70-4694-9559-1D0CB701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E20A-F583-49F9-AD2C-E32D2C40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649-61C0-4BA3-8153-1433100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FED-FB26-4658-A23A-E934BB90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56D-7731-43ED-9923-B65EE4E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48B-9CEA-442B-A721-F4AA6780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522-B84E-4E2C-9E46-6A2E37F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2EA-52DF-493C-ACE2-F76D9E11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75F-9985-49BA-A020-CF051F0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o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igura a mano libera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igura a mano libera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it-IT" sz="5600" spc="-1" strike="noStrike">
                <a:solidFill>
                  <a:srgbClr val="50e0ea"/>
                </a:solidFill>
                <a:latin typeface="Calibri"/>
              </a:rPr>
              <a:t>Fare clic per modificare lo stile del titolo</a:t>
            </a:r>
            <a:endParaRPr b="0" lang="it-IT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8BEF2C-C167-4EFD-BBF2-4D195DF31CEE}" type="slidenum">
              <a:rPr b="0" lang="it-IT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it-IT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it-IT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igura a mano libera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igura a mano libera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uppo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igura a mano libera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igura a mano libera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Fare clic per modificare lo stile del titol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Fare clic per modificare stili del testo dello schema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Secondo livello</a:t>
            </a:r>
            <a:endParaRPr b="0" lang="it-IT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Terzo livello</a:t>
            </a:r>
            <a:endParaRPr b="0" lang="it-IT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F32AE6-C30E-4ED9-BEA0-65C8FD983A70}" type="slidenum">
              <a:rPr b="0" lang="it-IT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t.wikipedia.org/wiki/Cellula" TargetMode="External"/><Relationship Id="rId2" Type="http://schemas.openxmlformats.org/officeDocument/2006/relationships/hyperlink" Target="http://it.wikipedia.org/wiki/Tessuto_connettivo" TargetMode="External"/><Relationship Id="rId3" Type="http://schemas.openxmlformats.org/officeDocument/2006/relationships/hyperlink" Target="http://it.wikipedia.org/wiki/Tessuto_connettivo" TargetMode="External"/><Relationship Id="rId4" Type="http://schemas.openxmlformats.org/officeDocument/2006/relationships/hyperlink" Target="http://it.wikipedia.org/wiki/Acqua" TargetMode="External"/><Relationship Id="rId5" Type="http://schemas.openxmlformats.org/officeDocument/2006/relationships/hyperlink" Target="http://www.mednat.org/cure_natur/enzimi.htm" TargetMode="External"/><Relationship Id="rId6" Type="http://schemas.openxmlformats.org/officeDocument/2006/relationships/hyperlink" Target="http://www.mednat.org/cure_natur/vitamine.htm" TargetMode="External"/><Relationship Id="rId7" Type="http://schemas.openxmlformats.org/officeDocument/2006/relationships/hyperlink" Target="http://it.wikipedia.org/wiki/Anticorpi" TargetMode="External"/><Relationship Id="rId8" Type="http://schemas.openxmlformats.org/officeDocument/2006/relationships/hyperlink" Target="http://it.wikipedia.org/wiki/Respirazione_cellulare" TargetMode="External"/><Relationship Id="rId9" Type="http://schemas.openxmlformats.org/officeDocument/2006/relationships/hyperlink" Target="http://www.mednat.org/cure_natur/intossicazione.htm" TargetMode="External"/><Relationship Id="rId10" Type="http://schemas.openxmlformats.org/officeDocument/2006/relationships/hyperlink" Target="http://www.mednat.org/cure_natur/infiammazione.htm" TargetMode="External"/><Relationship Id="rId11" Type="http://schemas.openxmlformats.org/officeDocument/2006/relationships/hyperlink" Target="http://www.mednat.org/malattia_definizione.htm" TargetMode="External"/><Relationship Id="rId1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Respirazione_cellulare" TargetMode="External"/><Relationship Id="rId2" Type="http://schemas.openxmlformats.org/officeDocument/2006/relationships/hyperlink" Target="file:///F:/Siti%20web%20Gen%202009/MedNat%2001%2009%202009/bioelettr/acidi_basi.htm" TargetMode="External"/><Relationship Id="rId3" Type="http://schemas.openxmlformats.org/officeDocument/2006/relationships/hyperlink" Target="file:///F:/Siti%20web%20Gen%202009/MedNat%2001%2009%202009/bioelettr/acidi_basi.htm" TargetMode="External"/><Relationship Id="rId4" Type="http://schemas.openxmlformats.org/officeDocument/2006/relationships/hyperlink" Target="file:///F:/Siti%20web%20Gen%202009/MedNat%2001%2009%202009/bioelettr/ossido_riduzione.htm" TargetMode="Externa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Siti%20web%20Gen%202009/MedNat%2001%2009%202009/cure_natur/stress_ossidativo.htm" TargetMode="External"/><Relationship Id="rId2" Type="http://schemas.openxmlformats.org/officeDocument/2006/relationships/hyperlink" Target="file:///F:/Siti%20web%20Gen%202009/MedNat%2001%2009%202009/cure_natur/enzimi.htm" TargetMode="External"/><Relationship Id="rId3" Type="http://schemas.openxmlformats.org/officeDocument/2006/relationships/hyperlink" Target="file:///F:/Siti%20web%20Gen%202009/MedNat%2001%2009%202009/cure_natur/fermenti_nemici.htm" TargetMode="External"/><Relationship Id="rId4" Type="http://schemas.openxmlformats.org/officeDocument/2006/relationships/hyperlink" Target="file:///F:/Siti%20web%20Gen%202009/MedNat%2001%2009%202009/bioelettr/acidi_basi.htm" TargetMode="Externa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F:/Siti%20web%20Gen%202009/MedNat%2001%2009%202009/cure_natur/nozione_terreno.htm" TargetMode="External"/><Relationship Id="rId2" Type="http://schemas.openxmlformats.org/officeDocument/2006/relationships/hyperlink" Target="file:///F:/Siti%20web%20Gen%202009/MedNat%2001%2009%202009/cure_natur/matrice.htm" TargetMode="External"/><Relationship Id="rId3" Type="http://schemas.openxmlformats.org/officeDocument/2006/relationships/hyperlink" Target="http://it.wikipedia.org/wiki/Citoplasma" TargetMode="External"/><Relationship Id="rId4" Type="http://schemas.openxmlformats.org/officeDocument/2006/relationships/hyperlink" Target="file:///F:/Siti%20web%20Gen%202009/MedNat%2001%2009%202009/cure_natur/cellule.htm" TargetMode="External"/><Relationship Id="rId5" Type="http://schemas.openxmlformats.org/officeDocument/2006/relationships/hyperlink" Target="file:///F:/Siti%20web%20Gen%202009/MedNat%2001%2009%202009/cure_natur/DNA.htm" TargetMode="External"/><Relationship Id="rId6" Type="http://schemas.openxmlformats.org/officeDocument/2006/relationships/hyperlink" Target="file:///F:/Siti%20web%20Gen%202009/MedNat%2001%2009%202009/cure_natur/matrice2.htm" TargetMode="External"/><Relationship Id="rId7" Type="http://schemas.openxmlformats.org/officeDocument/2006/relationships/hyperlink" Target="http://it.wikipedia.org/wiki/Citoplasma" TargetMode="External"/><Relationship Id="rId8" Type="http://schemas.openxmlformats.org/officeDocument/2006/relationships/hyperlink" Target="http://it.wikipedia.org/wiki/Duplicazione_del_DNA" TargetMode="External"/><Relationship Id="rId9" Type="http://schemas.openxmlformats.org/officeDocument/2006/relationships/hyperlink" Target="http://it.wikipedia.org/wiki/Sintesi_proteica" TargetMode="External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VACCINI – TERRENO </a:t>
            </a:r>
            <a:r>
              <a:rPr b="1" lang="it-IT" sz="5400" spc="-1" strike="noStrike">
                <a:solidFill>
                  <a:srgbClr val="ffff00"/>
                </a:solidFill>
                <a:latin typeface="Calibri"/>
              </a:rPr>
              <a:t>e</a:t>
            </a:r>
            <a:br>
              <a:rPr sz="5400"/>
            </a:br>
            <a:r>
              <a:rPr b="1" lang="it-IT" sz="5400" spc="-1" strike="noStrike">
                <a:solidFill>
                  <a:srgbClr val="ffff00"/>
                </a:solidFill>
                <a:latin typeface="Calibri"/>
              </a:rPr>
              <a:t>Riordino della MATRICE</a:t>
            </a:r>
            <a:endParaRPr b="0" lang="it-IT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’alterazione del “Terreno” e’ la base della malatt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Relazione del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Giornalista (Albo speciale)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dr. G. Paolo Vanoli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(non medico) ma Naturopata. </a:t>
            </a:r>
            <a:br>
              <a:rPr sz="2000"/>
            </a:b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Webmaster di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mednat.org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Guida alla Salute Natural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”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e.mail: info@medna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cco </a:t>
            </a:r>
            <a:r>
              <a:rPr b="0" lang="it-IT" sz="2600" spc="-1" strike="noStrike">
                <a:solidFill>
                  <a:srgbClr val="ff0000"/>
                </a:solidFill>
                <a:latin typeface="Calibri"/>
              </a:rPr>
              <a:t>alcune delle principali alterazioni 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del Terreno dopo un qualsiasi vaccino: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lla funzione cellulare (Il DNA corporeo per mezzo del CEM, la via sanguigna e linfatica informano immediatamente le cellule delle proteine tossiche a DNA introdotte con la vaccinazione)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schemie piu’ o meno importanti nei tessuti biologici del corpo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lla funzione dei mitocondri nelle cellule per l’alterazione del DNA mitocondriale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lla flora batterica autoctona (per la alterazione del pH + rH + ro’ dei liquidi dell’apparato digerente) e quindi quella delle normali digestioni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gli enzimi e quindi del sistema enzimatico, essenziale per i processi biochimici essenziali alla perfetta salute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 potremmo continuare……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Quindi qualsiasi tipo di malattia puo’ essere creata in un soggetto se questo si sottopone a queste infauste profilassi in-sanitarie !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e Mutazioni Genetiche indotte  con i vaccini, possono essere anche regalate alla prole che le slatentizzera’ facilmente in tenera eta’. 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TERRENO e MATRICE</a:t>
            </a:r>
            <a:endParaRPr b="0" lang="it-IT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RRENO e’ rappresentato dai liquidi del corpo (extra ed intra cellulari)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fini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tric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biologia la matrice è il materiale viscoso ed amorfo che collega le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cellu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alle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fi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dando cosi origine al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Tessuto Connettiv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seconda del tipo di tessuto in cui si trova, si differenzia per quantità e composizione, variando il proprio stato da gel denso a sol liquido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generale, è composto da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acqu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(fase disperdente), mucopolisaccaridi acidi e glicoproteine strutturali (fase dispersa). Sono comunque reperibili in essa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enzim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vitam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anticorp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tc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matrice extracellulare ha compit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trimen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fesa dalle sostanze tossiche che ci avvelenano, intossicano ed infiamm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il corpo umano s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mma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lamente quando in essa quest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usti Rappor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8"/>
              </a:rPr>
              <a:t>alter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la guarig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V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eguir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ssolutame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i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i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er il riordino di questi rapporti alterati. 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quando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ruttura base della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xtracellulare ed intracellulare si altera, nascono le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9"/>
              </a:rPr>
              <a:t>intossic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0"/>
              </a:rPr>
              <a:t>infiam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 tessuto e quindi i primi sintomi, nelle zone interessate (organi o sistemi) della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1"/>
              </a:rPr>
              <a:t>malatt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e abbiamo visto la Matrice e’ la base sulla quale si innesta=crea, il Tessuto connettivo (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ssuto conne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è un particolare tipo di tessuto delle forme viventi superiori che provvede al collegamento, sostegno e nutrimento dei tessuti dei vari organi derivante dal tessuto connettivo embrionale. 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Corpo Uma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cosi come tutti gli esseri Viventi)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e' ben not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e' un'insieme di cellule e quindi esso segue e sopravvive con i Principi e gli Schemi del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funzionamento della Cellul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a quale come e' ben evidenziato in questa pagina funziona per mezzo de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iusti Rapport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fra l'ambiente esterno il liquido extracellulare e quello interno (liquido intracellulare), i quali sono determinati in primis dai rispettivi </a:t>
            </a:r>
            <a:r>
              <a:rPr b="1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pH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- regolati nei loro giusti rapporti dai processi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acidi-ba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dalla loro carica ionica - bio elettronic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H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dall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o'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resistivita' e/o conducibilita') extra ed intra cellulare, e cioe' dal tipo di potere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ossido-ridu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=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ndo la Matrice si altera, lo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stress ossidativo cellular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compar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Ricordarsi che le alterazioni degli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enzim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della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lor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pH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igestivo e e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ucos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testinale influenzano  la salute,  non soltanto a livello intestinale, ma anche a distanza in qualsiasi parte dell'organismo. 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riordinare la Matrice occorre variare il pH + rH + ro’ dei liquidi del corpo e quindi quelli della Matrice + Tessuto Connettivo extracellulare e quindi per cascata chimica, quelli intra cellulari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fare cio’ e’ necessario utilizzare i Sali tampone (Ipocloruro di sodio, Bicarbonato di Sodio, Magnesio, Ascorbato di Potassio ecc.) ed inserire un’ alimentazione prettament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Crugivo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frutta e verdura di stagione frullate) – con questo tipo di alimentazione otteniamo due scopi: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sintossic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sinfiamm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’organismo, iniziando dall’apparato digerente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mporaneamente occorre far assumere dei fermenti lattici (scegliere il tipo a seconda dei casi) + enzimi vegetali + carbone vegetale, finocchio ed anice il tutto in capsule, dopo i pasti + capsule di aglio + biancospino alla sera prima di dormire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colon Terapia sara’ di ausilio in moltissimi cas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ssunzione giornaliera di alghe Kelp, per detossificare assieme al carbone vegetale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 terapia esterna sara’ di ausilio in molti casi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applicazione giornaliera dell’equilibratore ionico, per scaricare le tensioni di energia elettrostatica che sempre sono presenti in ognuno di noi per il tipo di inquinamento (elettrosmog) elettromagnetic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vorare anche sulla psiche del malato con appositi test e terapie per ottenere nei vari casi, il miglioramento di attenzione, concentrazione e linguaggi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20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Per TUTTI i particolari </a:t>
            </a:r>
            <a:br>
              <a:rPr sz="6000"/>
            </a:b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di questa Relazione</a:t>
            </a:r>
            <a:endParaRPr b="0" lang="it-IT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8229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42640" indent="-242640" algn="ctr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Visitate il piu’ completo Portale web sulle 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edicine Biologico Naturali: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www.mednat.org</a:t>
            </a:r>
            <a:br>
              <a:rPr sz="2600"/>
            </a:b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Webmaster: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G. Paolo Vanoli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Giornalista e consulente in Scienza della Nutrizione e Medicine Naturali)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fo@vanoli.net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VACCINI sono soluzioni biologiche eterologhe, cioe’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TOTALMENTE estrane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’organismo umano, il piu’ delle volte derivanti da colture preparate con cellule animali (scimmie, polli, ecc..) – sono da definirsi come complesse Proteine di lipidi (grassi) contenenti un frammento di DNA – NON  SONO  MICRO ORGANISMI, come falsamente ci raccontan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ssi contengono tanti prodotti tossico-nocivi (formaldeide, metalli pesanti, antibiotici potenti, contaminanti occulti, sostanze pericolose, virus tossici ecc.)  e forse da quest’anno anche chips per il controllo degli umani ed animal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 e’ possibile, per ammissione degli stessi fabbricanti, creare soluzioni vaccinali PURE !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noculazione dei Vaccini avviene “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bypassando le vie naturali di difesa del Sistema Immunitari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”, perche con l’iniezione vaccinale si passano tutte quelle barriere che la natura ha preparato in milioni di anni per preservare le varie specie animali ed umane dal proprio annientament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 virus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uplicato=replica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l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"ospitante", solo quando 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di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quel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Terreno =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o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lterat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citoplasm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la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cellu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, cioe' quando esso e' portator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togene nel caso di virus Eterologo tossico nociv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Eterolog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organo, tessuto o sostanza organica che proviene da una specie diversa da quella in oggetto), od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Autolog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orporeo, proveniente da materiale proprio, di scarto proteico, a DNA, da eliminare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so viene isolato ed in genere immediatamente eliminato, od isolato ed immagazzinato nei grassi dei tessuti, perche' decodificato =riconosciuto dal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orporeo , com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se il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ellulare (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citoplasm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ellulare con il suo contenuto anche genetico) e'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a' molto altera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e' quindi in grado di riconoscerlo subito com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sso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rroneamente riconosciu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per le alterazioni preesistenti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e virus autologo, quindi decodificato, replicato (dal sistema di "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8"/>
              </a:rPr>
              <a:t>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" della cellula stessa + dalla funzione cellulare di "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9"/>
              </a:rPr>
              <a:t>sintesi e specializzazione delle 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") e ridistribuito alle altre cellule, che se malate anch'esse, riproducono lo stesso meccanismo, creando quindi una reazione a catena che fa scattare l'infezione tissutale e con il tempo anche organica. 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ndo il sistema Immunitario viene super stimolato, bypassando le sue normali e naturali barriere (informatiche + biochimiche) che ha sempre in attenzione, esso 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va in confusion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cioe’ non e’ piu’ capace, per il vaccino introdotto, di reagire a 360° per la  Perfetta Salute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s. i giusti rapporti fra T1 e T2 (ormoni) vengono alterati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i nasciamo con un Sistema Immunitario atto a reazioni a 360°, cioe’ a qualsiasi evenienza –  il vaccino tende e tenta di specializzarlo e quindi il Sist. Immunitario NON e’ piu’ in grado di reagire in difesa immunitaria  a 360° , con tutte le conseguenze del caso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cco perche’ i bambini figli di vaccinati (3° generazione) sono sempre piu’ deboli della generazione precedente e si ammalano sempre di piu’ dei NON vaccinati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pediatri sono allarmati per questo esponenziale aumento nei bambini di allergie, otiti, asma, epilessie, autismo, adhd, dislessia, cancri, linfomi, malformazioni genetiche, malattie autoimmuni,  gastroenteriche, distrofie, sclerosi, ecc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ggi 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vaccini singoli NON esistono piu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’; sono stati ritirati dal commercio per poter vendere e spacciare per obbligatori anche quelli che non lo sono, tipo il vaccino per il morbillo, rosolia, pertosse, ecc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ggi siamo arrivati ad iniettare in un colpo solo 6 vaccini nell’esavalente, ma sono in preparazione gli eptavalenti…….e piu’ vaccini, e forse anche vaccini contenenti dei chips per il “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troll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” degli esseri umani (probabilmente anche quello per l’influenza…maiala…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OGNIU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ha un suo proprio e particolare tipo di </a:t>
            </a: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he e’ identificabile con semplici tecniche di ambulatorio e/o con apparecchiature bio Elettroniche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cco perche’ prima di far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errorismo psicologico Iatrog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per mezzo dei mass media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edici dovrebbero testare il paziente per conoscere il suo proprio </a:t>
            </a: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l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 Universita’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he l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ovrebbe istruire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NON lo f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.per i noti “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llegamenti ideologici”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r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BIG PHARMA, Minist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l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“salute”, I.S.S., Ord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medic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medici stessi…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est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oluzioni TOSSICHE eterolog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 i Vaccini, una volta inoculate negli organismi viventi, creano reazioni Bioelettroniche e di conseguenza e successivamente per caduta, reazioni Biochimiche che destabilizzano il </a:t>
            </a: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i liquidi del corpo) della Perfetta Salute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lo ripetiamo, 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ON sono esseri vivent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bensì un’involucro (capside) di Proteine complesse lipidiche (grassi) con all’interno un frammento di DNA eterologo, cioe’ estraneo al DNA umano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ESSUN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nte governativo: FDA (USA) - EMEA (EU) – in Italia,  Ministero della Salute, ISS + NAS, effettua un qualsiasi tipo di analisi dei vaccini in commercio, per controllarne il contenuto e/o la tossicita’ dei vari prodotti inseriti in essi, salvo su richiesta di un Giudice del Tribunale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UTTI gli Enti governativi si “fidano” dei documenti di BIG PHARMA….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nel mondo ha MAI effettuato un studio in “doppio cieco” fra bambini vaccinati e non vaccinati.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ha MAI controllato cosa avviene nei vaccinati, dopo 3 mesi, 1 anno, 3 anni, 5 anni, 10 anni, 20 anni, 30 anni !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 prove ?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dere in </a:t>
            </a:r>
            <a:r>
              <a:rPr b="0" lang="it-IT" sz="2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mednat.org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inister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Italiano della “salute” + AIFA + EMEA, sono stati 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nformat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sui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Danni dei Vaccin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con la varia e molteplice corrispondenza intercorsa fra il sottoscritto e questi Enti….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quali fino ad oggi NON hanno ancora risposto in modo chiaro ed esaustivo ed hanno ammesso che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ON fanno nessun tipo di controll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ui vaccini !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Questi i meccanismi di azione dei Vaccini: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iccome ogni cosa esistente in natura e quindi anche le soluzioni biologiche, possono essere identificate e denominate con precisione, per mezzo delle loro frequenze e/o Campo Elettromagnetico, con apposite apparecchiature bioelettroniche (es. Bioelettrometro); queste possibilita’ di analisi precise, permettono di quantificare i valori bioelettronici (pH + rH + ro’, resistivita’ o conducibilita’ di qualsiasi soluzione biologica, lo sono anche i liquidi dei corpi Viventi) e  quindi diviene facile identificare e dimostrare le alterazioni che essi subiscono quando si interviene dall’esterno con qualsiasi azione (es. la Vaccinazione)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e seconde alterazioni dei Vaccini avvengono a livello tissutale provocando ischemie ed alterazioni delle funzioni delle cellule, perche’ queste ultime, dopo il vaccino possono non essere piu’ capaci di sintetizzare e specializzare le proteine, perche’ i Geni che ordinano all’interno delle cellule queste funzioni, vanno in confusione.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oltre i vaccini creano mutazioni Genetiche  nei Mitocondri delle cellule, mutazioni che sono trasmissibili alla prole, dalla via della madre.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fatto i Vaccini sono un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pericolos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e che alterano il Terreno in modo importante, specie negli organismi non perfettamente sani, per problemi ereditari e/o di alimentazione inadatta alla Perfetta Salute. 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 sito </a:t>
            </a:r>
            <a:r>
              <a:rPr b="0" lang="it-IT" sz="16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mednat.org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visionare il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ntenuto dei Vaccin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otto Danni dei Vaccini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3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oltre i vaccini creano mutazioni Genetiche  nei Mitocondri delle cellule, mutazioni che sono trasmissibili alla prole, dalla via della madre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e cellule infettate d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risvegli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 retrovirus piu’ vecchi. Dei ricercatori hanno osservato che quando il metabolismo della cellula infettata da un virus (NdR: che puo’ essere anche vaccinale) essa viene ingannata al fine di riprodurre il virus, pero’ in ess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cad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funzionalit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alcune reazioni biochimiche di contenimento e di funzione cellulare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intesi e specializzazione delle 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pecializzazione degli enzimi e 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'infezione da virus vaccinale e’ in grado quind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iattivare genomi di precedenti 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o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quelli iniettati con 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i genitori, nonni, avi del vaccinato, virus, che erano divenuti parte del genoma delle cellule dei genitori, nonni, avi, generando anticipatamente qualsiasi tipo di patologia; il meccanismo si chiam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latentizz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fatto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cci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n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eric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che alteran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n modo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mporta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pecie negli organismi non perfettamente sani, per problemi ereditari e/o di alimentazione inadatta alla Perfetta Salute. 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erreno: si identificano con questo termine i liquidi del corpo (liquidi extra ed intra cellulari) di un essere Vivente che sono soluzioni biologiche ed i suoi valori sono identificabili e certificabili, con le apparecchiature gia’ indicate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suoi valori di pH (acido-base) + rH (carica elettronica) + ro’ Conducibilita’ o Resitivita’ (resistenza della soluzione al passaggio della corrente) essendo identificabili, permettono di controllare tutte le possibili variazioni che possono intervenire con l’introduzione nell’organismo analizzato (es. con i Vaccini)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ssuno nella medicina ufficiale utilizza queste apparecchiature, e neppure le conosce !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ppure sarebbero molto utili per fare delle indagini in campo sanitario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prima alterazione che un vaccino produce e’ di tipo Bioelettronico e quindi si alterano i valori della Perfetta salute immediatamente, all’introduzione dei vaccini (qualsiasi), il pH + rH + ro’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 caduta, cioe’ a cascata, le variazioni bioelettroniche determinano quelle biochimiche nel Terreno (i liquidi extra ed intra cellulari) e quindi nella Matrice con le conseguenze del caso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nozio">
  <a:themeElements>
    <a:clrScheme name="Equinozi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nozio">
  <a:themeElements>
    <a:clrScheme name="Equinozi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  <Words>1185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9:36:48Z</dcterms:created>
  <dc:creator>G.Paolo</dc:creator>
  <dc:description/>
  <dc:language>en-US</dc:language>
  <cp:lastModifiedBy>G.Paolo</cp:lastModifiedBy>
  <dcterms:modified xsi:type="dcterms:W3CDTF">2010-05-08T05:29:42Z</dcterms:modified>
  <cp:revision>42</cp:revision>
  <dc:subject/>
  <dc:title>VACCINI – TERRENO e Riordino della MATR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15</vt:r8>
  </property>
</Properties>
</file>