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A062-E0B8-4F86-9FF1-DE3774F89DD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5542-7D52-49A1-BE11-839DA711D7E0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B7E6-C14E-4E78-A61E-E397F7C6B1D6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67A1-0BBC-418A-8744-33795DC72666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7550-64DE-4B1E-AA48-85A3AA85B67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1670-2CA7-4C1C-9CD5-1CFCCAA52E12}" type="slidenum"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D9B-DEC9-4D89-A37B-8960F69F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08F8-5E28-41E8-AFDF-164B68C3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5758-8B2B-485C-AC42-8EBF8718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5460-A28B-4A54-B082-484AC339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B58E-DD2B-4D98-B817-47801A4EE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CE9B-19FA-4FB9-8734-CD9DE352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422F5-8122-4CFE-B3B5-7483B265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E4B5-A177-4362-85E1-F4514859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EFEA-7339-4B09-B0F0-3FA542C5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3A51-F09C-4DD2-BB10-842812E4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6680-64EE-4C18-85AD-E357A994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19C1-A4F0-410B-A452-94A3B379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541C-8B28-44BB-8D79-6227D94A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8F5C7-795D-4251-9468-29F6CFA6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25E3-C278-495F-9AEA-9C00976B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8EC3-6F6D-46A3-A65E-F817A790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8907F-578B-4DF1-A3DE-009BF516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3AF2-9720-4EA2-8314-3CCE9160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32EF-AF35-4F0E-BC40-D5BC5826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C5F2-18A2-41FC-A04F-D05D8056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95480" y="151920"/>
            <a:ext cx="60199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763-3BF8-4451-BBFC-48895E47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2DD-525F-4697-9FDF-656BE9C7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343D-4942-4B95-A0CA-1C3F3F10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89F6-1626-4963-A7D6-5DA806E5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8AB4-4502-4D24-BFB0-1B41A7FCB9EC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387C-0B0A-4E93-9E91-2CF16C511918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5480" cy="601812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18120"/>
              <a:gd name="textAreaBottom" fmla="*/ 6018480 h 60181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95480" y="151920"/>
            <a:ext cx="6019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B4BD-D9CB-4D05-8511-BE5B98C5F6CE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5E46-E571-49A2-A20B-16849713C097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4A7A-BCF6-4C92-BC11-A6C31FAF6ED8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581280" y="6248520"/>
            <a:ext cx="406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C303-2B70-4E11-A296-3CF6FB1EB2A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3200" y="228600"/>
            <a:ext cx="4952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VACCINAZIONI </a:t>
            </a:r>
            <a:r>
              <a:rPr b="1" lang="it-IT" sz="4000" spc="-1" strike="noStrike">
                <a:solidFill>
                  <a:srgbClr val="ffff00"/>
                </a:solidFill>
                <a:latin typeface="Verdana"/>
              </a:rPr>
              <a:t>Si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o </a:t>
            </a:r>
            <a:r>
              <a:rPr b="1" lang="it-IT" sz="4000" spc="-1" strike="noStrike">
                <a:solidFill>
                  <a:srgbClr val="ffff00"/>
                </a:solidFill>
                <a:latin typeface="Verdana"/>
              </a:rPr>
              <a:t>NO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?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857680" y="2057400"/>
            <a:ext cx="58291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Come Cittadini di uno Stato che “dovrebbe” tutelarci nella Salute (art. 32 Cost. It.), 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</a:rPr>
              <a:t>Vogliamo vederci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</a:rPr>
              <a:t>CHIAR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al di là degli interessi dei Produttori dei 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</a:rPr>
              <a:t>Farma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dei </a:t>
            </a:r>
            <a:r>
              <a:rPr b="0" lang="it-IT" sz="2000" spc="-1" strike="noStrike">
                <a:solidFill>
                  <a:srgbClr val="ff3300"/>
                </a:solidFill>
                <a:latin typeface="Verdana"/>
              </a:rPr>
              <a:t>Vaccini</a:t>
            </a:r>
            <a:br>
              <a:rPr sz="1800"/>
            </a:br>
            <a:br>
              <a:rPr sz="18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resentazione del dr. G. Paolo Vanoli, Giornalista (Albo speciale), Consulente in Scienza della Nutrizione e 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dicine Biologico Naturali (Ph.D. USA)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Webmaster di www.mednat.org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F167-1455-48D0-A457-32B088FE8C6A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B30E-678B-4FF7-8019-12CBAAA1B90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Vaccini, è un Busness ?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- 2</a:t>
            </a: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19160" y="12193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E se dietro a tutto questo non ci fosse altro che l'ennesimo raggiro delle multinazionali farmaceutich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?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Prima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intossicare ed ammala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con i vaccini e po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richiedere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finanziamenti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per la “ricerca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”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po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tentare di guari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i malati…che però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non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guariscono MA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…. 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Vaccini al Mercu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fanno ma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ma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verranno impiegati in Italia fino al 2008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per esaurire le scorte……    i ……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Produttori ringrazia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Gl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unici che ne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traggono vantagg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i “salute immediata” sono 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Produtto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ei farmaci e vaccini perché i lor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bilanci godono di OTTIMA salu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….in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$$$$$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F3D8-4409-438D-B7B3-4480D6AD228F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7B45-5F2E-4A4F-A113-010ED99DEC9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I Vaccin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819160" y="1676160"/>
            <a:ext cx="60958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Considerati fino a 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decennio f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come “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sicura panace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a terribili malattie”, oggi l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vaccinazioni sono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sempre più accusa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i essere l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responsabi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ell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cadut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immunitarie di popolazioni inte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mutazioni genetich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trasmissibil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e quindi messe sempre più in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discuss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 anche per il lor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ontenuto altamente 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Tossico (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metalli pesant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com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mercurio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ed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alluminio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, ecc., sostanze cancerogene – formaldeide – sostanze minerali come il carbonio, ed altre ancora…..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9DD67-7072-42AB-BF38-E1CCB885C0CF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AB8B-8568-438E-B27C-E38CA03CAFB8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-22860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I Vaccini 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sono</a:t>
            </a: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 “farmaci” </a:t>
            </a:r>
            <a:br>
              <a:rPr sz="4400"/>
            </a:b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tra i più  pericolosi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ltr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1.000 studi medico-scientifi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nel mondo,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Dimostra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la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pericolosità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ei vaccini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 360° grad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Qualsiasi malatti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può esser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omatizzat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al vaccinato, perche’ reso ipersensibile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roducono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Mutazioni Genetich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rasmissibi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alla prole. (Vedi gli Stud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cientifici pubblica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estabilizza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istema Immunita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per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tutta la vita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altando tutte le natural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barriere immunologich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tengon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ostanze tossich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pericolos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vaccin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dismess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all’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us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nei paesi occidenta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engono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 inviat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 quelli del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Terzo Mondo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…..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specie Africa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……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cos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è comparsa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a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Poli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prima Sconosciuta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….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in quel continente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B522-873C-49DF-BB4F-5DD8B29658E5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84ED-A0A3-46F1-B947-BA93ADF13227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70102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Cosa è un VACCINO ?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l Vaccino e’ 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cktail d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sostanz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TOSSICH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nietta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n gener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nei tessu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he da quella sede passano direttamente ne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angu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el sogget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tiene virus, batteri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taminan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antibiotici potenti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oltre a varie sostanz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note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ma anche altr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occul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cc., tutte sostanz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OLTO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pericolos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Questi 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vacc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: (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obbligato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) quello per la poliomielite, la difterite, il tetano, l’epatite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NON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obbligato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:  pertosse, influenza, morbillo, rosolia ed orecchioni ed altri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n Vaccino può esser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onovalen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o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polivalen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(es.: esavalente), cioè contenere uno 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più Vaccini;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Oggi siamo a 6,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in uno stess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preparato vaccinale, che contiene anche vaccin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NON obbligatori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spacciati per tali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……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 alla popolazion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ignar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DB61-D311-420D-9971-9BAA29FBBC7A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B831-DB0F-40F5-B3F2-F19FAFA9DEE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Cosa 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è</a:t>
            </a: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un</a:t>
            </a: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 Virus ?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19160" y="838080"/>
            <a:ext cx="60958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Virus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è 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ermine lati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he significa </a:t>
            </a:r>
            <a:r>
              <a:rPr b="1" i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Veleno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Viru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è per definizione una </a:t>
            </a:r>
            <a:r>
              <a:rPr b="1" lang="it-IT" sz="2000" spc="-1" strike="noStrike">
                <a:solidFill>
                  <a:srgbClr val="e5e500"/>
                </a:solidFill>
                <a:latin typeface="Arial"/>
              </a:rPr>
              <a:t>Protein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tossica cioe’ 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pezzetto di DN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avvolto in una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apsula proteica lipidica (dett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capsid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contenent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cido nucleico.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NON e’ un essere viven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ioè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un micro organism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!!!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arlare quindi di virus “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vivo o mor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” e’ un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FALSO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biologic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sso </a:t>
            </a:r>
            <a:r>
              <a:rPr b="1" lang="it-IT" sz="2000" spc="-1" strike="noStrike">
                <a:solidFill>
                  <a:srgbClr val="e5e500"/>
                </a:solidFill>
                <a:latin typeface="Arial"/>
              </a:rPr>
              <a:t>NO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si autoriproduce ma vien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uplicato dall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cellul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, solo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quando l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condizion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el Terren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sono propizi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, altriment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viene isolat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ed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in genere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elimina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N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el 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virus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el vaccino non è umano quindi esso può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estabilizzare il DN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ella specie nel quale viene introdotto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e le condizioni del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Terren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 quindi del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Sist. Immun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sono propizie, esso rilascia l’informazione virale, interferendo così con il DNA umano de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itocond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5B24-A599-46A5-A06F-2A84DC7B77EB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4F1C-30FB-409B-9C65-32AB8792E6B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osa è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un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Batterio ?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819160" y="12193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Batte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è a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tra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essere viven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he si riproduce da solo nel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Terre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ell’ospitante; ess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ivono in Terreni con determinat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temperatu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H, rH e ro’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 dice che appartenga alle forme più semplici del  regno vegetale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a non se ne è sicu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ono facilmente “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utan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” a seconda del tipo d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Terre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ove risiedono. </a:t>
            </a:r>
            <a:br>
              <a:rPr sz="2000"/>
            </a:b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Variand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l Terreno (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temperatur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pH, rH, ro’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essi si mutano e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</a:rPr>
              <a:t>cambian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Funz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ell’organismo umano ve ne sono a miliardi e normalment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essi ci aiutano nel nostro vive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debbono essere considerati “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angeli custod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ella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alu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”, salv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quelli dei Vacc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che sono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icuramente Patoge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 che quindi entrano in competizione con quelli “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mi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” ed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lle volte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prendono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opravvent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su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i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ess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3E053-E0AF-415D-83D5-6EFE40B8E96C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537A-A91B-4DD5-8EB1-87DE06C02C7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Bugiardini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1" lang="it-IT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ontenuto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dei</a:t>
            </a:r>
            <a:r>
              <a:rPr b="1" lang="it-IT" sz="32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Vaccini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819160" y="144792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Queste le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  <a:ea typeface="Arial"/>
              </a:rPr>
              <a:t>Sostanz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indicate nei “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Bugiard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”, acclusi 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onsegnat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solo ai medi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vaccinatori delle ASL (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NO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ai vaccinandi), ch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ontengono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anche l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ontroindicaz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ei vaccini stess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Aluminium - Calf serum - Fetal bovine serum - Formaldehyde - Hydrolyzed gelatin - Lactose - Monosodium glutamate (MSG) - Neomycin - Phenol - Streptomycin - Sucrose - Thimerosal (49.9% Mercury, in fase di eliminazione e/o riduzione) - Yeast - MRC-5 cells: DNA and protein (aborted fetal tissue cells)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ed altro a seconda del tipo di Vaccin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Non e’ facile reperi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i Bugiardini dei Vaccini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Bugiardini italia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per l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tesso tip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i vaccino, contengon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MEN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controindicaz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i quell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US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perché ??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7610-7FA7-4633-A6D4-D626F029F1A2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2B3E-B5C0-4E2F-B16F-9018BEF9F71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-243360"/>
            <a:ext cx="80773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Contenuto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dei</a:t>
            </a: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 Vaccini</a:t>
            </a:r>
            <a:r>
              <a:rPr b="1" lang="it-IT" sz="48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95480" y="91440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ssi quind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tengo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a seconda del tip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llumin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(idrossido di Alluminio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etallo mol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invasiv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, es.,  per EpatiteB, puo’ produrre anche cancro al sistema endocri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ercu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(Tiomersal –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etallo pesante molto tossico/invasiv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- è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neurotossic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 si accorpa e s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deposita nei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lipidi (grassi)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ei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cervel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nel cranio e d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otto in quello enterico,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s.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vaccino per il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Morbill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(In Italia, in quello per la Polio è assente)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Quest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etallo Tossic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’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r-Responsabi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ell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Demielinizzaz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e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nerv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e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istema nervos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roduc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grav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lterazion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ella Flora Batterica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Intestina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e quindi de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pH digestiv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;, ecc.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a per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50 an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è stato comunque inoculato a miliardi di persone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Nei futuri vaccini pare che esso verrà ridotto come quantità ed in alcuni omesso)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tinua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9DB7-11D5-47BE-B58E-C223A0E71BB1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E628-09D7-44F2-8837-E534105244E8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Inquinamento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dei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Vaccini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742840" y="99072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sempio: Il virus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SV 40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è stato inoculato ad oltre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400 milion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di persone prima che lo eliminassero dal vaccino per la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oli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oltre oggi vi ritroviamo un altro contaminante: </a:t>
            </a:r>
            <a:br>
              <a:rPr sz="1800"/>
            </a:b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l’Enterovirus 71, vedi le recenti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epidemie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 in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Brasile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Cina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ecc……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vaccino  per la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oli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e’ prodotto su colture base di Rene della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Scimmia Verde African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….quella dello HTLV 1, precursore dello HIV….., virus dell’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AIDS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NO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si informa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MAI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a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opolazion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dei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rischi vaccinal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ma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si fanno solo campagne martellant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per indurli,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con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Terrorismo Psicologic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alla vaccinazi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lgrad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che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d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decenni i vaccin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siano messi in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discussion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con tantissimi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studi medico scientifici pubblicat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da parte delle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autorità sanitarie ufficial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vi e’ un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ASSOLUTO SILENZI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affinche’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tutto sia copert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</a:rPr>
              <a:t>NON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venga a gal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4D03-9455-42D5-B45A-CCE03659433D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831F4-965E-4447-A5DD-5C483985D5BB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Distribuzione Bustarelle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819160" y="1371240"/>
            <a:ext cx="6095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Vedi l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bustarell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data al poco On.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e Lorenz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1991) Euros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300.000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pagati dalla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SKB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per far varare (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on Bugie sui dati riferi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l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egg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per l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vaccinaz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per l’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patite B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Questa l’ ammissione del direttore dell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KB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produttore dell’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Engerix B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vaccino per l’EpatiteB, al magistrato onorario dr. Di Pietro, nel corso di Mani Pulite. De Lorenzo è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andato in prig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ma la Legge è rimast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 il vaccino per la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Pol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abbiam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umentato di molto l’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Epati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 con il vaccino per l’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Epati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la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Meningi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è aumentata…..fra i ns. Figli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 così il business dei Farmaci e Vaccini continua... 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beneficio de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loro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Produtto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E7D3-6C5C-455B-9948-04D16C634606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3940-99D8-477E-B2DE-3DF5AC18C4A0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ostituzione Italiana</a:t>
            </a:r>
            <a:br>
              <a:rPr sz="3600"/>
            </a:br>
            <a:r>
              <a:rPr b="1" lang="it-IT" sz="3200" spc="-1" strike="noStrike">
                <a:solidFill>
                  <a:srgbClr val="ffffcc"/>
                </a:solidFill>
                <a:latin typeface="Verdana"/>
              </a:rPr>
              <a:t>art. 32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2840" y="15238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La Repubblica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TUTEL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 la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Salut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 come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FONDAMENTALE DIRITTO dell’individu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 e interesse della collettività e garantisce cure gratuite agli indigenti. </a:t>
            </a:r>
            <a:br>
              <a:rPr sz="2400"/>
            </a:b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NESSUNO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 PUO‘ ESSERE OBBLIGATO ad un determinato trattamento sanitario,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se non per disposizione di Legge. </a:t>
            </a:r>
            <a:br>
              <a:rPr sz="2400"/>
            </a:br>
            <a:r>
              <a:rPr b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La Legge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NON PUO‘ in NESSUN CASO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 VIOLARE I LIMITI IMPOSTI dal RISPETTO della Persona UM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F6BE-1E5E-4E1D-87CA-D34825EE3788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0671-8BE4-4E76-A483-60FED9697CB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4920" y="304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ontaminanti Subliminali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AIDS dai Vaccini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Un  precursore de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Virus HIV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fu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mescolato ai Vaccini da propinare agli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  <a:ea typeface="Arial"/>
              </a:rPr>
              <a:t>africa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già negli anni 70-80.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Questa informazione è stata "trovata" (nel 1999) negl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archivi top-secret declassa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da un perspicace investigatore, un certo Boyd E. Graves, JD, il quale ha scoperto che 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militari (USA) di quegli anni,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avevano inserit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ne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Vacc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poi propinati alla popolazione africana, de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ontaminati vira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(proteine tossiche) per indebolire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immunitariamen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intere popolazione di quel continente + una zona di New York, Manhatan, ove vivono tantissimi neri...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( vedi sito: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www.boydgraves.com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)  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2AEB4-0BD2-46F4-9F9A-A3DFDD498AD5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54EC-2A15-4289-83BA-B1C8A174F351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Mutazione </a:t>
            </a:r>
            <a:r>
              <a:rPr b="1" lang="it-IT" sz="3200" spc="-1" strike="noStrike">
                <a:solidFill>
                  <a:srgbClr val="ffffcc"/>
                </a:solidFill>
                <a:latin typeface="Verdana"/>
              </a:rPr>
              <a:t>dei 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romosomi  </a:t>
            </a:r>
            <a:r>
              <a:rPr b="1" lang="it-IT" sz="32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3200" spc="-1" strike="noStrike">
                <a:solidFill>
                  <a:srgbClr val="ffffcc"/>
                </a:solidFill>
                <a:latin typeface="Verdana"/>
              </a:rPr>
              <a:t>del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DNA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"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Comunicato Stampa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" inviato a tutta la stampa italiana nel mese di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Dicembre del 1995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dall’allora Presidente dell’Associazione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Universo Bambino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e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che è passato in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Totale Sordina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L’Associazione Universo Bambino di Bari, comunica: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"Lo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studio presentat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dal Dott.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Massimo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Montinar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Medico Chirurgo, Presidente dell’Associazione Universo Bambino,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è riferito a 48 pazient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che si sono rivolti alla sua Associazione dopo essere stati ricoverati presso numerosi Centri Ospedalieri nazionali e stranieri; questi sono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stati selezionati da ben 186 malati, affetti da patologie del SNC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(Sistema Nervoso Centrale), osservati nel periodo Apr/94 - Ott/95.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Oggi il dr.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Montinar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(medico della Polizia di Stato - FI) ha in cura circa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3.400 bambini, giovani, militari, civil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rovinati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dai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 vaccin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9651-A717-4E6C-B8B7-DDA5B9BA71A8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F454-1203-4949-8F2B-FA9488579527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84470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Mutazioni Genetiche </a:t>
            </a:r>
            <a:br>
              <a:rPr sz="4000"/>
            </a:b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dai Vaccini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– 2 – </a:t>
            </a:r>
            <a:r>
              <a:rPr b="1" lang="it-IT" sz="1400" spc="-1" strike="noStrike">
                <a:solidFill>
                  <a:srgbClr val="ffffcc"/>
                </a:solidFill>
                <a:latin typeface="Verdana"/>
              </a:rPr>
              <a:t>Vedi studio del dott. Montinari</a:t>
            </a:r>
            <a:endParaRPr b="1" lang="en-US" sz="1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819160" y="14475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Nella storia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di ogni pazient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si documentava l’insorgenza di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segni clinici relativi al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SNC ed apparato digerent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in concomitanza o immediatamente dopo la somministrazione di vaccin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(polio Sabin e Salk, Difterite-Tetano, Morbillo, Difterite, Tetano, Pertosse, TBC)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La proposta di studio è riferita alla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valutazione del quadro immunitario dei pazient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ed al ruolo dell’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Immunogenetic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nella diagnosi di patologie ad eziopatogenesi spesso dubbia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ed handicappant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;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l’attento studio del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braccio corto del Cromosoma 6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dell’uomo, la caratteristica genetica e l’azione di virus a DNA in soggetti sottoposti a vaccinoprofilassi in età pediatrica, ha consentito di valutare una caratteristica 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ricorrenza di Alleli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(Geni)</a:t>
            </a: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 nel quadro genetico di tutti i pazienti sottoposti a vaccinoprofilassi e insulto da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virus a DN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“  -  (By Universo Bambino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920F-F7D2-4038-950B-5ACDECFC5EEB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E12A0-0D45-4F21-9CD2-D521F4BE3D81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Tossine inserite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per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Legge,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nei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Cittadini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Bambino a 3 mes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viene vaccinato (data indicata per l’inizio delle vaccinazioni,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obbligatori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 non). 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 certi casi questa data viene 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nticipata anche a qualche giorno dalla nascit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disobbedendo alla Legge ! </a:t>
            </a:r>
            <a:br>
              <a:rPr sz="2000"/>
            </a:b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ltri vengono vaccinat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al di là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e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termini fissa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alle varie Leggi sui vacci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istema Immunita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i un Bimbo si sviluppa e s’in-Form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nche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DOP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la nascita 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resc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 si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sviluppa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con Lu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fino alla morte 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a vaccinazione è quindi un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VERO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attentato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l Sistema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Immunita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A1F4-1817-49FF-BF34-797AC31B1733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5A28-CE91-4C76-B5B9-FA0500F5347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Cosa fanno i Vaccini ?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819160" y="1052280"/>
            <a:ext cx="6095880" cy="504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vaccini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intossicano l’organism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e quindi l’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ntestin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generano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malNutrizion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cellular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destabilizzano ed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ntossicano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anch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mitocond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he sono in ns.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generatori di Energia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Vital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debilitand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quindi l’organismo, e nel mitocondrio generano anche mutazioni genetiche al DNA, oltre a creare spesso delle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ischemi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nei tessu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oltre la vaccinazione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ltera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anch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 anche i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il potenziale di transmembrana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le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</a:rPr>
              <a:t>cellule,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rendendole impermeabili: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non si nutrono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né </a:t>
            </a:r>
            <a:r>
              <a:rPr b="0" lang="it-IT" sz="2400" spc="-1" strike="noStrike">
                <a:solidFill>
                  <a:srgbClr val="ffff00"/>
                </a:solidFill>
                <a:latin typeface="Arial"/>
              </a:rPr>
              <a:t>eliminano le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</a:rPr>
              <a:t>tossine accumulat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8471-DA69-4E68-9DCF-634FD1FAA2C2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C5B5-41C1-4C82-93C9-99138F2FE00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Mutazioni Genetiche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ed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Handicap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a molti studi medico-scientifici a livello mondiale ci si è accorti che i vaccini producono “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utazioni Genetich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” occulte e palesi, trasmissibili anche alla pro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Repubblica di S.Mari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obbliga a vaccinarsi con più vaccini che in Italia (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12 vaccinaz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; infatti è la zona d’Itali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con la più alta percentuale di giovani portatori di handicap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!!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a quando hanno rese facoltative le vaccinazioni  sono diminuiti e di molto i bambini con handic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Le vaccinazioni sono quindi 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grave attentato ed attacco al fisic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in genere ma specificatamente a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ervello/men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e quindi alla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Psiche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ell'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Essere stess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!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C430-7F47-4093-AE58-D3103402E47D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3FFC-D352-465E-B589-81B30311600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6019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  <a:ea typeface="Arial"/>
              </a:rPr>
              <a:t>Sclerosi da vaccino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19160" y="1752120"/>
            <a:ext cx="609588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br>
              <a:rPr sz="2800"/>
            </a:br>
            <a:br>
              <a:rPr sz="2800"/>
            </a:br>
            <a:r>
              <a:rPr b="1" i="1" lang="it-IT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14" descr="francia"/>
          <p:cNvPicPr/>
          <p:nvPr/>
        </p:nvPicPr>
        <p:blipFill>
          <a:blip r:embed="rId1"/>
          <a:stretch/>
        </p:blipFill>
        <p:spPr>
          <a:xfrm>
            <a:off x="3886200" y="190512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A22C-2AC0-42FB-85E8-74BCD83B2A4F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B415-D326-4222-9920-CC66E8A2DDD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Militari malati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morti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in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Italia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La tragica notizia de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militari italiani mor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i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leucemi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ed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altre malatti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causate,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si dice impropriamen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dall'uso di proiettil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all‘Uranio Impoveri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(UI) durante l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guerra dei Balcani,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el Golfo, Afganistan, è circolata su tutti i giornali italiani tra la fine di dicembre del 2000 e l'inizio di gennaio del 2001. 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Ora 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olda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italiani ammalati son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irca 2.700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morti so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ad oggi saliti 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260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e si registrano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10 casi d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figl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nati con grav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deformaz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Circa i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70%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e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milita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ammalat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NON si e’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MAI recat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in zone di guerr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ove e’ stato usato l’U.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n Somalia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  <a:ea typeface="Arial"/>
              </a:rPr>
              <a:t>NON e’ stato utilizzato U.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 eppure diversi </a:t>
            </a:r>
            <a:r>
              <a:rPr b="1" lang="it-IT" sz="2000" spc="-1" strike="noStrike">
                <a:solidFill>
                  <a:srgbClr val="e5e500"/>
                </a:solidFill>
                <a:latin typeface="Arial"/>
                <a:ea typeface="Arial"/>
              </a:rPr>
              <a:t>solda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che sono stati in quella zona di guerra si </a:t>
            </a:r>
            <a:r>
              <a:rPr b="1" lang="it-IT" sz="2000" spc="-1" strike="noStrike">
                <a:solidFill>
                  <a:srgbClr val="e5e500"/>
                </a:solidFill>
                <a:latin typeface="Arial"/>
                <a:ea typeface="Arial"/>
              </a:rPr>
              <a:t>so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  <a:ea typeface="Arial"/>
              </a:rPr>
              <a:t>ammala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lo stesso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E54C-4E92-4C4A-9DB3-CB2EF5823D88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B72B-1867-45F7-B868-3CAB27D5F70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osa è l’Uranio impoverito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819160" y="137160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‘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Uran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è l'elemento chimico di numero atomic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92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; è 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etallo molto denso e pesan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; Il suo simbolo è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U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Uranio impoveri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U.I.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 è il termine con il quale in Italia viene definito l'uranio che è stato processato per estrarn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'isotopo 235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utilizzato com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combustibile nelle centrali nuclea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e come principale elemento detonante nelle armi nucleari.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l termine è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una traduzione dall'ingles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depleted uranium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DU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, che a volte viene tradotto - soprattutto in ambienti scientifici e militari - con il termine </a:t>
            </a:r>
            <a:r>
              <a:rPr b="0" i="1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uranio depleto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UD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.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ffff59"/>
                </a:solidFill>
                <a:latin typeface="Arial"/>
                <a:ea typeface="Times New Roman"/>
              </a:rPr>
              <a:t>http://www.youtube.com/watch?v=AwRqhGfRAl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475E-BFF1-419E-9A18-B9C2C34D58B8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CAE7-69C2-4656-ACA2-E89D19139FD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osa è l’Uranio impoverito </a:t>
            </a:r>
            <a:r>
              <a:rPr b="1" lang="it-IT" sz="2400" spc="-1" strike="noStrike">
                <a:solidFill>
                  <a:srgbClr val="ffffcc"/>
                </a:solidFill>
                <a:latin typeface="Verdana"/>
              </a:rPr>
              <a:t>-2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819160" y="144756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‘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Uranio impoveri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che mediamente contiene lo 0,25-0,4% di </a:t>
            </a:r>
            <a:r>
              <a:rPr b="0" lang="it-IT" sz="2000" spc="-1" strike="noStrike" baseline="30000">
                <a:solidFill>
                  <a:srgbClr val="ffffff"/>
                </a:solidFill>
                <a:latin typeface="Arial"/>
                <a:ea typeface="Times New Roman"/>
              </a:rPr>
              <a:t>235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) trova impiego i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pplicazioni militari come metallo per blindatu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e come parte d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missil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proietti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proprio per la sua densità, ed i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edicina come schermatur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per i locali per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adiografie a raggi X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‘Uranio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non viene assorbito attraverso la pel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; le particelle alfa che emett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on sono in grado d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attraversare la pel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 ciò rende l'uranio esterno al corp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olto meno pericoloso di quello inalato o ingerito attravers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i cibi solidi o liquid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 dosi non letali, la tossicità dell‘Uranio può produrr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anni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ai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en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e inala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in vicinanza (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di qualche decina di metr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 da esplosioni di bomb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)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,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uò produrre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con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il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tempo, dann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i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reni e polmo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3653-181D-4E67-9FAE-C9554BF49577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7A52-F524-44F5-A7B4-25026738B10D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hi decide per la ns. Salute ?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958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h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pretend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i decider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Come dobbiamo Curar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hi decid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se dobbiamo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vaccinarc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me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hi può decide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quando siamo "bravi" genitori e ch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osa è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meglio per no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per i nostri fig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hi decid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quando siamo "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bu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" o "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cattiv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" cittadini – pazienti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Lo stato ed i </a:t>
            </a:r>
            <a:r>
              <a:rPr b="0" lang="it-IT" sz="2000" spc="-1" strike="noStrike">
                <a:solidFill>
                  <a:srgbClr val="ffff59"/>
                </a:solidFill>
                <a:latin typeface="Arial"/>
                <a:ea typeface="Arial"/>
              </a:rPr>
              <a:t>medi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! 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Noi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  <a:ea typeface="Arial"/>
              </a:rPr>
              <a:t>NON possiamo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ecidere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iamo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n un paes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“Democratico”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ch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garantisc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Libertà di Cur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od in un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DITTATUR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Sanitaria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Salvo che nel 2008-9 alcune regioni Italiane hanno reso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  <a:ea typeface="Arial"/>
              </a:rPr>
              <a:t>facoltativ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le vaccinazioni, seguendo le </a:t>
            </a:r>
            <a:r>
              <a:rPr b="1" lang="it-IT" sz="2000" spc="-1" strike="noStrike">
                <a:solidFill>
                  <a:srgbClr val="e5e500"/>
                </a:solidFill>
                <a:latin typeface="Arial"/>
                <a:ea typeface="Arial"/>
              </a:rPr>
              <a:t>direttiv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ella </a:t>
            </a:r>
            <a:r>
              <a:rPr b="1" lang="it-IT" sz="2000" spc="-1" strike="noStrike">
                <a:solidFill>
                  <a:srgbClr val="e5e500"/>
                </a:solidFill>
                <a:latin typeface="Arial"/>
                <a:ea typeface="Arial"/>
              </a:rPr>
              <a:t>U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935A-AD73-4568-BE01-3DB36CED5029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912D-5054-485C-AFBA-4EDB82056A6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Vaccinazioni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e</a:t>
            </a: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 Militar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819160" y="12949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Giova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he prestan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ervizio Milita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oltre ad essere stat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vaccinati in gioventù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on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16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atti vaccina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(4 vaccini obbligatori x 4 richiami cadauno = 16 atti vaccinali) e quest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enza contare i vaccini NON obbligato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che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potrebbero aver subi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ll’ingress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in Caserma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vengono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Ri-vaccinat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 altri vaccini i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genere polivalen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(min. 5 vaccin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e questi militari poi debbono prestare servizi particolari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vengono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ancora ulteriorment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Ri-vaccinat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n altri vaccini. Sui militari ammalatisi sono stati contati, circ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30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tti vaccina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nel corso della loro vita (max fino a circa 32 anni).</a:t>
            </a:r>
            <a:br>
              <a:rPr sz="20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http://www.mednat.org/vaccini/guerra_balcani_vaccini.htm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http://www.mednat.org/vaccini/guerra_golfo_vaccini.h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16C8-7C50-4604-9F03-F6C9AC404ED8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4AAA-8CB6-41A2-926A-3705B5E0C0B5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7238880" cy="18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Trovato Mercurio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in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Reni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di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soldato morto……</a:t>
            </a:r>
            <a:br>
              <a:rPr sz="4000"/>
            </a:b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ma </a:t>
            </a:r>
            <a:r>
              <a:rPr b="1" lang="it-IT" sz="2000" spc="-1" strike="noStrike">
                <a:solidFill>
                  <a:srgbClr val="ff3300"/>
                </a:solidFill>
                <a:latin typeface="Verdana"/>
              </a:rPr>
              <a:t>NON sono state trovate particelle di Uranio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 !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……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</a:rPr>
              <a:t>In Italia oltre260le vittime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</a:rPr>
              <a:t> e non e’ finita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….</a:t>
            </a: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19160" y="2205000"/>
            <a:ext cx="6095880" cy="38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Arial"/>
                <a:ea typeface="Arial"/>
              </a:rPr>
              <a:t>Nanoparticelle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 di mercurio-selenio trovate nella biopsia renale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di un soldato affetto dalla Sindrome del Golf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 non sono solo queste nanoparticelle ad esses state trovate nello sperma, sangue dei militari deceduti….</a:t>
            </a:r>
            <a:br>
              <a:rPr sz="16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ratto da: http://www.mednat.org/vaccini/contenuto_vaccini.ht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1028" descr="guerra1"/>
          <p:cNvPicPr/>
          <p:nvPr/>
        </p:nvPicPr>
        <p:blipFill>
          <a:blip r:embed="rId1"/>
          <a:stretch/>
        </p:blipFill>
        <p:spPr>
          <a:xfrm>
            <a:off x="3059280" y="2133720"/>
            <a:ext cx="2863800" cy="2279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29" descr="guerra2"/>
          <p:cNvPicPr/>
          <p:nvPr/>
        </p:nvPicPr>
        <p:blipFill>
          <a:blip r:embed="rId2"/>
          <a:stretch/>
        </p:blipFill>
        <p:spPr>
          <a:xfrm>
            <a:off x="6095880" y="2133720"/>
            <a:ext cx="30481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B315-7F76-4E31-83C4-87A45650D693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A58A-D016-42A1-AA89-66D56EF6F89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Vaccino inoculato ?</a:t>
            </a:r>
            <a:br>
              <a:rPr sz="4400"/>
            </a:b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Risarcimento assicurato !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819160" y="16765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ui Soldati, in varie nazioni del Mondo, sono stati anch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perimentat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nuovi vacc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oppure vaccin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ancora più tossi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i quelli usuali, ved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Neotif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, il vacci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per i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Tif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l Ministero della Difesa Italiano,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non riconosc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come dipendente da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ervizio milita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l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ausa della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mor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e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milita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perché nel loro organismo “non ci sono tracce di Uranio”, ma la colp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NON è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dell’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Uran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bensì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dei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VACCINI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inoculati per causa di serviz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quindi il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Risarcimento e’ DOVU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!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i sollecit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quindi una "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Azione Risarcitori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" per le famiglie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he hanno sostenu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oltre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allla morte dei loro ca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 in questi ann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dispendiosi ricoveri e cure medich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per tentare di guarire i loro ragazzi.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677F-864C-49DB-B293-7CF02FC77BDA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F810-D62B-443B-8CEE-CADF25A069BA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304560"/>
            <a:ext cx="83757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Militari rifiutano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di</a:t>
            </a: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 farsi vaccinare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819160" y="1628280"/>
            <a:ext cx="6095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Sindrom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del Golfo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e Sindrom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dei Balcani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hanno la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tessa causa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i Vaccin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l dato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significativo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ogg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è che circa il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50%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dei soldati american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(USA)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sta rifiutando la miscela di vacc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proprio a causa dell'allarme che l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Sindrome del Golf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ha creato nelle truppe.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mportanti movimenti d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Rifiuto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i questi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 vacc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ono sort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anche altrov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per esempio in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Australi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F4E9-3274-493D-BA23-125BE4127ADF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2EFF-E3CC-4563-93E6-5F1A58B0307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cc"/>
                </a:solidFill>
                <a:latin typeface="Verdana"/>
                <a:ea typeface="Arial"/>
              </a:rPr>
              <a:t>Vaccini 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  <a:ea typeface="Arial"/>
              </a:rPr>
              <a:t>a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  <a:ea typeface="Arial"/>
              </a:rPr>
              <a:t> partire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  <a:ea typeface="Arial"/>
              </a:rPr>
              <a:t>dai 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  <a:ea typeface="Arial"/>
              </a:rPr>
              <a:t>vegetali  “BioTech" - OGM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19160" y="160020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Vegetali coltiva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in serra come produttori di vaccin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Biotecnologi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OGM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) orali. 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Se ne è parlato alla Convention Europea sulle Scienze della Vita e le Biotecnologie,  che vede riuniti al Ministero degli Affari esteri i rappresentanti dei 25 Paesi dell‘EUROPA nell'ambito del semestre di presidenza italiana del Consiglio dell'Uni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Leonardo San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presidente del comitato nazionale per le biotecnologie,  ha annunciato la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nascita di alcuni vaccini prodotti dai pomodo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 per la  tubercolosi, da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tabacc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e dalle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pata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per diarrea e colera.   Nel prossimo anno saranno sperimentati sull'uom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L’ISS sta’ già promuovendo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…in vari convegni……come mai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8799-D866-4F83-BD59-65410250BF60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E0D8-9A3D-49F7-B7F8-F9F9AAF70753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153280" cy="103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Nuove Strategie Statal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19160" y="1676520"/>
            <a:ext cx="60958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ender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SUBI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facoltative le vaccinaz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per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TUTTI i cittad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anche per 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ilitari di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qualsiasi Arm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Obbligare i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medici vaccinator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consegna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al vaccinando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TUTTE l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ontroindicazioni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ei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vaccini contenu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nei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“bugiardini” come quelli US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in modo che i cittadin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possano rendersi conto dei gravi Perico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he corrono sottoponendosi a tali pratiche e quindi abbiano una Ver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Libertà di Scelta e di C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Obbligare i Produttori di vacc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a fornire vaccini,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NON contenenti prodotti tossi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come fatto fino ad ora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3C58-5401-48EB-9073-C611ACE9167C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FEBC-6217-4043-939E-2D0FABE32E2F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360" y="151920"/>
            <a:ext cx="84470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Strategie Terapeutiche Naturali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- 1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Alimentazione Vegetarian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meglio se </a:t>
            </a:r>
            <a:r>
              <a:rPr b="1" lang="it-IT" sz="2400" spc="-1" strike="noStrike">
                <a:solidFill>
                  <a:srgbClr val="ff1a1a"/>
                </a:solidFill>
                <a:latin typeface="Verdana"/>
              </a:rPr>
              <a:t>Crud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e frullata per almeno 3 mes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Utilizzare </a:t>
            </a:r>
            <a:r>
              <a:rPr b="1" lang="it-IT" sz="2400" spc="-1" strike="noStrike">
                <a:solidFill>
                  <a:srgbClr val="ff3300"/>
                </a:solidFill>
                <a:latin typeface="Verdana"/>
              </a:rPr>
              <a:t>cibi Biologic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meglio se 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Biodinamic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Ripristino</a:t>
            </a:r>
            <a:r>
              <a:rPr b="1" lang="it-IT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della</a:t>
            </a:r>
            <a:r>
              <a:rPr b="1" lang="it-IT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it-IT" sz="2400" spc="-1" strike="noStrike">
                <a:solidFill>
                  <a:srgbClr val="ff3300"/>
                </a:solidFill>
                <a:latin typeface="Verdana"/>
              </a:rPr>
              <a:t>Flora Batterica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intestinale, assumendo </a:t>
            </a:r>
            <a:r>
              <a:rPr b="1" lang="it-IT" sz="2400" spc="-1" strike="noStrike">
                <a:solidFill>
                  <a:srgbClr val="e5e500"/>
                </a:solidFill>
                <a:latin typeface="Verdana"/>
              </a:rPr>
              <a:t>Enzim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Integrator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multi</a:t>
            </a:r>
            <a:r>
              <a:rPr b="1" lang="it-IT" sz="2400" spc="-1" strike="noStrike">
                <a:solidFill>
                  <a:srgbClr val="ff3300"/>
                </a:solidFill>
                <a:latin typeface="Verdana"/>
              </a:rPr>
              <a:t>Batteric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Mineral</a:t>
            </a:r>
            <a:r>
              <a:rPr b="1" lang="it-IT" sz="2400" spc="-1" strike="noStrike">
                <a:solidFill>
                  <a:srgbClr val="ffffcc"/>
                </a:solidFill>
                <a:latin typeface="Verdana"/>
              </a:rPr>
              <a:t>-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</a:rPr>
              <a:t>Vitaminic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 di derivazione naturale, cioe’ micro-Diete </a:t>
            </a:r>
            <a:r>
              <a:rPr b="1" lang="it-IT" sz="2400" spc="-1" strike="noStrike">
                <a:solidFill>
                  <a:srgbClr val="ff3300"/>
                </a:solidFill>
                <a:latin typeface="Verdana"/>
              </a:rPr>
              <a:t>Immunostimolanti</a:t>
            </a:r>
            <a:r>
              <a:rPr b="0" lang="it-IT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00DD-2C02-411A-A39C-31DAB54C6C27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EEC2-7904-4B2C-9D05-9FEE5649B909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4920" y="151920"/>
            <a:ext cx="85201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Strategie Terapeutiche Naturali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- 2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Disintossicare</a:t>
            </a:r>
            <a:r>
              <a:rPr b="1" lang="it-IT" sz="1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it-IT" sz="18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Verdana"/>
              </a:rPr>
              <a:t>Disinfiammar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l’organismo iniziando dall’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Intestin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per mezzo di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Idro Colon Terapi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, (bisettimanale e/o settimanale, con acqua a min. pH 7 e particolari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infusi di erbe e centrifugati di </a:t>
            </a:r>
            <a:r>
              <a:rPr b="1" lang="it-IT" sz="1800" spc="-1" strike="noStrike">
                <a:solidFill>
                  <a:srgbClr val="ff3300"/>
                </a:solidFill>
                <a:latin typeface="Verdana"/>
              </a:rPr>
              <a:t>Frutta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 e Verdur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)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Diminuire</a:t>
            </a:r>
            <a:r>
              <a:rPr b="1" lang="it-IT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la</a:t>
            </a:r>
            <a:r>
              <a:rPr b="1" lang="it-IT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ff3300"/>
                </a:solidFill>
                <a:latin typeface="Verdana"/>
              </a:rPr>
              <a:t>Temperatura intestin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con cataplasmi freddi (notturni)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Assumere di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Fior di Zolf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(per un certo periodo di tempo, come indicato nel ns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Protocollo della Salut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) e di altri </a:t>
            </a:r>
            <a:r>
              <a:rPr b="1" lang="it-IT" sz="1800" spc="-1" strike="noStrike">
                <a:solidFill>
                  <a:srgbClr val="ff0066"/>
                </a:solidFill>
                <a:latin typeface="Verdana"/>
              </a:rPr>
              <a:t>Sali tampone adatti anche per remineralizzar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Utilizzo di prodotti Fitoterapici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</a:rPr>
              <a:t>Immunostimolant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(Ortica, Curcuma, Equiseto, Micro diete di Frutta e Verdura, Aglio, Fermenti Lattici, Enzimi, ecc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6AED-83AB-497D-B024-9AA205F53098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3BD4-6BC0-42A7-A815-40DAE41007A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7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Strategie Terapeutiche Naturali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- 3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Far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Bere almeno 1,5 litri di acqua Basica a pH 10 ogni gior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per un certo periodo,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controlland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he l’inversion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cido-basica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vveng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enza portare il paziente in alcalos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Alimenta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l paziente in modo da favorire il piu’ possibile il riordino celer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cido-basico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tegrando l’alimentazione adatta con</a:t>
            </a:r>
            <a:r>
              <a:rPr b="1" lang="it-IT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Sali tamp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In caso di Cancro: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Drenare le zone colpite dal Tumo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con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acqua Basic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per mezzo di: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endovene, cateteri, iniezioni e/o infus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6465-339A-4A6A-A536-8C16A81FE91E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A6A1-4138-47E0-9FF4-08170B8BD1B8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ontrollo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dello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Stato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di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Salute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19160" y="1066680"/>
            <a:ext cx="60958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Sistema Immunitario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: es. un semplice emocromo e’ in grado di indicare lo stato del S.I. (Quantita’ dei Linfociti = Globuli Bianchi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Verifica dell’eventuale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Terreno Oncologico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vedi in: 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emeioticabiofisica.it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Verifica con </a:t>
            </a: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vetrino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della </a:t>
            </a:r>
            <a:r>
              <a:rPr b="1" lang="it-IT" sz="1600" spc="-1" strike="noStrike">
                <a:solidFill>
                  <a:srgbClr val="800000"/>
                </a:solidFill>
                <a:latin typeface="Verdana"/>
              </a:rPr>
              <a:t>Goccia di Sangue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del Paziente, per mezzo di un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microscopio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, per riscontrare la presenza o meno dei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microcristalli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dell’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albero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del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Cancro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. +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Mineralogram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Verifica (in alcuni casi) del </a:t>
            </a: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Livello</a:t>
            </a:r>
            <a:r>
              <a:rPr b="1" lang="it-IT" sz="16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e dello</a:t>
            </a:r>
            <a:r>
              <a:rPr b="1" lang="it-IT" sz="16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stato</a:t>
            </a:r>
            <a:r>
              <a:rPr b="1" lang="it-IT" sz="16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dei</a:t>
            </a:r>
            <a:r>
              <a:rPr b="1" lang="it-IT" sz="16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Liquidi Corpore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con BTA (BEV) –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pH, rH, rò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Tac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(Tomografia Assiale Computerizzata, del cervello di sopra) per controllare ed evidenziare le macchie - nel canceroso - (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sede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del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Conflitto Spirituale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) dovute all’ </a:t>
            </a: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Infiammazione</a:t>
            </a:r>
            <a:r>
              <a:rPr b="1" lang="it-IT" sz="1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locale </a:t>
            </a: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Neuronica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e l’alterazione del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Liquor Cerebro-Rachidiano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, per le </a:t>
            </a: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Intossicazion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 che li raggiungono (in genere lipidi-grassi)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Verifica dello </a:t>
            </a:r>
            <a:r>
              <a:rPr b="1" lang="it-IT" sz="1600" spc="-1" strike="noStrike">
                <a:solidFill>
                  <a:srgbClr val="ff3300"/>
                </a:solidFill>
                <a:latin typeface="Verdana"/>
              </a:rPr>
              <a:t>Stato Generale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del Paziente, con apposite apparecchiature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od altri esam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it-IT" sz="1600" spc="-1" strike="noStrike">
                <a:solidFill>
                  <a:srgbClr val="ffff00"/>
                </a:solidFill>
                <a:latin typeface="Verdana"/>
              </a:rPr>
              <a:t>test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, util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C65B-7D02-40AF-9D49-9F2AE0D9E762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198D-F53F-4A6F-8072-60D410DFFF41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Chi decide </a:t>
            </a:r>
            <a:r>
              <a:rPr b="1" lang="it-IT" sz="3200" spc="-1" strike="noStrike">
                <a:solidFill>
                  <a:srgbClr val="ffffcc"/>
                </a:solidFill>
                <a:latin typeface="Verdana"/>
              </a:rPr>
              <a:t>per la ns.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 Salute ?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- 2</a:t>
            </a: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819160" y="1371600"/>
            <a:ext cx="60958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a anni l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Lobbies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legate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al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mercato della salu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e l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ategorie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professionali ch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dominano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l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settore sanita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stanno promuovend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nel nom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ella "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Scienz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" un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istema sanitario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molt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limitativo della </a:t>
            </a:r>
            <a:r>
              <a:rPr b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Libertà Persona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Già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ogg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infatti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Trattamenti Sanitari Obbligator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com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vaccinaz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interventi chirurgici, prescrizioni di psicofarmaci, elettroshock,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cure mediche invasive, </a:t>
            </a:r>
            <a:r>
              <a:rPr b="0" lang="it-IT" sz="2000" spc="-1" strike="noStrike">
                <a:solidFill>
                  <a:srgbClr val="e5e500"/>
                </a:solidFill>
                <a:latin typeface="Arial"/>
                <a:ea typeface="Arial"/>
              </a:rPr>
              <a:t>alimentazione forzata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,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vengono imposti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anche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contro la propria volontà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Un'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imposiz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sempre più supportata da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Leggi Repressiv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verso ch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non si allinea con questi criteri”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(Tratto da Sanità Obbligat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DD774-77CF-450D-B2EC-6BBBFF5AB9BA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D2AF9-4431-4A8D-8579-7564AFF8BBD1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80"/>
                </a:solidFill>
                <a:latin typeface="Verdana"/>
                <a:ea typeface="Arial"/>
              </a:rPr>
              <a:t> 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  <a:ea typeface="Arial"/>
              </a:rPr>
              <a:t>Lasciami Vivere Sano, </a:t>
            </a:r>
            <a:br>
              <a:rPr sz="4000"/>
            </a:br>
            <a:r>
              <a:rPr b="1" lang="it-IT" sz="4000" spc="-1" strike="noStrike">
                <a:solidFill>
                  <a:srgbClr val="ff3300"/>
                </a:solidFill>
                <a:latin typeface="Verdana"/>
                <a:ea typeface="Arial"/>
              </a:rPr>
              <a:t>NON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  <a:ea typeface="Arial"/>
              </a:rPr>
              <a:t> </a:t>
            </a:r>
            <a:r>
              <a:rPr b="1" lang="it-IT" sz="4000" spc="-1" strike="noStrike">
                <a:solidFill>
                  <a:srgbClr val="ffff00"/>
                </a:solidFill>
                <a:latin typeface="Verdana"/>
                <a:ea typeface="Arial"/>
              </a:rPr>
              <a:t>Vaccinarmi</a:t>
            </a:r>
            <a:r>
              <a:rPr b="1" lang="it-IT" sz="4000" spc="-1" strike="noStrike">
                <a:solidFill>
                  <a:srgbClr val="ffffcc"/>
                </a:solidFill>
                <a:latin typeface="Verdana"/>
                <a:ea typeface="Arial"/>
              </a:rPr>
              <a:t>  !!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bimbo2"/>
          <p:cNvPicPr/>
          <p:nvPr/>
        </p:nvPicPr>
        <p:blipFill>
          <a:blip r:embed="rId1"/>
          <a:stretch/>
        </p:blipFill>
        <p:spPr>
          <a:xfrm>
            <a:off x="3352680" y="3048120"/>
            <a:ext cx="1854360" cy="2647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bimbo2"/>
          <p:cNvPicPr/>
          <p:nvPr/>
        </p:nvPicPr>
        <p:blipFill>
          <a:blip r:embed="rId2"/>
          <a:stretch/>
        </p:blipFill>
        <p:spPr>
          <a:xfrm>
            <a:off x="6019920" y="3048120"/>
            <a:ext cx="1854000" cy="2647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med9"/>
          <p:cNvPicPr/>
          <p:nvPr/>
        </p:nvPicPr>
        <p:blipFill>
          <a:blip r:embed="rId3"/>
          <a:stretch/>
        </p:blipFill>
        <p:spPr>
          <a:xfrm>
            <a:off x="3505320" y="1676520"/>
            <a:ext cx="39621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835D-E3E4-41C4-9BA2-1D9BE018A33D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686A-1080-41AB-8C96-58388776AA7F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Lobbies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ed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 Industrie Pilotano </a:t>
            </a:r>
            <a:br>
              <a:rPr sz="3600"/>
            </a:b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gli 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studi medico-scientifici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160" y="1523880"/>
            <a:ext cx="6095880" cy="464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e5e500"/>
                </a:solidFill>
                <a:latin typeface="Arial"/>
                <a:ea typeface="Arial"/>
              </a:rPr>
              <a:t>E’ ormai noto che i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finanziamenti </a:t>
            </a:r>
            <a:r>
              <a:rPr b="1" lang="it-IT" sz="2000" spc="-1" strike="noStrike">
                <a:solidFill>
                  <a:srgbClr val="e5e500"/>
                </a:solidFill>
                <a:latin typeface="Arial"/>
                <a:ea typeface="Arial"/>
              </a:rPr>
              <a:t>delle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 aziende farmaceutiche influenzano la Ricerca Clinic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Lo dicono diversi studi pubblicati.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Legame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  <a:ea typeface="Arial"/>
              </a:rPr>
              <a:t>finanziari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tra i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mondo Accademico e quello Industriale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  <a:ea typeface="Arial"/>
              </a:rPr>
              <a:t>Farmaceutic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e’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molto persuasivo,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in termini di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pilotaggio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ei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risulta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Si parla di un minimo del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25%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ei ricercatori accademic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che avrebbe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legami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finanziari con il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mondo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industrial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Farmaceutic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legame tale da porre la questione del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Conflitto d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Interess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Non importa quanto siano conclusiv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l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Prov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sui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Danni dei vacci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le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</a:rPr>
              <a:t>Lobbie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han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l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pote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minimizzar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d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</a:rPr>
              <a:t>eliminar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ltre a </a:t>
            </a:r>
            <a:r>
              <a:rPr b="1" lang="it-IT" sz="2000" spc="-1" strike="noStrike">
                <a:solidFill>
                  <a:srgbClr val="ff1a1a"/>
                </a:solidFill>
                <a:latin typeface="Arial"/>
              </a:rPr>
              <a:t>condiziona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d </a:t>
            </a:r>
            <a:r>
              <a:rPr b="1" lang="it-IT" sz="2000" spc="-1" strike="noStrike">
                <a:solidFill>
                  <a:srgbClr val="e5e500"/>
                </a:solidFill>
                <a:latin typeface="Arial"/>
              </a:rPr>
              <a:t>impor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agli Stati, campagne vaccinali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7AD7-3F9E-4158-9B48-8B81A670BE14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C853-D6C5-4352-94BF-9AB59C6518F4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Lobbies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ed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 Industrie Pilotano </a:t>
            </a:r>
            <a:br>
              <a:rPr sz="3600"/>
            </a:b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gli 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studi medico-scientifici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- 2</a:t>
            </a: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19160" y="1447560"/>
            <a:ext cx="6095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Lo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tudio continu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non solo 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Ricercatori Accademi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ma spesso le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Università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stess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Il </a:t>
            </a: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legam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sarebbe chiar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e facilmente prevedibile: la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perdita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ell'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oggettività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della ricerc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favore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i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 stud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fortemente pilota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Ci possono essere anche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politiche ufficial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degli atenei etiche in teoria, m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Arial"/>
              </a:rPr>
              <a:t>nella pratica queste consideraz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2000" spc="-1" strike="noStrike">
                <a:solidFill>
                  <a:srgbClr val="ff3300"/>
                </a:solidFill>
                <a:latin typeface="Arial"/>
                <a:ea typeface="Arial"/>
              </a:rPr>
              <a:t>Non vengono Mantenut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  <a:ea typeface="Arial"/>
              </a:rPr>
              <a:t>Bibliografia</a:t>
            </a:r>
            <a:r>
              <a:rPr b="0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br>
              <a:rPr sz="1800"/>
            </a:br>
            <a:r>
              <a:rPr b="0" lang="de-DE" sz="1600" spc="-1" strike="noStrike">
                <a:solidFill>
                  <a:srgbClr val="ffffff"/>
                </a:solidFill>
                <a:latin typeface="Arial"/>
                <a:ea typeface="Arial"/>
              </a:rPr>
              <a:t>JE Bekelman and others.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Scope and Impact of Financial Conflicts of Interest in Biomedical Research. A Systematic Review. Journal of the American Medical Association (JAMA) 2003;289:454-465.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Vergano, USA Today.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January 21, 2003.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Holz. Los Angeles Times. January 21, 2003.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Kaiser Daily Health Policy Report.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January  22, 2003.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CA78-D6D8-4F02-BEE9-5323A056BD63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CFAA-F8C4-486D-B976-F831A83792A2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cc"/>
                </a:solidFill>
                <a:latin typeface="Verdana"/>
              </a:rPr>
              <a:t>Lobbies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ed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 Industrie Pilotano </a:t>
            </a:r>
            <a:br>
              <a:rPr sz="3600"/>
            </a:br>
            <a:r>
              <a:rPr b="1" lang="it-IT" sz="2800" spc="-1" strike="noStrike">
                <a:solidFill>
                  <a:srgbClr val="ffffcc"/>
                </a:solidFill>
                <a:latin typeface="Verdana"/>
              </a:rPr>
              <a:t>gli </a:t>
            </a: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studi medico-scientifici </a:t>
            </a:r>
            <a:r>
              <a:rPr b="1" lang="it-IT" sz="2000" spc="-1" strike="noStrike">
                <a:solidFill>
                  <a:srgbClr val="ffffcc"/>
                </a:solidFill>
                <a:latin typeface="Verdana"/>
              </a:rPr>
              <a:t>- 3</a:t>
            </a:r>
            <a:br>
              <a:rPr sz="2000"/>
            </a:br>
            <a:endParaRPr b="1" lang="en-US" sz="2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19160" y="1557000"/>
            <a:ext cx="6095880" cy="45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utti gli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studi sui vaccini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livello Mondiale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salvo quelli effettuati da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</a:rPr>
              <a:t>Ricercatori Privati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, sono Sponsorizzati e pilotati, dai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Produttori di Vaccini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e quindi </a:t>
            </a:r>
            <a:r>
              <a:rPr b="0" lang="it-IT" sz="1600" spc="-1" strike="noStrike">
                <a:solidFill>
                  <a:srgbClr val="ff3300"/>
                </a:solidFill>
                <a:latin typeface="Arial"/>
              </a:rPr>
              <a:t>NON hanno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valore</a:t>
            </a:r>
            <a:r>
              <a:rPr b="0" lang="it-IT" sz="1600" spc="-1" strike="noStrike">
                <a:solidFill>
                  <a:srgbClr val="ff3300"/>
                </a:solidFill>
                <a:latin typeface="Arial"/>
              </a:rPr>
              <a:t> Etic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, né </a:t>
            </a:r>
            <a:r>
              <a:rPr b="0" lang="it-IT" sz="1600" spc="-1" strike="noStrike">
                <a:solidFill>
                  <a:srgbClr val="ff3300"/>
                </a:solidFill>
                <a:latin typeface="Arial"/>
              </a:rPr>
              <a:t>Scientific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Tom Jefferson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  (epidemiologo), ha scritto "Attenti alle Bufale", un libro che fa le pulci alla "</a:t>
            </a:r>
            <a:r>
              <a:rPr b="1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ricerca biomedica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"...che nasconde soperchierie, trucchi ed un certo tasso di corruzione....pare sia oltre il 75 %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"</a:t>
            </a:r>
            <a:r>
              <a:rPr b="1" i="1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la medicina </a:t>
            </a:r>
            <a:r>
              <a:rPr b="0" i="1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- 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 riferisce Jefferson</a:t>
            </a:r>
            <a:r>
              <a:rPr b="0" i="1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 - </a:t>
            </a:r>
            <a:r>
              <a:rPr b="1" i="1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è spinta da interessi molto forti, la grande maggioranza degli studi su farmaci  e vaccini ed altri tipi di intervento, pubblicati anche da riviste prestigiose a livello internazionale è finanziata dalle case farmaceutiche</a:t>
            </a:r>
            <a:r>
              <a:rPr b="0" i="1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...</a:t>
            </a:r>
            <a:r>
              <a:rPr b="0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"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"</a:t>
            </a:r>
            <a:r>
              <a:rPr b="1" i="1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Sono anche a maggior rischio le linee guida compilate solo dalle società scientifiche</a:t>
            </a:r>
            <a:r>
              <a:rPr b="0" i="1" lang="it-IT" sz="1600" spc="-1" strike="noStrike">
                <a:solidFill>
                  <a:srgbClr val="ffffff"/>
                </a:solidFill>
                <a:latin typeface="Calibri"/>
                <a:ea typeface="Calibri"/>
              </a:rPr>
              <a:t>, possono avere sponsorizzazioni e legami con l'industria farmaceutica..."</a:t>
            </a:r>
            <a:br>
              <a:rPr sz="1600"/>
            </a:b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” 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Tutte le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 Raccomandazioni Ufficiali Americane 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 proposito 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delle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 Vaccinazioni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 sono 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Inquinate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senza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 speranza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 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dall'intreccio di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 Interessi esistente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 fra 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le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 Ditte 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produttrici 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di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 vaccini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, 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l'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Accademia 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Americana 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dei</a:t>
            </a:r>
            <a:r>
              <a:rPr b="1" i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Pediatri 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ed il</a:t>
            </a:r>
            <a:r>
              <a:rPr b="1" i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 CDC"</a:t>
            </a:r>
            <a:r>
              <a:rPr b="1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(Center  for Disease Control)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Michael Belkin, -  Congresso USA, 18-05-1999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4200" y="151920"/>
            <a:ext cx="87012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cc"/>
                </a:solidFill>
                <a:latin typeface="Verdana"/>
              </a:rPr>
              <a:t>Lobbies ed Industrie Pilotano gli studi medico-scientifici - 4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” 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Tutte le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 Raccomandazioni Ufficiali Americane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 proposito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delle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 Vaccinazioni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 sono 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Inquinate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senza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 speranza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 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dall'intreccio di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 Interessi esistente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 fra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le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 Ditte 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produttrici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di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 vaccini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,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l'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Accademia 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Americana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dei</a:t>
            </a:r>
            <a:r>
              <a:rPr b="1" i="1" lang="it-IT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Pediatri 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ed il</a:t>
            </a:r>
            <a:r>
              <a:rPr b="1" i="1" lang="it-IT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i="1" lang="it-IT" sz="2400" spc="-1" strike="noStrike">
                <a:solidFill>
                  <a:srgbClr val="e5e500"/>
                </a:solidFill>
                <a:latin typeface="Arial"/>
                <a:ea typeface="Arial"/>
              </a:rPr>
              <a:t>CDC"</a:t>
            </a:r>
            <a:r>
              <a:rPr b="1" i="1" lang="it-IT" sz="24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(Center for Disease Control)</a:t>
            </a:r>
            <a:br>
              <a:rPr sz="2400"/>
            </a:br>
            <a:br>
              <a:rPr sz="24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By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Michael Belkin, -  Congresso USA, 18-05-1999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4D0CA-3E4C-4FA0-8B23-E0D29E74C76C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A911-6F2C-4125-A945-307C178DF637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egnaposto data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B21F-0B32-4468-8846-CF8C60A38377}" type="datetime">
              <a:rPr b="0" lang="it-IT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Segnaposto piè di pagina 4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Danni dei Vaccini su: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Segnaposto numero diapositiva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4F71-7168-41FC-BC06-E93D273EF1C6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15328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cc"/>
                </a:solidFill>
                <a:latin typeface="Verdana"/>
              </a:rPr>
              <a:t>Vaccini,  è un Business ?</a:t>
            </a: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160" y="1143000"/>
            <a:ext cx="6095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e5e500"/>
                </a:solidFill>
                <a:latin typeface="Arial"/>
              </a:rPr>
              <a:t>CONTENUTO dei VACCINI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luminium - Calf serum - Fetal bovine serum - Formaldehyde - Hydrolyzed gelatin - Lactose - Monosodium glutamate (MSG) - Neomycin - Phenol - Streptomycin - Sucrose - Thimerosal (49.9% Mercury, in fase di eliminazione) - Yeast - MRC-5 cells: DNA and protein (aborted fetal tissue cells),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</a:rPr>
              <a:t>e molto altro...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Che facciano bene, </a:t>
            </a:r>
            <a:r>
              <a:rPr b="0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è tutto da dimostrare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br>
              <a:rPr sz="1600"/>
            </a:br>
            <a:r>
              <a:rPr b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Che facciano male, invece, in molti casi è cert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1 - </a:t>
            </a:r>
            <a:r>
              <a:rPr b="1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Espongono l'organismo a un rischio enorme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immettendo il virus direttamente nel sangue (</a:t>
            </a:r>
            <a:r>
              <a:rPr b="0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senza che siano state attivate le difese locali e fagocitarie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), non fa altro che realizzare proprio ciò che il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corpo </a:t>
            </a:r>
            <a:r>
              <a:rPr b="0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si sforza di evitare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: offre al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virus vaccinale, </a:t>
            </a:r>
            <a:r>
              <a:rPr b="0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accesso libero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 ed indisturbat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 ai sistemi (neurologico, endocrino, ecc) più delicati e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vulnerabili dell'organismo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2 - </a:t>
            </a:r>
            <a:r>
              <a:rPr b="1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Fanno crollare le difese immunitarie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"Un vaccino oltre ad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alterare la Flora Batterica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 Intestinale, </a:t>
            </a:r>
            <a:r>
              <a:rPr b="0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diminuisce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it-IT" sz="1600" spc="-1" strike="noStrike">
                <a:solidFill>
                  <a:srgbClr val="ffff00"/>
                </a:solidFill>
                <a:latin typeface="Arial"/>
                <a:ea typeface="Arial"/>
              </a:rPr>
              <a:t>l'immunità mediata da linfociti del 40%,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 due vaccini insieme del 60% - e ormai sono una norma 5 vaccini nella stessa iniezione", </a:t>
            </a:r>
            <a:r>
              <a:rPr b="0" lang="it-IT" sz="1600" spc="-1" strike="noStrike">
                <a:solidFill>
                  <a:srgbClr val="ff3300"/>
                </a:solidFill>
                <a:latin typeface="Arial"/>
                <a:ea typeface="Arial"/>
              </a:rPr>
              <a:t>anzi si è già passati addirittura a 6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    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9-28T18:44:25Z</dcterms:modified>
  <cp:revision>310</cp:revision>
  <dc:subject/>
  <dc:title>Presentazione di PowerPoint</dc:title>
</cp:coreProperties>
</file>