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EFF6-1652-42DD-BB5D-62FBD9EE76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2C62-4A3B-4750-A27D-3D3C37C7446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2ED9-3270-423B-A381-CB70EA33532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808-18C0-4409-BD5E-462FB472800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514E-E945-4DC2-A111-62EA7020E35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3C7-836E-4E70-BA3E-CBE93109B1E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AE7-B827-46C5-8866-BBB1FAF7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74B-55FD-4DBD-A6A0-CAA0CB9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7FB-F79D-4F91-B417-00C99750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A46-03BA-4CC8-BB92-90878D07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12C-5D06-482B-96D5-557F6C20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B508-5861-4B59-B10F-F0AF5A9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D60-FB79-4FA3-BD68-6A8D1F6B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2CE1-1F04-436E-AB91-4751962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0F4-EE33-4378-94DF-1EF99C9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F088-31CB-461E-83C3-82165BD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A9D2-AB42-41A0-8BDD-921BB755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381-6056-4BEA-A494-EE4B8CC3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3C1F-B922-4FBA-A608-B257AFF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2CE-079C-498C-86F6-C4C0AAC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607B-1931-4FA4-ABC4-F369A681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56B4-65F4-43A4-9CE6-96170085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D94-54CA-4B5D-BDF5-B7F91D40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629-AB32-4C85-BD1E-18728A8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C23-1249-45E2-B991-C2295E1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70F-E79C-43AF-A00E-4ACD115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79A-7F33-46F0-ACCF-5539B43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E45-26EC-4863-9F40-9C93A34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F30-8610-4329-B97B-949A15D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82A-EF58-4890-B1F5-3BFD6AEA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E5F-6DF3-496D-82B9-0347190125A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4A1-E159-4A27-B852-F289805F1BA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980C-3BCB-4F96-AE89-A7B2F32F1AC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8AD-79D1-4DBF-8958-838E25DE065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FD33-D5E3-475C-B308-506D8AA55CD5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581280" y="6248520"/>
            <a:ext cx="406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40B1-B15D-499B-A2C3-E20E1D5C37D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AZIONI </a:t>
            </a:r>
            <a:r>
              <a:rPr b="1" lang="it-IT" sz="4000" spc="-1" strike="noStrike">
                <a:solidFill>
                  <a:srgbClr val="ffff00"/>
                </a:solidFill>
                <a:latin typeface="Verdana"/>
              </a:rPr>
              <a:t>S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o </a:t>
            </a:r>
            <a:r>
              <a:rPr b="1" lang="it-IT" sz="40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57680" y="2057400"/>
            <a:ext cx="5829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ome Cittadini di uno Stato che “dovrebbe” tutelarci nella Salute (art. 32 Cost. It.),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Vogliamo vederci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CHIAR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al di là degli interessi dei Produttori dei 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dei </a:t>
            </a: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Vaccini</a:t>
            </a:r>
            <a:br>
              <a:rPr sz="1800"/>
            </a:br>
            <a:br>
              <a:rPr sz="18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esentazione del dr. G. Paolo Vanoli, Giornalista (Albo speciale), Consulente in Scienza della Nutrizione e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dicine Biologico Naturali (Ph.D. USA)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Webmaster di www.mednat.org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486B-085C-4169-A672-BFCD7A5D1DB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DE7E-48A1-43FF-97BE-CD3BE8119D8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i, è un Busness ?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E se dietro a tutto questo non ci fosse altro che l'ennesimo raggiro delle multinazionali farmaceut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Prima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intossicare ed ammal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on i vaccini e po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chieder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finanziament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per la “ricer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”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po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tentare di guari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 malati…che però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guariscono MA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….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accini al Mercu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fanno m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m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erranno impiegati in Italia fino al 2008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esaurire le scorte……    i ……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roduttori ringrazi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G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unici che n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traggono vantagg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“salute immediata” sono 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rodut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farmaci e vaccini perché i lor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ilanci godono di OTTIMA sal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….i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$$$$$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27B8-1EB9-4437-A8FE-EE4DCD2B6F4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E21-9E44-4B3E-8B08-0BA61CF47F4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I Vaccin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onsiderati fino a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cennio f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ome “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cura panace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 terribili malattie”, oggi l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accinazioni so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empre più accusa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essere l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responsabi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adut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mmunitarie di popolazioni int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utazioni genetich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trasmissibil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e quindi messe sempre più in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discuss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 anche per il lor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enuto altamente 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Tossico (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etalli pesan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com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ercuri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ed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llumini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, ecc., sostanze cancerogene – formaldeide – sostanze minerali come il carbonio, ed altre ancora…..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249F-390D-44E0-B596-B0A35EC6AFF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1300-8BB8-479D-92D9-5CAD24FC1DF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I Vaccin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ono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“farmaci” </a:t>
            </a:r>
            <a:br>
              <a:rPr sz="4400"/>
            </a:b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tra i più  pericolos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1.000 studi medico-scientif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 mondo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Dimostr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ericolosit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i vaccin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 360° grad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Qualsiasi malatt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uò esse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omatizza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al vaccinato, perche’ reso ipersensibil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duco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utazioni Genet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smissibi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lla prole. (Vedi gli Stu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cientifici pubblic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stabilizz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stema Immu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utta la vita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altando tutte le natural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barriere immunologi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engon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ostanze toss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ericolo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vaccin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dismess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ll’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us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i paesi occident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ngono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invia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 quelli del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erzo Mond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…..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pecie Afri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cos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è comparsa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oli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ima Sconosciut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….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in quel continent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DB34-7C55-4ECA-A2CA-4706357E187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404-F44D-48BA-8306-FC3D2617541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Cosa è un VACCINO ?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Vaccino e’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cktail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ostanz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OSS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ietta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n gene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i tessu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da quella sede passano direttamente n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angu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sogget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iene virus, batter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amina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antibiotici potent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oltre a varie sostanz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ot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a anche altr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occul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cc., tutte sostanz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OLT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ericolo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i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: 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bblig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) quello per la poliomielite, la difterite, il tetano, l’epatite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obblig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:  pertosse, influenza, morbillo, rosolia ed orecchioni ed altri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Vaccino può esse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noval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olival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es.: esavalente), cioè contenere uno 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iù Vaccini;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ggi siamo a 6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 uno stess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preparato vaccinale, che contiene anche vaccin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obbligator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pacciati per tal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alla popolazion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gna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BDB-D59D-4686-A348-E0F84783EA73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A2E5-D44E-4675-86E3-CDE2C1D2BAF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Cosa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è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un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Virus 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83808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Virus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è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ermine lat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he significa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Velen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iru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per definizione una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</a:rPr>
              <a:t>Protei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tossica cioe’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ezzetto di D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vvolto in una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psula proteica lipidica (dett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capsi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contenent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ido nucleico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e’ un essere viv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ioè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n micro organism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!!!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rlare quindi di virus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ivo o mor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e’ u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FALS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iolog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so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</a:rPr>
              <a:t>NO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i autoriproduce ma vien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uplicato dall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ellu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sol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ando 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condizio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l Terre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ono propizi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altriment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viene isola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in gene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limina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viru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l vaccino non è umano quindi esso può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stabilizzare il D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la specie nel quale viene introdotto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 le condizioni de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quindi del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ist. Immun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sono propizie, esso rilascia l’informazione virale, interferendo così con il DNA umano d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itocond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646-5D2C-4AF8-B480-13D0D0B8908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EAE5-C275-4EE6-BAC3-12D9167DBC1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a è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u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Batterio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atte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r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ssere viv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si riproduce da solo ne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l’ospitante; ess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vono in Terreni con determinat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empera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H, rH e ro’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dice che appartenga alle forme più semplici del  regno vegetale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a non se ne è sicu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no facilmente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uta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a seconda del tipo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ve risiedono. 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ian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Terreno 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mperat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H, rH, ro’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ssi si mutano 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</a:rPr>
              <a:t>cambia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Fun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ll’organismo umano ve ne sono a miliardi e normalment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ssi ci aiutano nel nostro viv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debbono essere considerati “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ngeli custod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ll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al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, salv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quelli de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he son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icuramente Patoge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he quindi entrano in competizione con quelli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m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ed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lle volt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rendon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opravven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su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es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D751-CF6B-4B1F-86F4-B7AC2CD26F77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F800-A62B-44F0-A4BE-90699F1AC9F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Bugiardin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ntenut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ei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e l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Sostanz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dicate nei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ugiard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”, acclusi 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segnat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olo ai med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vaccinatori delle ASL 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i vaccinandi), 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engon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anche 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roindic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vaccini stes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Aluminium - Calf serum - Fetal bovine serum - Formaldehyde - Hydrolyzed gelatin - Lactose - Monosodium glutamate (MSG) - Neomycin - Phenol - Streptomycin - Sucrose - Thimerosal (49.9% Mercury, in fase di eliminazione e/o riduzione) - Yeast - MRC-5 cells: DNA and protein (aborted fetal tissue cells)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ed altro a seconda del tipo di Vaccin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e’ facile reperi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 Bugiardini dei Vaccini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ugiardini italia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l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tesso tip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vaccino, contengo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E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controindic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quell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US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ché ??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B42-7505-47E2-8475-4A46CF2289A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5590-CD1A-4C66-B74F-6983E9539FB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-24336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Contenut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ei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Vaccini</a:t>
            </a: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95480" y="9144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si quin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engo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 seconda del ti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llumin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idrossido di Alluminio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etallo mol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nvasiv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, es.,  per EpatiteB, puo’ produrre anche cancro al sistema endocr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rcu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Tiomersal –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etallo pesante molto tossico/invasiv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- è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urotoss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si accorpa e s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deposita ne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lipidi (grassi)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ervel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 cranio e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otto in quello enterico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.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vaccino per i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orbill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In Italia, in quello per la Polio è assent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st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etallo Toss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’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r-Responsabi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Demielinizz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rv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stema nervo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duc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rav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lterazion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lla Flora Batteri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Intestin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e quindi d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H digestiv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;, ecc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a per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50 an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stato comunque inoculato a miliardi di person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Nei futuri vaccini pare che esso verrà ridotto come quantità ed in alcuni omesso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inua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7AD-3624-481A-8E2E-2CF887DDF0A1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F8D-A736-4A65-A518-93D21DD6228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Inquinament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e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Vaccin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2840" y="99072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sempio: Il virus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V 40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è stato inoculato ad oltre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400 milio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i persone prima che lo eliminassero dal vaccino per l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l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oltre oggi vi ritroviamo un altro contaminante: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’Enterovirus 71, vedi le recent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pidemie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Brasile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in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cc……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vaccino  per l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l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’ prodotto su colture base di Rene dell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cimmia Verde African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….quella dello HTLV 1, precursore dello HIV….., virus dell’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N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 inform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A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pol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ei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chi vaccina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m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i fanno solo campagne martella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er indurli,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rrorismo Psicolog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alla vaccinazi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lgrad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ch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d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decenni i 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ano messi in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scuss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con tantissimi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tudi medico scientifici pubblica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da parte dell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autorità sanitarie ufficia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vi e’ un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SSOLUTO SILENZ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affinche’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tutto sia coper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venga a ga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C956-BDD4-42B2-80FF-7CD24EDECEB7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EFD-AA50-405A-852B-C2FDF22A231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Distribuzione Bustarelle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di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ustarel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ata al poco On.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 Lorenz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1991) Euros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300.00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agati dalla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SK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far varare (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n Bugie sui dati riferi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egg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accin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l’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patite 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sta l’ ammissione del direttore del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K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roduttore dell’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ngerix 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vaccino per l’EpatiteB, al magistrato onorario dr. Di Pietro, nel corso di Mani Pulite. De Lorenzo è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ndato in prig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ma la Legge è rimas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il vaccino per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ol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bbiam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umentato di molto l’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pati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on il vaccino per l’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pati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eningi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umentata…..fra i ns. Figli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così il business dei Farmaci e Vaccini continua... 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eneficio de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or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dut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A18-684E-47CC-89A0-A6E809EC9F1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1F6-414B-472F-AE32-A0911F753C0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tituzione Italiana</a:t>
            </a:r>
            <a:br>
              <a:rPr sz="3600"/>
            </a:b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art. 32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284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Repubblic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TUTEL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l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alut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com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FONDAMENTALE DIRITTO dell’individu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e interesse della collettività e garantisce cure gratuite agli indigenti. </a:t>
            </a:r>
            <a:br>
              <a:rPr sz="2400"/>
            </a:b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NESSUNO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PUO‘ ESSERE OBBLIGATO ad un determinato trattamento sanitario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se non per disposizione di Legge. 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La Legg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NON PUO‘ in NESSUN CASO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VIOLARE I LIMITI IMPOSTI dal RISPETTO della Persona U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1AC0-084B-4028-9C3F-979D0F2CFA7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E09-3706-409A-8F34-DF4A6623024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ntaminanti Subliminal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AIDS dai Vaccini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Un  precursore d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irus HIV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fu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escolato ai Vaccini da propinare agli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africa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già negli anni 70-80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a informazione è stata "trovata" (nel 1999) neg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rchivi top-secret declass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da un perspicace investigatore, un certo Boyd E. Graves, JD, il quale ha scoperto che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ilitari (USA) di quegli anni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vevano inseri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n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oi propinati alla popolazione africana, de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aminati vir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proteine tossiche) per indeboli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immunitariam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tere popolazione di quel continente + una zona di New York, Manhatan, ove vivono tantissimi neri...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( vedi sito: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www.boydgraves.com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) 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1CF-BB6D-41B6-9374-B0EA30D61D6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80F-DC31-4C74-9F2F-B23631146CF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Mutazione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dei 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romosomi 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del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DN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Comunicato Stamp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 inviato a tutta la stampa italiana nel mese d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Dicembre del 1995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dall’allora Presidente dell’Associazione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Universo Bambino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che è passato i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Totale Sordin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’Associazione Universo Bambino di Bari, comunica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Lo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studio presenta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al Dott.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Massimo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Montinar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Medico Chirurgo, Presidente dell’Associazione Universo Bambino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è riferito a 48 pazie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che si sono rivolti alla sua Associazione dopo essere stati ricoverati presso numerosi Centri Ospedalieri nazionali e stranieri; questi sono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stati selezionati da ben 186 malati, affetti da patologie del SNC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(Sistema Nervoso Centrale), osservati nel periodo Apr/94 - Ott/95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Oggi il dr.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Montinar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(medico della Polizia di Stato - FI) ha in cura circ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3.400 bambini, giovani, militari, civi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rovinat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dai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 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692-EAF4-44D4-9D4D-C2E02A28EBDF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585D-F616-4E26-A1B4-872A934FAA9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447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Mutazioni Genetiche </a:t>
            </a:r>
            <a:br>
              <a:rPr sz="4000"/>
            </a:b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dai Vaccini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– 2 – </a:t>
            </a:r>
            <a:r>
              <a:rPr b="1" lang="it-IT" sz="1400" spc="-1" strike="noStrike">
                <a:solidFill>
                  <a:srgbClr val="ffffcc"/>
                </a:solidFill>
                <a:latin typeface="Verdana"/>
              </a:rPr>
              <a:t>Vedi studio del dott. Montinari</a:t>
            </a:r>
            <a:endParaRPr b="1" lang="en-US" sz="1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Nella stori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di ogni pazien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si documentava l’insorgenza d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egni clinici relativi al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SNC ed apparato digeren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in concomitanza o immediatamente dopo la somministrazione di 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(polio Sabin e Salk, Difterite-Tetano, Morbillo, Difterite, Tetano, Pertosse, TBC)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a proposta di studio è riferita all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valutazione del quadro immunitario dei pazie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d al ruolo dell’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Immunogenetic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nella diagnosi di patologie ad eziopatogenesi spesso dubbi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ed handicappa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l’attento studio del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braccio corto del Cromosoma 6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ell’uomo, la caratteristica genetica e l’azione di virus a DNA in soggetti sottoposti a vaccinoprofilassi in età pediatrica, ha consentito di valutare una caratteristica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ricorrenza di Allel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(Geni)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 nel quadro genetico di tutti i pazienti sottoposti a vaccinoprofilassi e insulto d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virus a DN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“  -  (By Universo Bambin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9358-08A7-4082-935D-2CA5D0C6A3E1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EF2-9AE9-4FB0-923A-04B41F03920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Tossine inserite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per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Legge,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ne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Cittadin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ambino a 3 me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iene vaccinato (data indicata per l’inizio delle vaccinazioni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obbligatori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non). 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certi casi questa data viene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nticipata anche a qualche giorno dalla nasci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disobbedendo alla Legge ! 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ltri vengono vaccinat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l di là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termini fiss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alle varie Leggi sui vacci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stema Immu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i un Bimbo si sviluppa e s’in-Form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nch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DOP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la nascita 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resc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s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viluppa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con Lu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ino alla morte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vaccinazione è quindi u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VERO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ttentat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l Sistem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mmu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9880-CF70-4858-862F-960A6011523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651-0581-4B08-A349-95DE465BE35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Cosa fanno i Vaccini 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9160" y="1052280"/>
            <a:ext cx="609588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vaccini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ossicano l’organis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 quindi l’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est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generan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alNutriz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ellula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destabilizzano ed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ossicano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nch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itocond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he sono in ns.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eneratori di Energi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Vit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debilitand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quindi l’organismo, e nel mitocondrio generano anche mutazioni genetiche al DNA, oltre a creare spesso dell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schemi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nei tessu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oltre la vaccinazio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ch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anche 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l potenziale di transmembran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l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ellule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rendendole impermeabili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on si nutro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né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liminano l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ossine accumulat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163F-DA06-466E-9AB8-232CC42DE8C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4C40-219D-412F-B308-8EB018511BC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Mutazioni Genetiche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Handicap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 molti studi medico-scientifici a livello mondiale ci si è accorti che i vaccini producono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utazioni Genet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occulte e palesi, trasmissibili anche alla pr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pubblica di S.Mar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bbliga a vaccinarsi con più vaccini che in Italia 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12 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; infatti è la zona d’Itali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 la più alta percentuale di giovani portatori di handica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!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 quando hanno rese facoltative le vaccinazioni  sono diminuiti e di molto i bambini con handi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e vaccinazioni sono quindi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grave attentato ed attacco al fis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 genere ma specificatamente 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ervello/m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quindi all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siche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ll'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Essere stes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5870-3928-4CFF-B43A-45F1BF6D4645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911B-A9F4-4C98-8B57-CF4EED23137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Sclerosi da vaccin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br>
              <a:rPr sz="2800"/>
            </a:br>
            <a:br>
              <a:rPr sz="2800"/>
            </a:br>
            <a:r>
              <a:rPr b="1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francia"/>
          <p:cNvPicPr/>
          <p:nvPr/>
        </p:nvPicPr>
        <p:blipFill>
          <a:blip r:embed="rId1"/>
          <a:stretch/>
        </p:blipFill>
        <p:spPr>
          <a:xfrm>
            <a:off x="3886200" y="1905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37D-875A-4398-A47E-5FC993CCDD8B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1C76-3A65-4E8D-AE26-E25E031AB0D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Militari malat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mort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i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Itali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a tragica notizia de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ilitari italiani mor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ucem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d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ltre malatti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ausate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 dice impropriam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dall'uso di proietti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ll‘Uranio Impover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UI) durante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guerra dei Balcani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 Golfo, Afganistan, è circolata su tutti i giornali italiani tra la fine di dicembre del 2000 e l'inizio di gennaio del 2001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Ora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old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taliani ammalati son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irca 2.70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orti so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d oggi saliti 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26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e si registra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10 casi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figl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nati con grav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form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irca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70%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milit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mmalat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si e’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AI reca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n zone di guer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ove e’ stato usato l’U.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n Somalia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NON e’ stato utilizzato U.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eppure diversi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sold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he sono stati in quella zona di guerra si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so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ammal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lo stesso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8022-830F-40D9-B2B8-8BD2CF6E7D40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4A96-AC93-4335-A997-8715B9A865A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a è l’Uranio impoverit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‘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ran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è l'elemento chimico di numero atomic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92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 è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etallo molto denso e pesa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 Il suo simbolo è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ranio impover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.I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è il termine con il quale in Italia viene definito l'uranio che è stato processato per estrarn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'isotopo 235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utilizzato com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bustibile nelle centrali nucle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 come principale elemento detonante nelle armi nucleari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 termine è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na traduzione dall'ingle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epleted uranium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U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, che a volte viene tradotto - soprattutto in ambienti scientifici e militari - con il termine </a:t>
            </a:r>
            <a:r>
              <a:rPr b="0" i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ranio deplet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59"/>
                </a:solidFill>
                <a:latin typeface="Arial"/>
                <a:ea typeface="Times New Roman"/>
              </a:rPr>
              <a:t>http://www.youtube.com/watch?v=AwRqhGfRAl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CAB8-02BA-4349-A999-B4E80A3BE0F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1ABD-E244-417E-83D0-D4383D4CE91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a è l’Uranio impoverito </a:t>
            </a: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-2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‘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ranio impover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che mediamente contiene lo 0,25-0,4% di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35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) trova impiego i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pplicazioni militari come metallo per blinda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 come parte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missil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proietti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roprio per la sua densità, ed i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edicina come schermat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i locali per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adiografie a raggi X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‘Urani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on viene assorbito attraverso la pel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 le particelle alfa che emett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n sono in grado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ttraversare la pel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iò rende l'uranio esterno al corp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olto meno pericoloso di quello inalato o ingerito attraver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 cibi solidi o liquid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osi non letali, la tossicità dell‘Uranio può produrr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anni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 inala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n vicinanza (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i qualche decina di metr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da esplosioni di bomb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ò produrre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co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l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tempo, dan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reni e polmo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7E21-BC22-4DDA-BF34-70F218BB6926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D2A-482F-4C63-A63A-82D3B123E65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hi decide per la ns. Salute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reten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decider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ome dobbiamo Curar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 deci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se dobbiam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accinarc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m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 può decid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quando siamo "bravi" genitori e 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sa è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eglio per no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per i nostri fig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 deci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quando siamo "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u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o "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attiv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cittadini – pazienti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o stato ed i </a:t>
            </a:r>
            <a:r>
              <a:rPr b="0" lang="it-IT" sz="2000" spc="-1" strike="noStrike">
                <a:solidFill>
                  <a:srgbClr val="ffff59"/>
                </a:solidFill>
                <a:latin typeface="Arial"/>
                <a:ea typeface="Arial"/>
              </a:rPr>
              <a:t>med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oi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NON possiam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cider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iam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n un paes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“Democratico”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garantisc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ibertà di C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od in un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DITTAT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Sanitari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Salvo che nel 2008-9 alcune regioni Italiane hanno reso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facoltat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le vaccinazioni, seguendo le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dirett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la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U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F90-FB44-4C45-9913-28323613448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4F3-231A-44DD-A16D-E5C1C11D892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Vaccinazion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Militar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iova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prestan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rvizio Milit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oltre ad essere stat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ccinati in gioventù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tti vacci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4 vaccini obbligatori x 4 richiami cadauno = 16 atti vaccinali) e quest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nza contare i vaccini NON obblig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h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otrebbero aver sub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ll’ingress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 Caserm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vengon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Ri-vaccinat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altri vaccini i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enere polivale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min. 5 vacci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questi militari poi debbono prestare servizi particolar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engo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ncora ulteriorment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Ri-vaccina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altri vaccini. Sui militari ammalatisi sono stati contati, circ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tti vacci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 corso della loro vita (max fino a circa 32 anni).</a:t>
            </a:r>
            <a:br>
              <a:rPr sz="20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ttp://www.mednat.org/vaccini/guerra_balcani_vaccini.htm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ttp://www.mednat.org/vaccini/guerra_golfo_vaccini.h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8B96-A9D5-4FB9-A92B-FC11860A4D4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1369-1180-4024-95DF-28A72E9A984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Trovato Mercurio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i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Reni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d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oldato morto……</a:t>
            </a:r>
            <a:br>
              <a:rPr sz="4000"/>
            </a:b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ma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NON sono state trovate particelle di Uranio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 !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……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In Italia oltre260le vittim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 e non e’ finita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….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2205000"/>
            <a:ext cx="609588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  <a:ea typeface="Arial"/>
              </a:rPr>
              <a:t>Nanoparticelle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 di mercurio-selenio trovate nella biopsia renale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di un soldato affetto dalla Sindrome del Golf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 non sono solo queste nanoparticelle ad esses state trovate nello sperma, sangue dei militari deceduti….</a:t>
            </a:r>
            <a:br>
              <a:rPr sz="16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to da: http://www.mednat.org/vaccini/contenuto_vaccini.ht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28" descr="guerra1"/>
          <p:cNvPicPr/>
          <p:nvPr/>
        </p:nvPicPr>
        <p:blipFill>
          <a:blip r:embed="rId1"/>
          <a:stretch/>
        </p:blipFill>
        <p:spPr>
          <a:xfrm>
            <a:off x="3059280" y="2133720"/>
            <a:ext cx="2863800" cy="227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29" descr="guerra2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E74-B46E-46CF-AE6F-CA8F8122E17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F5B-39ED-4E74-A72E-385AA130929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Vaccino inoculato ?</a:t>
            </a:r>
            <a:br>
              <a:rPr sz="4400"/>
            </a:b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Risarcimento assicurato !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ui Soldati, in varie nazioni del Mondo, sono stati an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perimentat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uov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ppure vacci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ncora più toss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i quelli usuali, ve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eotif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il vacc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if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Ministero della Difesa Italiano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 riconosc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ome dipendente d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ervizio milit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ausa del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r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ilit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ché nel loro organismo “non ci sono tracce di Uranio”, ma la colp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 è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ll’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Uran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bensì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VACCIN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noculati per causa di serviz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quindi 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sarcimento e’ DOVU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i solleci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quindi una "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zione Risarcitor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per le famiglie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e hanno sostenu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olt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llla morte dei loro c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 in questi an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ispendiosi ricoveri e cure med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tentare di guarire i loro ragazzi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3201-96E7-424A-844A-7D7E7784A126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470A-1CF1-436E-BC3E-EAB24BE100E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04560"/>
            <a:ext cx="83757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Militari rifiutan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i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farsi vaccina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19160" y="1628280"/>
            <a:ext cx="6095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ndrom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l Golfo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e Sindrom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i Balc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hanno la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tessa causa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 Vaccin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dat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gnificativo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gg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è che circa il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50%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dei soldati america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(USA)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ta rifiutando la miscela d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roprio a causa dell'allarme che 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ndrome del Golf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ha creato nelle truppe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mportanti movimenti 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fiut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i ques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ono sort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nche altro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esempio in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ustral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93B-10E5-43C3-A8E5-A30F4A7A51F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ECE3-6202-41AB-B0C1-C69E27EDC98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Verdana"/>
                <a:ea typeface="Arial"/>
              </a:rPr>
              <a:t>Vaccini 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  <a:ea typeface="Arial"/>
              </a:rPr>
              <a:t>a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  <a:ea typeface="Arial"/>
              </a:rPr>
              <a:t> partire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  <a:ea typeface="Arial"/>
              </a:rPr>
              <a:t>da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  <a:ea typeface="Arial"/>
              </a:rPr>
              <a:t>vegetali  “BioTech" - OGM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egetali coltiv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 serra come produttori di vacci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iotecnolog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GM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) orali. 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Se ne è parlato alla Convention Europea sulle Scienze della Vita e le Biotecnologie,  che vede riuniti al Ministero degli Affari esteri i rappresentanti dei 25 Paesi dell‘EUROPA nell'ambito del semestre di presidenza italiana del Consiglio dell'Un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onardo Sa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residente del comitato nazionale per le biotecnologie,  ha annunciato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ascita di alcuni vaccini prodotti dai pomod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 per la  tubercolosi, d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tabac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dall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ata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per diarrea e colera.   Nel prossimo anno saranno sperimentati sull'uom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’ISS sta’ già promuovendo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…in vari convegni……come mai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798C-751C-493A-80EC-9869699D4AEF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6E47-3DE1-4C9B-8DE8-B9B8B18D1F7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0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Nuove Strategie Statal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nder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UB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facoltative le 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er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TTI i cittad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anche per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ilitari d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qualsiasi Arm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Obbligare 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dici vaccin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onseg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l vaccinand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UTTE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troindicazion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vaccini conten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“bugiardini” come quelli US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in modo che i cittadi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ossano rendersi conto dei gravi Perico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corrono sottoponendosi a tali pratiche e quindi abbiano una Ver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ibertà di Scelta e di C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Obbligare i Produttori d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 fornire vaccini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contenenti prodotti toss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me fatto fino ad or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273-3CCF-49FB-9685-72B987DFFFD7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3C9-7E67-4053-9A22-2CEE016A1D1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447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Strategie Terapeutiche Natural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- 1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Alimentazione Vegetarian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meglio se </a:t>
            </a:r>
            <a:r>
              <a:rPr b="1" lang="it-IT" sz="2400" spc="-1" strike="noStrike">
                <a:solidFill>
                  <a:srgbClr val="ff1a1a"/>
                </a:solidFill>
                <a:latin typeface="Verdana"/>
              </a:rPr>
              <a:t>Cru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e frullata per almeno 3 mes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Utilizzare 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cibi Biolog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meglio se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Biodinam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Ripristino</a:t>
            </a:r>
            <a:r>
              <a:rPr b="1" lang="it-IT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a</a:t>
            </a:r>
            <a:r>
              <a:rPr b="1" lang="it-IT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Flora Batteric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intestinale, assumendo </a:t>
            </a:r>
            <a:r>
              <a:rPr b="1" lang="it-IT" sz="2400" spc="-1" strike="noStrike">
                <a:solidFill>
                  <a:srgbClr val="e5e500"/>
                </a:solidFill>
                <a:latin typeface="Verdana"/>
              </a:rPr>
              <a:t>Enzim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Integrato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multi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Batter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Mineral</a:t>
            </a: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-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Vitamin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derivazione naturale, cioe’ micro-Diete 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Immunostimolant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D77-6B5F-48AB-8B1D-22133E685B70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5B16-C8F9-4C15-B346-375A18EB535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5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Strategie Terapeutiche Natural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Disintossicare</a:t>
            </a:r>
            <a:r>
              <a:rPr b="1" lang="it-IT" sz="1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1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Disinfiamm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l’organismo iniziando dall’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ntesti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per mezzo d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dro Colon Terap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(bisettimanale e/o settimanale, con acqua a min. pH 7 e particolar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nfusi di erbe e centrifugati di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Frutta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 e Verdur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)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Diminuire</a:t>
            </a:r>
            <a:r>
              <a:rPr b="1" lang="it-IT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Temperatura intesti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con cataplasmi freddi (notturni)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Assumere d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Fior di Zolf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(per un certo periodo di tempo, come indicato nel ns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Protocollo della Salu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) e di altri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</a:rPr>
              <a:t>Sali tampone adatti anche per remineralizz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tilizzo di prodotti Fitoterapic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mmunostimola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(Ortica, Curcuma, Equiseto, Micro diete di Frutta e Verdura, Aglio, Fermenti Lattici, Enzimi, ec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EB8-474B-47D5-91AE-BEEEDA110520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794E-1D83-4A15-A1F1-A9C1EE54F5D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Strategie Terapeutiche Natural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- 3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r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Bere almeno 1,5 litri di acqua Basica a pH 10 ogni gior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un certo periodo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trollan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l’inversion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cido-basi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vveng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nza portare il paziente in alcalo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liment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paziente in modo da favorire il piu’ possibile il riordino celer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cido-basico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tegrando l’alimentazione adatta con</a:t>
            </a: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ali tamp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n caso di Cancro: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Drenare le zone colpite dal Tumo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cqua Basi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mezzo di: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endovene, cateteri, iniezioni e/o infus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CE5-9D62-41DB-B19E-2DF9F8F34EC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74CB-631E-4F06-BA0B-4686C4D10C7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ntrollo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dello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tato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d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alute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Sistema Immunitari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: es. un semplice emocromo e’ in grado di indicare lo stato del S.I. (Quantita’ dei Linfociti = Globuli Bianchi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dell’eventuale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Terreno Oncologic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di in: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emeioticabiofisica.it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con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vetrin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Goccia di Sangu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 Paziente, per mezzo di un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microscopi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per riscontrare la presenza o meno de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microcristall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dell’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albero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del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Cancr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. +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Mineralogram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(in alcuni casi) del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Livello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e dello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stato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dei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Liquidi Corpore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con BTA (BEV) –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pH, rH, rò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Tac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(Tomografia Assiale Computerizzata, del cervello di sopra) per controllare ed evidenziare le macchie - nel canceroso - (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sed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Conflitto Spiritual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) dovute all’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Infiammazion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locale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Neuronic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e l’alterazione del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Liquor Cerebro-Rachidian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per le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Intossicazio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 che li raggiungono (in genere lipidi-grassi)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dello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Stato General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 Paziente, con apposite apparecchiature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od altri esam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test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util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CA03-AFF6-4CDF-AC89-5D74E5A73329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A89-4DBA-4953-95D8-2F96F3DF494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hi decide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per la ns.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alute ?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a anni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obbies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legat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al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mercato della sal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l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ategorie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professionali ch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dominan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ettore sa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stanno promuovend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el nom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la "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cienz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istema sanitari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l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limitativo della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Libertà Person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Già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ogg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fatt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Trattamenti Sanitari Obbligator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o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interventi chirurgici, prescrizioni di psicofarmaci, elettroshock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ure mediche invasive, </a:t>
            </a:r>
            <a:r>
              <a:rPr b="0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alimentazione forzat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engono impost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anch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ontro la propria volont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Un'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imposi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sempre più supportata d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eggi Repress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verso ch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si allinea con questi criteri”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Tratto da Sanità Obblig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CF55-1B47-471C-B02F-1395519BB85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B7E-FDD9-43AA-968A-7DB79B9A55B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Verdana"/>
                <a:ea typeface="Arial"/>
              </a:rPr>
              <a:t> 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Lasciami Vivere Sano, </a:t>
            </a:r>
            <a:br>
              <a:rPr sz="4000"/>
            </a:br>
            <a:r>
              <a:rPr b="1" lang="it-IT" sz="4000" spc="-1" strike="noStrike">
                <a:solidFill>
                  <a:srgbClr val="ff3300"/>
                </a:solidFill>
                <a:latin typeface="Verdana"/>
                <a:ea typeface="Arial"/>
              </a:rPr>
              <a:t>NO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Verdana"/>
                <a:ea typeface="Arial"/>
              </a:rPr>
              <a:t>Vaccinarm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  !!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bimbo2"/>
          <p:cNvPicPr/>
          <p:nvPr/>
        </p:nvPicPr>
        <p:blipFill>
          <a:blip r:embed="rId1"/>
          <a:stretch/>
        </p:blipFill>
        <p:spPr>
          <a:xfrm>
            <a:off x="3352680" y="3048120"/>
            <a:ext cx="1854360" cy="2647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bimbo2"/>
          <p:cNvPicPr/>
          <p:nvPr/>
        </p:nvPicPr>
        <p:blipFill>
          <a:blip r:embed="rId2"/>
          <a:stretch/>
        </p:blipFill>
        <p:spPr>
          <a:xfrm>
            <a:off x="6019920" y="3048120"/>
            <a:ext cx="1854000" cy="2647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med9"/>
          <p:cNvPicPr/>
          <p:nvPr/>
        </p:nvPicPr>
        <p:blipFill>
          <a:blip r:embed="rId3"/>
          <a:stretch/>
        </p:blipFill>
        <p:spPr>
          <a:xfrm>
            <a:off x="3505320" y="1676520"/>
            <a:ext cx="39621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A88-7858-4277-9E46-E0EA7C4874A2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C9BF-0BB9-4D3A-8F68-82ABD806DD2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Lobbies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Industrie Pilotano </a:t>
            </a:r>
            <a:br>
              <a:rPr sz="3600"/>
            </a:b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gl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tudi medico-scientifici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E’ ormai noto che i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finanziamenti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delle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 aziende farmaceutiche influenzano la Ricerca Clini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o dicono diversi studi pubblicati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gam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finanzi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tra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ondo Accademico e quello Industrial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Farmaceut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’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lto persuasivo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 termini d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ilotaggi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sult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Si parla di un minimo de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25%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ricercatori accademic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e avrebb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gam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finanziari con i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nd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industria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Farmaceut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legame tale da porre la questione de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onflitto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Interes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on importa quanto siano conclus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Danni de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Lobbie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han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ot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inimizzar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d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eliminar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a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</a:rPr>
              <a:t>condizio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d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</a:rPr>
              <a:t>impor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gli Stati, campagne vaccinali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650-F396-4761-B0F8-627547591BB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D14-31D7-40A5-9963-67376C8E92E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Lobbies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Industrie Pilotano </a:t>
            </a:r>
            <a:br>
              <a:rPr sz="3600"/>
            </a:b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gl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tudi medico-scientifici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tudio continu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non solo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Ricercatori Accadem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ma spesso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Università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tes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egam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arebbe chiar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facilmente prevedibile: 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erdita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ll'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ggettività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della ricer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favore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tud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fortemente pilot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i possono essere an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olitiche uffici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gli atenei etiche in teoria, m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ella pratica queste consider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 vengono Manten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  <a:ea typeface="Arial"/>
              </a:rPr>
              <a:t>Bibliografia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br>
              <a:rPr sz="18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JE Bekelman and others.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cope and Impact of Financial Conflicts of Interest in Biomedical Research. A Systematic Review. Journal of the American Medical Association (JAMA) 2003;289:454-465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Vergano, USA Today.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January 21, 2003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Holz. Los Angeles Times. January 21, 2003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Kaiser Daily Health Policy Report.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January  22, 2003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15E-15BC-4321-8490-33852A4F518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B14-AA0E-47F9-A0C5-DD4929B87C5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Lobbies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Industrie Pilotano </a:t>
            </a:r>
            <a:br>
              <a:rPr sz="3600"/>
            </a:b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gl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tudi medico-scientifici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3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557000"/>
            <a:ext cx="60958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utti gli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studi sui vaccin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ivello Mondia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salvo quelli effettuati da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Ricercatori Privat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sono Sponsorizzati e pilotati, dai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Produttori di Vaccin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e quindi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NON hanno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valore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 Etic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né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Scientific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Tom Jefferson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  (epidemiologo), ha scritto "Attenti alle Bufale", un libro che fa le pulci alla "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ricerca biomedica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...che nasconde soperchierie, trucchi ed un certo tasso di corruzione....pare sia oltre il 75 %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r>
              <a:rPr b="1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la medicina 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- 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 riferisce Jefferson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 - </a:t>
            </a:r>
            <a:r>
              <a:rPr b="1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è spinta da interessi molto forti, la grande maggioranza degli studi su farmaci  e vaccini ed altri tipi di intervento, pubblicati anche da riviste prestigiose a livello internazionale è finanziata dalle case farmaceutiche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...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r>
              <a:rPr b="1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Sono anche a maggior rischio le linee guida compilate solo dalle società scientifiche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, possono avere sponsorizzazioni e legami con l'industria farmaceutica..."</a:t>
            </a:r>
            <a:br>
              <a:rPr sz="1600"/>
            </a:b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”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Tutte l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Raccomandazioni Ufficiali Americane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proposito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elle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Vaccinazioni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sono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Inquinat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senza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speranza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all'intreccio di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Interessi esistent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fra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l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Ditte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produttrici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i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vaccini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l'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Accademia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Americana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Pediatri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ed il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CDC"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Center  for Disease Control)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Michael Belkin, -  Congresso USA, 18-05-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151920"/>
            <a:ext cx="8701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Lobbies ed Industrie Pilotano gli studi medico-scientifici - 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”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Tutte l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Raccomandazioni Ufficiali Americane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proposito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elle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Vaccinazioni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sono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Inquinat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senza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speranza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all'intreccio di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Interessi esistent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fr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Ditte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produttrici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i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vaccini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'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Accademia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merican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Pediatri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ed il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e5e500"/>
                </a:solidFill>
                <a:latin typeface="Arial"/>
                <a:ea typeface="Arial"/>
              </a:rPr>
              <a:t>CDC"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Center for Disease Control)</a:t>
            </a:r>
            <a:br>
              <a:rPr sz="2400"/>
            </a:br>
            <a:br>
              <a:rPr sz="24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By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Michael Belkin, -  Congresso USA, 18-05-19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A2A-D56A-44AC-BF5C-4262890F42C3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420-A0A2-401C-A486-9B1C1857ADC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2EF2-8A2C-43A3-97CF-30A6AF08EBC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9C93-711E-4B13-A6DE-BF8E44D0845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15328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i,  è un Business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e500"/>
                </a:solidFill>
                <a:latin typeface="Arial"/>
              </a:rPr>
              <a:t>CONTENUTO dei VACCIN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luminium - Calf serum - Fetal bovine serum - Formaldehyde - Hydrolyzed gelatin - Lactose - Monosodium glutamate (MSG) - Neomycin - Phenol - Streptomycin - Sucrose - Thimerosal (49.9% Mercury, in fase di eliminazione) - Yeast - MRC-5 cells: DNA and protein (aborted fetal tissue cells),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e molto altro..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Che facciano bene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è tutto da dimostrar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1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Che facciano male, invece, in molti casi è cert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1 -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Espongono l'organismo a un rischio enorme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immettendo il virus direttamente nel sangue (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senza che siano state attivate le difese locali e fagocitari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), non fa altro che realizzare proprio ciò che il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corpo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si sforza di evitar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: offre al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virus vaccinale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accesso libero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ed indisturbat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ai sistemi (neurologico, endocrino, ecc) più delicati e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vulnerabili dell'organism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2 -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Fanno crollare le difese immunitari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"Un vaccino oltre ad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alterare la Flora Batteric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Intestinale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diminuisc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l'immunità mediata da linfociti del 40%,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due vaccini insieme del 60% - e ormai sono una norma 5 vaccini nella stessa iniezione"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anzi si è già passati addirittura a 6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    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9-28T18:44:25Z</dcterms:modified>
  <cp:revision>310</cp:revision>
  <dc:subject/>
  <dc:title>Presentazione di PowerPoint</dc:title>
</cp:coreProperties>
</file>