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849F44B-F4CB-492C-90A5-DCD5840B98F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A80D-2A47-4B4A-8D74-C4DEE3DD5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B455-99EC-4B1F-B6E7-5AC540E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1BD7-8288-4007-8B58-E58F9385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AC0-A890-4391-B351-1E310F58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AB5-C4AC-411C-B580-82DCB001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86F-9304-4FE0-B1CA-07CEA389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2A64-CA24-4375-AA3E-6B5463C1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941-B03C-4135-85E4-EDA98455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3974-447F-42F5-970D-75E734AA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BE8-9455-4C83-B8E0-6A8DDFDA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CE6-7DB7-45A7-9552-9D59008F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FB4-5574-4D68-A00D-42102B7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FB6159-02A6-4EEC-9735-8371A5FA1844}" type="slidenum">
              <a:rPr b="0" lang="es-ES_tradnl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roswebgratis.com/imagenes_foros/7/7/4/6/1/559801interrogante.bmp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e3ebf1"/>
                </a:solidFill>
                <a:latin typeface="Trebuchet MS"/>
              </a:rPr>
              <a:t>L’affare dell’influenza A</a:t>
            </a:r>
            <a:r>
              <a:rPr b="0" lang="es-ES_tradnl" sz="44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PANDEMIA DEL GUADAGNO</a:t>
            </a: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Quali interessi economici si muovono dietro l’influenza suina (influenza A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4329000"/>
            <a:ext cx="4541760" cy="227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ditt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rebuchet MS"/>
              </a:rPr>
              <a:t>farmaceutica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internazionale </a:t>
            </a:r>
            <a:r>
              <a:rPr b="0" lang="es-ES_tradnl" sz="2800" spc="-1" strike="noStrike">
                <a:solidFill>
                  <a:srgbClr val="ff3300"/>
                </a:solidFill>
                <a:latin typeface="Trebuchet MS"/>
              </a:rPr>
              <a:t>Roch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col suo famoso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Tamiflú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ha venduto milioni di dosi ai paesi asiatic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Benché il Tamiflú fosse di dubbia efficacia, il governo britannico compró 14 milioni di dosi per la prevenzione della sua popolazion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Con l’influenza dei polli, Roche e Relenza, le due grandi case farmaceutiche che vendono gli antivirali, ottennero 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migliaia di milioni di dollari di guadagno.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80000" y="1268280"/>
            <a:ext cx="2087280" cy="1859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732720" y="6021360"/>
            <a:ext cx="653760" cy="836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732720" y="1700280"/>
            <a:ext cx="1100160" cy="1125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549680" cy="6264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ima con i polli e adesso con i </a:t>
            </a:r>
            <a:r>
              <a:rPr b="0" lang="es-ES_tradnl" sz="2800" spc="-1" strike="noStrike">
                <a:solidFill>
                  <a:srgbClr val="ff3300"/>
                </a:solidFill>
                <a:latin typeface="Arial"/>
              </a:rPr>
              <a:t>maiali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í!!!!, ora è cominciata la psicosi 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0e500"/>
                </a:solidFill>
                <a:latin typeface="Arial"/>
              </a:rPr>
              <a:t>L’influenza suina </a:t>
            </a:r>
            <a:r>
              <a:rPr b="0" lang="es-ES_tradnl" sz="3200" spc="-1" strike="noStrike">
                <a:solidFill>
                  <a:srgbClr val="f0e500"/>
                </a:solidFill>
                <a:latin typeface="Arial"/>
              </a:rPr>
              <a:t>(influenza A)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 tutte le notizie del mon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rlano solo di questo…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28840" y="765000"/>
            <a:ext cx="2495520" cy="3168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Però non si dice niente della crisi economica né dei disoccupati nel mondo, né dei conflitti armat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olo l’influenza suina, l’influenza dei maiali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mi domando: se dietro i polli c’era un “gallo”… dietro i maiali… non ci sarà un “gran maiale”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419640" y="4546440"/>
            <a:ext cx="2489040" cy="2195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640" y="-360"/>
            <a:ext cx="8229600" cy="68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uardiamo quello che dice un esecut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ei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laboratori Roche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OCHE –R-</a:t>
            </a:r>
            <a:r>
              <a:rPr b="1" lang="es-ES_tradnl" sz="2400" spc="-1" strike="noStrike">
                <a:solidFill>
                  <a:srgbClr val="ffffff"/>
                </a:solidFill>
                <a:latin typeface="Trebuchet MS"/>
              </a:rPr>
              <a:t>: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A noi preoccupa molto questa epidemia, tanto dolore… perciò, mettiamo in vendita il miracoloso Tamiflú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IORNALISTA –P-: E a quanto venderete il “miracoloso ” Tamiflú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-: Bene, vediamo… 50 dollari la scato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-: 50 dollari una scatola di pasticch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R-: Capisce, signora, che… i miracoli s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agano car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–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P-: Quello che capisco è che ques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mprese avranno una buon incasso d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olore altrui…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093080" y="3933720"/>
            <a:ext cx="1796760" cy="239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Benché Roche riconosce di non avere la capacità per soddisfare la domanda mondiale di questa medicina, </a:t>
            </a:r>
            <a:r>
              <a:rPr b="1" lang="es-ES_tradnl" sz="2400" spc="-1" strike="noStrike">
                <a:solidFill>
                  <a:srgbClr val="f0e500"/>
                </a:solidFill>
                <a:latin typeface="Trebuchet MS"/>
              </a:rPr>
              <a:t>rifiuta di permettere che le ditte specializzate nel generico producano il farmaco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. I guadagni per Roche promettono di essere astronomic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Questa ditta ha una storia nera in materia di responsabilità sociale. Fin dagli anni sessanta è stata coinvolta in scandali di superfatturazione, manipolazione dei prezzi e concorrenza sleale. Sette anni fa gli Stati Uniti e l’Unione Europea le imposero una multa di 500 milioni di dollari. Più recentemente Roche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ha bloccato gli sforzi del Sudafrica per produrre una versione a basso costo dei suoi farmaci anti-HIV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, minacciando di far causa a quel governo se avesse invaso la sua licen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ditta nordamericana Gilead Sciences ha il brevetto del Tamiflú. Il principale azionista di questa ditta è niente di meno che un personaggio sinistro, Donald Rumsfeld, segretario della difesa del tanto male considerato George Bush, artefice della guerra contro l’Irak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90920" y="36576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7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Gli azionisti delle case farmaceutiche Roche e Relenza stanno fregandosi le mani, sono felici per le loro vendite nuovamente milionarie con il </a:t>
            </a:r>
            <a:r>
              <a:rPr b="0" lang="es-ES_tradnl" sz="2400" spc="-1" strike="noStrike">
                <a:solidFill>
                  <a:srgbClr val="f0e500"/>
                </a:solidFill>
                <a:latin typeface="Trebuchet MS"/>
              </a:rPr>
              <a:t>dubbio Tamiflú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. La vera pandemia è il lucro, gli enormi guadagni di questi mercenari della salute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Perché dubbi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erie indagini fanno notare che il  TAMIFLU (farmaco che dicono curi l’influenza) comunque non ha ricevuto l’approvazione del miglior laboratorio di indagini dell’EEUU perché ha effetti collaterali e seri disturbi, specialmente nei bambini (provoca: convulsioni, delirio o allucinazioni, problemi neuropsichiatrici e infezioni cerebrali).</a:t>
            </a:r>
            <a:br>
              <a:rPr sz="2400"/>
            </a:b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 Giappone provocò la morte di 14 bambini e fu proib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48000" y="2781360"/>
            <a:ext cx="2521080" cy="1120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2352600" cy="104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6372360" y="2060640"/>
            <a:ext cx="2352600" cy="10461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8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In estate sono stati elencati i primi vaccini contro l’influenza A per essere testati... Hey! Non era che lo sviluppo di un vaccino adeguato richiedeva anni di sperimentazione e prove clinich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Non sará che l’influenza suina non è più di un’influenza e che non è pericolosa? Non sará che ...? Continuate vo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Esisteranno sempre minacce di pandemie di influenza, reali o create, e ci saranno sempre vaccini potenzialmente tossici che sono venduti come soluzio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Comunque, il fatto è che la normale influenza in questo momento è molto più pericolosa dell’influenza suina e, </a:t>
            </a:r>
            <a:r>
              <a:rPr b="1" lang="es-ES_tradnl" sz="2400" spc="-1" strike="noStrike">
                <a:solidFill>
                  <a:srgbClr val="f0e500"/>
                </a:solidFill>
                <a:latin typeface="Trebuchet MS"/>
              </a:rPr>
              <a:t>vi siete occupati da vicino della comune influenza prima che i media cominciassero a parlare dell’influenza  A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Ma è quello che il marketing dell’influenza suina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distrugge tut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’influenza si cura entro due settimane, idratazione, paracetamolo e riposo (una zuppa calda o un té al limone anche aiutano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e persone morte per l’influenza A, come quelle per l’influenza comune, hanno altri fattori di rischio e debilitazione che aggravano il loro stato e ne causano la mort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64000" y="1557360"/>
            <a:ext cx="2457720" cy="2685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Trebuchet MS"/>
              </a:rPr>
              <a:t>MALARI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Nel mondo ogni anno muoiono due milioni di persone vittime della malaria che si potrebbe prevenire con una zanzarier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i notiziari non dicono nulla di questo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16360" y="4443480"/>
            <a:ext cx="3024000" cy="2225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360" y="-360"/>
            <a:ext cx="8229600" cy="720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rebuchet MS"/>
              </a:rPr>
              <a:t>Non neghiamo le necessarie misure di precauzione che stanno prendendo gli Stat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rebuchet MS"/>
              </a:rPr>
              <a:t>Ma se l’influenza suina è una pandemia così terribile come annunciano i mezzi di comunicazione, se alla OMS preoccupa tanto questa malattia,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perché non dichiara che è un problema di salute pubblica mondiale e autorizza la produzione del farmaco generico per combatterla?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708360" y="3267000"/>
            <a:ext cx="1871640" cy="160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411280" y="2852640"/>
            <a:ext cx="4762800" cy="35146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’effetto PANICO. Le foto nelle prime pagine dei giprnali, i marchi di organismi di salute e la pubblicità occulta nelle strade = Paura = Strumenti del marketing per vendere vaccini / antivirali =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AFFAR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Ignorare il brevetto di Roche e Relenza e distribuire il farmaco generico gratuitamente a tutti i paesi, specialmente quelli pover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Questa sarebbe la migliore soluzi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a questo non è un </a:t>
            </a:r>
            <a:r>
              <a:rPr b="1" lang="es-ES_tradnl" sz="3200" spc="-1" strike="noStrike">
                <a:solidFill>
                  <a:srgbClr val="ff3300"/>
                </a:solidFill>
                <a:latin typeface="Arial"/>
              </a:rPr>
              <a:t>AFFARE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Dopo aver detto tutto più chiaramente, ho una riflessione alla quale mi piacerebbe che si aggiungessero più person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Alle autorità chiedo per favore ch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51280" y="2133720"/>
            <a:ext cx="1531800" cy="2041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484360" y="5373720"/>
            <a:ext cx="1447920" cy="10875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189000"/>
            <a:ext cx="5562720" cy="666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711440" y="0"/>
            <a:ext cx="572292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ffff"/>
                </a:solidFill>
                <a:latin typeface="Trebuchet MS"/>
              </a:rPr>
              <a:t>MANDA QUESTO MESSAGGIO A TUTTI, COME SE SI TRATTASSE DI UN VACCINO AFFINCHÈ TUTTI CONOSCANO LA REALTA’ DI QUESTA “PANDEMIA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Trebuchet MS"/>
              </a:rPr>
              <a:t>DIARREA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5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Nel mondo ogni anno muoiono</a:t>
            </a: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due milioni di bambini e bambine di diarrea, che si potrebbe curare con un siero orale da 25 centesim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i notiziari non dicono nulla di ques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08360" y="1341360"/>
            <a:ext cx="1563840" cy="2189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orbillo, polmonite, malattie curabili con vaccini a basso costo, provocano la morte di dieci milioni di persone nel mondo ogni ann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E i notiziari non ne danno notizia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ò anni fa, quando è apparsa la famosa influenza aviaria…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90920" y="3141720"/>
            <a:ext cx="4286160" cy="2533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53964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…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i notiziari mondiali sono stati inondati di notizie… fiumi di inchiostro, segnali di allarm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Una epidemia, la più pericolosa di tutte!... Una pandem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Si parlava solo della terrificante malattia dei polli.</a:t>
            </a: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24360" y="3573360"/>
            <a:ext cx="1468440" cy="1463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E comunque, l’influenza aviaria ha provocato solo la morte di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250 pers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in tutto il mondo. 250 morti in 10 anni, che fa una media di  25 vittime all’anno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La comune influenza uccide </a:t>
            </a:r>
            <a:r>
              <a:rPr b="1" lang="es-ES_tradnl" sz="2800" spc="-1" strike="noStrike">
                <a:solidFill>
                  <a:srgbClr val="f0e500"/>
                </a:solidFill>
                <a:latin typeface="Trebuchet MS"/>
              </a:rPr>
              <a:t>mezzo milione di pers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ogni anno nel mond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Mezzo milione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 contro </a:t>
            </a:r>
            <a:r>
              <a:rPr b="0" lang="es-ES_tradnl" sz="2800" spc="-1" strike="noStrike">
                <a:solidFill>
                  <a:srgbClr val="f0e500"/>
                </a:solidFill>
                <a:latin typeface="Trebuchet MS"/>
              </a:rPr>
              <a:t>25</a:t>
            </a: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79064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Un momento, un momento !!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Allora, perché suscitò tanto scalpore l’influenza dei polli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3789360"/>
            <a:ext cx="1374840" cy="13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ché dietro quei polli c’è un “gallo”, un gallo con un grande sper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998800" cy="2209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07:58:47Z</dcterms:created>
  <dc:creator>Administrador</dc:creator>
  <dc:description/>
  <dc:language>en-US</dc:language>
  <cp:lastModifiedBy>Aldo Pozzoli</cp:lastModifiedBy>
  <dcterms:modified xsi:type="dcterms:W3CDTF">2009-10-03T08:50:42Z</dcterms:modified>
  <cp:revision>34</cp:revision>
  <dc:subject/>
  <dc:title>El negocio de la gripe A </dc:title>
</cp:coreProperties>
</file>