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0B1D-5B47-4557-9459-A998B990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7FB-C1D5-4BD9-BC55-B94C4936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0CE-4024-4240-96D0-FAC0EC45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F0F2-C7D4-4EA7-A785-976FB41C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FAC4-B985-4AA5-92F7-FDE51F9A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04D-C678-4E33-B4B0-580DD42C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12C8-1741-42B6-B163-8494C9D8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0873-56C7-47CA-B426-98F1CFD3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06B7-F957-4D19-B93C-D0E35EF0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AA3-30C5-46C7-ADFB-2BF6DBA6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DC0-23E5-40DB-9FF7-D4EC61D9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2E4E-C8EC-49EC-B157-22674EA8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F0F1-8ACD-4A45-B95C-2ADA26AE6A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Placeholder 10" descr="1115.jpg"/>
          <p:cNvPicPr/>
          <p:nvPr/>
        </p:nvPicPr>
        <p:blipFill>
          <a:blip r:embed="rId1"/>
          <a:srcRect l="2398" t="0" r="239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85480" y="214200"/>
            <a:ext cx="608652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auphin"/>
              </a:rPr>
              <a:t>Buon Khar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Dauphin"/>
              </a:rPr>
              <a:t>Questa è una piacevole, ma breve lettura .  Godila!  E’ ciò che il Dalai Lama  disse per il 2008.  Richiede pochi istanti per leggerla e di più per pensare.  Non tenere questo messaggio.  Il mantra deve lasciare le tue mani entro 96 ore.  Avrai una sorpresa davvero piacevole.  Questo è vero per tutti ~ anche se non sei superstizioso ~ o in qualsiasi religione credi…………Fiducia…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Enya - Boadice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Placeholder 6" descr="tigercubs.jpg"/>
          <p:cNvPicPr/>
          <p:nvPr/>
        </p:nvPicPr>
        <p:blipFill>
          <a:blip r:embed="rId1"/>
          <a:srcRect l="0" t="239" r="0" b="2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928840" y="213840"/>
            <a:ext cx="2922840" cy="22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Apri le tue braccia per cambiare, ma non rinunciare ai tuoi valor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Placeholder 6" descr="124.jpg"/>
          <p:cNvPicPr/>
          <p:nvPr/>
        </p:nvPicPr>
        <p:blipFill>
          <a:blip r:embed="rId1"/>
          <a:srcRect l="5417" t="0" r="541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85480" y="3785760"/>
            <a:ext cx="828684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icorda che il silenzio a volte è la migliore rispos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Placeholder 4" descr="orca9.jpg"/>
          <p:cNvPicPr/>
          <p:nvPr/>
        </p:nvPicPr>
        <p:blipFill>
          <a:blip r:embed="rId1"/>
          <a:srcRect l="0" t="11520" r="0" b="115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328608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Vivi una vita buona e onorata.  Così quando invecchierai e penserai al passato, sarai capace di goderne una seconda vol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Placeholder 4" descr="871.jpg"/>
          <p:cNvPicPr/>
          <p:nvPr/>
        </p:nvPicPr>
        <p:blipFill>
          <a:blip r:embed="rId1"/>
          <a:srcRect l="0" t="3126" r="0" b="312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85840" y="500040"/>
            <a:ext cx="32083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Un’atmosfera amorevole  nella tua casa  è il fondamento della tua vi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Placeholder 8" descr="339.jpg"/>
          <p:cNvPicPr/>
          <p:nvPr/>
        </p:nvPicPr>
        <p:blipFill>
          <a:blip r:embed="rId1"/>
          <a:srcRect l="5309" t="0" r="5309" b="0"/>
          <a:stretch/>
        </p:blipFill>
        <p:spPr>
          <a:xfrm>
            <a:off x="0" y="-30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71680" y="499680"/>
            <a:ext cx="34225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In disaccordo con qualcuno che ami, tratta solamente della situazione attuale.  Non tirar fuori il passa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Placeholder 6" descr="224.jpg"/>
          <p:cNvPicPr/>
          <p:nvPr/>
        </p:nvPicPr>
        <p:blipFill>
          <a:blip r:embed="rId1"/>
          <a:srcRect l="0" t="19063" r="0" b="1906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285480"/>
            <a:ext cx="277956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Condividi la tua conoscenza.  E’ un modo per raggiungere l’immortalit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Placeholder 6" descr="611.jpg"/>
          <p:cNvPicPr/>
          <p:nvPr/>
        </p:nvPicPr>
        <p:blipFill>
          <a:blip r:embed="rId1"/>
          <a:srcRect l="5779" t="0" r="577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71760" y="200016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Sii gentile con la Ter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Placeholder 6" descr="wier-HDR-400.jpg"/>
          <p:cNvPicPr/>
          <p:nvPr/>
        </p:nvPicPr>
        <p:blipFill>
          <a:blip r:embed="rId1"/>
          <a:srcRect l="0" t="3130" r="0" b="313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14800" y="58579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Una volta all’anno, vai in un posto che non hai mai vis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Placeholder 4" descr="nature_scenery.jpg"/>
          <p:cNvPicPr/>
          <p:nvPr/>
        </p:nvPicPr>
        <p:blipFill>
          <a:blip r:embed="rId1"/>
          <a:srcRect l="5601" t="0" r="560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1714680" y="4785840"/>
            <a:ext cx="5486400" cy="18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Ricorda che la migliore relazione è quella in cui l’amore per l’altro supera il bisogno dell’alt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Placeholder 10" descr="455.jpg"/>
          <p:cNvPicPr/>
          <p:nvPr/>
        </p:nvPicPr>
        <p:blipFill>
          <a:blip r:embed="rId1"/>
          <a:srcRect l="0" t="3125" r="0" b="31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28760" y="1928520"/>
            <a:ext cx="335736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Valuta il tuo successo da quello che devi lasciare allo scopo di ottener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Placeholder 6" descr="Gorilla.jpg"/>
          <p:cNvPicPr/>
          <p:nvPr/>
        </p:nvPicPr>
        <p:blipFill>
          <a:blip r:embed="rId1"/>
          <a:srcRect l="3064" t="0" r="306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785840" y="285480"/>
            <a:ext cx="400068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Tieni conto che il grande amore e  le grandi conquiste implicano grande risch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Placeholder 5"/>
          <p:cNvSpPr/>
          <p:nvPr/>
        </p:nvSpPr>
        <p:spPr>
          <a:xfrm>
            <a:off x="1042920" y="6249960"/>
            <a:ext cx="4000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Vivi il tuo sog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Placeholder 6" descr="1407.jpg"/>
          <p:cNvPicPr/>
          <p:nvPr/>
        </p:nvPicPr>
        <p:blipFill>
          <a:blip r:embed="rId1"/>
          <a:srcRect l="5518" t="0" r="551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643720" y="285840"/>
            <a:ext cx="3208320" cy="206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Avvicina l’amore e la cucina con  sconsiderato abbando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Placeholder 4" descr="777.jpg"/>
          <p:cNvPicPr/>
          <p:nvPr/>
        </p:nvPicPr>
        <p:blipFill>
          <a:blip r:embed="rId1"/>
          <a:srcRect l="5523" t="0" r="5523" b="0"/>
          <a:stretch/>
        </p:blipFill>
        <p:spPr>
          <a:xfrm>
            <a:off x="0" y="-36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13840" y="785880"/>
            <a:ext cx="85726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Invia questo mantra ad almeno 5 persone e la tua vita migliorerà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0 – 4 people: la tua vita migliorerà leggermente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5 – 9 people: la tua vita migliorerà come deside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10 – 14 people: Avrai almeno 5 piacevoli sorprese nelle prossime 3 settima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15 o più persone : La tua vita migliorerà drasticamente e tutto quello che tu avevi mai sognato inizierà a prendere form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Non tenere questo messaggio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Questo mantra deve lasciare le tue mani entro 96 o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uphin"/>
              </a:rPr>
              <a:t>Avrai una sopresa veramente piacevo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Placeholder 12" descr="11.jpg"/>
          <p:cNvPicPr/>
          <p:nvPr/>
        </p:nvPicPr>
        <p:blipFill>
          <a:blip r:embed="rId1"/>
          <a:srcRect l="5425" t="0" r="54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143840" y="213840"/>
            <a:ext cx="20001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Quando perd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non perdere la lezione ……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Placeholder 10" descr="pretty pic 28.jpg"/>
          <p:cNvPicPr/>
          <p:nvPr/>
        </p:nvPicPr>
        <p:blipFill>
          <a:blip r:embed="rId1"/>
          <a:srcRect l="7172" t="0" r="717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560" y="3716280"/>
            <a:ext cx="58021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Segui le tre 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ispetto per te stesso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ispetto per gli altri 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esponsabilità per tutte le tue azion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Placeholder 4" descr="pretty pic 25.jpg"/>
          <p:cNvPicPr/>
          <p:nvPr/>
        </p:nvPicPr>
        <p:blipFill>
          <a:blip r:embed="rId1"/>
          <a:stretch/>
        </p:blipFill>
        <p:spPr>
          <a:xfrm>
            <a:off x="0" y="0"/>
            <a:ext cx="9175680" cy="68817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00360" y="3857760"/>
            <a:ext cx="449388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Ricorda che non ottenere ciò che vuoi  a volte è un meraviglioso colpo di fortu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Placeholder 10" descr="143.jpg"/>
          <p:cNvPicPr/>
          <p:nvPr/>
        </p:nvPicPr>
        <p:blipFill>
          <a:blip r:embed="rId1"/>
          <a:srcRect l="0" t="3124" r="0" b="312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00760" y="1282320"/>
            <a:ext cx="356544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f1de"/>
                </a:solidFill>
                <a:latin typeface="Dauphin"/>
              </a:rPr>
              <a:t>Impara le regole così potrai romperle correttamen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Placeholder 8" descr="pretty pic 26.jpg"/>
          <p:cNvPicPr/>
          <p:nvPr/>
        </p:nvPicPr>
        <p:blipFill>
          <a:blip r:embed="rId1"/>
          <a:srcRect l="0" t="78" r="0" b="7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14200" y="2499840"/>
            <a:ext cx="4857840" cy="13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Dauphin"/>
              </a:rPr>
              <a:t>Non lasciare che una piccola disputa offenda una grande relazi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Placeholder 16" descr="1.jpg"/>
          <p:cNvPicPr/>
          <p:nvPr/>
        </p:nvPicPr>
        <p:blipFill>
          <a:blip r:embed="rId1"/>
          <a:srcRect l="5554" t="0" r="5554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29040" y="214200"/>
            <a:ext cx="492912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Dauphin"/>
              </a:rPr>
              <a:t>Quando ti accorgi di aver fatto un errore, fai dei passi immediati per correggerl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Placeholder 6" descr="32.jpg"/>
          <p:cNvPicPr/>
          <p:nvPr/>
        </p:nvPicPr>
        <p:blipFill>
          <a:blip r:embed="rId1"/>
          <a:srcRect l="5625" t="0" r="56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000080" y="2499840"/>
            <a:ext cx="3208320" cy="12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auphin"/>
              </a:rPr>
              <a:t>Passa del tempo da solo ogni gior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05:11:11Z</dcterms:created>
  <dc:creator>Mary-Ann</dc:creator>
  <dc:description/>
  <dc:language>en-US</dc:language>
  <cp:lastModifiedBy>Fabia Isella Polo</cp:lastModifiedBy>
  <dcterms:modified xsi:type="dcterms:W3CDTF">2008-12-10T12:02:23Z</dcterms:modified>
  <cp:revision>15</cp:revision>
  <dc:subject/>
  <dc:title>Slide 1</dc:title>
</cp:coreProperties>
</file>