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FF70-A3C6-49B1-8542-0F7A06055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FA8-5DD7-4079-97E5-F1841B19B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71EA-FC7F-4EDC-8B23-5861B60A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9439-E4C3-4852-ABD9-24DA7769B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4CD1-C228-46D5-9AFE-D3D971E65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121B-C982-4C44-91F4-6553AA04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5CA-B529-463E-B05A-855021DCA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4C2-DE86-40EE-8656-DB8DDE97F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D61-AAC6-45C6-8F92-408E3ACD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120-EE87-439C-B154-27C9324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4BD-8A75-4FD9-BCE9-D45A90E5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40A-68A3-4E23-8490-E82605F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F52-8DE1-4E5A-A885-04DCE4E0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82D-F12A-4B39-BD47-24079DA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CB2-0882-4637-9BB8-700E29CF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8D3-EF28-42A0-B1F1-46E94CC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6A9-E4DC-4B3F-B4AD-7CC49F5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CB9-0C92-43C4-831E-16D4433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6FA-A4C6-4921-A1AD-140323F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2E9-4B70-4790-96F5-AB33C095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FEC-FA04-43DD-978B-51AC2FA3A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428840" y="1020600"/>
            <a:ext cx="6229440" cy="46152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500040" y="285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LA TUA RELIGIONE NON HA ALCUNA IMPOR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57240" y="5786280"/>
            <a:ext cx="49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Leonardo è uno dei  rinnovatori della Teologia della Libertà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38560" y="1714680"/>
            <a:ext cx="372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Ecco un breve dialogo 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Leonardo Boff, un te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brasiliano e il grande Dalai L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214880" y="1000080"/>
            <a:ext cx="4233960" cy="4575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88600" y="1143000"/>
            <a:ext cx="351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In una discussion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roposito della religion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della libertà alla quale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Dalai Lama e io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artecipavamo, gli ho p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maliziosamente,  durant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ausa, una do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che mi sembrava mo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« Sua Santità, sec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lei, quale è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religione migliore?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571760" y="1357200"/>
            <a:ext cx="5581440" cy="391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2880" y="357120"/>
            <a:ext cx="840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Pensavo che avrebbe risposto:  </a:t>
            </a: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« Il buddhismo tibetano »  o « Le reli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orientali  molto più antiche del cristianesimo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Il Dalai Lama si è fermato, mi ha sorriso e, guardandomi fisso negli occhi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57120" y="528624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sorprendendomi, perché sapevo che la mia domanda era maliziosa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«  La religione migliore è quella che ti avvicina a Dio.  È quella che fa di te un uomo migliore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487440" y="1071720"/>
            <a:ext cx="4524120" cy="480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304240" y="642960"/>
            <a:ext cx="3791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Per uscire dal mio imbarazz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opo una risposta così pi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 saggezza, gli chiesi allor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« Che cosa ci rende migliori?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Ris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« Tutto ciò che ti riempi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compassi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che ti rende più sensi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distacc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ama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um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responsa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rispettoso dell’etica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La religione che farà tutto q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er te, è la religione migliore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5000760" y="785880"/>
            <a:ext cx="3684600" cy="511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434880" y="857160"/>
            <a:ext cx="4444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Sono rimasto in silenzio per un att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Ero stupito, e lo sono tutt’o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Quando ripenso alla sua risp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piena di saggezza e così irrefuta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Amico mio, non mi inte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la tua religione e nem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se sei religioso o n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Per me, ciò che conta è come ti co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con gli altri, con la t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famiglia,  con i tuoi collegh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con la tua comunità e con tutti qu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Ricordati che l’universo è l’éco 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nostre azioni e dei nostri pensieri.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58440" y="428760"/>
            <a:ext cx="877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La legge di Azione - Reazione non è un’esclusiva della Fisic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ma riguarda anche le nostre azioni e reazioni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Se agisci con bontà, riceverai bontà.  Se agisci con cattiveria, riceverai cattiveria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391400" y="5214960"/>
            <a:ext cx="539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Ciò che i nostri  nonni ci dicevano è pura ver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raccoglierai sempre quello che  hai semi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Essere felici non è un fatto di destino, è un fa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di scelte e di  conseguenze 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309960" y="428760"/>
            <a:ext cx="6984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Alla fine diss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« Attento ai tuoi pensieri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Parole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Attento alle tue parole perché diventeranno </a:t>
            </a:r>
            <a:r>
              <a:rPr b="1" i="1" lang="fr-CA" sz="1800" spc="-1" strike="noStrike">
                <a:solidFill>
                  <a:srgbClr val="00ffff"/>
                </a:solidFill>
                <a:latin typeface="Arial"/>
              </a:rPr>
              <a:t>Azioni</a:t>
            </a: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le tue parole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Abitudini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le tue abitudini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Carattere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 tuo carattere perché formerà il tu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Destino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E il tuo destino sara la tua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Vita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                                              …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178560" y="58579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Arial"/>
              </a:rPr>
              <a:t>« Non esiste religione più grande della Verità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790360" y="6286680"/>
            <a:ext cx="31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Traduzione:  </a:t>
            </a:r>
            <a:r>
              <a:rPr b="1" i="1" lang="fr-CA" sz="1800" spc="-1" strike="noStrike">
                <a:solidFill>
                  <a:srgbClr val="ffffff"/>
                </a:solidFill>
                <a:latin typeface="Calibri"/>
              </a:rPr>
              <a:t>Daniela Bortolu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9:42:27Z</dcterms:created>
  <dc:creator>Misteria</dc:creator>
  <dc:description/>
  <dc:language>en-US</dc:language>
  <cp:lastModifiedBy>Misteria</cp:lastModifiedBy>
  <dcterms:modified xsi:type="dcterms:W3CDTF">2010-10-09T09:44:05Z</dcterms:modified>
  <cp:revision>1</cp:revision>
  <dc:subject/>
  <dc:title>Diapositiva 1</dc:title>
</cp:coreProperties>
</file>