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..wav" ContentType="audio/x-wav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18F4-5F90-4738-843C-B9A411804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F248-2B64-4AE3-A738-3B3C20DBD8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70D1-0D41-4517-8018-44E8256B7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9AF0-3EF2-45C4-82DC-F331E126D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3C76-0571-4ED6-B75A-8B832DC20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5B42-665D-472A-991B-416E8EA9B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5575-78EC-47A3-B97E-A3049DB2B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AA48-3161-435B-8159-E3937C3B3F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3C5B-2CAA-4CBC-9513-3DD34312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30A-F0B2-4386-865E-279A71D4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988-2ED4-402F-9B65-2E2BBE77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5A85-DAA0-48CC-964F-F801A8B2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48E3-F391-4C9A-B54F-F4167D0D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4906-998E-4E4B-AAEA-3C697D72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B1A1-9325-4CB7-BD15-B623BF06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0467-1636-417A-8CF5-442808C7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AA3-DCF1-409B-ACF7-DF112DE93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F9D-8B78-4B7C-8385-F3708CF8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12F-65BA-4DC4-A06A-CC077425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84CC-7E33-44C8-B8B3-92536D7A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D355-DD2B-443F-A2D3-2A1C8950D5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.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RAUL RIVERA\Music\dalai lama leonardo boff 02.jpg"/>
          <p:cNvPicPr/>
          <p:nvPr/>
        </p:nvPicPr>
        <p:blipFill>
          <a:blip r:embed="rId1"/>
          <a:stretch/>
        </p:blipFill>
        <p:spPr>
          <a:xfrm>
            <a:off x="1428840" y="1020600"/>
            <a:ext cx="6229440" cy="4615200"/>
          </a:xfrm>
          <a:prstGeom prst="rect">
            <a:avLst/>
          </a:prstGeom>
          <a:ln w="0">
            <a:noFill/>
          </a:ln>
        </p:spPr>
      </p:pic>
      <p:sp>
        <p:nvSpPr>
          <p:cNvPr id="49" name="2 Rectángulo"/>
          <p:cNvSpPr/>
          <p:nvPr/>
        </p:nvSpPr>
        <p:spPr>
          <a:xfrm>
            <a:off x="1285920" y="547380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4 CuadroTexto"/>
          <p:cNvSpPr/>
          <p:nvPr/>
        </p:nvSpPr>
        <p:spPr>
          <a:xfrm>
            <a:off x="500040" y="28584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 u="sng">
                <a:solidFill>
                  <a:srgbClr val="000000"/>
                </a:solidFill>
                <a:uFillTx/>
                <a:latin typeface="Arial"/>
              </a:rPr>
              <a:t>LA TUA RELIGIONE NON HA ALCUNA IMPORT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857240" y="5786280"/>
            <a:ext cx="492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Leonardo è uno dei  rinnovatori della Teologia della Libertà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38560" y="1714680"/>
            <a:ext cx="372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eeece1"/>
                </a:solidFill>
                <a:latin typeface="Calibri"/>
              </a:rPr>
              <a:t>Ecco un breve dialogo 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eeece1"/>
                </a:solidFill>
                <a:latin typeface="Calibri"/>
              </a:rPr>
              <a:t>Leonardo Boff, un teo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eeece1"/>
                </a:solidFill>
                <a:latin typeface="Calibri"/>
              </a:rPr>
              <a:t>brasiliano e il grande Dalai Lam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  <p:sndAc>
      <p:stSnd>
        <p:snd r:embed="rId2" name=".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RAUL RIVERA\Music\dalai lama leonardo boff 01.jpg"/>
          <p:cNvPicPr/>
          <p:nvPr/>
        </p:nvPicPr>
        <p:blipFill>
          <a:blip r:embed="rId1"/>
          <a:srcRect l="18014" t="0" r="5880" b="0"/>
          <a:stretch/>
        </p:blipFill>
        <p:spPr>
          <a:xfrm>
            <a:off x="4214880" y="1000080"/>
            <a:ext cx="4233960" cy="4575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588600" y="1143000"/>
            <a:ext cx="351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In una discussione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proposito della religione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della libertà alla quale 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Dalai Lama e io st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partecipavamo, gli ho pos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maliziosamente,  durante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pausa, una do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che mi sembrava mol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00"/>
                </a:solidFill>
                <a:latin typeface="Arial"/>
              </a:rPr>
              <a:t>import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ff"/>
                </a:solidFill>
                <a:latin typeface="Arial"/>
              </a:rPr>
              <a:t>« Sua Santità, seco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ff"/>
                </a:solidFill>
                <a:latin typeface="Arial"/>
              </a:rPr>
              <a:t>lei, quale è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ff"/>
                </a:solidFill>
                <a:latin typeface="Arial"/>
              </a:rPr>
              <a:t>religione migliore?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E:\TUTOS\TALLER\MULTIMEDIA\Imágenes\dalai lama3.jpg"/>
          <p:cNvPicPr/>
          <p:nvPr/>
        </p:nvPicPr>
        <p:blipFill>
          <a:blip r:embed="rId1"/>
          <a:stretch/>
        </p:blipFill>
        <p:spPr>
          <a:xfrm>
            <a:off x="1571760" y="1357200"/>
            <a:ext cx="5581440" cy="3915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362880" y="357120"/>
            <a:ext cx="840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Pensavo che avrebbe risposto:  </a:t>
            </a:r>
            <a:r>
              <a:rPr b="1" i="1" lang="fr-CA" sz="1800" spc="-1" strike="noStrike">
                <a:solidFill>
                  <a:srgbClr val="ffffff"/>
                </a:solidFill>
                <a:latin typeface="Arial"/>
              </a:rPr>
              <a:t>« Il buddhismo tibetano »  o « Le relig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Arial"/>
              </a:rPr>
              <a:t>orientali  molto più antiche del cristianesimo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Il Dalai Lama si è fermato, mi ha sorriso e, guardandomi fisso negli occhi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57120" y="5286240"/>
            <a:ext cx="857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sorprendendomi, perché sapevo che la mia domanda era maliziosa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«  La religione migliore è quella che ti avvicina a Dio.  È quella che fa di te un uomo migliore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:\TUTOS\TALLER\MULTIMEDIA\Imágenes\dalai lama.jpg"/>
          <p:cNvPicPr/>
          <p:nvPr/>
        </p:nvPicPr>
        <p:blipFill>
          <a:blip r:embed="rId1"/>
          <a:stretch/>
        </p:blipFill>
        <p:spPr>
          <a:xfrm>
            <a:off x="487440" y="1071720"/>
            <a:ext cx="4524120" cy="4802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6"/>
          <p:cNvSpPr/>
          <p:nvPr/>
        </p:nvSpPr>
        <p:spPr>
          <a:xfrm>
            <a:off x="5304240" y="642960"/>
            <a:ext cx="37911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Per uscire dal mio imbarazz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dopo una risposta così pie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di saggezza, gli chiesi allor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ff"/>
                </a:solidFill>
                <a:latin typeface="Arial"/>
              </a:rPr>
              <a:t>« Che cosa ci rende migliori?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Ris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« Tutto ciò che ti riempi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compassio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che ti rende più sensib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iù distaccat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iù amab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iù uma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iù responsab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iù rispettoso dell’etica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La religione che farà tutto q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per te, è la religione migliore.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E:\TUTOS\TALLER\MULTIMEDIA\Imágenes\dalai lama2.jpg"/>
          <p:cNvPicPr/>
          <p:nvPr/>
        </p:nvPicPr>
        <p:blipFill>
          <a:blip r:embed="rId1"/>
          <a:stretch/>
        </p:blipFill>
        <p:spPr>
          <a:xfrm>
            <a:off x="5000760" y="785880"/>
            <a:ext cx="3684600" cy="5110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434880" y="857160"/>
            <a:ext cx="4444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Sono rimasto in silenzio per un atti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Ero stupito, e lo sono tutt’or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Quando ripenso alla sua risp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Calibri"/>
              </a:rPr>
              <a:t>piena di saggezza e così irrefutabi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« Amico mio, non mi inter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la tua religione e nemm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se sei religioso o n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Per me, ciò che conta è come ti co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con gli altri, con la tu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famiglia,  con i tuoi collegh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con la tua comunità e con tutti qua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Ricordati che l’universo è l’éco d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nostre azioni e dei nostri pensieri.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E:\TUTOS\TALLER\MULTIMEDIA\Imágenes\dalai lama -casa.jpg"/>
          <p:cNvPicPr/>
          <p:nvPr/>
        </p:nvPicPr>
        <p:blipFill>
          <a:blip r:embed="rId1"/>
          <a:srcRect l="0" t="35634" r="0" b="0"/>
          <a:stretch/>
        </p:blipFill>
        <p:spPr>
          <a:xfrm>
            <a:off x="743040" y="1989000"/>
            <a:ext cx="7630920" cy="31546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658440" y="428760"/>
            <a:ext cx="8771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« La legge di Azione - Reazione non è un’esclusiva della Fisic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ma riguarda anche le nostre azioni e reazioni um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Se agisci con bontà, riceverai bontà.  Se agisci con cattiveria, riceverai cattiveria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391400" y="5214960"/>
            <a:ext cx="5398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« Ciò che i nostri  nonni ci dicevano è pura verità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raccoglierai sempre quello che  hai semin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Essere felici non è un fatto di destino, è un fat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Calibri"/>
              </a:rPr>
              <a:t>di scelte e di  conseguenze .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E:\TUTOS\TALLER\MULTIMEDIA\Imágenes\dalai lama -casa.jpg"/>
          <p:cNvPicPr/>
          <p:nvPr/>
        </p:nvPicPr>
        <p:blipFill>
          <a:blip r:embed="rId1"/>
          <a:stretch/>
        </p:blipFill>
        <p:spPr>
          <a:xfrm>
            <a:off x="341280" y="428760"/>
            <a:ext cx="8373960" cy="5378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309960" y="428760"/>
            <a:ext cx="698400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Arial"/>
              </a:rPr>
              <a:t>Alla fine diss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« Attento ai tuoi pensieri perché diventeranno </a:t>
            </a:r>
            <a:r>
              <a:rPr b="1" i="1" lang="fr-CA" sz="2000" spc="-1" strike="noStrike">
                <a:solidFill>
                  <a:srgbClr val="00ffff"/>
                </a:solidFill>
                <a:latin typeface="Arial"/>
              </a:rPr>
              <a:t>Parole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Attento alle tue parole perché diventeranno </a:t>
            </a:r>
            <a:r>
              <a:rPr b="1" i="1" lang="fr-CA" sz="1800" spc="-1" strike="noStrike">
                <a:solidFill>
                  <a:srgbClr val="00ffff"/>
                </a:solidFill>
                <a:latin typeface="Arial"/>
              </a:rPr>
              <a:t>Azioni</a:t>
            </a:r>
            <a:r>
              <a:rPr b="1" i="1" lang="fr-CA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Attento alle tue parole perché diventeranno </a:t>
            </a:r>
            <a:r>
              <a:rPr b="1" i="1" lang="fr-CA" sz="2000" spc="-1" strike="noStrike">
                <a:solidFill>
                  <a:srgbClr val="00ffff"/>
                </a:solidFill>
                <a:latin typeface="Arial"/>
              </a:rPr>
              <a:t>Abitudini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Attento alle tue abitudini perché diventeranno </a:t>
            </a:r>
            <a:r>
              <a:rPr b="1" i="1" lang="fr-CA" sz="2000" spc="-1" strike="noStrike">
                <a:solidFill>
                  <a:srgbClr val="00ffff"/>
                </a:solidFill>
                <a:latin typeface="Arial"/>
              </a:rPr>
              <a:t>Carattere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Attento al tuo carattere perché formerà il tuo </a:t>
            </a:r>
            <a:r>
              <a:rPr b="1" i="1" lang="fr-CA" sz="2000" spc="-1" strike="noStrike">
                <a:solidFill>
                  <a:srgbClr val="00ffff"/>
                </a:solidFill>
                <a:latin typeface="Arial"/>
              </a:rPr>
              <a:t>Destino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E il tuo destino sara la tua </a:t>
            </a:r>
            <a:r>
              <a:rPr b="1" i="1" lang="fr-CA" sz="2000" spc="-1" strike="noStrike">
                <a:solidFill>
                  <a:srgbClr val="00ffff"/>
                </a:solidFill>
                <a:latin typeface="Arial"/>
              </a:rPr>
              <a:t>Vita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                                              …</a:t>
            </a:r>
            <a:r>
              <a:rPr b="1" i="1" lang="fr-CA" sz="2000" spc="-1" strike="noStrike">
                <a:solidFill>
                  <a:srgbClr val="ffff00"/>
                </a:solidFill>
                <a:latin typeface="Arial"/>
              </a:rPr>
              <a:t>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178560" y="5857920"/>
            <a:ext cx="80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00"/>
                </a:solidFill>
                <a:latin typeface="Arial"/>
              </a:rPr>
              <a:t>« Non esiste religione più grande della Verità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2790360" y="6286680"/>
            <a:ext cx="31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ffffff"/>
                </a:solidFill>
                <a:latin typeface="Calibri"/>
              </a:rPr>
              <a:t>Traduzione:  </a:t>
            </a:r>
            <a:r>
              <a:rPr b="1" i="1" lang="fr-CA" sz="1800" spc="-1" strike="noStrike">
                <a:solidFill>
                  <a:srgbClr val="ffffff"/>
                </a:solidFill>
                <a:latin typeface="Calibri"/>
              </a:rPr>
              <a:t>Daniela Bortoluzz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9T09:42:27Z</dcterms:created>
  <dc:creator>Misteria</dc:creator>
  <dc:description/>
  <dc:language>en-US</dc:language>
  <cp:lastModifiedBy>Misteria</cp:lastModifiedBy>
  <dcterms:modified xsi:type="dcterms:W3CDTF">2010-10-09T09:44:05Z</dcterms:modified>
  <cp:revision>1</cp:revision>
  <dc:subject/>
  <dc:title>Diapositiva 1</dc:title>
</cp:coreProperties>
</file>