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778-BFC3-42A5-A1E1-18B613E6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DFD-93AA-4FC2-BA5B-A1542D73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388-EFD8-4BAC-BCFA-978CA73E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62A-696E-44B2-AD99-9A316CAF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AD1-26A8-4347-9817-9DBC84EA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861-4531-4627-8C93-7560228C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B28-D692-41D3-AA88-E25CDB04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C68-5915-4F50-A4EB-D106AEEE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84C-E98B-4D21-A168-3EE970D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BD7-86AA-455B-847A-CF57183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EE9-9E7F-4F70-91CC-E53C9B1C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DC3-7B45-4FC4-A900-2DE6DB81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E938-314B-4B9D-B350-4DF4D6D19D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205000"/>
            <a:ext cx="568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’`e qualcosa che </a:t>
            </a:r>
            <a:br>
              <a:rPr sz="4000"/>
            </a:b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ti da fastidio e </a:t>
            </a:r>
            <a:br>
              <a:rPr sz="4000"/>
            </a:b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ti preoccupa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557360"/>
            <a:ext cx="6192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Osserva attorno a te e ringrazia per quello che ti è stato concesso in questa transitoria vita...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1350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iamo fortunati, abbiamo molto di più di quello che ci serve per vivere fel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erchiamo di non alimentare questa sinistra ruota consumista e immorale, offertaci dalla nostra società “moderna e avanzata” che dimentica e ignora troppo spesso i due terzi del genere um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39920" y="324648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i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8136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nvia questa present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enza alcuna “catena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n la tenere per 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i almeno un inv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n sarà cosa 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844640"/>
            <a:ext cx="674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Lamentiamoci meno e cerchiamo di dare di più!</a:t>
            </a:r>
            <a:r>
              <a:rPr b="0" i="1" lang="es-E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472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i scoccia studiar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472428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loro non scocci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2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22560" y="2533680"/>
            <a:ext cx="612144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Odii le verdur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41720"/>
            <a:ext cx="3384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loro fa male la fam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08400" cy="63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08760" cy="630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Vivi a dieta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muoiono a diet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i da fastidio l’eccessiva protezione dei tuoi genitori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084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non hanno genitori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i annoiano i soliti giochi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27220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non hanno opzioni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Volevi Adidas e ti hanno comprato Nik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hanno solo questa Marc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92360" y="2865600"/>
            <a:ext cx="5651640" cy="3992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76500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i scoccia che ti mandino a dormir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581360"/>
            <a:ext cx="3024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non vorrebbero svegliarsi mai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 QUEJ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205000"/>
            <a:ext cx="5400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E se ancora qualcosa  seguita a preoccuparti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Liza Ruchman</dc:creator>
  <dc:description/>
  <dc:language>en-US</dc:language>
  <cp:lastModifiedBy>condec</cp:lastModifiedBy>
  <dcterms:modified xsi:type="dcterms:W3CDTF">2006-01-11T21:13:36Z</dcterms:modified>
  <cp:revision>16</cp:revision>
  <dc:subject/>
  <dc:title>ALGO TE MOLESTA?</dc:title>
</cp:coreProperties>
</file>