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4F52-C1CC-4352-9743-BF26EE12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4A7-99DA-40AC-871E-FFD4EF0B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7D9D-2EDC-4628-B408-CE30581F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9513-AA35-41E0-A2C7-E19154E3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AA1B-BF70-4F88-8F43-9968EB44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710-F323-4A32-8C7A-17D87BF6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648A-927E-4399-85E3-477725CB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D27-EE86-4643-8507-2187486F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BAA9-CD6B-4505-8385-E2BA604B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761-7B89-49C3-ADF6-081D36FE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962-EC49-4DA5-A96D-AC55D28F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5C2-9891-4FD7-BECA-3D3CF3A6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4B9C-7F37-4843-97C3-74F97690161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2360" y="2205000"/>
            <a:ext cx="5688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C’`e qualcosa che </a:t>
            </a:r>
            <a:br>
              <a:rPr sz="4000"/>
            </a:b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ti da fastidio e </a:t>
            </a:r>
            <a:br>
              <a:rPr sz="4000"/>
            </a:b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ti preoccupa…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1557360"/>
            <a:ext cx="619272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Osserva attorno a te e ringrazia per quello che ti è stato concesso in questa transitoria vita...</a:t>
            </a: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640" y="113508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Siamo fortunati, abbiamo molto di più di quello che ci serve per vivere fel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Cerchiamo di non alimentare questa sinistra ruota consumista e immorale, offertaci dalla nostra società “moderna e avanzata” che dimentica e ignora troppo spesso i due terzi del genere uma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139920" y="3246480"/>
            <a:ext cx="53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vie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781360"/>
            <a:ext cx="88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Invia questa presenta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senza alcuna “catena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Non la tenere per 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Fai almeno un inv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Arial"/>
              </a:rPr>
              <a:t>Non sarà cosa v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87280" y="1844640"/>
            <a:ext cx="6745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6000" spc="-1" strike="noStrike">
                <a:solidFill>
                  <a:srgbClr val="ffffff"/>
                </a:solidFill>
                <a:latin typeface="Arial"/>
              </a:rPr>
              <a:t>Lamentiamoci meno e cerchiamo di dare di più!</a:t>
            </a:r>
            <a:r>
              <a:rPr b="0" i="1" lang="es-E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xit" presetID="40">
                                  <p:stCondLst>
                                    <p:cond delay="15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1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150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373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84720" y="404640"/>
            <a:ext cx="39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Ti scoccia studiare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324000" y="4724280"/>
            <a:ext cx="39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A loro non scocci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373560" y="2781360"/>
            <a:ext cx="577044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792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022560" y="2533680"/>
            <a:ext cx="6121440" cy="4324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32360" y="404640"/>
            <a:ext cx="395928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Odii le verdure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941720"/>
            <a:ext cx="3384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A loro fa male la fame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08400" cy="6308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549360"/>
            <a:ext cx="4208760" cy="6308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39640" y="5388120"/>
            <a:ext cx="3959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Vivi a dieta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2360" y="5388120"/>
            <a:ext cx="395928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Loro muoiono a dieta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752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479736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Ti da fastidio l’eccessiva protezione dei tuoi genitori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508464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Loro non hanno genitori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5148360" cy="3637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726080" y="0"/>
            <a:ext cx="4417920" cy="6021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479736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Ti annoiano i soliti giochi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3280" y="5272200"/>
            <a:ext cx="450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Loro non hanno opzioni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076720" y="2133720"/>
            <a:ext cx="3810240" cy="440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333360"/>
            <a:ext cx="450072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Volevi Adidas e ti hanno comprato Nike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38560" y="333360"/>
            <a:ext cx="4105440" cy="146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Loro hanno solo questa Marca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3941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492360" y="2865600"/>
            <a:ext cx="5651640" cy="3992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43280" y="765000"/>
            <a:ext cx="450072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Ti scoccia che ti mandino a dormire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4581360"/>
            <a:ext cx="30240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3300"/>
                </a:solidFill>
                <a:latin typeface="Arial"/>
              </a:rPr>
              <a:t>Loro non vorrebbero svegliarsi mai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6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NO TE QUEJ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0920" y="2205000"/>
            <a:ext cx="5400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Arial"/>
              </a:rPr>
              <a:t>E se ancora qualcosa  seguita a preoccuparti…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3:26:55Z</dcterms:created>
  <dc:creator>Liza Ruchman</dc:creator>
  <dc:description/>
  <dc:language>en-US</dc:language>
  <cp:lastModifiedBy>condec</cp:lastModifiedBy>
  <dcterms:modified xsi:type="dcterms:W3CDTF">2006-01-11T21:13:36Z</dcterms:modified>
  <cp:revision>16</cp:revision>
  <dc:subject/>
  <dc:title>ALGO TE MOLESTA?</dc:title>
</cp:coreProperties>
</file>