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ciechimiche.org/" TargetMode="External"/><Relationship Id="rId2" Type="http://schemas.openxmlformats.org/officeDocument/2006/relationships/hyperlink" Target="http://www.rense.com/politics6/chemdatapage.html" TargetMode="External"/><Relationship Id="rId3" Type="http://schemas.openxmlformats.org/officeDocument/2006/relationships/hyperlink" Target="http://www.rense.com/politics6/chemdatapage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82520" y="190440"/>
            <a:ext cx="8637480" cy="647856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2038320" y="189000"/>
            <a:ext cx="3176640" cy="1405080"/>
            <a:chOff x="2038320" y="189000"/>
            <a:chExt cx="3176640" cy="1405080"/>
          </a:xfrm>
        </p:grpSpPr>
        <p:grpSp>
          <p:nvGrpSpPr>
            <p:cNvPr id="40" name=""/>
            <p:cNvGrpSpPr/>
            <p:nvPr/>
          </p:nvGrpSpPr>
          <p:grpSpPr>
            <a:xfrm>
              <a:off x="2038320" y="189000"/>
              <a:ext cx="3176640" cy="1405080"/>
              <a:chOff x="2038320" y="189000"/>
              <a:chExt cx="3176640" cy="1405080"/>
            </a:xfrm>
          </p:grpSpPr>
          <p:sp>
            <p:nvSpPr>
              <p:cNvPr id="41" name=""/>
              <p:cNvSpPr/>
              <p:nvPr/>
            </p:nvSpPr>
            <p:spPr>
              <a:xfrm>
                <a:off x="2038320" y="189000"/>
                <a:ext cx="3176640" cy="131112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2038320" y="189000"/>
                <a:ext cx="3176640" cy="14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4000"/>
                  </a:lnSpc>
                  <a:spcBef>
                    <a:spcPts val="125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Una normale giorn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125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di bel temp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125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sulla Man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051360" cy="2492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4572000" cy="3309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76360" y="2924280"/>
            <a:ext cx="2309760" cy="3011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211640" y="3500280"/>
            <a:ext cx="4765680" cy="32497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79280" y="6192720"/>
            <a:ext cx="6096240" cy="549360"/>
            <a:chOff x="179280" y="6192720"/>
            <a:chExt cx="6096240" cy="549360"/>
          </a:xfrm>
        </p:grpSpPr>
        <p:grpSp>
          <p:nvGrpSpPr>
            <p:cNvPr id="101" name=""/>
            <p:cNvGrpSpPr/>
            <p:nvPr/>
          </p:nvGrpSpPr>
          <p:grpSpPr>
            <a:xfrm>
              <a:off x="179280" y="6192720"/>
              <a:ext cx="6096240" cy="549360"/>
              <a:chOff x="179280" y="6192720"/>
              <a:chExt cx="6096240" cy="549360"/>
            </a:xfrm>
          </p:grpSpPr>
          <p:sp>
            <p:nvSpPr>
              <p:cNvPr id="102" name=""/>
              <p:cNvSpPr/>
              <p:nvPr/>
            </p:nvSpPr>
            <p:spPr>
              <a:xfrm>
                <a:off x="179280" y="6192720"/>
                <a:ext cx="6096240" cy="5493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9280" y="6192720"/>
                <a:ext cx="60962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Aerei che stanno rilasciando le scie chimic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403236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50036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0"/>
            <a:ext cx="2700360" cy="812520"/>
            <a:chOff x="0" y="0"/>
            <a:chExt cx="2700360" cy="812520"/>
          </a:xfrm>
        </p:grpSpPr>
        <p:grpSp>
          <p:nvGrpSpPr>
            <p:cNvPr id="108" name=""/>
            <p:cNvGrpSpPr/>
            <p:nvPr/>
          </p:nvGrpSpPr>
          <p:grpSpPr>
            <a:xfrm>
              <a:off x="0" y="0"/>
              <a:ext cx="2700360" cy="812520"/>
              <a:chOff x="0" y="0"/>
              <a:chExt cx="2700360" cy="8125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0"/>
                <a:ext cx="2700360" cy="7621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0"/>
                <a:ext cx="270036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Altri esempi 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14280" y="364500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6095880" cy="316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25800" cy="3208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64000" y="260280"/>
            <a:ext cx="3438720" cy="316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3744720" cy="22338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1280" y="6087960"/>
            <a:ext cx="9250560" cy="1214280"/>
            <a:chOff x="71280" y="6087960"/>
            <a:chExt cx="9250560" cy="1214280"/>
          </a:xfrm>
        </p:grpSpPr>
        <p:grpSp>
          <p:nvGrpSpPr>
            <p:cNvPr id="117" name=""/>
            <p:cNvGrpSpPr/>
            <p:nvPr/>
          </p:nvGrpSpPr>
          <p:grpSpPr>
            <a:xfrm>
              <a:off x="71280" y="6087960"/>
              <a:ext cx="9250560" cy="1214280"/>
              <a:chOff x="71280" y="6087960"/>
              <a:chExt cx="9250560" cy="1214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1280" y="6087960"/>
                <a:ext cx="9250560" cy="11271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280" y="6087960"/>
                <a:ext cx="9250560" cy="12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2f2f2"/>
                    </a:solidFill>
                    <a:latin typeface="Calibri"/>
                  </a:rPr>
                  <a:t>Non sono aerei di linea,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2f2f2"/>
                    </a:solidFill>
                    <a:latin typeface="Calibri"/>
                  </a:rPr>
                  <a:t>gli aerei di linea non volano in formazione e non seguono rotte di questo tip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095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51280" y="3473280"/>
            <a:ext cx="5292720" cy="338472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4859280" y="476280"/>
            <a:ext cx="4105440" cy="2925360"/>
            <a:chOff x="4859280" y="476280"/>
            <a:chExt cx="4105440" cy="2925360"/>
          </a:xfrm>
        </p:grpSpPr>
        <p:grpSp>
          <p:nvGrpSpPr>
            <p:cNvPr id="123" name=""/>
            <p:cNvGrpSpPr/>
            <p:nvPr/>
          </p:nvGrpSpPr>
          <p:grpSpPr>
            <a:xfrm>
              <a:off x="4859280" y="476280"/>
              <a:ext cx="4105440" cy="2925360"/>
              <a:chOff x="4859280" y="476280"/>
              <a:chExt cx="4105440" cy="2925360"/>
            </a:xfrm>
          </p:grpSpPr>
          <p:sp>
            <p:nvSpPr>
              <p:cNvPr id="124" name=""/>
              <p:cNvSpPr/>
              <p:nvPr/>
            </p:nvSpPr>
            <p:spPr>
              <a:xfrm>
                <a:off x="4859280" y="476280"/>
                <a:ext cx="4105440" cy="289548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9280" y="476280"/>
                <a:ext cx="4105440" cy="29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Non fanno diseg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Non spengono e riaccendono i mot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71680" y="571680"/>
            <a:ext cx="806436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I governi, interpellati sull’argomento da singoli cittadini o da loro associazioni, han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in genere, ignorate le damande (Italia, Francia, .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quando hanno risposto, hanno fornite risposte vaghe, q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nno parte di studi per contrastare l’effetto serr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nno parte di studi per contrastare il terror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(Germa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in realtà servono per studiare come controllare il clima a proprio piacimento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0" y="5443560"/>
            <a:ext cx="2376360" cy="1467720"/>
            <a:chOff x="0" y="5443560"/>
            <a:chExt cx="2376360" cy="1467720"/>
          </a:xfrm>
        </p:grpSpPr>
        <p:grpSp>
          <p:nvGrpSpPr>
            <p:cNvPr id="129" name=""/>
            <p:cNvGrpSpPr/>
            <p:nvPr/>
          </p:nvGrpSpPr>
          <p:grpSpPr>
            <a:xfrm>
              <a:off x="0" y="5443560"/>
              <a:ext cx="2376360" cy="1467720"/>
              <a:chOff x="0" y="5443560"/>
              <a:chExt cx="2376360" cy="146772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5443560"/>
                <a:ext cx="2376360" cy="13716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5443560"/>
                <a:ext cx="2376360" cy="14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Qui stanno impedendo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che piova sull’Adriat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0" y="0"/>
            <a:ext cx="2376360" cy="1368360"/>
            <a:chOff x="0" y="0"/>
            <a:chExt cx="2376360" cy="1368360"/>
          </a:xfrm>
        </p:grpSpPr>
        <p:grpSp>
          <p:nvGrpSpPr>
            <p:cNvPr id="134" name=""/>
            <p:cNvGrpSpPr/>
            <p:nvPr/>
          </p:nvGrpSpPr>
          <p:grpSpPr>
            <a:xfrm>
              <a:off x="0" y="0"/>
              <a:ext cx="2376360" cy="1368360"/>
              <a:chOff x="0" y="0"/>
              <a:chExt cx="2376360" cy="136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0"/>
                <a:ext cx="2376360" cy="136836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0"/>
                <a:ext cx="2376360" cy="10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Qui stanno cercando di controllare un cicl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116000" y="2708280"/>
            <a:ext cx="117000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565360"/>
            <a:ext cx="720720" cy="136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3429000"/>
            <a:ext cx="649080" cy="115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24000" y="907920"/>
            <a:ext cx="8569080" cy="5788080"/>
            <a:chOff x="324000" y="907920"/>
            <a:chExt cx="8569080" cy="5788080"/>
          </a:xfrm>
        </p:grpSpPr>
        <p:grpSp>
          <p:nvGrpSpPr>
            <p:cNvPr id="141" name=""/>
            <p:cNvGrpSpPr/>
            <p:nvPr/>
          </p:nvGrpSpPr>
          <p:grpSpPr>
            <a:xfrm>
              <a:off x="324000" y="907920"/>
              <a:ext cx="8569080" cy="1370160"/>
              <a:chOff x="324000" y="907920"/>
              <a:chExt cx="8569080" cy="1370160"/>
            </a:xfrm>
          </p:grpSpPr>
          <p:sp>
            <p:nvSpPr>
              <p:cNvPr id="142" name=""/>
              <p:cNvSpPr/>
              <p:nvPr/>
            </p:nvSpPr>
            <p:spPr>
              <a:xfrm>
                <a:off x="324000" y="907920"/>
                <a:ext cx="8569080" cy="137016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4000" y="907920"/>
                <a:ext cx="856908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Essere in grado di controllare il clima equivale a possedere un arma di distruzione di massa infinitamente più potente ed efficiente delle armi nucleari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24000" y="2278080"/>
              <a:ext cx="1008000" cy="1370160"/>
              <a:chOff x="324000" y="2278080"/>
              <a:chExt cx="1008000" cy="1370160"/>
            </a:xfrm>
          </p:grpSpPr>
          <p:sp>
            <p:nvSpPr>
              <p:cNvPr id="145" name=""/>
              <p:cNvSpPr/>
              <p:nvPr/>
            </p:nvSpPr>
            <p:spPr>
              <a:xfrm>
                <a:off x="324000" y="2278080"/>
                <a:ext cx="1008000" cy="1370160"/>
              </a:xfrm>
              <a:custGeom>
                <a:avLst/>
                <a:gdLst>
                  <a:gd name="textAreaLeft" fmla="*/ 360 w 1008000"/>
                  <a:gd name="textAreaRight" fmla="*/ 1007640 w 1008000"/>
                  <a:gd name="textAreaTop" fmla="*/ 360 h 1370160"/>
                  <a:gd name="textAreaBottom" fmla="*/ 1369800 h 1370160"/>
                </a:gdLst>
                <a:ahLst/>
                <a:rect l="textAreaLeft" t="textAreaTop" r="textAreaRight" b="textAreaBottom"/>
                <a:pathLst>
                  <a:path w="21600" h="29358">
                    <a:moveTo>
                      <a:pt x="34" y="0"/>
                    </a:moveTo>
                    <a:arcTo wR="34" hR="34" stAng="16200000" swAng="-5400000"/>
                    <a:lnTo>
                      <a:pt x="0" y="29324"/>
                    </a:lnTo>
                    <a:arcTo wR="34" hR="34" stAng="10800000" swAng="-5400000"/>
                    <a:lnTo>
                      <a:pt x="21566" y="29358"/>
                    </a:lnTo>
                    <a:arcTo wR="34" hR="34" stAng="5400000" swAng="-5400000"/>
                    <a:lnTo>
                      <a:pt x="21600" y="34"/>
                    </a:lnTo>
                    <a:arcTo wR="34" hR="3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4000" y="2278080"/>
                <a:ext cx="1008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32000" y="2278080"/>
              <a:ext cx="7561080" cy="1446120"/>
              <a:chOff x="1332000" y="2278080"/>
              <a:chExt cx="7561080" cy="1446120"/>
            </a:xfrm>
          </p:grpSpPr>
          <p:sp>
            <p:nvSpPr>
              <p:cNvPr id="148" name=""/>
              <p:cNvSpPr/>
              <p:nvPr/>
            </p:nvSpPr>
            <p:spPr>
              <a:xfrm>
                <a:off x="1332000" y="2278080"/>
                <a:ext cx="7561080" cy="137016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32000" y="2278080"/>
                <a:ext cx="7561080" cy="14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le armi nucleari distruggono e contaminano con le radiazioni tutto ciò che ricade nel loro raggio d’azione: gli esseri viventi, il territorio e le risorse ( petrolio, miniere, ecc 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24000" y="3648240"/>
              <a:ext cx="1008000" cy="1369800"/>
              <a:chOff x="324000" y="3648240"/>
              <a:chExt cx="1008000" cy="1369800"/>
            </a:xfrm>
          </p:grpSpPr>
          <p:sp>
            <p:nvSpPr>
              <p:cNvPr id="151" name=""/>
              <p:cNvSpPr/>
              <p:nvPr/>
            </p:nvSpPr>
            <p:spPr>
              <a:xfrm>
                <a:off x="324000" y="3648240"/>
                <a:ext cx="1008000" cy="1369800"/>
              </a:xfrm>
              <a:custGeom>
                <a:avLst/>
                <a:gdLst>
                  <a:gd name="textAreaLeft" fmla="*/ 360 w 1008000"/>
                  <a:gd name="textAreaRight" fmla="*/ 1007640 w 1008000"/>
                  <a:gd name="textAreaTop" fmla="*/ 360 h 1369800"/>
                  <a:gd name="textAreaBottom" fmla="*/ 1369440 h 1369800"/>
                </a:gdLst>
                <a:ahLst/>
                <a:rect l="textAreaLeft" t="textAreaTop" r="textAreaRight" b="textAreaBottom"/>
                <a:pathLst>
                  <a:path w="21600" h="29350">
                    <a:moveTo>
                      <a:pt x="34" y="0"/>
                    </a:moveTo>
                    <a:arcTo wR="34" hR="34" stAng="16200000" swAng="-5400000"/>
                    <a:lnTo>
                      <a:pt x="0" y="29316"/>
                    </a:lnTo>
                    <a:arcTo wR="34" hR="34" stAng="10800000" swAng="-5400000"/>
                    <a:lnTo>
                      <a:pt x="21566" y="29350"/>
                    </a:lnTo>
                    <a:arcTo wR="34" hR="34" stAng="5400000" swAng="-5400000"/>
                    <a:lnTo>
                      <a:pt x="21600" y="34"/>
                    </a:lnTo>
                    <a:arcTo wR="34" hR="3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4000" y="3648240"/>
                <a:ext cx="1008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332000" y="3648240"/>
              <a:ext cx="7561080" cy="1446120"/>
              <a:chOff x="1332000" y="3648240"/>
              <a:chExt cx="7561080" cy="1446120"/>
            </a:xfrm>
          </p:grpSpPr>
          <p:sp>
            <p:nvSpPr>
              <p:cNvPr id="154" name=""/>
              <p:cNvSpPr/>
              <p:nvPr/>
            </p:nvSpPr>
            <p:spPr>
              <a:xfrm>
                <a:off x="1332000" y="3648240"/>
                <a:ext cx="7561080" cy="13698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32000" y="3648240"/>
                <a:ext cx="7561080" cy="14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una siccità, un’ alluvione, un ciclone distruggono “solo” gli esseri viventi e le loro attività, ma soprattutto lasciano intatte le risorse, a disposizione dei “signori del clima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24000" y="5018040"/>
              <a:ext cx="1008000" cy="1614600"/>
              <a:chOff x="324000" y="5018040"/>
              <a:chExt cx="1008000" cy="1614600"/>
            </a:xfrm>
          </p:grpSpPr>
          <p:sp>
            <p:nvSpPr>
              <p:cNvPr id="157" name=""/>
              <p:cNvSpPr/>
              <p:nvPr/>
            </p:nvSpPr>
            <p:spPr>
              <a:xfrm>
                <a:off x="324000" y="5018040"/>
                <a:ext cx="1008000" cy="1614600"/>
              </a:xfrm>
              <a:custGeom>
                <a:avLst/>
                <a:gdLst>
                  <a:gd name="textAreaLeft" fmla="*/ 360 w 1008000"/>
                  <a:gd name="textAreaRight" fmla="*/ 1007640 w 1008000"/>
                  <a:gd name="textAreaTop" fmla="*/ 360 h 1614600"/>
                  <a:gd name="textAreaBottom" fmla="*/ 1614240 h 1614600"/>
                </a:gdLst>
                <a:ahLst/>
                <a:rect l="textAreaLeft" t="textAreaTop" r="textAreaRight" b="textAreaBottom"/>
                <a:pathLst>
                  <a:path w="21600" h="34594">
                    <a:moveTo>
                      <a:pt x="34" y="0"/>
                    </a:moveTo>
                    <a:arcTo wR="34" hR="34" stAng="16200000" swAng="-5400000"/>
                    <a:lnTo>
                      <a:pt x="0" y="34560"/>
                    </a:lnTo>
                    <a:arcTo wR="34" hR="34" stAng="10800000" swAng="-5400000"/>
                    <a:lnTo>
                      <a:pt x="21566" y="34594"/>
                    </a:lnTo>
                    <a:arcTo wR="34" hR="34" stAng="5400000" swAng="-5400000"/>
                    <a:lnTo>
                      <a:pt x="21600" y="34"/>
                    </a:lnTo>
                    <a:arcTo wR="34" hR="3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000" y="5018040"/>
                <a:ext cx="100800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32000" y="5018040"/>
              <a:ext cx="7561080" cy="1677960"/>
              <a:chOff x="1332000" y="5018040"/>
              <a:chExt cx="7561080" cy="1677960"/>
            </a:xfrm>
          </p:grpSpPr>
          <p:sp>
            <p:nvSpPr>
              <p:cNvPr id="160" name=""/>
              <p:cNvSpPr/>
              <p:nvPr/>
            </p:nvSpPr>
            <p:spPr>
              <a:xfrm>
                <a:off x="1332000" y="5018040"/>
                <a:ext cx="7561080" cy="161460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32000" y="5018040"/>
                <a:ext cx="7561080" cy="167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inoltre possono essere utilizzate senza il consenso dell’opinione pubblica ( l’effetto dell’arma è indistinguibile da una catastrofe naturale; se ad es. una siccità colpisce una regione le causa saranno attribuite alla natura, e non ad nazione che si vuole impossessare delle ricchezze in essa contenute 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28920" y="857160"/>
            <a:ext cx="3900600" cy="2927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93760" y="3716280"/>
            <a:ext cx="4062240" cy="2710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3280" y="3454560"/>
            <a:ext cx="4286520" cy="32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227640" y="189000"/>
            <a:ext cx="2916360" cy="2808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3643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Viste da terra,                            poco dopo essere state rilasciate, ci appaiono co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809800" cy="4238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2663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68360" y="333360"/>
            <a:ext cx="6661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oi il vento le diffonde, e in poche ore (3 /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825720" y="785880"/>
            <a:ext cx="3961080" cy="28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435640" y="3691080"/>
            <a:ext cx="3708360" cy="3166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86200" y="4869000"/>
            <a:ext cx="2514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diventano nuvole artificiali di polveri, che oscurano il 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" y="190440"/>
            <a:ext cx="8637480" cy="6478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824120" y="404640"/>
            <a:ext cx="2033640" cy="1024200"/>
            <a:chOff x="1824120" y="404640"/>
            <a:chExt cx="2033640" cy="1024200"/>
          </a:xfrm>
        </p:grpSpPr>
        <p:grpSp>
          <p:nvGrpSpPr>
            <p:cNvPr id="45" name=""/>
            <p:cNvGrpSpPr/>
            <p:nvPr/>
          </p:nvGrpSpPr>
          <p:grpSpPr>
            <a:xfrm>
              <a:off x="1824120" y="404640"/>
              <a:ext cx="2033640" cy="1024200"/>
              <a:chOff x="1824120" y="404640"/>
              <a:chExt cx="2033640" cy="1024200"/>
            </a:xfrm>
          </p:grpSpPr>
          <p:sp>
            <p:nvSpPr>
              <p:cNvPr id="46" name=""/>
              <p:cNvSpPr/>
              <p:nvPr/>
            </p:nvSpPr>
            <p:spPr>
              <a:xfrm>
                <a:off x="1824120" y="404640"/>
                <a:ext cx="2033640" cy="1024200"/>
              </a:xfrm>
              <a:prstGeom prst="roundRect">
                <a:avLst>
                  <a:gd name="adj" fmla="val 15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824120" y="404640"/>
                <a:ext cx="20336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4000"/>
                  </a:lnSpc>
                  <a:spcBef>
                    <a:spcPts val="125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e sull’ Ital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348000" y="2781360"/>
            <a:ext cx="5629320" cy="3897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76280"/>
            <a:ext cx="3024360" cy="14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e nuvole artificiali spesso presentano iridescenze,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dovute alle polveri che le hanno 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76760" cy="364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31813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4280040" cy="3311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8894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291960"/>
            <a:ext cx="381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anno forme e consistenza diverse dalle consuete nuvo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4000" y="1266840"/>
            <a:ext cx="3743280" cy="244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292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572000" y="3500280"/>
            <a:ext cx="4381560" cy="292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417672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880240" cy="4406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24560" y="0"/>
            <a:ext cx="361944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96000" y="2421000"/>
            <a:ext cx="3171960" cy="42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920" y="5364000"/>
            <a:ext cx="52498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 seconda delle sostanze che sono state utitizzate per produr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211640" y="3213000"/>
            <a:ext cx="4638600" cy="347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572000" cy="2962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79280" y="2997360"/>
            <a:ext cx="4470480" cy="367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932360" y="3284640"/>
            <a:ext cx="381636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e dei trattamenti a cui sono state sotto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(nuvole trattate con micro onde – Progetto H.A.A.R.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38640" cy="309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924360" y="2708280"/>
            <a:ext cx="5087880" cy="3960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859280" y="189000"/>
            <a:ext cx="4143600" cy="3105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79280" y="342900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400720" cy="4032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501480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86160" cy="3152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141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4238640" cy="31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610160" cy="4476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333360"/>
            <a:ext cx="3816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nuvole con i bu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4238640" cy="3181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32360" y="4221000"/>
            <a:ext cx="4032360" cy="24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348000" y="26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084720" y="260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076720" y="2637000"/>
            <a:ext cx="3810240" cy="2590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222960" y="6021360"/>
            <a:ext cx="25639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dai quali cosa cad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92240"/>
            <a:ext cx="8637480" cy="647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58040" y="4929120"/>
            <a:ext cx="12193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alibri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85960" y="1357200"/>
            <a:ext cx="158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alibri"/>
              </a:rPr>
              <a:t>Inghilt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6165720"/>
            <a:ext cx="1873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alibri"/>
              </a:rPr>
              <a:t>Scie chi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19640" y="5443560"/>
            <a:ext cx="431640" cy="65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2122200" y="5371920"/>
            <a:ext cx="1227240" cy="795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7220000">
            <a:off x="2273040" y="583920"/>
            <a:ext cx="5680080" cy="467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100000">
            <a:off x="-549720" y="3650400"/>
            <a:ext cx="431640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143760" y="285840"/>
            <a:ext cx="2819160" cy="2135520"/>
            <a:chOff x="6143760" y="285840"/>
            <a:chExt cx="2819160" cy="2135520"/>
          </a:xfrm>
        </p:grpSpPr>
        <p:sp>
          <p:nvSpPr>
            <p:cNvPr id="57" name=""/>
            <p:cNvSpPr/>
            <p:nvPr/>
          </p:nvSpPr>
          <p:spPr>
            <a:xfrm>
              <a:off x="6143760" y="285840"/>
              <a:ext cx="2819160" cy="19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6143760" y="285840"/>
              <a:ext cx="2819160" cy="2135520"/>
              <a:chOff x="6143760" y="285840"/>
              <a:chExt cx="2819160" cy="2135520"/>
            </a:xfrm>
          </p:grpSpPr>
          <p:sp>
            <p:nvSpPr>
              <p:cNvPr id="59" name=""/>
              <p:cNvSpPr/>
              <p:nvPr/>
            </p:nvSpPr>
            <p:spPr>
              <a:xfrm>
                <a:off x="6143760" y="285840"/>
                <a:ext cx="2819160" cy="196848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43760" y="285840"/>
                <a:ext cx="2819160" cy="21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4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cc00"/>
                    </a:solidFill>
                    <a:latin typeface="Calibri"/>
                  </a:rPr>
                  <a:t>Esperimenti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cc00"/>
                    </a:solidFill>
                    <a:latin typeface="Calibri"/>
                  </a:rPr>
                  <a:t>per il controllo del clim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cc00"/>
                    </a:solidFill>
                    <a:latin typeface="Calibri"/>
                  </a:rPr>
                  <a:t>sulla Manic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55640" y="21337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0920" y="5805360"/>
            <a:ext cx="356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cie che formano ombre che non dovrebbero esser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62160" y="3294000"/>
            <a:ext cx="2243160" cy="2246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1034640" y="1827360"/>
            <a:ext cx="693720" cy="3784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427640" y="2651040"/>
            <a:ext cx="4521240" cy="4206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V="1">
            <a:off x="1906560" y="2984400"/>
            <a:ext cx="282600" cy="2687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47760" y="4766760"/>
            <a:ext cx="4457880" cy="946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84400" y="1433160"/>
            <a:ext cx="2244600" cy="4149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5126040" cy="3566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084720" y="260280"/>
            <a:ext cx="3059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uvole che form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g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98560" y="2500200"/>
            <a:ext cx="3003480" cy="285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43640" cy="348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0" y="1413000"/>
            <a:ext cx="1655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f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790800" cy="2781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9280" y="4221000"/>
            <a:ext cx="1656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50880" y="168120"/>
            <a:ext cx="7993080" cy="5832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6000840"/>
            <a:ext cx="896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I prodotti chimici per la produzione delle nuvole artificiali possono essere liberamente acquistati su 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643880" cy="5357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8000" y="214200"/>
            <a:ext cx="8964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e si può trovare anche consulenza spec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427800" y="569880"/>
            <a:ext cx="217440" cy="64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357120" y="620640"/>
            <a:ext cx="8569440" cy="5315400"/>
            <a:chOff x="357120" y="620640"/>
            <a:chExt cx="8569440" cy="5315400"/>
          </a:xfrm>
        </p:grpSpPr>
        <p:grpSp>
          <p:nvGrpSpPr>
            <p:cNvPr id="236" name=""/>
            <p:cNvGrpSpPr/>
            <p:nvPr/>
          </p:nvGrpSpPr>
          <p:grpSpPr>
            <a:xfrm>
              <a:off x="357120" y="620640"/>
              <a:ext cx="8569440" cy="774720"/>
              <a:chOff x="357120" y="620640"/>
              <a:chExt cx="8569440" cy="774720"/>
            </a:xfrm>
          </p:grpSpPr>
          <p:sp>
            <p:nvSpPr>
              <p:cNvPr id="237" name=""/>
              <p:cNvSpPr/>
              <p:nvPr/>
            </p:nvSpPr>
            <p:spPr>
              <a:xfrm>
                <a:off x="357120" y="620640"/>
                <a:ext cx="8569440" cy="77472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7120" y="620640"/>
                <a:ext cx="85694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Ovviamente queste polveri immesse nell’aria sono molto dannose per la salu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57120" y="1395360"/>
              <a:ext cx="1008000" cy="503280"/>
              <a:chOff x="357120" y="1395360"/>
              <a:chExt cx="1008000" cy="503280"/>
            </a:xfrm>
          </p:grpSpPr>
          <p:sp>
            <p:nvSpPr>
              <p:cNvPr id="240" name=""/>
              <p:cNvSpPr/>
              <p:nvPr/>
            </p:nvSpPr>
            <p:spPr>
              <a:xfrm>
                <a:off x="357120" y="1395360"/>
                <a:ext cx="1008000" cy="5032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7120" y="1395360"/>
                <a:ext cx="1008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365120" y="1395360"/>
              <a:ext cx="7561440" cy="503280"/>
              <a:chOff x="1365120" y="1395360"/>
              <a:chExt cx="7561440" cy="503280"/>
            </a:xfrm>
          </p:grpSpPr>
          <p:sp>
            <p:nvSpPr>
              <p:cNvPr id="243" name=""/>
              <p:cNvSpPr/>
              <p:nvPr/>
            </p:nvSpPr>
            <p:spPr>
              <a:xfrm>
                <a:off x="1365120" y="1395360"/>
                <a:ext cx="7561440" cy="5032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65120" y="1395360"/>
                <a:ext cx="75614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Tutte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 producono problemi all’apparato respiratori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57120" y="1898640"/>
              <a:ext cx="1008000" cy="700200"/>
              <a:chOff x="357120" y="1898640"/>
              <a:chExt cx="1008000" cy="700200"/>
            </a:xfrm>
          </p:grpSpPr>
          <p:sp>
            <p:nvSpPr>
              <p:cNvPr id="246" name=""/>
              <p:cNvSpPr/>
              <p:nvPr/>
            </p:nvSpPr>
            <p:spPr>
              <a:xfrm>
                <a:off x="357120" y="1898640"/>
                <a:ext cx="1008000" cy="70020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7120" y="1898640"/>
                <a:ext cx="1008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365120" y="1898640"/>
              <a:ext cx="7561440" cy="727560"/>
              <a:chOff x="1365120" y="1898640"/>
              <a:chExt cx="7561440" cy="727560"/>
            </a:xfrm>
          </p:grpSpPr>
          <p:sp>
            <p:nvSpPr>
              <p:cNvPr id="249" name=""/>
              <p:cNvSpPr/>
              <p:nvPr/>
            </p:nvSpPr>
            <p:spPr>
              <a:xfrm>
                <a:off x="1365120" y="1898640"/>
                <a:ext cx="7561440" cy="70020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365120" y="1898640"/>
                <a:ext cx="756144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I </a:t>
                </a: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polimeri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 sono filamenti di silicio, e respirare il silicio provvoca la silicos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57120" y="2598840"/>
              <a:ext cx="1008000" cy="395280"/>
              <a:chOff x="357120" y="2598840"/>
              <a:chExt cx="1008000" cy="395280"/>
            </a:xfrm>
          </p:grpSpPr>
          <p:sp>
            <p:nvSpPr>
              <p:cNvPr id="252" name=""/>
              <p:cNvSpPr/>
              <p:nvPr/>
            </p:nvSpPr>
            <p:spPr>
              <a:xfrm>
                <a:off x="357120" y="2598840"/>
                <a:ext cx="100800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7120" y="2598840"/>
                <a:ext cx="1008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365120" y="2598840"/>
              <a:ext cx="7561440" cy="410760"/>
              <a:chOff x="1365120" y="2598840"/>
              <a:chExt cx="7561440" cy="410760"/>
            </a:xfrm>
          </p:grpSpPr>
          <p:sp>
            <p:nvSpPr>
              <p:cNvPr id="255" name=""/>
              <p:cNvSpPr/>
              <p:nvPr/>
            </p:nvSpPr>
            <p:spPr>
              <a:xfrm>
                <a:off x="1365120" y="2598840"/>
                <a:ext cx="756144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65120" y="2598840"/>
                <a:ext cx="75614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Le polveri di </a:t>
                </a: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allumini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7120" y="2994120"/>
              <a:ext cx="1008000" cy="1400040"/>
            </a:xfrm>
            <a:custGeom>
              <a:avLst/>
              <a:gdLst>
                <a:gd name="textAreaLeft" fmla="*/ 360 w 1008000"/>
                <a:gd name="textAreaRight" fmla="*/ 1007640 w 1008000"/>
                <a:gd name="textAreaTop" fmla="*/ 360 h 1400040"/>
                <a:gd name="textAreaBottom" fmla="*/ 1399680 h 1400040"/>
              </a:gdLst>
              <a:ahLst/>
              <a:rect l="textAreaLeft" t="textAreaTop" r="textAreaRight" b="textAreaBottom"/>
              <a:pathLst>
                <a:path w="21600" h="29998">
                  <a:moveTo>
                    <a:pt x="34" y="0"/>
                  </a:moveTo>
                  <a:arcTo wR="34" hR="34" stAng="16200000" swAng="-5400000"/>
                  <a:lnTo>
                    <a:pt x="0" y="29964"/>
                  </a:lnTo>
                  <a:arcTo wR="34" hR="34" stAng="10800000" swAng="-5400000"/>
                  <a:lnTo>
                    <a:pt x="21566" y="29998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365120" y="2994120"/>
              <a:ext cx="422280" cy="699840"/>
              <a:chOff x="1365120" y="2994120"/>
              <a:chExt cx="422280" cy="699840"/>
            </a:xfrm>
          </p:grpSpPr>
          <p:sp>
            <p:nvSpPr>
              <p:cNvPr id="259" name=""/>
              <p:cNvSpPr/>
              <p:nvPr/>
            </p:nvSpPr>
            <p:spPr>
              <a:xfrm>
                <a:off x="1365120" y="2994120"/>
                <a:ext cx="422280" cy="699840"/>
              </a:xfrm>
              <a:custGeom>
                <a:avLst/>
                <a:gdLst>
                  <a:gd name="textAreaLeft" fmla="*/ 360 w 422280"/>
                  <a:gd name="textAreaRight" fmla="*/ 421920 w 422280"/>
                  <a:gd name="textAreaTop" fmla="*/ 360 h 699840"/>
                  <a:gd name="textAreaBottom" fmla="*/ 699480 h 699840"/>
                </a:gdLst>
                <a:ahLst/>
                <a:rect l="textAreaLeft" t="textAreaTop" r="textAreaRight" b="textAreaBottom"/>
                <a:pathLst>
                  <a:path w="21600" h="35785">
                    <a:moveTo>
                      <a:pt x="81" y="0"/>
                    </a:moveTo>
                    <a:arcTo wR="81" hR="81" stAng="16200000" swAng="-5400000"/>
                    <a:lnTo>
                      <a:pt x="0" y="35704"/>
                    </a:lnTo>
                    <a:arcTo wR="81" hR="81" stAng="10800000" swAng="-5400000"/>
                    <a:lnTo>
                      <a:pt x="21519" y="35785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65120" y="2994120"/>
                <a:ext cx="42228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787400" y="2994120"/>
              <a:ext cx="7139160" cy="727560"/>
              <a:chOff x="1787400" y="2994120"/>
              <a:chExt cx="7139160" cy="727560"/>
            </a:xfrm>
          </p:grpSpPr>
          <p:sp>
            <p:nvSpPr>
              <p:cNvPr id="262" name=""/>
              <p:cNvSpPr/>
              <p:nvPr/>
            </p:nvSpPr>
            <p:spPr>
              <a:xfrm>
                <a:off x="1787400" y="2994120"/>
                <a:ext cx="7139160" cy="69984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87400" y="2994120"/>
                <a:ext cx="713916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nel breve periodo, hanno effetti negativi sulla memoria e sulla capacità di concentra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365120" y="3693960"/>
              <a:ext cx="422280" cy="700200"/>
              <a:chOff x="1365120" y="3693960"/>
              <a:chExt cx="422280" cy="700200"/>
            </a:xfrm>
          </p:grpSpPr>
          <p:sp>
            <p:nvSpPr>
              <p:cNvPr id="265" name=""/>
              <p:cNvSpPr/>
              <p:nvPr/>
            </p:nvSpPr>
            <p:spPr>
              <a:xfrm>
                <a:off x="1365120" y="3693960"/>
                <a:ext cx="422280" cy="700200"/>
              </a:xfrm>
              <a:custGeom>
                <a:avLst/>
                <a:gdLst>
                  <a:gd name="textAreaLeft" fmla="*/ 360 w 422280"/>
                  <a:gd name="textAreaRight" fmla="*/ 421920 w 422280"/>
                  <a:gd name="textAreaTop" fmla="*/ 360 h 700200"/>
                  <a:gd name="textAreaBottom" fmla="*/ 699840 h 700200"/>
                </a:gdLst>
                <a:ahLst/>
                <a:rect l="textAreaLeft" t="textAreaTop" r="textAreaRight" b="textAreaBottom"/>
                <a:pathLst>
                  <a:path w="21600" h="35804">
                    <a:moveTo>
                      <a:pt x="81" y="0"/>
                    </a:moveTo>
                    <a:arcTo wR="81" hR="81" stAng="16200000" swAng="-5400000"/>
                    <a:lnTo>
                      <a:pt x="0" y="35723"/>
                    </a:lnTo>
                    <a:arcTo wR="81" hR="81" stAng="10800000" swAng="-5400000"/>
                    <a:lnTo>
                      <a:pt x="21519" y="35804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365120" y="3693960"/>
                <a:ext cx="42228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787400" y="3693960"/>
              <a:ext cx="7139160" cy="700200"/>
              <a:chOff x="1787400" y="3693960"/>
              <a:chExt cx="7139160" cy="700200"/>
            </a:xfrm>
          </p:grpSpPr>
          <p:sp>
            <p:nvSpPr>
              <p:cNvPr id="268" name=""/>
              <p:cNvSpPr/>
              <p:nvPr/>
            </p:nvSpPr>
            <p:spPr>
              <a:xfrm>
                <a:off x="1787400" y="3693960"/>
                <a:ext cx="7139160" cy="70020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87400" y="3693960"/>
                <a:ext cx="713916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nel lungo periodo, producono sintomi simili a quelli dell’alzhei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57120" y="4394160"/>
              <a:ext cx="1008000" cy="1514520"/>
              <a:chOff x="357120" y="4394160"/>
              <a:chExt cx="1008000" cy="1514520"/>
            </a:xfrm>
          </p:grpSpPr>
          <p:sp>
            <p:nvSpPr>
              <p:cNvPr id="271" name=""/>
              <p:cNvSpPr/>
              <p:nvPr/>
            </p:nvSpPr>
            <p:spPr>
              <a:xfrm>
                <a:off x="357120" y="4394160"/>
                <a:ext cx="1008000" cy="1514520"/>
              </a:xfrm>
              <a:custGeom>
                <a:avLst/>
                <a:gdLst>
                  <a:gd name="textAreaLeft" fmla="*/ 360 w 1008000"/>
                  <a:gd name="textAreaRight" fmla="*/ 1007640 w 1008000"/>
                  <a:gd name="textAreaTop" fmla="*/ 360 h 1514520"/>
                  <a:gd name="textAreaBottom" fmla="*/ 1514160 h 1514520"/>
                </a:gdLst>
                <a:ahLst/>
                <a:rect l="textAreaLeft" t="textAreaTop" r="textAreaRight" b="textAreaBottom"/>
                <a:pathLst>
                  <a:path w="21600" h="32450">
                    <a:moveTo>
                      <a:pt x="34" y="0"/>
                    </a:moveTo>
                    <a:arcTo wR="34" hR="34" stAng="16200000" swAng="-5400000"/>
                    <a:lnTo>
                      <a:pt x="0" y="32416"/>
                    </a:lnTo>
                    <a:arcTo wR="34" hR="34" stAng="10800000" swAng="-5400000"/>
                    <a:lnTo>
                      <a:pt x="21566" y="32450"/>
                    </a:lnTo>
                    <a:arcTo wR="34" hR="34" stAng="5400000" swAng="-5400000"/>
                    <a:lnTo>
                      <a:pt x="21600" y="34"/>
                    </a:lnTo>
                    <a:arcTo wR="34" hR="3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7120" y="4394160"/>
                <a:ext cx="100800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365120" y="4394160"/>
              <a:ext cx="7561440" cy="419040"/>
              <a:chOff x="1365120" y="4394160"/>
              <a:chExt cx="7561440" cy="419040"/>
            </a:xfrm>
          </p:grpSpPr>
          <p:sp>
            <p:nvSpPr>
              <p:cNvPr id="274" name=""/>
              <p:cNvSpPr/>
              <p:nvPr/>
            </p:nvSpPr>
            <p:spPr>
              <a:xfrm>
                <a:off x="1365120" y="4394160"/>
                <a:ext cx="7561440" cy="419040"/>
              </a:xfrm>
              <a:prstGeom prst="roundRect">
                <a:avLst>
                  <a:gd name="adj" fmla="val 3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65120" y="4394160"/>
                <a:ext cx="75614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Le polveri di </a:t>
                </a: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bario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 producono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365120" y="4813200"/>
              <a:ext cx="239760" cy="395280"/>
              <a:chOff x="1365120" y="4813200"/>
              <a:chExt cx="239760" cy="395280"/>
            </a:xfrm>
          </p:grpSpPr>
          <p:sp>
            <p:nvSpPr>
              <p:cNvPr id="277" name=""/>
              <p:cNvSpPr/>
              <p:nvPr/>
            </p:nvSpPr>
            <p:spPr>
              <a:xfrm>
                <a:off x="1365120" y="4813200"/>
                <a:ext cx="239760" cy="395280"/>
              </a:xfrm>
              <a:custGeom>
                <a:avLst/>
                <a:gdLst>
                  <a:gd name="textAreaLeft" fmla="*/ 360 w 239760"/>
                  <a:gd name="textAreaRight" fmla="*/ 239400 w 239760"/>
                  <a:gd name="textAreaTop" fmla="*/ 360 h 395280"/>
                  <a:gd name="textAreaBottom" fmla="*/ 394920 h 395280"/>
                </a:gdLst>
                <a:ahLst/>
                <a:rect l="textAreaLeft" t="textAreaTop" r="textAreaRight" b="textAreaBottom"/>
                <a:pathLst>
                  <a:path w="21600" h="35590">
                    <a:moveTo>
                      <a:pt x="144" y="0"/>
                    </a:moveTo>
                    <a:arcTo wR="144" hR="144" stAng="16200000" swAng="-5400000"/>
                    <a:lnTo>
                      <a:pt x="0" y="35446"/>
                    </a:lnTo>
                    <a:arcTo wR="144" hR="144" stAng="10800000" swAng="-5400000"/>
                    <a:lnTo>
                      <a:pt x="21456" y="35590"/>
                    </a:lnTo>
                    <a:arcTo wR="144" hR="144" stAng="5400000" swAng="-5400000"/>
                    <a:lnTo>
                      <a:pt x="21600" y="144"/>
                    </a:lnTo>
                    <a:arcTo wR="144" hR="14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65120" y="4813200"/>
                <a:ext cx="23976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604880" y="4813200"/>
              <a:ext cx="7321680" cy="410760"/>
              <a:chOff x="1604880" y="4813200"/>
              <a:chExt cx="7321680" cy="410760"/>
            </a:xfrm>
          </p:grpSpPr>
          <p:sp>
            <p:nvSpPr>
              <p:cNvPr id="280" name=""/>
              <p:cNvSpPr/>
              <p:nvPr/>
            </p:nvSpPr>
            <p:spPr>
              <a:xfrm>
                <a:off x="1604880" y="4813200"/>
                <a:ext cx="73216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04880" y="4813200"/>
                <a:ext cx="7321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stati di spossatezza ( in quanto fanno contrarre i muscoli 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365120" y="5208480"/>
              <a:ext cx="239760" cy="700200"/>
              <a:chOff x="1365120" y="5208480"/>
              <a:chExt cx="239760" cy="700200"/>
            </a:xfrm>
          </p:grpSpPr>
          <p:sp>
            <p:nvSpPr>
              <p:cNvPr id="283" name=""/>
              <p:cNvSpPr/>
              <p:nvPr/>
            </p:nvSpPr>
            <p:spPr>
              <a:xfrm>
                <a:off x="1365120" y="5208480"/>
                <a:ext cx="239760" cy="700200"/>
              </a:xfrm>
              <a:custGeom>
                <a:avLst/>
                <a:gdLst>
                  <a:gd name="textAreaLeft" fmla="*/ 360 w 239760"/>
                  <a:gd name="textAreaRight" fmla="*/ 239400 w 239760"/>
                  <a:gd name="textAreaTop" fmla="*/ 360 h 700200"/>
                  <a:gd name="textAreaBottom" fmla="*/ 699840 h 700200"/>
                </a:gdLst>
                <a:ahLst/>
                <a:rect l="textAreaLeft" t="textAreaTop" r="textAreaRight" b="textAreaBottom"/>
                <a:pathLst>
                  <a:path w="21600" h="63019">
                    <a:moveTo>
                      <a:pt x="144" y="0"/>
                    </a:moveTo>
                    <a:arcTo wR="144" hR="144" stAng="16200000" swAng="-5400000"/>
                    <a:lnTo>
                      <a:pt x="0" y="62875"/>
                    </a:lnTo>
                    <a:arcTo wR="144" hR="144" stAng="10800000" swAng="-5400000"/>
                    <a:lnTo>
                      <a:pt x="21456" y="63019"/>
                    </a:lnTo>
                    <a:arcTo wR="144" hR="144" stAng="5400000" swAng="-5400000"/>
                    <a:lnTo>
                      <a:pt x="21600" y="144"/>
                    </a:lnTo>
                    <a:arcTo wR="144" hR="14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365120" y="5208480"/>
                <a:ext cx="23976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604880" y="5208480"/>
              <a:ext cx="7321680" cy="727560"/>
              <a:chOff x="1604880" y="5208480"/>
              <a:chExt cx="7321680" cy="727560"/>
            </a:xfrm>
          </p:grpSpPr>
          <p:sp>
            <p:nvSpPr>
              <p:cNvPr id="286" name=""/>
              <p:cNvSpPr/>
              <p:nvPr/>
            </p:nvSpPr>
            <p:spPr>
              <a:xfrm>
                <a:off x="1604880" y="5208480"/>
                <a:ext cx="7321680" cy="70020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04880" y="5208480"/>
                <a:ext cx="732168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inibizione del sistema immunitario, ossia fanno aumentare le probabilità di ammalars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285840" y="357120"/>
            <a:ext cx="8569080" cy="6582960"/>
            <a:chOff x="285840" y="357120"/>
            <a:chExt cx="8569080" cy="6582960"/>
          </a:xfrm>
        </p:grpSpPr>
        <p:grpSp>
          <p:nvGrpSpPr>
            <p:cNvPr id="289" name=""/>
            <p:cNvGrpSpPr/>
            <p:nvPr/>
          </p:nvGrpSpPr>
          <p:grpSpPr>
            <a:xfrm>
              <a:off x="285840" y="357120"/>
              <a:ext cx="8569080" cy="1214280"/>
              <a:chOff x="285840" y="357120"/>
              <a:chExt cx="8569080" cy="1214280"/>
            </a:xfrm>
          </p:grpSpPr>
          <p:sp>
            <p:nvSpPr>
              <p:cNvPr id="290" name=""/>
              <p:cNvSpPr/>
              <p:nvPr/>
            </p:nvSpPr>
            <p:spPr>
              <a:xfrm>
                <a:off x="285840" y="357120"/>
                <a:ext cx="8569080" cy="1104840"/>
              </a:xfrm>
              <a:prstGeom prst="roundRect">
                <a:avLst>
                  <a:gd name="adj" fmla="val 1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840" y="357120"/>
                <a:ext cx="8569080" cy="12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Per saperne di più puoi effettuare ricerche su Internet usando le parol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Scie chimiche 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oppure </a:t>
                </a: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Chemtrai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85840" y="1460520"/>
              <a:ext cx="8569080" cy="1941480"/>
              <a:chOff x="285840" y="1460520"/>
              <a:chExt cx="8569080" cy="1941480"/>
            </a:xfrm>
          </p:grpSpPr>
          <p:sp>
            <p:nvSpPr>
              <p:cNvPr id="293" name=""/>
              <p:cNvSpPr/>
              <p:nvPr/>
            </p:nvSpPr>
            <p:spPr>
              <a:xfrm>
                <a:off x="285840" y="1460520"/>
                <a:ext cx="8569080" cy="194148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85840" y="1460520"/>
                <a:ext cx="8569080" cy="17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Su YouTube sono presenti molti filmati sull’argomento; in particolare ve n’è uno che insegna a distinguere le normali ed innocue scie di condensa (Contrail), lasciate dagli aeroplani in presenza di particolari condizioni atmosferiche, dalle scie chimiche (Chemtrail) utilizzate per il controllo del cli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85840" y="3402000"/>
              <a:ext cx="8569080" cy="410760"/>
              <a:chOff x="285840" y="3402000"/>
              <a:chExt cx="8569080" cy="410760"/>
            </a:xfrm>
          </p:grpSpPr>
          <p:sp>
            <p:nvSpPr>
              <p:cNvPr id="296" name=""/>
              <p:cNvSpPr/>
              <p:nvPr/>
            </p:nvSpPr>
            <p:spPr>
              <a:xfrm>
                <a:off x="285840" y="3402000"/>
                <a:ext cx="85690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5840" y="3402000"/>
                <a:ext cx="85690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2f2f2"/>
                    </a:solidFill>
                    <a:latin typeface="Calibri"/>
                  </a:rPr>
                  <a:t>Buoni punti di partenza per approfondire l’argomento sono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85840" y="3805200"/>
              <a:ext cx="1500120" cy="1129320"/>
              <a:chOff x="285840" y="3805200"/>
              <a:chExt cx="1500120" cy="1129320"/>
            </a:xfrm>
          </p:grpSpPr>
          <p:sp>
            <p:nvSpPr>
              <p:cNvPr id="299" name=""/>
              <p:cNvSpPr/>
              <p:nvPr/>
            </p:nvSpPr>
            <p:spPr>
              <a:xfrm>
                <a:off x="285840" y="3805200"/>
                <a:ext cx="1500120" cy="8413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5840" y="3805200"/>
                <a:ext cx="15001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2f2f2"/>
                    </a:solidFill>
                    <a:latin typeface="Calibri"/>
                  </a:rPr>
                  <a:t>in italiano: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785960" y="3805200"/>
              <a:ext cx="7068960" cy="841320"/>
              <a:chOff x="1785960" y="3805200"/>
              <a:chExt cx="7068960" cy="841320"/>
            </a:xfrm>
          </p:grpSpPr>
          <p:sp>
            <p:nvSpPr>
              <p:cNvPr id="302" name=""/>
              <p:cNvSpPr/>
              <p:nvPr/>
            </p:nvSpPr>
            <p:spPr>
              <a:xfrm>
                <a:off x="1785960" y="3805200"/>
                <a:ext cx="7068960" cy="8413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85960" y="3805200"/>
                <a:ext cx="7068960" cy="74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 u="sng">
                    <a:solidFill>
                      <a:srgbClr val="ccccff"/>
                    </a:solidFill>
                    <a:uFillTx/>
                    <a:latin typeface="Calibri"/>
                    <a:hlinkClick r:id="rId1"/>
                  </a:rPr>
                  <a:t>www.sciechimiche.org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alibri"/>
                  </a:rPr>
                  <a:t>Sito completamente dedicato alle scie chimic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85840" y="4645080"/>
              <a:ext cx="1500120" cy="771480"/>
              <a:chOff x="285840" y="4645080"/>
              <a:chExt cx="1500120" cy="771480"/>
            </a:xfrm>
          </p:grpSpPr>
          <p:sp>
            <p:nvSpPr>
              <p:cNvPr id="305" name=""/>
              <p:cNvSpPr/>
              <p:nvPr/>
            </p:nvSpPr>
            <p:spPr>
              <a:xfrm>
                <a:off x="285840" y="4645080"/>
                <a:ext cx="1500120" cy="77148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5840" y="4645080"/>
                <a:ext cx="150012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2f2f2"/>
                    </a:solidFill>
                    <a:latin typeface="Calibri"/>
                  </a:rPr>
                  <a:t>in ingle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785960" y="4645080"/>
              <a:ext cx="7068960" cy="771480"/>
              <a:chOff x="1785960" y="4645080"/>
              <a:chExt cx="7068960" cy="771480"/>
            </a:xfrm>
          </p:grpSpPr>
          <p:sp>
            <p:nvSpPr>
              <p:cNvPr id="308" name=""/>
              <p:cNvSpPr/>
              <p:nvPr/>
            </p:nvSpPr>
            <p:spPr>
              <a:xfrm>
                <a:off x="1785960" y="4645080"/>
                <a:ext cx="7068960" cy="77148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85960" y="4645080"/>
                <a:ext cx="7068960" cy="68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 u="sng">
                    <a:solidFill>
                      <a:srgbClr val="ccccff"/>
                    </a:solidFill>
                    <a:uFillTx/>
                    <a:latin typeface="Calibri"/>
                    <a:hlinkClick r:id="rId2"/>
                  </a:rPr>
                  <a:t>www.rense.com/politics6/</a:t>
                </a:r>
                <a:r>
                  <a:rPr b="0" lang="en-GB" sz="1800" spc="-1" strike="noStrike" u="sng">
                    <a:solidFill>
                      <a:srgbClr val="ccccff"/>
                    </a:solidFill>
                    <a:uFillTx/>
                    <a:latin typeface="Calibri"/>
                    <a:hlinkClick r:id="rId3"/>
                  </a:rPr>
                  <a:t>chemdatapage.htm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1000"/>
                  </a:lnSpc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2f2f2"/>
                    </a:solidFill>
                    <a:latin typeface="Calibri"/>
                  </a:rPr>
                  <a:t>contiene un’ampia raccolta di link  sull’argo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85840" y="5416560"/>
              <a:ext cx="8569080" cy="1523520"/>
              <a:chOff x="285840" y="5416560"/>
              <a:chExt cx="8569080" cy="1523520"/>
            </a:xfrm>
          </p:grpSpPr>
          <p:sp>
            <p:nvSpPr>
              <p:cNvPr id="311" name=""/>
              <p:cNvSpPr/>
              <p:nvPr/>
            </p:nvSpPr>
            <p:spPr>
              <a:xfrm>
                <a:off x="285840" y="5416560"/>
                <a:ext cx="8569080" cy="124776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5840" y="5416560"/>
                <a:ext cx="8569080" cy="152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0000"/>
                    </a:solidFill>
                    <a:latin typeface="Calibri"/>
                  </a:rPr>
                  <a:t>Si prega di dare la massima diffusione al document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00120" y="928800"/>
            <a:ext cx="158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Inghilt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20000" y="5661000"/>
            <a:ext cx="12189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Calibri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205000"/>
            <a:ext cx="1873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cie chi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2565360"/>
            <a:ext cx="576360" cy="136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860000">
            <a:off x="-180720" y="3862080"/>
            <a:ext cx="475308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760000">
            <a:off x="5501880" y="1007640"/>
            <a:ext cx="367200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835280" y="2203560"/>
            <a:ext cx="3673440" cy="21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7960" y="628560"/>
            <a:ext cx="8128080" cy="5600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20940000">
            <a:off x="393480" y="2349000"/>
            <a:ext cx="810864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653000"/>
            <a:ext cx="1873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Scie chi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496880" y="4212720"/>
            <a:ext cx="58104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000840" y="5238720"/>
            <a:ext cx="2448000" cy="812520"/>
            <a:chOff x="6000840" y="5238720"/>
            <a:chExt cx="2448000" cy="812520"/>
          </a:xfrm>
        </p:grpSpPr>
        <p:grpSp>
          <p:nvGrpSpPr>
            <p:cNvPr id="74" name=""/>
            <p:cNvGrpSpPr/>
            <p:nvPr/>
          </p:nvGrpSpPr>
          <p:grpSpPr>
            <a:xfrm>
              <a:off x="6000840" y="5238720"/>
              <a:ext cx="2448000" cy="812520"/>
              <a:chOff x="6000840" y="5238720"/>
              <a:chExt cx="2448000" cy="812520"/>
            </a:xfrm>
          </p:grpSpPr>
          <p:sp>
            <p:nvSpPr>
              <p:cNvPr id="75" name=""/>
              <p:cNvSpPr/>
              <p:nvPr/>
            </p:nvSpPr>
            <p:spPr>
              <a:xfrm>
                <a:off x="6000840" y="5238720"/>
                <a:ext cx="2448000" cy="7621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00840" y="5238720"/>
                <a:ext cx="244800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e sull’Ital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(Sardegn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00760" cy="6451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20940000">
            <a:off x="320400" y="2964960"/>
            <a:ext cx="4564080" cy="3603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71720" y="2060640"/>
            <a:ext cx="1873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Scie chi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55800" y="2357280"/>
            <a:ext cx="606240" cy="571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20940000">
            <a:off x="2768760" y="3643200"/>
            <a:ext cx="6124320" cy="288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2565360"/>
            <a:ext cx="1727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Scie chi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679880" y="2916360"/>
            <a:ext cx="381240" cy="6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-142920" y="357120"/>
            <a:ext cx="2428920" cy="1616040"/>
            <a:chOff x="-142920" y="357120"/>
            <a:chExt cx="2428920" cy="1616040"/>
          </a:xfrm>
        </p:grpSpPr>
        <p:grpSp>
          <p:nvGrpSpPr>
            <p:cNvPr id="85" name=""/>
            <p:cNvGrpSpPr/>
            <p:nvPr/>
          </p:nvGrpSpPr>
          <p:grpSpPr>
            <a:xfrm>
              <a:off x="-142920" y="357120"/>
              <a:ext cx="2428920" cy="1616040"/>
              <a:chOff x="-142920" y="357120"/>
              <a:chExt cx="2428920" cy="1616040"/>
            </a:xfrm>
          </p:grpSpPr>
          <p:sp>
            <p:nvSpPr>
              <p:cNvPr id="86" name=""/>
              <p:cNvSpPr/>
              <p:nvPr/>
            </p:nvSpPr>
            <p:spPr>
              <a:xfrm>
                <a:off x="-142920" y="357120"/>
                <a:ext cx="2428920" cy="1494000"/>
              </a:xfrm>
              <a:prstGeom prst="roundRect">
                <a:avLst>
                  <a:gd name="adj" fmla="val 1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-142920" y="357120"/>
                <a:ext cx="2428920" cy="16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Sud Ital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(Campania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Puglia,Basilicata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1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alibri"/>
                  </a:rPr>
                  <a:t>Calabri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907920"/>
            <a:ext cx="878544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osa sono le scie chimiche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no scie di polveri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b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llu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a anche di  polimeri  (filamenti di silic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1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caricate a migliaia di tonnellate in tutti i cieli del mondo da aeroplani appositamente attrezzati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33800" cy="46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5220000" cy="328464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419640" y="260280"/>
            <a:ext cx="5545080" cy="865080"/>
            <a:chOff x="3419640" y="260280"/>
            <a:chExt cx="5545080" cy="865080"/>
          </a:xfrm>
        </p:grpSpPr>
        <p:grpSp>
          <p:nvGrpSpPr>
            <p:cNvPr id="92" name=""/>
            <p:cNvGrpSpPr/>
            <p:nvPr/>
          </p:nvGrpSpPr>
          <p:grpSpPr>
            <a:xfrm>
              <a:off x="3419640" y="260280"/>
              <a:ext cx="5545080" cy="865080"/>
              <a:chOff x="3419640" y="260280"/>
              <a:chExt cx="5545080" cy="865080"/>
            </a:xfrm>
          </p:grpSpPr>
          <p:sp>
            <p:nvSpPr>
              <p:cNvPr id="93" name=""/>
              <p:cNvSpPr/>
              <p:nvPr/>
            </p:nvSpPr>
            <p:spPr>
              <a:xfrm>
                <a:off x="3419640" y="260280"/>
                <a:ext cx="5545080" cy="865080"/>
              </a:xfrm>
              <a:prstGeom prst="roundRect">
                <a:avLst>
                  <a:gd name="adj" fmla="val 1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19640" y="260280"/>
                <a:ext cx="55450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Calibri"/>
                  </a:rPr>
                  <a:t>Attrezzature per il rilascio delle sostanze chimic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76720" y="692280"/>
            <a:ext cx="36784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