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BE1-ECEF-4640-9115-69F78F85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4F4-9D57-4B95-A820-9F8713F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08D-0E7A-4FE1-A96D-347CBF0B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242-6D11-4A61-8931-82060E70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5F6B-BAFA-4197-859E-E891C1B2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CD73-484F-4EAB-9324-2BB18B4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0513-3D25-484D-B499-1DD2D2CA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6021-6B14-43EF-9EB8-FCF9E84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F483-4AD9-445E-BBA6-A22EB21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2762-9751-4618-9EF0-B115A171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7BA2-4842-4B2E-8E75-0A380C3C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56B-1B15-42D3-87D8-05FC8F66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54E-CA9D-455F-B9CF-F3D1250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3C5F-E6B7-4CD1-9679-26FAA31B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9A57-86F2-4397-8154-F292785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C9FE-9878-44FB-9584-470DF62F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C07C-5B85-46EE-889A-5D420735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059-C49B-4C1B-A9E7-DAFD7713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C1B-4EC0-4FA0-A03E-38E623E2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DD5-0815-4BBF-9AE3-A71B4BD3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E5F-2304-419C-BBA0-B6F6442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325-03B9-4649-854A-AACE360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D24-157E-4677-A810-D51EEE7C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24A-72C3-4600-8EF1-0D002CB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5E5-03EF-4479-83E3-42017BB0E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3048-38E3-4646-920D-E79821C5B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a look at these photos...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so, in case you're wondering where this hotel is, it isn't a hotel at all.  </a:t>
            </a:r>
            <a:r>
              <a:rPr b="1" i="1" lang="en-US" sz="4200" spc="-1" strike="noStrike">
                <a:solidFill>
                  <a:srgbClr val="ffffff"/>
                </a:solidFill>
                <a:latin typeface="Comic Sans MS"/>
              </a:rPr>
              <a:t>It‘s someone’s home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's owned by the family o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 Sheikh Zayed bin Sultan A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hyan,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he former president of the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United Arab Emirat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ruler of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u-Dhabi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2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68580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is next Audi A8 in silver was made for a sheik...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t Is Made out of pure SILVER!!!!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mazing what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$1.25 a litre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of gas can buy,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isn't it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82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144000" cy="76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40Z</dcterms:created>
  <dc:creator>Jackie</dc:creator>
  <dc:description/>
  <dc:language>en-US</dc:language>
  <cp:lastModifiedBy>Admin</cp:lastModifiedBy>
  <dcterms:modified xsi:type="dcterms:W3CDTF">2005-10-28T21:54:00Z</dcterms:modified>
  <cp:revision>3</cp:revision>
  <dc:subject/>
  <dc:title>Take a look at the attached photos as well.... The Audi A8 in SILVER was made for a sheik.... IT IS NOT SILVER in COLOR, IT IS MADE out of SILVER!!!!!   Also,  in case you're wondering where this hotel is, it isn't a hotel at all.   It is a house!    It's owned by the family of  Sheikh Zayed bin Sultan Al Nahyan, the former president of the United Arab Emirates and ruler of Abu-Dhabi. </dc:title>
</cp:coreProperties>
</file>