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0B6-9343-4299-90E0-B4D7D8ED8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249B-5619-4485-B321-BB70D258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D8D-50A5-42CE-9691-0AAE4A74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D219-AB11-40C7-B0D4-9BFA26AD2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75907-5228-465D-9E90-B72A5E98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EE8C-17AB-48EF-B45A-89B12A02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174C-9615-4F4A-9079-691544FC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6963-202A-4569-ADC6-CB355DA6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08F2-5B8A-42A8-9B15-5081C49C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0005-26C1-4692-9B2C-58924F55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953B-334C-4B4E-AC0F-8A26B127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2969-DE05-40CE-8F07-BD814BE93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ECFF-8FD2-4711-BC11-059CD378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C1D3-1B0F-4C2B-99B2-5B6F3A11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37E8-97D9-42C7-A6E3-ADAAA5A0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8AE0-7319-4D3D-A5D2-BE48DA55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2A93-89FA-4420-A889-C88C7489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9788-E781-456B-BE87-21781CF6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B5D2-B895-41B3-B6F5-40A0FEE49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FF16-5F01-4732-A9C8-11012DFF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223-590C-461A-BBC2-A8C3E3D6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7421-A1ED-407C-9975-9FE03668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681-901D-41A2-8B73-449B6F45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3B3B-86FC-4140-B856-C5733EBB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A06E-C676-4207-9A6B-388662642B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6A69-0B2B-4999-923B-725E36C88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ke a look at these photos....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lso, in case you're wondering where this hotel is, it isn't a hotel at all.  </a:t>
            </a:r>
            <a:r>
              <a:rPr b="1" i="1" lang="en-US" sz="4200" spc="-1" strike="noStrike">
                <a:solidFill>
                  <a:srgbClr val="ffffff"/>
                </a:solidFill>
                <a:latin typeface="Comic Sans MS"/>
              </a:rPr>
              <a:t>It‘s someone’s home!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's owned by the family of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 Sheikh Zayed bin Sultan Al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hyan,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the former president of the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United Arab Emirate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nd ruler of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bu-Dhabi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2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296280" cy="68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6858000" cy="508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This next Audi A8 in silver was made for a sheik....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It Is Made out of pure SILVER!!!!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12952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Amazing what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$1.25 a litre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of gas can buy,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isn't it?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822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-399960"/>
            <a:ext cx="9144000" cy="76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43:40Z</dcterms:created>
  <dc:creator>Jackie</dc:creator>
  <dc:description/>
  <dc:language>en-US</dc:language>
  <cp:lastModifiedBy>Admin</cp:lastModifiedBy>
  <dcterms:modified xsi:type="dcterms:W3CDTF">2005-10-28T21:54:00Z</dcterms:modified>
  <cp:revision>3</cp:revision>
  <dc:subject/>
  <dc:title>Take a look at the attached photos as well.... The Audi A8 in SILVER was made for a sheik.... IT IS NOT SILVER in COLOR, IT IS MADE out of SILVER!!!!!   Also,  in case you're wondering where this hotel is, it isn't a hotel at all.   It is a house!    It's owned by the family of  Sheikh Zayed bin Sultan Al Nahyan, the former president of the United Arab Emirates and ruler of Abu-Dhabi. </dc:title>
</cp:coreProperties>
</file>