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243C-976E-4C60-898C-EF9B7501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BC57-E3FE-4AD7-A4C2-9B4379280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7C8E-E3EA-431B-AABA-E7BDE56D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0A0-DFA0-4D88-9F0B-EB5C774B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44CD-157F-4CB8-8FEF-A99EE2EE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CDC3-F68E-47A9-8D7A-FB995CF9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A75F-7321-496F-8E76-AFA32E26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73D6-3BB4-4795-B86C-1FD900A4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BC6D-CF1D-41F4-A118-A121DAE8D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E5D3-46C8-4087-9AAF-E5BB0C06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83A39-7FB1-47DD-8417-D607B322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8EC-B9AD-4682-AF5F-687360B0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2A13-5D23-4259-86F7-73268030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30A8-D04D-42C8-8A1C-3B52AF0A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F0A2C-0C1A-467F-B0F4-409CCA856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65B7-B488-43CF-8BAF-3D2F1928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0635-3AA9-45C6-9A20-1D8186C7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E0F-7BB8-425B-8FC0-E43A9F61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335-AC4A-45AA-9CFB-236B749E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DAA8-3C13-4D49-A570-042E2CCB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DC20-EBE8-4E43-912B-3A0726A6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27A-2FD9-407E-A456-0031B224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063-5254-402F-A529-9B4957A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438-3E65-4017-8800-08DE0A55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B7DC-11A2-4CF7-B1AE-61C3B726023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4A4-C15A-425C-99A2-FD2BC1BA5B03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8960" y="1052640"/>
            <a:ext cx="75294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996600"/>
                </a:solidFill>
                <a:latin typeface="Times New Roman"/>
              </a:rPr>
              <a:t>PRECETTO</a:t>
            </a:r>
            <a:br>
              <a:rPr sz="6000"/>
            </a:br>
            <a:br>
              <a:rPr sz="6000"/>
            </a:br>
            <a:r>
              <a:rPr b="0" lang="es-MX" sz="6000" spc="-1" strike="noStrike">
                <a:solidFill>
                  <a:srgbClr val="996600"/>
                </a:solidFill>
                <a:latin typeface="Times New Roman"/>
              </a:rPr>
              <a:t>CINESE</a:t>
            </a:r>
            <a:endParaRPr b="0" lang="en-US" sz="6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3280" y="1268280"/>
            <a:ext cx="746784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COMPRARE SESSO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L’AMOR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533160"/>
            <a:ext cx="795672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UN PRECETTO CINESE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ORTA FORTUNA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’ORIGINALE È INIZIATO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NEI PAESI BASSI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O PRECETTO HA GIÀ FATTO 8 VOLTE IL GIRO DEL MONDO, ORA È A TE CHE PORTERÀ FORTUNA. DOPO AVERE RICEVUTO QUESTA LETTERA,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U AVRAI  FORTUN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7617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O NON È UNO SCHERZO.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A FORTUNA TI ARRIVERÀ  PER POSTA O PER INTERNET.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s-MX" sz="5400" spc="-1" strike="noStrike">
                <a:solidFill>
                  <a:srgbClr val="996600"/>
                </a:solidFill>
                <a:latin typeface="Times New Roman"/>
              </a:rPr>
              <a:t>I</a:t>
            </a: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NVIA UNA COPIA DI QUESTA MAIL ALLE PERSONE CHE REALMENTE NECESSITANO FORTUNA, NON INVIARE DENARO, PERCHÈ LA FORTUNA NON SI COMPRA, E NON CONSERVARE LA MAIL OLTRE 96 ORE</a:t>
            </a:r>
            <a:br>
              <a:rPr sz="4000"/>
            </a:br>
            <a:r>
              <a:rPr b="1" lang="es-MX" sz="5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(4 GIORNI)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533520"/>
            <a:ext cx="795672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ALCUNI ESEMPI DI PERSONE CHE HANNO AVUTO FORTUNA DOPO AVER RICEVUTO QUESTA MISSIVA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COSTANTINO, RICEVETTE LA PRIMA LETTERA NEL 1953, CHIESE ALLA SUA SEGRETARIA DI FARNE 20 COPIE.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NOVE ORE PIÙ TARDI VINSE 99 MILIONI DI MARCHI NELLA LOTTERIA DEL SUO PAESE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ARLO, IMPIEGATO, RICEVETTE QUESTA STESSA LETTERA, E NON LA INVIÒ, ALCUNI GIORNI PIÙ TARDI PERSE IL LAVORO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GIORNI DOPO DECISE DI CONTINUARE LA CATENA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E DIVENNE RICC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NEL 1967, BRUNO RICEVETTE LA LETTERA, SE NE BURLÒ E LA BUTTÒ, ALCUNI GIORNI DOPO SUO FIGLIO SI AMMALÒ.</a:t>
            </a:r>
            <a:br>
              <a:rPr sz="4000"/>
            </a:br>
            <a:br>
              <a:rPr sz="4000"/>
            </a:b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CERCÒ LA LETTERA, LA COPIÒ 20 VOLTE E LA INVIÒ. NOVE GIORNI DOPO RICEVETTE LA BUONA NOTIZIA: SUO FIGLIO SANO E SALVO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A MAIL DELLA FORTUNA È STATA INVIATA DA ANTHONY DE CROUD, UN MISSIONARIO DELL’ AFRICA DEL SUD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3280" y="620640"/>
            <a:ext cx="7391520" cy="341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RECETTO CINESE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SUL </a:t>
            </a:r>
            <a:br>
              <a:rPr sz="4400"/>
            </a:br>
            <a:br>
              <a:rPr sz="20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DENARO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ENTRO 96 ORE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DOVRAI BUTTARE LA MAIL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A FORTUNA ARRIVERÁ IN MENO DI 4 GIORNI A PARTIRE DAL MOMENTO NEL QUALE HAI RICEVUTO QUESTA MAIL, SE FARAI QUELLO CHE TI VIENE RICHIES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A E’ VERITA’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QUESTA MAIL È STATA INVIATA PER DARE  FORTUNA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LA FORTUNA HA APPENA BUSSATO ALLA TUA POR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NVIA 20 COPIE AI TUOI AMICI, CONOSCENTI, FAMIGLIA.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TRA QUALCHE GIORNO AVRAI BUONE NOTIZIE O UNA GRANDE SORPRES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77336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O TE LA INVIO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CHÈ LA MAIL DEVE FARE IL GIRO DEL MOND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99840" y="1412640"/>
            <a:ext cx="7162920" cy="31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996600"/>
                </a:solidFill>
                <a:latin typeface="Times New Roman"/>
              </a:rPr>
              <a:t>INVIA SEMPLICEMENTE 20 COPIE E ASPETTA DI VEDERE CIÒ CHE SUCCEDERÁ IL NONO GIORNO.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996600"/>
                </a:solidFill>
                <a:latin typeface="Times New Roman"/>
              </a:rPr>
              <a:t>IMPORTANTE:</a:t>
            </a:r>
            <a:br>
              <a:rPr sz="3600"/>
            </a:br>
            <a:br>
              <a:rPr sz="3200"/>
            </a:br>
            <a:r>
              <a:rPr b="1" lang="es-MX" sz="3200" spc="-1" strike="noStrike">
                <a:solidFill>
                  <a:srgbClr val="996600"/>
                </a:solidFill>
                <a:latin typeface="Times New Roman"/>
              </a:rPr>
              <a:t>NON CAMBIARE NULLA DEL TESTO CHE TI È STATO INVIATO, COPIALO ESATTAMENTE COME TE LO ABBIAMO DATO.</a:t>
            </a:r>
            <a:br>
              <a:rPr sz="3200"/>
            </a:br>
            <a:br>
              <a:rPr sz="3600"/>
            </a:br>
            <a:r>
              <a:rPr b="0" lang="es-MX" sz="6600" spc="-1" strike="noStrike">
                <a:solidFill>
                  <a:srgbClr val="996600"/>
                </a:solidFill>
                <a:latin typeface="Times New Roman"/>
              </a:rPr>
              <a:t>BUONA FORTUNA.</a:t>
            </a:r>
            <a:br>
              <a:rPr sz="6600"/>
            </a:br>
            <a:br>
              <a:rPr sz="66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                                 J.A.B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1125360"/>
            <a:ext cx="36734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1523880"/>
            <a:ext cx="78850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OMPRARE UNA CASA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UNA FAMIGLIA,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1523880"/>
            <a:ext cx="78850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COMPRARE UN OROLOGIO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IL TEMP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03280" y="1483920"/>
            <a:ext cx="7315200" cy="336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COMPRARE UN LETTO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IL SONN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9907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OMPRARE UN LIBRO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PERÒ NON LA CONOSCENZ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31640" y="14839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PAGARE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UN MEDICO,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LA SALUTE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1294920"/>
            <a:ext cx="78487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COMPRARE</a:t>
            </a: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 UNA POSIZIONE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IL RISPETTO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76360" y="1413000"/>
            <a:ext cx="7445520" cy="393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IL DENARO PUÒ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COMPRARE IL SANGUE,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996600"/>
                </a:solidFill>
                <a:latin typeface="Times New Roman"/>
              </a:rPr>
              <a:t>PERÒ NON LA VITA.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</p:spTree>
  </p:cSld>
  <p:transition spd="med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18:54Z</dcterms:created>
  <dc:creator>.</dc:creator>
  <dc:description/>
  <dc:language>en-US</dc:language>
  <cp:lastModifiedBy>lorena</cp:lastModifiedBy>
  <dcterms:modified xsi:type="dcterms:W3CDTF">2007-07-14T23:34:22Z</dcterms:modified>
  <cp:revision>14</cp:revision>
  <dc:subject/>
  <dc:title>PRECEPTO  CHINO</dc:title>
</cp:coreProperties>
</file>