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7BA-EBF0-48A8-B55F-621E1051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216-D1C4-46D5-8899-3BB4171E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8FD-ACB1-4501-9246-D77185DD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072-E77F-4531-B5B6-E0FDD680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1C77-B3C9-49B3-9A91-9BB20684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3736-06D6-494A-AF2F-DD4110DC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3706-C05F-4240-9DAE-074964B9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217C-68F4-44A5-A362-52368D4F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FCF4-85D2-4433-A986-22BFD9D7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4803-09B3-45A0-9AD6-19E222A3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BE9A-4F27-48F0-8A5F-841A50F0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4E8-6AF8-400F-9D34-EBCBB5F3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F067-623D-4870-A6B7-CD38035A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D80B-CFEE-4FF8-81F4-DB7AEEED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6FF4-AD09-4CF6-A67D-F228EDA3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60E8-8940-410C-805B-B39D9446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8C8A-82AC-4607-8EFC-857E4C26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95C-4297-4B88-97B6-E5857A54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1CA-81CD-4EC5-ACE3-71DC2060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6E4-2BA9-40D3-93B7-0B71A3CC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6CF-4919-42B1-8E19-B9E73C50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39E-F08A-4B10-BDDC-A779C698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05B-1C11-45C5-B306-A682B3E8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674-B36F-4FAD-B274-2B448EBE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1734-DE66-407A-A32B-3F5DCD3639A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C59D-076A-4A81-80B9-13802653AB1C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1052640"/>
            <a:ext cx="75294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996600"/>
                </a:solidFill>
                <a:latin typeface="Times New Roman"/>
              </a:rPr>
              <a:t>PRECETTO</a:t>
            </a:r>
            <a:br>
              <a:rPr sz="6000"/>
            </a:br>
            <a:br>
              <a:rPr sz="6000"/>
            </a:br>
            <a:r>
              <a:rPr b="0" lang="es-MX" sz="6000" spc="-1" strike="noStrike">
                <a:solidFill>
                  <a:srgbClr val="996600"/>
                </a:solidFill>
                <a:latin typeface="Times New Roman"/>
              </a:rPr>
              <a:t>CINESE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3280" y="1268280"/>
            <a:ext cx="74678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L DENARO PUÒ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COMPRARE SESSO,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ERÒ NON L’AMOR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533160"/>
            <a:ext cx="79567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UN PRECETTO CINESE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ORTA FORTUNA,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L’ORIGINALE È INIZIATO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NEI PAESI BASSI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QUESTO PRECETTO HA GIÀ FATTO 8 VOLTE IL GIRO DEL MONDO, ORA È A TE CHE PORTERÀ FORTUNA. DOPO AVERE RICEVUTO QUESTA LETTERA,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TU AVRAI  FORTUN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QUESTO NON È UNO SCHERZO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LA FORTUNA TI ARRIVERÀ  PER POSTA O PER INTERNET.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lang="es-MX" sz="5400" spc="-1" strike="noStrike">
                <a:solidFill>
                  <a:srgbClr val="996600"/>
                </a:solidFill>
                <a:latin typeface="Times New Roman"/>
              </a:rPr>
              <a:t>I</a:t>
            </a: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NVIA UNA COPIA DI QUESTA MAIL ALLE PERSONE CHE REALMENTE NECESSITANO FORTUNA, NON INVIARE DENARO, PERCHÈ LA FORTUNA NON SI COMPRA, E NON CONSERVARE LA MAIL OLTRE 96 ORE</a:t>
            </a:r>
            <a:br>
              <a:rPr sz="4000"/>
            </a:br>
            <a:r>
              <a:rPr b="1" lang="es-MX" sz="5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(4 GIORNI)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533520"/>
            <a:ext cx="7956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ALCUNI ESEMPI DI PERSONE CHE HANNO AVUTO FORTUNA DOPO AVER RICEVUTO QUESTA MISSIV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6600"/>
                </a:solidFill>
                <a:latin typeface="Times New Roman"/>
              </a:rPr>
              <a:t>COSTANTINO, RICEVETTE LA PRIMA LETTERA NEL 1953, CHIESE ALLA SUA SEGRETARIA DI FARNE 20 COPIE.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996600"/>
                </a:solidFill>
                <a:latin typeface="Times New Roman"/>
              </a:rPr>
              <a:t>NOVE ORE PIÙ TARDI VINSE 99 MILIONI DI MARCHI NELLA LOTTERIA DEL SUO PAESE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CARLO, IMPIEGATO, RICEVETTE QUESTA STESSA LETTERA, E NON LA INVIÒ, ALCUNI GIORNI PIÙ TARDI PERSE IL LAVORO.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GIORNI DOPO DECISE DI CONTINUARE LA CATENA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E DIVENNE RICC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6600"/>
                </a:solidFill>
                <a:latin typeface="Times New Roman"/>
              </a:rPr>
              <a:t>NEL 1967, BRUNO RICEVETTE LA LETTERA, SE NE BURLÒ E LA BUTTÒ, ALCUNI GIORNI DOPO SUO FIGLIO SI AMMALÒ.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996600"/>
                </a:solidFill>
                <a:latin typeface="Times New Roman"/>
              </a:rPr>
              <a:t>CERCÒ LA LETTERA, LA COPIÒ 20 VOLTE E LA INVIÒ. NOVE GIORNI DOPO RICEVETTE LA BUONA NOTIZIA: SUO FIGLIO SANO E SALVO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QUESTA MAIL DELLA FORTUNA È STATA INVIATA DA ANTHONY DE CROUD, UN MISSIONARIO DELL’ AFRICA DEL SUD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39152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RECETTO CINESE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SUL </a:t>
            </a:r>
            <a:br>
              <a:rPr sz="4400"/>
            </a:br>
            <a:br>
              <a:rPr sz="20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DENARO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ENTRO 96 ORE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DOVRAI BUTTARE LA MAIL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LA FORTUNA ARRIVERÁ IN MENO DI 4 GIORNI A PARTIRE DAL MOMENTO NEL QUALE HAI RICEVUTO QUESTA MAIL, SE FARAI QUELLO CHE TI VIENE RICHIEST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QUESTA E’ VERITA’.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QUESTA MAIL È STATA INVIATA PER DARE  FORTUNA.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LA FORTUNA HA APPENA BUSSATO ALLA TUA PORT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NVIA 20 COPIE AI TUOI AMICI, CONOSCENTI, FAMIGLIA.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TRA QUALCHE GIORNO AVRAI BUONE NOTIZIE O UNA GRANDE SORPRES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773360"/>
            <a:ext cx="7772400" cy="311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O TE LA INVIO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ERCHÈ LA MAIL DEVE FARE IL GIRO DEL MOND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1412640"/>
            <a:ext cx="7162920" cy="31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6600"/>
                </a:solidFill>
                <a:latin typeface="Times New Roman"/>
              </a:rPr>
              <a:t>INVIA SEMPLICEMENTE 20 COPIE E ASPETTA DI VEDERE CIÒ CHE SUCCEDERÁ IL NONO GIORNO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IMPORTANTE:</a:t>
            </a:r>
            <a:br>
              <a:rPr sz="3600"/>
            </a:br>
            <a:br>
              <a:rPr sz="3200"/>
            </a:br>
            <a:r>
              <a:rPr b="1" lang="es-MX" sz="3200" spc="-1" strike="noStrike">
                <a:solidFill>
                  <a:srgbClr val="996600"/>
                </a:solidFill>
                <a:latin typeface="Times New Roman"/>
              </a:rPr>
              <a:t>NON CAMBIARE NULLA DEL TESTO CHE TI È STATO INVIATO, COPIALO ESATTAMENTE COME TE LO ABBIAMO DATO.</a:t>
            </a:r>
            <a:br>
              <a:rPr sz="3200"/>
            </a:br>
            <a:br>
              <a:rPr sz="3600"/>
            </a:br>
            <a:r>
              <a:rPr b="0" lang="es-MX" sz="6600" spc="-1" strike="noStrike">
                <a:solidFill>
                  <a:srgbClr val="996600"/>
                </a:solidFill>
                <a:latin typeface="Times New Roman"/>
              </a:rPr>
              <a:t>BUONA FORTUNA.</a:t>
            </a:r>
            <a:br>
              <a:rPr sz="6600"/>
            </a:br>
            <a:br>
              <a:rPr sz="66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                                 J.A.B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1125360"/>
            <a:ext cx="367344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1523880"/>
            <a:ext cx="78850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L DENARO PUÒ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COMPRARE UNA CASA,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ERÒ NON UNA FAMIGLIA,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1523880"/>
            <a:ext cx="78850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L DENARO PUÒ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COMPRARE UN OROLOGIO,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ERÒ NON IL TEMP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3280" y="1483920"/>
            <a:ext cx="7315200" cy="33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L DENARO PUÒ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COMPRARE UN LETTO,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ERÒ NON IL SONN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9907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L DENARO PUÒ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COMPRARE UN LIBRO,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PERÒ NON LA CONOSCENZ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1640" y="148392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L DENARO PUÒ PAGARE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UN MEDICO,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ERÒ NON LA SALUT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1294920"/>
            <a:ext cx="78487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L DENARO PUÒ COMPRARE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UNA POSIZIONE,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ERÒ NON IL RISPETT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360" y="1413000"/>
            <a:ext cx="7445520" cy="39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L DENARO PUÒ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COMPRARE IL SANGUE,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ERÒ NON LA VIT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1:18:54Z</dcterms:created>
  <dc:creator>.</dc:creator>
  <dc:description/>
  <dc:language>en-US</dc:language>
  <cp:lastModifiedBy>lorena</cp:lastModifiedBy>
  <dcterms:modified xsi:type="dcterms:W3CDTF">2007-07-14T23:34:22Z</dcterms:modified>
  <cp:revision>14</cp:revision>
  <dc:subject/>
  <dc:title>PRECEPTO  CHINO</dc:title>
</cp:coreProperties>
</file>