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33.png" ContentType="image/png"/>
  <Override PartName="/ppt/media/image17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media/image57.png" ContentType="image/png"/>
  <Override PartName="/ppt/media/image49.png" ContentType="image/png"/>
  <Override PartName="/ppt/media/image23.jpeg" ContentType="image/jpeg"/>
  <Override PartName="/ppt/media/image47.png" ContentType="image/png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59.jpeg" ContentType="image/jpeg"/>
  <Override PartName="/ppt/media/image54.png" ContentType="image/pn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44.png" ContentType="image/png"/>
  <Override PartName="/ppt/media/image13.jpeg" ContentType="image/jpeg"/>
  <Override PartName="/ppt/media/image18.jpeg" ContentType="image/jpeg"/>
  <Override PartName="/ppt/media/image15.jpeg" ContentType="image/jpeg"/>
  <Override PartName="/ppt/media/012%20South%20Africa's%20Finest%20%5BFreedom%20Mix%5D.wav" ContentType="audio/x-wav"/>
  <Override PartName="/ppt/media/image5.jpeg" ContentType="image/jpeg"/>
  <Override PartName="/ppt/media/image50.png" ContentType="image/png"/>
  <Override PartName="/ppt/media/image52.png" ContentType="image/png"/>
  <Override PartName="/ppt/media/image6.jpeg" ContentType="image/jpeg"/>
  <Override PartName="/ppt/media/image7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3.png" ContentType="image/png"/>
  <Override PartName="/ppt/media/image58.jpeg" ContentType="image/jpeg"/>
  <Override PartName="/ppt/media/image20.jpeg" ContentType="image/jpeg"/>
  <Override PartName="/ppt/media/image5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239-3F8A-4614-9FFD-21C07F86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BE4-E713-4816-9A81-5AFA9CF5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B4A-E34D-4DB9-B561-D1411A15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A9F-DBBF-45D3-94B7-6944E4D7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32D-B391-4566-94A1-FC7DDEBC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9BB-FDDD-4DCA-BCD1-A5B2F108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5AE-7264-4BBA-B155-DEC67304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7AE-DB76-4F85-855E-C7BCD2D5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873-EA93-4297-A468-2DF647AD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594-751E-4E8B-BA35-7E81B7B1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7A1-51B7-4091-B0F2-B0955161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33D-BB18-481E-B8A4-E4449630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F5F8-7FF6-4727-907E-28E11DC860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2%20South%20Africa&apos;s%20Finest%20%5BFreedom%20Mix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92720" y="5656320"/>
            <a:ext cx="38512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mitati di federazione di solidarietà con l'Africa n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ttp://www.umoy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1"/>
          <p:cNvSpPr/>
          <p:nvPr/>
        </p:nvSpPr>
        <p:spPr>
          <a:xfrm>
            <a:off x="3971880" y="3057480"/>
            <a:ext cx="120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68436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ukavu (R. D. Co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5" descr="ANd9GcTvW28V4bAsp6ha96qHw1fhFvJ0xGf5tWK0wS4KVnKBelwBO9Na3w"/>
          <p:cNvPicPr/>
          <p:nvPr/>
        </p:nvPicPr>
        <p:blipFill>
          <a:blip r:embed="rId1"/>
          <a:stretch/>
        </p:blipFill>
        <p:spPr>
          <a:xfrm>
            <a:off x="1258920" y="414972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me si estrae il colt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metodi di lavoro sono simili a quello dei vecchi cercatori d'oro del West america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3" descr="Extracción de coltan"/>
          <p:cNvPicPr/>
          <p:nvPr/>
        </p:nvPicPr>
        <p:blipFill>
          <a:blip r:embed="rId2"/>
          <a:stretch/>
        </p:blipFill>
        <p:spPr>
          <a:xfrm>
            <a:off x="4932360" y="1628640"/>
            <a:ext cx="3173400" cy="221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5" descr="01"/>
          <p:cNvPicPr/>
          <p:nvPr/>
        </p:nvPicPr>
        <p:blipFill>
          <a:blip r:embed="rId3"/>
          <a:stretch/>
        </p:blipFill>
        <p:spPr>
          <a:xfrm>
            <a:off x="4932360" y="3933720"/>
            <a:ext cx="32702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_africa_esclavos_chicos_coltan_1"/>
          <p:cNvPicPr/>
          <p:nvPr/>
        </p:nvPicPr>
        <p:blipFill>
          <a:blip r:embed="rId1"/>
          <a:stretch/>
        </p:blipFill>
        <p:spPr>
          <a:xfrm>
            <a:off x="324000" y="692280"/>
            <a:ext cx="2714400" cy="21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OLTAN-Congo-1-(Copyright-Hernán-Zin)"/>
          <p:cNvPicPr/>
          <p:nvPr/>
        </p:nvPicPr>
        <p:blipFill>
          <a:blip r:embed="rId2"/>
          <a:stretch/>
        </p:blipFill>
        <p:spPr>
          <a:xfrm>
            <a:off x="3132000" y="3141720"/>
            <a:ext cx="5400720" cy="348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OLTAN-Congo-22-(Copyright-Hern%C3%A1n-Zin)"/>
          <p:cNvPicPr/>
          <p:nvPr/>
        </p:nvPicPr>
        <p:blipFill>
          <a:blip r:embed="rId3"/>
          <a:stretch/>
        </p:blipFill>
        <p:spPr>
          <a:xfrm>
            <a:off x="468360" y="2924280"/>
            <a:ext cx="2390760" cy="378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olt%C3%A1n-mal+del+Congo"/>
          <p:cNvPicPr/>
          <p:nvPr/>
        </p:nvPicPr>
        <p:blipFill>
          <a:blip r:embed="rId4"/>
          <a:stretch/>
        </p:blipFill>
        <p:spPr>
          <a:xfrm>
            <a:off x="3276720" y="549360"/>
            <a:ext cx="5182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l lavoratore del col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 rot="10800000">
            <a:off x="457200" y="378576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8000" y="1285920"/>
            <a:ext cx="399564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buon lavoratore può produrre un chilo di coltan al giorno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guadagno di un lavoratore medio congolese è $ 10 al mese, mentre un lavoratore del coltan guadagna da $ 10 a $ 50 alla setti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0" descr="COLTAN-Congo-2-(Copyright-Hernán-Zin)"/>
          <p:cNvPicPr/>
          <p:nvPr/>
        </p:nvPicPr>
        <p:blipFill>
          <a:blip r:embed="rId1"/>
          <a:stretch/>
        </p:blipFill>
        <p:spPr>
          <a:xfrm>
            <a:off x="179280" y="1628640"/>
            <a:ext cx="4969080" cy="3146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1"/>
          <p:cNvSpPr/>
          <p:nvPr/>
        </p:nvSpPr>
        <p:spPr>
          <a:xfrm>
            <a:off x="324000" y="5143680"/>
            <a:ext cx="8351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boom recente tecnologia ha fatto schizzare il prezzo del coltan a 500 dollari al chilo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 Aziende come Bayer, Nokia e Sony se lo contend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hi lavora nelle mini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vani agricoltori e allevatori che lasciano i loro cam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follati dalla gu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gionieri di gu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igliaia di bambini, i cui corpi possono facilmente infilarsi sottoterra nelle mini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mpre sorvegliati dai sold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nseguenze di questa situ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schi e campi si trasformano in pan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gazzi e le ragazze non vanno a scu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lte malattie per mancanza di acqua pulita, cibo, giorni estenuanti ... AIDS e conduce alla m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ersi gruppi armati il controllo delle mini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chilo di coltan viene estratto costa la vita di due bambi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lti di questi bambini e giovani muoiono a causa di frane terrib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hild_soldiers_in_the_congo"/>
          <p:cNvPicPr/>
          <p:nvPr/>
        </p:nvPicPr>
        <p:blipFill>
          <a:blip r:embed="rId1"/>
          <a:stretch/>
        </p:blipFill>
        <p:spPr>
          <a:xfrm>
            <a:off x="5076720" y="1268280"/>
            <a:ext cx="3376800" cy="249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oor-kid"/>
          <p:cNvPicPr/>
          <p:nvPr/>
        </p:nvPicPr>
        <p:blipFill>
          <a:blip r:embed="rId2"/>
          <a:stretch/>
        </p:blipFill>
        <p:spPr>
          <a:xfrm>
            <a:off x="5651640" y="429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ltre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onseguenze di questa situ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381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liaia di spostamenti forz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liaia di civili fuggiti dalle loro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lioni di rifugi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olazione degli anziani, donne e ragaz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0081028elpepuint_16"/>
          <p:cNvPicPr/>
          <p:nvPr/>
        </p:nvPicPr>
        <p:blipFill>
          <a:blip r:embed="rId1"/>
          <a:stretch/>
        </p:blipFill>
        <p:spPr>
          <a:xfrm>
            <a:off x="4643280" y="1197000"/>
            <a:ext cx="3673800" cy="264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Rwandan_refugee_camp_in_east_Zaire"/>
          <p:cNvPicPr/>
          <p:nvPr/>
        </p:nvPicPr>
        <p:blipFill>
          <a:blip r:embed="rId2"/>
          <a:stretch/>
        </p:blipFill>
        <p:spPr>
          <a:xfrm>
            <a:off x="4643280" y="4005360"/>
            <a:ext cx="3745080" cy="25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_25"/>
          <p:cNvPicPr/>
          <p:nvPr/>
        </p:nvPicPr>
        <p:blipFill>
          <a:blip r:embed="rId1"/>
          <a:stretch/>
        </p:blipFill>
        <p:spPr>
          <a:xfrm>
            <a:off x="4859280" y="407664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nseguenze ambient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estrarre il coltan del Congo hanno invaso parchi nazio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lavoratori del coltan lavorano dall'alba al tramo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rmono e mangiano nella zona selvagge di montag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mettono di coltivare la loro t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opolazione degl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lefa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scesa dell'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opolazione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orill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diminuita del 9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Nd9GcTJ2mAHNm-3k8sOFaGJmK_9KnoVoPtRhjslTjEXrVGV6jPpORh5ag"/>
          <p:cNvPicPr/>
          <p:nvPr/>
        </p:nvPicPr>
        <p:blipFill>
          <a:blip r:embed="rId2"/>
          <a:stretch/>
        </p:blipFill>
        <p:spPr>
          <a:xfrm>
            <a:off x="5508720" y="1125360"/>
            <a:ext cx="2457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congo_lead"/>
          <p:cNvPicPr/>
          <p:nvPr/>
        </p:nvPicPr>
        <p:blipFill>
          <a:blip r:embed="rId1"/>
          <a:stretch/>
        </p:blipFill>
        <p:spPr>
          <a:xfrm>
            <a:off x="250920" y="1341360"/>
            <a:ext cx="6896160" cy="3448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hi finanzia il conflitt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5840" y="1267920"/>
            <a:ext cx="3900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rapporto delle Nazioni Unite ha portato alla luce lo sfruttamento delle risorse naturali del Con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ono rapporti che dimostrano che Ruanda, Uganda e Burundi sono coinvolti nel traffico di coltan in Congo, e utilizzano i profitti generati dal suo prezzo elevato per continuare la gu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tima che l'esercito ruandese riceve almeno 250 milioni dollari in 18 mesi dalla vendita di coltan, anche se il Ruanda non ha col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0920" y="501336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utti i paesi coinvolti nel conflitto negano di avere sfruttato le risorse naturali del Con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912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erché non fermare la guerra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672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ziende multinazionali nome come: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ki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atel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l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kon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ricson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ayer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citate nel rapporto delle Nazioni Unite come saccheggiatori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anziano la guerr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sostengono i governi corrotti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0006121nokia4"/>
          <p:cNvPicPr/>
          <p:nvPr/>
        </p:nvPicPr>
        <p:blipFill>
          <a:blip r:embed="rId1"/>
          <a:stretch/>
        </p:blipFill>
        <p:spPr>
          <a:xfrm>
            <a:off x="6084720" y="3716280"/>
            <a:ext cx="2138400" cy="2590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!Bnqg+rQBGk~$(KGrHqUH-DEEuOurQR25BLkZ(3krpg~~_35"/>
          <p:cNvPicPr/>
          <p:nvPr/>
        </p:nvPicPr>
        <p:blipFill>
          <a:blip r:embed="rId2"/>
          <a:stretch/>
        </p:blipFill>
        <p:spPr>
          <a:xfrm>
            <a:off x="6659640" y="1557360"/>
            <a:ext cx="1928880" cy="208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656240" y="3946680"/>
            <a:ext cx="403056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n 49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162216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58" descr=""/>
          <p:cNvPicPr/>
          <p:nvPr/>
        </p:nvPicPr>
        <p:blipFill>
          <a:blip r:embed="rId4"/>
          <a:stretch/>
        </p:blipFill>
        <p:spPr>
          <a:xfrm>
            <a:off x="4067280" y="1844640"/>
            <a:ext cx="208728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soldier-group"/>
          <p:cNvPicPr/>
          <p:nvPr/>
        </p:nvPicPr>
        <p:blipFill>
          <a:blip r:embed="rId1"/>
          <a:stretch/>
        </p:blipFill>
        <p:spPr>
          <a:xfrm>
            <a:off x="6858000" y="5334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soldier-speed"/>
          <p:cNvPicPr/>
          <p:nvPr/>
        </p:nvPicPr>
        <p:blipFill>
          <a:blip r:embed="rId2"/>
          <a:stretch/>
        </p:blipFill>
        <p:spPr>
          <a:xfrm>
            <a:off x="0" y="53341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erché non fermare la guerra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ché i principali produttori di computer, telefoni, videogiochi ..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on vogliono che si ferm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    con il consenso del governo.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media non ne parlan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la guerra si ferma non si faranno più affari con coltan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i se ne frega dei più di 5 milioni di morti che ha caus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hildren-soldier2"/>
          <p:cNvPicPr/>
          <p:nvPr/>
        </p:nvPicPr>
        <p:blipFill>
          <a:blip r:embed="rId3"/>
          <a:stretch/>
        </p:blipFill>
        <p:spPr>
          <a:xfrm>
            <a:off x="2556000" y="495288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woman-childs"/>
          <p:cNvPicPr/>
          <p:nvPr/>
        </p:nvPicPr>
        <p:blipFill>
          <a:blip r:embed="rId4"/>
          <a:stretch/>
        </p:blipFill>
        <p:spPr>
          <a:xfrm>
            <a:off x="4908600" y="4941720"/>
            <a:ext cx="15177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539640" y="1052640"/>
            <a:ext cx="324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Africa,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Congo,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Guerra,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COLTÁN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IL TUO TELEFON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apa-republica-democratica-congo"/>
          <p:cNvPicPr/>
          <p:nvPr/>
        </p:nvPicPr>
        <p:blipFill>
          <a:blip r:embed="rId1"/>
          <a:stretch/>
        </p:blipFill>
        <p:spPr>
          <a:xfrm>
            <a:off x="3924360" y="98100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he cosa possiamo f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17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ORMARE MEG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NUNCIARE questa real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FFONDERE quello che già sappia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bisogno di un telefono nuovo ogni an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bisogno di consumare così ta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le la pena l'usa e get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di il telefono non u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scialo nei punti di riciclagg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bOT-S920"/>
          <p:cNvPicPr/>
          <p:nvPr/>
        </p:nvPicPr>
        <p:blipFill>
          <a:blip r:embed="rId1"/>
          <a:stretch/>
        </p:blipFill>
        <p:spPr>
          <a:xfrm>
            <a:off x="5032440" y="1778040"/>
            <a:ext cx="1488960" cy="192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con-Bluetooth"/>
          <p:cNvPicPr/>
          <p:nvPr/>
        </p:nvPicPr>
        <p:blipFill>
          <a:blip r:embed="rId2"/>
          <a:stretch/>
        </p:blipFill>
        <p:spPr>
          <a:xfrm>
            <a:off x="6372360" y="2276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con-correoelectronico"/>
          <p:cNvPicPr/>
          <p:nvPr/>
        </p:nvPicPr>
        <p:blipFill>
          <a:blip r:embed="rId3"/>
          <a:stretch/>
        </p:blipFill>
        <p:spPr>
          <a:xfrm>
            <a:off x="6659640" y="2276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con-manoslibres"/>
          <p:cNvPicPr/>
          <p:nvPr/>
        </p:nvPicPr>
        <p:blipFill>
          <a:blip r:embed="rId4"/>
          <a:stretch/>
        </p:blipFill>
        <p:spPr>
          <a:xfrm>
            <a:off x="694836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con-video"/>
          <p:cNvPicPr/>
          <p:nvPr/>
        </p:nvPicPr>
        <p:blipFill>
          <a:blip r:embed="rId5"/>
          <a:stretch/>
        </p:blipFill>
        <p:spPr>
          <a:xfrm>
            <a:off x="637236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con-foto"/>
          <p:cNvPicPr/>
          <p:nvPr/>
        </p:nvPicPr>
        <p:blipFill>
          <a:blip r:embed="rId6"/>
          <a:stretch/>
        </p:blipFill>
        <p:spPr>
          <a:xfrm>
            <a:off x="665964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con-gsm"/>
          <p:cNvPicPr/>
          <p:nvPr/>
        </p:nvPicPr>
        <p:blipFill>
          <a:blip r:embed="rId7"/>
          <a:stretch/>
        </p:blipFill>
        <p:spPr>
          <a:xfrm>
            <a:off x="694836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con-fm"/>
          <p:cNvPicPr/>
          <p:nvPr/>
        </p:nvPicPr>
        <p:blipFill>
          <a:blip r:embed="rId8"/>
          <a:stretch/>
        </p:blipFill>
        <p:spPr>
          <a:xfrm>
            <a:off x="723600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con-tactil"/>
          <p:cNvPicPr/>
          <p:nvPr/>
        </p:nvPicPr>
        <p:blipFill>
          <a:blip r:embed="rId9"/>
          <a:stretch/>
        </p:blipFill>
        <p:spPr>
          <a:xfrm>
            <a:off x="637236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con-pantalla"/>
          <p:cNvPicPr/>
          <p:nvPr/>
        </p:nvPicPr>
        <p:blipFill>
          <a:blip r:embed="rId10"/>
          <a:stretch/>
        </p:blipFill>
        <p:spPr>
          <a:xfrm>
            <a:off x="665964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con-memoria"/>
          <p:cNvPicPr/>
          <p:nvPr/>
        </p:nvPicPr>
        <p:blipFill>
          <a:blip r:embed="rId11"/>
          <a:stretch/>
        </p:blipFill>
        <p:spPr>
          <a:xfrm>
            <a:off x="694836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icon-mp3"/>
          <p:cNvPicPr/>
          <p:nvPr/>
        </p:nvPicPr>
        <p:blipFill>
          <a:blip r:embed="rId12"/>
          <a:stretch/>
        </p:blipFill>
        <p:spPr>
          <a:xfrm>
            <a:off x="723600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icon-qwerty"/>
          <p:cNvPicPr/>
          <p:nvPr/>
        </p:nvPicPr>
        <p:blipFill>
          <a:blip r:embed="rId13"/>
          <a:stretch/>
        </p:blipFill>
        <p:spPr>
          <a:xfrm>
            <a:off x="752472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icon-gps"/>
          <p:cNvPicPr/>
          <p:nvPr/>
        </p:nvPicPr>
        <p:blipFill>
          <a:blip r:embed="rId14"/>
          <a:stretch/>
        </p:blipFill>
        <p:spPr>
          <a:xfrm>
            <a:off x="637236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icon-battery"/>
          <p:cNvPicPr/>
          <p:nvPr/>
        </p:nvPicPr>
        <p:blipFill>
          <a:blip r:embed="rId15"/>
          <a:stretch/>
        </p:blipFill>
        <p:spPr>
          <a:xfrm>
            <a:off x="665964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icon-tarjetamemoria"/>
          <p:cNvPicPr/>
          <p:nvPr/>
        </p:nvPicPr>
        <p:blipFill>
          <a:blip r:embed="rId16"/>
          <a:stretch/>
        </p:blipFill>
        <p:spPr>
          <a:xfrm>
            <a:off x="6948360" y="31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icon-wifi"/>
          <p:cNvPicPr/>
          <p:nvPr/>
        </p:nvPicPr>
        <p:blipFill>
          <a:blip r:embed="rId17"/>
          <a:stretch/>
        </p:blipFill>
        <p:spPr>
          <a:xfrm>
            <a:off x="723600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Imagen 40" descr=""/>
          <p:cNvPicPr/>
          <p:nvPr/>
        </p:nvPicPr>
        <p:blipFill>
          <a:blip r:embed="rId18"/>
          <a:stretch/>
        </p:blipFill>
        <p:spPr>
          <a:xfrm>
            <a:off x="4932360" y="3830760"/>
            <a:ext cx="31701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formati  e diffondi attraverso la r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35798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outu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witter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worldred"/>
          <p:cNvPicPr/>
          <p:nvPr/>
        </p:nvPicPr>
        <p:blipFill>
          <a:blip r:embed="rId1"/>
          <a:stretch/>
        </p:blipFill>
        <p:spPr>
          <a:xfrm>
            <a:off x="4716360" y="1484280"/>
            <a:ext cx="4030920" cy="3427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763640" y="4046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 tu?.. E io?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97920" y="5929200"/>
            <a:ext cx="90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n futuro senza povertà ed esclusione dipende anche da 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53720" y="518328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llo ai tuoi amici, parenti, conoscenti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 conclusion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Congo, un paese immensamente ricco, vive impoverito.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Congo è dissanguato dalla cupidigia delle multinazionali in collusione con i governi.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nostro sviluppo e benessere è a scapito della loro povertà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2-final-bandeau-coltan-copie"/>
          <p:cNvPicPr/>
          <p:nvPr/>
        </p:nvPicPr>
        <p:blipFill>
          <a:blip r:embed="rId1"/>
          <a:stretch/>
        </p:blipFill>
        <p:spPr>
          <a:xfrm>
            <a:off x="468360" y="1484280"/>
            <a:ext cx="8253360" cy="5092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NON VOGLIO CHE IL MIO CELLULARE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ERVA A PAGARE UNA GU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n315764"/>
          <p:cNvPicPr/>
          <p:nvPr/>
        </p:nvPicPr>
        <p:blipFill>
          <a:blip r:embed="rId2"/>
          <a:stretch/>
        </p:blipFill>
        <p:spPr>
          <a:xfrm>
            <a:off x="5435640" y="115920"/>
            <a:ext cx="30099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79280" y="476280"/>
            <a:ext cx="871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ve si trova la Repubblica Democratica del Con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e cosa ha a che fare con il mio cellul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EPUBLIQUE_DU_CONGO"/>
          <p:cNvPicPr/>
          <p:nvPr/>
        </p:nvPicPr>
        <p:blipFill>
          <a:blip r:embed="rId1"/>
          <a:stretch/>
        </p:blipFill>
        <p:spPr>
          <a:xfrm>
            <a:off x="4716360" y="2781360"/>
            <a:ext cx="3457800" cy="345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mapa_de_africa_politico"/>
          <p:cNvPicPr/>
          <p:nvPr/>
        </p:nvPicPr>
        <p:blipFill>
          <a:blip r:embed="rId2"/>
          <a:stretch/>
        </p:blipFill>
        <p:spPr>
          <a:xfrm>
            <a:off x="324000" y="2349360"/>
            <a:ext cx="3538440" cy="4319640"/>
          </a:xfrm>
          <a:prstGeom prst="rect">
            <a:avLst/>
          </a:prstGeom>
          <a:ln w="0">
            <a:noFill/>
          </a:ln>
        </p:spPr>
      </p:pic>
      <p:sp>
        <p:nvSpPr>
          <p:cNvPr id="52" name="Line 14"/>
          <p:cNvSpPr/>
          <p:nvPr/>
        </p:nvSpPr>
        <p:spPr>
          <a:xfrm flipV="1">
            <a:off x="2340000" y="4724280"/>
            <a:ext cx="2879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0008781"/>
          <p:cNvPicPr/>
          <p:nvPr/>
        </p:nvPicPr>
        <p:blipFill>
          <a:blip r:embed="rId1"/>
          <a:stretch/>
        </p:blipFill>
        <p:spPr>
          <a:xfrm>
            <a:off x="3933720" y="620640"/>
            <a:ext cx="4959360" cy="518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0" y="1628640"/>
            <a:ext cx="3995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polazione: Più di 70 milioni di abitant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ranza di vita: 47 ann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ea 2,34 milioni km ²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Quasi 8 volte l’Italia)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pitale: Kinshas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esidente Joseph Kabil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giori riserve ecologiche e mineral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80% delle riserve mondiali di col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50920" y="333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ubblica Democratica del C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l Coltan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oro bia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tan è l'abbreviazione di due minerali colombio e tantal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molto raro in n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tratta di una risorsa strategica, essenziale per lo sviluppo di nuove tecnolog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ANd9GcSZ8GoOzJRb3VWsgNoWhPojjQXvpMN-08L8DzkxW-sRIOOIIwPP"/>
          <p:cNvPicPr/>
          <p:nvPr/>
        </p:nvPicPr>
        <p:blipFill>
          <a:blip r:embed="rId1"/>
          <a:stretch/>
        </p:blipFill>
        <p:spPr>
          <a:xfrm>
            <a:off x="5435640" y="162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Nd9GcRk6Ukdiaecascp-xekcOXkFpde-NGiP1KGsZ90iIr6wQ_STK4v"/>
          <p:cNvPicPr/>
          <p:nvPr/>
        </p:nvPicPr>
        <p:blipFill>
          <a:blip r:embed="rId2"/>
          <a:stretch/>
        </p:blipFill>
        <p:spPr>
          <a:xfrm>
            <a:off x="5433840" y="41083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4211640" y="3500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l + tan = coltá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 Cosa 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la fabbricazione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lefoni cellula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GPS, satelliti, armi guidate, televisori al plasma, console per videogiochi, computer portatili, PDA, MP3, MP4, razzi spaziali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issi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giocattoli elettronici, macchine fotografich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ANd9GcS2IZi9uNNUd8PdLr27Q67e2yAk4PMUMl3SGRVrRtmL-l4WnDqq"/>
          <p:cNvPicPr/>
          <p:nvPr/>
        </p:nvPicPr>
        <p:blipFill>
          <a:blip r:embed="rId1"/>
          <a:stretch/>
        </p:blipFill>
        <p:spPr>
          <a:xfrm>
            <a:off x="4356000" y="1484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ANd9GcSBP-C-EeJ8XC_el8-pU7R8dBsZHbBGzY2odckcAToE0UR1LbUB"/>
          <p:cNvPicPr/>
          <p:nvPr/>
        </p:nvPicPr>
        <p:blipFill>
          <a:blip r:embed="rId2"/>
          <a:stretch/>
        </p:blipFill>
        <p:spPr>
          <a:xfrm>
            <a:off x="6372360" y="1484280"/>
            <a:ext cx="254304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ANd9GcT3M2z-gIsN8W0l_6AYmIOuFeQJICf_IT-gFfjwcUpCQ5rN1P9Pqw"/>
          <p:cNvPicPr/>
          <p:nvPr/>
        </p:nvPicPr>
        <p:blipFill>
          <a:blip r:embed="rId3"/>
          <a:stretch/>
        </p:blipFill>
        <p:spPr>
          <a:xfrm>
            <a:off x="5364000" y="4076640"/>
            <a:ext cx="24861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8" descr="ANd9GcSMuhF4uFCROHW0emsZDpIHkVusB8hCNl8XBAWWBHrq9tlHOWLv"/>
          <p:cNvPicPr/>
          <p:nvPr/>
        </p:nvPicPr>
        <p:blipFill>
          <a:blip r:embed="rId1"/>
          <a:stretch/>
        </p:blipFill>
        <p:spPr>
          <a:xfrm>
            <a:off x="4859280" y="5013360"/>
            <a:ext cx="2521080" cy="1292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ove si tro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Brasile 5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Thailandia 5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Africa 8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Australia1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8" descr="peters"/>
          <p:cNvPicPr/>
          <p:nvPr/>
        </p:nvPicPr>
        <p:blipFill>
          <a:blip r:embed="rId2"/>
          <a:stretch/>
        </p:blipFill>
        <p:spPr>
          <a:xfrm>
            <a:off x="3924360" y="1628640"/>
            <a:ext cx="4830840" cy="3135600"/>
          </a:xfrm>
          <a:prstGeom prst="rect">
            <a:avLst/>
          </a:prstGeom>
          <a:ln w="0">
            <a:noFill/>
          </a:ln>
        </p:spPr>
      </p:pic>
      <p:sp>
        <p:nvSpPr>
          <p:cNvPr id="70" name="Line 29"/>
          <p:cNvSpPr/>
          <p:nvPr/>
        </p:nvSpPr>
        <p:spPr>
          <a:xfrm flipV="1">
            <a:off x="2987640" y="3933720"/>
            <a:ext cx="5040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 flipV="1">
            <a:off x="2627280" y="3284640"/>
            <a:ext cx="3960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2340000" y="2349360"/>
            <a:ext cx="331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 flipV="1">
            <a:off x="2916360" y="2852280"/>
            <a:ext cx="4751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onflict-minerals-company-logos_small"/>
          <p:cNvPicPr/>
          <p:nvPr/>
        </p:nvPicPr>
        <p:blipFill>
          <a:blip r:embed="rId1"/>
          <a:stretch/>
        </p:blipFill>
        <p:spPr>
          <a:xfrm>
            <a:off x="611280" y="1125360"/>
            <a:ext cx="7848360" cy="54849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hi trae guadagno dal colt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rtisanal coltan mining in Mozambique. Almost all of the mining is carried out manually "/>
          <p:cNvPicPr/>
          <p:nvPr/>
        </p:nvPicPr>
        <p:blipFill>
          <a:blip r:embed="rId1"/>
          <a:stretch/>
        </p:blipFill>
        <p:spPr>
          <a:xfrm>
            <a:off x="1116000" y="1268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NDIAMO AD UNA MINIERA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55:40Z</dcterms:created>
  <dc:creator>xabier</dc:creator>
  <dc:description/>
  <dc:language>en-US</dc:language>
  <cp:lastModifiedBy>Puccio</cp:lastModifiedBy>
  <dcterms:modified xsi:type="dcterms:W3CDTF">2012-01-29T11:27:45Z</dcterms:modified>
  <cp:revision>23</cp:revision>
  <dc:subject/>
  <dc:title>Grandes lagos, grandes crímenes, grandes injusticias</dc:title>
</cp:coreProperties>
</file>