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9BB11-81CD-4B2D-9703-705CD7B7C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4E673-79A7-4FCD-AA3C-E82326826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B0FCB-0382-4DCE-99CB-5BF271624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8DE5-6380-4EB8-A6AD-B396F92DA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F7923-A958-47D6-8D49-7A76B4287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56A0B-45F5-4D62-A2E1-15E5A0CD1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212A-0DA0-4949-B452-E10BAFF4E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62C6-E496-4184-BE2A-F79846FB4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A756C-0E7C-4390-9949-B32FE5582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3C51D-3B6B-450B-8857-0FE75AE6D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51085-B9D0-4A07-AACA-1E0570717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443B3-EB47-42F6-9903-EBF5F08C7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0632-E475-4FDE-8BBA-75C99F644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8591-76C5-4B90-8BF0-1FE001558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C567B-383E-4C3F-901E-88F13B159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3110-C8C4-4DEA-8253-1EC7736CC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7BD70-382B-4BE3-A8F1-60D3B2244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2B48-86C8-4B88-B902-89F486F4F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DED40-29BD-45C4-8505-3A5188EC2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1B2D9-C586-43E9-9BB2-261C5F392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5DD2A-5AE8-4C8B-ADF2-72BCA60B6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C7441-9B60-4923-B500-83EF14672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3E531-A775-4CA2-A611-A30CE7039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2594-9BE6-48C3-A45D-A4F99109E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3F67C-996F-4E29-B966-D2C906390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ECCF6-4774-4419-B151-054508EA5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78CBD-4FFC-4B23-9DD4-36E32B79E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C5E9-22DF-4776-8148-8244A2796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BFBB-DB3A-4585-BD3B-AE14590D3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D089F-C0CD-4377-9EAD-94CDC11AF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C9E73-7B6C-4023-9D08-46B08C62A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F61D0-D804-4709-B401-BFEE9F434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4D7C3-6FAB-4965-AA69-C75C02ADD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49711-A004-4F32-9110-AA77CED0A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F50D7-2DFA-4289-87FA-9514A70C9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F5B7F-4E99-4C43-BAA9-25214454C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62A7A-FA89-4735-BAC1-862B9EB95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FCD41-CE71-4E0D-8E8D-6C384E5A7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66BBC-D9D0-4690-8555-D3A571630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1EF2D-1BB4-4783-94D4-C21656FD9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433-B013-4218-ABF4-CA8F47B8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336-2463-44DD-908B-2161857E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E52-340E-417F-9A3C-1841748E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C8D-4763-46B0-BB13-B97A240B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A5A-40E8-4B95-9C91-1D6B152A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1FD-AA4E-405E-AA12-3B57D82C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9D2-EB52-44EB-B898-6C15CDC2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286-8D83-4A57-AF96-F2D050C7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238-8D37-41AB-AAE8-EC362FD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B0F-BF9B-4481-883F-934E3B8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1D4-F4D7-45AC-9778-8688098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9AF-78E9-48E2-ACBC-D305C34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EF472C-1EE7-4A2F-9F06-9D6D6617D2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3520" y="914400"/>
            <a:ext cx="8001000" cy="44197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a triste storia degli inoffensivi sacchetti di plastica che addirittura ci „regalano“ i commessi dei supermercati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trovano la loro stada verso il mare nelle fogne e negli impianti idrau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i sono visti sacchetti di plastica galleggiare a nord del Circolo Artico vicino a Spitzbergen e molti di piú al sud, nelle isole Mal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724280" cy="3335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In Costa Artica Britan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rappresentano piú del 10% dei rifiuti che giungono a riva delle coste degli Stati Unit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Programma di Monitoraggio della mondezza della Marina Na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si fotodegradan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on il passare del tempo si decompongono in petro-polimeri piú piccoli e toss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Che infine contamineranno i suoli e le vie fluvia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 conseguenza, particelle microscopiche possono iniziare a far parte della catena ali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6 Novembr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427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'effetto sulla vita marina puó essere catastro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i uccelli restano incastrati senza speranza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irca 200 differenti specie di vita marina, includendo balene, delfini, foche e tartarughe muoiono a causa delle borse di pla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06280"/>
            <a:ext cx="807732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Un'informazione emessa dall'Agenzia di Protezione Ambientale degli Stati Uniti rivela che si consuma approssimatamente ogni anno, in tutto il mondo, tra 500 bilioni e un trilione di sacchetti di plastica.</a:t>
            </a:r>
            <a:br>
              <a:rPr sz="4000"/>
            </a:br>
            <a:br>
              <a:rPr sz="4000"/>
            </a:b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tizia National Geographic del 2 Settembre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837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uoiono dopo aver ingerito i sacchetti di plastica che scambiano per ci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ll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Tahoma"/>
              </a:rPr>
              <a:t>Che facciamo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e usiamo una borsa di tela, possiamo risparmiare 6 sacchetti a setti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Vale a dire, 24 sacchetti al m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Ossia, 288 sacchetti all'an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vvero, 22,176 sacchetti durante una vit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 solo 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1 su ogni 5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ersone nel nostro paese fará questo, risparmieremo  </a:t>
            </a:r>
            <a:br>
              <a:rPr sz="28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1.330.560.000.000 sacchetti </a:t>
            </a:r>
            <a:br>
              <a:rPr sz="40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urante la nostra 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Il Bangladesh ha proibito i sacchetti di plast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MSNBC.com 8 Marzo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La Cina ha proibito i sacchetti di plastica gratu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9 Genn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4190760" cy="284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'Irlanda fu la prima in Europa a mettere le tasse sui sacchetti di plastica nel 2002. In questo modo, ne ha ridotto il consumo del 9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BC Noticias 20 Agosto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Meno dell'1% dei sacchetti viene riciclato. É piú costoso riciclare un sacchetto che produrne uno nu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Giorn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i Monitoraggio della Scienza Cristi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Nel 2005, il Rwanda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ha proibito i sacchetti di plast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Prensa Asoci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che Israele, Canada, India dell'ovest, Botswana, Kenya, Tanzania, Sud Africa, Taiwán e Singapore hanno proibito o sono in processo di proibire i sacchetti di pl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PlanetSave.com 16 Febbr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Il 27 Marzo 2007, San Francisco divenne la prima cittá che proibisce i sacchetti di plastica negli Stati Un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akland e Boston stanno considerando la proibi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The Boston Globe 20 Maggio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sono fatti di polietilene: un termoplastico che si ottiene dal petr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308592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iducendo l'uso dei sacchetti di plastica si diminuirá il consumo del petrolio, risorsa non rinnovabile e che provoca molte guer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74600"/>
            <a:ext cx="8305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 Cina risparmierá 37 milioni di barili di petrolio ogni  anno grazie alla proibizione dei sacchetti di plastica gratu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9 Genn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5580000" y="1143000"/>
            <a:ext cx="331776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É possib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1371600"/>
            <a:ext cx="4495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'é gente che ignora tutto quest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 tu n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U ORMAI LO SA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4724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ora che lo sa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56386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i che tu, sí, tu, puoi aiutare il pianeta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53341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on é niente piú che averne voglia; in poco tempo si prende l'abitudine di andare al supermercato con una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RSA DI STOF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2880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"/>
          <p:cNvSpPr txBox="1"/>
          <p:nvPr/>
        </p:nvSpPr>
        <p:spPr>
          <a:xfrm>
            <a:off x="179280" y="1079640"/>
            <a:ext cx="88203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ei con noi? O non ne hai „voglia“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63244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Comic Sans MS"/>
              </a:rPr>
              <a:t>Jolubate ti invita. Se non lo fai, non ti succederá nulla. Se lo fai, TI sentirai megl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310824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icorda che se opti per non utilizzare borse di plastica, avrai evitato che giungano alla natura 22,176 sacchetti durante la tua vita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 se nel diffondersi di questo messaggio, almeno due dei tuoi contatti optano per evitare i sacchetti di plastica, avremo fatto insieme un gran bene al nostro pianeta!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953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'é una dura economia dietro il riciclo dei sacchetti di plastica. Riciclare una tonnellata di borse di plastica costa $ 4000: la stessa quantitá si vende nel mercato delle materie prime a $ 32”.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19520" y="5356080"/>
            <a:ext cx="89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Direttore Del Dipartamento del Medio Ambiente in  San Francisc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ind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85800" y="27432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ve vanno a finire i sacchett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o studio del 1975 ha dimostrato che le imbarcazioni transoceaniche gettano nell'insieme 8 milioni di libbre di plastica nel mare. La ragione per cui le discariche del mondo non erano inondate di plastica, era perché la maggioranza finiva nell'oce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Accademia Nazionale della Scienza degli Stati Un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13372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vengono trascinati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62120" y="5943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o a differenti luoghi della nostra Te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8380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 fino ai nostri mari, laghi e fi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cp:keywords/>
  <dc:language>en-US</dc:language>
  <cp:lastModifiedBy>Camilla</cp:lastModifiedBy>
  <dcterms:modified xsi:type="dcterms:W3CDTF">2009-07-01T06:27:46Z</dcterms:modified>
  <cp:revision>2</cp:revision>
  <dc:subject/>
  <dc:title> </dc:title>
</cp:coreProperties>
</file>