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DF919-7ACE-42C1-AF0A-3906B62872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DFAA69-CB39-44CF-A49F-F43CB142D1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FB99D-EC4E-47B4-BD86-EA022EAF25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45D53-2323-4909-AC7D-FAAAC1C871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36A495-E66D-4131-A57A-D2FF7ACE4F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9B5F9B-B1F2-4B56-BF78-3D9AE414C1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4FDD52-A513-45C2-915D-CCC978F005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ED6C-327C-44F2-9E19-D2D3EE0072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F0856-8B39-435B-9C8B-7093C2731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A5EB3A-6584-4BA5-BE3E-5405D85B52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BC53B-98FC-4DC9-93C2-5C733FC25E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FC19F-2FE5-46B1-8E26-E2929494E6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06ECC-BC51-4057-A73A-7DEFEBC04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33F55-2EE6-459B-9FFA-FDBF09F237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8CF51-89BE-48E8-9A19-6CF2C46D17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C55F2-D8E8-44F0-AEAA-6071751380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4586D-E61A-4EEB-82A4-7F4DFB018E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FCB625-0F65-466D-BD36-CA8D7FE493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E4EC-59D8-4DD0-96DB-A785AE282B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9A75D-8C34-4263-9DE5-5E6BF6A97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78005-5317-408D-BE3A-64DC586D7C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8B0B8-7967-4826-96BD-66B44E01AB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804F3-EEB0-4FA7-86FF-77DF8DCC0C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C86CB-604F-471B-882C-69B439DD5C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7D8B2-C2D8-43C0-82AA-1D867619E5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CD4EF-943C-4A65-B4FF-F474A5EF62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C60932-9577-4976-BEDF-F5BAFF26B0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E2D05-2529-4126-A641-9FFAE5781F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2DEC5-4DF2-4314-8DD8-6BE4DA6E53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0F80A-3277-4CAA-9A95-FC08943ABC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DBDB1-FAA1-4D94-A3D3-FD216E552F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04FE3-42F7-4770-9936-922B0959FB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DF67F1-556F-4345-A7DE-FDBBEB9D97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60861-8557-4E3E-B412-6E19E142C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54D02-2262-4B8E-BD11-FF16597C23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FE92F-EE6B-4939-866A-C7309A2AC3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20C08-1051-4876-B09F-46E112E8E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332D7-9D8C-4CD3-9F83-42B295AE4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FF102-4D57-46CC-AE34-F1C4EAE45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36090-3963-4854-9FC4-E2CBB375B0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4CE1-D237-450C-8E8C-2F1748C5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564-69CA-4DD6-8D2C-6CCDB527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023A-15EE-4383-B604-C4DD62CE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02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360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BF4B-B4B5-420B-87DC-1D37089C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2B3-7859-4909-9D09-892B8EA1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CA2-054F-41EE-843C-3861580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3E4C-212C-4C88-8C18-B4A5BD16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7D3A-E84E-4D0A-862E-AA7D3DBF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1AA-A1F0-4F2C-865A-494F479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048-7122-4E4C-B3EF-AAB7F74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36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767-5E1E-47C8-84D1-7B44A34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020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B0D-FDC9-4F80-BFE7-4FF99C5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9143D7-BF01-4594-8CF2-5716A668E8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533520" y="914400"/>
            <a:ext cx="8001000" cy="4419720"/>
          </a:xfrm>
          <a:prstGeom prst="rect">
            <a:avLst/>
          </a:prstGeom>
          <a:noFill/>
          <a:ln w="76320">
            <a:solidFill>
              <a:srgbClr val="99cc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La triste storia degli inoffensivi sacchetti di plastica che addirittura ci „regalano“ i commessi dei supermercati.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858000" cy="42940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trovano la loro stada verso il mare nelle fogne e negli impianti idraul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i sono visti sacchetti di plastica galleggiare a nord del Circolo Artico vicino a Spitzbergen e molti di piú al sud, nelle isole Malv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362320" y="3048120"/>
            <a:ext cx="4724280" cy="33350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In Costa Artica Britann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di plastica rappresentano piú del 10% dei rifiuti che giungono a riva delle coste degli Stati Uniti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Programma di Monitoraggio della mondezza della Marina Nazion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457200" y="152280"/>
            <a:ext cx="8305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di plastica si fotodegradano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con il passare del tempo si decompongono in petro-polimeri piú piccoli e tossic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114800" cy="40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"/>
          <p:cNvSpPr/>
          <p:nvPr/>
        </p:nvSpPr>
        <p:spPr>
          <a:xfrm>
            <a:off x="457200" y="152280"/>
            <a:ext cx="83059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Che infine contamineranno i suoli e le vie fluvial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553080" cy="446544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480" cy="47498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i conseguenza, particelle microscopiche possono iniziare a far parte della catena aliment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6 Novembre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8153280" cy="5427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228600" y="152280"/>
            <a:ext cx="8686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'effetto sulla vita marina puó essere catastro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925040" cy="52448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457200" y="1522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li uccelli restano incastrati senza speranza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4100760" cy="5639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387972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457200" y="152280"/>
            <a:ext cx="8305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irca 200 differenti specie di vita marina, includendo balene, delfini, foche e tartarughe muoiono a causa delle borse di plast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4025880" cy="379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57200" y="2971800"/>
            <a:ext cx="4038480" cy="26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06280"/>
            <a:ext cx="8077320" cy="60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Un'informazione emessa dall'Agenzia di Protezione Ambientale degli Stati Uniti rivela che si consuma approssimatamente ogni anno, in tutto il mondo, tra 500 bilioni e un trilione di sacchetti di plastica.</a:t>
            </a:r>
            <a:br>
              <a:rPr sz="4000"/>
            </a:br>
            <a:br>
              <a:rPr sz="4000"/>
            </a:b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otizia National Geographic del 2 Settembre 200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610480" cy="48373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457200" y="152280"/>
            <a:ext cx="8305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Muoiono dopo aver ingerito i sacchetti di plastica che scambiano per cib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Riporto WWF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llor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609480" y="2362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0" spc="-1" strike="noStrike">
                <a:solidFill>
                  <a:srgbClr val="ffffff"/>
                </a:solidFill>
                <a:latin typeface="Tahoma"/>
              </a:rPr>
              <a:t>Che facciamo?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1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Se usiamo una borsa di tela, possiamo risparmiare 6 sacchetti a settim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Vale a dire, 24 sacchetti al me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553080" cy="49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Ossia, 288 sacchetti all'an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vvero, 22,176 sacchetti durante una vit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92468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5639040" cy="4151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82240" cy="21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 solo </a:t>
            </a: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1 su ogni 5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ersone nel nostro paese fará questo, risparmieremo  </a:t>
            </a:r>
            <a:br>
              <a:rPr sz="28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1.330.560.000.000 sacchetti </a:t>
            </a:r>
            <a:br>
              <a:rPr sz="40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urante la nostra v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Il Bangladesh ha proibito i sacchetti di plast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MSNBC.com 8 Marzo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477120" cy="42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La Cina ha proibito i sacchetti di plastica gratu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asia 9 Gennai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1"/>
          <a:stretch/>
        </p:blipFill>
        <p:spPr>
          <a:xfrm>
            <a:off x="2819520" y="3352680"/>
            <a:ext cx="4190760" cy="2847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L'Irlanda fu la prima in Europa a mettere le tasse sui sacchetti di plastica nel 2002. In questo modo, ne ha ridotto il consumo del 90%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BC Noticias 20 Agosto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Meno dell'1% dei sacchetti viene riciclato. É piú costoso riciclare un sacchetto che produrne uno nuovo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809880" y="6095880"/>
            <a:ext cx="5105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Giornal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di Monitoraggio della Scienza Cristia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400800" cy="42559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Nel 2005, il Rwanda 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ha proibito i sacchetti di plast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248520" y="6400800"/>
            <a:ext cx="2895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Prensa Asoci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3330720" cy="3505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Anche Israele, Canada, India dell'ovest, Botswana, Kenya, Tanzania, Sud Africa, Taiwán e Singapore hanno proibito o sono in processo di proibire i sacchetti di pla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PlanetSave.com 16 Febbrai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3084480" cy="3657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Il 27 Marzo 2007, San Francisco divenne la prima cittá che proibisce i sacchetti di plastica negli Stati Un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562720" y="6400800"/>
            <a:ext cx="358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NPR.org (National Public Rad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Oakland e Boston stanno considerando la proibi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648320" cy="46483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The Boston Globe 20 Maggio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30592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di plastica sono fatti di polietilene: un termoplastico che si ottiene dal petrol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tecnhology 16 Novembre 200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5791320" y="3200400"/>
            <a:ext cx="308592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iducendo l'uso dei sacchetti di plastica si diminuirá il consumo del petrolio, risorsa non rinnovabile e che provoca molte guerr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876920" cy="32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1676520" y="930240"/>
            <a:ext cx="5943600" cy="5927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174600"/>
            <a:ext cx="83059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 Cina risparmierá 37 milioni di barili di petrolio ogni  anno grazie alla proibizione dei sacchetti di plastica gratu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CNN.com/asia 9 Gennaio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5580000" y="1143000"/>
            <a:ext cx="3317760" cy="4419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É possibile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1371600"/>
            <a:ext cx="44956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C'é gente che ignora tutto quest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a tu no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U ORMAI LO SAI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4724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ora che lo sai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57200" y="56386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ai che tu, sí, tu, puoi aiutare il pianeta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533412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Non é niente piú che averne voglia; in poco tempo si prende l'abitudine di andare al supermercato con una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BORSA DI STOF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72880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1"/>
          <p:cNvSpPr txBox="1"/>
          <p:nvPr/>
        </p:nvSpPr>
        <p:spPr>
          <a:xfrm>
            <a:off x="179280" y="1079640"/>
            <a:ext cx="88203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Sei con noi? O non ne hai „voglia“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228600" y="6324480"/>
            <a:ext cx="86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99"/>
                </a:solidFill>
                <a:latin typeface="Comic Sans MS"/>
              </a:rPr>
              <a:t>Jolubate ti invita. Se non lo fai, non ti succederá nulla. Se lo fai, TI sentirai megli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152280" y="310824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Ricorda che se opti per non utilizzare borse di plastica, avrai evitato che giungano alla natura 22,176 sacchetti durante la tua vita..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E se nel diffondersi di questo messaggio, almeno due dei tuoi contatti optano per evitare i sacchetti di plastica, avremo fatto insieme un gran bene al nostro pianeta!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95360"/>
            <a:ext cx="8229600" cy="54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C'é una dura economia dietro il riciclo dei sacchetti di plastica. Riciclare una tonnellata di borse di plastica costa $ 4000: la stessa quantitá si vende nel mercato delle materie prime a $ 32”.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19520" y="5356080"/>
            <a:ext cx="89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- Jared Blumenfeld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Direttore Del Dipartamento del Medio Ambiente in  San Francisco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8884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Quindi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685800" y="274320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Dove vanno a finire i sacchett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952880" cy="3718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457200" y="304920"/>
            <a:ext cx="83818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no studio del 1975 ha dimostrato che le imbarcazioni transoceaniche gettano nell'insieme 8 milioni di libbre di plastica nel mare. La ragione per cui le discariche del mondo non erano inondate di plastica, era perché la maggioranza finiva nell'oce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419720" y="6400800"/>
            <a:ext cx="472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- Accademia Nazionale della Scienza degli Stati Un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378320" cy="52578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"/>
          <p:cNvSpPr/>
          <p:nvPr/>
        </p:nvSpPr>
        <p:spPr>
          <a:xfrm>
            <a:off x="2133720" y="57150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I sacchetti vengono trascinati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762120" y="59436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ino a differenti luoghi della nostra Ter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51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64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8380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 fino ai nostri mari, laghi e fium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 </dc:description>
  <cp:keywords/>
  <dc:language>en-US</dc:language>
  <cp:lastModifiedBy>Camilla</cp:lastModifiedBy>
  <dcterms:modified xsi:type="dcterms:W3CDTF">2009-07-01T06:27:46Z</dcterms:modified>
  <cp:revision>2</cp:revision>
  <dc:subject/>
  <dc:title> </dc:title>
</cp:coreProperties>
</file>