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6B67-E5DF-446A-9FB5-5FFA1D22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814-144E-4DFD-9132-47BE297E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9A4D-DA07-418D-A1E3-A7FC29BB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784-76AE-46E2-BEED-867EA66CD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5E6F-2915-4A44-80DB-9795E729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B97-12CB-4E5B-9EFE-00D0B70B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22F3-5D9E-434D-827F-7C490E56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702-CD7C-40CE-A473-E2D7BF4A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E6C3-5E8F-4324-BE16-2111199EB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7EC-60D1-483D-9B01-6514F5CD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0DB8-F00D-4AFF-9817-FDB38AA1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46E-BB1B-46BF-B62E-607D76C7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6BCE-EC4D-4480-965B-D24FAC9E37E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tefanomontanari.net/" TargetMode="External"/><Relationship Id="rId3" Type="http://schemas.openxmlformats.org/officeDocument/2006/relationships/hyperlink" Target="http://www.nanodiagnostics.it/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Produrre energia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eliminando i rifiuti: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geniale, no?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Due piccioni con una fava! </a:t>
            </a:r>
            <a:br>
              <a:rPr sz="4000"/>
            </a:b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(e così non c’è più neppure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bisogno delle discarich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amianto era conside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coloso fin dal 1863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è stato messo "fuorilegge" nel 1992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 il picco di mortal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mesotelio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il cancro dell’amia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arà nel 2015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2952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Gli inceneritori sono fabbri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di veleni cancerogeni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dott. Gentilini, oncolog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i medici non permetter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che si ripeta l’errore dell’amianto”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dott. Belpomme, cancerolog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4) INCENERIRE </a:t>
            </a:r>
            <a:br>
              <a:rPr sz="4400"/>
            </a:br>
            <a:r>
              <a:rPr b="0" lang="it-IT" sz="44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NON</a:t>
            </a: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 ELIMINA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LE DISCARICH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8954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Gli inceneritori producon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una tonnellata di ceneri resid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ogni tre tonnell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Verdana"/>
                <a:ea typeface="Times New Roman"/>
              </a:rPr>
              <a:t>di rifiuti bruci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8080" y="12189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queste ceneri vanno smalt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n discariche special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rifiuti tossici nocivi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sono più cost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 pericolos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delle altre discar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8080" y="12189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noltre le nanopolve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sono talmente minusco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non si ferma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ai polmon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aggiungono il sang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n 60 second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1760" y="2209680"/>
            <a:ext cx="78483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 tutti gli altri organ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in un’or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(feti compres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 possono alter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il DNA 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nsomma, siamo no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a diventare delle discarich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E:\Massimo\Articoli e altri doc\vero filtro antiparticolato.JPG"/>
          <p:cNvPicPr/>
          <p:nvPr/>
        </p:nvPicPr>
        <p:blipFill>
          <a:blip r:embed="rId2"/>
          <a:stretch/>
        </p:blipFill>
        <p:spPr>
          <a:xfrm>
            <a:off x="2314440" y="2743200"/>
            <a:ext cx="4543560" cy="3419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09480" y="37335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Queste sono fotograf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ingrandite al microsco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i nanoparticelle cancerog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corpi um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le nanoparticelle sono i puntini bianch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E:\Massimo\Articoli e altri doc\nanoparticella.JPG"/>
          <p:cNvPicPr/>
          <p:nvPr/>
        </p:nvPicPr>
        <p:blipFill>
          <a:blip r:embed="rId2"/>
          <a:stretch/>
        </p:blipFill>
        <p:spPr>
          <a:xfrm>
            <a:off x="1562040" y="609480"/>
            <a:ext cx="3314880" cy="3125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E:\Massimo\Articoli e altri doc\nanoparticella2.JPG"/>
          <p:cNvPicPr/>
          <p:nvPr/>
        </p:nvPicPr>
        <p:blipFill>
          <a:blip r:embed="rId3"/>
          <a:stretch/>
        </p:blipFill>
        <p:spPr>
          <a:xfrm>
            <a:off x="5334120" y="609480"/>
            <a:ext cx="21128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Io abito a Brescia,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ed ero orgoglioso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di avere l’inceneritore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più pulito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ed invidiato del mo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E:\Massimo\Articoli e altri doc\inceneritore brescia.gif"/>
          <p:cNvPicPr/>
          <p:nvPr/>
        </p:nvPicPr>
        <p:blipFill>
          <a:blip r:embed="rId1"/>
          <a:stretch/>
        </p:blipFill>
        <p:spPr>
          <a:xfrm>
            <a:off x="2819520" y="3772080"/>
            <a:ext cx="3429000" cy="26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credi a questi da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erca “nanopolveri” o “nanopatologi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 un qualunque motore di rice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anche medico) oppure vis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 u="sng">
                <a:solidFill>
                  <a:srgbClr val="009999"/>
                </a:solidFill>
                <a:uFillTx/>
                <a:latin typeface="Verdana"/>
                <a:ea typeface="Times New Roman"/>
                <a:hlinkClick r:id="rId2"/>
              </a:rPr>
              <a:t>www.stefanomontanari.net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9999"/>
                </a:solidFill>
                <a:uFillTx/>
                <a:latin typeface="Verdana"/>
                <a:ea typeface="Times New Roman"/>
                <a:hlinkClick r:id="rId3"/>
              </a:rPr>
              <a:t>www.nanodiagnostics.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187360"/>
            <a:ext cx="8153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5) INCENERIRE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SPRECA ENERG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685800" y="38098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lo so, questa è difficile da credere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84872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sino la Banca Mondi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 manifestato seri dubb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lla loro convenienza energe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440" y="1531800"/>
            <a:ext cx="807732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isogna considerare che gli incene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nsumano moltissima energia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(per mantenere la combustione dei rifiut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l’inceneritore di Brescia utilizza ogni 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più di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5 milioni di metri cubi di metano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807732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…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soprattutto che anche i rifiu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nno un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costo energetic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produrre merci che poi diventano rifi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sta in euro ma anche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in energia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incenerire significa “butta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’energia usata per produrre quella mer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66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nsomma, la produzione di energ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egli inceneritori è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viceversa RICICLARE 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energeticamente vantaggioso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ché creo qualc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poi potrò riutilizzar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isparmiando materie prime ed energia)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8487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Per realizz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un nuovo contenitore di pla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si utilizzano circa 240 litri d'acqu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1,5 kWh d'energ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e si emettono 134 gram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di anidride carbo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(quindi ricordatevi di fare </a:t>
            </a:r>
            <a:r>
              <a:rPr b="0" i="1" lang="it-IT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sempre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la raccolta differenziata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E:\Massimo\Articoli e altri doc\raccolta differenziata.JPG"/>
          <p:cNvPicPr/>
          <p:nvPr/>
        </p:nvPicPr>
        <p:blipFill>
          <a:blip r:embed="rId2"/>
          <a:stretch/>
        </p:blipFill>
        <p:spPr>
          <a:xfrm>
            <a:off x="4162320" y="403848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27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h, le par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ermovalorizzato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“termoutilizzato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esisto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Comunità Europea ha diffidato l’Ital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all’usare parole diverse da quella corret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è “inceneritore”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pratic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nno inventato nuove par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mistificano la realtà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spingerci a credere qualcosa di f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qui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6 - incenerire incremen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e bugie fantasios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57200" y="68580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04920" y="4800600"/>
            <a:ext cx="8610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“chiamiamo le cose con il loro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arà tutto più facile”, Oscar Wil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66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3366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proposi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l premio per l’incenerit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iù “pulito” del mo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è stato assegnato a Bres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apete da ch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a un ente i cui spon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ono i costruttori stessi dell’incenerito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Poi, per caso,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ho capito che la questione </a:t>
            </a:r>
            <a:br>
              <a:rPr sz="4000"/>
            </a:br>
            <a:r>
              <a:rPr b="0" i="1" lang="it-IT" sz="4000" spc="-1" strike="noStrike">
                <a:solidFill>
                  <a:srgbClr val="000000"/>
                </a:solidFill>
                <a:latin typeface="Verdana"/>
              </a:rPr>
              <a:t>è un po’ diversa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228600" y="533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fatic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nche io potrei darmi il premio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 più sexy del mo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e il giudice fossi i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sì, ci hanno preso per i fondell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ì, anche a me dà fastidio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E:\Massimo\Articoli e altri doc\calvin perplesso.jpg"/>
          <p:cNvPicPr/>
          <p:nvPr/>
        </p:nvPicPr>
        <p:blipFill>
          <a:blip r:embed="rId2"/>
          <a:stretch/>
        </p:blipFill>
        <p:spPr>
          <a:xfrm>
            <a:off x="4038480" y="2987640"/>
            <a:ext cx="10843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63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7) INCENERIRE </a:t>
            </a:r>
            <a:r>
              <a:rPr b="0" lang="it-IT" sz="44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NON</a:t>
            </a: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 AIUTA L’OCCUPAZIONE</a:t>
            </a:r>
            <a:r>
              <a:rPr b="0" lang="it-IT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’inceneritore di Bres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il più grande d‘Europ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 solo 80 dipende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 Nova Scotia (Canad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nno spinto la raccolta differenzi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pendendo poco e senza inquinar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ora hanno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en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rifiu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-capite dei bresci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3000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posti di lavoro in pi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E:\Massimo\Articoli e altri doc\lavoratori.JPG"/>
          <p:cNvPicPr/>
          <p:nvPr/>
        </p:nvPicPr>
        <p:blipFill>
          <a:blip r:embed="rId2"/>
          <a:stretch/>
        </p:blipFill>
        <p:spPr>
          <a:xfrm>
            <a:off x="1905120" y="2619360"/>
            <a:ext cx="5333760" cy="27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8) INCENERIRE FA MALE ALL’EFFETTO SERR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3200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 proprietari dell’inceneritore di Bres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lo conoscete, n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è quello più pulito del mondo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icono che fa “risparmiare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470mila tonnell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i anidride carbonica all’an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a come è possibil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e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qualsiasi altra fonte di energia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 emette me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E:\Massimo\Articoli e altri doc\inceneritoriCO2.jpg"/>
          <p:cNvPicPr/>
          <p:nvPr/>
        </p:nvPicPr>
        <p:blipFill>
          <a:blip r:embed="rId2"/>
          <a:stretch/>
        </p:blipFill>
        <p:spPr>
          <a:xfrm>
            <a:off x="2171880" y="3048120"/>
            <a:ext cx="49147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5331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emplice: è sufficiente paragonar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non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a un’altra fonte energetic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a a una discaric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E:\Massimo\Articoli e altri doc\discarica.JPG"/>
          <p:cNvPicPr/>
          <p:nvPr/>
        </p:nvPicPr>
        <p:blipFill>
          <a:blip r:embed="rId2"/>
          <a:stretch/>
        </p:blipFill>
        <p:spPr>
          <a:xfrm>
            <a:off x="2743200" y="2743200"/>
            <a:ext cx="368136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apito il trucco? Se io d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sono il corridore più veloce del mo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non vi sto mentend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…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sto solo omettendo di dir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che i miei avvers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non sono esseri uma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ma tartarughe nane del Borne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a questo signif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distorcere le inform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920" y="7617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Un documento della Comunità Euro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aragona le diverse 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i trattamento dei rifiut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timando i kg di Co2 risparmi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iciclaggio e compostaggio: -4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rattamento meccanico-biologico: -3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cenerimento: 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pratica, ogni tonnellata di rifiuti 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invece di essere riciclata) viene inceneri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 451 kg di gas serra in pi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9) INCENERIRE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RUBA RISORS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28954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 rifiuti possono farci risparmi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aterie pr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(per esempio, </a:t>
            </a: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ogni kg di plas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dotto dal ricic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i fa risparmiare 3 litri di petrol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a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Brescia li distrug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fingendo di creare energ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1981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Ma allora perché lo fan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(non cambiare subito slid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</a:rPr>
              <a:t>pensaci un attim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Perché, secondo t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1) INCENERIRE INQU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4764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Centinaia di docum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medici e scientif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dimostrano 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</a:rPr>
              <a:t>tutti gli inceneritori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ducono nanopolv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(polveri minusco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e altamente tossi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non regolate dalle leggi vig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Esatto: per dena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ntro il volere della Comunità Europe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’Italia è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l'unico stato al mond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he finanzia l'incenerimento dei rifi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con il 7% della “bollett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Nel resto d’Europ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(Germania, Austria, Belgio, Danimar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’incenerimento è scoragg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a tasse aggiuntiv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prio perché inquina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304920" y="7617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al ‘98 i propriet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ll’inceneritore di Bres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nno incass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finanziamenti pubbli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legali ma improp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circa 400 milioni di 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00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MILIARD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VECCHIE LI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per legge sarebbero dovute and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lla vere fonti rinnovabili e puli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olico, solare, fotovoltaico, geotermico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04920" y="6854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Per quanto riguarda l'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i CIP6 agli incene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(cioè i finanziamenti impropr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sono pari 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</a:rPr>
              <a:t>53 MILIARDI di eur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E:\Massimo\Articoli e altri doc\soldi.jpg"/>
          <p:cNvPicPr/>
          <p:nvPr/>
        </p:nvPicPr>
        <p:blipFill>
          <a:blip r:embed="rId2"/>
          <a:stretch/>
        </p:blipFill>
        <p:spPr>
          <a:xfrm>
            <a:off x="3086280" y="3048120"/>
            <a:ext cx="297180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3" presetSubtype="27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4920" y="19047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poi vengono a dirci 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le fonti rinnovab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ci sono i sold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O magari che le fonti rinnovab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possono risolvere il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lla richiesta energetic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80520" y="2514240"/>
            <a:ext cx="8610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a con 53 MILIARDI potevano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regal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un pannello fotovoltaico domes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3 milioni e mezzo di famiglie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italian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Germa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una nazione meno luminosa di no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e fonti rinnovabi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appresentano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più del 20%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lla produzione nazionale di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i sono region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me la Navarra in Spag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hanno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più del 60% di ene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dotta da fonti rinnov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prevedono il 100% entro il 2010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Lombar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i sono 13 incene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in Italia sono 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la loro produzione energe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rappresenta meno del 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lla produzione totale della reg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e, come abbiamo det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questo è un dato fittizi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ché dovremmo diminuir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l costo energetico dei “rifiuti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ncora un attimo di pazi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ho quasi finito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04920" y="2133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Insomma: incenerire </a:t>
            </a:r>
            <a:r>
              <a:rPr b="0" lang="it-IT" sz="3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non è</a:t>
            </a: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un vantaggio energetic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né ambienta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(anzi, è vero il contrari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è solo un business economico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speculazio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che fa guadagnare i soliti “furbi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  <a:ea typeface="Times New Roman"/>
              </a:rPr>
              <a:t>a scapito della nostra salut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E:\Massimo\Articoli e altri doc\soldi2.jpg"/>
          <p:cNvPicPr/>
          <p:nvPr/>
        </p:nvPicPr>
        <p:blipFill>
          <a:blip r:embed="rId2"/>
          <a:stretch/>
        </p:blipFill>
        <p:spPr>
          <a:xfrm>
            <a:off x="3228840" y="3676680"/>
            <a:ext cx="268632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ahoma"/>
              </a:rPr>
              <a:t>La Federazione Itali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ahoma"/>
              </a:rPr>
              <a:t>Medici di Medicina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ahoma"/>
              </a:rPr>
              <a:t>sostiene 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ahoma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ahoma"/>
              </a:rPr>
              <a:t>l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'incenerimento dei rifiu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è la tecnica di smaltim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più dannosa per l'ambi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</a:rPr>
              <a:t>e la salute uman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… allora come mai non lo dico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Emilia i medici hanno protesta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in Francia e in Irlanda hanno chie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n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moratoria contro gli incene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e allora a Brescia perché stanno zit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l fatto che il presidente dell’inceneri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ia nel comit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l Registro Tumori provincial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babilmente non aiuta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ma… non è assur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quello che avete appena let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no che per lav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gestisce impianti di combust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è stato messo an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gestire i dati sui tum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relativi alla zona dei suoi impiant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’ stra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no e inquie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l’avranno fatto per un motivo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k, ma perch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endersela ta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n gli inceneritor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n saranno m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unica fo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i inquinamento, 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Beh, diciamo che le nanopolv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ono prodotte princip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prio dai moderni inceneritor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ché bruciano i rifiu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temperature elevatiss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04920" y="10666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l’ho detto c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n esiste alcun fil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al mo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 “fermare” le PM2,5 o minor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ok, adesso lo sapet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h, e se qualcuno dice il contrari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urtroppo sta mente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n altro problema è 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gli inceneritori bruciano di tu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ma veramente di tutto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i consegu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 metalli contenuti nelle polv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ono molto v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quindi estremamente aggress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nfine, bloccare il traff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uò provocare disa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mica tutti possono andare in bici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chiudere un’industria inquin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è comunque un problem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causa dei lavorat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che rimarrebbero senza lavo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delle merc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che non sarebbero prodot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8380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Ma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ermare un inceneri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(che inquina tantissi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non produce nul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non compo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nessun disagio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 i cittadin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OBBIAMO ESIG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N’ARIA PULIT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ER D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’EREDITA’ MIGLI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I NOSTRI FIGL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Ultimo pun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a all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osa ne facciamo dei rifiu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mplice, facciamo quel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hanno già iniziato a f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ltre città (in tutto il mon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2796840"/>
            <a:ext cx="8839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10) INCENERIRE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E’ SUPERFLUO,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SE SI ADOTTA 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LA STATEGIA</a:t>
            </a:r>
            <a:br>
              <a:rPr sz="4400"/>
            </a:br>
            <a:r>
              <a:rPr b="0" lang="it-IT" sz="4400" spc="-1" strike="noStrike">
                <a:solidFill>
                  <a:srgbClr val="ffffff"/>
                </a:solidFill>
                <a:latin typeface="Verdana"/>
                <a:ea typeface="Times New Roman"/>
              </a:rPr>
              <a:t>“RIFIUTI ZERO”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i riducono i rifiu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liminando gli imballaggi inut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una metropoli come Berlin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tervenendo a mont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sei mesi ha dimezzato i rifiu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2) INCENERIRE UC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27636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’Organizzazione Mondiale della San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sostiene che le nanopolveri so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aggior minaccia alla salute 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a inquinamento dell’ar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228600" y="21337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i fa la raccolta differenzi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porta a p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a Novara in pochi an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ono arrivati al 68%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lcuni comuni italia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nno superato l’80%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228600" y="15998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rescia inve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tanto sbandierato esemp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i “eccellente” gestione dei rifiu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raggiunge il 40%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d’altronde per for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guadagnano più dena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e inceneriscono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“tassa dello sporc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ve essere “puntual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chi ricicla deve spendere me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i invia DAVVERO al riciclo quanto raccol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a Brescia la plastica differenzi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viene riciclata… un vero spreco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il residuo può essere mand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impianti di selezione mecca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molto economi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recuperano altro mater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iò che rimane può essere tratt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impianti di bioess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costano il 10% di un incenerit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ne riducono ulteriormente la m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 questo punto rima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uno scarto iner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ioè non dannos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può essere usato in vari mo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mentre le ceneri residu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egli incenerit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ono pericolosissime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a soprattut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i produce deve part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alla consapevolez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quel prodot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ima o poi diventerà un “rifiu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quindi deve essere totalmente ricicl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solo così potremo av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un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futuro senza rifiuti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Cosa fai se la vasca di casa tua è colm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tanto che l'acqua ne fuoriesce?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E:\Massimo\Articoli e altri doc\vasca.JPG"/>
          <p:cNvPicPr/>
          <p:nvPr/>
        </p:nvPicPr>
        <p:blipFill>
          <a:blip r:embed="rId2"/>
          <a:stretch/>
        </p:blipFill>
        <p:spPr>
          <a:xfrm>
            <a:off x="2933640" y="1905120"/>
            <a:ext cx="3276720" cy="2305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457200" y="4495680"/>
            <a:ext cx="86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Togli l'acqua con un cucchiaio?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O con un mestolo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Oppure usi una bacinella,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o una pompa collegata a un tubo?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No, non fai nulla di tutto questo: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prima,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chiudi il rubinett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27"/>
          <p:cNvSpPr/>
          <p:nvPr/>
        </p:nvSpPr>
        <p:spPr>
          <a:xfrm>
            <a:off x="304920" y="4343400"/>
            <a:ext cx="8686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Incenerire significa insistere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in un progetto sbagliato in partenza,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che si può risolvere davvero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solo a mont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29" descr="E:\Massimo\Articoli e altri doc\rubinetto.JPG"/>
          <p:cNvPicPr/>
          <p:nvPr/>
        </p:nvPicPr>
        <p:blipFill>
          <a:blip r:embed="rId2"/>
          <a:stretch/>
        </p:blipFill>
        <p:spPr>
          <a:xfrm>
            <a:off x="3505320" y="1981080"/>
            <a:ext cx="1962000" cy="19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NON E’ IMPOSSIB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ANZI, LO FANNO GIÀ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.Francisco è una città portu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i 850mila abita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pressappoco come Napoli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a quando attu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strategia “RIFIUTI ZER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sua raccolta differenzi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ha raggiunto in pochi mesi il 67%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nel 2010 sarà il 75%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e l’obiettivo per il 2020 è il 99%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Attraverso la strate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fiuti Zero”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l materiale conferito in disca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diventa </a:t>
            </a:r>
            <a:r>
              <a:rPr b="0" lang="it-IT" sz="40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da subito</a:t>
            </a: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INFERIO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ai residui da incenerimen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(e non c’è danno per la salute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600" y="29714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l’inquinamento diminuisc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880" y="6091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Italia causan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un calo di vita medio di 9 mes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rovocano innumerevoli danni alla sal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come infarti, ictus, malformazioni fetal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Parkinson, Alzheimer e numerosi tum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E:\Massimo\Articoli e altri doc\danni inceneritori.JPG"/>
          <p:cNvPicPr/>
          <p:nvPr/>
        </p:nvPicPr>
        <p:blipFill>
          <a:blip r:embed="rId1"/>
          <a:stretch/>
        </p:blipFill>
        <p:spPr>
          <a:xfrm>
            <a:off x="1971720" y="3046320"/>
            <a:ext cx="5267160" cy="33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28600" y="2209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 capital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rimango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nelle comunità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28600" y="28195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i posti di lavoro aumentano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28600" y="18284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e i Comuni risparmian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il costo per conferire i rifi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in discarica o negli incener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è elevatissi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28600" y="9907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501"/>
              </a:spcBef>
              <a:spcAft>
                <a:spcPts val="3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Quindi non fatevi ingannare: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gli inceneritori convengono </a:t>
            </a:r>
            <a:br>
              <a:rPr sz="2800"/>
            </a:b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solo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 a chi li costruisce o li gestisce,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mentre l'unica vera convenienza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è quella di </a:t>
            </a:r>
            <a:r>
              <a:rPr b="0" lang="it-IT" sz="2800" spc="-1" strike="noStrike" u="sng">
                <a:solidFill>
                  <a:srgbClr val="ffffff"/>
                </a:solidFill>
                <a:uFillTx/>
                <a:latin typeface="Verdana"/>
                <a:ea typeface="Arial"/>
              </a:rPr>
              <a:t>non avere rifiuti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e deriva dai processi di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RIDUZIONE,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RECUPERO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e RICICLAGGIO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dei materiali giunti alla fine 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Arial"/>
              </a:rPr>
              <a:t>del loro ciclo di utilizzo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insistono in un progetto ormai fallit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un modello di svilupp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non riesce più a progredir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a solo a riportare indiet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 qualità della vita di tut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i dicono moderni e chiamano gli altri arretr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Togliamogli dalla bocca questa bug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Arretrato è chi sceglie il proget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piace agli affaristi e ai mafios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erno è chi sceglie il progetto miglio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(Stefano Ben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info e approfond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vai su un qualsiasi motore di ricer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(compreso you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e cerca alcune parole-chi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nanopolveri, nanopatologie, Stefano Montanar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Patrizia Gentilini, Federico Valerio, Consorzio Priul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aurizio Pallante, Paul Connett, Rifiuti Zer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o qualsiasi altra parola su questo te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vedrai che è tutto v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ffffff"/>
                </a:solidFill>
                <a:uFillTx/>
                <a:latin typeface="Verdana"/>
                <a:ea typeface="Times New Roman"/>
              </a:rPr>
              <a:t>Grazie, se vorrai diffondere queste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52280" y="1219320"/>
            <a:ext cx="8686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“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ii tu il cambi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vuoi dal mo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28600" y="51055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(Ghand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E:\Massimo\Articoli e altri doc\ghandi.JPG"/>
          <p:cNvPicPr/>
          <p:nvPr/>
        </p:nvPicPr>
        <p:blipFill>
          <a:blip r:embed="rId2"/>
          <a:stretch/>
        </p:blipFill>
        <p:spPr>
          <a:xfrm>
            <a:off x="3581280" y="2362320"/>
            <a:ext cx="200844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7720" y="3805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Questa è l’ubicazione degli incenerito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e la relativa ridu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i aspettativa di vita (in me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a causa delle PM2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27" descr="E:\Massimo\Articoli e altri doc\riduzione aspettativa vita in mesi a causa delle PM2,5.JPG"/>
          <p:cNvPicPr/>
          <p:nvPr/>
        </p:nvPicPr>
        <p:blipFill>
          <a:blip r:embed="rId1"/>
          <a:stretch/>
        </p:blipFill>
        <p:spPr>
          <a:xfrm>
            <a:off x="1447920" y="2235240"/>
            <a:ext cx="6172200" cy="4241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8" descr="E:\Massimo\Articoli e altri doc\riduzione aspettativa vita in mesi a causa delle PM2,5 - no logo.JPG"/>
          <p:cNvPicPr/>
          <p:nvPr/>
        </p:nvPicPr>
        <p:blipFill>
          <a:blip r:embed="rId2"/>
          <a:stretch/>
        </p:blipFill>
        <p:spPr>
          <a:xfrm>
            <a:off x="1447920" y="2236680"/>
            <a:ext cx="6172200" cy="424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577880"/>
            <a:ext cx="81532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Verdana"/>
              </a:rPr>
              <a:t>3) INCENERIRE CONTINUERA’ A UCCID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Le nanopolveri non sono biodegradabil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na volta create, sono “eter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3:02:49Z</dcterms:created>
  <dc:creator>Massimo</dc:creator>
  <dc:description/>
  <dc:language>en-US</dc:language>
  <cp:lastModifiedBy>Alberto</cp:lastModifiedBy>
  <dcterms:modified xsi:type="dcterms:W3CDTF">2008-05-12T10:25:48Z</dcterms:modified>
  <cp:revision>88</cp:revision>
  <dc:subject/>
  <dc:title> Produrre energia  eliminando rifiuti: geniale, no?  Due piccioni con una fava!   (e così non c’è più neppure bisogno delle discariche)</dc:title>
</cp:coreProperties>
</file>