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050-9583-489F-9440-3516BAB3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755-5548-4A7D-81D9-AE66F72A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01F-684E-4859-9633-C4CE6B61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D0D-290F-4AF7-9E18-A54DDF59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06C-DDA1-42FF-BD90-B2FA5B54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772-ACBB-47C9-8102-745BB83E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7D7-C239-4F50-8F57-B90ABEF4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B59-372D-4016-B25A-BAA5081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FCA-6850-4188-9F32-64F53F3C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BCC-6C09-435C-9B93-2FD54CCF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698-6BA6-4CA4-8741-FA71AA4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B0E-052F-40D2-B7D7-BE19D1FE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DD4A-E8B6-487F-8557-297CEAC3B6E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efanomontanari.net/" TargetMode="External"/><Relationship Id="rId3" Type="http://schemas.openxmlformats.org/officeDocument/2006/relationships/hyperlink" Target="http://www.nanodiagnostics.it/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Produrre energia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eliminando i rifiuti: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geniale, no?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Due piccioni con una fava! </a:t>
            </a:r>
            <a:br>
              <a:rPr sz="4000"/>
            </a:b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(e così non c’è più neppure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bisogno delle discarich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amianto era conside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coloso fin dal 186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è stato messo "fuorilegge" nel 199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 il picco di mortal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mesotelio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il cancro dell’ami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arà nel 2015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Gli inceneritori sono fabbri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di veleni cancerogen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dott. Gentilini, oncolog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i medici non permetter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che si ripeta l’errore dell’amianto”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dott. Belpomme, cancerolo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4) INCENERIRE </a:t>
            </a:r>
            <a:br>
              <a:rPr sz="4400"/>
            </a:br>
            <a:r>
              <a:rPr b="0" lang="it-IT" sz="44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NON</a:t>
            </a: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 ELIMINA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LE DISCARICH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Gli inceneritori produco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una tonnellata di ceneri resid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ogni tre tonnell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di rifiuti bruci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queste ceneri vanno smalt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n discariche specia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rifiuti tossici nocivi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sono più cost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 pericol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e altre discar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noltre le nanopolve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sono talmente minusco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non si ferma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i polmon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aggiungono il sang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n 60 secon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1760" y="2209680"/>
            <a:ext cx="78483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 tutti gli altri orga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in un’o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(feti compres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 possono alter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il DNA 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nsomma, siamo no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 diventare delle discarich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E:\Massimo\Articoli e altri doc\vero filtro antiparticolato.JPG"/>
          <p:cNvPicPr/>
          <p:nvPr/>
        </p:nvPicPr>
        <p:blipFill>
          <a:blip r:embed="rId2"/>
          <a:stretch/>
        </p:blipFill>
        <p:spPr>
          <a:xfrm>
            <a:off x="2314440" y="2743200"/>
            <a:ext cx="454356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7335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Queste sono fotograf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ngrandite al microsco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i nanoparticelle cancero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corpi um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le nanoparticelle sono i puntini bianch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E:\Massimo\Articoli e altri doc\nanoparticella.JPG"/>
          <p:cNvPicPr/>
          <p:nvPr/>
        </p:nvPicPr>
        <p:blipFill>
          <a:blip r:embed="rId2"/>
          <a:stretch/>
        </p:blipFill>
        <p:spPr>
          <a:xfrm>
            <a:off x="1562040" y="609480"/>
            <a:ext cx="3314880" cy="312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E:\Massimo\Articoli e altri doc\nanoparticella2.JPG"/>
          <p:cNvPicPr/>
          <p:nvPr/>
        </p:nvPicPr>
        <p:blipFill>
          <a:blip r:embed="rId3"/>
          <a:stretch/>
        </p:blipFill>
        <p:spPr>
          <a:xfrm>
            <a:off x="5334120" y="609480"/>
            <a:ext cx="21128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Io abito a Brescia,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ed ero orgoglioso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di avere l’inceneritore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più pulito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ed invidiato del mo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E:\Massimo\Articoli e altri doc\inceneritore brescia.gif"/>
          <p:cNvPicPr/>
          <p:nvPr/>
        </p:nvPicPr>
        <p:blipFill>
          <a:blip r:embed="rId1"/>
          <a:stretch/>
        </p:blipFill>
        <p:spPr>
          <a:xfrm>
            <a:off x="2819520" y="3772080"/>
            <a:ext cx="342900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credi a questi da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erca “nanopolveri” o “nanopatologi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 un qualunque motore di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anche medico) oppure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2"/>
              </a:rPr>
              <a:t>www.stefanomontanari.net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3"/>
              </a:rPr>
              <a:t>www.nanodiagnostics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187360"/>
            <a:ext cx="8153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5) INCENERIRE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SPRECA ENERG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38098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lo so, questa è difficile da credere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ino la Banca Mondi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 manifestato seri dubb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lla loro convenienza energ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440" y="1531800"/>
            <a:ext cx="807732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isogna considerare che gli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nsumano moltissima energia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(per mantenere la combustione dei rifiu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l’inceneritore di Brescia utilizza ogni 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più d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5 milioni di metri cubi di metano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soprattutto che anche i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un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costo energetic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produrre merci che poi diventano rifi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sta in euro ma anche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in energia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incenerire significa “butta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energia usata per produrre quella me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somma, la produzione di ener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egli inceneritori è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viceversa RICICLARE 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energeticamente vantaggioso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ché creo qualc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poi potrò riutilizz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isparmiando materie prime ed energia)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Per rea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un nuovo contenitore di pla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si utilizzano circa 240 litri d'acqu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1,5 kWh d'ener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e si emettono 134 gram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di anidride carb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(quindi ricordatevi di fare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sempre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la raccolta differenzia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E:\Massimo\Articoli e altri doc\raccolta differenziata.JPG"/>
          <p:cNvPicPr/>
          <p:nvPr/>
        </p:nvPicPr>
        <p:blipFill>
          <a:blip r:embed="rId2"/>
          <a:stretch/>
        </p:blipFill>
        <p:spPr>
          <a:xfrm>
            <a:off x="4162320" y="40384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h, le par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ermovalorizzato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“termoutilizzato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esist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Comunità Europea ha diffidato l’Ital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all’usare parole diverse da quella corret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è “inceneritore”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prati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inventato nuove par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mistificano la realtà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spingerci a credere qualcosa di f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qu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6 - incenerire incre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e bugie fantasio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7200" y="68580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04920" y="480060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“chiamiamo le cose con il loro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arà tutto più facile”, Oscar Wil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proposi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l premio per l’inceneri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iù “pulito” del mo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è stato assegnato a Bres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apete da ch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a un ente i cui spon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ono i costruttori stessi dell’incenerit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Poi, per caso,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ho capito che la questione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è un po’ divers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28600" y="533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fatic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nche io potrei darmi il premio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 più sexy del mo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il giudice fossi i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sì, ci hanno preso per i fondell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ì, anche a me dà fastidio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E:\Massimo\Articoli e altri doc\calvin perplesso.jpg"/>
          <p:cNvPicPr/>
          <p:nvPr/>
        </p:nvPicPr>
        <p:blipFill>
          <a:blip r:embed="rId2"/>
          <a:stretch/>
        </p:blipFill>
        <p:spPr>
          <a:xfrm>
            <a:off x="4038480" y="2987640"/>
            <a:ext cx="1084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6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7) INCENERIRE </a:t>
            </a:r>
            <a:r>
              <a:rPr b="0" lang="it-IT" sz="44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NON</a:t>
            </a: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 AIUTA L’OCCUPAZIONE</a:t>
            </a: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inceneritore di Bres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l più grande d‘Euro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 solo 80 dipend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 Nova Scotia (Canad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spinto la raccolta differenzi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pendendo poco e senza inquin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ora hanno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n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-capite dei bresci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3000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posti di lavoro in pi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E:\Massimo\Articoli e altri doc\lavoratori.JPG"/>
          <p:cNvPicPr/>
          <p:nvPr/>
        </p:nvPicPr>
        <p:blipFill>
          <a:blip r:embed="rId2"/>
          <a:stretch/>
        </p:blipFill>
        <p:spPr>
          <a:xfrm>
            <a:off x="1905120" y="2619360"/>
            <a:ext cx="533376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8) INCENERIRE FA MALE ALL’EFFETTO SERR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3200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 proprietari dell’inceneritore di Bres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lo conoscete, n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è quello più pulito del mondo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icono che fa “risparmia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470mila tonnel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 anidride carbonica all’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 come è possib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qualsiasi altra fonte di energia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 emette m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E:\Massimo\Articoli e altri doc\inceneritoriCO2.jpg"/>
          <p:cNvPicPr/>
          <p:nvPr/>
        </p:nvPicPr>
        <p:blipFill>
          <a:blip r:embed="rId2"/>
          <a:stretch/>
        </p:blipFill>
        <p:spPr>
          <a:xfrm>
            <a:off x="2171880" y="3048120"/>
            <a:ext cx="49147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emplice: è sufficiente paragonar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non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 un’altra fonte energeti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 a una discaric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E:\Massimo\Articoli e altri doc\discarica.JPG"/>
          <p:cNvPicPr/>
          <p:nvPr/>
        </p:nvPicPr>
        <p:blipFill>
          <a:blip r:embed="rId2"/>
          <a:stretch/>
        </p:blipFill>
        <p:spPr>
          <a:xfrm>
            <a:off x="2743200" y="2743200"/>
            <a:ext cx="368136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pito il trucco? Se io d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sono il corridore più veloce del mo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non vi sto menten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sto solo omettendo di dir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he i miei avvers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non sono esseri uma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ma tartarughe nane del Borne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 questo signi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distorcere le inform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Un documento della Comunità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aragona le diverse 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 trattamento dei rifiu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timando i kg di Co2 risparmi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iciclaggio e compostaggio: -4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rattamento meccanico-biologico: -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cenerimento: 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pratica, ogni tonnellata di rifiuti 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nvece di essere riciclata) viene inceneri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 451 kg di gas serra in pi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9) INCENERIRE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RUBA RISOR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28954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 rifiuti possono farci risparmi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terie pr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(per esempio,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ogni kg di plas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dotto dal ri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 fa risparmiare 3 litri di petrol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Brescia li distrug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fingendo di creare energ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 allora perché lo fan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(non cambiare subito sli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pensaci un attim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ché, secondo t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1) INCENERIRE IN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4764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entinaia di docum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edici e scientif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imostrano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tutti gli inceneritor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ducono nanopolv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lveri minusc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 altamente tossi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regolate dalle leggi vig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satto: per dena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ntro il volere della Comunità Europe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’Italia è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l'unico stato al mond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he finanzia l'incenerimento dei rifi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n il 7% della “bollett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 resto d’Euro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(Germania, Austria, Belgio, Danimar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’incenerimento è scoragg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tasse aggiunti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prio perché inquin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al ‘98 i propriet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’inceneritore di Bres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incass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finanziamenti pubbl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legali ma improp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circa 400 milioni di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00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ILIARD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VECCHIE LI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per legge sarebbero dovute and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lla vere fonti rinnovabili e puli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olico, solare, fotovoltaico, geotermic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quanto riguarda l'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 CIP6 agli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(cioè i finanziamenti improp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pari 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53 MILIARDI di eur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E:\Massimo\Articoli e altri doc\soldi.jpg"/>
          <p:cNvPicPr/>
          <p:nvPr/>
        </p:nvPicPr>
        <p:blipFill>
          <a:blip r:embed="rId2"/>
          <a:stretch/>
        </p:blipFill>
        <p:spPr>
          <a:xfrm>
            <a:off x="3086280" y="3048120"/>
            <a:ext cx="297180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poi vengono a dirci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le fonti rinnovab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ci sono i sold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O magari che le fonti rinnovab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possono risolvere i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a richiesta energetic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520" y="25142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a con 53 MILIARDI potevano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rega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un pannello fotovoltaico domes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3 milioni e mezzo di famigli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italian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Germ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una nazione meno luminosa di no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e fonti rinnovab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appresentano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più del 20%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a produzione nazionale di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 sono regio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me la Navarra in Spag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hanno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più del 60% di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dotta da fonti rinnov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prevedono il 100% entro il 2010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Lomb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 sono 13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n Italia sono 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la loro produzione energ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appresenta meno del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a produzione totale della reg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e, come abbiamo det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questo è un dato fittizi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ché dovremmo diminui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 costo energetico dei “rifiuti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ncora un attimo di paz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ho quasi finito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Insomma: incenerire </a:t>
            </a:r>
            <a:r>
              <a:rPr b="0" lang="it-IT" sz="3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non è</a:t>
            </a: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un vantaggio energet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né ambienta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(anzi, è vero il contrari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è solo un business economic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specula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fa guadagnare i soliti “furb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a scapito della nostra salut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E:\Massimo\Articoli e altri doc\soldi2.jpg"/>
          <p:cNvPicPr/>
          <p:nvPr/>
        </p:nvPicPr>
        <p:blipFill>
          <a:blip r:embed="rId2"/>
          <a:stretch/>
        </p:blipFill>
        <p:spPr>
          <a:xfrm>
            <a:off x="3228840" y="3676680"/>
            <a:ext cx="268632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La Federazione Itali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Medici di Medicina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sostiene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l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'incenerimento dei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è la tecnica di smalti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più dannosa per l'amb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e la salute uman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… allora come mai non lo dico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Emilia i medici hanno protest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in Francia e in Irlanda hanno chie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ratoria contro gli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e allora a Brescia perché stanno zit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l fatto che il presidente dell’inceneri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a nel comit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Registro Tumori provincia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abilmente non aiuta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ma… non è assu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uello che avete appena let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o che per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gestisce impianti di combust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è stato messo a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gestire i dati sui tum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tivi alla zona dei suoi impiant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str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no e inquie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l’avranno fatto per un motivo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k, ma perc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sela ta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gli inceneritor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n saranno m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unica fo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i inquinamento, 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eh, diciamo che le nanopolv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ono prodotte princip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prio dai moderni inceneritor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ché bruciano i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temperature elevatiss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l’ho detto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n esiste alcun fil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a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“fermare” le PM2,5 o minor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k, adesso lo sape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h, e se qualcuno dice il contrari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urtroppo sta mente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 altro problema è 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gli inceneritori bruciano di tu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ma veramente di tutt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i conseg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 metalli contenuti nelle polv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ono molto v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quindi estremamente aggress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fine, bloccare il traff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uò provocare disa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mica tutti possono andare in bici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chiudere un’industria inqu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è comunque un problem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causa dei lavora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che rimarrebbero senza lavo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delle mer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che non sarebbero prodot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ermare un inceneri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che inquina tantissi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non produce nu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n compo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nessun disagi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i cittadi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OBBIAMO ESIG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’ARIA PULI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D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’EREDITA’ MIGLI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I NOSTRI FIGL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Ultimo pun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a all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sa ne facciamo dei rifiu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mplice, facciamo quel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hanno già iniziato a f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ltre città (in tutto il mo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7968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10) INCENERIRE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E’ SUPERFLUO,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SE SI ADOTTA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STATEGIA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“RIFIUTI ZERO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i riducono i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liminando gli imballaggi inut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una metropoli come Berlin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tervenendo a mon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sei mesi ha dimezzato i rifiu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2) INCENERIRE UC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2763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rganizzazione Mondiale della San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ostiene che le nanopolveri so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aggior minaccia alla salute 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a inquinamento dell’ar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i fa la raccolta differenzi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porta a p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a Novara in pochi an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ono arrivati al 68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lcuni comuni italia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superato l’80%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rescia inve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tanto sbandierato esemp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i “eccellente” gestione dei rifiu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raggiunge il 40%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d’altronde per for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uadagnano più den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 inceneriscon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“tassa dello sporc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ve essere “puntua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chi ricicla deve spendere me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i invia DAVVERO al riciclo quanto racco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a Brescia la plastica differenzi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viene riciclata… un vero sprec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il residuo può essere mand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impianti di selezione mecca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molto economi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recuperano altro mate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ò che rimane può essere trat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impianti di bioess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costano il 10% di un incenerit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ne riducono ulteriormente la m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 questo punto rim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scarto iner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oè non dannos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può essere usato in vari m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mentre le ceneri resid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gli inceneri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ono pericolosissi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a soprattut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i produce deve part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alla consapevolez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quel prodo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ima o poi diventerà un “rifiu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quindi deve essere totalmente ricicl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solo così potremo av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un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futuro senza rifiuti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Cosa fai se la vasca di casa tua è colm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tanto che l'acqua ne fuoriesce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E:\Massimo\Articoli e altri doc\vasca.JPG"/>
          <p:cNvPicPr/>
          <p:nvPr/>
        </p:nvPicPr>
        <p:blipFill>
          <a:blip r:embed="rId2"/>
          <a:stretch/>
        </p:blipFill>
        <p:spPr>
          <a:xfrm>
            <a:off x="2933640" y="1905120"/>
            <a:ext cx="3276720" cy="2305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457200" y="449568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Togli l'acqua con un cucchiaio?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O con un mestol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Oppure usi una bacinella,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o una pompa collegata a un tubo?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No, non fai nulla di tutto questo: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prima,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chiudi il rubinett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27"/>
          <p:cNvSpPr/>
          <p:nvPr/>
        </p:nvSpPr>
        <p:spPr>
          <a:xfrm>
            <a:off x="304920" y="4343400"/>
            <a:ext cx="8686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Incenerire significa insistere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in un progetto sbagliato in partenza,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che si può risolvere davvero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solo a mont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29" descr="E:\Massimo\Articoli e altri doc\rubinetto.JPG"/>
          <p:cNvPicPr/>
          <p:nvPr/>
        </p:nvPicPr>
        <p:blipFill>
          <a:blip r:embed="rId2"/>
          <a:stretch/>
        </p:blipFill>
        <p:spPr>
          <a:xfrm>
            <a:off x="3505320" y="1981080"/>
            <a:ext cx="196200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E’ IMPOSSIB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NZI, LO FANNO GIÀ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.Francisco è una città portu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i 850mila abita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pressappoco come Napol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a quando att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strategia “RIFIUTI ZER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sua raccolta differenzi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 raggiunto in pochi mesi il 67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el 2010 sarà il 75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l’obiettivo per il 2020 è il 99%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ttraverso la strate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iuti Zero”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l materiale conferito in disca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divent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da subit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INFERI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i residui da incenerimen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(e non c’è danno per la salute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29714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inquinamento diminuisc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Italia caus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 calo di vita medio di 9 mes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ocano innumerevoli danni alla sa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me infarti, ictus, malformazioni fetal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arkinson, Alzheimer e numerosi tum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E:\Massimo\Articoli e altri doc\danni inceneritori.JPG"/>
          <p:cNvPicPr/>
          <p:nvPr/>
        </p:nvPicPr>
        <p:blipFill>
          <a:blip r:embed="rId1"/>
          <a:stretch/>
        </p:blipFill>
        <p:spPr>
          <a:xfrm>
            <a:off x="1971720" y="3046320"/>
            <a:ext cx="5267160" cy="33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28600" y="2209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 capita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mango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nelle comunità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28600" y="28195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 posti di lavoro aumentano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 i Comuni risparmia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l costo per conferire i rifi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discarica o negli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è elevatissi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501"/>
              </a:spcBef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Quindi non fatevi ingannare: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gli inceneritori convengono </a:t>
            </a:r>
            <a:br>
              <a:rPr sz="2800"/>
            </a:b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s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 a chi li costruisce o li gestisce,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mentre l'unica vera convenienza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è quella di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non avere rifiut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e deriva dai processi di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RIDUZIONE,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RECUPERO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e RICICLAGGIO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dei materiali giunti alla fine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del loro ciclo di utilizz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insistono in un progetto ormai falli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un modello di svilup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non riesce più a progredi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a solo a riportare indie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qualità della vita di tut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i dicono moderni e chiamano gli altri arret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ogliamogli dalla bocca questa bu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Arretrato è chi sceglie il proge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piace agli affaristi e ai mafio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erno è chi sceglie il progetto miglio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(Stefano Ben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info e approfond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vai su un qualsiasi motore di ricer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(compreso you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 cerca alcune parole-chi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anopolveri, nanopatologie, Stefano Montana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atrizia Gentilini, Federico Valerio, Consorzio Priu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aurizio Pallante, Paul Connett, Rifiuti Ze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o qualsiasi altra parola su questo te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vedrai che è tutto v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Grazie, se vorrai diffondere quest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ii tu il cambi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vuoi dal mo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5105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Ghan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:\Massimo\Articoli e altri doc\ghandi.JPG"/>
          <p:cNvPicPr/>
          <p:nvPr/>
        </p:nvPicPr>
        <p:blipFill>
          <a:blip r:embed="rId2"/>
          <a:stretch/>
        </p:blipFill>
        <p:spPr>
          <a:xfrm>
            <a:off x="3581280" y="2362320"/>
            <a:ext cx="2008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a è l’ubicazione degli inceneri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la relativa ri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i aspettativa di vita (in me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causa delle PM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27" descr="E:\Massimo\Articoli e altri doc\riduzione aspettativa vita in mesi a causa delle PM2,5.JPG"/>
          <p:cNvPicPr/>
          <p:nvPr/>
        </p:nvPicPr>
        <p:blipFill>
          <a:blip r:embed="rId1"/>
          <a:stretch/>
        </p:blipFill>
        <p:spPr>
          <a:xfrm>
            <a:off x="1447920" y="2235240"/>
            <a:ext cx="6172200" cy="424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8" descr="E:\Massimo\Articoli e altri doc\riduzione aspettativa vita in mesi a causa delle PM2,5 - no logo.JPG"/>
          <p:cNvPicPr/>
          <p:nvPr/>
        </p:nvPicPr>
        <p:blipFill>
          <a:blip r:embed="rId2"/>
          <a:stretch/>
        </p:blipFill>
        <p:spPr>
          <a:xfrm>
            <a:off x="1447920" y="2236680"/>
            <a:ext cx="6172200" cy="42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778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3) INCENERIRE CONTINUERA’ A UCCID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 nanopolveri non sono biodegradabil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a volta create, sono “eter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3:02:49Z</dcterms:created>
  <dc:creator>Massimo</dc:creator>
  <dc:description/>
  <dc:language>en-US</dc:language>
  <cp:lastModifiedBy>Alberto</cp:lastModifiedBy>
  <dcterms:modified xsi:type="dcterms:W3CDTF">2008-05-12T10:25:48Z</dcterms:modified>
  <cp:revision>88</cp:revision>
  <dc:subject/>
  <dc:title> Produrre energia  eliminando rifiuti: geniale, no?  Due piccioni con una fava!   (e così non c’è più neppure bisogno delle discariche)</dc:title>
</cp:coreProperties>
</file>