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E60-0EAA-4DE5-8104-A7F609E0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9E5-0850-4293-ABEC-D7DBB672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D30-77C0-4440-95A5-5883BF5C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91F-87AF-4547-9316-2347D3C4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853B-0700-4F1B-922D-9FBBC87B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229-0C22-49F1-9D60-E070D368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865-6465-4883-855C-DA7A2352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9C7-D111-49DC-8A82-1FAA2160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E4A-447C-4D20-A869-49AD25CD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1FD0-A783-4B48-B3DC-FBC18EBD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976-289A-41AD-9831-90134BC5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235-64BB-4EDD-9FAB-1530D801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E462-17C9-4266-BF35-F81528C00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FISIOPATOLOGIA DEL MACRO E MICROCIRCO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hematizzazione del circo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733920" y="1981080"/>
            <a:ext cx="1295280" cy="53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352320" y="6019920"/>
            <a:ext cx="2133720" cy="457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57e7e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L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352320" y="4800600"/>
            <a:ext cx="221004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AS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M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3048120"/>
            <a:ext cx="1524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RT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4800600"/>
            <a:ext cx="15242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N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4572000"/>
            <a:ext cx="1905120" cy="533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RTERI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2460000">
            <a:off x="5487480" y="2440080"/>
            <a:ext cx="987480" cy="301680"/>
          </a:xfrm>
          <a:prstGeom prst="rightArrow">
            <a:avLst>
              <a:gd name="adj1" fmla="val 50000"/>
              <a:gd name="adj2" fmla="val 8186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0400000">
            <a:off x="6859080" y="3582720"/>
            <a:ext cx="301680" cy="987480"/>
          </a:xfrm>
          <a:prstGeom prst="downArrow">
            <a:avLst>
              <a:gd name="adj1" fmla="val 50000"/>
              <a:gd name="adj2" fmla="val 8186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740000">
            <a:off x="5639760" y="4801680"/>
            <a:ext cx="987480" cy="301680"/>
          </a:xfrm>
          <a:prstGeom prst="rightArrow">
            <a:avLst>
              <a:gd name="adj1" fmla="val 50000"/>
              <a:gd name="adj2" fmla="val 8186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9060000">
            <a:off x="5792040" y="5640480"/>
            <a:ext cx="987480" cy="301680"/>
          </a:xfrm>
          <a:prstGeom prst="rightArrow">
            <a:avLst>
              <a:gd name="adj1" fmla="val 50000"/>
              <a:gd name="adj2" fmla="val 81862"/>
            </a:avLst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8840" y="4954680"/>
            <a:ext cx="987480" cy="301680"/>
          </a:xfrm>
          <a:prstGeom prst="leftArrow">
            <a:avLst>
              <a:gd name="adj1" fmla="val 50000"/>
              <a:gd name="adj2" fmla="val 81832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3080000">
            <a:off x="1982160" y="5716080"/>
            <a:ext cx="987480" cy="301680"/>
          </a:xfrm>
          <a:prstGeom prst="rightArrow">
            <a:avLst>
              <a:gd name="adj1" fmla="val 50000"/>
              <a:gd name="adj2" fmla="val 81862"/>
            </a:avLst>
          </a:prstGeom>
          <a:gradFill rotWithShape="0">
            <a:gsLst>
              <a:gs pos="0">
                <a:srgbClr val="3333cc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7520000">
            <a:off x="934920" y="4020480"/>
            <a:ext cx="987480" cy="263520"/>
          </a:xfrm>
          <a:prstGeom prst="rightArrow">
            <a:avLst>
              <a:gd name="adj1" fmla="val 50000"/>
              <a:gd name="adj2" fmla="val 93716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971800"/>
            <a:ext cx="160020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920000">
            <a:off x="2668680" y="2363400"/>
            <a:ext cx="987480" cy="263520"/>
          </a:xfrm>
          <a:prstGeom prst="rightArrow">
            <a:avLst>
              <a:gd name="adj1" fmla="val 50000"/>
              <a:gd name="adj2" fmla="val 93716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819520"/>
            <a:ext cx="1676520" cy="5331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Grossi v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3657600"/>
            <a:ext cx="2666880" cy="53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Paramicrov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560" y="2973240"/>
            <a:ext cx="453960" cy="225720"/>
          </a:xfrm>
          <a:prstGeom prst="leftArrow">
            <a:avLst>
              <a:gd name="adj1" fmla="val 50000"/>
              <a:gd name="adj2" fmla="val 50260"/>
            </a:avLst>
          </a:prstGeom>
          <a:solidFill>
            <a:srgbClr val="ff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560" y="2973240"/>
            <a:ext cx="453960" cy="225720"/>
          </a:xfrm>
          <a:prstGeom prst="rightArrow">
            <a:avLst>
              <a:gd name="adj1" fmla="val 50000"/>
              <a:gd name="adj2" fmla="val 50279"/>
            </a:avLst>
          </a:prstGeom>
          <a:solidFill>
            <a:srgbClr val="ff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4267080"/>
            <a:ext cx="763560" cy="534960"/>
          </a:xfrm>
          <a:custGeom>
            <a:avLst/>
            <a:gdLst/>
            <a:ahLst/>
            <a:rect l="l" t="t" r="r" b="b"/>
            <a:pathLst>
              <a:path w="481" h="337">
                <a:moveTo>
                  <a:pt x="240" y="336"/>
                </a:moveTo>
                <a:lnTo>
                  <a:pt x="144" y="240"/>
                </a:lnTo>
                <a:lnTo>
                  <a:pt x="192" y="240"/>
                </a:lnTo>
                <a:lnTo>
                  <a:pt x="192" y="144"/>
                </a:lnTo>
                <a:lnTo>
                  <a:pt x="96" y="144"/>
                </a:lnTo>
                <a:lnTo>
                  <a:pt x="96" y="192"/>
                </a:lnTo>
                <a:lnTo>
                  <a:pt x="0" y="96"/>
                </a:lnTo>
                <a:lnTo>
                  <a:pt x="96" y="0"/>
                </a:lnTo>
                <a:lnTo>
                  <a:pt x="96" y="48"/>
                </a:lnTo>
                <a:lnTo>
                  <a:pt x="384" y="48"/>
                </a:lnTo>
                <a:lnTo>
                  <a:pt x="384" y="0"/>
                </a:lnTo>
                <a:lnTo>
                  <a:pt x="480" y="96"/>
                </a:lnTo>
                <a:lnTo>
                  <a:pt x="384" y="192"/>
                </a:lnTo>
                <a:lnTo>
                  <a:pt x="384" y="144"/>
                </a:lnTo>
                <a:lnTo>
                  <a:pt x="288" y="144"/>
                </a:lnTo>
                <a:lnTo>
                  <a:pt x="288" y="240"/>
                </a:lnTo>
                <a:lnTo>
                  <a:pt x="336" y="240"/>
                </a:lnTo>
                <a:lnTo>
                  <a:pt x="240" y="336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6095880"/>
            <a:ext cx="2133720" cy="457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57e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crocir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53160" y="6134040"/>
            <a:ext cx="927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’UNITA’ MICROVASCOL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Riceve informazioni e reagisce a stimoli loc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È costituita da microvasi, il sangue che li pecorre dai tessuti metabolicamente dipendent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Reagisce come un blocco unitario (sinergia, sincroni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’UNITA’ MICROVASCOL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Regola l’afflusso ematico a seconda dei momenti funzionali delle singole regioni attraverso due meccanism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Controllo della vasomotilità (controllo nervoso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Controllo della permeabilità (controllo endotelia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 META-ARTERI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Prendono origine dalle arteri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Hanno caratteristiche intermedie tra quelle dei capillari e delle arteri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Parzialmente provviste di muscolatura lis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Continuano con un capillare piuttosto ampio che confluisce in una ven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engono chiamate anche canali preferenziali perché in condizioni di riposo permettono di shuntare “quanta” di microcircol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FINTERI PERICAPILL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Anelli di muscolatura lisc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situati all’origine dei capillari ve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La loro contrazione regola il flusso di sangue nel capill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 ANASTOMOSI ARTERO-VENO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trutture deputate al collegamento della rete arteriosa con quella venosa shuntando quella capill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ono costituite da intima, media ed avventizia e sono ricche di cellule muscolari lis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ono innervate dal SNA, in particolar modo dalla sezione simpatica più</a:t>
            </a:r>
            <a:r>
              <a:rPr b="1" lang="it-IT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che quella parasimpatica</a:t>
            </a:r>
            <a:r>
              <a:rPr b="1" lang="it-IT" sz="2800" spc="-1" strike="noStrike">
                <a:solidFill>
                  <a:srgbClr val="66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 ANASTOMOSI ARTERO-VENOSE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 loro importanza è rivolta soprattutto alla regolazione della pressione arteriosa siste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Il microcircolo è l’unico sistema vascolare totalmente a resist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ICROANATOMIA DEL CIRCOLO CUTANEO</a:t>
            </a:r>
            <a:br>
              <a:rPr sz="4400"/>
            </a:br>
            <a:r>
              <a:rPr b="1" lang="it-IT" sz="3200" spc="-1" strike="noStrike">
                <a:solidFill>
                  <a:srgbClr val="66ffff"/>
                </a:solidFill>
                <a:latin typeface="Times New Roman"/>
              </a:rPr>
              <a:t>Le arteriole e le venule deriv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Plesso superfic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te orizzontale nelle papille dermiche da cui derivano le anse capillar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33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66ff33"/>
                </a:solidFill>
                <a:uFillTx/>
                <a:latin typeface="Times New Roman"/>
              </a:rPr>
              <a:t>Plesso profo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Formato da vasi perforanti dei muscoli sottostanti che danno origine ad arteriole e venule che si connettono con il plesso orizzontale superficiale e forniscono le tributarie laterali che irrorano il bulbo pilifero e le ghiandole sudori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’INNERVAZIONE VASALE CUTA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E’ di tipo prevalentemento ortosimpa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La sua stimolazione porta a vasocostrizione interessando sia le arteriole, le meta-arteriole, gli sfinteri pericapillari e le ven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Il centro di controllo è situato nell’ipotal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La vasodilatazione avviene per inibizione delle fibre simpati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LTRASTRUTTURA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Microvasi delle papille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10-35 mic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Arteriole nelle papille d.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17-26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Cellule endoteliali circondate da 2 strati di cell. Muscolari lisce (in senso longitudinale ed a spira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e Cell. Muscolari lisce non sono presenti in vasi con diametro inferiore a 15 mic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A CIRCOLAZIONE SANGUIG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ctr">
              <a:spcBef>
                <a:spcPts val="24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ffff"/>
                </a:solidFill>
                <a:latin typeface="Times New Roman"/>
              </a:rPr>
              <a:t>Il  sangue circola </a:t>
            </a:r>
            <a:r>
              <a:rPr b="0" lang="en-US" sz="9600" spc="-1" strike="noStrike">
                <a:solidFill>
                  <a:srgbClr val="66ff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LTRASTRUTTURA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Capillari arteriosi 10-12 mic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Sono presenti i periciti anch’essi utili per la contrazione differiscono dalle cell. Musc. Lisce per la presenza di pochi filamenti ed assenza di corpi den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E’ presente la membrana basale che inizia come una struttura omogenea sino a diventare pluristratific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LTRASTRUTTURA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I capillari ven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Si connettono alle venule post-capilla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Hanno diametro di 12-35 mic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Hanno tre strati di peric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 membrana basale è pluristratific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NULE COLLETTRICI CON VALV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Passano dallo strato profondo a quello superfic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Hanno </a:t>
            </a:r>
            <a:r>
              <a:rPr b="0" lang="it-IT" sz="3200" spc="-1" strike="noStrike">
                <a:solidFill>
                  <a:srgbClr val="66ffff"/>
                </a:solidFill>
                <a:latin typeface="Symbol"/>
                <a:ea typeface="Symbol"/>
              </a:rPr>
              <a:t>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 70-120 mic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e venule postcapillari si uniscono a questi v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Sono presenti valvole che garantiscono la propulsione del sangue in un’unica dire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ASI SOTTOCUTAN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Nel derma medio ed inferiore (plesso inferi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Diametro superiore rispetto a quello del plesso superfic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Parete più spe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CML e periciti presenti in 4-5 str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 ANSE CAPILL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Partono dal plesso papillare orizzon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Sono composte da un braccio ascendente (con caratteristiche di un capillare arterios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da un’ansa intrapapillare (</a:t>
            </a:r>
            <a:r>
              <a:rPr b="0" lang="it-IT" sz="3200" spc="-1" strike="noStrike">
                <a:solidFill>
                  <a:srgbClr val="66ffff"/>
                </a:solidFill>
                <a:latin typeface="Symbol"/>
                <a:ea typeface="Symbol"/>
              </a:rPr>
              <a:t>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 1-1.5 micr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ed un braccio discendente dove le caratteristiche variano dalla parte prossimale a quella dist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I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Cellule avventiziali piatte che circondano tutti i vasi del de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 loro ultrastruttura è simile a quella dei fibr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Sono totalmente esterne alla parete demarcando i vasi dal derma circost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SIOPATOLOGIA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 perfusione dei microvasi dipe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dalla tonoregolazione arteriola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dalle determinanti reologiche del san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dalle deterninanti reologiche dipendenti dalla geometria e dal </a:t>
            </a:r>
            <a:r>
              <a:rPr b="0" lang="it-IT" sz="2800" spc="-1" strike="noStrike">
                <a:solidFill>
                  <a:srgbClr val="99ff33"/>
                </a:solidFill>
                <a:latin typeface="Symbol"/>
                <a:ea typeface="Symbol"/>
              </a:rPr>
              <a:t></a:t>
            </a: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 microcircoalto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Gli scambi tessuto microcircolo necessita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di bassa velocità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di bassa pre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perfusione proporzionale alla esigenze metaboli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SIOPATOLOGIA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MECCANISMI DI CONT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4686600">
            <a:off x="6384240" y="2250000"/>
            <a:ext cx="2279880" cy="1192320"/>
          </a:xfrm>
          <a:custGeom>
            <a:avLst/>
            <a:gdLst>
              <a:gd name="textAreaLeft" fmla="*/ 398880 w 2279880"/>
              <a:gd name="textAreaRight" fmla="*/ 1653120 w 2279880"/>
              <a:gd name="textAreaTop" fmla="*/ 159480 h 1192320"/>
              <a:gd name="textAreaBottom" fmla="*/ 1032840 h 1192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743200"/>
            <a:ext cx="733320" cy="2438280"/>
          </a:xfrm>
          <a:custGeom>
            <a:avLst/>
            <a:gdLst>
              <a:gd name="textAreaLeft" fmla="*/ 98280 w 733320"/>
              <a:gd name="textAreaRight" fmla="*/ 635040 w 733320"/>
              <a:gd name="textAreaTop" fmla="*/ 426600 h 2438280"/>
              <a:gd name="textAreaBottom" fmla="*/ 17679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Neuroge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29640" y="44956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66"/>
                </a:solidFill>
                <a:latin typeface="Times New Roman"/>
              </a:rPr>
              <a:t>Mioge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SIOPATOLOGIA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E MIOCELL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Sono costantemente in contrazione tonica persistente </a:t>
            </a:r>
            <a:r>
              <a:rPr b="1" i="1" lang="it-IT" sz="2400" spc="-1" strike="noStrike">
                <a:solidFill>
                  <a:srgbClr val="66ffff"/>
                </a:solidFill>
                <a:latin typeface="Times New Roman"/>
              </a:rPr>
              <a:t>(meccanismo ATPasi, Mg</a:t>
            </a:r>
            <a:r>
              <a:rPr b="1" i="1" lang="it-IT" sz="2400" spc="-1" strike="noStrike" baseline="30000">
                <a:solidFill>
                  <a:srgbClr val="66ffff"/>
                </a:solidFill>
                <a:latin typeface="Times New Roman"/>
              </a:rPr>
              <a:t>+</a:t>
            </a:r>
            <a:r>
              <a:rPr b="1" i="1" lang="it-IT" sz="2400" spc="-1" strike="noStrike">
                <a:solidFill>
                  <a:srgbClr val="66ffff"/>
                </a:solidFill>
                <a:latin typeface="Times New Roman"/>
              </a:rPr>
              <a:t> dipenden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Possiedono una attività ciclica che in parte regola i fenomeni 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somo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flowmo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Tali eventi sono indotti da stimo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istemici (+ -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locali (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SIOPATOLOGIA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’ENDOTELIO (KG. 1,5, m</a:t>
            </a:r>
            <a:r>
              <a:rPr b="0" lang="it-IT" sz="2800" spc="-1" strike="noStrike" baseline="30000">
                <a:solidFill>
                  <a:srgbClr val="66ffff"/>
                </a:solidFill>
                <a:latin typeface="Times New Roman"/>
              </a:rPr>
              <a:t>2 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600, 200-2000 capillari/mm</a:t>
            </a:r>
            <a:r>
              <a:rPr b="0" lang="it-IT" sz="2800" spc="-1" strike="noStrike" baseline="30000">
                <a:solidFill>
                  <a:srgbClr val="66ffff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Può essere continuo o fenestrat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cellule di aspetto fusiforme, con superficie abluminale (interconnessa con i tessuti da membrana basale, collagene,proteoglicani, eparansolfati, integrine) e luminale (interconnessa con il sangue da un Fazzy-Coat: mucopalisaccaridi, glicoproteine, fibrinogeno, fibrina) con citoscleletro elastico che permette di saturare eventuali soluzioni di contin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A STORIA DELLA CIRCOLAZIONE SANGUIG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Gli antichi credevano che ……. (Ippocrate, Galen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Primi studi e costruzione di apparecchi ottici sulle esperienze galileiane nei paesi bas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Padre Atanasio Kircher (?) durante l’epidemia di peste nera osservò l’aggregazione eritrocitaria intravasacolare con un microco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Harvey  nel 1628 definisce i primi meccanismi di fisiopatologia del macro e microcirco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SIOPATOLOGIA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VASCULOGENE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Dagli angioblasti delle isole emopoietiche del sacco vitellino; vasi nuovi nel corso dell’ontogenes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NEOANGIOGENE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eoformazione vascolare da vasi preesistenti; per maggiore richiesta metabolica da parte dei tessu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E GIUNZIONI INTECELLUL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Decodificatori di segnale “inibizione/proliferazion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SIOPATOLOGIA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E FUNZIONI ENDOTELI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Coagulation/Anticagulation Emba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ff33"/>
                </a:solidFill>
                <a:latin typeface="Times New Roman"/>
              </a:rPr>
              <a:t>prostaciclina, trombomodulina, PAI, trombomodulina,VW, et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Tonorego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ff33"/>
                </a:solidFill>
                <a:latin typeface="Times New Roman"/>
              </a:rPr>
              <a:t>endoteline, NO, adenosina, ANP; BNP, CNP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Mediazione degli scambi acqua sol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eparazione tessuti/sang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SIOPATOLOGIA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352680"/>
            <a:ext cx="7238880" cy="533520"/>
          </a:xfrm>
          <a:custGeom>
            <a:avLst/>
            <a:gdLst>
              <a:gd name="textAreaLeft" fmla="*/ 0 w 7238880"/>
              <a:gd name="textAreaRight" fmla="*/ 7239240 w 7238880"/>
              <a:gd name="textAreaTop" fmla="*/ 69120 h 533520"/>
              <a:gd name="textAreaBottom" fmla="*/ 464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embrana cellu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2286000"/>
            <a:ext cx="485640" cy="2666880"/>
          </a:xfrm>
          <a:prstGeom prst="upDownArrow">
            <a:avLst>
              <a:gd name="adj1" fmla="val 50000"/>
              <a:gd name="adj2" fmla="val 109321"/>
            </a:avLst>
          </a:prstGeom>
          <a:solidFill>
            <a:srgbClr val="ffff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373000">
            <a:off x="4877280" y="258984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6781680" y="4343400"/>
            <a:ext cx="990720" cy="486000"/>
          </a:xfrm>
          <a:custGeom>
            <a:avLst/>
            <a:gdLst>
              <a:gd name="textAreaLeft" fmla="*/ 154800 w 990720"/>
              <a:gd name="textAreaRight" fmla="*/ 866880 w 990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42440" y="145908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rasporto pas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2247600">
            <a:off x="5823360" y="3085920"/>
            <a:ext cx="32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rasporto a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MOREOLOGIA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REOLOG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ff"/>
                </a:solidFill>
                <a:latin typeface="Times New Roman"/>
              </a:rPr>
              <a:t>la scienza che studia il deformarsi della materia (in qualunque suo stadio) in movimento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ff"/>
                </a:solidFill>
                <a:latin typeface="Times New Roman"/>
              </a:rPr>
              <a:t>Esso può essere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Times New Roman"/>
              </a:rPr>
              <a:t>Plastico (irreversib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Times New Roman"/>
              </a:rPr>
              <a:t>Elastico (reversibile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ff"/>
                </a:solidFill>
                <a:latin typeface="Times New Roman"/>
              </a:rPr>
              <a:t>La soglia minima di forza capace di iniziare la deformazione viene definita</a:t>
            </a:r>
            <a:r>
              <a:rPr b="1" lang="it-IT" sz="2800" spc="-1" strike="noStrike">
                <a:solidFill>
                  <a:srgbClr val="66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Times New Roman"/>
              </a:rPr>
              <a:t>Yield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66ffff"/>
                </a:solidFill>
                <a:latin typeface="Times New Roman"/>
              </a:rPr>
              <a:t>Tale deformazione dipende da forze tangenziali che determin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Times New Roman"/>
              </a:rPr>
              <a:t>Shear Stress misurato in dyne/cm</a:t>
            </a:r>
            <a:r>
              <a:rPr b="0" lang="it-IT" sz="2000" spc="-1" strike="noStrike" baseline="30000">
                <a:solidFill>
                  <a:srgbClr val="ffff99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ff"/>
                </a:solidFill>
                <a:latin typeface="Times New Roman"/>
              </a:rPr>
              <a:t>Dipende inoltre dal gradiente di velocità dei vari piani det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Times New Roman"/>
              </a:rPr>
              <a:t>Shear stress misurato in S</a:t>
            </a:r>
            <a:r>
              <a:rPr b="0" lang="it-IT" sz="2400" spc="-1" strike="noStrike" baseline="30000">
                <a:solidFill>
                  <a:srgbClr val="ffff99"/>
                </a:solidFill>
                <a:latin typeface="Times New Roman"/>
              </a:rPr>
              <a:t>-1</a:t>
            </a:r>
            <a:r>
              <a:rPr b="0" lang="it-IT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MOREOLOGIA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In un fluido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L’attrito interno tra le varie frazioni si definisce viscosit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Può essere definita come capacità di opporsi alla deforma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È influenzata dalla temperatu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MOREOLOGIA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I fluidi possono essere defini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Newtoniani (o perfet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Non Newtoniani (o imperfett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Il sangue è un fluido non newtoni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MOREOLOGIA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ffff"/>
                </a:solidFill>
                <a:latin typeface="Times New Roman"/>
              </a:rPr>
              <a:t>Le caratteristiche reologiche (viscosità) del sangue  sono determinate 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Cellu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Fibrinogeno (plas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Globuline (siero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124080"/>
            <a:ext cx="609480" cy="3200400"/>
          </a:xfrm>
          <a:custGeom>
            <a:avLst/>
            <a:gdLst>
              <a:gd name="textAreaLeft" fmla="*/ 0 w 609480"/>
              <a:gd name="textAreaRight" fmla="*/ 219960 w 6094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4419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Sangue int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MOREOLOGIA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Le cellule del sangue so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Eritrociti (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7 micron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Leucociti (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 8-14 micron 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Piastr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MOREOLOGIA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 emoreologia è inoltre influenzata dalla variazione di calibro dei capilla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e variazioni di calibro possono ess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at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passive (determinate dalle pressioni endovasali e dalle caratteristiche viscoso-tenso-elestiche delle pare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 pressione laterale del sangue non ha la capacità di determinare dilata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Il decremento delle pressioni totali trasversali possono portare a obliterazione microvasale per aumento della tensione pariet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Capillaroscop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Fluorangi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ser-dopp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Ossimetria trancutan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Ecocolordoppler ad alta defini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Pletism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Valutazione SS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e metodiche di valutazione emoreolog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 term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A STORIA DELLA CIRCOLAZIONE SANGUIG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M. Malpighi nel 1652 scoprì l’esistenza delle anastomosi artero-venose nel polmone di r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el 1658 Leeuwenhoech mette a punto il primo microscopio ottico moder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M. Malpighi nel 1652 scoprì l’esistenza delle anastomosi arterovenose nel polmone di r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M. Malpighi nel 1661 descrisse i capillari nel polmone e nella membrana natatoria della rana</a:t>
            </a:r>
            <a:r>
              <a:rPr b="0" lang="it-IT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Fluorangiograf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zione con sostanze fluorescenti del microcircolo retinico e periungue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iene utilizzata la fluoresceina che in condizioni di normalità non passa l’endotelio microvascol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i valutano i seguenti temp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arteriola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capilla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venula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dà una valutazione qualitativa e morfolog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ser-doppl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 la velocità di scorrimento delle emazi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on valuta il fluss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definisce una unità campion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ogni soggetto è misura di se stess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on esistono parametri facilmente standardizzabil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dà una valutazione prevalentemente quantit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Ossimetria trancutan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 la concentrazione di ossigeno cutaneo attraverso un elettrodo registratore stimolatore detto di Cla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dà una valutazione quantitativ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i valori derivati dipend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ossigenazione del sang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portata ematica loca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dissociabilità emoglobini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consumo cellul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Ecocolordoppler ad alta definizi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metodica sperimenta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 fino a livello delle anastomosi artero-venos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definisce le caratteristich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del fluss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della par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è un metodo di valutazione qualitativa e quantitativ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on è ancora standardizz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Pletismograf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 le variazioni di perfusione successive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variazione fisiologich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stimol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Metodo prevalentemente quanti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7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Valutazione SS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tudio neurofisiologico della fibra C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zione della integrità tonomotrice periferic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zione qualitativa e quantit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8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e metodiche di valutazione emoreologic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zione d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viscosità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deformabilità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filtrabilit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Permettono di valutare il “contenuto” ed il suo comportamento rispetto al conten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9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 termograf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zione attraverso un codice colore 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pervietà del letto capilla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Spotting-zone di iper-ipoperfusio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Variazioni dinamiche indotte da vari stimo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Metodo di valutazione quantitativa che valuta “il calore cutaneo” indotto dalla quantità di sangue arterioso - venoso presente in un tess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Capillaroscop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ottica, vide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tatica e dinamic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ripetib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on inv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pecific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ensi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dà una valutazione qualitativa, morfolog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11.                La capillaroscop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ff00"/>
                </a:solidFill>
                <a:uFillTx/>
                <a:latin typeface="Verdana"/>
                <a:ea typeface="Times New Roman"/>
              </a:rPr>
              <a:t>Fattori posi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È probabilmente la più antica tecnica di indagine vascola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È una tecnica di indagine del microcircolo non invasiva, sensibile, specifica, ripetibile</a:t>
            </a:r>
            <a:r>
              <a:rPr b="1" i="1" lang="it-IT" sz="2000" spc="-1" strike="noStrike">
                <a:solidFill>
                  <a:srgbClr val="00ccff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ff00"/>
                </a:solidFill>
                <a:uFillTx/>
                <a:latin typeface="Verdana"/>
                <a:ea typeface="Times New Roman"/>
              </a:rPr>
              <a:t>Fattori neg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Tecnica di indagine eminentemente qualit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Strettamente legata alla esperienza ed alla interpretazione individu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Limita la sua applicazione a quelle regioni corporee che sono raggiungibili dal braccio del microscopio intravi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A STORIA DELLA CIRCOLAZIONE SANGUIG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el 1674 Leeuwenhoech descrisse i globuli ros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Boerhaave descrive aggregazione dei globuli rossi nei microvasi della congiuntiv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el 1768 Spallanzani scoprì i globuli bianchi (descritti come bollicine d’ari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el 1882 Bizzozero descrisse le piastr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12.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Verdana"/>
              </a:rPr>
              <a:t>L’ACCETTAZIONE DEI  MIGLIORAMENTI  TECNOLOGICI E’ ALLA BASE DELLE SOCIETA’ EVOL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66ff33"/>
                </a:solidFill>
                <a:latin typeface="Verdana"/>
              </a:rPr>
              <a:t>(POPPER)</a:t>
            </a:r>
            <a:r>
              <a:rPr b="1" i="1" lang="en-US" sz="3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13.</a:t>
            </a:r>
            <a:r>
              <a:rPr b="0" lang="it-IT" sz="4400" spc="-1" strike="noStrike">
                <a:solidFill>
                  <a:srgbClr val="66ffff"/>
                </a:solidFill>
                <a:latin typeface="Times New Roman"/>
              </a:rPr>
              <a:t>                </a:t>
            </a: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La videocapillaroscop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ff00"/>
                </a:solidFill>
                <a:uFillTx/>
                <a:latin typeface="Verdana"/>
                <a:ea typeface="Times New Roman"/>
              </a:rPr>
              <a:t>Fattori posi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È una tecnica di indagine del microcircolo non invasiva, sensibile, specifica, ripetib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Permette di valutare il microcircolo in tutte le regioni corpore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Permette valutazioni qualitative e quantit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66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Consente una archiviazione automatizzata ed follow up preciso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ff00"/>
                </a:solidFill>
                <a:uFillTx/>
                <a:latin typeface="Verdana"/>
                <a:ea typeface="Times New Roman"/>
              </a:rPr>
              <a:t>Fattori neg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Necessita di una ottima manualità nella valutazione della congiun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14.</a:t>
            </a:r>
            <a:r>
              <a:rPr b="0" lang="it-IT" sz="4400" spc="-1" strike="noStrike">
                <a:solidFill>
                  <a:srgbClr val="66ffff"/>
                </a:solidFill>
                <a:latin typeface="Times New Roman"/>
              </a:rPr>
              <a:t>                </a:t>
            </a: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La videocapillaroscop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ff00"/>
                </a:solidFill>
                <a:uFillTx/>
                <a:latin typeface="Verdana"/>
                <a:ea typeface="Times New Roman"/>
              </a:rPr>
              <a:t>Sedi di osserv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9900"/>
                </a:solidFill>
                <a:latin typeface="Verdana"/>
                <a:ea typeface="Times New Roman"/>
              </a:rPr>
              <a:t>Le sedi di osservazione abituali sono</a:t>
            </a:r>
            <a:r>
              <a:rPr b="1" i="1" lang="it-IT" sz="2400" spc="-1" strike="noStrike">
                <a:solidFill>
                  <a:srgbClr val="66ffff"/>
                </a:solidFill>
                <a:latin typeface="Verdan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ffff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La congiuntiv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Il pomell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L’orletto gengiva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La muccosa labia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Il cubi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Il letto periungueale della mano e del pie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Il dorso della mano e del piede.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MEIOTICA STRUMENTALE DEL MICROCIRCOLO 15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Anatomia del microcircolo congiuntiv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A livello del microcircolo congiuntivale si osservano, arteriole, venule, anastonosi arteriolovenulari, capillar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La valutazione dell’intero circolo terminale (paramicrocircolo e capillari) non è possibile nessun altro distretto corporeo (ad eccezione della muccosa labiale con estrema difficoltà interpretativa per difficoltà di carattere tecnico ed anatomic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Il plesso arteriolare congiuntivale si forma dalle anostomosi tra arterie congiuntivali anteriori e posteriori, che a loro volta derivano dalle arterie ciliari anteriori, rami della arteria oftalmica a sua volta ramo della carotide intern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Il plesso venulare è tributario della vena oftalmica sup. e della vena angolare rami del seno sigmoideo e della</a:t>
            </a:r>
            <a:r>
              <a:rPr b="0" lang="it-IT" sz="2000" spc="-1" strike="noStrike">
                <a:solidFill>
                  <a:srgbClr val="66ffff"/>
                </a:solidFill>
                <a:latin typeface="Verdana"/>
                <a:ea typeface="Times New Roman"/>
              </a:rPr>
              <a:t> giugulare interna</a:t>
            </a:r>
            <a:r>
              <a:rPr b="1" i="1" lang="it-IT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MEIOTICA STRUMENTALE DEL MICROCIRCOLO 16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ff00"/>
                </a:solidFill>
                <a:uFillTx/>
                <a:latin typeface="Verdana"/>
                <a:ea typeface="Times New Roman"/>
              </a:rPr>
              <a:t>Parametri morf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Vascolarità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Distanza di diffu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Profilo va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Diametro (v.n.: artreriole 10-50</a:t>
            </a:r>
            <a:r>
              <a:rPr b="0" lang="it-IT" sz="24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, venule 20-100</a:t>
            </a:r>
            <a:r>
              <a:rPr b="0" lang="it-IT" sz="24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Rapporto a/v (v.n. 1.2-1.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Capillari poco rappresentati di diametro 4-8</a:t>
            </a:r>
            <a:r>
              <a:rPr b="0" lang="it-IT" sz="24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Sclera translucida, cangiante madreperlaceo azzu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MEIOTICA STRUMENTALE DEL MICROCIRCOLO 1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Parametri emodinam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Tipo di flusso: laminare (presenza di rouleaux fisiolog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Colore: arteriola rosso scarlatto, venula rosso l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ff99"/>
                </a:solidFill>
                <a:uFillTx/>
                <a:latin typeface="Times New Roman"/>
                <a:ea typeface="Times New Roman"/>
              </a:rPr>
              <a:t>Reperti pat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Microaneurismi arterio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Dilatazioni venulari settoriali e/o segmenta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Aspetto uniforme di colore arancio delle venule (segno di sta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Slu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Margini arteriolari sfumati e brillanti (ede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Evidenza particolare dei capillari con formazione di un dise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Depositi giallo-grigiastri o biancastri nella sclera in prossimità dell’iride o perdita di lucentezza della sclera o colorito bianco-grigia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MEIOTICA STRUMENTALE DEL MICROCIRCOLO 18. PLICA UNGUE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</a:rPr>
              <a:t>Parametri morf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Grado di visibi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Piani di visibilità (v.n 2-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Numero delle ansi per mm2 (v.n.14-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ametro delle anse (v.n 4-14 </a:t>
            </a:r>
            <a:r>
              <a:rPr b="0" lang="it-IT" sz="20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Lunghezza delle anse capillari (v.n. 100-300</a:t>
            </a:r>
            <a:r>
              <a:rPr b="0" lang="it-IT" sz="20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Rapporto a/v tra braccio arteriolare e venulare (v.n. 1.2-1.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le anse (normale rosso scarlat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sposizione delle anse rispetto alle papille dermiche (oblique in età puberale verticali nell’adu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Forma delle anse capil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stanza tra ansa e papilla dermica (rilevante nell’età puberale e nell’anziano irrilenante nell’adu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Plesso venoso (visibile nel pre-pubere e nell’anzia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 plesso venoso (rosso carmin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 connettivo interstiziale (arancio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MEIOTICA STRUMENTALE DEL MICROCIRCOLO 19. PLICA UNGUE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</a:rPr>
              <a:t>Parametri morf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Grado di visibi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Piani di visibilità (v.n 2-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Numero delle ansi per mm2 (v.n.14-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ametro delle anse (v.n 4-14 </a:t>
            </a:r>
            <a:r>
              <a:rPr b="0" lang="it-IT" sz="20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Lunghezza delle anse capillari (v.n. 100-300</a:t>
            </a:r>
            <a:r>
              <a:rPr b="0" lang="it-IT" sz="20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Rapporto a/v tra braccio arteriolare e venulare (v.n. 1.2-1.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le anse (normale rosso scarlat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sposizione delle anse rispetto alle papille dermiche (oblique in età puberale verticali nell’adu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Forma delle anse capil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stanza tra ansa e papilla dermica (rilevante nell’età puberale e nell’anziano irrilenante nell’adu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Plesso venoso (visibile nel pre-pubere e nell’anzia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 plesso venoso (rosso carmin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 connettivo interstiziale (arancio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MEIOTICA STRUMENTALE DEL MICROCIRCOLO 19. PLICA UNGUE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</a:rPr>
              <a:t>Parametri morf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Grado di visibi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Piani di visibilità (v.n 2-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Numero delle ansi per mm2 (v.n.14-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ametro delle anse (v.n 4-14 </a:t>
            </a:r>
            <a:r>
              <a:rPr b="0" lang="it-IT" sz="20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Lunghezza delle anse capillari (v.n. 100-300</a:t>
            </a:r>
            <a:r>
              <a:rPr b="0" lang="it-IT" sz="20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Rapporto a/v tra braccio arteriolare e venulare (v.n. 1.2-1.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le anse (normale rosso scarlat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sposizione delle anse rispetto alle papille dermiche (oblique in età puberale verticali nell’adu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Forma delle anse capil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stanza tra ansa e papilla dermica (rilevante nell’età puberale e nell’anziano irrilenante nell’adu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Plesso venoso (visibile nel pre-pubere e nell’anzia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 plesso venoso (rosso carmin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 connettivo interstiziale (arancio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MEIOTICA STRUMENTALE DEL MICROCIRCOLO 21.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OME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</a:rPr>
              <a:t>I parametri sono esclusivamente morf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lorito Rosso Cadm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Rapporto a/v (v.n.1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</a:rPr>
              <a:t>Reperti pat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iminuzione del numero delle a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morra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ila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hematizzazione del circo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33920" y="1981080"/>
            <a:ext cx="1295280" cy="53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352320" y="6019920"/>
            <a:ext cx="2133720" cy="457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57e7e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L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352320" y="4800600"/>
            <a:ext cx="221004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AS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M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048120"/>
            <a:ext cx="1524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RT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4800600"/>
            <a:ext cx="15242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N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4572000"/>
            <a:ext cx="1905120" cy="533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RTERI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460000">
            <a:off x="5487480" y="2440080"/>
            <a:ext cx="987480" cy="301680"/>
          </a:xfrm>
          <a:prstGeom prst="rightArrow">
            <a:avLst>
              <a:gd name="adj1" fmla="val 50000"/>
              <a:gd name="adj2" fmla="val 8186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400000">
            <a:off x="6859080" y="3582720"/>
            <a:ext cx="301680" cy="987480"/>
          </a:xfrm>
          <a:prstGeom prst="downArrow">
            <a:avLst>
              <a:gd name="adj1" fmla="val 50000"/>
              <a:gd name="adj2" fmla="val 8186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740000">
            <a:off x="5639760" y="4801680"/>
            <a:ext cx="987480" cy="301680"/>
          </a:xfrm>
          <a:prstGeom prst="rightArrow">
            <a:avLst>
              <a:gd name="adj1" fmla="val 50000"/>
              <a:gd name="adj2" fmla="val 8186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9060000">
            <a:off x="5792040" y="5640480"/>
            <a:ext cx="987480" cy="301680"/>
          </a:xfrm>
          <a:prstGeom prst="rightArrow">
            <a:avLst>
              <a:gd name="adj1" fmla="val 50000"/>
              <a:gd name="adj2" fmla="val 81862"/>
            </a:avLst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8840" y="4954680"/>
            <a:ext cx="987480" cy="301680"/>
          </a:xfrm>
          <a:prstGeom prst="leftArrow">
            <a:avLst>
              <a:gd name="adj1" fmla="val 50000"/>
              <a:gd name="adj2" fmla="val 81832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3080000">
            <a:off x="1982160" y="5716080"/>
            <a:ext cx="987480" cy="301680"/>
          </a:xfrm>
          <a:prstGeom prst="rightArrow">
            <a:avLst>
              <a:gd name="adj1" fmla="val 50000"/>
              <a:gd name="adj2" fmla="val 81862"/>
            </a:avLst>
          </a:prstGeom>
          <a:gradFill rotWithShape="0">
            <a:gsLst>
              <a:gs pos="0">
                <a:srgbClr val="3333cc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7520000">
            <a:off x="934920" y="4020480"/>
            <a:ext cx="987480" cy="263520"/>
          </a:xfrm>
          <a:prstGeom prst="rightArrow">
            <a:avLst>
              <a:gd name="adj1" fmla="val 50000"/>
              <a:gd name="adj2" fmla="val 93716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971800"/>
            <a:ext cx="160020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9920000">
            <a:off x="2668680" y="2363400"/>
            <a:ext cx="987480" cy="263520"/>
          </a:xfrm>
          <a:prstGeom prst="rightArrow">
            <a:avLst>
              <a:gd name="adj1" fmla="val 50000"/>
              <a:gd name="adj2" fmla="val 93716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2819520"/>
            <a:ext cx="1676520" cy="5331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Grossi v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3657600"/>
            <a:ext cx="2666880" cy="53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Paramicrov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560" y="2973240"/>
            <a:ext cx="453960" cy="225720"/>
          </a:xfrm>
          <a:prstGeom prst="leftArrow">
            <a:avLst>
              <a:gd name="adj1" fmla="val 50000"/>
              <a:gd name="adj2" fmla="val 50260"/>
            </a:avLst>
          </a:prstGeom>
          <a:solidFill>
            <a:srgbClr val="ff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560" y="2973240"/>
            <a:ext cx="453960" cy="225720"/>
          </a:xfrm>
          <a:prstGeom prst="rightArrow">
            <a:avLst>
              <a:gd name="adj1" fmla="val 50000"/>
              <a:gd name="adj2" fmla="val 50279"/>
            </a:avLst>
          </a:prstGeom>
          <a:solidFill>
            <a:srgbClr val="ff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4267080"/>
            <a:ext cx="763560" cy="534960"/>
          </a:xfrm>
          <a:custGeom>
            <a:avLst/>
            <a:gdLst/>
            <a:ahLst/>
            <a:rect l="l" t="t" r="r" b="b"/>
            <a:pathLst>
              <a:path w="481" h="337">
                <a:moveTo>
                  <a:pt x="240" y="336"/>
                </a:moveTo>
                <a:lnTo>
                  <a:pt x="144" y="240"/>
                </a:lnTo>
                <a:lnTo>
                  <a:pt x="192" y="240"/>
                </a:lnTo>
                <a:lnTo>
                  <a:pt x="192" y="144"/>
                </a:lnTo>
                <a:lnTo>
                  <a:pt x="96" y="144"/>
                </a:lnTo>
                <a:lnTo>
                  <a:pt x="96" y="192"/>
                </a:lnTo>
                <a:lnTo>
                  <a:pt x="0" y="96"/>
                </a:lnTo>
                <a:lnTo>
                  <a:pt x="96" y="0"/>
                </a:lnTo>
                <a:lnTo>
                  <a:pt x="96" y="48"/>
                </a:lnTo>
                <a:lnTo>
                  <a:pt x="384" y="48"/>
                </a:lnTo>
                <a:lnTo>
                  <a:pt x="384" y="0"/>
                </a:lnTo>
                <a:lnTo>
                  <a:pt x="480" y="96"/>
                </a:lnTo>
                <a:lnTo>
                  <a:pt x="384" y="192"/>
                </a:lnTo>
                <a:lnTo>
                  <a:pt x="384" y="144"/>
                </a:lnTo>
                <a:lnTo>
                  <a:pt x="288" y="144"/>
                </a:lnTo>
                <a:lnTo>
                  <a:pt x="288" y="240"/>
                </a:lnTo>
                <a:lnTo>
                  <a:pt x="336" y="240"/>
                </a:lnTo>
                <a:lnTo>
                  <a:pt x="240" y="336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6095880"/>
            <a:ext cx="2133720" cy="457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57e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crocir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53160" y="6134040"/>
            <a:ext cx="927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MEIOTICA STRUMENTALE DEL MICROCIRCOLO 22.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I parametri sono esclusivamente morf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Numero di anse per mm2 (60-7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Grand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resenza di rosone venulare 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MEIOTICA STRUMENTALE DEL MICROCIRCOLO 2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E’ un’immagine complementare di supporto alla diagnosi clinica</a:t>
            </a:r>
            <a:r>
              <a:rPr b="0" lang="it-IT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ornisce immagini evocanti e immagini probative ai fini diagnostici e prognostici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mmagini evocanti 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         iperten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         sindromi da iperviscosità primaria e seco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         vascul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         diab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         arterioscler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         connettivop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</a:t>
            </a: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A STORIA DEL MICROCIRCO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Purkinje nel 1823 descrisse quadri di microcircolazione cutane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Coccius nel 1850 classificò le osservazioni capillaroscopiche della congiun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Heuter applicò metodiche capillaroscopiche al labbro inferi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Hunna nel 1891 e successivamente Lombard nel  1911 misero a punto un metodo per migliorare la trasparenza cutane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A STORIA DEL MICROCIRCO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ombard nel 1912 standardizzò le metodiche di osservazione del microcirolo periungue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Nel 1916 Wiess introdusse l’uso di metodiche fotografi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o studio del microcircolo era di appannaggio dei fisiologi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A STORIA DEL MICROCIRCO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Knisely e Bloch nel 1949 espressero 2 concetti di fondamentale importanz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Lo stato del microcircolo di un distretto è sovrapponibile a quello di tutti i distret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La integrità di un distretto è dipendente dalla integrità del suo microcircol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04-11-13T09:32:10Z</dcterms:modified>
  <cp:revision>35</cp:revision>
  <dc:subject/>
  <dc:title>IL MICROCIRCOLO</dc:title>
</cp:coreProperties>
</file>