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768C-8913-4F70-B3BF-0BCC8E63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1ED-3D52-4512-BBE8-225EB90A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8648-9541-414A-ACAB-E98B9484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F659-DFBA-4889-B348-23BD0EB5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DCB6-8223-4B72-9B65-720A4E9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7BCE-8EDF-4263-B3D9-E39D4DE4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350D-4F9D-4BDC-A1C1-5A06560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2B5-145E-4DA9-94B5-A9C394F4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C5E-94B6-44A5-8987-C18B899B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FE5-08B5-48DE-890C-AC8F77A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81B5-E2B3-4504-9181-0E7203E6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6C5-B2C6-4E5F-93D7-DF571ED8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81E-3C0F-4997-B357-539A4002C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FISIOPATOLOGIA DEL MACRO E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hematizzazione del 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33920" y="1981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352320" y="601992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52320" y="4800600"/>
            <a:ext cx="221004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A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M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3048120"/>
            <a:ext cx="1524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4800600"/>
            <a:ext cx="15242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4572000"/>
            <a:ext cx="190512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460000">
            <a:off x="5487480" y="2440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20400000">
            <a:off x="6859080" y="3582720"/>
            <a:ext cx="301680" cy="987480"/>
          </a:xfrm>
          <a:prstGeom prst="down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740000">
            <a:off x="5639760" y="48016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9060000">
            <a:off x="5792040" y="56404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8840" y="4954680"/>
            <a:ext cx="987480" cy="301680"/>
          </a:xfrm>
          <a:prstGeom prst="leftArrow">
            <a:avLst>
              <a:gd name="adj1" fmla="val 50000"/>
              <a:gd name="adj2" fmla="val 81832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3080000">
            <a:off x="1982160" y="5716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3333cc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7520000">
            <a:off x="934920" y="402048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971800"/>
            <a:ext cx="160020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920000">
            <a:off x="2668680" y="236340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819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ossi 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3657600"/>
            <a:ext cx="26668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aramicro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560" y="2973240"/>
            <a:ext cx="453960" cy="225720"/>
          </a:xfrm>
          <a:prstGeom prst="leftArrow">
            <a:avLst>
              <a:gd name="adj1" fmla="val 50000"/>
              <a:gd name="adj2" fmla="val 50260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560" y="2973240"/>
            <a:ext cx="453960" cy="225720"/>
          </a:xfrm>
          <a:prstGeom prst="rightArrow">
            <a:avLst>
              <a:gd name="adj1" fmla="val 50000"/>
              <a:gd name="adj2" fmla="val 50279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267080"/>
            <a:ext cx="763560" cy="534960"/>
          </a:xfrm>
          <a:custGeom>
            <a:avLst/>
            <a:gdLst/>
            <a:ahLst/>
            <a:rect l="l" t="t" r="r" b="b"/>
            <a:pathLst>
              <a:path w="481" h="337">
                <a:moveTo>
                  <a:pt x="240" y="336"/>
                </a:moveTo>
                <a:lnTo>
                  <a:pt x="144" y="240"/>
                </a:lnTo>
                <a:lnTo>
                  <a:pt x="192" y="240"/>
                </a:lnTo>
                <a:lnTo>
                  <a:pt x="192" y="144"/>
                </a:lnTo>
                <a:lnTo>
                  <a:pt x="96" y="144"/>
                </a:lnTo>
                <a:lnTo>
                  <a:pt x="96" y="192"/>
                </a:lnTo>
                <a:lnTo>
                  <a:pt x="0" y="96"/>
                </a:lnTo>
                <a:lnTo>
                  <a:pt x="96" y="0"/>
                </a:lnTo>
                <a:lnTo>
                  <a:pt x="96" y="48"/>
                </a:lnTo>
                <a:lnTo>
                  <a:pt x="384" y="48"/>
                </a:lnTo>
                <a:lnTo>
                  <a:pt x="384" y="0"/>
                </a:lnTo>
                <a:lnTo>
                  <a:pt x="480" y="96"/>
                </a:lnTo>
                <a:lnTo>
                  <a:pt x="384" y="192"/>
                </a:lnTo>
                <a:lnTo>
                  <a:pt x="384" y="144"/>
                </a:lnTo>
                <a:lnTo>
                  <a:pt x="288" y="144"/>
                </a:lnTo>
                <a:lnTo>
                  <a:pt x="288" y="240"/>
                </a:lnTo>
                <a:lnTo>
                  <a:pt x="336" y="240"/>
                </a:lnTo>
                <a:lnTo>
                  <a:pt x="240" y="33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609588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cir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53160" y="6134040"/>
            <a:ext cx="927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UNITA’ MICROVASCOL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iceve informazioni e reagisce a stimoli loc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È costituita da microvasi, il sangue che li pecorre dai tessuti metabolicamente dipenden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eagisce come un blocco unitario (sinergia, sincroni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UNITA’ MICROVASCOL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Regola l’afflusso ematico a seconda dei momenti funzionali delle singole regioni attraverso due meccanism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ntrollo della vasomotilità (controllo nervoso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Controllo della permeabilità (controllo endotelia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META-ARTERI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rendono origine dalle arteri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anno caratteristiche intermedie tra quelle dei capillari e delle arteri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rzialmente provviste di muscolatura lis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ntinuano con un capillare piuttosto ampio che confluisce in una venu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engono chiamate anche canali preferenziali perché in condizioni di riposo permettono di shuntare “quanta” di microcircol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FINTERI PERICAPIL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Anelli di muscolatura lisc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situati all’origine dei capillari ve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a loro contrazione regola il flusso di sangue nel capil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ASTOMOSI ARTERO-VENOS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rutture deputate al collegamento della rete arteriosa con quella venosa shuntando quella capill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ono costituite da intima, media ed avventizia e sono ricche di cellule muscolari lis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ono innervate dal SNA, in particolar modo dalla sezione simpatica più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he quella parasimpatica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ASTOMOSI ARTERO-VENOSE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loro importanza è rivolta soprattutto alla regolazione della pressione arteriosa siste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l microcircolo è l’unico sistema vascolare totalmente a resist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MICROANATOMIA DEL CIRCOLO CUTANEO</a:t>
            </a:r>
            <a:br>
              <a:rPr sz="4400"/>
            </a:br>
            <a:r>
              <a:rPr b="1" lang="it-IT" sz="3200" spc="-1" strike="noStrike">
                <a:solidFill>
                  <a:srgbClr val="66ffff"/>
                </a:solidFill>
                <a:latin typeface="Times New Roman"/>
              </a:rPr>
              <a:t>Le arteriole e le venule deriv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Plesso superfic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te orizzontale nelle papille dermiche da cui derivano le anse capillari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3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66ff33"/>
                </a:solidFill>
                <a:uFillTx/>
                <a:latin typeface="Times New Roman"/>
              </a:rPr>
              <a:t>Plesso profo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Times New Roman"/>
              </a:rPr>
              <a:t>Formato da vasi perforanti dei muscoli sottostanti che danno origine ad arteriole e venule che si connettono con il plesso orizzontale superficiale e forniscono le tributarie laterali che irrorano il bulbo pilifero e le ghiandole sudorip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’INNERVAZIONE VASALE CUTAN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E’ di tipo prevalentemento ortosimp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sua stimolazione porta a vasocostrizione interessando sia le arteriole, le meta-arteriole, gli sfinteri pericapillari e le venu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Il centro di controllo è situato nell’ipotala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vasodilatazione avviene per inibizione delle fibre simpat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Microvasi delle papille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10-3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Arteriole nelle papille d.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17-26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endoteliali circondate da 2 strati di cell. Muscolari lisce (in senso longitudinale ed a spiral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Cell. Muscolari lisce non sono presenti in vasi con diametro inferiore a 1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 algn="ctr">
              <a:spcBef>
                <a:spcPts val="24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ffff"/>
                </a:solidFill>
                <a:latin typeface="Times New Roman"/>
              </a:rPr>
              <a:t>Il  sangue circola </a:t>
            </a:r>
            <a:r>
              <a:rPr b="0" lang="en-US" sz="9600" spc="-1" strike="noStrike">
                <a:solidFill>
                  <a:srgbClr val="66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i arteriosi 10-12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presenti i periciti anch’essi utili per la contrazione differiscono dalle cell. Musc. Lisce per la presenza di pochi filamenti ed assenza di corpi den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’ presente la membrana basale che inizia come una struttura omogenea sino a diventare pluristratific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LTRASTRUTTUR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 capillari veno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i connettono alle venule post-capilla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diametro di 12-35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tre strati di peric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membrana basale è pluristratific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NULE COLLETTRICI CON VALV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ssano dallo strato profondo a quello superfi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Hanno </a:t>
            </a:r>
            <a:r>
              <a:rPr b="0" lang="it-IT" sz="32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 70-120 mic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venule postcapillari si uniscono a questi v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presenti valvole che garantiscono la propulsione del sangue in un’unica dire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ASI SOTTOCUTANE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l derma medio ed inferiore (plesso inferio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Diametro superiore rispetto a quello del plesso superfici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rete più spes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ML e periciti presenti in 4-5 str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E ANSE CAPILL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artono dal plesso papillare orizzont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composte da un braccio ascendente (con caratteristiche di un capillare arterios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da un’ansa intrapapillare (</a:t>
            </a:r>
            <a:r>
              <a:rPr b="0" lang="it-IT" sz="32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 1-1.5 micr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d un braccio discendente dove le caratteristiche variano dalla parte prossimale a quella dis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VEI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avventiziali piatte che circondano tutti i vasi del der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loro ultrastruttura è simile a quella dei fibrobla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totalmente esterne alla parete demarcando i vasi dal derma circost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perfusione dei microvasi dipe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a tonoregolazione arteriola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e determinanti reologiche del sang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alle deterninanti reologiche dipendenti dalla geometria e dal </a:t>
            </a:r>
            <a:r>
              <a:rPr b="0" lang="it-IT" sz="2800" spc="-1" strike="noStrike">
                <a:solidFill>
                  <a:srgbClr val="99ff33"/>
                </a:solidFill>
                <a:latin typeface="Symbol"/>
                <a:ea typeface="Symbol"/>
              </a:rPr>
              <a:t>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microcircoalto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Gli scambi tessuto microcircolo necessita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i bassa velocità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di bassa pre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99ff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99ff33"/>
                </a:solidFill>
                <a:latin typeface="Times New Roman"/>
              </a:rPr>
              <a:t>perfusione proporzionale alla esigenze metaboli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MECCANISMI DI CONT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4686600">
            <a:off x="6384240" y="2250000"/>
            <a:ext cx="2279880" cy="1192320"/>
          </a:xfrm>
          <a:custGeom>
            <a:avLst/>
            <a:gdLst>
              <a:gd name="textAreaLeft" fmla="*/ 398880 w 2279880"/>
              <a:gd name="textAreaRight" fmla="*/ 1653120 w 2279880"/>
              <a:gd name="textAreaTop" fmla="*/ 159480 h 1192320"/>
              <a:gd name="textAreaBottom" fmla="*/ 1032840 h 1192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743200"/>
            <a:ext cx="733320" cy="2438280"/>
          </a:xfrm>
          <a:custGeom>
            <a:avLst/>
            <a:gdLst>
              <a:gd name="textAreaLeft" fmla="*/ 98280 w 733320"/>
              <a:gd name="textAreaRight" fmla="*/ 635040 w 733320"/>
              <a:gd name="textAreaTop" fmla="*/ 426600 h 2438280"/>
              <a:gd name="textAreaBottom" fmla="*/ 176796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Neuroge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29640" y="44956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066"/>
                </a:solidFill>
                <a:latin typeface="Times New Roman"/>
              </a:rPr>
              <a:t>Miogen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IOCELL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Sono costantemente in contrazione tonica persistente </a:t>
            </a:r>
            <a:r>
              <a:rPr b="1" i="1" lang="it-IT" sz="2400" spc="-1" strike="noStrike">
                <a:solidFill>
                  <a:srgbClr val="66ffff"/>
                </a:solidFill>
                <a:latin typeface="Times New Roman"/>
              </a:rPr>
              <a:t>(meccanismo ATPasi, Mg</a:t>
            </a:r>
            <a:r>
              <a:rPr b="1" i="1" lang="it-IT" sz="2400" spc="-1" strike="noStrike" baseline="30000">
                <a:solidFill>
                  <a:srgbClr val="66ffff"/>
                </a:solidFill>
                <a:latin typeface="Times New Roman"/>
              </a:rPr>
              <a:t>+</a:t>
            </a:r>
            <a:r>
              <a:rPr b="1" i="1" lang="it-IT" sz="2400" spc="-1" strike="noStrike">
                <a:solidFill>
                  <a:srgbClr val="66ffff"/>
                </a:solidFill>
                <a:latin typeface="Times New Roman"/>
              </a:rPr>
              <a:t> dipend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ossiedono una attività ciclica che in parte regola i fenomeni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somotio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flowmo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Tali eventi sono indotti da stimo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istemici (+ -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ocali (+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’ENDOTELIO (KG. 1,5, m</a:t>
            </a:r>
            <a:r>
              <a:rPr b="0" lang="it-IT" sz="2800" spc="-1" strike="noStrike" baseline="30000">
                <a:solidFill>
                  <a:srgbClr val="66ffff"/>
                </a:solidFill>
                <a:latin typeface="Times New Roman"/>
              </a:rPr>
              <a:t>2 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600, 200-2000 capillari/mm</a:t>
            </a:r>
            <a:r>
              <a:rPr b="0" lang="it-IT" sz="2800" spc="-1" strike="noStrike" baseline="30000">
                <a:solidFill>
                  <a:srgbClr val="66ffff"/>
                </a:solidFill>
                <a:latin typeface="Times New Roman"/>
              </a:rPr>
              <a:t>2</a:t>
            </a: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uò essere continuo o fenestrat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ellule di aspetto fusiforme, con superficie abluminale (interconnessa con i tessuti da membrana basale, collagene,proteoglicani, eparansolfati, integrine) e luminale (interconnessa con il sangue da un Fazzy-Coat: mucopalisaccaridi, glicoproteine, fibrinogeno, fibrina) con citoscleletro elastico che permette di saturare eventuali soluzioni di continu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Gli antichi credevano che ……. (Ippocrate, Galeno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rimi studi e costruzione di apparecchi ottici sulle esperienze galileiane nei paesi ba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dre Atanasio Kircher (?) durante l’epidemia di peste nera osservò l’aggregazione eritrocitaria intravasacolare con un microcop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arvey  nel 1628 definisce i primi meccanismi di fisiopatologia del macro e microcirco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SCULOGEN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agli angioblasti delle isole emopoietiche del sacco vitellino; vasi nuovi nel corso dell’ontogenes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OANGIOGENE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oformazione vascolare da vasi preesistenti; per maggiore richiesta metabolica da parte dei tessu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GIUNZIONI INTECELLU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codificatori di segnale “inibizione/proliferazione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FUNZIONI ENDOTELIAL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agulation/Anticagulation Emb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ff33"/>
                </a:solidFill>
                <a:latin typeface="Times New Roman"/>
              </a:rPr>
              <a:t>prostaciclina, trombomodulina, PAI, trombomodulina,VW, etc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Tonoreg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99ff33"/>
                </a:solidFill>
                <a:latin typeface="Times New Roman"/>
              </a:rPr>
              <a:t>endoteline, NO, adenosina, ANP; BNP, CN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diazione degli scambi acqua sol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eparazione tessuti/sang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ISIOPATOLOGIA 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7617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352680"/>
            <a:ext cx="7238880" cy="533520"/>
          </a:xfrm>
          <a:custGeom>
            <a:avLst/>
            <a:gdLst>
              <a:gd name="textAreaLeft" fmla="*/ 0 w 7238880"/>
              <a:gd name="textAreaRight" fmla="*/ 7239240 w 7238880"/>
              <a:gd name="textAreaTop" fmla="*/ 69120 h 533520"/>
              <a:gd name="textAreaBottom" fmla="*/ 4644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Membrana cellu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2286000"/>
            <a:ext cx="485640" cy="2666880"/>
          </a:xfrm>
          <a:prstGeom prst="upDownArrow">
            <a:avLst>
              <a:gd name="adj1" fmla="val 50000"/>
              <a:gd name="adj2" fmla="val 109321"/>
            </a:avLst>
          </a:prstGeom>
          <a:solidFill>
            <a:srgbClr val="ffff00">
              <a:alpha val="50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5373000">
            <a:off x="4877280" y="25898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6781680" y="4343400"/>
            <a:ext cx="990720" cy="486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42440" y="14590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Trasporto pas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247600">
            <a:off x="5823360" y="3085920"/>
            <a:ext cx="32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rasporto 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REOLOG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la scienza che studia il deformarsi della materia (in qualunque suo stadio) in movimento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Esso può essere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Plastico (irreversib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Elastico (reversibile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La soglia minima di forza capace di iniziare la deformazione viene definita</a:t>
            </a:r>
            <a:r>
              <a:rPr b="1" lang="it-IT" sz="28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Yield St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Tale deformazione dipende da forze tangenziali che determin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Shear Stress misurato in dyne/cm</a:t>
            </a:r>
            <a:r>
              <a:rPr b="0" lang="it-IT" sz="2000" spc="-1" strike="noStrike" baseline="30000">
                <a:solidFill>
                  <a:srgbClr val="ffff99"/>
                </a:solidFill>
                <a:latin typeface="Times New Roman"/>
              </a:rPr>
              <a:t>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ffff"/>
                </a:solidFill>
                <a:latin typeface="Times New Roman"/>
              </a:rPr>
              <a:t>Dipende inoltre dal gradiente di velocità dei vari piani det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Shear stress misurato in S</a:t>
            </a:r>
            <a:r>
              <a:rPr b="0" lang="it-IT" sz="2400" spc="-1" strike="noStrike" baseline="30000">
                <a:solidFill>
                  <a:srgbClr val="ffff99"/>
                </a:solidFill>
                <a:latin typeface="Times New Roman"/>
              </a:rPr>
              <a:t>-1</a:t>
            </a:r>
            <a:r>
              <a:rPr b="0" lang="it-IT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imes New Roman"/>
              </a:rPr>
              <a:t>In un fluido</a:t>
            </a: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’attrito interno tra le varie frazioni si definisce viscosità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uò essere definita come capacità di opporsi alla deforma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È influenzata dalla temperatur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I fluidi possono essere defini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ewtoniani (o perfet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Non Newtoniani (o imperfetti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Il sangue è un fluido non newtoni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ffff"/>
                </a:solidFill>
                <a:latin typeface="Times New Roman"/>
              </a:rPr>
              <a:t>Le caratteristiche reologiche (viscosità) del sangue  sono determinate 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ellu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Fibrinogeno (plas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Globuline (sier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124080"/>
            <a:ext cx="609480" cy="3200400"/>
          </a:xfrm>
          <a:custGeom>
            <a:avLst/>
            <a:gdLst>
              <a:gd name="textAreaLeft" fmla="*/ 0 w 609480"/>
              <a:gd name="textAreaRight" fmla="*/ 219960 w 6094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4197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Sangue int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imes New Roman"/>
              </a:rPr>
              <a:t>Le cellule del sangue so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ritrociti (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7 micron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eucociti (</a:t>
            </a:r>
            <a:r>
              <a:rPr b="0" lang="en-US" sz="2800" spc="-1" strike="noStrike">
                <a:solidFill>
                  <a:srgbClr val="66ffff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  8-14 micron 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Piast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MOREOLOGIA 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emoreologia è inoltre influenzata dalla variazione di calibro dei capilla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variazioni di calibro possono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at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assive (determinate dalle pressioni endovasali e dalle caratteristiche viscoso-tenso-elestiche delle pare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pressione laterale del sangue non ha la capacità di determinare dilata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Il decremento delle pressioni totali trasversali possono portare a obliterazione microvasale per aumento della tensione parieta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osco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Fluorangi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ser-dopp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Ossimetria trancutan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cocolordoppler ad alta definizi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letism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lutazione SS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etodiche di valutazione emoreolog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termograf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52 scoprì l’esistenza delle anastomosi artero-venose nel polmone di r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658 Leeuwenhoech mette a punto il primo microscopio ottico moder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52 scoprì l’esistenza delle anastomosi arterovenose nel polmone di r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. Malpighi nel 1661 descrisse i capillari nel polmone e nella membrana natatoria della rana</a:t>
            </a:r>
            <a:r>
              <a:rPr b="0" lang="it-IT" sz="28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Fluorangi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con sostanze fluorescenti del microcircolo retinico e periungue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iene utilizzata la fluoresceina che in condizioni di normalità non passa l’endotelio microvascol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i valutano i seguenti temp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arteriol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capilla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enul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litativa e morfolo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3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ser-doppl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a velocità di scorrimento delle emazi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valuta il flus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finisce una unità campion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ogni soggetto è misura di se stess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esistono parametri facilmente standardizzabil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prevalentemente quantit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Ossimetria trancutane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a concentrazione di ossigeno cutaneo attraverso un elettrodo registratore stimolatore detto di Cla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ntitat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i valori derivati dipend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ossigenazione del sang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ortata ematica loc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issociabilità emoglobin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consumo cellul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5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Ecocolordoppler ad alta definizi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ica sperimenta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fino a livello delle anastomosi artero-venos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efinisce le caratteristich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l flus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lla par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è un metodo di valutazione qualitativa e quantitativ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è ancora standardizz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6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Pletism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 le variazioni di perfusione successive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ariazione fisiologich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stim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o prevalentemente quanti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7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Valutazione SS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udio neurofisiologico della fibra C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della integrità tonomotrice perifer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qualitativa e quantitati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8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e metodiche di valutazione emoreologic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d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iscosità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deformabilità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filtrabil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ermettono di valutare il “contenuto” ed il suo comportamento rispetto al conten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9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a termograf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valutazione attraverso un codice colore 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ervietà del letto capill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Spotting-zone di iper-ipoperfus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Variazioni dinamiche indotte da vari stim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Metodo di valutazione quantitativa che valuta “il calore cutaneo” indotto dalla quantità di sangue arterioso - venoso presente in un tess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Capillaroscop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ottica, vide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tatica e dinam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ripetib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on invas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pecific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sens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dà una valutazione qualitativa, morfolog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1.                La 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pos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probabilmente la più antica tecnica di indagine vascola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una tecnica di indagine del microcircolo non invasiva, sensibile, specifica, ripetibile</a:t>
            </a:r>
            <a:r>
              <a:rPr b="1" i="1" lang="it-IT" sz="2000" spc="-1" strike="noStrike">
                <a:solidFill>
                  <a:srgbClr val="00ccff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Tecnica di indagine eminentemente qualit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trettamente legata alla esperienza ed alla interpretazione individu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imita la sua applicazione a quelle regioni corporee che sono raggiungibili dal braccio del microscopio intravi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LA CIRCOLAZIONE SANGUIG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674 Leeuwenhoech descrisse i globuli ross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Boerhaave descrive aggregazione dei globuli rossi nei microvasi della congiuntiv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768 Spallanzani scoprì i globuli bianchi (descritti come bollicine d’ari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Nel 1882 Bizzozero descrisse le piastr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2.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Verdana"/>
              </a:rPr>
              <a:t>L’ACCETTAZIONE DEI  MIGLIORAMENTI  TECNOLOGICI E’ ALLA BASE DELLE SOCIETA’ EVOLU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ff"/>
                </a:solidFill>
                <a:latin typeface="Verdana"/>
              </a:rPr>
              <a:t> </a:t>
            </a:r>
            <a:r>
              <a:rPr b="1" i="1" lang="en-US" sz="3600" spc="-1" strike="noStrike">
                <a:solidFill>
                  <a:srgbClr val="66ff33"/>
                </a:solidFill>
                <a:latin typeface="Verdana"/>
              </a:rPr>
              <a:t>(POPPER)</a:t>
            </a:r>
            <a:r>
              <a:rPr b="1" i="1" lang="en-US" sz="3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3.</a:t>
            </a:r>
            <a:r>
              <a:rPr b="0" lang="it-IT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La video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pos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È una tecnica di indagine del microcircolo non invasiva, sensibile, specifica, ripetib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ermette di valutare il microcircolo in tutte le regioni corpore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ermette valutazioni qualitative e quantita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6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onsente una archiviazione automatizzata ed follow up preciso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Fattori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Necessita di una ottima manualità nella valutazione della congiu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SEMEIOTICA STRUMENTALE DEL MICROCIRCOLO 14.</a:t>
            </a:r>
            <a:r>
              <a:rPr b="0" lang="it-IT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r>
              <a:rPr b="1" lang="it-IT" sz="4400" spc="-1" strike="noStrike">
                <a:solidFill>
                  <a:srgbClr val="ffff00"/>
                </a:solidFill>
                <a:latin typeface="Times New Roman"/>
              </a:rPr>
              <a:t>La videocapillaroscop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Sedi di osserv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9900"/>
                </a:solidFill>
                <a:latin typeface="Verdana"/>
                <a:ea typeface="Times New Roman"/>
              </a:rPr>
              <a:t>Le sedi di osservazione abituali sono</a:t>
            </a:r>
            <a:r>
              <a:rPr b="1" i="1" lang="it-IT" sz="2400" spc="-1" strike="noStrike">
                <a:solidFill>
                  <a:srgbClr val="66ffff"/>
                </a:solidFill>
                <a:latin typeface="Verdana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ffff"/>
                </a:solidFill>
                <a:latin typeface="Verdan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congiuntiv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omell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’orletto gengiv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muccosa labial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cubi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letto periungueale della mano e del pie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dorso della mano e del piede.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5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Anatomia del microcircolo congiuntiv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 livello del microcircolo congiuntivale si osservano, arteriole, venule, anastonosi arteriolovenulari, capillari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La valutazione dell’intero circolo terminale (paramicrocircolo e capillari) non è possibile nessun altro distretto corporeo (ad eccezione della muccosa labiale con estrema difficoltà interpretativa per difficoltà di carattere tecnico ed anatomic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lesso arteriolare congiuntivale si forma dalle anostomosi tra arterie congiuntivali anteriori e posteriori, che a loro volta derivano dalle arterie ciliari anteriori, rami della arteria oftalmica a sua volta ramo della carotide intern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Il plesso venulare è tributario della vena oftalmica sup. e della vena angolare rami del seno sigmoideo e della</a:t>
            </a:r>
            <a:r>
              <a:rPr b="0" lang="it-IT" sz="2000" spc="-1" strike="noStrike">
                <a:solidFill>
                  <a:srgbClr val="66ffff"/>
                </a:solidFill>
                <a:latin typeface="Verdana"/>
                <a:ea typeface="Times New Roman"/>
              </a:rPr>
              <a:t> giugulare interna</a:t>
            </a:r>
            <a:r>
              <a:rPr b="1" i="1" lang="it-IT" sz="2400" spc="-1" strike="noStrike">
                <a:solidFill>
                  <a:srgbClr val="ffff66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6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66ffff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ff00"/>
                </a:solidFill>
                <a:uFillTx/>
                <a:latin typeface="Verdana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Vascolarità</a:t>
            </a: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stanza di diffu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Profilo vas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ametro (v.n.: artreriole 10-50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, venule 20-100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Rapporto a/v (v.n. 1.2-1.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apillari poco rappresentati di diametro 4-8</a:t>
            </a:r>
            <a:r>
              <a:rPr b="0" lang="it-IT" sz="24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clera translucida, cangiante madreperlaceo azzu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1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00"/>
                </a:solidFill>
                <a:uFillTx/>
                <a:latin typeface="Times New Roman"/>
                <a:ea typeface="Times New Roman"/>
              </a:rPr>
              <a:t>Parametri emodina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Tipo di flusso: laminare (presenza di rouleaux fisiolog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Colore: arteriola rosso scarlatto, venula rosso l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ff99"/>
                </a:solidFill>
                <a:uFillTx/>
                <a:latin typeface="Times New Roman"/>
                <a:ea typeface="Times New Roman"/>
              </a:rPr>
              <a:t>Reperti pat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icroaneurismi arteri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ilatazioni venulari settoriali e/o segmen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Aspetto uniforme di colore arancio delle venule (segno di sta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Slu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Margini arteriolari sfumati e brillanti (ede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Evidenza particolare dei capillari con formazione di un dis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Depositi giallo-grigiastri o biancastri nella sclera in prossimità dell’iride o perdita di lucentezza della sclera o colorito bianco-grigias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8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9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MEIOTICA STRUMENTALE DEL MICROCIRCOLO 19. PLICA UNGUE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Parametri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Grado di visi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iani di visibilità (v.n 2-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Numero delle ansi per mm2 (v.n.14-1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ametro delle anse (v.n 4-14 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Lunghezza delle anse capillari (v.n. 100-300</a:t>
            </a:r>
            <a:r>
              <a:rPr b="0" lang="it-IT" sz="2000" spc="-1" strike="noStrike">
                <a:solidFill>
                  <a:srgbClr val="66ffff"/>
                </a:solidFill>
                <a:latin typeface="Symbol"/>
                <a:ea typeface="Symbol"/>
              </a:rPr>
              <a:t></a:t>
            </a: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Rapporto a/v tra braccio arteriolare e venulare (v.n. 1.2-1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le anse (normale rosso scarlat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posizione delle anse rispetto alle papille dermiche (oblique in età puberale verticali nell’adul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Forma delle anse capil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Distanza tra ansa e papilla dermica (rilevante nell’età puberale e nell’anziano irrilenante nell’adu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Plesso venoso (visibile nel pre-pubere e nell’anzian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plesso venoso (rosso carmin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ffff"/>
                </a:solidFill>
                <a:latin typeface="Times New Roman"/>
                <a:ea typeface="Times New Roman"/>
              </a:rPr>
              <a:t>-Colorito del connettivo interstiziale (arancio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1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POME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I parametri sono esclusivamente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Colorito Rosso Cadm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Rapporto a/v (v.n.1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Times New Roman"/>
                <a:ea typeface="Times New Roman"/>
              </a:rPr>
              <a:t>Reperti pat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minuzione del numero delle a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morrag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ila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chematizzazione del 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33920" y="1981080"/>
            <a:ext cx="12952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U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352320" y="601992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L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352320" y="4800600"/>
            <a:ext cx="2210040" cy="4572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AST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M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3048120"/>
            <a:ext cx="1524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80" y="4800600"/>
            <a:ext cx="152424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4572000"/>
            <a:ext cx="190512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RTERI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460000">
            <a:off x="5487480" y="2440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20400000">
            <a:off x="6859080" y="3582720"/>
            <a:ext cx="301680" cy="987480"/>
          </a:xfrm>
          <a:prstGeom prst="down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0740000">
            <a:off x="5639760" y="48016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9060000">
            <a:off x="5792040" y="56404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8840" y="4954680"/>
            <a:ext cx="987480" cy="301680"/>
          </a:xfrm>
          <a:prstGeom prst="leftArrow">
            <a:avLst>
              <a:gd name="adj1" fmla="val 50000"/>
              <a:gd name="adj2" fmla="val 81832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3080000">
            <a:off x="1982160" y="5716080"/>
            <a:ext cx="987480" cy="301680"/>
          </a:xfrm>
          <a:prstGeom prst="rightArrow">
            <a:avLst>
              <a:gd name="adj1" fmla="val 50000"/>
              <a:gd name="adj2" fmla="val 81862"/>
            </a:avLst>
          </a:prstGeom>
          <a:gradFill rotWithShape="0">
            <a:gsLst>
              <a:gs pos="0">
                <a:srgbClr val="3333cc"/>
              </a:gs>
              <a:gs pos="100000">
                <a:srgbClr val="ff00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520000">
            <a:off x="934920" y="402048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2971800"/>
            <a:ext cx="1600200" cy="533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920000">
            <a:off x="2668680" y="2363400"/>
            <a:ext cx="987480" cy="263520"/>
          </a:xfrm>
          <a:prstGeom prst="rightArrow">
            <a:avLst>
              <a:gd name="adj1" fmla="val 50000"/>
              <a:gd name="adj2" fmla="val 93716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1280" y="2819520"/>
            <a:ext cx="1676520" cy="5331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Grossi 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657600"/>
            <a:ext cx="2666880" cy="533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ff"/>
                </a:solidFill>
                <a:latin typeface="Times New Roman"/>
              </a:rPr>
              <a:t>Paramicrova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560" y="2973240"/>
            <a:ext cx="453960" cy="225720"/>
          </a:xfrm>
          <a:prstGeom prst="leftArrow">
            <a:avLst>
              <a:gd name="adj1" fmla="val 50000"/>
              <a:gd name="adj2" fmla="val 50260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560" y="2973240"/>
            <a:ext cx="453960" cy="225720"/>
          </a:xfrm>
          <a:prstGeom prst="rightArrow">
            <a:avLst>
              <a:gd name="adj1" fmla="val 50000"/>
              <a:gd name="adj2" fmla="val 50279"/>
            </a:avLst>
          </a:prstGeom>
          <a:solidFill>
            <a:srgbClr val="ffff00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4267080"/>
            <a:ext cx="763560" cy="534960"/>
          </a:xfrm>
          <a:custGeom>
            <a:avLst/>
            <a:gdLst/>
            <a:ahLst/>
            <a:rect l="l" t="t" r="r" b="b"/>
            <a:pathLst>
              <a:path w="481" h="337">
                <a:moveTo>
                  <a:pt x="240" y="336"/>
                </a:moveTo>
                <a:lnTo>
                  <a:pt x="144" y="240"/>
                </a:lnTo>
                <a:lnTo>
                  <a:pt x="192" y="240"/>
                </a:lnTo>
                <a:lnTo>
                  <a:pt x="192" y="144"/>
                </a:lnTo>
                <a:lnTo>
                  <a:pt x="96" y="144"/>
                </a:lnTo>
                <a:lnTo>
                  <a:pt x="96" y="192"/>
                </a:lnTo>
                <a:lnTo>
                  <a:pt x="0" y="96"/>
                </a:lnTo>
                <a:lnTo>
                  <a:pt x="96" y="0"/>
                </a:lnTo>
                <a:lnTo>
                  <a:pt x="96" y="48"/>
                </a:lnTo>
                <a:lnTo>
                  <a:pt x="384" y="48"/>
                </a:lnTo>
                <a:lnTo>
                  <a:pt x="384" y="0"/>
                </a:lnTo>
                <a:lnTo>
                  <a:pt x="480" y="96"/>
                </a:lnTo>
                <a:lnTo>
                  <a:pt x="384" y="192"/>
                </a:lnTo>
                <a:lnTo>
                  <a:pt x="384" y="144"/>
                </a:lnTo>
                <a:lnTo>
                  <a:pt x="288" y="144"/>
                </a:lnTo>
                <a:lnTo>
                  <a:pt x="288" y="240"/>
                </a:lnTo>
                <a:lnTo>
                  <a:pt x="336" y="240"/>
                </a:lnTo>
                <a:lnTo>
                  <a:pt x="240" y="336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6095880"/>
            <a:ext cx="2133720" cy="457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657e7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icrocirc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753160" y="6134040"/>
            <a:ext cx="92700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2.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U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I parametri sono esclusivamente morfolo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Numero di anse per mm2 (60-7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Grand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resenza di rosone venulare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MEIOTICA STRUMENTALE DEL MICROCIRCOLO 23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624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E’ un’immagine complementare di supporto alla diagnosi clinica</a:t>
            </a:r>
            <a:r>
              <a:rPr b="0" lang="it-IT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66ff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Fornisce immagini evocanti e immagini probative ai fini diagnostici e prognostici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Immagini evocanti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ipert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sindromi da iperviscosità primaria e second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vascul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diab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arterioscler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         connettivop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Purkinje nel 1823 descrisse quadri di microcircolazione cutane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Coccius nel 1850 classificò le osservazioni capillaroscopiche della congiun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euter applicò metodiche capillaroscopiche al labbro inferi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Hunna nel 1891 e successivamente Lombard nel  1911 misero a punto un metodo per migliorare la trasparenza cutanea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ombard nel 1912 standardizzò le metodiche di osservazione del microcirolo periungue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Nel 1916 Wiess introdusse l’uso di metodiche fotograf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Lo studio del microcircolo era di appannaggio dei fisiologi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A STORIA DEL MICROCIRCO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66ffff"/>
                </a:solidFill>
                <a:latin typeface="Times New Roman"/>
              </a:rPr>
              <a:t>Knisely e Bloch nel 1949 espressero 2 concetti di fondamentale importanz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o stato del microcircolo di un distretto è sovrapponibile a quello di tutti i distret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66ffff"/>
                </a:solidFill>
                <a:latin typeface="Times New Roman"/>
              </a:rPr>
              <a:t>La integrità di un distretto è dipendente dalla integrità del suo microcircol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</cp:lastModifiedBy>
  <dcterms:modified xsi:type="dcterms:W3CDTF">2004-11-13T09:32:10Z</dcterms:modified>
  <cp:revision>35</cp:revision>
  <dc:subject/>
  <dc:title>IL MICROCIRCOLO</dc:title>
</cp:coreProperties>
</file>