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DIGITAR.WAV" ContentType="audio/x-wav"/>
  <Override PartName="/ppt/media/image2.wmf" ContentType="image/x-wmf"/>
  <Override PartName="/ppt/media/image3.png" ContentType="image/png"/>
  <Override PartName="/ppt/media/image4.wmf" ContentType="image/x-wmf"/>
  <Override PartName="/ppt/media/LASE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D288-AEB4-4192-AEC1-9B2CABF00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DC28-262B-45E9-97AB-CBA70F36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1BBB-47F2-43F1-8879-E726102C9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A4DA-5F70-4524-B146-BCA5C5AF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C077-E064-4655-AF83-D972836A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CE88-58F5-45F9-A867-B6F03306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12C0-ED42-4E5C-9DF5-FC4CE9FC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7EE2-0A6F-4EB7-BE38-36CE2DB0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8C71-3608-4DBA-B735-8C612E95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9F0D-377F-40C8-A1D2-72CB25B0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41CC-2754-43E9-B264-FCD36417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DE38-A242-4C58-A7D8-E9764F79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2F9F-F6FF-4D37-9072-EE9EBEA7509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DIGITAR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DIGITAR.WAV"/><Relationship Id="rId3" Type="http://schemas.openxmlformats.org/officeDocument/2006/relationships/audio" Target="../media/DIGITA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IGITAR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IGITAR.WAV"/><Relationship Id="rId2" Type="http://schemas.openxmlformats.org/officeDocument/2006/relationships/audio" Target="../media/DIGITA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IGITAR.WAV"/><Relationship Id="rId2" Type="http://schemas.openxmlformats.org/officeDocument/2006/relationships/audio" Target="../media/DIGITAR.WAV"/><Relationship Id="rId3" Type="http://schemas.openxmlformats.org/officeDocument/2006/relationships/audio" Target="../media/DIGITA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IGITAR.WAV"/><Relationship Id="rId2" Type="http://schemas.openxmlformats.org/officeDocument/2006/relationships/audio" Target="../media/DIGITA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00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447920" y="609480"/>
            <a:ext cx="6629400" cy="30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Comic Sans MS"/>
              </a:rPr>
              <a:t>PONIAMO IL CASO CHE SIANO LE 18:30 DI UN NORMALE GIORNO LAVORATIVO.  SEI IN MACCHINA E TE NE STAI TORNANDO A CASA DOPO UNA LUNGA GIORNATA DI LAVORO. TRA LE ALTRE COSE HAI ANCHE AVUTO UNA LUNGA DISCUSSIONE COL TUO CAPO..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Object 4" descr=""/>
          <p:cNvPicPr/>
          <p:nvPr/>
        </p:nvPicPr>
        <p:blipFill>
          <a:blip r:embed="rId1"/>
          <a:stretch/>
        </p:blipFill>
        <p:spPr>
          <a:xfrm>
            <a:off x="1828800" y="5700600"/>
            <a:ext cx="2362320" cy="615960"/>
          </a:xfrm>
          <a:prstGeom prst="rect">
            <a:avLst/>
          </a:prstGeom>
          <a:ln w="0">
            <a:noFill/>
          </a:ln>
        </p:spPr>
      </p:pic>
      <p:pic>
        <p:nvPicPr>
          <p:cNvPr id="43" name="Object 5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460440" cy="8222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4"/>
          <p:cNvSpPr/>
          <p:nvPr/>
        </p:nvSpPr>
        <p:spPr>
          <a:xfrm>
            <a:off x="533520" y="0"/>
            <a:ext cx="8305560" cy="3505320"/>
          </a:xfrm>
          <a:prstGeom prst="irregularSeal1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2133720" y="1295280"/>
            <a:ext cx="51051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omic Sans MS"/>
              </a:rPr>
              <a:t>SEI VERAMENTE ARRABBIATO NERO E PIU’ CI PENSI PIU’ TI ARRABBI…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1447920" y="3753000"/>
            <a:ext cx="6553080" cy="302652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Comic Sans MS"/>
              </a:rPr>
              <a:t>ALL’IMPROVVISO, SENTI UN </a:t>
            </a:r>
            <a:r>
              <a:rPr b="1" lang="pt-BR" sz="2800" spc="-1" strike="noStrike">
                <a:solidFill>
                  <a:srgbClr val="ff3300"/>
                </a:solidFill>
                <a:latin typeface="Comic Sans MS"/>
              </a:rPr>
              <a:t>DOLORE </a:t>
            </a:r>
            <a:r>
              <a:rPr b="1" lang="pt-BR" sz="2000" spc="-1" strike="noStrike">
                <a:solidFill>
                  <a:srgbClr val="ff3300"/>
                </a:solidFill>
                <a:latin typeface="Comic Sans MS"/>
              </a:rPr>
              <a:t>FORTISSIMO AL PETTO E CHE, ATTRAVERSO IL BRACCIO, ARRIVA FINO AL COLLO. NON RIESCI PIU’ A MUOVERTI, SEI BLOCCATO.. TI TROVI AD UNA DECINA DI KM DALL’OSPEDALE PIU’ VICINO, LA TANGENZIALE E’ BLOCCATA, E’ L’ORA DI PUNTA…. NON PUOI ARRIVARCI…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dad1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990720" y="106668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mic Sans MS"/>
              </a:rPr>
              <a:t>CHE FARE ??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905120" y="3200400"/>
            <a:ext cx="5333760" cy="16174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TI RICORDI DI AVER FATTO, TEMPO FA, UN CORSO DI PRIMO SOCCORSO MA NESSUNO TI HA SPIEGATO COSA FARE NEL CASO IN CUI LA VITTIMA SEI TU !!!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AutoShape 4"/>
          <p:cNvSpPr/>
          <p:nvPr/>
        </p:nvSpPr>
        <p:spPr>
          <a:xfrm rot="6175800">
            <a:off x="7353000" y="1790280"/>
            <a:ext cx="1676520" cy="1143000"/>
          </a:xfrm>
          <a:prstGeom prst="lightningBol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AutoShape 5"/>
          <p:cNvSpPr/>
          <p:nvPr/>
        </p:nvSpPr>
        <p:spPr>
          <a:xfrm rot="10750200">
            <a:off x="7327440" y="5268240"/>
            <a:ext cx="1676520" cy="1143000"/>
          </a:xfrm>
          <a:prstGeom prst="lightningBol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AutoShape 6"/>
          <p:cNvSpPr/>
          <p:nvPr/>
        </p:nvSpPr>
        <p:spPr>
          <a:xfrm rot="629400">
            <a:off x="228600" y="1905120"/>
            <a:ext cx="1676520" cy="1143000"/>
          </a:xfrm>
          <a:prstGeom prst="lightningBol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AutoShape 7"/>
          <p:cNvSpPr/>
          <p:nvPr/>
        </p:nvSpPr>
        <p:spPr>
          <a:xfrm rot="17296800">
            <a:off x="266760" y="5447880"/>
            <a:ext cx="1676520" cy="1143000"/>
          </a:xfrm>
          <a:prstGeom prst="lightningBolt">
            <a:avLst/>
          </a:prstGeom>
          <a:solidFill>
            <a:srgbClr val="ff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"/>
                            </p:stCondLst>
                            <p:childTnLst>
                              <p:par>
                                <p:cTn id="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400"/>
                            </p:stCondLst>
                            <p:childTnLst>
                              <p:par>
                                <p:cTn id="46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900"/>
                            </p:stCondLst>
                            <p:childTnLst>
                              <p:par>
                                <p:cTn id="5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400"/>
                            </p:stCondLst>
                            <p:childTnLst>
                              <p:par>
                                <p:cTn id="5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900"/>
                            </p:stCondLst>
                            <p:childTnLst>
                              <p:par>
                                <p:cTn id="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295280" y="609480"/>
            <a:ext cx="6705720" cy="392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COME RIUSCIRE A SOPRAVVIVERE AD UN ATTACCO CARDIACO SE SEI DA SOLO?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SENZA ASSISTENZA, LA PERSONA IL CUI CUORE SMETTE DI BATTERE, HA COMUNQUE DIECI SECONDI DI TEMPO DI LUCIDITA’ PRIMA DI SVENIRE….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685800" y="5029200"/>
            <a:ext cx="7620120" cy="5205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COSA FARE QUINDI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066680" y="601560"/>
            <a:ext cx="723924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RISPOSTA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NON FARTI PRENDERE DAL PANICO MA INIZIA A TOSSIRE CON FORZA PIU’ VOLTE.  FAI UN PROFONDO RESPIRO PRIMA DI TOSSIRE E TOSSISCI PROLUNGATAMENTE COME SE AVESSI DEL CATARRO DA ESPELLERE DAL PETTO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3300"/>
                </a:solidFill>
                <a:latin typeface="Comic Sans MS"/>
              </a:rPr>
              <a:t>RIPETI LA SEQUENZA INSPIRARE/TOSSIRE FINO A CHE IL CUORE RICOMINCI A BATTERE..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 thruBlk="true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295280" y="762120"/>
            <a:ext cx="6553440" cy="46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L’INSPIRAZIONE PROFONDA PORTA </a:t>
            </a:r>
            <a:r>
              <a:rPr b="1" lang="pt-BR" sz="2000" spc="-1" strike="noStrike">
                <a:solidFill>
                  <a:srgbClr val="3333cc"/>
                </a:solidFill>
                <a:latin typeface="Comic Sans MS"/>
              </a:rPr>
              <a:t>OSSIGENO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 AI </a:t>
            </a:r>
            <a:r>
              <a:rPr b="1" lang="pt-BR" sz="2000" spc="-1" strike="noStrike">
                <a:solidFill>
                  <a:srgbClr val="3333cc"/>
                </a:solidFill>
                <a:latin typeface="Comic Sans MS"/>
              </a:rPr>
              <a:t>POLMONI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 E LA TOSSE CONTRAE IL CUORE  </a:t>
            </a:r>
            <a:r>
              <a:rPr b="1" lang="pt-BR" sz="2000" spc="-1" strike="noStrike">
                <a:solidFill>
                  <a:srgbClr val="ff3300"/>
                </a:solidFill>
                <a:latin typeface="Comic Sans MS"/>
              </a:rPr>
              <a:t>DANDOGLI LA ‘SPINTA’</a:t>
            </a: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 PER RIPRENDERE A BATTERE E PORTARE COSI’ NUOVAMENTE IL SANGUE IN CIRCOLO…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mic Sans MS"/>
              </a:rPr>
              <a:t>IN QUESTO MODO IL CUORE COMINCIA A RIPRENDERE IL RITMO NORMALE E COMUNQUE SI HA IL TEMPO PER CHIAMARE I SOCCORSI </a:t>
            </a:r>
            <a:r>
              <a:rPr b="1" lang="pt-BR" sz="3200" spc="-1" strike="noStrike">
                <a:solidFill>
                  <a:srgbClr val="ff0000"/>
                </a:solidFill>
                <a:latin typeface="Comic Sans MS"/>
              </a:rPr>
              <a:t>(118)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371600" y="6087960"/>
            <a:ext cx="6477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mic Sans MS"/>
              </a:rPr>
              <a:t>ARTICOLO PUBLICATO SUL N.º 240 DEL </a:t>
            </a:r>
            <a:r>
              <a:rPr b="0" i="1" lang="pt-BR" sz="1400" spc="-1" strike="noStrike">
                <a:solidFill>
                  <a:srgbClr val="000000"/>
                </a:solidFill>
                <a:latin typeface="Comic Sans MS"/>
              </a:rPr>
              <a:t>JOURNAL OF GENERAL HOSPITAL ROCHESTER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IGIT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447920" y="152280"/>
            <a:ext cx="647676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mic Sans MS"/>
              </a:rPr>
              <a:t>DIVULGA QUESTA MAIL A QUANTE PIU’ PERSONE POSSIBILI E PERDI, AL LIMITE, 5 min DEL TUO TEMPO PER TRADURLA IN UN’ALTRA LINGUA..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3300"/>
                </a:solidFill>
                <a:latin typeface="Comic Sans MS"/>
              </a:rPr>
              <a:t>PENSA A QUANTE VITE SI POTRANNO SALVARE GRAZIE A QUESTA MAIL…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Object 0" descr=""/>
          <p:cNvPicPr/>
          <p:nvPr/>
        </p:nvPicPr>
        <p:blipFill>
          <a:blip r:embed="rId1"/>
          <a:stretch/>
        </p:blipFill>
        <p:spPr>
          <a:xfrm>
            <a:off x="3352680" y="5181480"/>
            <a:ext cx="2141640" cy="1165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7:15:26Z</dcterms:created>
  <dc:creator>Delfa Nmar Sfvar</dc:creator>
  <dc:description/>
  <dc:language>en-US</dc:language>
  <cp:lastModifiedBy>Gianni</cp:lastModifiedBy>
  <dcterms:modified xsi:type="dcterms:W3CDTF">2009-05-11T15:49:56Z</dcterms:modified>
  <cp:revision>35</cp:revision>
  <dc:subject>Emmesse</dc:subject>
  <dc:title>La canzone</dc:title>
</cp:coreProperties>
</file>