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DIGITAR.WAV" ContentType="audio/x-wav"/>
  <Override PartName="/ppt/media/image2.wmf" ContentType="image/x-wmf"/>
  <Override PartName="/ppt/media/image3.png" ContentType="image/png"/>
  <Override PartName="/ppt/media/image4.wmf" ContentType="image/x-wmf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FB3-6671-47C4-8E9E-4C90B1AC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6CC-23D3-4BCD-AA20-62DCEB3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D0F-306A-48A6-99A4-7D3A9EF4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7EB-9588-4385-AE26-819AD919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815-6200-4045-8DBE-CE2E18AD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214-B8D7-4569-8090-AF1F2E3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1A0-0354-472A-B09C-1F303E2F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9E5-4BE2-4D77-B2A4-E281DF6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5FC-3CB6-44BD-8CC0-9D496E9D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B6C-4AD0-4463-88EA-6D89881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613-BF24-4018-BAAE-BA7F190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C23-3840-4006-A26D-6E349CC0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97B-1FA0-4908-B12F-305091C73C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IGITAR.WAV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audio" Target="../media/DIGITAR.WAV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447920" y="609480"/>
            <a:ext cx="66294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PONIAMO IL CASO CHE SIANO LE 18:30 DI UN NORMALE GIORNO LAVORATIVO.  SEI IN MACCHINA E TE NE STAI TORNANDO A CASA DOPO UNA LUNGA GIORNATA DI LAVORO. TRA LE ALTRE COSE HAI ANCHE AVUTO UNA LUNGA DISCUSSIONE COL TUO CAPO.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Object 4" descr=""/>
          <p:cNvPicPr/>
          <p:nvPr/>
        </p:nvPicPr>
        <p:blipFill>
          <a:blip r:embed="rId1"/>
          <a:stretch/>
        </p:blipFill>
        <p:spPr>
          <a:xfrm>
            <a:off x="1828800" y="5700600"/>
            <a:ext cx="2362320" cy="615960"/>
          </a:xfrm>
          <a:prstGeom prst="rect">
            <a:avLst/>
          </a:prstGeom>
          <a:ln w="0">
            <a:noFill/>
          </a:ln>
        </p:spPr>
      </p:pic>
      <p:pic>
        <p:nvPicPr>
          <p:cNvPr id="43" name="Object 5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46044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533520" y="0"/>
            <a:ext cx="8305560" cy="3505320"/>
          </a:xfrm>
          <a:prstGeom prst="irregularSeal1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1295280"/>
            <a:ext cx="5105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SEI VERAMENTE ARRABBIATO NERO E PIU’ CI PENSI PIU’ TI ARRABBI…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447920" y="3753000"/>
            <a:ext cx="6553080" cy="3026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ALL’IMPROVVISO, SENTI UN </a:t>
            </a: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DOLORE </a:t>
            </a: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FORTISSIMO AL PETTO E CHE, ATTRAVERSO IL BRACCIO, ARRIVA FINO AL COLLO. NON RIESCI PIU’ A MUOVERTI, SEI BLOCCATO.. TI TROVI AD UNA DECINA DI KM DALL’OSPEDALE PIU’ VICINO, LA TANGENZIALE E’ BLOCCATA, E’ L’ORA DI PUNTA…. NON PUOI ARRIVARCI…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dad1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990720" y="1066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CHE FARE ??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905120" y="3200400"/>
            <a:ext cx="5333760" cy="1617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TI RICORDI DI AVER FATTO, TEMPO FA, UN CORSO DI PRIMO SOCCORSO MA NESSUNO TI HA SPIEGATO COSA FARE NEL CASO IN CUI LA VITTIMA SEI TU !!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AutoShape 4"/>
          <p:cNvSpPr/>
          <p:nvPr/>
        </p:nvSpPr>
        <p:spPr>
          <a:xfrm rot="6175800">
            <a:off x="7353000" y="17902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5"/>
          <p:cNvSpPr/>
          <p:nvPr/>
        </p:nvSpPr>
        <p:spPr>
          <a:xfrm rot="10750200">
            <a:off x="7327440" y="526824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6"/>
          <p:cNvSpPr/>
          <p:nvPr/>
        </p:nvSpPr>
        <p:spPr>
          <a:xfrm rot="629400">
            <a:off x="228600" y="190512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7"/>
          <p:cNvSpPr/>
          <p:nvPr/>
        </p:nvSpPr>
        <p:spPr>
          <a:xfrm rot="17296800">
            <a:off x="266760" y="54478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"/>
                            </p:stCondLst>
                            <p:childTnLst>
                              <p:par>
                                <p:cTn id="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95280" y="609480"/>
            <a:ext cx="6705720" cy="392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OME RIUSCIRE A SOPRAVVIVERE AD UN ATTACCO CARDIACO SE SEI DA SOLO?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SENZA ASSISTENZA, LA PERSONA IL CUI CUORE SMETTE DI BATTERE, HA COMUNQUE DIECI SECONDI DI TEMPO DI LUCIDITA’ PRIMA DI SVENIRE…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5800" y="5029200"/>
            <a:ext cx="76201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COSA FARE QUINDI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66680" y="601560"/>
            <a:ext cx="723924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RISPOSTA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NON FARTI PRENDERE DAL PANICO MA INIZIA A TOSSIRE CON FORZA PIU’ VOLTE.  FAI UN PROFONDO RESPIRO PRIMA DI TOSSIRE E TOSSISCI PROLUNGATAMENTE COME SE AVESSI DEL CATARRO DA ESPELLERE DAL PET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RIPETI LA SEQUENZA INSPIRARE/TOSSIRE FINO A CHE IL CUORE RICOMINCI A BATTERE.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295280" y="762120"/>
            <a:ext cx="6553440" cy="46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L’INSPIRAZIONE PROFONDA PORTA 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OSSIGENO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AI 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POLMONI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E LA TOSSE CONTRAE IL CUORE  </a:t>
            </a: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DANDOGLI LA ‘SPINTA’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PER RIPRENDERE A BATTERE E PORTARE COSI’ NUOVAMENTE IL SANGUE IN CIRCOLO…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IN QUESTO MODO IL CUORE COMINCIA A RIPRENDERE IL RITMO NORMALE E COMUNQUE SI HA IL TEMPO PER CHIAMARE I SOCCORSI </a:t>
            </a:r>
            <a:r>
              <a:rPr b="1" lang="pt-BR" sz="3200" spc="-1" strike="noStrike">
                <a:solidFill>
                  <a:srgbClr val="ff0000"/>
                </a:solidFill>
                <a:latin typeface="Comic Sans MS"/>
              </a:rPr>
              <a:t>(118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371600" y="6087960"/>
            <a:ext cx="6477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ARTICOLO PUBLICATO SUL N.º 240 DEL </a:t>
            </a: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JOURNAL OF GENERAL HOSPITAL ROCHESTER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447920" y="152280"/>
            <a:ext cx="64767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DIVULGA QUESTA MAIL A QUANTE PIU’ PERSONE POSSIBILI E PERDI, AL LIMITE, 5 min DEL TUO TEMPO PER TRADURLA IN UN’ALTRA LINGUA..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PENSA A QUANTE VITE SI POTRANNO SALVARE GRAZIE A QUESTA MAIL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Object 0" descr=""/>
          <p:cNvPicPr/>
          <p:nvPr/>
        </p:nvPicPr>
        <p:blipFill>
          <a:blip r:embed="rId1"/>
          <a:stretch/>
        </p:blipFill>
        <p:spPr>
          <a:xfrm>
            <a:off x="3352680" y="5181480"/>
            <a:ext cx="2141640" cy="1165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7:15:26Z</dcterms:created>
  <dc:creator>Delfa Nmar Sfvar</dc:creator>
  <dc:description/>
  <dc:language>en-US</dc:language>
  <cp:lastModifiedBy>Gianni</cp:lastModifiedBy>
  <dcterms:modified xsi:type="dcterms:W3CDTF">2009-05-11T15:49:56Z</dcterms:modified>
  <cp:revision>35</cp:revision>
  <dc:subject>Emmesse</dc:subject>
  <dc:title>La canzone</dc:title>
</cp:coreProperties>
</file>