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8EC2-F835-4A2F-8C9D-E8119085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B784-CCF8-4BFD-94C7-0E9A914DD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BE77-2682-4A95-BA50-A019C2AB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289-2BDA-413E-B0BA-A51949483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19D-5657-4867-8B93-E52122C6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CBE-C9D9-4F35-A0FB-68D2D03B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A05-2D0D-4504-99ED-434A5434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36B6-E02B-463A-BDB7-58CCAA18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7D1B-BCD1-4162-A757-54ABB335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CDC6-E580-4939-9997-063116CB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597-4513-43C0-A7B5-6B5ADAFD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BD0-9E5D-448B-878F-B03D7BF7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8E9E-73A2-41B2-A0C5-FABB2C56B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ete cellular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morfologi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presenta l’esoscheletro della cellula batt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truttura del peptidoglicano, della cellulosa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e della chi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truttura%20chimica%20del%20peptidoglicano" descr=""/>
          <p:cNvPicPr/>
          <p:nvPr/>
        </p:nvPicPr>
        <p:blipFill>
          <a:blip r:embed="rId2"/>
          <a:srcRect l="0" t="0" r="0" b="1758"/>
          <a:stretch/>
        </p:blipFill>
        <p:spPr>
          <a:xfrm>
            <a:off x="2060640" y="1752480"/>
            <a:ext cx="4949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egame diretto tra catene peptidiche del peptidogli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Legame%20diretto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67816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Legame interpeptidico realizzato tramite un ponte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di pentaglic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Legame%20interpeptidico" descr=""/>
          <p:cNvPicPr/>
          <p:nvPr/>
        </p:nvPicPr>
        <p:blipFill>
          <a:blip r:embed="rId2"/>
          <a:stretch/>
        </p:blipFill>
        <p:spPr>
          <a:xfrm>
            <a:off x="990720" y="2133720"/>
            <a:ext cx="7162560" cy="35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mposizione delle subunità del peptidogli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Subunità%20del%20peptidoglicano" descr=""/>
          <p:cNvPicPr/>
          <p:nvPr/>
        </p:nvPicPr>
        <p:blipFill>
          <a:blip r:embed="rId2"/>
          <a:stretch/>
        </p:blipFill>
        <p:spPr>
          <a:xfrm>
            <a:off x="2362320" y="1600200"/>
            <a:ext cx="43653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PE (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stanze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limeriche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xtracellular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o di varie dimensioni ed associate a numerose specie batteriche: capsula e li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sula: struttura rigida tenacemente aderente all’involucro cellul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mo: massa amorfa viscosa che circonda la cell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PE (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stanze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P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limeriche 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xtracellular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ttura: omopolimeri o eteropolimeri di monosaccaridi, come esosi, acido uronico ed aminozuccher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zioni: aderenza, protezione e virulen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psula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morfologi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presenta la terza struttura protettiva della cellula batte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psula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omposizione chimica e funzion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ede una struttura polisaccaridica. Nel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.anthra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è formata da un peptide dell’acido D-gluta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lle specie patogene è un fattore di virulenza in quanto protegge la cellula dalla fagocitos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psula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aratteri general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stanza viscosa che forma uno strato di rivestimento o involucro intorno alla cellu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ttura amorfa gelatinosa che presenta notevole variabilità in spess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psula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aratteri general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teriale escreto dalla cellula che per la sua viscosità non si allontana dalla cellula stessa, costituendo un rivestimento protet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costituita prevalentemente da polisaccaridi, come destrano, destrina, levano e cellulosa, e spesso da acidi uronic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Pa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arete%20batterica" descr=""/>
          <p:cNvPicPr/>
          <p:nvPr/>
        </p:nvPicPr>
        <p:blipFill>
          <a:blip r:embed="rId2"/>
          <a:stretch/>
        </p:blipFill>
        <p:spPr>
          <a:xfrm>
            <a:off x="1447920" y="1523880"/>
            <a:ext cx="6172200" cy="3810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6680" y="5486400"/>
            <a:ext cx="701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M: mureina; OM: membrana esterna; PM: membrana citoplasmatic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: spazio periplasmico; W: parete di peptidoglica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apsula in </a:t>
            </a:r>
            <a:r>
              <a:rPr b="0" i="1" lang="en-US" sz="2800" spc="-1" strike="noStrike">
                <a:solidFill>
                  <a:srgbClr val="00ffff"/>
                </a:solidFill>
                <a:latin typeface="Times New Roman"/>
              </a:rPr>
              <a:t>Klebsiella pneumon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Capsula" descr=""/>
          <p:cNvPicPr/>
          <p:nvPr/>
        </p:nvPicPr>
        <p:blipFill>
          <a:blip r:embed="rId2"/>
          <a:srcRect l="1221" t="0" r="0" b="0"/>
          <a:stretch/>
        </p:blipFill>
        <p:spPr>
          <a:xfrm>
            <a:off x="1447920" y="1676520"/>
            <a:ext cx="6248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Rappresentazione schematica della parete dei </a:t>
            </a:r>
            <a:br>
              <a:rPr sz="2800"/>
            </a:b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batteri Gram positivi e neg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arete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40080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ete cellular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omposizione chimica e funzion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composta da acidi teicoici e peptidoglicano (Gram+). Peptidoglicano e membrana esterna costituita da lipopolisaccaridi, lipidi e proteine (Gram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siede una struttura rigida che conferisce una forma alla cellula e la protegge dai fattori estern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ete cellular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aratteristiche general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ttura rigida che conferisce alla cellula la sua for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o uniforme denso e spesso (da 100 a 800Å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tituisce una parte notevole del peso secco della cellula (10-40%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essenziale all’accrescimento ed alla divisione cellul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ete cellulare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caratteristiche general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 visualizza al microscopio mediante colorazioni specifi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zione da danni di tipo meccanico ed osmot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lla parete dipendono molte caratteristiche tassonomiche dei batteri: la forma, la suddivisione in Gram-positivi e Gram-negativi, la specificità antige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ruttura del peptidoglica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parte rigida di una cellula batterica è una struttura polimerica chiamata mureina, peptidoglicano o mucoprote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spcBef>
                <a:spcPts val="7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peptidoglicani sono polimeri molto grandi, formati da tre tipi di unità costitutive: acetiglucosammina (AGA), acido acetil muramico (AMA) ed un peptide costituito da 4 o 5 aminoacid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Costituenti principali del peptidogli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ostituenti%20del%20peptidoglicano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33987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Times New Roman"/>
              </a:rPr>
              <a:t>Struttura del peptidogli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33520"/>
            <a:ext cx="7467840" cy="5790960"/>
          </a:xfrm>
          <a:prstGeom prst="rect">
            <a:avLst/>
          </a:pr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Struttura%20del%20peptidoglicano" descr=""/>
          <p:cNvPicPr/>
          <p:nvPr/>
        </p:nvPicPr>
        <p:blipFill>
          <a:blip r:embed="rId2"/>
          <a:stretch/>
        </p:blipFill>
        <p:spPr>
          <a:xfrm>
            <a:off x="1828800" y="1600200"/>
            <a:ext cx="5486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9T18:14:04Z</dcterms:created>
  <dc:creator>cresci</dc:creator>
  <dc:description/>
  <dc:language>en-US</dc:language>
  <cp:lastModifiedBy>cresci</cp:lastModifiedBy>
  <dcterms:modified xsi:type="dcterms:W3CDTF">2001-02-19T18:22:00Z</dcterms:modified>
  <cp:revision>2</cp:revision>
  <dc:subject/>
  <dc:title>Parete cellulare (morfologia)</dc:title>
</cp:coreProperties>
</file>