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397-0791-4961-92EA-6F034A9E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791-D8AF-46B2-9A2A-761F932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894-85FE-41ED-8635-2B79DF2A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A0C-A272-4DC6-9358-D375DEB3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39A-B9E1-411C-81DB-0B04C7B9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75E-D01F-40B4-932D-A210873C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893-2E10-4D94-BCD2-32EABCC1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E02-C4A5-4790-AFA9-6659B1C7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A59-6099-4002-B78F-49B5F4F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360-A70B-42B6-ADA3-D49A90C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981-7671-45F6-95A1-919FC0E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11E-F517-440A-BF9E-91C8EB2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329-00C6-4BF5-9C01-45890829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orfologi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presenta l’esoscheletro della cellula batt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ruttura del peptidoglicano, della cellulosa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 della ch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truttura%20chimica%20del%20peptidoglicano" descr=""/>
          <p:cNvPicPr/>
          <p:nvPr/>
        </p:nvPicPr>
        <p:blipFill>
          <a:blip r:embed="rId2"/>
          <a:srcRect l="0" t="0" r="0" b="1758"/>
          <a:stretch/>
        </p:blipFill>
        <p:spPr>
          <a:xfrm>
            <a:off x="2060640" y="1752480"/>
            <a:ext cx="494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game diretto tra catene peptidiche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egame%20diretto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816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game interpeptidico realizzato tramite un pont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 pentagl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egame%20interpeptidico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16256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posizione delle subunità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ubunità%20del%20peptidoglicano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365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 (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stanz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limeric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tracellular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 di varie dimensioni ed associate a numerose specie batteriche: capsula e li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sula: struttura rigida tenacemente aderente all’involucro cellu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o: massa amorfa viscosa che circonda la cell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 (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stanz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limeric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tracellular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: omopolimeri o eteropolimeri di monosaccaridi, come esosi, acido uronico ed aminozucche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zioni: aderenza, protezione e virule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orfologi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presenta la terza struttura protettiva della cellula batt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mposizione chimica e funzi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ede una struttura polisaccaridica. N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anthra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formata da un peptide dell’acido D-gluta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e specie patogene è un fattore di virulenza in quanto protegge la cellula dalla fagocito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stanza viscosa che forma uno strato di rivestimento o involucro intorno alla cell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 amorfa gelatinosa che presenta notevole variabilità in spess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 escreto dalla cellula che per la sua viscosità non si allontana dalla cellula stessa, costituendo un rivestimento prote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costituita prevalentemente da polisaccaridi, come destrano, destrina, levano e cellulosa, e spesso da acidi uron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rete%20batterica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17220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486400"/>
            <a:ext cx="701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: mureina; OM: membrana esterna; PM: membrana citoplasmat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: spazio periplasmico; W: parete di peptidoglic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psula in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Klebsiella pneumo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apsula" descr=""/>
          <p:cNvPicPr/>
          <p:nvPr/>
        </p:nvPicPr>
        <p:blipFill>
          <a:blip r:embed="rId2"/>
          <a:srcRect l="1221" t="0" r="0" b="0"/>
          <a:stretch/>
        </p:blipFill>
        <p:spPr>
          <a:xfrm>
            <a:off x="1447920" y="1676520"/>
            <a:ext cx="6248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appresentazione schematica della parete dei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tteri Gram positivi e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rete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4008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mposizione chimica e funzi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composta da acidi teicoici e peptidoglicano (Gram+). Peptidoglicano e membrana esterna costituita da lipopolisaccaridi, lipidi e proteine (Gra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ede una struttura rigida che conferisce una forma alla cellula e la protegge dai fattori ester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stiche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 rigida che conferisce alla cellula la sua f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o uniforme denso e spesso (da 100 a 800Å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ituisce una parte notevole del peso secco della cellula (10-40%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essenziale all’accrescimento ed alla divisione cellu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stiche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visualizza al microscopio mediante colorazioni specif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zione da danni di tipo meccanico ed osmo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la parete dipendono molte caratteristiche tassonomiche dei batteri: la forma, la suddivisione in Gram-positivi e Gram-negativi, la specificità antige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ruttura del peptidogli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rte rigida di una cellula batterica è una struttura polimerica chiamata mureina, peptidoglicano o mucoprote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eptidoglicani sono polimeri molto grandi, formati da tre tipi di unità costitutive: acetiglucosammina (AGA), acido acetil muramico (AMA) ed un peptide costituito da 4 o 5 aminoaci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stituenti principali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stituenti%20del%20peptidoglicano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98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ruttura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ruttura%20del%20peptidoglicano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8:14:04Z</dcterms:created>
  <dc:creator>cresci</dc:creator>
  <dc:description/>
  <dc:language>en-US</dc:language>
  <cp:lastModifiedBy>cresci</cp:lastModifiedBy>
  <dcterms:modified xsi:type="dcterms:W3CDTF">2001-02-19T18:22:00Z</dcterms:modified>
  <cp:revision>2</cp:revision>
  <dc:subject/>
  <dc:title>Parete cellulare (morfologia)</dc:title>
</cp:coreProperties>
</file>