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wmf" ContentType="image/x-wmf"/>
  <Override PartName="/ppt/media/image15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4.jpeg" ContentType="image/jpeg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7BB8-3101-4870-9817-DFE89856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D36A-7D06-42A6-A4A3-97B34E14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0E5-29B1-4108-A1F9-965170F4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ACB-9865-45C6-970E-5680C9AF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E185-FAA0-4456-9782-B6BFE0D3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862-EB87-4E6D-9109-BB08C822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72A-D50D-417C-A0F0-6C6A5BF0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A786-71FA-41B6-95DB-B97A2208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336-923B-4853-A79D-9450BA87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B81-B809-4B17-94A0-3D6BA59D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FE5-9EF9-4D03-AB38-F98675B4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12D-1C8F-4DCB-ABDF-CD14C032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2D25-8088-4A70-A34F-0B0B60E6114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"/>
          <p:cNvGrpSpPr/>
          <p:nvPr/>
        </p:nvGrpSpPr>
        <p:grpSpPr>
          <a:xfrm>
            <a:off x="3446640" y="1376280"/>
            <a:ext cx="2098440" cy="1089000"/>
            <a:chOff x="3446640" y="1376280"/>
            <a:chExt cx="2098440" cy="1089000"/>
          </a:xfrm>
        </p:grpSpPr>
        <p:sp>
          <p:nvSpPr>
            <p:cNvPr id="42" name="AutoShape 5"/>
            <p:cNvSpPr/>
            <p:nvPr/>
          </p:nvSpPr>
          <p:spPr>
            <a:xfrm>
              <a:off x="3446640" y="1376280"/>
              <a:ext cx="2098440" cy="108900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3552840" y="1457280"/>
              <a:ext cx="1869480" cy="9255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" name="AutoShape 3"/>
            <p:cNvSpPr/>
            <p:nvPr/>
          </p:nvSpPr>
          <p:spPr>
            <a:xfrm>
              <a:off x="3592440" y="1488960"/>
              <a:ext cx="1801440" cy="85572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" name="Oval 9"/>
          <p:cNvSpPr/>
          <p:nvPr/>
        </p:nvSpPr>
        <p:spPr>
          <a:xfrm>
            <a:off x="3906720" y="1865160"/>
            <a:ext cx="1225800" cy="32544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519200" y="190440"/>
            <a:ext cx="61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La variabilità genetica nei batte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" name="Group 14"/>
          <p:cNvGrpSpPr/>
          <p:nvPr/>
        </p:nvGrpSpPr>
        <p:grpSpPr>
          <a:xfrm>
            <a:off x="5194440" y="3368520"/>
            <a:ext cx="2098440" cy="1089000"/>
            <a:chOff x="5194440" y="3368520"/>
            <a:chExt cx="2098440" cy="1089000"/>
          </a:xfrm>
        </p:grpSpPr>
        <p:sp>
          <p:nvSpPr>
            <p:cNvPr id="48" name="AutoShape 15"/>
            <p:cNvSpPr/>
            <p:nvPr/>
          </p:nvSpPr>
          <p:spPr>
            <a:xfrm>
              <a:off x="5194440" y="3368520"/>
              <a:ext cx="2098440" cy="108900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" name="AutoShape 16"/>
            <p:cNvSpPr/>
            <p:nvPr/>
          </p:nvSpPr>
          <p:spPr>
            <a:xfrm>
              <a:off x="5300640" y="3449520"/>
              <a:ext cx="1869480" cy="9255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AutoShape 17"/>
            <p:cNvSpPr/>
            <p:nvPr/>
          </p:nvSpPr>
          <p:spPr>
            <a:xfrm>
              <a:off x="5340240" y="3481200"/>
              <a:ext cx="1801440" cy="85572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" name="Oval 18"/>
          <p:cNvSpPr/>
          <p:nvPr/>
        </p:nvSpPr>
        <p:spPr>
          <a:xfrm>
            <a:off x="5654520" y="3857760"/>
            <a:ext cx="1225800" cy="32544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20"/>
          <p:cNvGrpSpPr/>
          <p:nvPr/>
        </p:nvGrpSpPr>
        <p:grpSpPr>
          <a:xfrm>
            <a:off x="1998720" y="3381480"/>
            <a:ext cx="2098440" cy="1089000"/>
            <a:chOff x="1998720" y="3381480"/>
            <a:chExt cx="2098440" cy="1089000"/>
          </a:xfrm>
        </p:grpSpPr>
        <p:sp>
          <p:nvSpPr>
            <p:cNvPr id="53" name="AutoShape 21"/>
            <p:cNvSpPr/>
            <p:nvPr/>
          </p:nvSpPr>
          <p:spPr>
            <a:xfrm>
              <a:off x="1998720" y="3381480"/>
              <a:ext cx="2098440" cy="108900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AutoShape 22"/>
            <p:cNvSpPr/>
            <p:nvPr/>
          </p:nvSpPr>
          <p:spPr>
            <a:xfrm>
              <a:off x="2104920" y="3462480"/>
              <a:ext cx="1869480" cy="9255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AutoShape 23"/>
            <p:cNvSpPr/>
            <p:nvPr/>
          </p:nvSpPr>
          <p:spPr>
            <a:xfrm>
              <a:off x="2144520" y="3494160"/>
              <a:ext cx="1801440" cy="85572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" name="Oval 24"/>
          <p:cNvSpPr/>
          <p:nvPr/>
        </p:nvSpPr>
        <p:spPr>
          <a:xfrm>
            <a:off x="2459160" y="3870360"/>
            <a:ext cx="1225440" cy="32544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Line 27"/>
          <p:cNvSpPr/>
          <p:nvPr/>
        </p:nvSpPr>
        <p:spPr>
          <a:xfrm>
            <a:off x="4710240" y="2719440"/>
            <a:ext cx="512640" cy="5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28"/>
          <p:cNvSpPr/>
          <p:nvPr/>
        </p:nvSpPr>
        <p:spPr>
          <a:xfrm flipH="1">
            <a:off x="3884760" y="2732040"/>
            <a:ext cx="512640" cy="5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29"/>
          <p:cNvSpPr/>
          <p:nvPr/>
        </p:nvSpPr>
        <p:spPr>
          <a:xfrm>
            <a:off x="590400" y="5192640"/>
            <a:ext cx="82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 due cellule figlie sono geneticamente identiche tra loro e alla cellula mad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018240" y="23328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Agenti alchila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47640" y="16765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tageni molto potenti e inducono mutazioni ad alta frequenza rispetto agli analoghi delle basi.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47640" y="8380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itrosoguanidina, Acido nitroso, Idrossilamin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no responsabili di reazioni di metilazione, deaminazione, ecc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47640" y="25909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agendo sul DNA sono in grado di introdurre cambiamenti anche in assenza di replicazion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986920" y="365760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Agenti intercala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647640" y="44197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ridine (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rancio di acridina, proflavin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: sono molecole planari che si inseriscono tra due basi del DNA, separandol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647640" y="54100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esta conformazione anormale può portare a </a:t>
            </a:r>
            <a:r>
              <a:rPr b="0" lang="it-IT" sz="20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microinserzion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0" lang="it-IT" sz="20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microdelezion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urante la replicazion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1837440" y="380880"/>
            <a:ext cx="54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Radiazioni non ionizzanti: raggi U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685800" y="12193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basi degli acidi nucleici assorbono efficientemente la radiazione ultravioletta. Il picco di assorbimento è a 269 nm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5800" y="28875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suo effetto più conosciuto sul DNA è la formazione di </a:t>
            </a:r>
            <a:r>
              <a:rPr b="0" lang="it-IT" sz="20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dimeri di pirimidin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due C o T adiacenti vengono legate covalentemente tra loro). Induzione del sistema S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685800" y="21906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radiazione UV a 260 nm è l’agente letale più effic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685800" y="41338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presenza di dimeri aumenta la probabilità che la DNA polimerasi inserisca in questa posizione un nucleotide erra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85800" y="51055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radiazione UV è uno strumento molto utile nell’isolamento di mutan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910600" y="15228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Radiazioni ionizza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647640" y="10666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ono radiazioni a lunghezza d’onda corta (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raggi X, gamma, raggi cosmic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. Più potenti dei raggi UV e altamente penetrant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47640" y="22287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ausano la ionizzazione dell’acqua e di altre sostanze con la produzione di radicali liberi come lo </a:t>
            </a:r>
            <a:r>
              <a:rPr b="0" lang="it-IT" sz="2000" spc="-1" strike="noStrike">
                <a:solidFill>
                  <a:srgbClr val="ff6600"/>
                </a:solidFill>
                <a:latin typeface="Comic Sans MS"/>
              </a:rPr>
              <a:t>ione ossidril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it-IT" sz="2000" spc="-1" strike="noStrike">
                <a:solidFill>
                  <a:srgbClr val="ff6600"/>
                </a:solidFill>
                <a:latin typeface="Comic Sans MS"/>
              </a:rPr>
              <a:t>OH-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47640" y="341964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loro azione mutagena è indiretta in quanto il danno è prodotto dai radicali liber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400040" y="5400720"/>
            <a:ext cx="6315120" cy="74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508040" y="139680"/>
            <a:ext cx="61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La variabilità genetica nei batte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36680" y="888840"/>
            <a:ext cx="845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e mutazioni puntiformi non sono sufficienti a spiegare la diversità del mondo microb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61880" y="1827360"/>
            <a:ext cx="845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genoma di un batterio risulta costituito da un “puzzle” di sequenze provenienti da altri batteri che non sono suoi progenitori ma suoi contemporane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50720" y="2967120"/>
            <a:ext cx="8307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differenti al mantenimento della loro identità, i batteri sono capaci di acquisire da altri organismi geni che permettono lor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di diventare resistenti ad antibiotic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causare nuove malatti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umentare la loro possibilità di sopravvivenz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771560" y="5041800"/>
            <a:ext cx="55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o scambio di DNA tra i batteri è chiamat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1537200" y="5504040"/>
            <a:ext cx="606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Trasferimento genico orizzont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540440" y="311040"/>
            <a:ext cx="606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Trasferimento genico orizzont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734840" y="3754440"/>
            <a:ext cx="56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Trasferimento genico vertic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3868560" y="4495680"/>
            <a:ext cx="1521000" cy="703440"/>
            <a:chOff x="3868560" y="4495680"/>
            <a:chExt cx="1521000" cy="703440"/>
          </a:xfrm>
        </p:grpSpPr>
        <p:sp>
          <p:nvSpPr>
            <p:cNvPr id="201" name="AutoShape 5"/>
            <p:cNvSpPr/>
            <p:nvPr/>
          </p:nvSpPr>
          <p:spPr>
            <a:xfrm>
              <a:off x="3868560" y="4495680"/>
              <a:ext cx="1521000" cy="7034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3945600" y="4547880"/>
              <a:ext cx="1355040" cy="5979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AutoShape 7"/>
            <p:cNvSpPr/>
            <p:nvPr/>
          </p:nvSpPr>
          <p:spPr>
            <a:xfrm>
              <a:off x="3974400" y="4568400"/>
              <a:ext cx="1305720" cy="55260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4" name="Oval 8"/>
          <p:cNvSpPr/>
          <p:nvPr/>
        </p:nvSpPr>
        <p:spPr>
          <a:xfrm>
            <a:off x="4202280" y="4811760"/>
            <a:ext cx="887400" cy="2095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5135400" y="5783400"/>
            <a:ext cx="1519560" cy="703080"/>
            <a:chOff x="5135400" y="5783400"/>
            <a:chExt cx="1519560" cy="703080"/>
          </a:xfrm>
        </p:grpSpPr>
        <p:sp>
          <p:nvSpPr>
            <p:cNvPr id="206" name="AutoShape 10"/>
            <p:cNvSpPr/>
            <p:nvPr/>
          </p:nvSpPr>
          <p:spPr>
            <a:xfrm>
              <a:off x="5135400" y="5783400"/>
              <a:ext cx="1519560" cy="70308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AutoShape 11"/>
            <p:cNvSpPr/>
            <p:nvPr/>
          </p:nvSpPr>
          <p:spPr>
            <a:xfrm>
              <a:off x="5212440" y="5835600"/>
              <a:ext cx="1353600" cy="59760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AutoShape 12"/>
            <p:cNvSpPr/>
            <p:nvPr/>
          </p:nvSpPr>
          <p:spPr>
            <a:xfrm>
              <a:off x="5240880" y="5856120"/>
              <a:ext cx="1304280" cy="55224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9" name="Oval 13"/>
          <p:cNvSpPr/>
          <p:nvPr/>
        </p:nvSpPr>
        <p:spPr>
          <a:xfrm>
            <a:off x="5468760" y="6099120"/>
            <a:ext cx="885960" cy="2095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0" name="Group 14"/>
          <p:cNvGrpSpPr/>
          <p:nvPr/>
        </p:nvGrpSpPr>
        <p:grpSpPr>
          <a:xfrm>
            <a:off x="2819520" y="5791320"/>
            <a:ext cx="1519200" cy="703080"/>
            <a:chOff x="2819520" y="5791320"/>
            <a:chExt cx="1519200" cy="703080"/>
          </a:xfrm>
        </p:grpSpPr>
        <p:sp>
          <p:nvSpPr>
            <p:cNvPr id="211" name="AutoShape 15"/>
            <p:cNvSpPr/>
            <p:nvPr/>
          </p:nvSpPr>
          <p:spPr>
            <a:xfrm>
              <a:off x="2819520" y="5791320"/>
              <a:ext cx="1519200" cy="70308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AutoShape 16"/>
            <p:cNvSpPr/>
            <p:nvPr/>
          </p:nvSpPr>
          <p:spPr>
            <a:xfrm>
              <a:off x="2896560" y="5843520"/>
              <a:ext cx="1353240" cy="59760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AutoShape 17"/>
            <p:cNvSpPr/>
            <p:nvPr/>
          </p:nvSpPr>
          <p:spPr>
            <a:xfrm>
              <a:off x="2925000" y="5864040"/>
              <a:ext cx="1304280" cy="55224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Oval 18"/>
          <p:cNvSpPr/>
          <p:nvPr/>
        </p:nvSpPr>
        <p:spPr>
          <a:xfrm>
            <a:off x="3152880" y="6107040"/>
            <a:ext cx="887400" cy="2095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4782960" y="5362560"/>
            <a:ext cx="371520" cy="3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4184640" y="5372280"/>
            <a:ext cx="372960" cy="328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3470400" y="6046920"/>
            <a:ext cx="217440" cy="1317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4565520" y="4724280"/>
            <a:ext cx="217440" cy="1317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23"/>
          <p:cNvSpPr/>
          <p:nvPr/>
        </p:nvSpPr>
        <p:spPr>
          <a:xfrm>
            <a:off x="5791320" y="6019920"/>
            <a:ext cx="217440" cy="1317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3078000" y="2116080"/>
            <a:ext cx="1519200" cy="703440"/>
            <a:chOff x="3078000" y="2116080"/>
            <a:chExt cx="1519200" cy="703440"/>
          </a:xfrm>
        </p:grpSpPr>
        <p:grpSp>
          <p:nvGrpSpPr>
            <p:cNvPr id="221" name="Group 25"/>
            <p:cNvGrpSpPr/>
            <p:nvPr/>
          </p:nvGrpSpPr>
          <p:grpSpPr>
            <a:xfrm>
              <a:off x="3078000" y="2116080"/>
              <a:ext cx="1519200" cy="703440"/>
              <a:chOff x="3078000" y="2116080"/>
              <a:chExt cx="1519200" cy="703440"/>
            </a:xfrm>
          </p:grpSpPr>
          <p:sp>
            <p:nvSpPr>
              <p:cNvPr id="222" name="AutoShape 26"/>
              <p:cNvSpPr/>
              <p:nvPr/>
            </p:nvSpPr>
            <p:spPr>
              <a:xfrm>
                <a:off x="3078000" y="2116080"/>
                <a:ext cx="1519200" cy="7034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AutoShape 27"/>
              <p:cNvSpPr/>
              <p:nvPr/>
            </p:nvSpPr>
            <p:spPr>
              <a:xfrm>
                <a:off x="3155040" y="2168280"/>
                <a:ext cx="1353240" cy="59796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AutoShape 28"/>
              <p:cNvSpPr/>
              <p:nvPr/>
            </p:nvSpPr>
            <p:spPr>
              <a:xfrm>
                <a:off x="3183480" y="2188800"/>
                <a:ext cx="1304280" cy="55260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5" name="Oval 29"/>
            <p:cNvSpPr/>
            <p:nvPr/>
          </p:nvSpPr>
          <p:spPr>
            <a:xfrm>
              <a:off x="3411360" y="2432160"/>
              <a:ext cx="885960" cy="2095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6" name="AutoShape 30"/>
          <p:cNvSpPr/>
          <p:nvPr/>
        </p:nvSpPr>
        <p:spPr>
          <a:xfrm>
            <a:off x="304920" y="2065320"/>
            <a:ext cx="1519200" cy="703440"/>
          </a:xfrm>
          <a:prstGeom prst="roundRect">
            <a:avLst>
              <a:gd name="adj" fmla="val 4285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AutoShape 31"/>
          <p:cNvSpPr/>
          <p:nvPr/>
        </p:nvSpPr>
        <p:spPr>
          <a:xfrm>
            <a:off x="382680" y="2117880"/>
            <a:ext cx="1352520" cy="596880"/>
          </a:xfrm>
          <a:prstGeom prst="roundRect">
            <a:avLst>
              <a:gd name="adj" fmla="val 4192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32"/>
          <p:cNvSpPr/>
          <p:nvPr/>
        </p:nvSpPr>
        <p:spPr>
          <a:xfrm>
            <a:off x="411120" y="2138400"/>
            <a:ext cx="1303560" cy="552240"/>
          </a:xfrm>
          <a:prstGeom prst="roundRect">
            <a:avLst>
              <a:gd name="adj" fmla="val 41926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33"/>
          <p:cNvSpPr/>
          <p:nvPr/>
        </p:nvSpPr>
        <p:spPr>
          <a:xfrm>
            <a:off x="638280" y="2381400"/>
            <a:ext cx="887400" cy="2095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34"/>
          <p:cNvSpPr/>
          <p:nvPr/>
        </p:nvSpPr>
        <p:spPr>
          <a:xfrm>
            <a:off x="955800" y="2320920"/>
            <a:ext cx="217440" cy="13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AutoShape 35"/>
          <p:cNvSpPr/>
          <p:nvPr/>
        </p:nvSpPr>
        <p:spPr>
          <a:xfrm>
            <a:off x="1554120" y="1295280"/>
            <a:ext cx="2057400" cy="609840"/>
          </a:xfrm>
          <a:custGeom>
            <a:avLst/>
            <a:gdLst>
              <a:gd name="textAreaLeft" fmla="*/ 412200 w 2057400"/>
              <a:gd name="textAreaRight" fmla="*/ 1439280 w 20574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1" y="0"/>
                </a:lnTo>
                <a:arcTo wR="8659" hR="21600" stAng="-5400000" swAng="2915371"/>
                <a:lnTo>
                  <a:pt x="21105" y="14400"/>
                </a:lnTo>
                <a:lnTo>
                  <a:pt x="18379" y="21600"/>
                </a:lnTo>
                <a:lnTo>
                  <a:pt x="14663" y="14400"/>
                </a:lnTo>
                <a:lnTo>
                  <a:pt x="16823" y="14400"/>
                </a:lnTo>
                <a:arcTo wR="8659" hR="21600" stAng="-2484629" swAng="-2745364"/>
                <a:lnTo>
                  <a:pt x="9720" y="163"/>
                </a:lnTo>
                <a:arcTo wR="8659" hR="21600" stAng="-5570007" swAng="-5229993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07"/>
                <a:lnTo>
                  <a:pt x="9720" y="163"/>
                </a:lnTo>
                <a:arcTo wR="8659" hR="21600" stAng="-5570007" swAng="-5229993"/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2239920" y="114300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2392200" y="1295280"/>
            <a:ext cx="217800" cy="13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3809880" y="1371600"/>
            <a:ext cx="4876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cambio di DNA tra batteri contemporane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5943600" y="4876920"/>
            <a:ext cx="274320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redità di un ge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al progenito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40"/>
          <p:cNvSpPr/>
          <p:nvPr/>
        </p:nvSpPr>
        <p:spPr>
          <a:xfrm>
            <a:off x="2133720" y="2438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7" name="Group 41"/>
          <p:cNvGrpSpPr/>
          <p:nvPr/>
        </p:nvGrpSpPr>
        <p:grpSpPr>
          <a:xfrm>
            <a:off x="5867280" y="2133720"/>
            <a:ext cx="1519200" cy="703080"/>
            <a:chOff x="5867280" y="2133720"/>
            <a:chExt cx="1519200" cy="703080"/>
          </a:xfrm>
        </p:grpSpPr>
        <p:grpSp>
          <p:nvGrpSpPr>
            <p:cNvPr id="238" name="Group 42"/>
            <p:cNvGrpSpPr/>
            <p:nvPr/>
          </p:nvGrpSpPr>
          <p:grpSpPr>
            <a:xfrm>
              <a:off x="5867280" y="2133720"/>
              <a:ext cx="1519200" cy="703080"/>
              <a:chOff x="5867280" y="2133720"/>
              <a:chExt cx="1519200" cy="703080"/>
            </a:xfrm>
          </p:grpSpPr>
          <p:sp>
            <p:nvSpPr>
              <p:cNvPr id="239" name="AutoShape 43"/>
              <p:cNvSpPr/>
              <p:nvPr/>
            </p:nvSpPr>
            <p:spPr>
              <a:xfrm>
                <a:off x="5867280" y="2133720"/>
                <a:ext cx="1519200" cy="70308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AutoShape 44"/>
              <p:cNvSpPr/>
              <p:nvPr/>
            </p:nvSpPr>
            <p:spPr>
              <a:xfrm>
                <a:off x="5944320" y="2185920"/>
                <a:ext cx="1353240" cy="59760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AutoShape 45"/>
              <p:cNvSpPr/>
              <p:nvPr/>
            </p:nvSpPr>
            <p:spPr>
              <a:xfrm>
                <a:off x="5972760" y="2206440"/>
                <a:ext cx="1304280" cy="55224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2" name="Oval 46"/>
            <p:cNvSpPr/>
            <p:nvPr/>
          </p:nvSpPr>
          <p:spPr>
            <a:xfrm>
              <a:off x="6200640" y="2449440"/>
              <a:ext cx="885960" cy="20916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3" name="Rectangle 47"/>
          <p:cNvSpPr/>
          <p:nvPr/>
        </p:nvSpPr>
        <p:spPr>
          <a:xfrm>
            <a:off x="6553080" y="2379600"/>
            <a:ext cx="217440" cy="13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48"/>
          <p:cNvSpPr/>
          <p:nvPr/>
        </p:nvSpPr>
        <p:spPr>
          <a:xfrm>
            <a:off x="4923000" y="24559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97960" y="235080"/>
            <a:ext cx="79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Significato medico del trasferimento gen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71680" y="1841400"/>
            <a:ext cx="80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l trasferimento genico orizzontale tra i batteri sta avendo effetti immediati e pratici sulla salute uma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42160" y="2987640"/>
            <a:ext cx="56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E’ stato dimostrato il trasferimento di geni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1320840" y="3517920"/>
            <a:ext cx="57913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per la resistenza ad antibiotic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responsabili della patogenicit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per la degradazione di inquinanti (biorisanament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5"/>
          <p:cNvSpPr/>
          <p:nvPr/>
        </p:nvSpPr>
        <p:spPr>
          <a:xfrm>
            <a:off x="838080" y="4633920"/>
            <a:ext cx="1521000" cy="703080"/>
          </a:xfrm>
          <a:prstGeom prst="roundRect">
            <a:avLst>
              <a:gd name="adj" fmla="val 4285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26"/>
          <p:cNvSpPr/>
          <p:nvPr/>
        </p:nvSpPr>
        <p:spPr>
          <a:xfrm>
            <a:off x="915840" y="4686480"/>
            <a:ext cx="1354320" cy="596880"/>
          </a:xfrm>
          <a:prstGeom prst="roundRect">
            <a:avLst>
              <a:gd name="adj" fmla="val 4192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27"/>
          <p:cNvSpPr/>
          <p:nvPr/>
        </p:nvSpPr>
        <p:spPr>
          <a:xfrm>
            <a:off x="944640" y="4707000"/>
            <a:ext cx="1305000" cy="552240"/>
          </a:xfrm>
          <a:prstGeom prst="roundRect">
            <a:avLst>
              <a:gd name="adj" fmla="val 41926"/>
            </a:avLst>
          </a:prstGeom>
          <a:gradFill rotWithShape="0">
            <a:gsLst>
              <a:gs pos="0">
                <a:srgbClr val="ffffcc"/>
              </a:gs>
              <a:gs pos="100000">
                <a:srgbClr val="9b9b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Oval 28"/>
          <p:cNvSpPr/>
          <p:nvPr/>
        </p:nvSpPr>
        <p:spPr>
          <a:xfrm>
            <a:off x="1171440" y="4950000"/>
            <a:ext cx="887400" cy="2095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29"/>
          <p:cNvSpPr/>
          <p:nvPr/>
        </p:nvSpPr>
        <p:spPr>
          <a:xfrm>
            <a:off x="1471680" y="4862520"/>
            <a:ext cx="217440" cy="1317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4" name="Group 30"/>
          <p:cNvGrpSpPr/>
          <p:nvPr/>
        </p:nvGrpSpPr>
        <p:grpSpPr>
          <a:xfrm>
            <a:off x="6664320" y="4648320"/>
            <a:ext cx="1521000" cy="703080"/>
            <a:chOff x="6664320" y="4648320"/>
            <a:chExt cx="1521000" cy="703080"/>
          </a:xfrm>
        </p:grpSpPr>
        <p:sp>
          <p:nvSpPr>
            <p:cNvPr id="255" name="AutoShape 31"/>
            <p:cNvSpPr/>
            <p:nvPr/>
          </p:nvSpPr>
          <p:spPr>
            <a:xfrm>
              <a:off x="6664320" y="4648320"/>
              <a:ext cx="1521000" cy="70308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AutoShape 32"/>
            <p:cNvSpPr/>
            <p:nvPr/>
          </p:nvSpPr>
          <p:spPr>
            <a:xfrm>
              <a:off x="6741360" y="4700520"/>
              <a:ext cx="1355040" cy="59760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AutoShape 33"/>
            <p:cNvSpPr/>
            <p:nvPr/>
          </p:nvSpPr>
          <p:spPr>
            <a:xfrm>
              <a:off x="6770160" y="4721040"/>
              <a:ext cx="1305720" cy="55224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8" name="Oval 34"/>
          <p:cNvSpPr/>
          <p:nvPr/>
        </p:nvSpPr>
        <p:spPr>
          <a:xfrm>
            <a:off x="6997680" y="4964040"/>
            <a:ext cx="887400" cy="2095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7332840" y="4876920"/>
            <a:ext cx="217440" cy="1317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0" name="Group 36"/>
          <p:cNvGrpSpPr/>
          <p:nvPr/>
        </p:nvGrpSpPr>
        <p:grpSpPr>
          <a:xfrm>
            <a:off x="3516480" y="4657680"/>
            <a:ext cx="1520640" cy="703440"/>
            <a:chOff x="3516480" y="4657680"/>
            <a:chExt cx="1520640" cy="703440"/>
          </a:xfrm>
        </p:grpSpPr>
        <p:grpSp>
          <p:nvGrpSpPr>
            <p:cNvPr id="261" name="Group 37"/>
            <p:cNvGrpSpPr/>
            <p:nvPr/>
          </p:nvGrpSpPr>
          <p:grpSpPr>
            <a:xfrm>
              <a:off x="3516480" y="4657680"/>
              <a:ext cx="1520640" cy="703440"/>
              <a:chOff x="3516480" y="4657680"/>
              <a:chExt cx="1520640" cy="703440"/>
            </a:xfrm>
          </p:grpSpPr>
          <p:sp>
            <p:nvSpPr>
              <p:cNvPr id="262" name="AutoShape 38"/>
              <p:cNvSpPr/>
              <p:nvPr/>
            </p:nvSpPr>
            <p:spPr>
              <a:xfrm>
                <a:off x="3516480" y="4657680"/>
                <a:ext cx="1520640" cy="7034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AutoShape 39"/>
              <p:cNvSpPr/>
              <p:nvPr/>
            </p:nvSpPr>
            <p:spPr>
              <a:xfrm>
                <a:off x="3593520" y="4709880"/>
                <a:ext cx="1354680" cy="59796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AutoShape 40"/>
              <p:cNvSpPr/>
              <p:nvPr/>
            </p:nvSpPr>
            <p:spPr>
              <a:xfrm>
                <a:off x="3622320" y="4730400"/>
                <a:ext cx="1305360" cy="55260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5" name="Oval 41"/>
            <p:cNvSpPr/>
            <p:nvPr/>
          </p:nvSpPr>
          <p:spPr>
            <a:xfrm>
              <a:off x="3849480" y="4973760"/>
              <a:ext cx="887040" cy="2095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6" name="AutoShape 42"/>
          <p:cNvSpPr/>
          <p:nvPr/>
        </p:nvSpPr>
        <p:spPr>
          <a:xfrm>
            <a:off x="2021040" y="3862440"/>
            <a:ext cx="2057400" cy="609480"/>
          </a:xfrm>
          <a:custGeom>
            <a:avLst/>
            <a:gdLst>
              <a:gd name="textAreaLeft" fmla="*/ 412200 w 2057400"/>
              <a:gd name="textAreaRight" fmla="*/ 1439280 w 20574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1" y="0"/>
                </a:lnTo>
                <a:arcTo wR="8659" hR="21600" stAng="-5400000" swAng="2915371"/>
                <a:lnTo>
                  <a:pt x="21105" y="14400"/>
                </a:lnTo>
                <a:lnTo>
                  <a:pt x="18379" y="21600"/>
                </a:lnTo>
                <a:lnTo>
                  <a:pt x="14663" y="14400"/>
                </a:lnTo>
                <a:lnTo>
                  <a:pt x="16823" y="14400"/>
                </a:lnTo>
                <a:arcTo wR="8659" hR="21600" stAng="-2484629" swAng="-2745364"/>
                <a:lnTo>
                  <a:pt x="9720" y="163"/>
                </a:lnTo>
                <a:arcTo wR="8659" hR="21600" stAng="-5570007" swAng="-5229993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07"/>
                <a:lnTo>
                  <a:pt x="9720" y="163"/>
                </a:lnTo>
                <a:arcTo wR="8659" hR="21600" stAng="-5570007" swAng="-5229993"/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610240" y="5067360"/>
            <a:ext cx="72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46"/>
          <p:cNvSpPr/>
          <p:nvPr/>
        </p:nvSpPr>
        <p:spPr>
          <a:xfrm>
            <a:off x="635400" y="5565600"/>
            <a:ext cx="22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eppo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resist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la penicilli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47"/>
          <p:cNvSpPr/>
          <p:nvPr/>
        </p:nvSpPr>
        <p:spPr>
          <a:xfrm>
            <a:off x="3356640" y="556092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eppo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sensibi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la penicilli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48"/>
          <p:cNvSpPr/>
          <p:nvPr/>
        </p:nvSpPr>
        <p:spPr>
          <a:xfrm>
            <a:off x="6373080" y="5570640"/>
            <a:ext cx="22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eppo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resist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49"/>
          <p:cNvSpPr/>
          <p:nvPr/>
        </p:nvSpPr>
        <p:spPr>
          <a:xfrm>
            <a:off x="1266840" y="4210200"/>
            <a:ext cx="24300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50"/>
          <p:cNvSpPr/>
          <p:nvPr/>
        </p:nvSpPr>
        <p:spPr>
          <a:xfrm>
            <a:off x="208080" y="3881520"/>
            <a:ext cx="20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omic Sans MS"/>
              </a:rPr>
              <a:t>geni per la resistenz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685800" y="1666800"/>
            <a:ext cx="1521000" cy="703440"/>
          </a:xfrm>
          <a:prstGeom prst="roundRect">
            <a:avLst>
              <a:gd name="adj" fmla="val 4285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763560" y="1719360"/>
            <a:ext cx="1354320" cy="596880"/>
          </a:xfrm>
          <a:prstGeom prst="roundRect">
            <a:avLst>
              <a:gd name="adj" fmla="val 4192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792000" y="1739880"/>
            <a:ext cx="1305000" cy="552600"/>
          </a:xfrm>
          <a:prstGeom prst="roundRect">
            <a:avLst>
              <a:gd name="adj" fmla="val 41926"/>
            </a:avLst>
          </a:prstGeom>
          <a:gradFill rotWithShape="0">
            <a:gsLst>
              <a:gs pos="0">
                <a:srgbClr val="eaeaea"/>
              </a:gs>
              <a:gs pos="100000">
                <a:srgbClr val="a3a3a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5"/>
          <p:cNvSpPr/>
          <p:nvPr/>
        </p:nvSpPr>
        <p:spPr>
          <a:xfrm>
            <a:off x="1019160" y="1982880"/>
            <a:ext cx="887400" cy="2095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1319040" y="1895400"/>
            <a:ext cx="217800" cy="131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8" name="Group 7"/>
          <p:cNvGrpSpPr/>
          <p:nvPr/>
        </p:nvGrpSpPr>
        <p:grpSpPr>
          <a:xfrm>
            <a:off x="6512040" y="1681200"/>
            <a:ext cx="1520640" cy="703080"/>
            <a:chOff x="6512040" y="1681200"/>
            <a:chExt cx="1520640" cy="703080"/>
          </a:xfrm>
        </p:grpSpPr>
        <p:sp>
          <p:nvSpPr>
            <p:cNvPr id="279" name="AutoShape 8"/>
            <p:cNvSpPr/>
            <p:nvPr/>
          </p:nvSpPr>
          <p:spPr>
            <a:xfrm>
              <a:off x="6512040" y="1681200"/>
              <a:ext cx="1520640" cy="70308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AutoShape 9"/>
            <p:cNvSpPr/>
            <p:nvPr/>
          </p:nvSpPr>
          <p:spPr>
            <a:xfrm>
              <a:off x="6589080" y="1733400"/>
              <a:ext cx="1354680" cy="59760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AutoShape 10"/>
            <p:cNvSpPr/>
            <p:nvPr/>
          </p:nvSpPr>
          <p:spPr>
            <a:xfrm>
              <a:off x="6617880" y="1753920"/>
              <a:ext cx="1305360" cy="55224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2" name="Oval 11"/>
          <p:cNvSpPr/>
          <p:nvPr/>
        </p:nvSpPr>
        <p:spPr>
          <a:xfrm>
            <a:off x="6845400" y="1996920"/>
            <a:ext cx="887400" cy="20988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7180200" y="1909800"/>
            <a:ext cx="217440" cy="131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4" name="Group 13"/>
          <p:cNvGrpSpPr/>
          <p:nvPr/>
        </p:nvGrpSpPr>
        <p:grpSpPr>
          <a:xfrm>
            <a:off x="3363840" y="1690560"/>
            <a:ext cx="1521000" cy="703440"/>
            <a:chOff x="3363840" y="1690560"/>
            <a:chExt cx="1521000" cy="703440"/>
          </a:xfrm>
        </p:grpSpPr>
        <p:grpSp>
          <p:nvGrpSpPr>
            <p:cNvPr id="285" name="Group 14"/>
            <p:cNvGrpSpPr/>
            <p:nvPr/>
          </p:nvGrpSpPr>
          <p:grpSpPr>
            <a:xfrm>
              <a:off x="3363840" y="1690560"/>
              <a:ext cx="1521000" cy="703440"/>
              <a:chOff x="3363840" y="1690560"/>
              <a:chExt cx="1521000" cy="703440"/>
            </a:xfrm>
          </p:grpSpPr>
          <p:sp>
            <p:nvSpPr>
              <p:cNvPr id="286" name="AutoShape 15"/>
              <p:cNvSpPr/>
              <p:nvPr/>
            </p:nvSpPr>
            <p:spPr>
              <a:xfrm>
                <a:off x="3363840" y="1690560"/>
                <a:ext cx="1521000" cy="7034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" name="AutoShape 16"/>
              <p:cNvSpPr/>
              <p:nvPr/>
            </p:nvSpPr>
            <p:spPr>
              <a:xfrm>
                <a:off x="3440880" y="1742760"/>
                <a:ext cx="1355040" cy="59796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" name="AutoShape 17"/>
              <p:cNvSpPr/>
              <p:nvPr/>
            </p:nvSpPr>
            <p:spPr>
              <a:xfrm>
                <a:off x="3469680" y="1763280"/>
                <a:ext cx="1305720" cy="55260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9" name="Oval 18"/>
            <p:cNvSpPr/>
            <p:nvPr/>
          </p:nvSpPr>
          <p:spPr>
            <a:xfrm>
              <a:off x="3697200" y="2006640"/>
              <a:ext cx="887400" cy="2095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0" name="AutoShape 19"/>
          <p:cNvSpPr/>
          <p:nvPr/>
        </p:nvSpPr>
        <p:spPr>
          <a:xfrm>
            <a:off x="1868400" y="923760"/>
            <a:ext cx="2057400" cy="609840"/>
          </a:xfrm>
          <a:custGeom>
            <a:avLst/>
            <a:gdLst>
              <a:gd name="textAreaLeft" fmla="*/ 412200 w 2057400"/>
              <a:gd name="textAreaRight" fmla="*/ 1439280 w 20574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1" y="0"/>
                </a:lnTo>
                <a:arcTo wR="8659" hR="21600" stAng="-5400000" swAng="2915371"/>
                <a:lnTo>
                  <a:pt x="21105" y="14400"/>
                </a:lnTo>
                <a:lnTo>
                  <a:pt x="18379" y="21600"/>
                </a:lnTo>
                <a:lnTo>
                  <a:pt x="14663" y="14400"/>
                </a:lnTo>
                <a:lnTo>
                  <a:pt x="16823" y="14400"/>
                </a:lnTo>
                <a:arcTo wR="8659" hR="21600" stAng="-2484629" swAng="-2745364"/>
                <a:lnTo>
                  <a:pt x="9720" y="163"/>
                </a:lnTo>
                <a:arcTo wR="8659" hR="21600" stAng="-5570007" swAng="-5229993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07"/>
                <a:lnTo>
                  <a:pt x="9720" y="163"/>
                </a:lnTo>
                <a:arcTo wR="8659" hR="21600" stAng="-5570007" swAng="-5229993"/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Line 21"/>
          <p:cNvSpPr/>
          <p:nvPr/>
        </p:nvSpPr>
        <p:spPr>
          <a:xfrm>
            <a:off x="5457960" y="2100240"/>
            <a:ext cx="72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22"/>
          <p:cNvSpPr/>
          <p:nvPr/>
        </p:nvSpPr>
        <p:spPr>
          <a:xfrm>
            <a:off x="871560" y="257976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Shigell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2609280" y="2560680"/>
            <a:ext cx="292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. coli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ceppo che causa diarre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5595120" y="2556000"/>
            <a:ext cx="31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. coli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157:H7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causa diarrea emorragica 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anni renali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44"/>
          <p:cNvSpPr/>
          <p:nvPr/>
        </p:nvSpPr>
        <p:spPr>
          <a:xfrm>
            <a:off x="1171440" y="1343160"/>
            <a:ext cx="24300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45"/>
          <p:cNvSpPr/>
          <p:nvPr/>
        </p:nvSpPr>
        <p:spPr>
          <a:xfrm>
            <a:off x="174600" y="1014480"/>
            <a:ext cx="18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omic Sans MS"/>
              </a:rPr>
              <a:t>geni per la tossin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Oval 52"/>
          <p:cNvSpPr/>
          <p:nvPr/>
        </p:nvSpPr>
        <p:spPr>
          <a:xfrm>
            <a:off x="2646360" y="1336680"/>
            <a:ext cx="185760" cy="61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53"/>
          <p:cNvSpPr/>
          <p:nvPr/>
        </p:nvSpPr>
        <p:spPr>
          <a:xfrm>
            <a:off x="2682720" y="1003320"/>
            <a:ext cx="115920" cy="360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Oval 54"/>
          <p:cNvSpPr/>
          <p:nvPr/>
        </p:nvSpPr>
        <p:spPr>
          <a:xfrm>
            <a:off x="2668680" y="985680"/>
            <a:ext cx="152280" cy="61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AutoShape 55"/>
          <p:cNvSpPr/>
          <p:nvPr/>
        </p:nvSpPr>
        <p:spPr>
          <a:xfrm rot="16200000">
            <a:off x="2526480" y="608400"/>
            <a:ext cx="436680" cy="406440"/>
          </a:xfrm>
          <a:prstGeom prst="hexagon">
            <a:avLst>
              <a:gd name="adj" fmla="val 26860"/>
              <a:gd name="vf" fmla="val 11547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Line 56"/>
          <p:cNvSpPr/>
          <p:nvPr/>
        </p:nvSpPr>
        <p:spPr>
          <a:xfrm flipV="1">
            <a:off x="2836800" y="1192320"/>
            <a:ext cx="115920" cy="17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57"/>
          <p:cNvSpPr/>
          <p:nvPr/>
        </p:nvSpPr>
        <p:spPr>
          <a:xfrm>
            <a:off x="2957400" y="1182600"/>
            <a:ext cx="57240" cy="21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58"/>
          <p:cNvSpPr/>
          <p:nvPr/>
        </p:nvSpPr>
        <p:spPr>
          <a:xfrm flipV="1">
            <a:off x="2835360" y="1320480"/>
            <a:ext cx="31248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59"/>
          <p:cNvSpPr/>
          <p:nvPr/>
        </p:nvSpPr>
        <p:spPr>
          <a:xfrm>
            <a:off x="3125880" y="1320840"/>
            <a:ext cx="127080" cy="18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60"/>
          <p:cNvSpPr/>
          <p:nvPr/>
        </p:nvSpPr>
        <p:spPr>
          <a:xfrm>
            <a:off x="2800440" y="1397160"/>
            <a:ext cx="115920" cy="6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Line 61"/>
          <p:cNvSpPr/>
          <p:nvPr/>
        </p:nvSpPr>
        <p:spPr>
          <a:xfrm>
            <a:off x="2903400" y="1450800"/>
            <a:ext cx="69840" cy="25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7" name="Group 62"/>
          <p:cNvGrpSpPr/>
          <p:nvPr/>
        </p:nvGrpSpPr>
        <p:grpSpPr>
          <a:xfrm>
            <a:off x="2462400" y="1179360"/>
            <a:ext cx="177480" cy="217800"/>
            <a:chOff x="2462400" y="1179360"/>
            <a:chExt cx="177480" cy="217800"/>
          </a:xfrm>
        </p:grpSpPr>
        <p:sp>
          <p:nvSpPr>
            <p:cNvPr id="308" name="Line 63"/>
            <p:cNvSpPr/>
            <p:nvPr/>
          </p:nvSpPr>
          <p:spPr>
            <a:xfrm flipH="1" flipV="1">
              <a:off x="2524680" y="1188000"/>
              <a:ext cx="115200" cy="17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Line 64"/>
            <p:cNvSpPr/>
            <p:nvPr/>
          </p:nvSpPr>
          <p:spPr>
            <a:xfrm flipH="1">
              <a:off x="2462400" y="1179360"/>
              <a:ext cx="5760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0" name="Line 65"/>
          <p:cNvSpPr/>
          <p:nvPr/>
        </p:nvSpPr>
        <p:spPr>
          <a:xfrm flipH="1" flipV="1">
            <a:off x="2328480" y="1317240"/>
            <a:ext cx="31284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66"/>
          <p:cNvSpPr/>
          <p:nvPr/>
        </p:nvSpPr>
        <p:spPr>
          <a:xfrm flipH="1">
            <a:off x="2223720" y="1317600"/>
            <a:ext cx="127080" cy="18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Line 67"/>
          <p:cNvSpPr/>
          <p:nvPr/>
        </p:nvSpPr>
        <p:spPr>
          <a:xfrm flipH="1">
            <a:off x="2560680" y="1393920"/>
            <a:ext cx="1159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68"/>
          <p:cNvSpPr/>
          <p:nvPr/>
        </p:nvSpPr>
        <p:spPr>
          <a:xfrm flipH="1">
            <a:off x="2503440" y="1447920"/>
            <a:ext cx="69840" cy="25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Freeform 69"/>
          <p:cNvSpPr/>
          <p:nvPr/>
        </p:nvSpPr>
        <p:spPr>
          <a:xfrm>
            <a:off x="2571840" y="64152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209" h="230">
                <a:moveTo>
                  <a:pt x="65" y="209"/>
                </a:moveTo>
                <a:cubicBezTo>
                  <a:pt x="117" y="222"/>
                  <a:pt x="131" y="230"/>
                  <a:pt x="201" y="201"/>
                </a:cubicBezTo>
                <a:cubicBezTo>
                  <a:pt x="209" y="198"/>
                  <a:pt x="200" y="182"/>
                  <a:pt x="193" y="177"/>
                </a:cubicBezTo>
                <a:cubicBezTo>
                  <a:pt x="179" y="167"/>
                  <a:pt x="145" y="161"/>
                  <a:pt x="145" y="161"/>
                </a:cubicBezTo>
                <a:cubicBezTo>
                  <a:pt x="116" y="164"/>
                  <a:pt x="82" y="154"/>
                  <a:pt x="57" y="169"/>
                </a:cubicBezTo>
                <a:cubicBezTo>
                  <a:pt x="9" y="198"/>
                  <a:pt x="88" y="217"/>
                  <a:pt x="89" y="217"/>
                </a:cubicBezTo>
                <a:cubicBezTo>
                  <a:pt x="110" y="215"/>
                  <a:pt x="179" y="229"/>
                  <a:pt x="185" y="185"/>
                </a:cubicBezTo>
                <a:cubicBezTo>
                  <a:pt x="187" y="174"/>
                  <a:pt x="185" y="160"/>
                  <a:pt x="177" y="153"/>
                </a:cubicBezTo>
                <a:cubicBezTo>
                  <a:pt x="164" y="142"/>
                  <a:pt x="129" y="137"/>
                  <a:pt x="129" y="137"/>
                </a:cubicBezTo>
                <a:cubicBezTo>
                  <a:pt x="102" y="140"/>
                  <a:pt x="74" y="136"/>
                  <a:pt x="49" y="145"/>
                </a:cubicBezTo>
                <a:cubicBezTo>
                  <a:pt x="35" y="150"/>
                  <a:pt x="41" y="188"/>
                  <a:pt x="49" y="193"/>
                </a:cubicBezTo>
                <a:cubicBezTo>
                  <a:pt x="60" y="201"/>
                  <a:pt x="76" y="198"/>
                  <a:pt x="89" y="201"/>
                </a:cubicBezTo>
                <a:cubicBezTo>
                  <a:pt x="138" y="196"/>
                  <a:pt x="177" y="208"/>
                  <a:pt x="193" y="161"/>
                </a:cubicBezTo>
                <a:cubicBezTo>
                  <a:pt x="190" y="153"/>
                  <a:pt x="192" y="142"/>
                  <a:pt x="185" y="137"/>
                </a:cubicBezTo>
                <a:cubicBezTo>
                  <a:pt x="171" y="127"/>
                  <a:pt x="137" y="121"/>
                  <a:pt x="137" y="121"/>
                </a:cubicBezTo>
                <a:cubicBezTo>
                  <a:pt x="110" y="124"/>
                  <a:pt x="81" y="118"/>
                  <a:pt x="57" y="129"/>
                </a:cubicBezTo>
                <a:cubicBezTo>
                  <a:pt x="49" y="132"/>
                  <a:pt x="61" y="145"/>
                  <a:pt x="65" y="153"/>
                </a:cubicBezTo>
                <a:cubicBezTo>
                  <a:pt x="79" y="182"/>
                  <a:pt x="77" y="176"/>
                  <a:pt x="105" y="185"/>
                </a:cubicBezTo>
                <a:cubicBezTo>
                  <a:pt x="122" y="183"/>
                  <a:pt x="196" y="197"/>
                  <a:pt x="201" y="153"/>
                </a:cubicBezTo>
                <a:cubicBezTo>
                  <a:pt x="203" y="137"/>
                  <a:pt x="204" y="117"/>
                  <a:pt x="193" y="105"/>
                </a:cubicBezTo>
                <a:cubicBezTo>
                  <a:pt x="182" y="92"/>
                  <a:pt x="145" y="89"/>
                  <a:pt x="145" y="89"/>
                </a:cubicBezTo>
                <a:cubicBezTo>
                  <a:pt x="110" y="92"/>
                  <a:pt x="71" y="79"/>
                  <a:pt x="41" y="97"/>
                </a:cubicBezTo>
                <a:cubicBezTo>
                  <a:pt x="0" y="121"/>
                  <a:pt x="65" y="156"/>
                  <a:pt x="73" y="161"/>
                </a:cubicBezTo>
                <a:cubicBezTo>
                  <a:pt x="165" y="153"/>
                  <a:pt x="174" y="172"/>
                  <a:pt x="193" y="97"/>
                </a:cubicBezTo>
                <a:cubicBezTo>
                  <a:pt x="155" y="41"/>
                  <a:pt x="142" y="58"/>
                  <a:pt x="65" y="65"/>
                </a:cubicBezTo>
                <a:cubicBezTo>
                  <a:pt x="49" y="114"/>
                  <a:pt x="69" y="122"/>
                  <a:pt x="113" y="137"/>
                </a:cubicBezTo>
                <a:cubicBezTo>
                  <a:pt x="172" y="129"/>
                  <a:pt x="176" y="132"/>
                  <a:pt x="193" y="81"/>
                </a:cubicBezTo>
                <a:cubicBezTo>
                  <a:pt x="173" y="0"/>
                  <a:pt x="139" y="41"/>
                  <a:pt x="57" y="4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70"/>
          <p:cNvSpPr/>
          <p:nvPr/>
        </p:nvSpPr>
        <p:spPr>
          <a:xfrm>
            <a:off x="2662200" y="844560"/>
            <a:ext cx="158760" cy="572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56"/>
          <p:cNvSpPr/>
          <p:nvPr/>
        </p:nvSpPr>
        <p:spPr>
          <a:xfrm flipH="1">
            <a:off x="4761720" y="762120"/>
            <a:ext cx="4127400" cy="2819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55"/>
          <p:cNvSpPr/>
          <p:nvPr/>
        </p:nvSpPr>
        <p:spPr>
          <a:xfrm>
            <a:off x="228600" y="749160"/>
            <a:ext cx="4127400" cy="2819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AutoShape 53"/>
          <p:cNvSpPr/>
          <p:nvPr/>
        </p:nvSpPr>
        <p:spPr>
          <a:xfrm rot="19028400">
            <a:off x="5905440" y="1937880"/>
            <a:ext cx="1716120" cy="1793880"/>
          </a:xfrm>
          <a:custGeom>
            <a:avLst/>
            <a:gdLst>
              <a:gd name="textAreaLeft" fmla="*/ 251280 w 1716120"/>
              <a:gd name="textAreaRight" fmla="*/ 1464840 w 1716120"/>
              <a:gd name="textAreaTop" fmla="*/ 262440 h 1793880"/>
              <a:gd name="textAreaBottom" fmla="*/ 1531440 h 1793880"/>
            </a:gdLst>
            <a:ahLst/>
            <a:rect l="textAreaLeft" t="textAreaTop" r="textAreaRight" b="textAreaBottom"/>
            <a:pathLst>
              <a:path w="21600" h="21600">
                <a:moveTo>
                  <a:pt x="20121" y="12866"/>
                </a:moveTo>
                <a:cubicBezTo>
                  <a:pt x="20272" y="12188"/>
                  <a:pt x="20348" y="11495"/>
                  <a:pt x="20348" y="10800"/>
                </a:cubicBezTo>
                <a:cubicBezTo>
                  <a:pt x="20348" y="5526"/>
                  <a:pt x="16073" y="1252"/>
                  <a:pt x="10800" y="1252"/>
                </a:cubicBezTo>
                <a:cubicBezTo>
                  <a:pt x="8957" y="1251"/>
                  <a:pt x="7154" y="1785"/>
                  <a:pt x="5608" y="2786"/>
                </a:cubicBezTo>
                <a:lnTo>
                  <a:pt x="4927" y="1735"/>
                </a:lnTo>
                <a:cubicBezTo>
                  <a:pt x="6676" y="602"/>
                  <a:pt x="871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586"/>
                  <a:pt x="21514" y="12370"/>
                  <a:pt x="21343" y="13137"/>
                </a:cubicBezTo>
                <a:lnTo>
                  <a:pt x="23979" y="13722"/>
                </a:lnTo>
                <a:lnTo>
                  <a:pt x="20012" y="16249"/>
                </a:lnTo>
                <a:lnTo>
                  <a:pt x="17485" y="12282"/>
                </a:lnTo>
                <a:lnTo>
                  <a:pt x="20121" y="12866"/>
                </a:ln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7639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9" name="Group 2"/>
          <p:cNvGrpSpPr/>
          <p:nvPr/>
        </p:nvGrpSpPr>
        <p:grpSpPr>
          <a:xfrm>
            <a:off x="2093760" y="2098800"/>
            <a:ext cx="1521000" cy="703080"/>
            <a:chOff x="2093760" y="2098800"/>
            <a:chExt cx="1521000" cy="703080"/>
          </a:xfrm>
        </p:grpSpPr>
        <p:grpSp>
          <p:nvGrpSpPr>
            <p:cNvPr id="320" name="Group 3"/>
            <p:cNvGrpSpPr/>
            <p:nvPr/>
          </p:nvGrpSpPr>
          <p:grpSpPr>
            <a:xfrm>
              <a:off x="2093760" y="2098800"/>
              <a:ext cx="1521000" cy="703080"/>
              <a:chOff x="2093760" y="2098800"/>
              <a:chExt cx="1521000" cy="703080"/>
            </a:xfrm>
          </p:grpSpPr>
          <p:sp>
            <p:nvSpPr>
              <p:cNvPr id="321" name="AutoShape 4"/>
              <p:cNvSpPr/>
              <p:nvPr/>
            </p:nvSpPr>
            <p:spPr>
              <a:xfrm>
                <a:off x="2093760" y="2098800"/>
                <a:ext cx="1521000" cy="70308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AutoShape 5"/>
              <p:cNvSpPr/>
              <p:nvPr/>
            </p:nvSpPr>
            <p:spPr>
              <a:xfrm>
                <a:off x="2170800" y="2151000"/>
                <a:ext cx="1355040" cy="59760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AutoShape 6"/>
              <p:cNvSpPr/>
              <p:nvPr/>
            </p:nvSpPr>
            <p:spPr>
              <a:xfrm>
                <a:off x="2199600" y="2171520"/>
                <a:ext cx="1305720" cy="55224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4" name="Oval 7"/>
            <p:cNvSpPr/>
            <p:nvPr/>
          </p:nvSpPr>
          <p:spPr>
            <a:xfrm>
              <a:off x="2427120" y="2414520"/>
              <a:ext cx="887400" cy="20916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5" name="Group 8"/>
          <p:cNvGrpSpPr/>
          <p:nvPr/>
        </p:nvGrpSpPr>
        <p:grpSpPr>
          <a:xfrm>
            <a:off x="711360" y="1930320"/>
            <a:ext cx="455400" cy="1193760"/>
            <a:chOff x="711360" y="1930320"/>
            <a:chExt cx="455400" cy="1193760"/>
          </a:xfrm>
        </p:grpSpPr>
        <p:pic>
          <p:nvPicPr>
            <p:cNvPr id="326" name="Picture 9" descr="DNA"/>
            <p:cNvPicPr/>
            <p:nvPr/>
          </p:nvPicPr>
          <p:blipFill>
            <a:blip r:embed="rId3"/>
            <a:stretch/>
          </p:blipFill>
          <p:spPr>
            <a:xfrm>
              <a:off x="711360" y="1930320"/>
              <a:ext cx="44028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10"/>
            <p:cNvSpPr/>
            <p:nvPr/>
          </p:nvSpPr>
          <p:spPr>
            <a:xfrm>
              <a:off x="1102680" y="1930320"/>
              <a:ext cx="64080" cy="117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8" name="Group 11"/>
          <p:cNvGrpSpPr/>
          <p:nvPr/>
        </p:nvGrpSpPr>
        <p:grpSpPr>
          <a:xfrm>
            <a:off x="5067360" y="2712960"/>
            <a:ext cx="1520640" cy="703440"/>
            <a:chOff x="5067360" y="2712960"/>
            <a:chExt cx="1520640" cy="703440"/>
          </a:xfrm>
        </p:grpSpPr>
        <p:grpSp>
          <p:nvGrpSpPr>
            <p:cNvPr id="329" name="Group 12"/>
            <p:cNvGrpSpPr/>
            <p:nvPr/>
          </p:nvGrpSpPr>
          <p:grpSpPr>
            <a:xfrm>
              <a:off x="5067360" y="2712960"/>
              <a:ext cx="1520640" cy="703440"/>
              <a:chOff x="5067360" y="2712960"/>
              <a:chExt cx="1520640" cy="703440"/>
            </a:xfrm>
          </p:grpSpPr>
          <p:sp>
            <p:nvSpPr>
              <p:cNvPr id="330" name="AutoShape 13"/>
              <p:cNvSpPr/>
              <p:nvPr/>
            </p:nvSpPr>
            <p:spPr>
              <a:xfrm>
                <a:off x="5067360" y="2712960"/>
                <a:ext cx="1520640" cy="7034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" name="AutoShape 14"/>
              <p:cNvSpPr/>
              <p:nvPr/>
            </p:nvSpPr>
            <p:spPr>
              <a:xfrm>
                <a:off x="5144400" y="2765160"/>
                <a:ext cx="1354680" cy="59796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AutoShape 15"/>
              <p:cNvSpPr/>
              <p:nvPr/>
            </p:nvSpPr>
            <p:spPr>
              <a:xfrm>
                <a:off x="5173200" y="2785680"/>
                <a:ext cx="1305360" cy="55260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33" name="Oval 16"/>
            <p:cNvSpPr/>
            <p:nvPr/>
          </p:nvSpPr>
          <p:spPr>
            <a:xfrm>
              <a:off x="5400360" y="3029040"/>
              <a:ext cx="887040" cy="2095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4" name="Group 17"/>
          <p:cNvGrpSpPr/>
          <p:nvPr/>
        </p:nvGrpSpPr>
        <p:grpSpPr>
          <a:xfrm>
            <a:off x="7048440" y="2725560"/>
            <a:ext cx="1521000" cy="703440"/>
            <a:chOff x="7048440" y="2725560"/>
            <a:chExt cx="1521000" cy="703440"/>
          </a:xfrm>
        </p:grpSpPr>
        <p:grpSp>
          <p:nvGrpSpPr>
            <p:cNvPr id="335" name="Group 18"/>
            <p:cNvGrpSpPr/>
            <p:nvPr/>
          </p:nvGrpSpPr>
          <p:grpSpPr>
            <a:xfrm>
              <a:off x="7048440" y="2725560"/>
              <a:ext cx="1521000" cy="703440"/>
              <a:chOff x="7048440" y="2725560"/>
              <a:chExt cx="1521000" cy="703440"/>
            </a:xfrm>
          </p:grpSpPr>
          <p:sp>
            <p:nvSpPr>
              <p:cNvPr id="336" name="AutoShape 19"/>
              <p:cNvSpPr/>
              <p:nvPr/>
            </p:nvSpPr>
            <p:spPr>
              <a:xfrm>
                <a:off x="7048440" y="2725560"/>
                <a:ext cx="1521000" cy="7034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" name="AutoShape 20"/>
              <p:cNvSpPr/>
              <p:nvPr/>
            </p:nvSpPr>
            <p:spPr>
              <a:xfrm>
                <a:off x="7125480" y="2777760"/>
                <a:ext cx="1355040" cy="59796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AutoShape 21"/>
              <p:cNvSpPr/>
              <p:nvPr/>
            </p:nvSpPr>
            <p:spPr>
              <a:xfrm>
                <a:off x="7154280" y="2798280"/>
                <a:ext cx="1305720" cy="55260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39" name="Oval 22"/>
            <p:cNvSpPr/>
            <p:nvPr/>
          </p:nvSpPr>
          <p:spPr>
            <a:xfrm>
              <a:off x="7381800" y="3041640"/>
              <a:ext cx="887400" cy="2095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0" name="Rectangle 23"/>
          <p:cNvSpPr/>
          <p:nvPr/>
        </p:nvSpPr>
        <p:spPr>
          <a:xfrm>
            <a:off x="5689440" y="2976480"/>
            <a:ext cx="27972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1" name="Picture 50" descr="batteri in coniugazione"/>
          <p:cNvPicPr/>
          <p:nvPr/>
        </p:nvPicPr>
        <p:blipFill>
          <a:blip r:embed="rId4"/>
          <a:stretch/>
        </p:blipFill>
        <p:spPr>
          <a:xfrm>
            <a:off x="2617920" y="4363920"/>
            <a:ext cx="3906720" cy="2328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42" name="AutoShape 52"/>
          <p:cNvSpPr/>
          <p:nvPr/>
        </p:nvSpPr>
        <p:spPr>
          <a:xfrm rot="19283400">
            <a:off x="977400" y="1184400"/>
            <a:ext cx="1716120" cy="1793880"/>
          </a:xfrm>
          <a:custGeom>
            <a:avLst/>
            <a:gdLst>
              <a:gd name="textAreaLeft" fmla="*/ 251280 w 1716120"/>
              <a:gd name="textAreaRight" fmla="*/ 1464840 w 1716120"/>
              <a:gd name="textAreaTop" fmla="*/ 262440 h 1793880"/>
              <a:gd name="textAreaBottom" fmla="*/ 1531440 h 1793880"/>
            </a:gdLst>
            <a:ahLst/>
            <a:rect l="textAreaLeft" t="textAreaTop" r="textAreaRight" b="textAreaBottom"/>
            <a:pathLst>
              <a:path w="21600" h="21600">
                <a:moveTo>
                  <a:pt x="20121" y="12866"/>
                </a:moveTo>
                <a:cubicBezTo>
                  <a:pt x="20272" y="12188"/>
                  <a:pt x="20348" y="11495"/>
                  <a:pt x="20348" y="10800"/>
                </a:cubicBezTo>
                <a:cubicBezTo>
                  <a:pt x="20348" y="5526"/>
                  <a:pt x="16073" y="1252"/>
                  <a:pt x="10800" y="1252"/>
                </a:cubicBezTo>
                <a:cubicBezTo>
                  <a:pt x="8957" y="1251"/>
                  <a:pt x="7154" y="1785"/>
                  <a:pt x="5608" y="2786"/>
                </a:cubicBezTo>
                <a:lnTo>
                  <a:pt x="4927" y="1735"/>
                </a:lnTo>
                <a:cubicBezTo>
                  <a:pt x="6676" y="602"/>
                  <a:pt x="871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586"/>
                  <a:pt x="21514" y="12370"/>
                  <a:pt x="21343" y="13137"/>
                </a:cubicBezTo>
                <a:lnTo>
                  <a:pt x="23979" y="13722"/>
                </a:lnTo>
                <a:lnTo>
                  <a:pt x="20012" y="16249"/>
                </a:lnTo>
                <a:lnTo>
                  <a:pt x="17485" y="12282"/>
                </a:lnTo>
                <a:lnTo>
                  <a:pt x="20121" y="12866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3" name="Group 48"/>
          <p:cNvGrpSpPr/>
          <p:nvPr/>
        </p:nvGrpSpPr>
        <p:grpSpPr>
          <a:xfrm>
            <a:off x="6173280" y="860040"/>
            <a:ext cx="1029240" cy="1108440"/>
            <a:chOff x="6173280" y="860040"/>
            <a:chExt cx="1029240" cy="1108440"/>
          </a:xfrm>
        </p:grpSpPr>
        <p:sp>
          <p:nvSpPr>
            <p:cNvPr id="344" name="Oval 24"/>
            <p:cNvSpPr/>
            <p:nvPr/>
          </p:nvSpPr>
          <p:spPr>
            <a:xfrm>
              <a:off x="6595920" y="1603440"/>
              <a:ext cx="185760" cy="6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Rectangle 25"/>
            <p:cNvSpPr/>
            <p:nvPr/>
          </p:nvSpPr>
          <p:spPr>
            <a:xfrm>
              <a:off x="6632640" y="1270080"/>
              <a:ext cx="115920" cy="360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Oval 26"/>
            <p:cNvSpPr/>
            <p:nvPr/>
          </p:nvSpPr>
          <p:spPr>
            <a:xfrm>
              <a:off x="6618240" y="1252800"/>
              <a:ext cx="152280" cy="6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AutoShape 27"/>
            <p:cNvSpPr/>
            <p:nvPr/>
          </p:nvSpPr>
          <p:spPr>
            <a:xfrm rot="16200000">
              <a:off x="6476040" y="875160"/>
              <a:ext cx="436680" cy="406440"/>
            </a:xfrm>
            <a:prstGeom prst="hexagon">
              <a:avLst>
                <a:gd name="adj" fmla="val 26860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Line 29"/>
            <p:cNvSpPr/>
            <p:nvPr/>
          </p:nvSpPr>
          <p:spPr>
            <a:xfrm flipV="1">
              <a:off x="6786360" y="1458720"/>
              <a:ext cx="115920" cy="17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Line 30"/>
            <p:cNvSpPr/>
            <p:nvPr/>
          </p:nvSpPr>
          <p:spPr>
            <a:xfrm>
              <a:off x="6907320" y="1449360"/>
              <a:ext cx="5688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Line 31"/>
            <p:cNvSpPr/>
            <p:nvPr/>
          </p:nvSpPr>
          <p:spPr>
            <a:xfrm flipV="1">
              <a:off x="6784920" y="1587240"/>
              <a:ext cx="3128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Line 32"/>
            <p:cNvSpPr/>
            <p:nvPr/>
          </p:nvSpPr>
          <p:spPr>
            <a:xfrm>
              <a:off x="7075440" y="1587600"/>
              <a:ext cx="12708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Line 33"/>
            <p:cNvSpPr/>
            <p:nvPr/>
          </p:nvSpPr>
          <p:spPr>
            <a:xfrm>
              <a:off x="6750000" y="1663920"/>
              <a:ext cx="1159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Line 34"/>
            <p:cNvSpPr/>
            <p:nvPr/>
          </p:nvSpPr>
          <p:spPr>
            <a:xfrm>
              <a:off x="6853320" y="1717920"/>
              <a:ext cx="69840" cy="250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4" name="Group 36"/>
            <p:cNvGrpSpPr/>
            <p:nvPr/>
          </p:nvGrpSpPr>
          <p:grpSpPr>
            <a:xfrm>
              <a:off x="6412320" y="1446480"/>
              <a:ext cx="177480" cy="217440"/>
              <a:chOff x="6412320" y="1446480"/>
              <a:chExt cx="177480" cy="217440"/>
            </a:xfrm>
          </p:grpSpPr>
          <p:sp>
            <p:nvSpPr>
              <p:cNvPr id="355" name="Line 37"/>
              <p:cNvSpPr/>
              <p:nvPr/>
            </p:nvSpPr>
            <p:spPr>
              <a:xfrm flipH="1" flipV="1">
                <a:off x="6474600" y="1455480"/>
                <a:ext cx="115200" cy="17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" name="Line 38"/>
              <p:cNvSpPr/>
              <p:nvPr/>
            </p:nvSpPr>
            <p:spPr>
              <a:xfrm flipH="1">
                <a:off x="6412320" y="1446480"/>
                <a:ext cx="57600" cy="21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7" name="Line 39"/>
            <p:cNvSpPr/>
            <p:nvPr/>
          </p:nvSpPr>
          <p:spPr>
            <a:xfrm flipH="1" flipV="1">
              <a:off x="6278040" y="1584000"/>
              <a:ext cx="3128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Line 40"/>
            <p:cNvSpPr/>
            <p:nvPr/>
          </p:nvSpPr>
          <p:spPr>
            <a:xfrm flipH="1">
              <a:off x="6173280" y="1584360"/>
              <a:ext cx="12708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Line 41"/>
            <p:cNvSpPr/>
            <p:nvPr/>
          </p:nvSpPr>
          <p:spPr>
            <a:xfrm flipH="1">
              <a:off x="6510240" y="1660680"/>
              <a:ext cx="1159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Line 42"/>
            <p:cNvSpPr/>
            <p:nvPr/>
          </p:nvSpPr>
          <p:spPr>
            <a:xfrm flipH="1">
              <a:off x="6453000" y="1714680"/>
              <a:ext cx="69840" cy="25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Freeform 45"/>
            <p:cNvSpPr/>
            <p:nvPr/>
          </p:nvSpPr>
          <p:spPr>
            <a:xfrm>
              <a:off x="6521400" y="908280"/>
              <a:ext cx="295200" cy="3063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209" h="230">
                  <a:moveTo>
                    <a:pt x="65" y="209"/>
                  </a:moveTo>
                  <a:cubicBezTo>
                    <a:pt x="117" y="222"/>
                    <a:pt x="131" y="230"/>
                    <a:pt x="201" y="201"/>
                  </a:cubicBezTo>
                  <a:cubicBezTo>
                    <a:pt x="209" y="198"/>
                    <a:pt x="200" y="182"/>
                    <a:pt x="193" y="177"/>
                  </a:cubicBezTo>
                  <a:cubicBezTo>
                    <a:pt x="179" y="167"/>
                    <a:pt x="145" y="161"/>
                    <a:pt x="145" y="161"/>
                  </a:cubicBezTo>
                  <a:cubicBezTo>
                    <a:pt x="116" y="164"/>
                    <a:pt x="82" y="154"/>
                    <a:pt x="57" y="169"/>
                  </a:cubicBezTo>
                  <a:cubicBezTo>
                    <a:pt x="9" y="198"/>
                    <a:pt x="88" y="217"/>
                    <a:pt x="89" y="217"/>
                  </a:cubicBezTo>
                  <a:cubicBezTo>
                    <a:pt x="110" y="215"/>
                    <a:pt x="179" y="229"/>
                    <a:pt x="185" y="185"/>
                  </a:cubicBezTo>
                  <a:cubicBezTo>
                    <a:pt x="187" y="174"/>
                    <a:pt x="185" y="160"/>
                    <a:pt x="177" y="153"/>
                  </a:cubicBezTo>
                  <a:cubicBezTo>
                    <a:pt x="164" y="142"/>
                    <a:pt x="129" y="137"/>
                    <a:pt x="129" y="137"/>
                  </a:cubicBezTo>
                  <a:cubicBezTo>
                    <a:pt x="102" y="140"/>
                    <a:pt x="74" y="136"/>
                    <a:pt x="49" y="145"/>
                  </a:cubicBezTo>
                  <a:cubicBezTo>
                    <a:pt x="35" y="150"/>
                    <a:pt x="41" y="188"/>
                    <a:pt x="49" y="193"/>
                  </a:cubicBezTo>
                  <a:cubicBezTo>
                    <a:pt x="60" y="201"/>
                    <a:pt x="76" y="198"/>
                    <a:pt x="89" y="201"/>
                  </a:cubicBezTo>
                  <a:cubicBezTo>
                    <a:pt x="138" y="196"/>
                    <a:pt x="177" y="208"/>
                    <a:pt x="193" y="161"/>
                  </a:cubicBezTo>
                  <a:cubicBezTo>
                    <a:pt x="190" y="153"/>
                    <a:pt x="192" y="142"/>
                    <a:pt x="185" y="137"/>
                  </a:cubicBezTo>
                  <a:cubicBezTo>
                    <a:pt x="171" y="127"/>
                    <a:pt x="137" y="121"/>
                    <a:pt x="137" y="121"/>
                  </a:cubicBezTo>
                  <a:cubicBezTo>
                    <a:pt x="110" y="124"/>
                    <a:pt x="81" y="118"/>
                    <a:pt x="57" y="129"/>
                  </a:cubicBezTo>
                  <a:cubicBezTo>
                    <a:pt x="49" y="132"/>
                    <a:pt x="61" y="145"/>
                    <a:pt x="65" y="153"/>
                  </a:cubicBezTo>
                  <a:cubicBezTo>
                    <a:pt x="79" y="182"/>
                    <a:pt x="77" y="176"/>
                    <a:pt x="105" y="185"/>
                  </a:cubicBezTo>
                  <a:cubicBezTo>
                    <a:pt x="122" y="183"/>
                    <a:pt x="196" y="197"/>
                    <a:pt x="201" y="153"/>
                  </a:cubicBezTo>
                  <a:cubicBezTo>
                    <a:pt x="203" y="137"/>
                    <a:pt x="204" y="117"/>
                    <a:pt x="193" y="105"/>
                  </a:cubicBezTo>
                  <a:cubicBezTo>
                    <a:pt x="182" y="92"/>
                    <a:pt x="145" y="89"/>
                    <a:pt x="145" y="89"/>
                  </a:cubicBezTo>
                  <a:cubicBezTo>
                    <a:pt x="110" y="92"/>
                    <a:pt x="71" y="79"/>
                    <a:pt x="41" y="97"/>
                  </a:cubicBezTo>
                  <a:cubicBezTo>
                    <a:pt x="0" y="121"/>
                    <a:pt x="65" y="156"/>
                    <a:pt x="73" y="161"/>
                  </a:cubicBezTo>
                  <a:cubicBezTo>
                    <a:pt x="165" y="153"/>
                    <a:pt x="174" y="172"/>
                    <a:pt x="193" y="97"/>
                  </a:cubicBezTo>
                  <a:cubicBezTo>
                    <a:pt x="155" y="41"/>
                    <a:pt x="142" y="58"/>
                    <a:pt x="65" y="65"/>
                  </a:cubicBezTo>
                  <a:cubicBezTo>
                    <a:pt x="49" y="114"/>
                    <a:pt x="69" y="122"/>
                    <a:pt x="113" y="137"/>
                  </a:cubicBezTo>
                  <a:cubicBezTo>
                    <a:pt x="172" y="129"/>
                    <a:pt x="176" y="132"/>
                    <a:pt x="193" y="81"/>
                  </a:cubicBezTo>
                  <a:cubicBezTo>
                    <a:pt x="173" y="0"/>
                    <a:pt x="139" y="41"/>
                    <a:pt x="57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Rectangle 46"/>
            <p:cNvSpPr/>
            <p:nvPr/>
          </p:nvSpPr>
          <p:spPr>
            <a:xfrm>
              <a:off x="6611760" y="1111320"/>
              <a:ext cx="158760" cy="57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3" name="Text Box 57"/>
          <p:cNvSpPr/>
          <p:nvPr/>
        </p:nvSpPr>
        <p:spPr>
          <a:xfrm>
            <a:off x="987480" y="17316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rasform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 Box 58"/>
          <p:cNvSpPr/>
          <p:nvPr/>
        </p:nvSpPr>
        <p:spPr>
          <a:xfrm>
            <a:off x="5587200" y="16020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rasdu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 Box 59"/>
          <p:cNvSpPr/>
          <p:nvPr/>
        </p:nvSpPr>
        <p:spPr>
          <a:xfrm>
            <a:off x="3484800" y="376704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niug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21"/>
          <p:cNvGrpSpPr/>
          <p:nvPr/>
        </p:nvGrpSpPr>
        <p:grpSpPr>
          <a:xfrm>
            <a:off x="663480" y="201600"/>
            <a:ext cx="7841880" cy="6454440"/>
            <a:chOff x="663480" y="201600"/>
            <a:chExt cx="7841880" cy="6454440"/>
          </a:xfrm>
        </p:grpSpPr>
        <p:pic>
          <p:nvPicPr>
            <p:cNvPr id="367" name="Picture 11" descr=""/>
            <p:cNvPicPr/>
            <p:nvPr/>
          </p:nvPicPr>
          <p:blipFill>
            <a:blip r:embed="rId1"/>
            <a:stretch/>
          </p:blipFill>
          <p:spPr>
            <a:xfrm>
              <a:off x="663480" y="201600"/>
              <a:ext cx="7841880" cy="64544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368" name="Rectangle 13"/>
            <p:cNvSpPr/>
            <p:nvPr/>
          </p:nvSpPr>
          <p:spPr>
            <a:xfrm>
              <a:off x="1201680" y="386280"/>
              <a:ext cx="6785280" cy="312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Rectangle 14"/>
            <p:cNvSpPr/>
            <p:nvPr/>
          </p:nvSpPr>
          <p:spPr>
            <a:xfrm>
              <a:off x="3248280" y="3481920"/>
              <a:ext cx="4685040" cy="71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Line 15"/>
            <p:cNvSpPr/>
            <p:nvPr/>
          </p:nvSpPr>
          <p:spPr>
            <a:xfrm flipV="1">
              <a:off x="3126960" y="4029480"/>
              <a:ext cx="1951920" cy="1150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Line 16"/>
            <p:cNvSpPr/>
            <p:nvPr/>
          </p:nvSpPr>
          <p:spPr>
            <a:xfrm flipV="1">
              <a:off x="2857680" y="3234960"/>
              <a:ext cx="161280" cy="1972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Line 17"/>
            <p:cNvSpPr/>
            <p:nvPr/>
          </p:nvSpPr>
          <p:spPr>
            <a:xfrm>
              <a:off x="2655720" y="4303440"/>
              <a:ext cx="457560" cy="356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Rectangle 18"/>
            <p:cNvSpPr/>
            <p:nvPr/>
          </p:nvSpPr>
          <p:spPr>
            <a:xfrm>
              <a:off x="1928880" y="6248880"/>
              <a:ext cx="538200" cy="32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6721920" y="6166440"/>
              <a:ext cx="511200" cy="46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5" name="Text Box 22"/>
          <p:cNvSpPr/>
          <p:nvPr/>
        </p:nvSpPr>
        <p:spPr>
          <a:xfrm>
            <a:off x="765000" y="1430280"/>
            <a:ext cx="7626960" cy="13136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cesso in cui il DNA presente all’esterno del batterio vie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rnalizzato nella cellula ospite, integrato nel cromoso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ella corrispondente regione omologa e stabilmente eredita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 le divisioni cellular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3465720" y="31284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Trasform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Rectangle 24"/>
          <p:cNvSpPr/>
          <p:nvPr/>
        </p:nvSpPr>
        <p:spPr>
          <a:xfrm>
            <a:off x="2819520" y="3429000"/>
            <a:ext cx="24256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C:\WINDOWS\Desktop\trasformazione1.jpg"/>
          <p:cNvPicPr/>
          <p:nvPr/>
        </p:nvPicPr>
        <p:blipFill>
          <a:blip r:embed="rId1"/>
          <a:stretch/>
        </p:blipFill>
        <p:spPr>
          <a:xfrm>
            <a:off x="1251000" y="990720"/>
            <a:ext cx="6445080" cy="578628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"/>
          <p:cNvSpPr/>
          <p:nvPr/>
        </p:nvSpPr>
        <p:spPr>
          <a:xfrm>
            <a:off x="2139840" y="23328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L’esperimento di Griffith (192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986360" y="1419120"/>
            <a:ext cx="1600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1209600" y="1400040"/>
            <a:ext cx="1600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36920" y="13510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neumococchi da colonie lisc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S= smoot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5000760" y="1374840"/>
            <a:ext cx="37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neumococchi da colonie rugo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R= roug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AutoShape 8"/>
          <p:cNvSpPr/>
          <p:nvPr/>
        </p:nvSpPr>
        <p:spPr>
          <a:xfrm>
            <a:off x="2143080" y="2598840"/>
            <a:ext cx="1514520" cy="471240"/>
          </a:xfrm>
          <a:prstGeom prst="rightArrow">
            <a:avLst>
              <a:gd name="adj1" fmla="val 58972"/>
              <a:gd name="adj2" fmla="val 51616"/>
            </a:avLst>
          </a:prstGeom>
          <a:gradFill rotWithShape="0">
            <a:gsLst>
              <a:gs pos="0">
                <a:srgbClr val="ffcc00"/>
              </a:gs>
              <a:gs pos="100000">
                <a:srgbClr val="0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ellule vive 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5229360" y="2614680"/>
            <a:ext cx="101412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5267160" y="2581200"/>
            <a:ext cx="1128960" cy="471600"/>
          </a:xfrm>
          <a:prstGeom prst="rightArrow">
            <a:avLst>
              <a:gd name="adj1" fmla="val 58972"/>
              <a:gd name="adj2" fmla="val 38446"/>
            </a:avLst>
          </a:prstGeom>
          <a:gradFill rotWithShape="0">
            <a:gsLst>
              <a:gs pos="0">
                <a:srgbClr val="ff99cc"/>
              </a:gs>
              <a:gs pos="100000">
                <a:srgbClr val="0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ellule vive 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520640" y="108000"/>
            <a:ext cx="61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La variabilità genetica nei batte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3600360" y="1233360"/>
            <a:ext cx="1805040" cy="917640"/>
            <a:chOff x="3600360" y="1233360"/>
            <a:chExt cx="1805040" cy="917640"/>
          </a:xfrm>
        </p:grpSpPr>
        <p:sp>
          <p:nvSpPr>
            <p:cNvPr id="62" name="AutoShape 4"/>
            <p:cNvSpPr/>
            <p:nvPr/>
          </p:nvSpPr>
          <p:spPr>
            <a:xfrm>
              <a:off x="3600360" y="1233360"/>
              <a:ext cx="1805040" cy="9176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" name="AutoShape 5"/>
            <p:cNvSpPr/>
            <p:nvPr/>
          </p:nvSpPr>
          <p:spPr>
            <a:xfrm>
              <a:off x="3691800" y="1301400"/>
              <a:ext cx="1608120" cy="7797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" name="AutoShape 6"/>
            <p:cNvSpPr/>
            <p:nvPr/>
          </p:nvSpPr>
          <p:spPr>
            <a:xfrm>
              <a:off x="3726000" y="1328040"/>
              <a:ext cx="1549440" cy="72108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5" name="Oval 7"/>
          <p:cNvSpPr/>
          <p:nvPr/>
        </p:nvSpPr>
        <p:spPr>
          <a:xfrm>
            <a:off x="3995640" y="1646280"/>
            <a:ext cx="1054080" cy="27288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" name="Group 8"/>
          <p:cNvGrpSpPr/>
          <p:nvPr/>
        </p:nvGrpSpPr>
        <p:grpSpPr>
          <a:xfrm>
            <a:off x="5103720" y="2913120"/>
            <a:ext cx="1803600" cy="917640"/>
            <a:chOff x="5103720" y="2913120"/>
            <a:chExt cx="1803600" cy="917640"/>
          </a:xfrm>
        </p:grpSpPr>
        <p:sp>
          <p:nvSpPr>
            <p:cNvPr id="67" name="AutoShape 9"/>
            <p:cNvSpPr/>
            <p:nvPr/>
          </p:nvSpPr>
          <p:spPr>
            <a:xfrm>
              <a:off x="5103720" y="2913120"/>
              <a:ext cx="1803600" cy="9176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" name="AutoShape 10"/>
            <p:cNvSpPr/>
            <p:nvPr/>
          </p:nvSpPr>
          <p:spPr>
            <a:xfrm>
              <a:off x="5195160" y="2981160"/>
              <a:ext cx="1606680" cy="7797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AutoShape 11"/>
            <p:cNvSpPr/>
            <p:nvPr/>
          </p:nvSpPr>
          <p:spPr>
            <a:xfrm>
              <a:off x="5229000" y="3007800"/>
              <a:ext cx="1548360" cy="72108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0" name="Oval 12"/>
          <p:cNvSpPr/>
          <p:nvPr/>
        </p:nvSpPr>
        <p:spPr>
          <a:xfrm>
            <a:off x="5499000" y="3325680"/>
            <a:ext cx="1052640" cy="27324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" name="Group 13"/>
          <p:cNvGrpSpPr/>
          <p:nvPr/>
        </p:nvGrpSpPr>
        <p:grpSpPr>
          <a:xfrm>
            <a:off x="2355840" y="2924280"/>
            <a:ext cx="1803240" cy="917640"/>
            <a:chOff x="2355840" y="2924280"/>
            <a:chExt cx="1803240" cy="917640"/>
          </a:xfrm>
        </p:grpSpPr>
        <p:sp>
          <p:nvSpPr>
            <p:cNvPr id="72" name="AutoShape 14"/>
            <p:cNvSpPr/>
            <p:nvPr/>
          </p:nvSpPr>
          <p:spPr>
            <a:xfrm>
              <a:off x="2355840" y="2924280"/>
              <a:ext cx="1803240" cy="9176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AutoShape 15"/>
            <p:cNvSpPr/>
            <p:nvPr/>
          </p:nvSpPr>
          <p:spPr>
            <a:xfrm>
              <a:off x="2447280" y="2992320"/>
              <a:ext cx="1606320" cy="7797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AutoShape 16"/>
            <p:cNvSpPr/>
            <p:nvPr/>
          </p:nvSpPr>
          <p:spPr>
            <a:xfrm>
              <a:off x="2481120" y="3018960"/>
              <a:ext cx="1548000" cy="72108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5" name="Oval 17"/>
          <p:cNvSpPr/>
          <p:nvPr/>
        </p:nvSpPr>
        <p:spPr>
          <a:xfrm>
            <a:off x="2751120" y="3335400"/>
            <a:ext cx="1054080" cy="27468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18"/>
          <p:cNvSpPr/>
          <p:nvPr/>
        </p:nvSpPr>
        <p:spPr>
          <a:xfrm>
            <a:off x="4686480" y="2365200"/>
            <a:ext cx="44100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19"/>
          <p:cNvSpPr/>
          <p:nvPr/>
        </p:nvSpPr>
        <p:spPr>
          <a:xfrm flipH="1">
            <a:off x="3976560" y="2376360"/>
            <a:ext cx="441360" cy="43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129120" y="3257640"/>
            <a:ext cx="257040" cy="171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" name="Group 21"/>
          <p:cNvGrpSpPr/>
          <p:nvPr/>
        </p:nvGrpSpPr>
        <p:grpSpPr>
          <a:xfrm>
            <a:off x="6499080" y="4637160"/>
            <a:ext cx="1803240" cy="917640"/>
            <a:chOff x="6499080" y="4637160"/>
            <a:chExt cx="1803240" cy="917640"/>
          </a:xfrm>
        </p:grpSpPr>
        <p:sp>
          <p:nvSpPr>
            <p:cNvPr id="80" name="AutoShape 22"/>
            <p:cNvSpPr/>
            <p:nvPr/>
          </p:nvSpPr>
          <p:spPr>
            <a:xfrm>
              <a:off x="6499080" y="4637160"/>
              <a:ext cx="1803240" cy="9176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AutoShape 23"/>
            <p:cNvSpPr/>
            <p:nvPr/>
          </p:nvSpPr>
          <p:spPr>
            <a:xfrm>
              <a:off x="6590880" y="4705560"/>
              <a:ext cx="1606680" cy="77940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AutoShape 24"/>
            <p:cNvSpPr/>
            <p:nvPr/>
          </p:nvSpPr>
          <p:spPr>
            <a:xfrm>
              <a:off x="6624360" y="4732560"/>
              <a:ext cx="1548000" cy="72072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Oval 25"/>
            <p:cNvSpPr/>
            <p:nvPr/>
          </p:nvSpPr>
          <p:spPr>
            <a:xfrm>
              <a:off x="6894360" y="5050080"/>
              <a:ext cx="1052280" cy="2728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4" name="Line 26"/>
          <p:cNvSpPr/>
          <p:nvPr/>
        </p:nvSpPr>
        <p:spPr>
          <a:xfrm>
            <a:off x="6324480" y="4089240"/>
            <a:ext cx="44136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27"/>
          <p:cNvSpPr/>
          <p:nvPr/>
        </p:nvSpPr>
        <p:spPr>
          <a:xfrm flipH="1">
            <a:off x="5614920" y="4100400"/>
            <a:ext cx="441360" cy="43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6" name="Group 28"/>
          <p:cNvGrpSpPr/>
          <p:nvPr/>
        </p:nvGrpSpPr>
        <p:grpSpPr>
          <a:xfrm>
            <a:off x="4351320" y="4646520"/>
            <a:ext cx="1803240" cy="917640"/>
            <a:chOff x="4351320" y="4646520"/>
            <a:chExt cx="1803240" cy="917640"/>
          </a:xfrm>
        </p:grpSpPr>
        <p:sp>
          <p:nvSpPr>
            <p:cNvPr id="87" name="AutoShape 29"/>
            <p:cNvSpPr/>
            <p:nvPr/>
          </p:nvSpPr>
          <p:spPr>
            <a:xfrm>
              <a:off x="4351320" y="4646520"/>
              <a:ext cx="1803240" cy="9176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AutoShape 30"/>
            <p:cNvSpPr/>
            <p:nvPr/>
          </p:nvSpPr>
          <p:spPr>
            <a:xfrm>
              <a:off x="4443120" y="4714920"/>
              <a:ext cx="1606680" cy="77940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AutoShape 31"/>
            <p:cNvSpPr/>
            <p:nvPr/>
          </p:nvSpPr>
          <p:spPr>
            <a:xfrm>
              <a:off x="4476600" y="4741920"/>
              <a:ext cx="1548000" cy="72072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Oval 32"/>
            <p:cNvSpPr/>
            <p:nvPr/>
          </p:nvSpPr>
          <p:spPr>
            <a:xfrm>
              <a:off x="4746600" y="5059440"/>
              <a:ext cx="1052280" cy="2728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" name="Text Box 33"/>
          <p:cNvSpPr/>
          <p:nvPr/>
        </p:nvSpPr>
        <p:spPr>
          <a:xfrm>
            <a:off x="1725120" y="6033960"/>
            <a:ext cx="63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ella maggioranza dei casi le mutazioni sono deleterie…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C:\WINDOWS\Desktop\trasformazione 2.jpg"/>
          <p:cNvPicPr/>
          <p:nvPr/>
        </p:nvPicPr>
        <p:blipFill>
          <a:blip r:embed="rId1"/>
          <a:stretch/>
        </p:blipFill>
        <p:spPr>
          <a:xfrm>
            <a:off x="990720" y="936720"/>
            <a:ext cx="6243480" cy="538776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2924280" y="1400040"/>
            <a:ext cx="1600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9" name="Group 4"/>
          <p:cNvGrpSpPr/>
          <p:nvPr/>
        </p:nvGrpSpPr>
        <p:grpSpPr>
          <a:xfrm>
            <a:off x="6653520" y="1631880"/>
            <a:ext cx="805680" cy="546120"/>
            <a:chOff x="6653520" y="1631880"/>
            <a:chExt cx="805680" cy="546120"/>
          </a:xfrm>
        </p:grpSpPr>
        <p:sp>
          <p:nvSpPr>
            <p:cNvPr id="390" name="Text Box 5"/>
            <p:cNvSpPr/>
            <p:nvPr/>
          </p:nvSpPr>
          <p:spPr>
            <a:xfrm>
              <a:off x="6653520" y="1631880"/>
              <a:ext cx="80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cellul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Rectangle 6"/>
            <p:cNvSpPr/>
            <p:nvPr/>
          </p:nvSpPr>
          <p:spPr>
            <a:xfrm>
              <a:off x="6682680" y="18097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mor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92" name="Group 7"/>
          <p:cNvGrpSpPr/>
          <p:nvPr/>
        </p:nvGrpSpPr>
        <p:grpSpPr>
          <a:xfrm>
            <a:off x="3237120" y="1608120"/>
            <a:ext cx="805680" cy="546120"/>
            <a:chOff x="3237120" y="1608120"/>
            <a:chExt cx="805680" cy="546120"/>
          </a:xfrm>
        </p:grpSpPr>
        <p:sp>
          <p:nvSpPr>
            <p:cNvPr id="393" name="Text Box 8"/>
            <p:cNvSpPr/>
            <p:nvPr/>
          </p:nvSpPr>
          <p:spPr>
            <a:xfrm>
              <a:off x="3237120" y="1608120"/>
              <a:ext cx="80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cellul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3266280" y="17859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mor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95" name="Group 10"/>
          <p:cNvGrpSpPr/>
          <p:nvPr/>
        </p:nvGrpSpPr>
        <p:grpSpPr>
          <a:xfrm>
            <a:off x="5440680" y="1611360"/>
            <a:ext cx="805680" cy="546120"/>
            <a:chOff x="5440680" y="1611360"/>
            <a:chExt cx="805680" cy="546120"/>
          </a:xfrm>
        </p:grpSpPr>
        <p:sp>
          <p:nvSpPr>
            <p:cNvPr id="396" name="Text Box 11"/>
            <p:cNvSpPr/>
            <p:nvPr/>
          </p:nvSpPr>
          <p:spPr>
            <a:xfrm>
              <a:off x="5440680" y="1611360"/>
              <a:ext cx="80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cellul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Rectangle 12"/>
            <p:cNvSpPr/>
            <p:nvPr/>
          </p:nvSpPr>
          <p:spPr>
            <a:xfrm>
              <a:off x="5469480" y="17892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viv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8" name="Text Box 13"/>
          <p:cNvSpPr/>
          <p:nvPr/>
        </p:nvSpPr>
        <p:spPr>
          <a:xfrm>
            <a:off x="2139840" y="23328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L’esperimento di Griffith (192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Rectangle 14"/>
          <p:cNvSpPr/>
          <p:nvPr/>
        </p:nvSpPr>
        <p:spPr>
          <a:xfrm>
            <a:off x="5791320" y="3657600"/>
            <a:ext cx="1606320" cy="27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0" name="Picture 15" descr="Sm"/>
          <p:cNvPicPr/>
          <p:nvPr/>
        </p:nvPicPr>
        <p:blipFill>
          <a:blip r:embed="rId2"/>
          <a:stretch/>
        </p:blipFill>
        <p:spPr>
          <a:xfrm>
            <a:off x="6821640" y="4676760"/>
            <a:ext cx="927000" cy="13460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6"/>
          <p:cNvSpPr/>
          <p:nvPr/>
        </p:nvSpPr>
        <p:spPr>
          <a:xfrm>
            <a:off x="5994360" y="3759120"/>
            <a:ext cx="247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’esame batteriologico rivela batteri vivi di tipo 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AutoShape 17"/>
          <p:cNvSpPr/>
          <p:nvPr/>
        </p:nvSpPr>
        <p:spPr>
          <a:xfrm>
            <a:off x="5338800" y="5176800"/>
            <a:ext cx="1415880" cy="339840"/>
          </a:xfrm>
          <a:prstGeom prst="rightArrow">
            <a:avLst>
              <a:gd name="adj1" fmla="val 49537"/>
              <a:gd name="adj2" fmla="val 78466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5"/>
          <p:cNvSpPr/>
          <p:nvPr/>
        </p:nvSpPr>
        <p:spPr>
          <a:xfrm>
            <a:off x="3100320" y="6029280"/>
            <a:ext cx="101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0" y="176040"/>
            <a:ext cx="914400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sformazione natural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tteri Gram (+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it-IT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Streptococcus pneumoniae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S. sangu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en-GB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Bacillus subtilis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 cereus, B. stearothermophil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tteri Gram (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it-IT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Neisseria gonorrhea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it-IT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Haemophilus influenzae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. parainfluenza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netobacter calcoacetic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Moraxella oslensis, M. urethal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sycrobacter s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zotobacter agil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seudomonas stutzeri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551520" y="227160"/>
            <a:ext cx="8049240" cy="489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sibili benefici derivanti dalla trasformazion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1030320" y="1533600"/>
            <a:ext cx="69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quisizione di nuove caratteristiche geneti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1023480" y="4890960"/>
            <a:ext cx="67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peramento delle difese dell’ospite da par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i patogeni (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N. gonorrhoea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977760" y="265284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paro del DNA danneggi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1014480" y="377208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NA come fonte di nutri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AutoShape 8"/>
          <p:cNvSpPr/>
          <p:nvPr/>
        </p:nvSpPr>
        <p:spPr>
          <a:xfrm>
            <a:off x="368280" y="1689120"/>
            <a:ext cx="393840" cy="165240"/>
          </a:xfrm>
          <a:custGeom>
            <a:avLst/>
            <a:gdLst>
              <a:gd name="textAreaLeft" fmla="*/ 0 w 393840"/>
              <a:gd name="textAreaRight" fmla="*/ 394200 w 393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AutoShape 9"/>
          <p:cNvSpPr/>
          <p:nvPr/>
        </p:nvSpPr>
        <p:spPr>
          <a:xfrm>
            <a:off x="355680" y="2781360"/>
            <a:ext cx="393480" cy="164880"/>
          </a:xfrm>
          <a:custGeom>
            <a:avLst/>
            <a:gdLst>
              <a:gd name="textAreaLeft" fmla="*/ 0 w 393480"/>
              <a:gd name="textAreaRight" fmla="*/ 393840 w 39348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AutoShape 10"/>
          <p:cNvSpPr/>
          <p:nvPr/>
        </p:nvSpPr>
        <p:spPr>
          <a:xfrm>
            <a:off x="343080" y="3924360"/>
            <a:ext cx="393480" cy="164880"/>
          </a:xfrm>
          <a:custGeom>
            <a:avLst/>
            <a:gdLst>
              <a:gd name="textAreaLeft" fmla="*/ 0 w 393480"/>
              <a:gd name="textAreaRight" fmla="*/ 393840 w 39348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AutoShape 11"/>
          <p:cNvSpPr/>
          <p:nvPr/>
        </p:nvSpPr>
        <p:spPr>
          <a:xfrm>
            <a:off x="330120" y="5029200"/>
            <a:ext cx="393840" cy="165240"/>
          </a:xfrm>
          <a:custGeom>
            <a:avLst/>
            <a:gdLst>
              <a:gd name="textAreaLeft" fmla="*/ 0 w 393840"/>
              <a:gd name="textAreaRight" fmla="*/ 394200 w 393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917280" y="279360"/>
            <a:ext cx="731304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Le fasi del processo di trasformazione natur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905760" y="1565280"/>
            <a:ext cx="50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viluppo della fase di competen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940680" y="24955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game del DNA trasformante alle cellule compete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983520" y="3425760"/>
            <a:ext cx="46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gresso del DNA trasform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941760" y="4356000"/>
            <a:ext cx="57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tegrazione del DNA (ricombinazion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979200" y="528624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pressione del DNA trasform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AutoShape 9"/>
          <p:cNvSpPr/>
          <p:nvPr/>
        </p:nvSpPr>
        <p:spPr>
          <a:xfrm>
            <a:off x="406440" y="1739880"/>
            <a:ext cx="393840" cy="165240"/>
          </a:xfrm>
          <a:custGeom>
            <a:avLst/>
            <a:gdLst>
              <a:gd name="textAreaLeft" fmla="*/ 0 w 393840"/>
              <a:gd name="textAreaRight" fmla="*/ 394200 w 393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AutoShape 10"/>
          <p:cNvSpPr/>
          <p:nvPr/>
        </p:nvSpPr>
        <p:spPr>
          <a:xfrm>
            <a:off x="406440" y="2654280"/>
            <a:ext cx="393840" cy="165240"/>
          </a:xfrm>
          <a:custGeom>
            <a:avLst/>
            <a:gdLst>
              <a:gd name="textAreaLeft" fmla="*/ 0 w 393840"/>
              <a:gd name="textAreaRight" fmla="*/ 394200 w 393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AutoShape 11"/>
          <p:cNvSpPr/>
          <p:nvPr/>
        </p:nvSpPr>
        <p:spPr>
          <a:xfrm>
            <a:off x="406440" y="3568680"/>
            <a:ext cx="393840" cy="165240"/>
          </a:xfrm>
          <a:custGeom>
            <a:avLst/>
            <a:gdLst>
              <a:gd name="textAreaLeft" fmla="*/ 0 w 393840"/>
              <a:gd name="textAreaRight" fmla="*/ 394200 w 393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AutoShape 12"/>
          <p:cNvSpPr/>
          <p:nvPr/>
        </p:nvSpPr>
        <p:spPr>
          <a:xfrm>
            <a:off x="406440" y="4483080"/>
            <a:ext cx="393840" cy="165240"/>
          </a:xfrm>
          <a:custGeom>
            <a:avLst/>
            <a:gdLst>
              <a:gd name="textAreaLeft" fmla="*/ 0 w 393840"/>
              <a:gd name="textAreaRight" fmla="*/ 394200 w 393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utoShape 13"/>
          <p:cNvSpPr/>
          <p:nvPr/>
        </p:nvSpPr>
        <p:spPr>
          <a:xfrm>
            <a:off x="406440" y="5410080"/>
            <a:ext cx="393840" cy="165240"/>
          </a:xfrm>
          <a:custGeom>
            <a:avLst/>
            <a:gdLst>
              <a:gd name="textAreaLeft" fmla="*/ 0 w 393840"/>
              <a:gd name="textAreaRight" fmla="*/ 394200 w 393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2054520" y="345960"/>
            <a:ext cx="532728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Sviluppo della fase di competen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631800" y="1477800"/>
            <a:ext cx="851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ella maggioranza dei batteri la competenza è geneticamente regolata e si manifesta in condizioni ambientali particolari o in una fase specifica della crescita della popol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631800" y="3103560"/>
            <a:ext cx="851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ei batteri 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Gram negativ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gni individuo di una popolazione sviluppa la competenza indipendentemen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631800" y="4627440"/>
            <a:ext cx="851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ei batteri 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Gram positiv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lo sviluppo della competenza è regolato da uno scambio di messaggi chimici (</a:t>
            </a:r>
            <a:r>
              <a:rPr b="0" lang="it-IT" sz="2000" spc="-1" strike="noStrike">
                <a:solidFill>
                  <a:srgbClr val="ff6600"/>
                </a:solidFill>
                <a:latin typeface="Comic Sans MS"/>
              </a:rPr>
              <a:t>feromon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 tra le cellule di una popol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3143880" y="185760"/>
            <a:ext cx="28753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Batteri G negativ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39120" y="733320"/>
            <a:ext cx="27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c0000"/>
                </a:solidFill>
                <a:latin typeface="Comic Sans MS"/>
              </a:rPr>
              <a:t>Neisseria gonorrhoea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495360" y="1100160"/>
            <a:ext cx="73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competenza è costitutiva. Quasi tutte le cellule di una coltura sono competenti e non c’è nessuna relazione con la fase di cresci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307080" y="1940040"/>
            <a:ext cx="290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c0000"/>
                </a:solidFill>
                <a:latin typeface="Comic Sans MS"/>
              </a:rPr>
              <a:t>Haemophilus influenza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495360" y="2349360"/>
            <a:ext cx="73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competenza è indotta da condizioni che inibiscono la cresci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3207960" y="2890800"/>
            <a:ext cx="27439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Batteri G positiv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334080" y="349560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cc0000"/>
                </a:solidFill>
                <a:latin typeface="Comic Sans MS"/>
              </a:rPr>
              <a:t>Streptococcus pneumonia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495360" y="3898800"/>
            <a:ext cx="864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competenza è controllata da un fattore extracellulare (ferormone) di 17 aa. Quasi tutte le cellule di una coltura in fase esponenziale diventano competenti quando il feromone raggiunge una concentrazione critica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quorum sensing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100% delle cellule possono diventare competenti (per pochi minuti!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regulone </a:t>
            </a:r>
            <a:r>
              <a:rPr b="0" i="1" lang="it-IT" sz="1800" spc="-1" strike="noStrike">
                <a:solidFill>
                  <a:srgbClr val="22228a"/>
                </a:solidFill>
                <a:latin typeface="Comic Sans MS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285840" y="54896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cc0000"/>
                </a:solidFill>
                <a:latin typeface="Comic Sans MS"/>
              </a:rPr>
              <a:t>Bacillus subtil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495360" y="5838840"/>
            <a:ext cx="826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concentrazione critica di almeno due feromoni attiva la competenza. Si manifesta in tarda fase esponenziale o inizio di fase stazionaria. Solo il 10% dei batteri diventano competent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257760" y="210960"/>
            <a:ext cx="87015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La trasformazione naturale in </a:t>
            </a:r>
            <a:r>
              <a:rPr b="1" i="1" lang="it-IT" sz="2400" spc="-1" strike="noStrike">
                <a:solidFill>
                  <a:srgbClr val="3333cc"/>
                </a:solidFill>
                <a:latin typeface="Comic Sans MS"/>
              </a:rPr>
              <a:t>Streptococcus pneumonia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441360" y="1098720"/>
            <a:ext cx="825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fattore di competenza attiva la produzione di altre proteine (&gt;12) che permettono l’adsorbimento del DNA sulla superficie batterica. I frammenti di DNA sono generalmente lunghi 15-20 Kb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441360" y="3203640"/>
            <a:ext cx="825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DNA a doppia elica viene frammentato in piccoli frammenti per azione di nucleas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441360" y="4133880"/>
            <a:ext cx="825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’elica del DNA viene degradata da una nucleasi mentre l’elica complementare entra nella cellula associata a proteine che la proteggono dalla degrad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441360" y="5369040"/>
            <a:ext cx="825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uò entrare DNA di </a:t>
            </a:r>
            <a:r>
              <a:rPr b="0" lang="it-IT" sz="2000" spc="-1" strike="noStrike">
                <a:solidFill>
                  <a:srgbClr val="2a2aa8"/>
                </a:solidFill>
                <a:latin typeface="Comic Sans MS"/>
              </a:rPr>
              <a:t>qualsiasi origin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ma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solo quello omologo viene integrat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e produrre cambiamenti ereditari nella cellula riceven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441360" y="2333520"/>
            <a:ext cx="807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a cellula competente è in grado di legare fino a 1000 volte più DNA di una cellula non compe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533520" y="873000"/>
            <a:ext cx="7397640" cy="59850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3"/>
          <p:cNvSpPr/>
          <p:nvPr/>
        </p:nvSpPr>
        <p:spPr>
          <a:xfrm>
            <a:off x="2777040" y="16668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Batterio Gram posi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026"/>
          <p:cNvSpPr/>
          <p:nvPr/>
        </p:nvSpPr>
        <p:spPr>
          <a:xfrm>
            <a:off x="434880" y="210960"/>
            <a:ext cx="82821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La trasformazione naturale in </a:t>
            </a:r>
            <a:r>
              <a:rPr b="1" i="1" lang="it-IT" sz="2400" spc="-1" strike="noStrike">
                <a:solidFill>
                  <a:srgbClr val="3333cc"/>
                </a:solidFill>
                <a:latin typeface="Comic Sans MS"/>
              </a:rPr>
              <a:t>Haemophilus influenza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Text Box 1027"/>
          <p:cNvSpPr/>
          <p:nvPr/>
        </p:nvSpPr>
        <p:spPr>
          <a:xfrm>
            <a:off x="470160" y="1592280"/>
            <a:ext cx="54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n vengono prodotti fattori di competenz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Text Box 1028"/>
          <p:cNvSpPr/>
          <p:nvPr/>
        </p:nvSpPr>
        <p:spPr>
          <a:xfrm>
            <a:off x="535680" y="2438280"/>
            <a:ext cx="745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’ trasformabile solo da DNA appartenente a specie correl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Text Box 1029"/>
          <p:cNvSpPr/>
          <p:nvPr/>
        </p:nvSpPr>
        <p:spPr>
          <a:xfrm>
            <a:off x="507960" y="4230720"/>
            <a:ext cx="789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DNA attraversa la membana esterna come doppia elica in vescicole di membra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Text Box 1030"/>
          <p:cNvSpPr/>
          <p:nvPr/>
        </p:nvSpPr>
        <p:spPr>
          <a:xfrm>
            <a:off x="507960" y="3094200"/>
            <a:ext cx="789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DNA trasformante deve contenere una sequenza specifica di 11 bp. Questa sequenza è ripetuta diverse centinaia di volte nel proprio genom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Text Box 1031"/>
          <p:cNvSpPr/>
          <p:nvPr/>
        </p:nvSpPr>
        <p:spPr>
          <a:xfrm>
            <a:off x="507960" y="5283360"/>
            <a:ext cx="789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allo spazio periplasmico entra nel citoplasma come singola el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reeform 2"/>
          <p:cNvSpPr/>
          <p:nvPr/>
        </p:nvSpPr>
        <p:spPr>
          <a:xfrm>
            <a:off x="5334120" y="2082960"/>
            <a:ext cx="711000" cy="330120"/>
          </a:xfrm>
          <a:custGeom>
            <a:avLst/>
            <a:gdLst>
              <a:gd name="textAreaLeft" fmla="*/ 0 w 711000"/>
              <a:gd name="textAreaRight" fmla="*/ 711360 w 7110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448" h="208">
                <a:moveTo>
                  <a:pt x="0" y="0"/>
                </a:moveTo>
                <a:cubicBezTo>
                  <a:pt x="13" y="2"/>
                  <a:pt x="28" y="1"/>
                  <a:pt x="40" y="8"/>
                </a:cubicBezTo>
                <a:cubicBezTo>
                  <a:pt x="45" y="11"/>
                  <a:pt x="79" y="85"/>
                  <a:pt x="88" y="104"/>
                </a:cubicBezTo>
                <a:cubicBezTo>
                  <a:pt x="94" y="119"/>
                  <a:pt x="90" y="141"/>
                  <a:pt x="104" y="152"/>
                </a:cubicBezTo>
                <a:cubicBezTo>
                  <a:pt x="108" y="155"/>
                  <a:pt x="150" y="187"/>
                  <a:pt x="160" y="192"/>
                </a:cubicBezTo>
                <a:cubicBezTo>
                  <a:pt x="175" y="198"/>
                  <a:pt x="208" y="208"/>
                  <a:pt x="208" y="208"/>
                </a:cubicBezTo>
                <a:cubicBezTo>
                  <a:pt x="232" y="205"/>
                  <a:pt x="256" y="205"/>
                  <a:pt x="280" y="200"/>
                </a:cubicBezTo>
                <a:cubicBezTo>
                  <a:pt x="298" y="195"/>
                  <a:pt x="315" y="169"/>
                  <a:pt x="328" y="160"/>
                </a:cubicBezTo>
                <a:cubicBezTo>
                  <a:pt x="369" y="127"/>
                  <a:pt x="363" y="132"/>
                  <a:pt x="400" y="120"/>
                </a:cubicBezTo>
                <a:cubicBezTo>
                  <a:pt x="442" y="128"/>
                  <a:pt x="426" y="128"/>
                  <a:pt x="448" y="128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Freeform 3"/>
          <p:cNvSpPr/>
          <p:nvPr/>
        </p:nvSpPr>
        <p:spPr>
          <a:xfrm>
            <a:off x="6919920" y="2139840"/>
            <a:ext cx="490680" cy="316080"/>
          </a:xfrm>
          <a:custGeom>
            <a:avLst/>
            <a:gdLst>
              <a:gd name="textAreaLeft" fmla="*/ 0 w 490680"/>
              <a:gd name="textAreaRight" fmla="*/ 491040 w 49068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209" h="235">
                <a:moveTo>
                  <a:pt x="41" y="0"/>
                </a:moveTo>
                <a:cubicBezTo>
                  <a:pt x="35" y="21"/>
                  <a:pt x="30" y="42"/>
                  <a:pt x="25" y="64"/>
                </a:cubicBezTo>
                <a:cubicBezTo>
                  <a:pt x="22" y="74"/>
                  <a:pt x="17" y="96"/>
                  <a:pt x="17" y="96"/>
                </a:cubicBezTo>
                <a:cubicBezTo>
                  <a:pt x="23" y="185"/>
                  <a:pt x="0" y="235"/>
                  <a:pt x="97" y="216"/>
                </a:cubicBezTo>
                <a:cubicBezTo>
                  <a:pt x="107" y="210"/>
                  <a:pt x="119" y="207"/>
                  <a:pt x="129" y="200"/>
                </a:cubicBezTo>
                <a:cubicBezTo>
                  <a:pt x="139" y="191"/>
                  <a:pt x="176" y="112"/>
                  <a:pt x="185" y="96"/>
                </a:cubicBezTo>
                <a:cubicBezTo>
                  <a:pt x="195" y="74"/>
                  <a:pt x="191" y="49"/>
                  <a:pt x="209" y="32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Line 5"/>
          <p:cNvSpPr/>
          <p:nvPr/>
        </p:nvSpPr>
        <p:spPr>
          <a:xfrm>
            <a:off x="5511960" y="495360"/>
            <a:ext cx="185400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Line 6"/>
          <p:cNvSpPr/>
          <p:nvPr/>
        </p:nvSpPr>
        <p:spPr>
          <a:xfrm>
            <a:off x="5511960" y="635040"/>
            <a:ext cx="185400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Line 8"/>
          <p:cNvSpPr/>
          <p:nvPr/>
        </p:nvSpPr>
        <p:spPr>
          <a:xfrm>
            <a:off x="5181480" y="1676520"/>
            <a:ext cx="111780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9"/>
          <p:cNvSpPr/>
          <p:nvPr/>
        </p:nvSpPr>
        <p:spPr>
          <a:xfrm>
            <a:off x="5181480" y="1828800"/>
            <a:ext cx="111780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11"/>
          <p:cNvSpPr/>
          <p:nvPr/>
        </p:nvSpPr>
        <p:spPr>
          <a:xfrm>
            <a:off x="6654960" y="1676520"/>
            <a:ext cx="111744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12"/>
          <p:cNvSpPr/>
          <p:nvPr/>
        </p:nvSpPr>
        <p:spPr>
          <a:xfrm>
            <a:off x="6654960" y="1828800"/>
            <a:ext cx="111744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Oval 13"/>
          <p:cNvSpPr/>
          <p:nvPr/>
        </p:nvSpPr>
        <p:spPr>
          <a:xfrm>
            <a:off x="4025880" y="3174840"/>
            <a:ext cx="533520" cy="432000"/>
          </a:xfrm>
          <a:prstGeom prst="ellipse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Rectangle 14"/>
          <p:cNvSpPr/>
          <p:nvPr/>
        </p:nvSpPr>
        <p:spPr>
          <a:xfrm>
            <a:off x="3936960" y="3251160"/>
            <a:ext cx="127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Rectangle 15"/>
          <p:cNvSpPr/>
          <p:nvPr/>
        </p:nvSpPr>
        <p:spPr>
          <a:xfrm>
            <a:off x="4508640" y="3251160"/>
            <a:ext cx="12672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4" name="Group 16"/>
          <p:cNvGrpSpPr/>
          <p:nvPr/>
        </p:nvGrpSpPr>
        <p:grpSpPr>
          <a:xfrm>
            <a:off x="4521240" y="3263760"/>
            <a:ext cx="1523880" cy="228600"/>
            <a:chOff x="4521240" y="3263760"/>
            <a:chExt cx="1523880" cy="228600"/>
          </a:xfrm>
        </p:grpSpPr>
        <p:sp>
          <p:nvSpPr>
            <p:cNvPr id="465" name="Line 17"/>
            <p:cNvSpPr/>
            <p:nvPr/>
          </p:nvSpPr>
          <p:spPr>
            <a:xfrm>
              <a:off x="4521240" y="3263760"/>
              <a:ext cx="15238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>
              <a:off x="4521240" y="3492360"/>
              <a:ext cx="15238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7" name="Group 19"/>
          <p:cNvGrpSpPr/>
          <p:nvPr/>
        </p:nvGrpSpPr>
        <p:grpSpPr>
          <a:xfrm>
            <a:off x="2527200" y="3276720"/>
            <a:ext cx="1523880" cy="228600"/>
            <a:chOff x="2527200" y="3276720"/>
            <a:chExt cx="1523880" cy="228600"/>
          </a:xfrm>
        </p:grpSpPr>
        <p:sp>
          <p:nvSpPr>
            <p:cNvPr id="468" name="Line 20"/>
            <p:cNvSpPr/>
            <p:nvPr/>
          </p:nvSpPr>
          <p:spPr>
            <a:xfrm>
              <a:off x="2527200" y="3276720"/>
              <a:ext cx="15238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Line 21"/>
            <p:cNvSpPr/>
            <p:nvPr/>
          </p:nvSpPr>
          <p:spPr>
            <a:xfrm>
              <a:off x="2527200" y="3505320"/>
              <a:ext cx="15238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70" name="Freeform 22"/>
          <p:cNvSpPr/>
          <p:nvPr/>
        </p:nvSpPr>
        <p:spPr>
          <a:xfrm flipV="1" rot="1120200">
            <a:off x="3900600" y="3310920"/>
            <a:ext cx="806400" cy="455400"/>
          </a:xfrm>
          <a:custGeom>
            <a:avLst/>
            <a:gdLst>
              <a:gd name="textAreaLeft" fmla="*/ 0 w 806400"/>
              <a:gd name="textAreaRight" fmla="*/ 806760 w 806400"/>
              <a:gd name="textAreaTop" fmla="*/ -360 h 455400"/>
              <a:gd name="textAreaBottom" fmla="*/ 455400 h 455400"/>
            </a:gdLst>
            <a:ahLst/>
            <a:rect l="textAreaLeft" t="textAreaTop" r="textAreaRight" b="textAreaBottom"/>
            <a:pathLst>
              <a:path w="448" h="208">
                <a:moveTo>
                  <a:pt x="0" y="0"/>
                </a:moveTo>
                <a:cubicBezTo>
                  <a:pt x="13" y="2"/>
                  <a:pt x="28" y="1"/>
                  <a:pt x="40" y="8"/>
                </a:cubicBezTo>
                <a:cubicBezTo>
                  <a:pt x="45" y="11"/>
                  <a:pt x="79" y="85"/>
                  <a:pt x="88" y="104"/>
                </a:cubicBezTo>
                <a:cubicBezTo>
                  <a:pt x="94" y="119"/>
                  <a:pt x="90" y="141"/>
                  <a:pt x="104" y="152"/>
                </a:cubicBezTo>
                <a:cubicBezTo>
                  <a:pt x="108" y="155"/>
                  <a:pt x="150" y="187"/>
                  <a:pt x="160" y="192"/>
                </a:cubicBezTo>
                <a:cubicBezTo>
                  <a:pt x="175" y="198"/>
                  <a:pt x="208" y="208"/>
                  <a:pt x="208" y="208"/>
                </a:cubicBezTo>
                <a:cubicBezTo>
                  <a:pt x="232" y="205"/>
                  <a:pt x="256" y="205"/>
                  <a:pt x="280" y="200"/>
                </a:cubicBezTo>
                <a:cubicBezTo>
                  <a:pt x="298" y="195"/>
                  <a:pt x="315" y="169"/>
                  <a:pt x="328" y="160"/>
                </a:cubicBezTo>
                <a:cubicBezTo>
                  <a:pt x="369" y="127"/>
                  <a:pt x="363" y="132"/>
                  <a:pt x="400" y="120"/>
                </a:cubicBezTo>
                <a:cubicBezTo>
                  <a:pt x="442" y="128"/>
                  <a:pt x="426" y="128"/>
                  <a:pt x="448" y="128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1" name="Group 26"/>
          <p:cNvGrpSpPr/>
          <p:nvPr/>
        </p:nvGrpSpPr>
        <p:grpSpPr>
          <a:xfrm>
            <a:off x="279360" y="4648320"/>
            <a:ext cx="3860640" cy="532800"/>
            <a:chOff x="279360" y="4648320"/>
            <a:chExt cx="3860640" cy="532800"/>
          </a:xfrm>
        </p:grpSpPr>
        <p:grpSp>
          <p:nvGrpSpPr>
            <p:cNvPr id="472" name="Group 27"/>
            <p:cNvGrpSpPr/>
            <p:nvPr/>
          </p:nvGrpSpPr>
          <p:grpSpPr>
            <a:xfrm>
              <a:off x="1575000" y="4648320"/>
              <a:ext cx="1243800" cy="507240"/>
              <a:chOff x="1575000" y="4648320"/>
              <a:chExt cx="1243800" cy="507240"/>
            </a:xfrm>
          </p:grpSpPr>
          <p:sp>
            <p:nvSpPr>
              <p:cNvPr id="473" name="Oval 28"/>
              <p:cNvSpPr/>
              <p:nvPr/>
            </p:nvSpPr>
            <p:spPr>
              <a:xfrm>
                <a:off x="1752840" y="4648320"/>
                <a:ext cx="932400" cy="507240"/>
              </a:xfrm>
              <a:prstGeom prst="ellipse">
                <a:avLst/>
              </a:prstGeom>
              <a:noFill/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4" name="Rectangle 29"/>
              <p:cNvSpPr/>
              <p:nvPr/>
            </p:nvSpPr>
            <p:spPr>
              <a:xfrm>
                <a:off x="1575000" y="4737960"/>
                <a:ext cx="222120" cy="29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5" name="Rectangle 30"/>
              <p:cNvSpPr/>
              <p:nvPr/>
            </p:nvSpPr>
            <p:spPr>
              <a:xfrm>
                <a:off x="2596680" y="4737960"/>
                <a:ext cx="222120" cy="29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6" name="Group 31"/>
            <p:cNvGrpSpPr/>
            <p:nvPr/>
          </p:nvGrpSpPr>
          <p:grpSpPr>
            <a:xfrm>
              <a:off x="2616120" y="4775040"/>
              <a:ext cx="1523880" cy="228240"/>
              <a:chOff x="2616120" y="4775040"/>
              <a:chExt cx="1523880" cy="228240"/>
            </a:xfrm>
          </p:grpSpPr>
          <p:sp>
            <p:nvSpPr>
              <p:cNvPr id="477" name="Line 32"/>
              <p:cNvSpPr/>
              <p:nvPr/>
            </p:nvSpPr>
            <p:spPr>
              <a:xfrm>
                <a:off x="2616120" y="4775040"/>
                <a:ext cx="1523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8" name="Line 33"/>
              <p:cNvSpPr/>
              <p:nvPr/>
            </p:nvSpPr>
            <p:spPr>
              <a:xfrm>
                <a:off x="2616120" y="5003280"/>
                <a:ext cx="1523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79" name="Line 34"/>
            <p:cNvSpPr/>
            <p:nvPr/>
          </p:nvSpPr>
          <p:spPr>
            <a:xfrm>
              <a:off x="279360" y="4800240"/>
              <a:ext cx="15242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Line 35"/>
            <p:cNvSpPr/>
            <p:nvPr/>
          </p:nvSpPr>
          <p:spPr>
            <a:xfrm>
              <a:off x="279360" y="5028840"/>
              <a:ext cx="13208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Freeform 36"/>
            <p:cNvSpPr/>
            <p:nvPr/>
          </p:nvSpPr>
          <p:spPr>
            <a:xfrm>
              <a:off x="1828800" y="4749480"/>
              <a:ext cx="851040" cy="43164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536" h="272">
                  <a:moveTo>
                    <a:pt x="0" y="104"/>
                  </a:moveTo>
                  <a:cubicBezTo>
                    <a:pt x="81" y="22"/>
                    <a:pt x="130" y="13"/>
                    <a:pt x="240" y="0"/>
                  </a:cubicBezTo>
                  <a:cubicBezTo>
                    <a:pt x="299" y="11"/>
                    <a:pt x="355" y="31"/>
                    <a:pt x="416" y="40"/>
                  </a:cubicBezTo>
                  <a:cubicBezTo>
                    <a:pt x="424" y="48"/>
                    <a:pt x="431" y="56"/>
                    <a:pt x="440" y="64"/>
                  </a:cubicBezTo>
                  <a:cubicBezTo>
                    <a:pt x="447" y="70"/>
                    <a:pt x="458" y="71"/>
                    <a:pt x="464" y="80"/>
                  </a:cubicBezTo>
                  <a:cubicBezTo>
                    <a:pt x="472" y="94"/>
                    <a:pt x="474" y="112"/>
                    <a:pt x="480" y="128"/>
                  </a:cubicBezTo>
                  <a:cubicBezTo>
                    <a:pt x="509" y="215"/>
                    <a:pt x="462" y="82"/>
                    <a:pt x="504" y="176"/>
                  </a:cubicBezTo>
                  <a:cubicBezTo>
                    <a:pt x="513" y="196"/>
                    <a:pt x="520" y="256"/>
                    <a:pt x="536" y="272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Freeform 37"/>
            <p:cNvSpPr/>
            <p:nvPr/>
          </p:nvSpPr>
          <p:spPr>
            <a:xfrm>
              <a:off x="1736640" y="5009760"/>
              <a:ext cx="92160" cy="1458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58" h="92">
                  <a:moveTo>
                    <a:pt x="58" y="20"/>
                  </a:moveTo>
                  <a:cubicBezTo>
                    <a:pt x="0" y="0"/>
                    <a:pt x="2" y="44"/>
                    <a:pt x="2" y="92"/>
                  </a:cubicBezTo>
                </a:path>
              </a:pathLst>
            </a:custGeom>
            <a:noFill/>
            <a:ln w="381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3" name="Line 40"/>
          <p:cNvSpPr/>
          <p:nvPr/>
        </p:nvSpPr>
        <p:spPr>
          <a:xfrm>
            <a:off x="6286680" y="5003640"/>
            <a:ext cx="111744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Line 41"/>
          <p:cNvSpPr/>
          <p:nvPr/>
        </p:nvSpPr>
        <p:spPr>
          <a:xfrm flipV="1">
            <a:off x="5168880" y="4787640"/>
            <a:ext cx="3352680" cy="126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Line 42"/>
          <p:cNvSpPr/>
          <p:nvPr/>
        </p:nvSpPr>
        <p:spPr>
          <a:xfrm>
            <a:off x="5168880" y="5003640"/>
            <a:ext cx="99072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Line 44"/>
          <p:cNvSpPr/>
          <p:nvPr/>
        </p:nvSpPr>
        <p:spPr>
          <a:xfrm>
            <a:off x="7531200" y="5003640"/>
            <a:ext cx="99036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7" name="Group 74"/>
          <p:cNvGrpSpPr/>
          <p:nvPr/>
        </p:nvGrpSpPr>
        <p:grpSpPr>
          <a:xfrm>
            <a:off x="5079960" y="6095880"/>
            <a:ext cx="3352680" cy="203400"/>
            <a:chOff x="5079960" y="6095880"/>
            <a:chExt cx="3352680" cy="203400"/>
          </a:xfrm>
        </p:grpSpPr>
        <p:sp>
          <p:nvSpPr>
            <p:cNvPr id="488" name="Line 47"/>
            <p:cNvSpPr/>
            <p:nvPr/>
          </p:nvSpPr>
          <p:spPr>
            <a:xfrm>
              <a:off x="6248520" y="6299280"/>
              <a:ext cx="111744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Line 48"/>
            <p:cNvSpPr/>
            <p:nvPr/>
          </p:nvSpPr>
          <p:spPr>
            <a:xfrm>
              <a:off x="5105520" y="6095880"/>
              <a:ext cx="332712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Line 49"/>
            <p:cNvSpPr/>
            <p:nvPr/>
          </p:nvSpPr>
          <p:spPr>
            <a:xfrm>
              <a:off x="5079960" y="6299280"/>
              <a:ext cx="116856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Line 51"/>
            <p:cNvSpPr/>
            <p:nvPr/>
          </p:nvSpPr>
          <p:spPr>
            <a:xfrm>
              <a:off x="7353360" y="6299280"/>
              <a:ext cx="10666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2" name="Text Box 52"/>
          <p:cNvSpPr/>
          <p:nvPr/>
        </p:nvSpPr>
        <p:spPr>
          <a:xfrm>
            <a:off x="3800160" y="98748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gres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AutoShape 53"/>
          <p:cNvSpPr/>
          <p:nvPr/>
        </p:nvSpPr>
        <p:spPr>
          <a:xfrm>
            <a:off x="7620120" y="711360"/>
            <a:ext cx="228600" cy="787320"/>
          </a:xfrm>
          <a:prstGeom prst="lightningBol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AutoShape 54"/>
          <p:cNvSpPr/>
          <p:nvPr/>
        </p:nvSpPr>
        <p:spPr>
          <a:xfrm>
            <a:off x="4927680" y="800280"/>
            <a:ext cx="228600" cy="787320"/>
          </a:xfrm>
          <a:prstGeom prst="lightningBol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AutoShape 55"/>
          <p:cNvSpPr/>
          <p:nvPr/>
        </p:nvSpPr>
        <p:spPr>
          <a:xfrm>
            <a:off x="6121440" y="736560"/>
            <a:ext cx="228600" cy="787320"/>
          </a:xfrm>
          <a:prstGeom prst="lightningBol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57"/>
          <p:cNvSpPr/>
          <p:nvPr/>
        </p:nvSpPr>
        <p:spPr>
          <a:xfrm>
            <a:off x="5244840" y="8568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NA trasforma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AutoShape 58"/>
          <p:cNvSpPr/>
          <p:nvPr/>
        </p:nvSpPr>
        <p:spPr>
          <a:xfrm>
            <a:off x="6375240" y="863640"/>
            <a:ext cx="228600" cy="482400"/>
          </a:xfrm>
          <a:prstGeom prst="downArrow">
            <a:avLst>
              <a:gd name="adj1" fmla="val 50000"/>
              <a:gd name="adj2" fmla="val 5275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Text Box 62"/>
          <p:cNvSpPr/>
          <p:nvPr/>
        </p:nvSpPr>
        <p:spPr>
          <a:xfrm>
            <a:off x="1015920" y="31860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romoso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Text Box 63"/>
          <p:cNvSpPr/>
          <p:nvPr/>
        </p:nvSpPr>
        <p:spPr>
          <a:xfrm>
            <a:off x="4503960" y="281952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-lo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AutoShape 64"/>
          <p:cNvSpPr/>
          <p:nvPr/>
        </p:nvSpPr>
        <p:spPr>
          <a:xfrm>
            <a:off x="3505320" y="4165560"/>
            <a:ext cx="228600" cy="482760"/>
          </a:xfrm>
          <a:prstGeom prst="downArrow">
            <a:avLst>
              <a:gd name="adj1" fmla="val 50000"/>
              <a:gd name="adj2" fmla="val 52795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65"/>
          <p:cNvSpPr/>
          <p:nvPr/>
        </p:nvSpPr>
        <p:spPr>
          <a:xfrm>
            <a:off x="294480" y="552132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ndonucleas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AutoShape 66"/>
          <p:cNvSpPr/>
          <p:nvPr/>
        </p:nvSpPr>
        <p:spPr>
          <a:xfrm rot="16200000">
            <a:off x="4533840" y="4635000"/>
            <a:ext cx="228600" cy="558720"/>
          </a:xfrm>
          <a:prstGeom prst="downArrow">
            <a:avLst>
              <a:gd name="adj1" fmla="val 50000"/>
              <a:gd name="adj2" fmla="val 6110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 Box 67"/>
          <p:cNvSpPr/>
          <p:nvPr/>
        </p:nvSpPr>
        <p:spPr>
          <a:xfrm>
            <a:off x="5141160" y="503856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NA ligas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AutoShape 68"/>
          <p:cNvSpPr/>
          <p:nvPr/>
        </p:nvSpPr>
        <p:spPr>
          <a:xfrm>
            <a:off x="6705720" y="5334120"/>
            <a:ext cx="228600" cy="482400"/>
          </a:xfrm>
          <a:prstGeom prst="downArrow">
            <a:avLst>
              <a:gd name="adj1" fmla="val 50000"/>
              <a:gd name="adj2" fmla="val 5275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Text Box 69"/>
          <p:cNvSpPr/>
          <p:nvPr/>
        </p:nvSpPr>
        <p:spPr>
          <a:xfrm>
            <a:off x="5860440" y="23446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S-D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 Box 70"/>
          <p:cNvSpPr/>
          <p:nvPr/>
        </p:nvSpPr>
        <p:spPr>
          <a:xfrm>
            <a:off x="451080" y="5851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l III ex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AutoShape 71"/>
          <p:cNvSpPr/>
          <p:nvPr/>
        </p:nvSpPr>
        <p:spPr>
          <a:xfrm rot="14961600">
            <a:off x="1193400" y="4952160"/>
            <a:ext cx="228600" cy="787320"/>
          </a:xfrm>
          <a:prstGeom prst="lightningBol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AutoShape 72"/>
          <p:cNvSpPr/>
          <p:nvPr/>
        </p:nvSpPr>
        <p:spPr>
          <a:xfrm flipH="1" rot="6638400">
            <a:off x="2920680" y="4952160"/>
            <a:ext cx="228600" cy="787320"/>
          </a:xfrm>
          <a:prstGeom prst="lightningBol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75"/>
          <p:cNvSpPr/>
          <p:nvPr/>
        </p:nvSpPr>
        <p:spPr>
          <a:xfrm>
            <a:off x="4024080" y="3732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20640" y="171360"/>
            <a:ext cx="61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La variabilità genetica nei batte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3600360" y="1233360"/>
            <a:ext cx="1805040" cy="917640"/>
            <a:chOff x="3600360" y="1233360"/>
            <a:chExt cx="1805040" cy="917640"/>
          </a:xfrm>
        </p:grpSpPr>
        <p:sp>
          <p:nvSpPr>
            <p:cNvPr id="94" name="AutoShape 4"/>
            <p:cNvSpPr/>
            <p:nvPr/>
          </p:nvSpPr>
          <p:spPr>
            <a:xfrm>
              <a:off x="3600360" y="1233360"/>
              <a:ext cx="1805040" cy="9176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AutoShape 5"/>
            <p:cNvSpPr/>
            <p:nvPr/>
          </p:nvSpPr>
          <p:spPr>
            <a:xfrm>
              <a:off x="3691800" y="1301400"/>
              <a:ext cx="1608120" cy="7797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AutoShape 6"/>
            <p:cNvSpPr/>
            <p:nvPr/>
          </p:nvSpPr>
          <p:spPr>
            <a:xfrm>
              <a:off x="3726000" y="1328040"/>
              <a:ext cx="1549440" cy="72108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" name="Oval 7"/>
          <p:cNvSpPr/>
          <p:nvPr/>
        </p:nvSpPr>
        <p:spPr>
          <a:xfrm>
            <a:off x="3995640" y="1646280"/>
            <a:ext cx="1054080" cy="27288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5103720" y="2913120"/>
            <a:ext cx="1803600" cy="917640"/>
            <a:chOff x="5103720" y="2913120"/>
            <a:chExt cx="1803600" cy="917640"/>
          </a:xfrm>
        </p:grpSpPr>
        <p:sp>
          <p:nvSpPr>
            <p:cNvPr id="99" name="AutoShape 9"/>
            <p:cNvSpPr/>
            <p:nvPr/>
          </p:nvSpPr>
          <p:spPr>
            <a:xfrm>
              <a:off x="5103720" y="2913120"/>
              <a:ext cx="1803600" cy="9176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>
              <a:off x="5195160" y="2981160"/>
              <a:ext cx="1606680" cy="7797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AutoShape 11"/>
            <p:cNvSpPr/>
            <p:nvPr/>
          </p:nvSpPr>
          <p:spPr>
            <a:xfrm>
              <a:off x="5229000" y="3007800"/>
              <a:ext cx="1548360" cy="72108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2" name="Oval 12"/>
          <p:cNvSpPr/>
          <p:nvPr/>
        </p:nvSpPr>
        <p:spPr>
          <a:xfrm>
            <a:off x="5499000" y="3325680"/>
            <a:ext cx="1052640" cy="27324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3" name="Group 13"/>
          <p:cNvGrpSpPr/>
          <p:nvPr/>
        </p:nvGrpSpPr>
        <p:grpSpPr>
          <a:xfrm>
            <a:off x="2355840" y="2924280"/>
            <a:ext cx="1803240" cy="917640"/>
            <a:chOff x="2355840" y="2924280"/>
            <a:chExt cx="1803240" cy="917640"/>
          </a:xfrm>
        </p:grpSpPr>
        <p:sp>
          <p:nvSpPr>
            <p:cNvPr id="104" name="AutoShape 14"/>
            <p:cNvSpPr/>
            <p:nvPr/>
          </p:nvSpPr>
          <p:spPr>
            <a:xfrm>
              <a:off x="2355840" y="2924280"/>
              <a:ext cx="1803240" cy="9176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AutoShape 15"/>
            <p:cNvSpPr/>
            <p:nvPr/>
          </p:nvSpPr>
          <p:spPr>
            <a:xfrm>
              <a:off x="2447280" y="2992320"/>
              <a:ext cx="1606320" cy="7797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AutoShape 16"/>
            <p:cNvSpPr/>
            <p:nvPr/>
          </p:nvSpPr>
          <p:spPr>
            <a:xfrm>
              <a:off x="2481120" y="3018960"/>
              <a:ext cx="1548000" cy="72108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7" name="Oval 17"/>
          <p:cNvSpPr/>
          <p:nvPr/>
        </p:nvSpPr>
        <p:spPr>
          <a:xfrm>
            <a:off x="2751120" y="3335400"/>
            <a:ext cx="1054080" cy="27468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4686480" y="2365200"/>
            <a:ext cx="44100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19"/>
          <p:cNvSpPr/>
          <p:nvPr/>
        </p:nvSpPr>
        <p:spPr>
          <a:xfrm flipH="1">
            <a:off x="3976560" y="2376360"/>
            <a:ext cx="441360" cy="43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3129120" y="3257640"/>
            <a:ext cx="257040" cy="171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3470400" y="4622760"/>
            <a:ext cx="1803240" cy="917640"/>
            <a:chOff x="3470400" y="4622760"/>
            <a:chExt cx="1803240" cy="917640"/>
          </a:xfrm>
        </p:grpSpPr>
        <p:sp>
          <p:nvSpPr>
            <p:cNvPr id="112" name="AutoShape 22"/>
            <p:cNvSpPr/>
            <p:nvPr/>
          </p:nvSpPr>
          <p:spPr>
            <a:xfrm>
              <a:off x="3470400" y="4622760"/>
              <a:ext cx="1803240" cy="9176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AutoShape 23"/>
            <p:cNvSpPr/>
            <p:nvPr/>
          </p:nvSpPr>
          <p:spPr>
            <a:xfrm>
              <a:off x="3562200" y="4691160"/>
              <a:ext cx="1606680" cy="77940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AutoShape 24"/>
            <p:cNvSpPr/>
            <p:nvPr/>
          </p:nvSpPr>
          <p:spPr>
            <a:xfrm>
              <a:off x="3595680" y="4718160"/>
              <a:ext cx="1548000" cy="72072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3865680" y="5035680"/>
              <a:ext cx="1052280" cy="2728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6" name="Line 26"/>
          <p:cNvSpPr/>
          <p:nvPr/>
        </p:nvSpPr>
        <p:spPr>
          <a:xfrm>
            <a:off x="3295800" y="4075200"/>
            <a:ext cx="44100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27"/>
          <p:cNvSpPr/>
          <p:nvPr/>
        </p:nvSpPr>
        <p:spPr>
          <a:xfrm flipH="1">
            <a:off x="2585880" y="4086360"/>
            <a:ext cx="441360" cy="43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" name="Group 28"/>
          <p:cNvGrpSpPr/>
          <p:nvPr/>
        </p:nvGrpSpPr>
        <p:grpSpPr>
          <a:xfrm>
            <a:off x="1322280" y="4632480"/>
            <a:ext cx="1803240" cy="917280"/>
            <a:chOff x="1322280" y="4632480"/>
            <a:chExt cx="1803240" cy="917280"/>
          </a:xfrm>
        </p:grpSpPr>
        <p:sp>
          <p:nvSpPr>
            <p:cNvPr id="119" name="AutoShape 29"/>
            <p:cNvSpPr/>
            <p:nvPr/>
          </p:nvSpPr>
          <p:spPr>
            <a:xfrm>
              <a:off x="1322280" y="4632480"/>
              <a:ext cx="1803240" cy="91728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AutoShape 30"/>
            <p:cNvSpPr/>
            <p:nvPr/>
          </p:nvSpPr>
          <p:spPr>
            <a:xfrm>
              <a:off x="1414080" y="4700520"/>
              <a:ext cx="1606680" cy="77904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AutoShape 31"/>
            <p:cNvSpPr/>
            <p:nvPr/>
          </p:nvSpPr>
          <p:spPr>
            <a:xfrm>
              <a:off x="1447560" y="4727520"/>
              <a:ext cx="1548000" cy="72036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Oval 32"/>
            <p:cNvSpPr/>
            <p:nvPr/>
          </p:nvSpPr>
          <p:spPr>
            <a:xfrm>
              <a:off x="1717560" y="5045040"/>
              <a:ext cx="1052280" cy="2725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3" name="Rectangle 33"/>
          <p:cNvSpPr/>
          <p:nvPr/>
        </p:nvSpPr>
        <p:spPr>
          <a:xfrm>
            <a:off x="2095560" y="4924440"/>
            <a:ext cx="257040" cy="171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4276800" y="4919760"/>
            <a:ext cx="257040" cy="171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35"/>
          <p:cNvSpPr/>
          <p:nvPr/>
        </p:nvSpPr>
        <p:spPr>
          <a:xfrm>
            <a:off x="1818720" y="6084720"/>
            <a:ext cx="60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.ma in qualche caso possono conferire un vantaggio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2314440" y="351000"/>
            <a:ext cx="450720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La trasformazione artifici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249120" y="1211400"/>
            <a:ext cx="86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maggior parte dei batteri possono essere trasformati artificialm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1212840" y="1909800"/>
            <a:ext cx="671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engono utilizzati shock chimici e termici (CaCl2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 elettrici (elettroporazion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863720" y="2836800"/>
            <a:ext cx="540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DNA viene introdotto integro nella cellul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4" name="Group 7"/>
          <p:cNvGrpSpPr/>
          <p:nvPr/>
        </p:nvGrpSpPr>
        <p:grpSpPr>
          <a:xfrm>
            <a:off x="3436920" y="5278320"/>
            <a:ext cx="2269800" cy="1134720"/>
            <a:chOff x="3436920" y="5278320"/>
            <a:chExt cx="2269800" cy="1134720"/>
          </a:xfrm>
        </p:grpSpPr>
        <p:sp>
          <p:nvSpPr>
            <p:cNvPr id="515" name="AutoShape 8"/>
            <p:cNvSpPr/>
            <p:nvPr/>
          </p:nvSpPr>
          <p:spPr>
            <a:xfrm>
              <a:off x="3436920" y="5278320"/>
              <a:ext cx="2269800" cy="113472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AutoShape 9"/>
            <p:cNvSpPr/>
            <p:nvPr/>
          </p:nvSpPr>
          <p:spPr>
            <a:xfrm>
              <a:off x="3552120" y="5362560"/>
              <a:ext cx="2022480" cy="96444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AutoShape 10"/>
            <p:cNvSpPr/>
            <p:nvPr/>
          </p:nvSpPr>
          <p:spPr>
            <a:xfrm>
              <a:off x="3594960" y="5395680"/>
              <a:ext cx="1948680" cy="89172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8" name="Group 12"/>
          <p:cNvGrpSpPr/>
          <p:nvPr/>
        </p:nvGrpSpPr>
        <p:grpSpPr>
          <a:xfrm>
            <a:off x="2362320" y="3835440"/>
            <a:ext cx="429840" cy="1282680"/>
            <a:chOff x="2362320" y="3835440"/>
            <a:chExt cx="429840" cy="1282680"/>
          </a:xfrm>
        </p:grpSpPr>
        <p:pic>
          <p:nvPicPr>
            <p:cNvPr id="519" name="Picture 13" descr="DNA"/>
            <p:cNvPicPr/>
            <p:nvPr/>
          </p:nvPicPr>
          <p:blipFill>
            <a:blip r:embed="rId1"/>
            <a:stretch/>
          </p:blipFill>
          <p:spPr>
            <a:xfrm>
              <a:off x="2362320" y="3835440"/>
              <a:ext cx="41580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Rectangle 14"/>
            <p:cNvSpPr/>
            <p:nvPr/>
          </p:nvSpPr>
          <p:spPr>
            <a:xfrm>
              <a:off x="2731680" y="3835440"/>
              <a:ext cx="60480" cy="126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1" name="Group 20"/>
          <p:cNvGrpSpPr/>
          <p:nvPr/>
        </p:nvGrpSpPr>
        <p:grpSpPr>
          <a:xfrm>
            <a:off x="6032520" y="4013280"/>
            <a:ext cx="850680" cy="761760"/>
            <a:chOff x="6032520" y="4013280"/>
            <a:chExt cx="850680" cy="761760"/>
          </a:xfrm>
        </p:grpSpPr>
        <p:sp>
          <p:nvSpPr>
            <p:cNvPr id="522" name="Oval 17"/>
            <p:cNvSpPr/>
            <p:nvPr/>
          </p:nvSpPr>
          <p:spPr>
            <a:xfrm>
              <a:off x="6032520" y="4013280"/>
              <a:ext cx="850680" cy="76176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Oval 18"/>
            <p:cNvSpPr/>
            <p:nvPr/>
          </p:nvSpPr>
          <p:spPr>
            <a:xfrm>
              <a:off x="6070680" y="4051440"/>
              <a:ext cx="774720" cy="68580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4" name="Freeform 19"/>
          <p:cNvSpPr/>
          <p:nvPr/>
        </p:nvSpPr>
        <p:spPr>
          <a:xfrm>
            <a:off x="3809880" y="5688000"/>
            <a:ext cx="1536840" cy="48420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968" h="305">
                <a:moveTo>
                  <a:pt x="96" y="145"/>
                </a:moveTo>
                <a:cubicBezTo>
                  <a:pt x="105" y="205"/>
                  <a:pt x="104" y="260"/>
                  <a:pt x="168" y="281"/>
                </a:cubicBezTo>
                <a:cubicBezTo>
                  <a:pt x="200" y="278"/>
                  <a:pt x="233" y="281"/>
                  <a:pt x="264" y="273"/>
                </a:cubicBezTo>
                <a:cubicBezTo>
                  <a:pt x="288" y="267"/>
                  <a:pt x="313" y="206"/>
                  <a:pt x="344" y="185"/>
                </a:cubicBezTo>
                <a:cubicBezTo>
                  <a:pt x="441" y="197"/>
                  <a:pt x="386" y="192"/>
                  <a:pt x="448" y="233"/>
                </a:cubicBezTo>
                <a:cubicBezTo>
                  <a:pt x="457" y="259"/>
                  <a:pt x="452" y="260"/>
                  <a:pt x="480" y="273"/>
                </a:cubicBezTo>
                <a:cubicBezTo>
                  <a:pt x="495" y="280"/>
                  <a:pt x="528" y="289"/>
                  <a:pt x="528" y="289"/>
                </a:cubicBezTo>
                <a:cubicBezTo>
                  <a:pt x="619" y="280"/>
                  <a:pt x="642" y="282"/>
                  <a:pt x="672" y="193"/>
                </a:cubicBezTo>
                <a:cubicBezTo>
                  <a:pt x="660" y="97"/>
                  <a:pt x="666" y="110"/>
                  <a:pt x="568" y="121"/>
                </a:cubicBezTo>
                <a:cubicBezTo>
                  <a:pt x="570" y="142"/>
                  <a:pt x="560" y="216"/>
                  <a:pt x="592" y="241"/>
                </a:cubicBezTo>
                <a:cubicBezTo>
                  <a:pt x="599" y="246"/>
                  <a:pt x="609" y="245"/>
                  <a:pt x="616" y="249"/>
                </a:cubicBezTo>
                <a:cubicBezTo>
                  <a:pt x="633" y="258"/>
                  <a:pt x="648" y="270"/>
                  <a:pt x="664" y="281"/>
                </a:cubicBezTo>
                <a:cubicBezTo>
                  <a:pt x="672" y="286"/>
                  <a:pt x="688" y="297"/>
                  <a:pt x="688" y="297"/>
                </a:cubicBezTo>
                <a:cubicBezTo>
                  <a:pt x="691" y="297"/>
                  <a:pt x="785" y="298"/>
                  <a:pt x="816" y="281"/>
                </a:cubicBezTo>
                <a:cubicBezTo>
                  <a:pt x="833" y="272"/>
                  <a:pt x="864" y="249"/>
                  <a:pt x="864" y="249"/>
                </a:cubicBezTo>
                <a:cubicBezTo>
                  <a:pt x="873" y="223"/>
                  <a:pt x="887" y="203"/>
                  <a:pt x="896" y="177"/>
                </a:cubicBezTo>
                <a:cubicBezTo>
                  <a:pt x="893" y="156"/>
                  <a:pt x="900" y="131"/>
                  <a:pt x="888" y="113"/>
                </a:cubicBezTo>
                <a:cubicBezTo>
                  <a:pt x="878" y="99"/>
                  <a:pt x="840" y="97"/>
                  <a:pt x="840" y="97"/>
                </a:cubicBezTo>
                <a:cubicBezTo>
                  <a:pt x="829" y="100"/>
                  <a:pt x="817" y="98"/>
                  <a:pt x="808" y="105"/>
                </a:cubicBezTo>
                <a:cubicBezTo>
                  <a:pt x="785" y="124"/>
                  <a:pt x="812" y="163"/>
                  <a:pt x="824" y="177"/>
                </a:cubicBezTo>
                <a:cubicBezTo>
                  <a:pt x="831" y="186"/>
                  <a:pt x="838" y="196"/>
                  <a:pt x="848" y="201"/>
                </a:cubicBezTo>
                <a:cubicBezTo>
                  <a:pt x="863" y="209"/>
                  <a:pt x="896" y="217"/>
                  <a:pt x="896" y="217"/>
                </a:cubicBezTo>
                <a:cubicBezTo>
                  <a:pt x="946" y="205"/>
                  <a:pt x="954" y="180"/>
                  <a:pt x="968" y="137"/>
                </a:cubicBezTo>
                <a:cubicBezTo>
                  <a:pt x="958" y="65"/>
                  <a:pt x="957" y="65"/>
                  <a:pt x="896" y="25"/>
                </a:cubicBezTo>
                <a:cubicBezTo>
                  <a:pt x="882" y="16"/>
                  <a:pt x="848" y="9"/>
                  <a:pt x="848" y="9"/>
                </a:cubicBezTo>
                <a:cubicBezTo>
                  <a:pt x="816" y="12"/>
                  <a:pt x="783" y="8"/>
                  <a:pt x="752" y="17"/>
                </a:cubicBezTo>
                <a:cubicBezTo>
                  <a:pt x="734" y="22"/>
                  <a:pt x="718" y="98"/>
                  <a:pt x="712" y="121"/>
                </a:cubicBezTo>
                <a:cubicBezTo>
                  <a:pt x="692" y="192"/>
                  <a:pt x="677" y="239"/>
                  <a:pt x="600" y="265"/>
                </a:cubicBezTo>
                <a:cubicBezTo>
                  <a:pt x="585" y="261"/>
                  <a:pt x="554" y="257"/>
                  <a:pt x="544" y="241"/>
                </a:cubicBezTo>
                <a:cubicBezTo>
                  <a:pt x="519" y="201"/>
                  <a:pt x="529" y="142"/>
                  <a:pt x="504" y="105"/>
                </a:cubicBezTo>
                <a:cubicBezTo>
                  <a:pt x="492" y="87"/>
                  <a:pt x="474" y="77"/>
                  <a:pt x="456" y="65"/>
                </a:cubicBezTo>
                <a:cubicBezTo>
                  <a:pt x="429" y="68"/>
                  <a:pt x="400" y="60"/>
                  <a:pt x="376" y="73"/>
                </a:cubicBezTo>
                <a:cubicBezTo>
                  <a:pt x="364" y="80"/>
                  <a:pt x="368" y="99"/>
                  <a:pt x="368" y="113"/>
                </a:cubicBezTo>
                <a:cubicBezTo>
                  <a:pt x="368" y="164"/>
                  <a:pt x="373" y="213"/>
                  <a:pt x="416" y="241"/>
                </a:cubicBezTo>
                <a:cubicBezTo>
                  <a:pt x="522" y="231"/>
                  <a:pt x="482" y="232"/>
                  <a:pt x="552" y="209"/>
                </a:cubicBezTo>
                <a:cubicBezTo>
                  <a:pt x="563" y="193"/>
                  <a:pt x="573" y="177"/>
                  <a:pt x="584" y="161"/>
                </a:cubicBezTo>
                <a:cubicBezTo>
                  <a:pt x="589" y="153"/>
                  <a:pt x="600" y="137"/>
                  <a:pt x="600" y="137"/>
                </a:cubicBezTo>
                <a:cubicBezTo>
                  <a:pt x="597" y="116"/>
                  <a:pt x="599" y="93"/>
                  <a:pt x="592" y="73"/>
                </a:cubicBezTo>
                <a:cubicBezTo>
                  <a:pt x="575" y="27"/>
                  <a:pt x="466" y="9"/>
                  <a:pt x="424" y="1"/>
                </a:cubicBezTo>
                <a:cubicBezTo>
                  <a:pt x="397" y="4"/>
                  <a:pt x="369" y="0"/>
                  <a:pt x="344" y="9"/>
                </a:cubicBezTo>
                <a:cubicBezTo>
                  <a:pt x="336" y="12"/>
                  <a:pt x="340" y="26"/>
                  <a:pt x="336" y="33"/>
                </a:cubicBezTo>
                <a:cubicBezTo>
                  <a:pt x="284" y="126"/>
                  <a:pt x="319" y="36"/>
                  <a:pt x="288" y="129"/>
                </a:cubicBezTo>
                <a:cubicBezTo>
                  <a:pt x="267" y="192"/>
                  <a:pt x="227" y="283"/>
                  <a:pt x="160" y="305"/>
                </a:cubicBezTo>
                <a:cubicBezTo>
                  <a:pt x="92" y="296"/>
                  <a:pt x="101" y="291"/>
                  <a:pt x="48" y="273"/>
                </a:cubicBezTo>
                <a:cubicBezTo>
                  <a:pt x="31" y="247"/>
                  <a:pt x="10" y="231"/>
                  <a:pt x="0" y="201"/>
                </a:cubicBezTo>
                <a:cubicBezTo>
                  <a:pt x="7" y="157"/>
                  <a:pt x="12" y="133"/>
                  <a:pt x="48" y="105"/>
                </a:cubicBezTo>
                <a:cubicBezTo>
                  <a:pt x="63" y="93"/>
                  <a:pt x="96" y="73"/>
                  <a:pt x="96" y="73"/>
                </a:cubicBezTo>
                <a:cubicBezTo>
                  <a:pt x="111" y="77"/>
                  <a:pt x="142" y="81"/>
                  <a:pt x="152" y="97"/>
                </a:cubicBezTo>
                <a:cubicBezTo>
                  <a:pt x="161" y="111"/>
                  <a:pt x="163" y="129"/>
                  <a:pt x="168" y="145"/>
                </a:cubicBezTo>
                <a:cubicBezTo>
                  <a:pt x="171" y="153"/>
                  <a:pt x="176" y="169"/>
                  <a:pt x="176" y="169"/>
                </a:cubicBezTo>
                <a:cubicBezTo>
                  <a:pt x="153" y="226"/>
                  <a:pt x="159" y="216"/>
                  <a:pt x="112" y="185"/>
                </a:cubicBezTo>
                <a:cubicBezTo>
                  <a:pt x="102" y="155"/>
                  <a:pt x="108" y="169"/>
                  <a:pt x="96" y="145"/>
                </a:cubicBezTo>
                <a:close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21"/>
          <p:cNvSpPr/>
          <p:nvPr/>
        </p:nvSpPr>
        <p:spPr>
          <a:xfrm>
            <a:off x="644400" y="4102200"/>
            <a:ext cx="16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NA lineare a doppia eli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22"/>
          <p:cNvSpPr/>
          <p:nvPr/>
        </p:nvSpPr>
        <p:spPr>
          <a:xfrm>
            <a:off x="7007400" y="415296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NA plasmidi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Line 23"/>
          <p:cNvSpPr/>
          <p:nvPr/>
        </p:nvSpPr>
        <p:spPr>
          <a:xfrm>
            <a:off x="3187800" y="4495680"/>
            <a:ext cx="6984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Line 25"/>
          <p:cNvSpPr/>
          <p:nvPr/>
        </p:nvSpPr>
        <p:spPr>
          <a:xfrm flipH="1">
            <a:off x="5118120" y="4495680"/>
            <a:ext cx="6984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26"/>
          <p:cNvSpPr/>
          <p:nvPr/>
        </p:nvSpPr>
        <p:spPr>
          <a:xfrm>
            <a:off x="682560" y="5562720"/>
            <a:ext cx="26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tegrazione mediante ricombinazione omolog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Text Box 27"/>
          <p:cNvSpPr/>
          <p:nvPr/>
        </p:nvSpPr>
        <p:spPr>
          <a:xfrm>
            <a:off x="5813280" y="5837400"/>
            <a:ext cx="26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eplicazione del plasmi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2158920" y="237960"/>
            <a:ext cx="6735960" cy="662004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3"/>
          <p:cNvSpPr/>
          <p:nvPr/>
        </p:nvSpPr>
        <p:spPr>
          <a:xfrm>
            <a:off x="231480" y="838080"/>
            <a:ext cx="2058120" cy="1557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derber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amp; Tatu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94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187200" y="430200"/>
            <a:ext cx="8236080" cy="599616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3213000" y="5994360"/>
            <a:ext cx="233676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960640" y="611352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iltro poro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6896160" y="507960"/>
            <a:ext cx="1485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6872400" y="425520"/>
            <a:ext cx="228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ssione o aspir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270000" y="527040"/>
            <a:ext cx="196668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474480" y="754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t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452520" y="3481560"/>
            <a:ext cx="174780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Rectangle 11"/>
          <p:cNvSpPr/>
          <p:nvPr/>
        </p:nvSpPr>
        <p:spPr>
          <a:xfrm>
            <a:off x="4995720" y="3429000"/>
            <a:ext cx="233712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934560" y="294480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eppo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5078160" y="294480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eppo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541656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Rectangle 16"/>
          <p:cNvSpPr/>
          <p:nvPr/>
        </p:nvSpPr>
        <p:spPr>
          <a:xfrm>
            <a:off x="5133960" y="4376880"/>
            <a:ext cx="3840120" cy="185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5268960" y="4413240"/>
            <a:ext cx="387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coniugazione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richiede un contatto cellula-cellul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quando le colture sono separate da un filtro poroso permeabile alle macromolecole ma non ai batteri, la ricombinazione non avvien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batteri in coniugazione"/>
          <p:cNvPicPr/>
          <p:nvPr/>
        </p:nvPicPr>
        <p:blipFill>
          <a:blip r:embed="rId1"/>
          <a:stretch/>
        </p:blipFill>
        <p:spPr>
          <a:xfrm>
            <a:off x="512640" y="982800"/>
            <a:ext cx="8116920" cy="489096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8"/>
          <p:cNvSpPr/>
          <p:nvPr/>
        </p:nvSpPr>
        <p:spPr>
          <a:xfrm>
            <a:off x="812880" y="5880240"/>
            <a:ext cx="77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000"/>
                </a:solidFill>
                <a:uFillTx/>
                <a:latin typeface="Times New Roman"/>
              </a:rPr>
              <a:t>Pili sessual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esenti in numero di 1-10 per cellula, sono spessi 9-10 n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3453120" y="236520"/>
            <a:ext cx="22442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Coniug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3101"/>
          <p:cNvGrpSpPr/>
          <p:nvPr/>
        </p:nvGrpSpPr>
        <p:grpSpPr>
          <a:xfrm>
            <a:off x="641160" y="318960"/>
            <a:ext cx="7781760" cy="6206760"/>
            <a:chOff x="641160" y="318960"/>
            <a:chExt cx="7781760" cy="6206760"/>
          </a:xfrm>
        </p:grpSpPr>
        <p:grpSp>
          <p:nvGrpSpPr>
            <p:cNvPr id="551" name="Group 33"/>
            <p:cNvGrpSpPr/>
            <p:nvPr/>
          </p:nvGrpSpPr>
          <p:grpSpPr>
            <a:xfrm>
              <a:off x="1357200" y="318960"/>
              <a:ext cx="2790360" cy="1560240"/>
              <a:chOff x="1357200" y="318960"/>
              <a:chExt cx="2790360" cy="1560240"/>
            </a:xfrm>
          </p:grpSpPr>
          <p:grpSp>
            <p:nvGrpSpPr>
              <p:cNvPr id="552" name="Group 4"/>
              <p:cNvGrpSpPr/>
              <p:nvPr/>
            </p:nvGrpSpPr>
            <p:grpSpPr>
              <a:xfrm>
                <a:off x="1357200" y="318960"/>
                <a:ext cx="2790360" cy="1560240"/>
                <a:chOff x="1357200" y="318960"/>
                <a:chExt cx="2790360" cy="1560240"/>
              </a:xfrm>
            </p:grpSpPr>
            <p:sp>
              <p:nvSpPr>
                <p:cNvPr id="553" name="AutoShape 5"/>
                <p:cNvSpPr/>
                <p:nvPr/>
              </p:nvSpPr>
              <p:spPr>
                <a:xfrm>
                  <a:off x="1357200" y="318960"/>
                  <a:ext cx="2790360" cy="156024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4" name="AutoShape 6"/>
                <p:cNvSpPr/>
                <p:nvPr/>
              </p:nvSpPr>
              <p:spPr>
                <a:xfrm>
                  <a:off x="1498680" y="434880"/>
                  <a:ext cx="2486160" cy="132624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5" name="AutoShape 7"/>
                <p:cNvSpPr/>
                <p:nvPr/>
              </p:nvSpPr>
              <p:spPr>
                <a:xfrm>
                  <a:off x="1551240" y="480240"/>
                  <a:ext cx="2395440" cy="122616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6" name="Group 10"/>
              <p:cNvGrpSpPr/>
              <p:nvPr/>
            </p:nvGrpSpPr>
            <p:grpSpPr>
              <a:xfrm>
                <a:off x="1790640" y="677880"/>
                <a:ext cx="993600" cy="895320"/>
                <a:chOff x="1790640" y="677880"/>
                <a:chExt cx="993600" cy="895320"/>
              </a:xfrm>
            </p:grpSpPr>
            <p:sp>
              <p:nvSpPr>
                <p:cNvPr id="557" name="Oval 8"/>
                <p:cNvSpPr/>
                <p:nvPr/>
              </p:nvSpPr>
              <p:spPr>
                <a:xfrm>
                  <a:off x="1866600" y="74124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" name="Oval 9"/>
                <p:cNvSpPr/>
                <p:nvPr/>
              </p:nvSpPr>
              <p:spPr>
                <a:xfrm>
                  <a:off x="1790640" y="67788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9" name="Group 14"/>
              <p:cNvGrpSpPr/>
              <p:nvPr/>
            </p:nvGrpSpPr>
            <p:grpSpPr>
              <a:xfrm>
                <a:off x="3047760" y="817560"/>
                <a:ext cx="536400" cy="488880"/>
                <a:chOff x="3047760" y="817560"/>
                <a:chExt cx="536400" cy="488880"/>
              </a:xfrm>
            </p:grpSpPr>
            <p:sp>
              <p:nvSpPr>
                <p:cNvPr id="560" name="Oval 12"/>
                <p:cNvSpPr/>
                <p:nvPr/>
              </p:nvSpPr>
              <p:spPr>
                <a:xfrm>
                  <a:off x="3111120" y="871560"/>
                  <a:ext cx="409680" cy="37764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" name="Oval 13"/>
                <p:cNvSpPr/>
                <p:nvPr/>
              </p:nvSpPr>
              <p:spPr>
                <a:xfrm>
                  <a:off x="3047760" y="817560"/>
                  <a:ext cx="536400" cy="48888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62" name="Group 41"/>
            <p:cNvGrpSpPr/>
            <p:nvPr/>
          </p:nvGrpSpPr>
          <p:grpSpPr>
            <a:xfrm>
              <a:off x="4964040" y="331920"/>
              <a:ext cx="2790360" cy="1559880"/>
              <a:chOff x="4964040" y="331920"/>
              <a:chExt cx="2790360" cy="1559880"/>
            </a:xfrm>
          </p:grpSpPr>
          <p:grpSp>
            <p:nvGrpSpPr>
              <p:cNvPr id="563" name="Group 15"/>
              <p:cNvGrpSpPr/>
              <p:nvPr/>
            </p:nvGrpSpPr>
            <p:grpSpPr>
              <a:xfrm>
                <a:off x="4964040" y="331920"/>
                <a:ext cx="2790360" cy="1559880"/>
                <a:chOff x="4964040" y="331920"/>
                <a:chExt cx="2790360" cy="1559880"/>
              </a:xfrm>
            </p:grpSpPr>
            <p:sp>
              <p:nvSpPr>
                <p:cNvPr id="564" name="AutoShape 16"/>
                <p:cNvSpPr/>
                <p:nvPr/>
              </p:nvSpPr>
              <p:spPr>
                <a:xfrm>
                  <a:off x="4964040" y="331920"/>
                  <a:ext cx="2790360" cy="155988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5" name="AutoShape 17"/>
                <p:cNvSpPr/>
                <p:nvPr/>
              </p:nvSpPr>
              <p:spPr>
                <a:xfrm>
                  <a:off x="5105520" y="447840"/>
                  <a:ext cx="2486160" cy="132588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6" name="AutoShape 18"/>
                <p:cNvSpPr/>
                <p:nvPr/>
              </p:nvSpPr>
              <p:spPr>
                <a:xfrm>
                  <a:off x="5158080" y="493200"/>
                  <a:ext cx="2395440" cy="122580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67" name="Group 19"/>
              <p:cNvGrpSpPr/>
              <p:nvPr/>
            </p:nvGrpSpPr>
            <p:grpSpPr>
              <a:xfrm>
                <a:off x="6438600" y="639720"/>
                <a:ext cx="993600" cy="894960"/>
                <a:chOff x="6438600" y="639720"/>
                <a:chExt cx="993600" cy="894960"/>
              </a:xfrm>
            </p:grpSpPr>
            <p:sp>
              <p:nvSpPr>
                <p:cNvPr id="568" name="Oval 20"/>
                <p:cNvSpPr/>
                <p:nvPr/>
              </p:nvSpPr>
              <p:spPr>
                <a:xfrm>
                  <a:off x="6514560" y="702720"/>
                  <a:ext cx="841320" cy="76824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9" name="Oval 21"/>
                <p:cNvSpPr/>
                <p:nvPr/>
              </p:nvSpPr>
              <p:spPr>
                <a:xfrm>
                  <a:off x="6438600" y="639720"/>
                  <a:ext cx="993600" cy="89496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70" name="Group 23"/>
            <p:cNvGrpSpPr/>
            <p:nvPr/>
          </p:nvGrpSpPr>
          <p:grpSpPr>
            <a:xfrm>
              <a:off x="1781280" y="3022560"/>
              <a:ext cx="2790360" cy="1560240"/>
              <a:chOff x="1781280" y="3022560"/>
              <a:chExt cx="2790360" cy="1560240"/>
            </a:xfrm>
          </p:grpSpPr>
          <p:sp>
            <p:nvSpPr>
              <p:cNvPr id="571" name="AutoShape 24"/>
              <p:cNvSpPr/>
              <p:nvPr/>
            </p:nvSpPr>
            <p:spPr>
              <a:xfrm>
                <a:off x="1781280" y="3022560"/>
                <a:ext cx="2790360" cy="15602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AutoShape 25"/>
              <p:cNvSpPr/>
              <p:nvPr/>
            </p:nvSpPr>
            <p:spPr>
              <a:xfrm>
                <a:off x="1922760" y="3138480"/>
                <a:ext cx="2486160" cy="132624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AutoShape 26"/>
              <p:cNvSpPr/>
              <p:nvPr/>
            </p:nvSpPr>
            <p:spPr>
              <a:xfrm>
                <a:off x="1975320" y="3183840"/>
                <a:ext cx="2395440" cy="122616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4" name="Group 27"/>
            <p:cNvGrpSpPr/>
            <p:nvPr/>
          </p:nvGrpSpPr>
          <p:grpSpPr>
            <a:xfrm>
              <a:off x="2151000" y="3381480"/>
              <a:ext cx="993600" cy="895320"/>
              <a:chOff x="2151000" y="3381480"/>
              <a:chExt cx="993600" cy="895320"/>
            </a:xfrm>
          </p:grpSpPr>
          <p:sp>
            <p:nvSpPr>
              <p:cNvPr id="575" name="Oval 28"/>
              <p:cNvSpPr/>
              <p:nvPr/>
            </p:nvSpPr>
            <p:spPr>
              <a:xfrm>
                <a:off x="2226960" y="3444840"/>
                <a:ext cx="841320" cy="76860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6" name="Oval 29"/>
              <p:cNvSpPr/>
              <p:nvPr/>
            </p:nvSpPr>
            <p:spPr>
              <a:xfrm>
                <a:off x="2151000" y="3381480"/>
                <a:ext cx="993600" cy="89532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7" name="Group 30"/>
            <p:cNvGrpSpPr/>
            <p:nvPr/>
          </p:nvGrpSpPr>
          <p:grpSpPr>
            <a:xfrm>
              <a:off x="3294000" y="3521160"/>
              <a:ext cx="536400" cy="488880"/>
              <a:chOff x="3294000" y="3521160"/>
              <a:chExt cx="536400" cy="488880"/>
            </a:xfrm>
          </p:grpSpPr>
          <p:sp>
            <p:nvSpPr>
              <p:cNvPr id="578" name="Oval 31"/>
              <p:cNvSpPr/>
              <p:nvPr/>
            </p:nvSpPr>
            <p:spPr>
              <a:xfrm>
                <a:off x="3357360" y="3575160"/>
                <a:ext cx="409680" cy="37764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" name="Oval 32"/>
              <p:cNvSpPr/>
              <p:nvPr/>
            </p:nvSpPr>
            <p:spPr>
              <a:xfrm>
                <a:off x="3294000" y="3521160"/>
                <a:ext cx="536400" cy="4888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80" name="Group 34"/>
            <p:cNvGrpSpPr/>
            <p:nvPr/>
          </p:nvGrpSpPr>
          <p:grpSpPr>
            <a:xfrm>
              <a:off x="4572000" y="3022560"/>
              <a:ext cx="2790360" cy="1560240"/>
              <a:chOff x="4572000" y="3022560"/>
              <a:chExt cx="2790360" cy="1560240"/>
            </a:xfrm>
          </p:grpSpPr>
          <p:sp>
            <p:nvSpPr>
              <p:cNvPr id="581" name="AutoShape 35"/>
              <p:cNvSpPr/>
              <p:nvPr/>
            </p:nvSpPr>
            <p:spPr>
              <a:xfrm>
                <a:off x="4572000" y="3022560"/>
                <a:ext cx="2790360" cy="15602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AutoShape 36"/>
              <p:cNvSpPr/>
              <p:nvPr/>
            </p:nvSpPr>
            <p:spPr>
              <a:xfrm>
                <a:off x="4713480" y="3138480"/>
                <a:ext cx="2486160" cy="132624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" name="AutoShape 37"/>
              <p:cNvSpPr/>
              <p:nvPr/>
            </p:nvSpPr>
            <p:spPr>
              <a:xfrm>
                <a:off x="4766040" y="3183840"/>
                <a:ext cx="2395440" cy="122616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84" name="Group 38"/>
            <p:cNvGrpSpPr/>
            <p:nvPr/>
          </p:nvGrpSpPr>
          <p:grpSpPr>
            <a:xfrm>
              <a:off x="6046920" y="3330720"/>
              <a:ext cx="993600" cy="895320"/>
              <a:chOff x="6046920" y="3330720"/>
              <a:chExt cx="993600" cy="895320"/>
            </a:xfrm>
          </p:grpSpPr>
          <p:sp>
            <p:nvSpPr>
              <p:cNvPr id="585" name="Oval 39"/>
              <p:cNvSpPr/>
              <p:nvPr/>
            </p:nvSpPr>
            <p:spPr>
              <a:xfrm>
                <a:off x="6122880" y="3394080"/>
                <a:ext cx="841320" cy="76860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6" name="Oval 40"/>
              <p:cNvSpPr/>
              <p:nvPr/>
            </p:nvSpPr>
            <p:spPr>
              <a:xfrm>
                <a:off x="6046920" y="3330720"/>
                <a:ext cx="993600" cy="89532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87" name="Rectangle 42"/>
            <p:cNvSpPr/>
            <p:nvPr/>
          </p:nvSpPr>
          <p:spPr>
            <a:xfrm>
              <a:off x="4203720" y="3708360"/>
              <a:ext cx="673200" cy="190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Rectangle 43"/>
            <p:cNvSpPr/>
            <p:nvPr/>
          </p:nvSpPr>
          <p:spPr>
            <a:xfrm>
              <a:off x="4394160" y="364500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Rectangle 44"/>
            <p:cNvSpPr/>
            <p:nvPr/>
          </p:nvSpPr>
          <p:spPr>
            <a:xfrm>
              <a:off x="4394160" y="387360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Text Box 77"/>
            <p:cNvSpPr/>
            <p:nvPr/>
          </p:nvSpPr>
          <p:spPr>
            <a:xfrm>
              <a:off x="2075040" y="1946160"/>
              <a:ext cx="117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donator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Text Box 78"/>
            <p:cNvSpPr/>
            <p:nvPr/>
          </p:nvSpPr>
          <p:spPr>
            <a:xfrm>
              <a:off x="5808600" y="1946160"/>
              <a:ext cx="117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riceve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Text Box 79"/>
            <p:cNvSpPr/>
            <p:nvPr/>
          </p:nvSpPr>
          <p:spPr>
            <a:xfrm>
              <a:off x="3144960" y="8920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Text Box 80"/>
            <p:cNvSpPr/>
            <p:nvPr/>
          </p:nvSpPr>
          <p:spPr>
            <a:xfrm>
              <a:off x="641160" y="752400"/>
              <a:ext cx="4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it-IT" sz="2400" spc="-1" strike="noStrike" baseline="38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Text Box 81"/>
            <p:cNvSpPr/>
            <p:nvPr/>
          </p:nvSpPr>
          <p:spPr>
            <a:xfrm>
              <a:off x="7967880" y="7524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it-IT" sz="3600" spc="-1" strike="noStrike" baseline="28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Line 82"/>
            <p:cNvSpPr/>
            <p:nvPr/>
          </p:nvSpPr>
          <p:spPr>
            <a:xfrm>
              <a:off x="4572000" y="275580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Text Box 83"/>
            <p:cNvSpPr/>
            <p:nvPr/>
          </p:nvSpPr>
          <p:spPr>
            <a:xfrm>
              <a:off x="3520440" y="2454120"/>
              <a:ext cx="212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ponte coniugativ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Text Box 3097"/>
            <p:cNvSpPr/>
            <p:nvPr/>
          </p:nvSpPr>
          <p:spPr>
            <a:xfrm>
              <a:off x="3719160" y="3287880"/>
              <a:ext cx="50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omic Sans MS"/>
                </a:rPr>
                <a:t>OriT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AutoShape 3098"/>
            <p:cNvSpPr/>
            <p:nvPr/>
          </p:nvSpPr>
          <p:spPr>
            <a:xfrm>
              <a:off x="3776760" y="3492360"/>
              <a:ext cx="139680" cy="114480"/>
            </a:xfrm>
            <a:prstGeom prst="rtTriangl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3100"/>
            <p:cNvGrpSpPr/>
            <p:nvPr/>
          </p:nvGrpSpPr>
          <p:grpSpPr>
            <a:xfrm>
              <a:off x="1781280" y="4965840"/>
              <a:ext cx="5581080" cy="1559880"/>
              <a:chOff x="1781280" y="4965840"/>
              <a:chExt cx="5581080" cy="1559880"/>
            </a:xfrm>
          </p:grpSpPr>
          <p:grpSp>
            <p:nvGrpSpPr>
              <p:cNvPr id="600" name="Group 45"/>
              <p:cNvGrpSpPr/>
              <p:nvPr/>
            </p:nvGrpSpPr>
            <p:grpSpPr>
              <a:xfrm>
                <a:off x="1781280" y="4965840"/>
                <a:ext cx="2790360" cy="1559880"/>
                <a:chOff x="1781280" y="4965840"/>
                <a:chExt cx="2790360" cy="1559880"/>
              </a:xfrm>
            </p:grpSpPr>
            <p:sp>
              <p:nvSpPr>
                <p:cNvPr id="601" name="AutoShape 46"/>
                <p:cNvSpPr/>
                <p:nvPr/>
              </p:nvSpPr>
              <p:spPr>
                <a:xfrm>
                  <a:off x="1781280" y="4965840"/>
                  <a:ext cx="2790360" cy="155988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AutoShape 47"/>
                <p:cNvSpPr/>
                <p:nvPr/>
              </p:nvSpPr>
              <p:spPr>
                <a:xfrm>
                  <a:off x="1922760" y="5081760"/>
                  <a:ext cx="2486160" cy="132588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AutoShape 48"/>
                <p:cNvSpPr/>
                <p:nvPr/>
              </p:nvSpPr>
              <p:spPr>
                <a:xfrm>
                  <a:off x="1975320" y="5127120"/>
                  <a:ext cx="2395440" cy="122580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4" name="Group 49"/>
              <p:cNvGrpSpPr/>
              <p:nvPr/>
            </p:nvGrpSpPr>
            <p:grpSpPr>
              <a:xfrm>
                <a:off x="2151000" y="5324400"/>
                <a:ext cx="993600" cy="895320"/>
                <a:chOff x="2151000" y="5324400"/>
                <a:chExt cx="993600" cy="895320"/>
              </a:xfrm>
            </p:grpSpPr>
            <p:sp>
              <p:nvSpPr>
                <p:cNvPr id="605" name="Oval 50"/>
                <p:cNvSpPr/>
                <p:nvPr/>
              </p:nvSpPr>
              <p:spPr>
                <a:xfrm>
                  <a:off x="2226960" y="538776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6" name="Oval 51"/>
                <p:cNvSpPr/>
                <p:nvPr/>
              </p:nvSpPr>
              <p:spPr>
                <a:xfrm>
                  <a:off x="2151000" y="532440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7" name="Group 55"/>
              <p:cNvGrpSpPr/>
              <p:nvPr/>
            </p:nvGrpSpPr>
            <p:grpSpPr>
              <a:xfrm>
                <a:off x="4572000" y="4965840"/>
                <a:ext cx="2790360" cy="1559880"/>
                <a:chOff x="4572000" y="4965840"/>
                <a:chExt cx="2790360" cy="1559880"/>
              </a:xfrm>
            </p:grpSpPr>
            <p:sp>
              <p:nvSpPr>
                <p:cNvPr id="608" name="AutoShape 56"/>
                <p:cNvSpPr/>
                <p:nvPr/>
              </p:nvSpPr>
              <p:spPr>
                <a:xfrm>
                  <a:off x="4572000" y="4965840"/>
                  <a:ext cx="2790360" cy="155988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AutoShape 57"/>
                <p:cNvSpPr/>
                <p:nvPr/>
              </p:nvSpPr>
              <p:spPr>
                <a:xfrm>
                  <a:off x="4713480" y="5081760"/>
                  <a:ext cx="2486160" cy="132588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AutoShape 58"/>
                <p:cNvSpPr/>
                <p:nvPr/>
              </p:nvSpPr>
              <p:spPr>
                <a:xfrm>
                  <a:off x="4766040" y="5127120"/>
                  <a:ext cx="2395440" cy="122580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11" name="Group 59"/>
              <p:cNvGrpSpPr/>
              <p:nvPr/>
            </p:nvGrpSpPr>
            <p:grpSpPr>
              <a:xfrm>
                <a:off x="6046920" y="5273640"/>
                <a:ext cx="993600" cy="895320"/>
                <a:chOff x="6046920" y="5273640"/>
                <a:chExt cx="993600" cy="895320"/>
              </a:xfrm>
            </p:grpSpPr>
            <p:sp>
              <p:nvSpPr>
                <p:cNvPr id="612" name="Oval 60"/>
                <p:cNvSpPr/>
                <p:nvPr/>
              </p:nvSpPr>
              <p:spPr>
                <a:xfrm>
                  <a:off x="6122880" y="533700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Oval 61"/>
                <p:cNvSpPr/>
                <p:nvPr/>
              </p:nvSpPr>
              <p:spPr>
                <a:xfrm>
                  <a:off x="6046920" y="527364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14" name="Rectangle 62"/>
              <p:cNvSpPr/>
              <p:nvPr/>
            </p:nvSpPr>
            <p:spPr>
              <a:xfrm>
                <a:off x="4203720" y="5651640"/>
                <a:ext cx="673200" cy="190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5" name="Rectangle 63"/>
              <p:cNvSpPr/>
              <p:nvPr/>
            </p:nvSpPr>
            <p:spPr>
              <a:xfrm>
                <a:off x="4394160" y="5587920"/>
                <a:ext cx="330120" cy="88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6" name="Rectangle 64"/>
              <p:cNvSpPr/>
              <p:nvPr/>
            </p:nvSpPr>
            <p:spPr>
              <a:xfrm>
                <a:off x="4394160" y="5816520"/>
                <a:ext cx="330120" cy="88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17" name="Group 76"/>
              <p:cNvGrpSpPr/>
              <p:nvPr/>
            </p:nvGrpSpPr>
            <p:grpSpPr>
              <a:xfrm>
                <a:off x="3532320" y="5638680"/>
                <a:ext cx="1874880" cy="647640"/>
                <a:chOff x="3532320" y="5638680"/>
                <a:chExt cx="1874880" cy="647640"/>
              </a:xfrm>
            </p:grpSpPr>
            <p:sp>
              <p:nvSpPr>
                <p:cNvPr id="618" name="Oval 67"/>
                <p:cNvSpPr/>
                <p:nvPr/>
              </p:nvSpPr>
              <p:spPr>
                <a:xfrm>
                  <a:off x="3532320" y="5743440"/>
                  <a:ext cx="536760" cy="48924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9" name="Rectangle 70"/>
                <p:cNvSpPr/>
                <p:nvPr/>
              </p:nvSpPr>
              <p:spPr>
                <a:xfrm>
                  <a:off x="3807000" y="5638680"/>
                  <a:ext cx="279360" cy="647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0" name="Oval 66"/>
                <p:cNvSpPr/>
                <p:nvPr/>
              </p:nvSpPr>
              <p:spPr>
                <a:xfrm>
                  <a:off x="3608640" y="5797440"/>
                  <a:ext cx="409680" cy="3780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1" name="Line 69"/>
                <p:cNvSpPr/>
                <p:nvPr/>
              </p:nvSpPr>
              <p:spPr>
                <a:xfrm>
                  <a:off x="3794400" y="5740560"/>
                  <a:ext cx="1612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22" name="Text Box 3099"/>
              <p:cNvSpPr/>
              <p:nvPr/>
            </p:nvSpPr>
            <p:spPr>
              <a:xfrm>
                <a:off x="5057640" y="5489640"/>
                <a:ext cx="50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Comic Sans MS"/>
                  </a:rPr>
                  <a:t>OriT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076"/>
          <p:cNvGrpSpPr/>
          <p:nvPr/>
        </p:nvGrpSpPr>
        <p:grpSpPr>
          <a:xfrm>
            <a:off x="533520" y="838080"/>
            <a:ext cx="8178840" cy="5594040"/>
            <a:chOff x="533520" y="838080"/>
            <a:chExt cx="8178840" cy="5594040"/>
          </a:xfrm>
        </p:grpSpPr>
        <p:sp>
          <p:nvSpPr>
            <p:cNvPr id="624" name="Rectangle 1088"/>
            <p:cNvSpPr/>
            <p:nvPr/>
          </p:nvSpPr>
          <p:spPr>
            <a:xfrm>
              <a:off x="7920000" y="4202280"/>
              <a:ext cx="5205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25" name="Group 1026"/>
            <p:cNvGrpSpPr/>
            <p:nvPr/>
          </p:nvGrpSpPr>
          <p:grpSpPr>
            <a:xfrm>
              <a:off x="1781280" y="838080"/>
              <a:ext cx="2790360" cy="1560240"/>
              <a:chOff x="1781280" y="838080"/>
              <a:chExt cx="2790360" cy="1560240"/>
            </a:xfrm>
          </p:grpSpPr>
          <p:sp>
            <p:nvSpPr>
              <p:cNvPr id="626" name="AutoShape 1027"/>
              <p:cNvSpPr/>
              <p:nvPr/>
            </p:nvSpPr>
            <p:spPr>
              <a:xfrm>
                <a:off x="1781280" y="838080"/>
                <a:ext cx="2790360" cy="15602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7" name="AutoShape 1028"/>
              <p:cNvSpPr/>
              <p:nvPr/>
            </p:nvSpPr>
            <p:spPr>
              <a:xfrm>
                <a:off x="1922760" y="954000"/>
                <a:ext cx="2486160" cy="132624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8" name="AutoShape 1029"/>
              <p:cNvSpPr/>
              <p:nvPr/>
            </p:nvSpPr>
            <p:spPr>
              <a:xfrm>
                <a:off x="1975320" y="999360"/>
                <a:ext cx="2395440" cy="122616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29" name="Group 1030"/>
            <p:cNvGrpSpPr/>
            <p:nvPr/>
          </p:nvGrpSpPr>
          <p:grpSpPr>
            <a:xfrm>
              <a:off x="2151000" y="1197000"/>
              <a:ext cx="993600" cy="895320"/>
              <a:chOff x="2151000" y="1197000"/>
              <a:chExt cx="993600" cy="895320"/>
            </a:xfrm>
          </p:grpSpPr>
          <p:sp>
            <p:nvSpPr>
              <p:cNvPr id="630" name="Oval 1031"/>
              <p:cNvSpPr/>
              <p:nvPr/>
            </p:nvSpPr>
            <p:spPr>
              <a:xfrm>
                <a:off x="2226960" y="1260360"/>
                <a:ext cx="841320" cy="76860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Oval 1032"/>
              <p:cNvSpPr/>
              <p:nvPr/>
            </p:nvSpPr>
            <p:spPr>
              <a:xfrm>
                <a:off x="2151000" y="1197000"/>
                <a:ext cx="993600" cy="89532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32" name="Group 1033"/>
            <p:cNvGrpSpPr/>
            <p:nvPr/>
          </p:nvGrpSpPr>
          <p:grpSpPr>
            <a:xfrm>
              <a:off x="4572000" y="838080"/>
              <a:ext cx="2790360" cy="1560240"/>
              <a:chOff x="4572000" y="838080"/>
              <a:chExt cx="2790360" cy="1560240"/>
            </a:xfrm>
          </p:grpSpPr>
          <p:sp>
            <p:nvSpPr>
              <p:cNvPr id="633" name="AutoShape 1034"/>
              <p:cNvSpPr/>
              <p:nvPr/>
            </p:nvSpPr>
            <p:spPr>
              <a:xfrm>
                <a:off x="4572000" y="838080"/>
                <a:ext cx="2790360" cy="15602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AutoShape 1035"/>
              <p:cNvSpPr/>
              <p:nvPr/>
            </p:nvSpPr>
            <p:spPr>
              <a:xfrm>
                <a:off x="4713480" y="954000"/>
                <a:ext cx="2486160" cy="132624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AutoShape 1036"/>
              <p:cNvSpPr/>
              <p:nvPr/>
            </p:nvSpPr>
            <p:spPr>
              <a:xfrm>
                <a:off x="4766040" y="999360"/>
                <a:ext cx="2395440" cy="122616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36" name="Group 1037"/>
            <p:cNvGrpSpPr/>
            <p:nvPr/>
          </p:nvGrpSpPr>
          <p:grpSpPr>
            <a:xfrm>
              <a:off x="6046920" y="1146240"/>
              <a:ext cx="993600" cy="895320"/>
              <a:chOff x="6046920" y="1146240"/>
              <a:chExt cx="993600" cy="895320"/>
            </a:xfrm>
          </p:grpSpPr>
          <p:sp>
            <p:nvSpPr>
              <p:cNvPr id="637" name="Oval 1038"/>
              <p:cNvSpPr/>
              <p:nvPr/>
            </p:nvSpPr>
            <p:spPr>
              <a:xfrm>
                <a:off x="6122880" y="1209600"/>
                <a:ext cx="841320" cy="76860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Oval 1039"/>
              <p:cNvSpPr/>
              <p:nvPr/>
            </p:nvSpPr>
            <p:spPr>
              <a:xfrm>
                <a:off x="6046920" y="1146240"/>
                <a:ext cx="993600" cy="89532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39" name="Rectangle 1040"/>
            <p:cNvSpPr/>
            <p:nvPr/>
          </p:nvSpPr>
          <p:spPr>
            <a:xfrm>
              <a:off x="4203720" y="1523880"/>
              <a:ext cx="673200" cy="190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Rectangle 1041"/>
            <p:cNvSpPr/>
            <p:nvPr/>
          </p:nvSpPr>
          <p:spPr>
            <a:xfrm>
              <a:off x="4394160" y="146052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Rectangle 1042"/>
            <p:cNvSpPr/>
            <p:nvPr/>
          </p:nvSpPr>
          <p:spPr>
            <a:xfrm>
              <a:off x="4394160" y="168912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42" name="Group 1076"/>
            <p:cNvGrpSpPr/>
            <p:nvPr/>
          </p:nvGrpSpPr>
          <p:grpSpPr>
            <a:xfrm>
              <a:off x="3532320" y="1511280"/>
              <a:ext cx="1874880" cy="647640"/>
              <a:chOff x="3532320" y="1511280"/>
              <a:chExt cx="1874880" cy="647640"/>
            </a:xfrm>
          </p:grpSpPr>
          <p:grpSp>
            <p:nvGrpSpPr>
              <p:cNvPr id="643" name="Group 1043"/>
              <p:cNvGrpSpPr/>
              <p:nvPr/>
            </p:nvGrpSpPr>
            <p:grpSpPr>
              <a:xfrm>
                <a:off x="3532320" y="1511280"/>
                <a:ext cx="1874880" cy="647640"/>
                <a:chOff x="3532320" y="1511280"/>
                <a:chExt cx="1874880" cy="647640"/>
              </a:xfrm>
            </p:grpSpPr>
            <p:sp>
              <p:nvSpPr>
                <p:cNvPr id="644" name="Oval 1044"/>
                <p:cNvSpPr/>
                <p:nvPr/>
              </p:nvSpPr>
              <p:spPr>
                <a:xfrm>
                  <a:off x="3532320" y="1616040"/>
                  <a:ext cx="536760" cy="48924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5" name="Rectangle 1045"/>
                <p:cNvSpPr/>
                <p:nvPr/>
              </p:nvSpPr>
              <p:spPr>
                <a:xfrm>
                  <a:off x="3807000" y="1511280"/>
                  <a:ext cx="279360" cy="647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6" name="Oval 1046"/>
                <p:cNvSpPr/>
                <p:nvPr/>
              </p:nvSpPr>
              <p:spPr>
                <a:xfrm>
                  <a:off x="3608640" y="1670040"/>
                  <a:ext cx="409680" cy="3780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7" name="Line 1047"/>
                <p:cNvSpPr/>
                <p:nvPr/>
              </p:nvSpPr>
              <p:spPr>
                <a:xfrm>
                  <a:off x="3794400" y="1613160"/>
                  <a:ext cx="1612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48" name="Freeform 1049"/>
              <p:cNvSpPr/>
              <p:nvPr/>
            </p:nvSpPr>
            <p:spPr>
              <a:xfrm>
                <a:off x="3873600" y="1650960"/>
                <a:ext cx="203040" cy="45720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160" h="280">
                    <a:moveTo>
                      <a:pt x="112" y="0"/>
                    </a:moveTo>
                    <a:cubicBezTo>
                      <a:pt x="127" y="30"/>
                      <a:pt x="149" y="48"/>
                      <a:pt x="160" y="80"/>
                    </a:cubicBezTo>
                    <a:cubicBezTo>
                      <a:pt x="157" y="115"/>
                      <a:pt x="158" y="150"/>
                      <a:pt x="152" y="184"/>
                    </a:cubicBezTo>
                    <a:cubicBezTo>
                      <a:pt x="150" y="193"/>
                      <a:pt x="141" y="200"/>
                      <a:pt x="136" y="208"/>
                    </a:cubicBezTo>
                    <a:cubicBezTo>
                      <a:pt x="98" y="274"/>
                      <a:pt x="70" y="280"/>
                      <a:pt x="0" y="28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9" name="Line 1050"/>
              <p:cNvSpPr/>
              <p:nvPr/>
            </p:nvSpPr>
            <p:spPr>
              <a:xfrm>
                <a:off x="4915080" y="1689120"/>
                <a:ext cx="469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0" name="Group 1083"/>
            <p:cNvGrpSpPr/>
            <p:nvPr/>
          </p:nvGrpSpPr>
          <p:grpSpPr>
            <a:xfrm>
              <a:off x="4871880" y="3745080"/>
              <a:ext cx="2790360" cy="1559880"/>
              <a:chOff x="4871880" y="3745080"/>
              <a:chExt cx="2790360" cy="1559880"/>
            </a:xfrm>
          </p:grpSpPr>
          <p:grpSp>
            <p:nvGrpSpPr>
              <p:cNvPr id="651" name="Group 1059"/>
              <p:cNvGrpSpPr/>
              <p:nvPr/>
            </p:nvGrpSpPr>
            <p:grpSpPr>
              <a:xfrm>
                <a:off x="4871880" y="3745080"/>
                <a:ext cx="2790360" cy="1559880"/>
                <a:chOff x="4871880" y="3745080"/>
                <a:chExt cx="2790360" cy="1559880"/>
              </a:xfrm>
            </p:grpSpPr>
            <p:sp>
              <p:nvSpPr>
                <p:cNvPr id="652" name="AutoShape 1060"/>
                <p:cNvSpPr/>
                <p:nvPr/>
              </p:nvSpPr>
              <p:spPr>
                <a:xfrm>
                  <a:off x="4871880" y="3745080"/>
                  <a:ext cx="2790360" cy="155988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3" name="AutoShape 1061"/>
                <p:cNvSpPr/>
                <p:nvPr/>
              </p:nvSpPr>
              <p:spPr>
                <a:xfrm>
                  <a:off x="5013360" y="3861000"/>
                  <a:ext cx="2486160" cy="132588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4" name="AutoShape 1062"/>
                <p:cNvSpPr/>
                <p:nvPr/>
              </p:nvSpPr>
              <p:spPr>
                <a:xfrm>
                  <a:off x="5065920" y="3906360"/>
                  <a:ext cx="2395440" cy="122580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55" name="Group 1063"/>
              <p:cNvGrpSpPr/>
              <p:nvPr/>
            </p:nvGrpSpPr>
            <p:grpSpPr>
              <a:xfrm>
                <a:off x="6346800" y="4052880"/>
                <a:ext cx="993600" cy="895320"/>
                <a:chOff x="6346800" y="4052880"/>
                <a:chExt cx="993600" cy="895320"/>
              </a:xfrm>
            </p:grpSpPr>
            <p:sp>
              <p:nvSpPr>
                <p:cNvPr id="656" name="Oval 1064"/>
                <p:cNvSpPr/>
                <p:nvPr/>
              </p:nvSpPr>
              <p:spPr>
                <a:xfrm>
                  <a:off x="6422760" y="411624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7" name="Oval 1065"/>
                <p:cNvSpPr/>
                <p:nvPr/>
              </p:nvSpPr>
              <p:spPr>
                <a:xfrm>
                  <a:off x="6346800" y="405288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58" name="Group 1080"/>
              <p:cNvGrpSpPr/>
              <p:nvPr/>
            </p:nvGrpSpPr>
            <p:grpSpPr>
              <a:xfrm>
                <a:off x="5406840" y="4332240"/>
                <a:ext cx="536760" cy="488880"/>
                <a:chOff x="5406840" y="4332240"/>
                <a:chExt cx="536760" cy="488880"/>
              </a:xfrm>
            </p:grpSpPr>
            <p:sp>
              <p:nvSpPr>
                <p:cNvPr id="659" name="Oval 1070"/>
                <p:cNvSpPr/>
                <p:nvPr/>
              </p:nvSpPr>
              <p:spPr>
                <a:xfrm>
                  <a:off x="5406840" y="4332240"/>
                  <a:ext cx="536760" cy="48888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0" name="Oval 1072"/>
                <p:cNvSpPr/>
                <p:nvPr/>
              </p:nvSpPr>
              <p:spPr>
                <a:xfrm>
                  <a:off x="5483160" y="4386240"/>
                  <a:ext cx="384120" cy="3780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61" name="Group 1082"/>
            <p:cNvGrpSpPr/>
            <p:nvPr/>
          </p:nvGrpSpPr>
          <p:grpSpPr>
            <a:xfrm>
              <a:off x="1446120" y="3745080"/>
              <a:ext cx="2790360" cy="1559880"/>
              <a:chOff x="1446120" y="3745080"/>
              <a:chExt cx="2790360" cy="1559880"/>
            </a:xfrm>
          </p:grpSpPr>
          <p:grpSp>
            <p:nvGrpSpPr>
              <p:cNvPr id="662" name="Group 1052"/>
              <p:cNvGrpSpPr/>
              <p:nvPr/>
            </p:nvGrpSpPr>
            <p:grpSpPr>
              <a:xfrm>
                <a:off x="1446120" y="3745080"/>
                <a:ext cx="2790360" cy="1559880"/>
                <a:chOff x="1446120" y="3745080"/>
                <a:chExt cx="2790360" cy="1559880"/>
              </a:xfrm>
            </p:grpSpPr>
            <p:sp>
              <p:nvSpPr>
                <p:cNvPr id="663" name="AutoShape 1053"/>
                <p:cNvSpPr/>
                <p:nvPr/>
              </p:nvSpPr>
              <p:spPr>
                <a:xfrm>
                  <a:off x="1446120" y="3745080"/>
                  <a:ext cx="2790360" cy="155988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4" name="AutoShape 1054"/>
                <p:cNvSpPr/>
                <p:nvPr/>
              </p:nvSpPr>
              <p:spPr>
                <a:xfrm>
                  <a:off x="1587600" y="3861000"/>
                  <a:ext cx="2486160" cy="132588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5" name="AutoShape 1055"/>
                <p:cNvSpPr/>
                <p:nvPr/>
              </p:nvSpPr>
              <p:spPr>
                <a:xfrm>
                  <a:off x="1640160" y="3906360"/>
                  <a:ext cx="2395440" cy="122580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66" name="Group 1056"/>
              <p:cNvGrpSpPr/>
              <p:nvPr/>
            </p:nvGrpSpPr>
            <p:grpSpPr>
              <a:xfrm>
                <a:off x="1815840" y="4103640"/>
                <a:ext cx="993600" cy="895320"/>
                <a:chOff x="1815840" y="4103640"/>
                <a:chExt cx="993600" cy="895320"/>
              </a:xfrm>
            </p:grpSpPr>
            <p:sp>
              <p:nvSpPr>
                <p:cNvPr id="667" name="Oval 1057"/>
                <p:cNvSpPr/>
                <p:nvPr/>
              </p:nvSpPr>
              <p:spPr>
                <a:xfrm>
                  <a:off x="1891800" y="416700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8" name="Oval 1058"/>
                <p:cNvSpPr/>
                <p:nvPr/>
              </p:nvSpPr>
              <p:spPr>
                <a:xfrm>
                  <a:off x="1815840" y="410364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69" name="Group 1079"/>
              <p:cNvGrpSpPr/>
              <p:nvPr/>
            </p:nvGrpSpPr>
            <p:grpSpPr>
              <a:xfrm>
                <a:off x="3197160" y="4294080"/>
                <a:ext cx="536400" cy="488880"/>
                <a:chOff x="3197160" y="4294080"/>
                <a:chExt cx="536400" cy="488880"/>
              </a:xfrm>
            </p:grpSpPr>
            <p:sp>
              <p:nvSpPr>
                <p:cNvPr id="670" name="Oval 1077"/>
                <p:cNvSpPr/>
                <p:nvPr/>
              </p:nvSpPr>
              <p:spPr>
                <a:xfrm>
                  <a:off x="3197160" y="4294080"/>
                  <a:ext cx="536400" cy="48888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1" name="Oval 1078"/>
                <p:cNvSpPr/>
                <p:nvPr/>
              </p:nvSpPr>
              <p:spPr>
                <a:xfrm>
                  <a:off x="3273120" y="4347720"/>
                  <a:ext cx="383760" cy="3780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72" name="Text Box 1081"/>
            <p:cNvSpPr/>
            <p:nvPr/>
          </p:nvSpPr>
          <p:spPr>
            <a:xfrm>
              <a:off x="1035000" y="1349280"/>
              <a:ext cx="4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it-IT" sz="2400" spc="-1" strike="noStrike" baseline="38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Text Box 1084"/>
            <p:cNvSpPr/>
            <p:nvPr/>
          </p:nvSpPr>
          <p:spPr>
            <a:xfrm>
              <a:off x="7939080" y="4255920"/>
              <a:ext cx="4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it-IT" sz="2400" spc="-1" strike="noStrike" baseline="38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Text Box 1085"/>
            <p:cNvSpPr/>
            <p:nvPr/>
          </p:nvSpPr>
          <p:spPr>
            <a:xfrm>
              <a:off x="763560" y="4370400"/>
              <a:ext cx="4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it-IT" sz="2400" spc="-1" strike="noStrike" baseline="38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Text Box 1086"/>
            <p:cNvSpPr/>
            <p:nvPr/>
          </p:nvSpPr>
          <p:spPr>
            <a:xfrm>
              <a:off x="7650360" y="12859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it-IT" sz="3600" spc="-1" strike="noStrike" baseline="28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Text Box 1090"/>
            <p:cNvSpPr/>
            <p:nvPr/>
          </p:nvSpPr>
          <p:spPr>
            <a:xfrm>
              <a:off x="533520" y="2652840"/>
              <a:ext cx="812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Viene trasferito un filamento singolo di F. Nel ricevente viene sintetizzato il filamento complementar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Text Box 1091"/>
            <p:cNvSpPr/>
            <p:nvPr/>
          </p:nvSpPr>
          <p:spPr>
            <a:xfrm>
              <a:off x="584280" y="5789520"/>
              <a:ext cx="812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Una copia del cromosoma con F rimane nella cellula donatrice dopo la replicazione della singola elica resta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WordArt 2"/>
          <p:cNvSpPr txBox="1"/>
          <p:nvPr/>
        </p:nvSpPr>
        <p:spPr>
          <a:xfrm>
            <a:off x="990720" y="247680"/>
            <a:ext cx="21589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ff"/>
                </a:solidFill>
                <a:latin typeface="Arial Black"/>
              </a:rPr>
              <a:t>Il Fattore F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ff"/>
              </a:solidFill>
              <a:latin typeface="Arial Black"/>
              <a:ea typeface="Arial Black"/>
            </a:endParaRPr>
          </a:p>
        </p:txBody>
      </p:sp>
      <p:grpSp>
        <p:nvGrpSpPr>
          <p:cNvPr id="679" name="Group 3"/>
          <p:cNvGrpSpPr/>
          <p:nvPr/>
        </p:nvGrpSpPr>
        <p:grpSpPr>
          <a:xfrm>
            <a:off x="431640" y="923760"/>
            <a:ext cx="3962520" cy="3048120"/>
            <a:chOff x="431640" y="923760"/>
            <a:chExt cx="3962520" cy="3048120"/>
          </a:xfrm>
        </p:grpSpPr>
        <p:sp>
          <p:nvSpPr>
            <p:cNvPr id="680" name="Rectangle 4"/>
            <p:cNvSpPr/>
            <p:nvPr/>
          </p:nvSpPr>
          <p:spPr>
            <a:xfrm>
              <a:off x="431640" y="923760"/>
              <a:ext cx="3962520" cy="3048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Text Box 5"/>
            <p:cNvSpPr/>
            <p:nvPr/>
          </p:nvSpPr>
          <p:spPr>
            <a:xfrm>
              <a:off x="620280" y="1060200"/>
              <a:ext cx="37422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Il DNA può essere divis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in 4 regioni: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1. Regione 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Times New Roman"/>
                </a:rPr>
                <a:t>tra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(35 Kb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2. Regione della replicazion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Times New Roman"/>
                </a:rPr>
                <a:t>inc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Times New Roman"/>
                </a:rPr>
                <a:t>rep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3. Elementi trasponibili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4. Regione silen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82" name="Rectangle 7"/>
          <p:cNvSpPr/>
          <p:nvPr/>
        </p:nvSpPr>
        <p:spPr>
          <a:xfrm>
            <a:off x="4867200" y="619200"/>
            <a:ext cx="3505320" cy="335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3" name="Group 53"/>
          <p:cNvGrpSpPr/>
          <p:nvPr/>
        </p:nvGrpSpPr>
        <p:grpSpPr>
          <a:xfrm>
            <a:off x="5081760" y="754200"/>
            <a:ext cx="3116160" cy="3105720"/>
            <a:chOff x="5081760" y="754200"/>
            <a:chExt cx="3116160" cy="3105720"/>
          </a:xfrm>
        </p:grpSpPr>
        <p:sp>
          <p:nvSpPr>
            <p:cNvPr id="684" name="Oval 9"/>
            <p:cNvSpPr/>
            <p:nvPr/>
          </p:nvSpPr>
          <p:spPr>
            <a:xfrm>
              <a:off x="5375160" y="1038240"/>
              <a:ext cx="2489400" cy="24890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Arc 10"/>
            <p:cNvSpPr/>
            <p:nvPr/>
          </p:nvSpPr>
          <p:spPr>
            <a:xfrm>
              <a:off x="6620040" y="1111320"/>
              <a:ext cx="596880" cy="117144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fill="none" w="10475" h="20549">
                  <a:moveTo>
                    <a:pt x="6654" y="-1"/>
                  </a:moveTo>
                  <a:cubicBezTo>
                    <a:pt x="7978" y="428"/>
                    <a:pt x="9258" y="984"/>
                    <a:pt x="10475" y="1659"/>
                  </a:cubicBezTo>
                </a:path>
                <a:path stroke="0" w="10475" h="20549">
                  <a:moveTo>
                    <a:pt x="6654" y="-1"/>
                  </a:moveTo>
                  <a:cubicBezTo>
                    <a:pt x="7978" y="428"/>
                    <a:pt x="9258" y="984"/>
                    <a:pt x="10475" y="1659"/>
                  </a:cubicBezTo>
                  <a:lnTo>
                    <a:pt x="0" y="20549"/>
                  </a:lnTo>
                  <a:close/>
                </a:path>
              </a:pathLst>
            </a:custGeom>
            <a:noFill/>
            <a:ln w="8892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Rectangle 11"/>
            <p:cNvSpPr/>
            <p:nvPr/>
          </p:nvSpPr>
          <p:spPr>
            <a:xfrm>
              <a:off x="7102440" y="8352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IS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Arc 12"/>
            <p:cNvSpPr/>
            <p:nvPr/>
          </p:nvSpPr>
          <p:spPr>
            <a:xfrm>
              <a:off x="6620040" y="1285920"/>
              <a:ext cx="900000" cy="99684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996840"/>
                <a:gd name="textAreaBottom" fmla="*/ 997200 h 996840"/>
              </a:gdLst>
              <a:ahLst/>
              <a:rect l="textAreaLeft" t="textAreaTop" r="textAreaRight" b="textAreaBottom"/>
              <a:pathLst>
                <a:path fill="none" w="15793" h="17468">
                  <a:moveTo>
                    <a:pt x="12704" y="-1"/>
                  </a:moveTo>
                  <a:cubicBezTo>
                    <a:pt x="13818" y="809"/>
                    <a:pt x="14853" y="1725"/>
                    <a:pt x="15793" y="2732"/>
                  </a:cubicBezTo>
                </a:path>
                <a:path stroke="0" w="15793" h="17468">
                  <a:moveTo>
                    <a:pt x="12704" y="-1"/>
                  </a:moveTo>
                  <a:cubicBezTo>
                    <a:pt x="13818" y="809"/>
                    <a:pt x="14853" y="1725"/>
                    <a:pt x="15793" y="2732"/>
                  </a:cubicBezTo>
                  <a:lnTo>
                    <a:pt x="0" y="17468"/>
                  </a:lnTo>
                  <a:close/>
                </a:path>
              </a:pathLst>
            </a:custGeom>
            <a:noFill/>
            <a:ln w="8892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Rectangle 13"/>
            <p:cNvSpPr/>
            <p:nvPr/>
          </p:nvSpPr>
          <p:spPr>
            <a:xfrm>
              <a:off x="7493400" y="106380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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Arc 14"/>
            <p:cNvSpPr/>
            <p:nvPr/>
          </p:nvSpPr>
          <p:spPr>
            <a:xfrm>
              <a:off x="6620040" y="1558800"/>
              <a:ext cx="1117440" cy="72396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723960"/>
                <a:gd name="textAreaBottom" fmla="*/ 723960 h 723960"/>
              </a:gdLst>
              <a:ahLst/>
              <a:rect l="textAreaLeft" t="textAreaTop" r="textAreaRight" b="textAreaBottom"/>
              <a:pathLst>
                <a:path fill="none" w="19584" h="12704">
                  <a:moveTo>
                    <a:pt x="17468" y="-1"/>
                  </a:moveTo>
                  <a:cubicBezTo>
                    <a:pt x="18288" y="1126"/>
                    <a:pt x="18997" y="2330"/>
                    <a:pt x="19585" y="3594"/>
                  </a:cubicBezTo>
                </a:path>
                <a:path stroke="0" w="19584" h="12704">
                  <a:moveTo>
                    <a:pt x="17468" y="-1"/>
                  </a:moveTo>
                  <a:cubicBezTo>
                    <a:pt x="18288" y="1126"/>
                    <a:pt x="18997" y="2330"/>
                    <a:pt x="19585" y="3594"/>
                  </a:cubicBezTo>
                  <a:lnTo>
                    <a:pt x="0" y="12704"/>
                  </a:lnTo>
                  <a:close/>
                </a:path>
              </a:pathLst>
            </a:custGeom>
            <a:noFill/>
            <a:ln w="8892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Rectangle 15"/>
            <p:cNvSpPr/>
            <p:nvPr/>
          </p:nvSpPr>
          <p:spPr>
            <a:xfrm>
              <a:off x="7775640" y="14065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IS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Arc 16"/>
            <p:cNvSpPr/>
            <p:nvPr/>
          </p:nvSpPr>
          <p:spPr>
            <a:xfrm>
              <a:off x="6620040" y="1903320"/>
              <a:ext cx="1209600" cy="37944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fill="none" w="21202" h="6654">
                  <a:moveTo>
                    <a:pt x="20549" y="-1"/>
                  </a:moveTo>
                  <a:cubicBezTo>
                    <a:pt x="20818" y="829"/>
                    <a:pt x="21036" y="1674"/>
                    <a:pt x="21202" y="2530"/>
                  </a:cubicBezTo>
                </a:path>
                <a:path stroke="0" w="21202" h="6654">
                  <a:moveTo>
                    <a:pt x="20549" y="-1"/>
                  </a:moveTo>
                  <a:cubicBezTo>
                    <a:pt x="20818" y="829"/>
                    <a:pt x="21036" y="1674"/>
                    <a:pt x="21202" y="2530"/>
                  </a:cubicBezTo>
                  <a:lnTo>
                    <a:pt x="0" y="6654"/>
                  </a:lnTo>
                  <a:close/>
                </a:path>
              </a:pathLst>
            </a:custGeom>
            <a:noFill/>
            <a:ln w="889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Rectangle 17"/>
            <p:cNvSpPr/>
            <p:nvPr/>
          </p:nvSpPr>
          <p:spPr>
            <a:xfrm>
              <a:off x="7915320" y="1774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IS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Arc 18"/>
            <p:cNvSpPr/>
            <p:nvPr/>
          </p:nvSpPr>
          <p:spPr>
            <a:xfrm>
              <a:off x="6470640" y="2282760"/>
              <a:ext cx="298440" cy="123192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1231920"/>
                <a:gd name="textAreaBottom" fmla="*/ 1231920 h 1231920"/>
              </a:gdLst>
              <a:ahLst/>
              <a:rect l="textAreaLeft" t="textAreaTop" r="textAreaRight" b="textAreaBottom"/>
              <a:pathLst>
                <a:path fill="none" w="5234" h="21600">
                  <a:moveTo>
                    <a:pt x="5234" y="21440"/>
                  </a:moveTo>
                  <a:cubicBezTo>
                    <a:pt x="4365" y="21546"/>
                    <a:pt x="3491" y="21599"/>
                    <a:pt x="2617" y="21600"/>
                  </a:cubicBezTo>
                  <a:cubicBezTo>
                    <a:pt x="1742" y="21600"/>
                    <a:pt x="868" y="21546"/>
                    <a:pt x="-1" y="21440"/>
                  </a:cubicBezTo>
                </a:path>
                <a:path stroke="0" w="5234" h="21600">
                  <a:moveTo>
                    <a:pt x="5234" y="21440"/>
                  </a:moveTo>
                  <a:cubicBezTo>
                    <a:pt x="4365" y="21546"/>
                    <a:pt x="3491" y="21599"/>
                    <a:pt x="2617" y="21600"/>
                  </a:cubicBezTo>
                  <a:cubicBezTo>
                    <a:pt x="1742" y="21600"/>
                    <a:pt x="868" y="21546"/>
                    <a:pt x="-1" y="21440"/>
                  </a:cubicBezTo>
                  <a:lnTo>
                    <a:pt x="2617" y="0"/>
                  </a:lnTo>
                  <a:close/>
                </a:path>
              </a:pathLst>
            </a:custGeom>
            <a:noFill/>
            <a:ln w="8892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Rectangle 19"/>
            <p:cNvSpPr/>
            <p:nvPr/>
          </p:nvSpPr>
          <p:spPr>
            <a:xfrm>
              <a:off x="6328800" y="36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inc, re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Arc 20"/>
            <p:cNvSpPr/>
            <p:nvPr/>
          </p:nvSpPr>
          <p:spPr>
            <a:xfrm>
              <a:off x="6137280" y="2333520"/>
              <a:ext cx="519120" cy="11718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171800"/>
                <a:gd name="textAreaBottom" fmla="*/ 1172160 h 1171800"/>
              </a:gdLst>
              <a:ahLst/>
              <a:rect l="textAreaLeft" t="textAreaTop" r="textAreaRight" b="textAreaBottom"/>
              <a:pathLst>
                <a:path fill="none" w="9123" h="20549">
                  <a:moveTo>
                    <a:pt x="2468" y="20549"/>
                  </a:moveTo>
                  <a:cubicBezTo>
                    <a:pt x="1626" y="20276"/>
                    <a:pt x="802" y="19952"/>
                    <a:pt x="-1" y="19578"/>
                  </a:cubicBezTo>
                </a:path>
                <a:path stroke="0" w="9123" h="20549">
                  <a:moveTo>
                    <a:pt x="2468" y="20549"/>
                  </a:moveTo>
                  <a:cubicBezTo>
                    <a:pt x="1626" y="20276"/>
                    <a:pt x="802" y="19952"/>
                    <a:pt x="-1" y="19578"/>
                  </a:cubicBezTo>
                  <a:lnTo>
                    <a:pt x="9123" y="0"/>
                  </a:lnTo>
                  <a:close/>
                </a:path>
              </a:pathLst>
            </a:custGeom>
            <a:noFill/>
            <a:ln w="8892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Rectangle 21"/>
            <p:cNvSpPr/>
            <p:nvPr/>
          </p:nvSpPr>
          <p:spPr>
            <a:xfrm>
              <a:off x="5820480" y="356544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i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Arc 22"/>
            <p:cNvSpPr/>
            <p:nvPr/>
          </p:nvSpPr>
          <p:spPr>
            <a:xfrm>
              <a:off x="5719680" y="2282760"/>
              <a:ext cx="900360" cy="9968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96840"/>
                <a:gd name="textAreaBottom" fmla="*/ 997200 h 996840"/>
              </a:gdLst>
              <a:ahLst/>
              <a:rect l="textAreaLeft" t="textAreaTop" r="textAreaRight" b="textAreaBottom"/>
              <a:pathLst>
                <a:path fill="none" w="15793" h="17468">
                  <a:moveTo>
                    <a:pt x="3088" y="17468"/>
                  </a:moveTo>
                  <a:cubicBezTo>
                    <a:pt x="1974" y="16658"/>
                    <a:pt x="939" y="15742"/>
                    <a:pt x="-1" y="14735"/>
                  </a:cubicBezTo>
                </a:path>
                <a:path stroke="0" w="15793" h="17468">
                  <a:moveTo>
                    <a:pt x="3088" y="17468"/>
                  </a:moveTo>
                  <a:cubicBezTo>
                    <a:pt x="1974" y="16658"/>
                    <a:pt x="939" y="15742"/>
                    <a:pt x="-1" y="14735"/>
                  </a:cubicBezTo>
                  <a:lnTo>
                    <a:pt x="15793" y="0"/>
                  </a:lnTo>
                  <a:close/>
                </a:path>
              </a:pathLst>
            </a:custGeom>
            <a:noFill/>
            <a:ln w="8892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Arc 23"/>
            <p:cNvSpPr/>
            <p:nvPr/>
          </p:nvSpPr>
          <p:spPr>
            <a:xfrm>
              <a:off x="5564160" y="2282760"/>
              <a:ext cx="1055880" cy="808200"/>
            </a:xfrm>
            <a:custGeom>
              <a:avLst/>
              <a:gdLst>
                <a:gd name="textAreaLeft" fmla="*/ 0 w 1055880"/>
                <a:gd name="textAreaRight" fmla="*/ 1056240 w 105588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fill="none" w="18521" h="14178">
                  <a:moveTo>
                    <a:pt x="2225" y="14178"/>
                  </a:moveTo>
                  <a:cubicBezTo>
                    <a:pt x="1395" y="13223"/>
                    <a:pt x="650" y="12198"/>
                    <a:pt x="-1" y="11113"/>
                  </a:cubicBezTo>
                </a:path>
                <a:path stroke="0" w="18521" h="14178">
                  <a:moveTo>
                    <a:pt x="2225" y="14178"/>
                  </a:moveTo>
                  <a:cubicBezTo>
                    <a:pt x="1395" y="13223"/>
                    <a:pt x="650" y="12198"/>
                    <a:pt x="-1" y="11113"/>
                  </a:cubicBezTo>
                  <a:lnTo>
                    <a:pt x="18521" y="0"/>
                  </a:lnTo>
                  <a:close/>
                </a:path>
              </a:pathLst>
            </a:custGeom>
            <a:noFill/>
            <a:ln w="8892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Rectangle 24"/>
            <p:cNvSpPr/>
            <p:nvPr/>
          </p:nvSpPr>
          <p:spPr>
            <a:xfrm>
              <a:off x="5397120" y="2997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Arc 25"/>
            <p:cNvSpPr/>
            <p:nvPr/>
          </p:nvSpPr>
          <p:spPr>
            <a:xfrm>
              <a:off x="5448240" y="2282760"/>
              <a:ext cx="1171800" cy="596880"/>
            </a:xfrm>
            <a:custGeom>
              <a:avLst/>
              <a:gdLst>
                <a:gd name="textAreaLeft" fmla="*/ 0 w 1171800"/>
                <a:gd name="textAreaRight" fmla="*/ 1172160 w 117180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fill="none" w="20549" h="10475">
                  <a:moveTo>
                    <a:pt x="1659" y="10475"/>
                  </a:moveTo>
                  <a:cubicBezTo>
                    <a:pt x="984" y="9258"/>
                    <a:pt x="428" y="7978"/>
                    <a:pt x="-1" y="6654"/>
                  </a:cubicBezTo>
                </a:path>
                <a:path stroke="0" w="20549" h="10475">
                  <a:moveTo>
                    <a:pt x="1659" y="10475"/>
                  </a:moveTo>
                  <a:cubicBezTo>
                    <a:pt x="984" y="9258"/>
                    <a:pt x="428" y="7978"/>
                    <a:pt x="-1" y="6654"/>
                  </a:cubicBezTo>
                  <a:lnTo>
                    <a:pt x="20549" y="0"/>
                  </a:lnTo>
                  <a:close/>
                </a:path>
              </a:pathLst>
            </a:custGeom>
            <a:noFill/>
            <a:ln w="889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Rectangle 26"/>
            <p:cNvSpPr/>
            <p:nvPr/>
          </p:nvSpPr>
          <p:spPr>
            <a:xfrm>
              <a:off x="5283360" y="2684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Genev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Arc 27"/>
            <p:cNvSpPr/>
            <p:nvPr/>
          </p:nvSpPr>
          <p:spPr>
            <a:xfrm>
              <a:off x="5392800" y="2282760"/>
              <a:ext cx="1227240" cy="33804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fill="none" w="21519" h="5937">
                  <a:moveTo>
                    <a:pt x="751" y="5937"/>
                  </a:moveTo>
                  <a:cubicBezTo>
                    <a:pt x="370" y="4607"/>
                    <a:pt x="119" y="3243"/>
                    <a:pt x="-1" y="1865"/>
                  </a:cubicBezTo>
                </a:path>
                <a:path stroke="0" w="21519" h="5937">
                  <a:moveTo>
                    <a:pt x="751" y="5937"/>
                  </a:moveTo>
                  <a:cubicBezTo>
                    <a:pt x="370" y="4607"/>
                    <a:pt x="119" y="3243"/>
                    <a:pt x="-1" y="1865"/>
                  </a:cubicBezTo>
                  <a:lnTo>
                    <a:pt x="21519" y="0"/>
                  </a:lnTo>
                  <a:close/>
                </a:path>
              </a:pathLst>
            </a:custGeom>
            <a:noFill/>
            <a:ln w="889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Rectangle 28"/>
            <p:cNvSpPr/>
            <p:nvPr/>
          </p:nvSpPr>
          <p:spPr>
            <a:xfrm>
              <a:off x="5185080" y="24112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Genev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Arc 29"/>
            <p:cNvSpPr/>
            <p:nvPr/>
          </p:nvSpPr>
          <p:spPr>
            <a:xfrm>
              <a:off x="5388120" y="2133720"/>
              <a:ext cx="1231920" cy="234720"/>
            </a:xfrm>
            <a:custGeom>
              <a:avLst/>
              <a:gdLst>
                <a:gd name="textAreaLeft" fmla="*/ 0 w 1231920"/>
                <a:gd name="textAreaRight" fmla="*/ 1231920 w 12319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fill="none" w="21600" h="4120">
                  <a:moveTo>
                    <a:pt x="52" y="4120"/>
                  </a:moveTo>
                  <a:cubicBezTo>
                    <a:pt x="17" y="3619"/>
                    <a:pt x="0" y="3118"/>
                    <a:pt x="0" y="2617"/>
                  </a:cubicBezTo>
                  <a:cubicBezTo>
                    <a:pt x="-1" y="1742"/>
                    <a:pt x="53" y="868"/>
                    <a:pt x="159" y="-1"/>
                  </a:cubicBezTo>
                </a:path>
                <a:path stroke="0" w="21600" h="4120">
                  <a:moveTo>
                    <a:pt x="52" y="4120"/>
                  </a:moveTo>
                  <a:cubicBezTo>
                    <a:pt x="17" y="3619"/>
                    <a:pt x="0" y="3118"/>
                    <a:pt x="0" y="2617"/>
                  </a:cubicBezTo>
                  <a:cubicBezTo>
                    <a:pt x="-1" y="1742"/>
                    <a:pt x="53" y="868"/>
                    <a:pt x="159" y="-1"/>
                  </a:cubicBezTo>
                  <a:lnTo>
                    <a:pt x="21600" y="2617"/>
                  </a:lnTo>
                  <a:close/>
                </a:path>
              </a:pathLst>
            </a:custGeom>
            <a:noFill/>
            <a:ln w="88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Arc 30"/>
            <p:cNvSpPr/>
            <p:nvPr/>
          </p:nvSpPr>
          <p:spPr>
            <a:xfrm>
              <a:off x="5403960" y="1862280"/>
              <a:ext cx="1216080" cy="42048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fill="none" w="21335" h="7379">
                  <a:moveTo>
                    <a:pt x="-1" y="4008"/>
                  </a:moveTo>
                  <a:cubicBezTo>
                    <a:pt x="215" y="2642"/>
                    <a:pt x="561" y="1299"/>
                    <a:pt x="1034" y="-1"/>
                  </a:cubicBezTo>
                </a:path>
                <a:path stroke="0" w="21335" h="7379">
                  <a:moveTo>
                    <a:pt x="-1" y="4008"/>
                  </a:moveTo>
                  <a:cubicBezTo>
                    <a:pt x="215" y="2642"/>
                    <a:pt x="561" y="1299"/>
                    <a:pt x="1034" y="-1"/>
                  </a:cubicBezTo>
                  <a:lnTo>
                    <a:pt x="21335" y="7379"/>
                  </a:lnTo>
                  <a:close/>
                </a:path>
              </a:pathLst>
            </a:custGeom>
            <a:noFill/>
            <a:ln w="88920">
              <a:solidFill>
                <a:srgbClr val="99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Rectangle 31"/>
            <p:cNvSpPr/>
            <p:nvPr/>
          </p:nvSpPr>
          <p:spPr>
            <a:xfrm>
              <a:off x="5193720" y="18194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Arc 32"/>
            <p:cNvSpPr/>
            <p:nvPr/>
          </p:nvSpPr>
          <p:spPr>
            <a:xfrm>
              <a:off x="5477040" y="1630440"/>
              <a:ext cx="1143000" cy="6523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652320"/>
                <a:gd name="textAreaBottom" fmla="*/ 652320 h 652320"/>
              </a:gdLst>
              <a:ahLst/>
              <a:rect l="textAreaLeft" t="textAreaTop" r="textAreaRight" b="textAreaBottom"/>
              <a:pathLst>
                <a:path fill="none" w="20031" h="11442">
                  <a:moveTo>
                    <a:pt x="-2" y="3362"/>
                  </a:moveTo>
                  <a:cubicBezTo>
                    <a:pt x="470" y="2193"/>
                    <a:pt x="1043" y="1068"/>
                    <a:pt x="1710" y="-1"/>
                  </a:cubicBezTo>
                </a:path>
                <a:path stroke="0" w="20031" h="11442">
                  <a:moveTo>
                    <a:pt x="-2" y="3362"/>
                  </a:moveTo>
                  <a:cubicBezTo>
                    <a:pt x="470" y="2193"/>
                    <a:pt x="1043" y="1068"/>
                    <a:pt x="1710" y="-1"/>
                  </a:cubicBezTo>
                  <a:lnTo>
                    <a:pt x="20031" y="11442"/>
                  </a:lnTo>
                  <a:close/>
                </a:path>
              </a:pathLst>
            </a:custGeom>
            <a:noFill/>
            <a:ln w="8892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Rectangle 33"/>
            <p:cNvSpPr/>
            <p:nvPr/>
          </p:nvSpPr>
          <p:spPr>
            <a:xfrm>
              <a:off x="5280840" y="15192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Arc 34"/>
            <p:cNvSpPr/>
            <p:nvPr/>
          </p:nvSpPr>
          <p:spPr>
            <a:xfrm>
              <a:off x="5597640" y="1442880"/>
              <a:ext cx="1022400" cy="83988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839880"/>
                <a:gd name="textAreaBottom" fmla="*/ 840240 h 839880"/>
              </a:gdLst>
              <a:ahLst/>
              <a:rect l="textAreaLeft" t="textAreaTop" r="textAreaRight" b="textAreaBottom"/>
              <a:pathLst>
                <a:path fill="none" w="17916" h="14735">
                  <a:moveTo>
                    <a:pt x="-1" y="2670"/>
                  </a:moveTo>
                  <a:cubicBezTo>
                    <a:pt x="635" y="1725"/>
                    <a:pt x="1345" y="832"/>
                    <a:pt x="2122" y="-1"/>
                  </a:cubicBezTo>
                </a:path>
                <a:path stroke="0" w="17916" h="14735">
                  <a:moveTo>
                    <a:pt x="-1" y="2670"/>
                  </a:moveTo>
                  <a:cubicBezTo>
                    <a:pt x="635" y="1725"/>
                    <a:pt x="1345" y="832"/>
                    <a:pt x="2122" y="-1"/>
                  </a:cubicBezTo>
                  <a:lnTo>
                    <a:pt x="17916" y="14735"/>
                  </a:lnTo>
                  <a:close/>
                </a:path>
              </a:pathLst>
            </a:custGeom>
            <a:noFill/>
            <a:ln w="8892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Rectangle 35"/>
            <p:cNvSpPr/>
            <p:nvPr/>
          </p:nvSpPr>
          <p:spPr>
            <a:xfrm>
              <a:off x="5478120" y="1257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Arc 36"/>
            <p:cNvSpPr/>
            <p:nvPr/>
          </p:nvSpPr>
          <p:spPr>
            <a:xfrm>
              <a:off x="5748480" y="1338120"/>
              <a:ext cx="871560" cy="94464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944640"/>
                <a:gd name="textAreaBottom" fmla="*/ 945000 h 944640"/>
              </a:gdLst>
              <a:ahLst/>
              <a:rect l="textAreaLeft" t="textAreaTop" r="textAreaRight" b="textAreaBottom"/>
              <a:pathLst>
                <a:path fill="none" w="15273" h="16552">
                  <a:moveTo>
                    <a:pt x="-1" y="1278"/>
                  </a:moveTo>
                  <a:cubicBezTo>
                    <a:pt x="445" y="832"/>
                    <a:pt x="911" y="405"/>
                    <a:pt x="1395" y="-1"/>
                  </a:cubicBezTo>
                </a:path>
                <a:path stroke="0" w="15273" h="16552">
                  <a:moveTo>
                    <a:pt x="-1" y="1278"/>
                  </a:moveTo>
                  <a:cubicBezTo>
                    <a:pt x="445" y="832"/>
                    <a:pt x="911" y="405"/>
                    <a:pt x="1395" y="-1"/>
                  </a:cubicBezTo>
                  <a:lnTo>
                    <a:pt x="15273" y="16552"/>
                  </a:lnTo>
                  <a:close/>
                </a:path>
              </a:pathLst>
            </a:custGeom>
            <a:noFill/>
            <a:ln w="8892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Rectangle 37"/>
            <p:cNvSpPr/>
            <p:nvPr/>
          </p:nvSpPr>
          <p:spPr>
            <a:xfrm>
              <a:off x="5600520" y="1047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Arc 38"/>
            <p:cNvSpPr/>
            <p:nvPr/>
          </p:nvSpPr>
          <p:spPr>
            <a:xfrm>
              <a:off x="5862600" y="1204920"/>
              <a:ext cx="757440" cy="107784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1077840"/>
                <a:gd name="textAreaBottom" fmla="*/ 1078200 h 1077840"/>
              </a:gdLst>
              <a:ahLst/>
              <a:rect l="textAreaLeft" t="textAreaTop" r="textAreaRight" b="textAreaBottom"/>
              <a:pathLst>
                <a:path fill="none" w="13291" h="18889">
                  <a:moveTo>
                    <a:pt x="-1" y="1862"/>
                  </a:moveTo>
                  <a:cubicBezTo>
                    <a:pt x="887" y="1169"/>
                    <a:pt x="1829" y="545"/>
                    <a:pt x="2815" y="-1"/>
                  </a:cubicBezTo>
                </a:path>
                <a:path stroke="0" w="13291" h="18889">
                  <a:moveTo>
                    <a:pt x="-1" y="1862"/>
                  </a:moveTo>
                  <a:cubicBezTo>
                    <a:pt x="887" y="1169"/>
                    <a:pt x="1829" y="545"/>
                    <a:pt x="2815" y="-1"/>
                  </a:cubicBezTo>
                  <a:lnTo>
                    <a:pt x="13291" y="18889"/>
                  </a:lnTo>
                  <a:close/>
                </a:path>
              </a:pathLst>
            </a:custGeom>
            <a:noFill/>
            <a:ln w="8892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Rectangle 39"/>
            <p:cNvSpPr/>
            <p:nvPr/>
          </p:nvSpPr>
          <p:spPr>
            <a:xfrm>
              <a:off x="5790960" y="9190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Arc 40"/>
            <p:cNvSpPr/>
            <p:nvPr/>
          </p:nvSpPr>
          <p:spPr>
            <a:xfrm>
              <a:off x="6060960" y="1139760"/>
              <a:ext cx="559080" cy="114300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9804" h="20031">
                  <a:moveTo>
                    <a:pt x="-1" y="784"/>
                  </a:moveTo>
                  <a:cubicBezTo>
                    <a:pt x="562" y="497"/>
                    <a:pt x="1138" y="235"/>
                    <a:pt x="1724" y="-2"/>
                  </a:cubicBezTo>
                </a:path>
                <a:path stroke="0" w="9804" h="20031">
                  <a:moveTo>
                    <a:pt x="-1" y="784"/>
                  </a:moveTo>
                  <a:cubicBezTo>
                    <a:pt x="562" y="497"/>
                    <a:pt x="1138" y="235"/>
                    <a:pt x="1724" y="-2"/>
                  </a:cubicBezTo>
                  <a:lnTo>
                    <a:pt x="9804" y="20031"/>
                  </a:lnTo>
                  <a:close/>
                </a:path>
              </a:pathLst>
            </a:custGeom>
            <a:noFill/>
            <a:ln w="889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Rectangle 41"/>
            <p:cNvSpPr/>
            <p:nvPr/>
          </p:nvSpPr>
          <p:spPr>
            <a:xfrm>
              <a:off x="6006600" y="830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Arc 42"/>
            <p:cNvSpPr/>
            <p:nvPr/>
          </p:nvSpPr>
          <p:spPr>
            <a:xfrm>
              <a:off x="6199200" y="1087560"/>
              <a:ext cx="420840" cy="119520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fill="none" w="7379" h="20961">
                  <a:moveTo>
                    <a:pt x="-1" y="660"/>
                  </a:moveTo>
                  <a:cubicBezTo>
                    <a:pt x="710" y="402"/>
                    <a:pt x="1433" y="181"/>
                    <a:pt x="2166" y="-1"/>
                  </a:cubicBezTo>
                </a:path>
                <a:path stroke="0" w="7379" h="20961">
                  <a:moveTo>
                    <a:pt x="-1" y="660"/>
                  </a:moveTo>
                  <a:cubicBezTo>
                    <a:pt x="710" y="402"/>
                    <a:pt x="1433" y="181"/>
                    <a:pt x="2166" y="-1"/>
                  </a:cubicBezTo>
                  <a:lnTo>
                    <a:pt x="7379" y="20961"/>
                  </a:lnTo>
                  <a:close/>
                </a:path>
              </a:pathLst>
            </a:custGeom>
            <a:noFill/>
            <a:ln w="88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Rectangle 43"/>
            <p:cNvSpPr/>
            <p:nvPr/>
          </p:nvSpPr>
          <p:spPr>
            <a:xfrm>
              <a:off x="6154200" y="7984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Arc 44"/>
            <p:cNvSpPr/>
            <p:nvPr/>
          </p:nvSpPr>
          <p:spPr>
            <a:xfrm>
              <a:off x="6343560" y="1060560"/>
              <a:ext cx="276480" cy="122220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222200"/>
                <a:gd name="textAreaBottom" fmla="*/ 1222560 h 1222200"/>
              </a:gdLst>
              <a:ahLst/>
              <a:rect l="textAreaLeft" t="textAreaTop" r="textAreaRight" b="textAreaBottom"/>
              <a:pathLst>
                <a:path fill="none" w="4844" h="21440">
                  <a:moveTo>
                    <a:pt x="-1" y="390"/>
                  </a:moveTo>
                  <a:cubicBezTo>
                    <a:pt x="734" y="221"/>
                    <a:pt x="1478" y="90"/>
                    <a:pt x="2226" y="-1"/>
                  </a:cubicBezTo>
                </a:path>
                <a:path stroke="0" w="4844" h="21440">
                  <a:moveTo>
                    <a:pt x="-1" y="390"/>
                  </a:moveTo>
                  <a:cubicBezTo>
                    <a:pt x="734" y="221"/>
                    <a:pt x="1478" y="90"/>
                    <a:pt x="2226" y="-1"/>
                  </a:cubicBezTo>
                  <a:lnTo>
                    <a:pt x="4844" y="21440"/>
                  </a:lnTo>
                  <a:close/>
                </a:path>
              </a:pathLst>
            </a:custGeom>
            <a:noFill/>
            <a:ln w="88920">
              <a:solidFill>
                <a:srgbClr val="99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Rectangle 45"/>
            <p:cNvSpPr/>
            <p:nvPr/>
          </p:nvSpPr>
          <p:spPr>
            <a:xfrm>
              <a:off x="6404040" y="7542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Rectangle 46"/>
            <p:cNvSpPr/>
            <p:nvPr/>
          </p:nvSpPr>
          <p:spPr>
            <a:xfrm>
              <a:off x="6516360" y="192708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Text Box 47"/>
            <p:cNvSpPr/>
            <p:nvPr/>
          </p:nvSpPr>
          <p:spPr>
            <a:xfrm>
              <a:off x="5642280" y="319248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Text Box 48"/>
            <p:cNvSpPr/>
            <p:nvPr/>
          </p:nvSpPr>
          <p:spPr>
            <a:xfrm>
              <a:off x="5081760" y="2108160"/>
              <a:ext cx="19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Text Box 49"/>
            <p:cNvSpPr/>
            <p:nvPr/>
          </p:nvSpPr>
          <p:spPr>
            <a:xfrm>
              <a:off x="6200640" y="234144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94 K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5" name="Group 50"/>
          <p:cNvGrpSpPr/>
          <p:nvPr/>
        </p:nvGrpSpPr>
        <p:grpSpPr>
          <a:xfrm>
            <a:off x="431640" y="4172040"/>
            <a:ext cx="7426440" cy="2388600"/>
            <a:chOff x="431640" y="4172040"/>
            <a:chExt cx="7426440" cy="2388600"/>
          </a:xfrm>
        </p:grpSpPr>
        <p:sp>
          <p:nvSpPr>
            <p:cNvPr id="726" name="Rectangle 51"/>
            <p:cNvSpPr/>
            <p:nvPr/>
          </p:nvSpPr>
          <p:spPr>
            <a:xfrm>
              <a:off x="431640" y="4216320"/>
              <a:ext cx="7426440" cy="2344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Text Box 52"/>
            <p:cNvSpPr/>
            <p:nvPr/>
          </p:nvSpPr>
          <p:spPr>
            <a:xfrm>
              <a:off x="471600" y="4172040"/>
              <a:ext cx="6796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Regione 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Times New Roman"/>
                </a:rPr>
                <a:t>tra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intesi ed assemblaggio dell’F pilus  (13 geni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ating-pair stabilization (2 geni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etabolismo del DNA coniugativo (5 geni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egolazione del trasferimento (3 geni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sclusione di superficie (2 geni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2" descr=""/>
          <p:cNvPicPr/>
          <p:nvPr/>
        </p:nvPicPr>
        <p:blipFill>
          <a:blip r:embed="rId1"/>
          <a:stretch/>
        </p:blipFill>
        <p:spPr>
          <a:xfrm>
            <a:off x="1324080" y="293760"/>
            <a:ext cx="6495840" cy="62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067"/>
          <p:cNvGrpSpPr/>
          <p:nvPr/>
        </p:nvGrpSpPr>
        <p:grpSpPr>
          <a:xfrm>
            <a:off x="632160" y="318960"/>
            <a:ext cx="7790760" cy="6207120"/>
            <a:chOff x="632160" y="318960"/>
            <a:chExt cx="7790760" cy="6207120"/>
          </a:xfrm>
        </p:grpSpPr>
        <p:sp>
          <p:nvSpPr>
            <p:cNvPr id="730" name="AutoShape 4"/>
            <p:cNvSpPr/>
            <p:nvPr/>
          </p:nvSpPr>
          <p:spPr>
            <a:xfrm>
              <a:off x="1357200" y="318960"/>
              <a:ext cx="2791080" cy="156060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AutoShape 5"/>
            <p:cNvSpPr/>
            <p:nvPr/>
          </p:nvSpPr>
          <p:spPr>
            <a:xfrm>
              <a:off x="1498680" y="434880"/>
              <a:ext cx="2487600" cy="132552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AutoShape 6"/>
            <p:cNvSpPr/>
            <p:nvPr/>
          </p:nvSpPr>
          <p:spPr>
            <a:xfrm>
              <a:off x="1550880" y="480960"/>
              <a:ext cx="2397240" cy="1225440"/>
            </a:xfrm>
            <a:prstGeom prst="roundRect">
              <a:avLst>
                <a:gd name="adj" fmla="val 4192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33" name="Group 13"/>
            <p:cNvGrpSpPr/>
            <p:nvPr/>
          </p:nvGrpSpPr>
          <p:grpSpPr>
            <a:xfrm>
              <a:off x="4964040" y="331920"/>
              <a:ext cx="2790360" cy="1559880"/>
              <a:chOff x="4964040" y="331920"/>
              <a:chExt cx="2790360" cy="1559880"/>
            </a:xfrm>
          </p:grpSpPr>
          <p:grpSp>
            <p:nvGrpSpPr>
              <p:cNvPr id="734" name="Group 14"/>
              <p:cNvGrpSpPr/>
              <p:nvPr/>
            </p:nvGrpSpPr>
            <p:grpSpPr>
              <a:xfrm>
                <a:off x="4964040" y="331920"/>
                <a:ext cx="2790360" cy="1559880"/>
                <a:chOff x="4964040" y="331920"/>
                <a:chExt cx="2790360" cy="1559880"/>
              </a:xfrm>
            </p:grpSpPr>
            <p:sp>
              <p:nvSpPr>
                <p:cNvPr id="735" name="AutoShape 15"/>
                <p:cNvSpPr/>
                <p:nvPr/>
              </p:nvSpPr>
              <p:spPr>
                <a:xfrm>
                  <a:off x="4964040" y="331920"/>
                  <a:ext cx="2790360" cy="155988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6" name="AutoShape 16"/>
                <p:cNvSpPr/>
                <p:nvPr/>
              </p:nvSpPr>
              <p:spPr>
                <a:xfrm>
                  <a:off x="5105520" y="447840"/>
                  <a:ext cx="2486160" cy="132588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7" name="AutoShape 17"/>
                <p:cNvSpPr/>
                <p:nvPr/>
              </p:nvSpPr>
              <p:spPr>
                <a:xfrm>
                  <a:off x="5158080" y="493200"/>
                  <a:ext cx="2395440" cy="122580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8" name="Group 18"/>
              <p:cNvGrpSpPr/>
              <p:nvPr/>
            </p:nvGrpSpPr>
            <p:grpSpPr>
              <a:xfrm>
                <a:off x="6438600" y="639720"/>
                <a:ext cx="993600" cy="894960"/>
                <a:chOff x="6438600" y="639720"/>
                <a:chExt cx="993600" cy="894960"/>
              </a:xfrm>
            </p:grpSpPr>
            <p:sp>
              <p:nvSpPr>
                <p:cNvPr id="739" name="Oval 19"/>
                <p:cNvSpPr/>
                <p:nvPr/>
              </p:nvSpPr>
              <p:spPr>
                <a:xfrm>
                  <a:off x="6514560" y="702720"/>
                  <a:ext cx="841320" cy="76824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0" name="Oval 20"/>
                <p:cNvSpPr/>
                <p:nvPr/>
              </p:nvSpPr>
              <p:spPr>
                <a:xfrm>
                  <a:off x="6438600" y="639720"/>
                  <a:ext cx="993600" cy="89496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41" name="AutoShape 22"/>
            <p:cNvSpPr/>
            <p:nvPr/>
          </p:nvSpPr>
          <p:spPr>
            <a:xfrm>
              <a:off x="1781280" y="2755800"/>
              <a:ext cx="2790720" cy="156060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AutoShape 23"/>
            <p:cNvSpPr/>
            <p:nvPr/>
          </p:nvSpPr>
          <p:spPr>
            <a:xfrm>
              <a:off x="1922400" y="2871720"/>
              <a:ext cx="2487600" cy="132552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AutoShape 24"/>
            <p:cNvSpPr/>
            <p:nvPr/>
          </p:nvSpPr>
          <p:spPr>
            <a:xfrm>
              <a:off x="1974960" y="2917800"/>
              <a:ext cx="2396880" cy="1225440"/>
            </a:xfrm>
            <a:prstGeom prst="roundRect">
              <a:avLst>
                <a:gd name="adj" fmla="val 4192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44" name="Group 31"/>
            <p:cNvGrpSpPr/>
            <p:nvPr/>
          </p:nvGrpSpPr>
          <p:grpSpPr>
            <a:xfrm>
              <a:off x="4572000" y="2755800"/>
              <a:ext cx="2790360" cy="1560240"/>
              <a:chOff x="4572000" y="2755800"/>
              <a:chExt cx="2790360" cy="1560240"/>
            </a:xfrm>
          </p:grpSpPr>
          <p:sp>
            <p:nvSpPr>
              <p:cNvPr id="745" name="AutoShape 32"/>
              <p:cNvSpPr/>
              <p:nvPr/>
            </p:nvSpPr>
            <p:spPr>
              <a:xfrm>
                <a:off x="4572000" y="2755800"/>
                <a:ext cx="2790360" cy="15602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6" name="AutoShape 33"/>
              <p:cNvSpPr/>
              <p:nvPr/>
            </p:nvSpPr>
            <p:spPr>
              <a:xfrm>
                <a:off x="4713480" y="2871720"/>
                <a:ext cx="2486160" cy="132624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7" name="AutoShape 34"/>
              <p:cNvSpPr/>
              <p:nvPr/>
            </p:nvSpPr>
            <p:spPr>
              <a:xfrm>
                <a:off x="4766040" y="2917080"/>
                <a:ext cx="2395440" cy="122616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48" name="Group 35"/>
            <p:cNvGrpSpPr/>
            <p:nvPr/>
          </p:nvGrpSpPr>
          <p:grpSpPr>
            <a:xfrm>
              <a:off x="6046920" y="3063960"/>
              <a:ext cx="993600" cy="895320"/>
              <a:chOff x="6046920" y="3063960"/>
              <a:chExt cx="993600" cy="895320"/>
            </a:xfrm>
          </p:grpSpPr>
          <p:sp>
            <p:nvSpPr>
              <p:cNvPr id="749" name="Oval 36"/>
              <p:cNvSpPr/>
              <p:nvPr/>
            </p:nvSpPr>
            <p:spPr>
              <a:xfrm>
                <a:off x="6122880" y="3127320"/>
                <a:ext cx="841320" cy="76860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0" name="Oval 37"/>
              <p:cNvSpPr/>
              <p:nvPr/>
            </p:nvSpPr>
            <p:spPr>
              <a:xfrm>
                <a:off x="6046920" y="3063960"/>
                <a:ext cx="993600" cy="89532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51" name="Rectangle 38"/>
            <p:cNvSpPr/>
            <p:nvPr/>
          </p:nvSpPr>
          <p:spPr>
            <a:xfrm>
              <a:off x="4203720" y="3441600"/>
              <a:ext cx="673200" cy="190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Rectangle 39"/>
            <p:cNvSpPr/>
            <p:nvPr/>
          </p:nvSpPr>
          <p:spPr>
            <a:xfrm>
              <a:off x="4394160" y="337824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Rectangle 40"/>
            <p:cNvSpPr/>
            <p:nvPr/>
          </p:nvSpPr>
          <p:spPr>
            <a:xfrm>
              <a:off x="4394160" y="360684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Text Box 44"/>
            <p:cNvSpPr/>
            <p:nvPr/>
          </p:nvSpPr>
          <p:spPr>
            <a:xfrm>
              <a:off x="2075040" y="1946160"/>
              <a:ext cx="117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donator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Text Box 45"/>
            <p:cNvSpPr/>
            <p:nvPr/>
          </p:nvSpPr>
          <p:spPr>
            <a:xfrm>
              <a:off x="5808600" y="1946160"/>
              <a:ext cx="117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riceve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Text Box 47"/>
            <p:cNvSpPr/>
            <p:nvPr/>
          </p:nvSpPr>
          <p:spPr>
            <a:xfrm>
              <a:off x="632160" y="7524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Hf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Text Box 48"/>
            <p:cNvSpPr/>
            <p:nvPr/>
          </p:nvSpPr>
          <p:spPr>
            <a:xfrm>
              <a:off x="7967880" y="7524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it-IT" sz="3600" spc="-1" strike="noStrike" baseline="28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58" name="Group 75"/>
            <p:cNvGrpSpPr/>
            <p:nvPr/>
          </p:nvGrpSpPr>
          <p:grpSpPr>
            <a:xfrm>
              <a:off x="2066760" y="558720"/>
              <a:ext cx="1247760" cy="1089000"/>
              <a:chOff x="2066760" y="558720"/>
              <a:chExt cx="1247760" cy="1089000"/>
            </a:xfrm>
          </p:grpSpPr>
          <p:grpSp>
            <p:nvGrpSpPr>
              <p:cNvPr id="759" name="Group 71"/>
              <p:cNvGrpSpPr/>
              <p:nvPr/>
            </p:nvGrpSpPr>
            <p:grpSpPr>
              <a:xfrm>
                <a:off x="2066760" y="558720"/>
                <a:ext cx="1247760" cy="1089000"/>
                <a:chOff x="2066760" y="558720"/>
                <a:chExt cx="1247760" cy="1089000"/>
              </a:xfrm>
            </p:grpSpPr>
            <p:sp>
              <p:nvSpPr>
                <p:cNvPr id="760" name="Oval 52"/>
                <p:cNvSpPr/>
                <p:nvPr/>
              </p:nvSpPr>
              <p:spPr>
                <a:xfrm>
                  <a:off x="2149200" y="717480"/>
                  <a:ext cx="1057320" cy="86040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1" name="Oval 53"/>
                <p:cNvSpPr/>
                <p:nvPr/>
              </p:nvSpPr>
              <p:spPr>
                <a:xfrm>
                  <a:off x="2066760" y="647640"/>
                  <a:ext cx="1224000" cy="100008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2" name="Rectangle 66"/>
                <p:cNvSpPr/>
                <p:nvPr/>
              </p:nvSpPr>
              <p:spPr>
                <a:xfrm>
                  <a:off x="2698560" y="558720"/>
                  <a:ext cx="615960" cy="612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63" name="Arc 68"/>
              <p:cNvSpPr/>
              <p:nvPr/>
            </p:nvSpPr>
            <p:spPr>
              <a:xfrm>
                <a:off x="2692440" y="646200"/>
                <a:ext cx="590400" cy="537840"/>
              </a:xfrm>
              <a:custGeom>
                <a:avLst/>
                <a:gdLst>
                  <a:gd name="textAreaLeft" fmla="*/ 0 w 590400"/>
                  <a:gd name="textAreaRight" fmla="*/ 590400 w 59040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fill="none" w="23933" h="23725">
                    <a:moveTo>
                      <a:pt x="0" y="126"/>
                    </a:moveTo>
                    <a:cubicBezTo>
                      <a:pt x="774" y="42"/>
                      <a:pt x="1553" y="-1"/>
                      <a:pt x="2333" y="0"/>
                    </a:cubicBezTo>
                    <a:cubicBezTo>
                      <a:pt x="14262" y="0"/>
                      <a:pt x="23933" y="9670"/>
                      <a:pt x="23933" y="21600"/>
                    </a:cubicBezTo>
                    <a:cubicBezTo>
                      <a:pt x="23933" y="22309"/>
                      <a:pt x="23898" y="23018"/>
                      <a:pt x="23828" y="23725"/>
                    </a:cubicBezTo>
                  </a:path>
                  <a:path stroke="0" w="23933" h="23725">
                    <a:moveTo>
                      <a:pt x="0" y="126"/>
                    </a:moveTo>
                    <a:cubicBezTo>
                      <a:pt x="774" y="42"/>
                      <a:pt x="1553" y="-1"/>
                      <a:pt x="2333" y="0"/>
                    </a:cubicBezTo>
                    <a:cubicBezTo>
                      <a:pt x="14262" y="0"/>
                      <a:pt x="23933" y="9670"/>
                      <a:pt x="23933" y="21600"/>
                    </a:cubicBezTo>
                    <a:cubicBezTo>
                      <a:pt x="23933" y="22309"/>
                      <a:pt x="23898" y="23018"/>
                      <a:pt x="23828" y="23725"/>
                    </a:cubicBezTo>
                    <a:lnTo>
                      <a:pt x="2333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64" name="Arc 69"/>
            <p:cNvSpPr/>
            <p:nvPr/>
          </p:nvSpPr>
          <p:spPr>
            <a:xfrm>
              <a:off x="2693880" y="716040"/>
              <a:ext cx="514440" cy="523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fill="none" w="23933" h="23231">
                  <a:moveTo>
                    <a:pt x="0" y="126"/>
                  </a:moveTo>
                  <a:cubicBezTo>
                    <a:pt x="774" y="42"/>
                    <a:pt x="1553" y="-1"/>
                    <a:pt x="2333" y="0"/>
                  </a:cubicBezTo>
                  <a:cubicBezTo>
                    <a:pt x="14262" y="0"/>
                    <a:pt x="23933" y="9670"/>
                    <a:pt x="23933" y="21600"/>
                  </a:cubicBezTo>
                  <a:cubicBezTo>
                    <a:pt x="23933" y="22144"/>
                    <a:pt x="23912" y="22688"/>
                    <a:pt x="23871" y="23231"/>
                  </a:cubicBezTo>
                </a:path>
                <a:path stroke="0" w="23933" h="23231">
                  <a:moveTo>
                    <a:pt x="0" y="126"/>
                  </a:moveTo>
                  <a:cubicBezTo>
                    <a:pt x="774" y="42"/>
                    <a:pt x="1553" y="-1"/>
                    <a:pt x="2333" y="0"/>
                  </a:cubicBezTo>
                  <a:cubicBezTo>
                    <a:pt x="14262" y="0"/>
                    <a:pt x="23933" y="9670"/>
                    <a:pt x="23933" y="21600"/>
                  </a:cubicBezTo>
                  <a:cubicBezTo>
                    <a:pt x="23933" y="22144"/>
                    <a:pt x="23912" y="22688"/>
                    <a:pt x="23871" y="23231"/>
                  </a:cubicBezTo>
                  <a:lnTo>
                    <a:pt x="2333" y="21600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Text Box 73"/>
            <p:cNvSpPr/>
            <p:nvPr/>
          </p:nvSpPr>
          <p:spPr>
            <a:xfrm>
              <a:off x="3233520" y="609480"/>
              <a:ext cx="50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omic Sans MS"/>
                </a:rPr>
                <a:t>OriT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AutoShape 74"/>
            <p:cNvSpPr/>
            <p:nvPr/>
          </p:nvSpPr>
          <p:spPr>
            <a:xfrm>
              <a:off x="3174840" y="736560"/>
              <a:ext cx="140040" cy="114480"/>
            </a:xfrm>
            <a:prstGeom prst="rtTriangl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Oval 81"/>
            <p:cNvSpPr/>
            <p:nvPr/>
          </p:nvSpPr>
          <p:spPr>
            <a:xfrm flipH="1">
              <a:off x="2395440" y="3035160"/>
              <a:ext cx="1224000" cy="10004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Rectangle 90"/>
            <p:cNvSpPr/>
            <p:nvPr/>
          </p:nvSpPr>
          <p:spPr>
            <a:xfrm>
              <a:off x="3022560" y="3009960"/>
              <a:ext cx="647640" cy="1054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Oval 80"/>
            <p:cNvSpPr/>
            <p:nvPr/>
          </p:nvSpPr>
          <p:spPr>
            <a:xfrm flipH="1">
              <a:off x="2478960" y="3102120"/>
              <a:ext cx="1057320" cy="86040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Rectangle 82"/>
            <p:cNvSpPr/>
            <p:nvPr/>
          </p:nvSpPr>
          <p:spPr>
            <a:xfrm flipH="1">
              <a:off x="2968560" y="3645000"/>
              <a:ext cx="743040" cy="434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Arc 87"/>
            <p:cNvSpPr/>
            <p:nvPr/>
          </p:nvSpPr>
          <p:spPr>
            <a:xfrm flipV="1">
              <a:off x="2984400" y="3593520"/>
              <a:ext cx="559080" cy="36828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368280"/>
                <a:gd name="textAreaBottom" fmla="*/ 368280 h 368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93"/>
            <p:cNvSpPr/>
            <p:nvPr/>
          </p:nvSpPr>
          <p:spPr>
            <a:xfrm>
              <a:off x="2971800" y="4024440"/>
              <a:ext cx="254160" cy="1404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0" h="9">
                  <a:moveTo>
                    <a:pt x="0" y="9"/>
                  </a:moveTo>
                  <a:cubicBezTo>
                    <a:pt x="139" y="0"/>
                    <a:pt x="85" y="1"/>
                    <a:pt x="160" y="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Freeform 97"/>
            <p:cNvSpPr/>
            <p:nvPr/>
          </p:nvSpPr>
          <p:spPr>
            <a:xfrm>
              <a:off x="3009960" y="3005280"/>
              <a:ext cx="2387520" cy="581040"/>
            </a:xfrm>
            <a:custGeom>
              <a:avLst/>
              <a:gdLst>
                <a:gd name="textAreaLeft" fmla="*/ 0 w 2387520"/>
                <a:gd name="textAreaRight" fmla="*/ 2387880 w 23875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504" h="366">
                  <a:moveTo>
                    <a:pt x="0" y="11"/>
                  </a:moveTo>
                  <a:cubicBezTo>
                    <a:pt x="92" y="5"/>
                    <a:pt x="184" y="0"/>
                    <a:pt x="280" y="35"/>
                  </a:cubicBezTo>
                  <a:cubicBezTo>
                    <a:pt x="376" y="70"/>
                    <a:pt x="493" y="167"/>
                    <a:pt x="576" y="219"/>
                  </a:cubicBezTo>
                  <a:cubicBezTo>
                    <a:pt x="659" y="271"/>
                    <a:pt x="701" y="328"/>
                    <a:pt x="776" y="347"/>
                  </a:cubicBezTo>
                  <a:cubicBezTo>
                    <a:pt x="851" y="366"/>
                    <a:pt x="924" y="332"/>
                    <a:pt x="1024" y="331"/>
                  </a:cubicBezTo>
                  <a:cubicBezTo>
                    <a:pt x="1124" y="330"/>
                    <a:pt x="1296" y="338"/>
                    <a:pt x="1376" y="339"/>
                  </a:cubicBezTo>
                  <a:cubicBezTo>
                    <a:pt x="1456" y="340"/>
                    <a:pt x="1480" y="339"/>
                    <a:pt x="1504" y="339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Line 98"/>
            <p:cNvSpPr/>
            <p:nvPr/>
          </p:nvSpPr>
          <p:spPr>
            <a:xfrm>
              <a:off x="5041800" y="3543480"/>
              <a:ext cx="355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AutoShape 99"/>
            <p:cNvSpPr/>
            <p:nvPr/>
          </p:nvSpPr>
          <p:spPr>
            <a:xfrm>
              <a:off x="1768320" y="4965840"/>
              <a:ext cx="2791080" cy="15602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AutoShape 100"/>
            <p:cNvSpPr/>
            <p:nvPr/>
          </p:nvSpPr>
          <p:spPr>
            <a:xfrm>
              <a:off x="1909800" y="5081760"/>
              <a:ext cx="2487600" cy="132552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AutoShape 101"/>
            <p:cNvSpPr/>
            <p:nvPr/>
          </p:nvSpPr>
          <p:spPr>
            <a:xfrm>
              <a:off x="1962000" y="5127480"/>
              <a:ext cx="2397240" cy="1225800"/>
            </a:xfrm>
            <a:prstGeom prst="roundRect">
              <a:avLst>
                <a:gd name="adj" fmla="val 4192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8" name="Group 102"/>
            <p:cNvGrpSpPr/>
            <p:nvPr/>
          </p:nvGrpSpPr>
          <p:grpSpPr>
            <a:xfrm>
              <a:off x="4559400" y="4965840"/>
              <a:ext cx="2790360" cy="1559880"/>
              <a:chOff x="4559400" y="4965840"/>
              <a:chExt cx="2790360" cy="1559880"/>
            </a:xfrm>
          </p:grpSpPr>
          <p:sp>
            <p:nvSpPr>
              <p:cNvPr id="779" name="AutoShape 103"/>
              <p:cNvSpPr/>
              <p:nvPr/>
            </p:nvSpPr>
            <p:spPr>
              <a:xfrm>
                <a:off x="4559400" y="4965840"/>
                <a:ext cx="2790360" cy="155988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AutoShape 104"/>
              <p:cNvSpPr/>
              <p:nvPr/>
            </p:nvSpPr>
            <p:spPr>
              <a:xfrm>
                <a:off x="4700880" y="5081760"/>
                <a:ext cx="2486160" cy="132588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1" name="AutoShape 105"/>
              <p:cNvSpPr/>
              <p:nvPr/>
            </p:nvSpPr>
            <p:spPr>
              <a:xfrm>
                <a:off x="4753440" y="5127120"/>
                <a:ext cx="2395440" cy="122580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82" name="Group 106"/>
            <p:cNvGrpSpPr/>
            <p:nvPr/>
          </p:nvGrpSpPr>
          <p:grpSpPr>
            <a:xfrm>
              <a:off x="6033960" y="5273640"/>
              <a:ext cx="993600" cy="895320"/>
              <a:chOff x="6033960" y="5273640"/>
              <a:chExt cx="993600" cy="895320"/>
            </a:xfrm>
          </p:grpSpPr>
          <p:sp>
            <p:nvSpPr>
              <p:cNvPr id="783" name="Oval 107"/>
              <p:cNvSpPr/>
              <p:nvPr/>
            </p:nvSpPr>
            <p:spPr>
              <a:xfrm>
                <a:off x="6109920" y="5337000"/>
                <a:ext cx="841320" cy="76860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4" name="Oval 108"/>
              <p:cNvSpPr/>
              <p:nvPr/>
            </p:nvSpPr>
            <p:spPr>
              <a:xfrm>
                <a:off x="6033960" y="5273640"/>
                <a:ext cx="993600" cy="89532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85" name="Rectangle 109"/>
            <p:cNvSpPr/>
            <p:nvPr/>
          </p:nvSpPr>
          <p:spPr>
            <a:xfrm>
              <a:off x="4191120" y="5651640"/>
              <a:ext cx="672840" cy="190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Rectangle 110"/>
            <p:cNvSpPr/>
            <p:nvPr/>
          </p:nvSpPr>
          <p:spPr>
            <a:xfrm>
              <a:off x="4381560" y="558792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Rectangle 111"/>
            <p:cNvSpPr/>
            <p:nvPr/>
          </p:nvSpPr>
          <p:spPr>
            <a:xfrm>
              <a:off x="4381560" y="581652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88" name="Group 112"/>
            <p:cNvGrpSpPr/>
            <p:nvPr/>
          </p:nvGrpSpPr>
          <p:grpSpPr>
            <a:xfrm>
              <a:off x="2382480" y="5219640"/>
              <a:ext cx="1316160" cy="1069920"/>
              <a:chOff x="2382480" y="5219640"/>
              <a:chExt cx="1316160" cy="1069920"/>
            </a:xfrm>
          </p:grpSpPr>
          <p:sp>
            <p:nvSpPr>
              <p:cNvPr id="789" name="Oval 113"/>
              <p:cNvSpPr/>
              <p:nvPr/>
            </p:nvSpPr>
            <p:spPr>
              <a:xfrm flipH="1">
                <a:off x="2382120" y="5244840"/>
                <a:ext cx="1223640" cy="100044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0" name="Rectangle 114"/>
              <p:cNvSpPr/>
              <p:nvPr/>
            </p:nvSpPr>
            <p:spPr>
              <a:xfrm>
                <a:off x="3009600" y="5219640"/>
                <a:ext cx="596880" cy="10540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1" name="Oval 115"/>
              <p:cNvSpPr/>
              <p:nvPr/>
            </p:nvSpPr>
            <p:spPr>
              <a:xfrm flipH="1">
                <a:off x="2466000" y="5311800"/>
                <a:ext cx="1057320" cy="86040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2" name="Rectangle 116"/>
              <p:cNvSpPr/>
              <p:nvPr/>
            </p:nvSpPr>
            <p:spPr>
              <a:xfrm flipH="1">
                <a:off x="2955600" y="5854680"/>
                <a:ext cx="743040" cy="434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3" name="Arc 117"/>
              <p:cNvSpPr/>
              <p:nvPr/>
            </p:nvSpPr>
            <p:spPr>
              <a:xfrm flipV="1">
                <a:off x="2971800" y="5803200"/>
                <a:ext cx="558720" cy="368280"/>
              </a:xfrm>
              <a:custGeom>
                <a:avLst/>
                <a:gdLst>
                  <a:gd name="textAreaLeft" fmla="*/ 0 w 558720"/>
                  <a:gd name="textAreaRight" fmla="*/ 558720 w 558720"/>
                  <a:gd name="textAreaTop" fmla="*/ -360 h 368280"/>
                  <a:gd name="textAreaBottom" fmla="*/ 368280 h 368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4" name="Freeform 118"/>
              <p:cNvSpPr/>
              <p:nvPr/>
            </p:nvSpPr>
            <p:spPr>
              <a:xfrm>
                <a:off x="2958840" y="6234120"/>
                <a:ext cx="254160" cy="1404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60" h="9">
                    <a:moveTo>
                      <a:pt x="0" y="9"/>
                    </a:moveTo>
                    <a:cubicBezTo>
                      <a:pt x="139" y="0"/>
                      <a:pt x="85" y="1"/>
                      <a:pt x="160" y="1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95" name="Freeform 119"/>
            <p:cNvSpPr/>
            <p:nvPr/>
          </p:nvSpPr>
          <p:spPr>
            <a:xfrm>
              <a:off x="2997360" y="5214960"/>
              <a:ext cx="2387520" cy="581040"/>
            </a:xfrm>
            <a:custGeom>
              <a:avLst/>
              <a:gdLst>
                <a:gd name="textAreaLeft" fmla="*/ 0 w 2387520"/>
                <a:gd name="textAreaRight" fmla="*/ 2387880 w 23875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504" h="366">
                  <a:moveTo>
                    <a:pt x="0" y="11"/>
                  </a:moveTo>
                  <a:cubicBezTo>
                    <a:pt x="92" y="5"/>
                    <a:pt x="184" y="0"/>
                    <a:pt x="280" y="35"/>
                  </a:cubicBezTo>
                  <a:cubicBezTo>
                    <a:pt x="376" y="70"/>
                    <a:pt x="493" y="167"/>
                    <a:pt x="576" y="219"/>
                  </a:cubicBezTo>
                  <a:cubicBezTo>
                    <a:pt x="659" y="271"/>
                    <a:pt x="701" y="328"/>
                    <a:pt x="776" y="347"/>
                  </a:cubicBezTo>
                  <a:cubicBezTo>
                    <a:pt x="851" y="366"/>
                    <a:pt x="924" y="332"/>
                    <a:pt x="1024" y="331"/>
                  </a:cubicBezTo>
                  <a:cubicBezTo>
                    <a:pt x="1124" y="330"/>
                    <a:pt x="1296" y="338"/>
                    <a:pt x="1376" y="339"/>
                  </a:cubicBezTo>
                  <a:cubicBezTo>
                    <a:pt x="1456" y="340"/>
                    <a:pt x="1480" y="339"/>
                    <a:pt x="1504" y="339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Line 120"/>
            <p:cNvSpPr/>
            <p:nvPr/>
          </p:nvSpPr>
          <p:spPr>
            <a:xfrm>
              <a:off x="5172120" y="5753160"/>
              <a:ext cx="355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Freeform 121"/>
            <p:cNvSpPr/>
            <p:nvPr/>
          </p:nvSpPr>
          <p:spPr>
            <a:xfrm>
              <a:off x="3200400" y="5829480"/>
              <a:ext cx="406440" cy="40608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56" h="256">
                  <a:moveTo>
                    <a:pt x="0" y="256"/>
                  </a:moveTo>
                  <a:cubicBezTo>
                    <a:pt x="40" y="244"/>
                    <a:pt x="81" y="233"/>
                    <a:pt x="112" y="216"/>
                  </a:cubicBezTo>
                  <a:cubicBezTo>
                    <a:pt x="143" y="199"/>
                    <a:pt x="165" y="172"/>
                    <a:pt x="184" y="152"/>
                  </a:cubicBezTo>
                  <a:cubicBezTo>
                    <a:pt x="203" y="132"/>
                    <a:pt x="212" y="121"/>
                    <a:pt x="224" y="96"/>
                  </a:cubicBezTo>
                  <a:cubicBezTo>
                    <a:pt x="236" y="71"/>
                    <a:pt x="251" y="17"/>
                    <a:pt x="256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Freeform 122"/>
            <p:cNvSpPr/>
            <p:nvPr/>
          </p:nvSpPr>
          <p:spPr>
            <a:xfrm>
              <a:off x="3327480" y="5308560"/>
              <a:ext cx="279360" cy="4827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176" h="304">
                  <a:moveTo>
                    <a:pt x="176" y="304"/>
                  </a:moveTo>
                  <a:cubicBezTo>
                    <a:pt x="174" y="262"/>
                    <a:pt x="172" y="220"/>
                    <a:pt x="160" y="184"/>
                  </a:cubicBezTo>
                  <a:cubicBezTo>
                    <a:pt x="148" y="148"/>
                    <a:pt x="131" y="119"/>
                    <a:pt x="104" y="88"/>
                  </a:cubicBezTo>
                  <a:cubicBezTo>
                    <a:pt x="77" y="57"/>
                    <a:pt x="38" y="28"/>
                    <a:pt x="0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Text Box 123"/>
            <p:cNvSpPr/>
            <p:nvPr/>
          </p:nvSpPr>
          <p:spPr>
            <a:xfrm>
              <a:off x="5292720" y="3340080"/>
              <a:ext cx="52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omic Sans MS"/>
                </a:rPr>
                <a:t>OriT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Line 132"/>
            <p:cNvSpPr/>
            <p:nvPr/>
          </p:nvSpPr>
          <p:spPr>
            <a:xfrm>
              <a:off x="5159520" y="5816520"/>
              <a:ext cx="355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Line 133"/>
            <p:cNvSpPr/>
            <p:nvPr/>
          </p:nvSpPr>
          <p:spPr>
            <a:xfrm>
              <a:off x="4778280" y="5816520"/>
              <a:ext cx="35568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Group 1100"/>
          <p:cNvGrpSpPr/>
          <p:nvPr/>
        </p:nvGrpSpPr>
        <p:grpSpPr>
          <a:xfrm>
            <a:off x="555840" y="220680"/>
            <a:ext cx="7790760" cy="5251320"/>
            <a:chOff x="555840" y="220680"/>
            <a:chExt cx="7790760" cy="5251320"/>
          </a:xfrm>
        </p:grpSpPr>
        <p:sp>
          <p:nvSpPr>
            <p:cNvPr id="803" name="AutoShape 2"/>
            <p:cNvSpPr/>
            <p:nvPr/>
          </p:nvSpPr>
          <p:spPr>
            <a:xfrm>
              <a:off x="1819440" y="1574640"/>
              <a:ext cx="2790720" cy="156060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AutoShape 3"/>
            <p:cNvSpPr/>
            <p:nvPr/>
          </p:nvSpPr>
          <p:spPr>
            <a:xfrm>
              <a:off x="1960560" y="1690560"/>
              <a:ext cx="2487600" cy="132552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AutoShape 4"/>
            <p:cNvSpPr/>
            <p:nvPr/>
          </p:nvSpPr>
          <p:spPr>
            <a:xfrm>
              <a:off x="2013120" y="1736640"/>
              <a:ext cx="2396880" cy="1225800"/>
            </a:xfrm>
            <a:prstGeom prst="roundRect">
              <a:avLst>
                <a:gd name="adj" fmla="val 4192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06" name="Group 5"/>
            <p:cNvGrpSpPr/>
            <p:nvPr/>
          </p:nvGrpSpPr>
          <p:grpSpPr>
            <a:xfrm>
              <a:off x="4610160" y="1574640"/>
              <a:ext cx="2790360" cy="1560240"/>
              <a:chOff x="4610160" y="1574640"/>
              <a:chExt cx="2790360" cy="1560240"/>
            </a:xfrm>
          </p:grpSpPr>
          <p:sp>
            <p:nvSpPr>
              <p:cNvPr id="807" name="AutoShape 6"/>
              <p:cNvSpPr/>
              <p:nvPr/>
            </p:nvSpPr>
            <p:spPr>
              <a:xfrm>
                <a:off x="4610160" y="1574640"/>
                <a:ext cx="2790360" cy="15602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8" name="AutoShape 7"/>
              <p:cNvSpPr/>
              <p:nvPr/>
            </p:nvSpPr>
            <p:spPr>
              <a:xfrm>
                <a:off x="4751640" y="1690560"/>
                <a:ext cx="2486160" cy="132624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9" name="AutoShape 8"/>
              <p:cNvSpPr/>
              <p:nvPr/>
            </p:nvSpPr>
            <p:spPr>
              <a:xfrm>
                <a:off x="4804200" y="1735920"/>
                <a:ext cx="2395440" cy="122616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10" name="Group 9"/>
            <p:cNvGrpSpPr/>
            <p:nvPr/>
          </p:nvGrpSpPr>
          <p:grpSpPr>
            <a:xfrm>
              <a:off x="6084720" y="1882800"/>
              <a:ext cx="993600" cy="895320"/>
              <a:chOff x="6084720" y="1882800"/>
              <a:chExt cx="993600" cy="895320"/>
            </a:xfrm>
          </p:grpSpPr>
          <p:sp>
            <p:nvSpPr>
              <p:cNvPr id="811" name="Oval 10"/>
              <p:cNvSpPr/>
              <p:nvPr/>
            </p:nvSpPr>
            <p:spPr>
              <a:xfrm>
                <a:off x="6160680" y="1946160"/>
                <a:ext cx="841320" cy="76860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2" name="Oval 11"/>
              <p:cNvSpPr/>
              <p:nvPr/>
            </p:nvSpPr>
            <p:spPr>
              <a:xfrm>
                <a:off x="6084720" y="1882800"/>
                <a:ext cx="993600" cy="89532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13" name="Rectangle 12"/>
            <p:cNvSpPr/>
            <p:nvPr/>
          </p:nvSpPr>
          <p:spPr>
            <a:xfrm>
              <a:off x="4241880" y="2260440"/>
              <a:ext cx="673200" cy="190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Rectangle 13"/>
            <p:cNvSpPr/>
            <p:nvPr/>
          </p:nvSpPr>
          <p:spPr>
            <a:xfrm>
              <a:off x="4432320" y="219708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Rectangle 14"/>
            <p:cNvSpPr/>
            <p:nvPr/>
          </p:nvSpPr>
          <p:spPr>
            <a:xfrm>
              <a:off x="4432320" y="242568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16" name="Group 15"/>
            <p:cNvGrpSpPr/>
            <p:nvPr/>
          </p:nvGrpSpPr>
          <p:grpSpPr>
            <a:xfrm>
              <a:off x="2433240" y="1828800"/>
              <a:ext cx="1316160" cy="1069920"/>
              <a:chOff x="2433240" y="1828800"/>
              <a:chExt cx="1316160" cy="1069920"/>
            </a:xfrm>
          </p:grpSpPr>
          <p:sp>
            <p:nvSpPr>
              <p:cNvPr id="817" name="Oval 16"/>
              <p:cNvSpPr/>
              <p:nvPr/>
            </p:nvSpPr>
            <p:spPr>
              <a:xfrm flipH="1">
                <a:off x="2432880" y="1854000"/>
                <a:ext cx="1223640" cy="100044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8" name="Rectangle 17"/>
              <p:cNvSpPr/>
              <p:nvPr/>
            </p:nvSpPr>
            <p:spPr>
              <a:xfrm>
                <a:off x="3060360" y="1828800"/>
                <a:ext cx="596880" cy="10540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9" name="Oval 18"/>
              <p:cNvSpPr/>
              <p:nvPr/>
            </p:nvSpPr>
            <p:spPr>
              <a:xfrm flipH="1">
                <a:off x="2516760" y="1920960"/>
                <a:ext cx="1057320" cy="86040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0" name="Rectangle 19"/>
              <p:cNvSpPr/>
              <p:nvPr/>
            </p:nvSpPr>
            <p:spPr>
              <a:xfrm flipH="1">
                <a:off x="3006360" y="2463840"/>
                <a:ext cx="743040" cy="434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1" name="Arc 20"/>
              <p:cNvSpPr/>
              <p:nvPr/>
            </p:nvSpPr>
            <p:spPr>
              <a:xfrm flipV="1">
                <a:off x="3022560" y="2412360"/>
                <a:ext cx="558720" cy="368280"/>
              </a:xfrm>
              <a:custGeom>
                <a:avLst/>
                <a:gdLst>
                  <a:gd name="textAreaLeft" fmla="*/ 0 w 558720"/>
                  <a:gd name="textAreaRight" fmla="*/ 558720 w 558720"/>
                  <a:gd name="textAreaTop" fmla="*/ -360 h 368280"/>
                  <a:gd name="textAreaBottom" fmla="*/ 368280 h 368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2" name="Freeform 21"/>
              <p:cNvSpPr/>
              <p:nvPr/>
            </p:nvSpPr>
            <p:spPr>
              <a:xfrm>
                <a:off x="3009600" y="2843280"/>
                <a:ext cx="254160" cy="1404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60" h="9">
                    <a:moveTo>
                      <a:pt x="0" y="9"/>
                    </a:moveTo>
                    <a:cubicBezTo>
                      <a:pt x="139" y="0"/>
                      <a:pt x="85" y="1"/>
                      <a:pt x="160" y="1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23" name="Freeform 22"/>
            <p:cNvSpPr/>
            <p:nvPr/>
          </p:nvSpPr>
          <p:spPr>
            <a:xfrm>
              <a:off x="3048120" y="1824120"/>
              <a:ext cx="2387520" cy="581040"/>
            </a:xfrm>
            <a:custGeom>
              <a:avLst/>
              <a:gdLst>
                <a:gd name="textAreaLeft" fmla="*/ 0 w 2387520"/>
                <a:gd name="textAreaRight" fmla="*/ 2387880 w 23875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504" h="366">
                  <a:moveTo>
                    <a:pt x="0" y="11"/>
                  </a:moveTo>
                  <a:cubicBezTo>
                    <a:pt x="92" y="5"/>
                    <a:pt x="184" y="0"/>
                    <a:pt x="280" y="35"/>
                  </a:cubicBezTo>
                  <a:cubicBezTo>
                    <a:pt x="376" y="70"/>
                    <a:pt x="493" y="167"/>
                    <a:pt x="576" y="219"/>
                  </a:cubicBezTo>
                  <a:cubicBezTo>
                    <a:pt x="659" y="271"/>
                    <a:pt x="701" y="328"/>
                    <a:pt x="776" y="347"/>
                  </a:cubicBezTo>
                  <a:cubicBezTo>
                    <a:pt x="851" y="366"/>
                    <a:pt x="924" y="332"/>
                    <a:pt x="1024" y="331"/>
                  </a:cubicBezTo>
                  <a:cubicBezTo>
                    <a:pt x="1124" y="330"/>
                    <a:pt x="1296" y="338"/>
                    <a:pt x="1376" y="339"/>
                  </a:cubicBezTo>
                  <a:cubicBezTo>
                    <a:pt x="1456" y="340"/>
                    <a:pt x="1480" y="339"/>
                    <a:pt x="1504" y="339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Line 23"/>
            <p:cNvSpPr/>
            <p:nvPr/>
          </p:nvSpPr>
          <p:spPr>
            <a:xfrm>
              <a:off x="5308560" y="2362320"/>
              <a:ext cx="355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Freeform 24"/>
            <p:cNvSpPr/>
            <p:nvPr/>
          </p:nvSpPr>
          <p:spPr>
            <a:xfrm>
              <a:off x="3251160" y="2438280"/>
              <a:ext cx="406440" cy="4064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256" h="256">
                  <a:moveTo>
                    <a:pt x="0" y="256"/>
                  </a:moveTo>
                  <a:cubicBezTo>
                    <a:pt x="40" y="244"/>
                    <a:pt x="81" y="233"/>
                    <a:pt x="112" y="216"/>
                  </a:cubicBezTo>
                  <a:cubicBezTo>
                    <a:pt x="143" y="199"/>
                    <a:pt x="165" y="172"/>
                    <a:pt x="184" y="152"/>
                  </a:cubicBezTo>
                  <a:cubicBezTo>
                    <a:pt x="203" y="132"/>
                    <a:pt x="212" y="121"/>
                    <a:pt x="224" y="96"/>
                  </a:cubicBezTo>
                  <a:cubicBezTo>
                    <a:pt x="236" y="71"/>
                    <a:pt x="251" y="17"/>
                    <a:pt x="256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Freeform 25"/>
            <p:cNvSpPr/>
            <p:nvPr/>
          </p:nvSpPr>
          <p:spPr>
            <a:xfrm>
              <a:off x="3378240" y="1917720"/>
              <a:ext cx="279360" cy="4827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176" h="304">
                  <a:moveTo>
                    <a:pt x="176" y="304"/>
                  </a:moveTo>
                  <a:cubicBezTo>
                    <a:pt x="174" y="262"/>
                    <a:pt x="172" y="220"/>
                    <a:pt x="160" y="184"/>
                  </a:cubicBezTo>
                  <a:cubicBezTo>
                    <a:pt x="148" y="148"/>
                    <a:pt x="131" y="119"/>
                    <a:pt x="104" y="88"/>
                  </a:cubicBezTo>
                  <a:cubicBezTo>
                    <a:pt x="77" y="57"/>
                    <a:pt x="38" y="28"/>
                    <a:pt x="0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AutoShape 26"/>
            <p:cNvSpPr/>
            <p:nvPr/>
          </p:nvSpPr>
          <p:spPr>
            <a:xfrm>
              <a:off x="4089240" y="673200"/>
              <a:ext cx="508320" cy="1181160"/>
            </a:xfrm>
            <a:prstGeom prst="lightningBolt">
              <a:avLst/>
            </a:prstGeom>
            <a:solidFill>
              <a:srgbClr val="ffff00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Text Box 27"/>
            <p:cNvSpPr/>
            <p:nvPr/>
          </p:nvSpPr>
          <p:spPr>
            <a:xfrm>
              <a:off x="2562120" y="220680"/>
              <a:ext cx="405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Interruzione dell’accoppiament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29" name="Group 65"/>
            <p:cNvGrpSpPr/>
            <p:nvPr/>
          </p:nvGrpSpPr>
          <p:grpSpPr>
            <a:xfrm>
              <a:off x="1527120" y="3911760"/>
              <a:ext cx="2790720" cy="1560240"/>
              <a:chOff x="1527120" y="3911760"/>
              <a:chExt cx="2790720" cy="1560240"/>
            </a:xfrm>
          </p:grpSpPr>
          <p:sp>
            <p:nvSpPr>
              <p:cNvPr id="830" name="AutoShape 28"/>
              <p:cNvSpPr/>
              <p:nvPr/>
            </p:nvSpPr>
            <p:spPr>
              <a:xfrm>
                <a:off x="1527120" y="3911760"/>
                <a:ext cx="2790720" cy="15602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1" name="AutoShape 29"/>
              <p:cNvSpPr/>
              <p:nvPr/>
            </p:nvSpPr>
            <p:spPr>
              <a:xfrm>
                <a:off x="1668240" y="4027320"/>
                <a:ext cx="2487600" cy="132588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2" name="AutoShape 30"/>
              <p:cNvSpPr/>
              <p:nvPr/>
            </p:nvSpPr>
            <p:spPr>
              <a:xfrm>
                <a:off x="1720800" y="4073400"/>
                <a:ext cx="2396880" cy="1225800"/>
              </a:xfrm>
              <a:prstGeom prst="roundRect">
                <a:avLst>
                  <a:gd name="adj" fmla="val 41926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33" name="Group 52"/>
              <p:cNvGrpSpPr/>
              <p:nvPr/>
            </p:nvGrpSpPr>
            <p:grpSpPr>
              <a:xfrm>
                <a:off x="2257200" y="4102200"/>
                <a:ext cx="1247760" cy="1089000"/>
                <a:chOff x="2257200" y="4102200"/>
                <a:chExt cx="1247760" cy="1089000"/>
              </a:xfrm>
            </p:grpSpPr>
            <p:grpSp>
              <p:nvGrpSpPr>
                <p:cNvPr id="834" name="Group 53"/>
                <p:cNvGrpSpPr/>
                <p:nvPr/>
              </p:nvGrpSpPr>
              <p:grpSpPr>
                <a:xfrm>
                  <a:off x="2257200" y="4102200"/>
                  <a:ext cx="1247760" cy="1089000"/>
                  <a:chOff x="2257200" y="4102200"/>
                  <a:chExt cx="1247760" cy="1089000"/>
                </a:xfrm>
              </p:grpSpPr>
              <p:grpSp>
                <p:nvGrpSpPr>
                  <p:cNvPr id="835" name="Group 54"/>
                  <p:cNvGrpSpPr/>
                  <p:nvPr/>
                </p:nvGrpSpPr>
                <p:grpSpPr>
                  <a:xfrm>
                    <a:off x="2257200" y="4102200"/>
                    <a:ext cx="1247760" cy="1089000"/>
                    <a:chOff x="2257200" y="4102200"/>
                    <a:chExt cx="1247760" cy="1089000"/>
                  </a:xfrm>
                </p:grpSpPr>
                <p:sp>
                  <p:nvSpPr>
                    <p:cNvPr id="836" name="Oval 55"/>
                    <p:cNvSpPr/>
                    <p:nvPr/>
                  </p:nvSpPr>
                  <p:spPr>
                    <a:xfrm>
                      <a:off x="2339640" y="4260960"/>
                      <a:ext cx="1057320" cy="8604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00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37" name="Oval 56"/>
                    <p:cNvSpPr/>
                    <p:nvPr/>
                  </p:nvSpPr>
                  <p:spPr>
                    <a:xfrm>
                      <a:off x="2257200" y="4191120"/>
                      <a:ext cx="1224000" cy="100008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00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38" name="Rectangle 57"/>
                    <p:cNvSpPr/>
                    <p:nvPr/>
                  </p:nvSpPr>
                  <p:spPr>
                    <a:xfrm>
                      <a:off x="2889000" y="4102200"/>
                      <a:ext cx="615960" cy="612720"/>
                    </a:xfrm>
                    <a:prstGeom prst="rect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839" name="Arc 58"/>
                  <p:cNvSpPr/>
                  <p:nvPr/>
                </p:nvSpPr>
                <p:spPr>
                  <a:xfrm>
                    <a:off x="2882520" y="4189680"/>
                    <a:ext cx="590040" cy="537840"/>
                  </a:xfrm>
                  <a:custGeom>
                    <a:avLst/>
                    <a:gdLst>
                      <a:gd name="textAreaLeft" fmla="*/ 0 w 590040"/>
                      <a:gd name="textAreaRight" fmla="*/ 590400 w 590040"/>
                      <a:gd name="textAreaTop" fmla="*/ 0 h 537840"/>
                      <a:gd name="textAreaBottom" fmla="*/ 538200 h 537840"/>
                    </a:gdLst>
                    <a:ahLst/>
                    <a:rect l="textAreaLeft" t="textAreaTop" r="textAreaRight" b="textAreaBottom"/>
                    <a:pathLst>
                      <a:path fill="none" w="23933" h="23725">
                        <a:moveTo>
                          <a:pt x="0" y="126"/>
                        </a:moveTo>
                        <a:cubicBezTo>
                          <a:pt x="774" y="42"/>
                          <a:pt x="1553" y="-1"/>
                          <a:pt x="2333" y="0"/>
                        </a:cubicBezTo>
                        <a:cubicBezTo>
                          <a:pt x="14262" y="0"/>
                          <a:pt x="23933" y="9670"/>
                          <a:pt x="23933" y="21600"/>
                        </a:cubicBezTo>
                        <a:cubicBezTo>
                          <a:pt x="23933" y="22309"/>
                          <a:pt x="23898" y="23018"/>
                          <a:pt x="23828" y="23725"/>
                        </a:cubicBezTo>
                      </a:path>
                      <a:path stroke="0" w="23933" h="23725">
                        <a:moveTo>
                          <a:pt x="0" y="126"/>
                        </a:moveTo>
                        <a:cubicBezTo>
                          <a:pt x="774" y="42"/>
                          <a:pt x="1553" y="-1"/>
                          <a:pt x="2333" y="0"/>
                        </a:cubicBezTo>
                        <a:cubicBezTo>
                          <a:pt x="14262" y="0"/>
                          <a:pt x="23933" y="9670"/>
                          <a:pt x="23933" y="21600"/>
                        </a:cubicBezTo>
                        <a:cubicBezTo>
                          <a:pt x="23933" y="22309"/>
                          <a:pt x="23898" y="23018"/>
                          <a:pt x="23828" y="23725"/>
                        </a:cubicBezTo>
                        <a:lnTo>
                          <a:pt x="2333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840" name="Arc 59"/>
                <p:cNvSpPr/>
                <p:nvPr/>
              </p:nvSpPr>
              <p:spPr>
                <a:xfrm>
                  <a:off x="2883960" y="4259520"/>
                  <a:ext cx="514080" cy="523800"/>
                </a:xfrm>
                <a:custGeom>
                  <a:avLst/>
                  <a:gdLst>
                    <a:gd name="textAreaLeft" fmla="*/ 0 w 514080"/>
                    <a:gd name="textAreaRight" fmla="*/ 514440 w 514080"/>
                    <a:gd name="textAreaTop" fmla="*/ 0 h 523800"/>
                    <a:gd name="textAreaBottom" fmla="*/ 524160 h 523800"/>
                  </a:gdLst>
                  <a:ahLst/>
                  <a:rect l="textAreaLeft" t="textAreaTop" r="textAreaRight" b="textAreaBottom"/>
                  <a:pathLst>
                    <a:path fill="none" w="23933" h="23231">
                      <a:moveTo>
                        <a:pt x="0" y="126"/>
                      </a:moveTo>
                      <a:cubicBezTo>
                        <a:pt x="774" y="42"/>
                        <a:pt x="1553" y="-1"/>
                        <a:pt x="2333" y="0"/>
                      </a:cubicBezTo>
                      <a:cubicBezTo>
                        <a:pt x="14262" y="0"/>
                        <a:pt x="23933" y="9670"/>
                        <a:pt x="23933" y="21600"/>
                      </a:cubicBezTo>
                      <a:cubicBezTo>
                        <a:pt x="23933" y="22144"/>
                        <a:pt x="23912" y="22688"/>
                        <a:pt x="23871" y="23231"/>
                      </a:cubicBezTo>
                    </a:path>
                    <a:path stroke="0" w="23933" h="23231">
                      <a:moveTo>
                        <a:pt x="0" y="126"/>
                      </a:moveTo>
                      <a:cubicBezTo>
                        <a:pt x="774" y="42"/>
                        <a:pt x="1553" y="-1"/>
                        <a:pt x="2333" y="0"/>
                      </a:cubicBezTo>
                      <a:cubicBezTo>
                        <a:pt x="14262" y="0"/>
                        <a:pt x="23933" y="9670"/>
                        <a:pt x="23933" y="21600"/>
                      </a:cubicBezTo>
                      <a:cubicBezTo>
                        <a:pt x="23933" y="22144"/>
                        <a:pt x="23912" y="22688"/>
                        <a:pt x="23871" y="23231"/>
                      </a:cubicBezTo>
                      <a:lnTo>
                        <a:pt x="2333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841" name="Group 64"/>
            <p:cNvGrpSpPr/>
            <p:nvPr/>
          </p:nvGrpSpPr>
          <p:grpSpPr>
            <a:xfrm>
              <a:off x="4813200" y="3911760"/>
              <a:ext cx="2790360" cy="1559880"/>
              <a:chOff x="4813200" y="3911760"/>
              <a:chExt cx="2790360" cy="1559880"/>
            </a:xfrm>
          </p:grpSpPr>
          <p:grpSp>
            <p:nvGrpSpPr>
              <p:cNvPr id="842" name="Group 31"/>
              <p:cNvGrpSpPr/>
              <p:nvPr/>
            </p:nvGrpSpPr>
            <p:grpSpPr>
              <a:xfrm>
                <a:off x="4813200" y="3911760"/>
                <a:ext cx="2790360" cy="1559880"/>
                <a:chOff x="4813200" y="3911760"/>
                <a:chExt cx="2790360" cy="1559880"/>
              </a:xfrm>
            </p:grpSpPr>
            <p:sp>
              <p:nvSpPr>
                <p:cNvPr id="843" name="AutoShape 32"/>
                <p:cNvSpPr/>
                <p:nvPr/>
              </p:nvSpPr>
              <p:spPr>
                <a:xfrm>
                  <a:off x="4813200" y="3911760"/>
                  <a:ext cx="2790360" cy="155988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44" name="AutoShape 33"/>
                <p:cNvSpPr/>
                <p:nvPr/>
              </p:nvSpPr>
              <p:spPr>
                <a:xfrm>
                  <a:off x="4954680" y="4027680"/>
                  <a:ext cx="2486160" cy="132588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45" name="AutoShape 34"/>
                <p:cNvSpPr/>
                <p:nvPr/>
              </p:nvSpPr>
              <p:spPr>
                <a:xfrm>
                  <a:off x="5007240" y="4073040"/>
                  <a:ext cx="2395440" cy="122580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846" name="Group 35"/>
              <p:cNvGrpSpPr/>
              <p:nvPr/>
            </p:nvGrpSpPr>
            <p:grpSpPr>
              <a:xfrm>
                <a:off x="5742000" y="4257720"/>
                <a:ext cx="993600" cy="895320"/>
                <a:chOff x="5742000" y="4257720"/>
                <a:chExt cx="993600" cy="895320"/>
              </a:xfrm>
            </p:grpSpPr>
            <p:sp>
              <p:nvSpPr>
                <p:cNvPr id="847" name="Oval 36"/>
                <p:cNvSpPr/>
                <p:nvPr/>
              </p:nvSpPr>
              <p:spPr>
                <a:xfrm>
                  <a:off x="5817960" y="432108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48" name="Oval 37"/>
                <p:cNvSpPr/>
                <p:nvPr/>
              </p:nvSpPr>
              <p:spPr>
                <a:xfrm>
                  <a:off x="5742000" y="425772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49" name="Rectangle 60"/>
              <p:cNvSpPr/>
              <p:nvPr/>
            </p:nvSpPr>
            <p:spPr>
              <a:xfrm>
                <a:off x="6070680" y="4229280"/>
                <a:ext cx="355320" cy="126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0" name="Line 62"/>
              <p:cNvSpPr/>
              <p:nvPr/>
            </p:nvSpPr>
            <p:spPr>
              <a:xfrm>
                <a:off x="6083280" y="4267080"/>
                <a:ext cx="33012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1" name="Line 63"/>
              <p:cNvSpPr/>
              <p:nvPr/>
            </p:nvSpPr>
            <p:spPr>
              <a:xfrm>
                <a:off x="6083280" y="4343400"/>
                <a:ext cx="33012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52" name="Text Box 66"/>
            <p:cNvSpPr/>
            <p:nvPr/>
          </p:nvSpPr>
          <p:spPr>
            <a:xfrm>
              <a:off x="555840" y="44607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Hf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Text Box 67"/>
            <p:cNvSpPr/>
            <p:nvPr/>
          </p:nvSpPr>
          <p:spPr>
            <a:xfrm>
              <a:off x="7891560" y="44607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it-IT" sz="3600" spc="-1" strike="noStrike" baseline="28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Line 68"/>
            <p:cNvSpPr/>
            <p:nvPr/>
          </p:nvSpPr>
          <p:spPr>
            <a:xfrm>
              <a:off x="5302080" y="2425680"/>
              <a:ext cx="3556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Line 69"/>
            <p:cNvSpPr/>
            <p:nvPr/>
          </p:nvSpPr>
          <p:spPr>
            <a:xfrm>
              <a:off x="4883040" y="2425680"/>
              <a:ext cx="35568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905120" y="2286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e basi molecolari delle mutazioni</a:t>
            </a: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95360" y="2387520"/>
            <a:ext cx="819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ssono risultare per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ostitu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una base nel DNA o per inserzione e delezione di una base (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croinserzion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crodelezion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Il cambiamento del fenotipo dipende dal punto esatto in cui la mutazione è situata nel gene e da quale prodotto è normalmente codificato dal ge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95360" y="4356000"/>
            <a:ext cx="815328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lezion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ossono coinvolgere la perdita di centinaia o migliaia di paia di basi; non revertono se non per ricombinazi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serzion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i verificano per aggiunta di nuove basi al DNA e inattivano il gene in cui accadono. Molte mutazioni da inserzione sono dovute a sequenze di DNA specifiche, lunghe 700-1400 bp, dette </a:t>
            </a:r>
            <a:r>
              <a:rPr b="1" lang="it-IT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quenze di inser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Le mutazioni da inserzione possono revertere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15800" y="185436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Mutazioni puntiform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64680" y="3822840"/>
            <a:ext cx="70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Mutazioni che coinvolgono molte paia di bas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495360" y="878040"/>
            <a:ext cx="81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Comic Sans MS"/>
              </a:rPr>
              <a:t>Mutazione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: è un cambiamento ereditario nella sequenza delle basi nel genoma di un organism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2" descr=""/>
          <p:cNvPicPr/>
          <p:nvPr/>
        </p:nvPicPr>
        <p:blipFill>
          <a:blip r:embed="rId1"/>
          <a:stretch/>
        </p:blipFill>
        <p:spPr>
          <a:xfrm>
            <a:off x="1409760" y="314280"/>
            <a:ext cx="6875280" cy="673416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4"/>
          <p:cNvSpPr/>
          <p:nvPr/>
        </p:nvSpPr>
        <p:spPr>
          <a:xfrm>
            <a:off x="1384200" y="2603520"/>
            <a:ext cx="6832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533520" y="2652840"/>
            <a:ext cx="812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iene trasferito un filamento singolo di F insieme a una copia di parte del cromosoma del donatore. Nel ricevente viene sintetizzato il filamento complement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Rectangle 6"/>
          <p:cNvSpPr/>
          <p:nvPr/>
        </p:nvSpPr>
        <p:spPr>
          <a:xfrm>
            <a:off x="1320840" y="5575320"/>
            <a:ext cx="6934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Text Box 5"/>
          <p:cNvSpPr/>
          <p:nvPr/>
        </p:nvSpPr>
        <p:spPr>
          <a:xfrm>
            <a:off x="584280" y="5789520"/>
            <a:ext cx="81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na copia del cromosoma con F integrato rimane nella cellula donatrice dopo la replicazione della singola elica resta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Rectangle 7"/>
          <p:cNvSpPr/>
          <p:nvPr/>
        </p:nvSpPr>
        <p:spPr>
          <a:xfrm>
            <a:off x="5110200" y="9446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onat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Text Box 8"/>
          <p:cNvSpPr/>
          <p:nvPr/>
        </p:nvSpPr>
        <p:spPr>
          <a:xfrm>
            <a:off x="5349960" y="189720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cev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Rectangle 9"/>
          <p:cNvSpPr/>
          <p:nvPr/>
        </p:nvSpPr>
        <p:spPr>
          <a:xfrm>
            <a:off x="4889520" y="6692760"/>
            <a:ext cx="3938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1026" descr=""/>
          <p:cNvPicPr/>
          <p:nvPr/>
        </p:nvPicPr>
        <p:blipFill>
          <a:blip r:embed="rId1"/>
          <a:stretch/>
        </p:blipFill>
        <p:spPr>
          <a:xfrm>
            <a:off x="1612800" y="925560"/>
            <a:ext cx="5627880" cy="587520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1028"/>
          <p:cNvSpPr/>
          <p:nvPr/>
        </p:nvSpPr>
        <p:spPr>
          <a:xfrm>
            <a:off x="1292040" y="274680"/>
            <a:ext cx="674460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combinazione dopo coniugazione con Hf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Rectangle 1029"/>
          <p:cNvSpPr/>
          <p:nvPr/>
        </p:nvSpPr>
        <p:spPr>
          <a:xfrm>
            <a:off x="3251160" y="1193760"/>
            <a:ext cx="99072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Text Box 1031"/>
          <p:cNvSpPr/>
          <p:nvPr/>
        </p:nvSpPr>
        <p:spPr>
          <a:xfrm>
            <a:off x="3158640" y="1084320"/>
            <a:ext cx="144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sogen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Rectangle 1032"/>
          <p:cNvSpPr/>
          <p:nvPr/>
        </p:nvSpPr>
        <p:spPr>
          <a:xfrm>
            <a:off x="3238560" y="1689120"/>
            <a:ext cx="13334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Text Box 1030"/>
          <p:cNvSpPr/>
          <p:nvPr/>
        </p:nvSpPr>
        <p:spPr>
          <a:xfrm>
            <a:off x="3123000" y="159228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ndogen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1"/>
          <p:cNvSpPr/>
          <p:nvPr/>
        </p:nvSpPr>
        <p:spPr>
          <a:xfrm>
            <a:off x="190440" y="4267080"/>
            <a:ext cx="8674200" cy="25909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AutoShape 2"/>
          <p:cNvSpPr/>
          <p:nvPr/>
        </p:nvSpPr>
        <p:spPr>
          <a:xfrm>
            <a:off x="1601640" y="279360"/>
            <a:ext cx="962280" cy="978120"/>
          </a:xfrm>
          <a:custGeom>
            <a:avLst/>
            <a:gdLst>
              <a:gd name="textAreaLeft" fmla="*/ 140760 w 962280"/>
              <a:gd name="textAreaRight" fmla="*/ 821520 w 962280"/>
              <a:gd name="textAreaTop" fmla="*/ 143280 h 978120"/>
              <a:gd name="textAreaBottom" fmla="*/ 834840 h 97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121" y="10800"/>
                </a:moveTo>
                <a:cubicBezTo>
                  <a:pt x="1121" y="16146"/>
                  <a:pt x="5454" y="20479"/>
                  <a:pt x="10800" y="20479"/>
                </a:cubicBezTo>
                <a:cubicBezTo>
                  <a:pt x="16146" y="20479"/>
                  <a:pt x="20479" y="16146"/>
                  <a:pt x="20479" y="10800"/>
                </a:cubicBezTo>
                <a:cubicBezTo>
                  <a:pt x="20479" y="5454"/>
                  <a:pt x="16146" y="1121"/>
                  <a:pt x="10800" y="1121"/>
                </a:cubicBezTo>
                <a:cubicBezTo>
                  <a:pt x="5454" y="1121"/>
                  <a:pt x="1121" y="5454"/>
                  <a:pt x="1121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Rectangle 5"/>
          <p:cNvSpPr/>
          <p:nvPr/>
        </p:nvSpPr>
        <p:spPr>
          <a:xfrm>
            <a:off x="1974960" y="1173240"/>
            <a:ext cx="234720" cy="8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AutoShape 11"/>
          <p:cNvSpPr/>
          <p:nvPr/>
        </p:nvSpPr>
        <p:spPr>
          <a:xfrm rot="16200000">
            <a:off x="2370960" y="673920"/>
            <a:ext cx="311040" cy="188640"/>
          </a:xfrm>
          <a:prstGeom prst="rightArrow">
            <a:avLst>
              <a:gd name="adj1" fmla="val 50000"/>
              <a:gd name="adj2" fmla="val 4122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Text Box 12"/>
          <p:cNvSpPr/>
          <p:nvPr/>
        </p:nvSpPr>
        <p:spPr>
          <a:xfrm>
            <a:off x="2637360" y="61596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r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75" name="Group 24"/>
          <p:cNvGrpSpPr/>
          <p:nvPr/>
        </p:nvGrpSpPr>
        <p:grpSpPr>
          <a:xfrm>
            <a:off x="521280" y="1549440"/>
            <a:ext cx="3120480" cy="2738520"/>
            <a:chOff x="521280" y="1549440"/>
            <a:chExt cx="3120480" cy="2738520"/>
          </a:xfrm>
        </p:grpSpPr>
        <p:sp>
          <p:nvSpPr>
            <p:cNvPr id="876" name="AutoShape 3"/>
            <p:cNvSpPr/>
            <p:nvPr/>
          </p:nvSpPr>
          <p:spPr>
            <a:xfrm>
              <a:off x="950040" y="1560600"/>
              <a:ext cx="2327760" cy="2306160"/>
            </a:xfrm>
            <a:custGeom>
              <a:avLst/>
              <a:gdLst>
                <a:gd name="textAreaLeft" fmla="*/ 340920 w 2327760"/>
                <a:gd name="textAreaRight" fmla="*/ 1986840 w 2327760"/>
                <a:gd name="textAreaTop" fmla="*/ 337680 h 2306160"/>
                <a:gd name="textAreaBottom" fmla="*/ 1968480 h 23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68" y="10800"/>
                  </a:moveTo>
                  <a:cubicBezTo>
                    <a:pt x="568" y="16451"/>
                    <a:pt x="5149" y="21032"/>
                    <a:pt x="10800" y="21032"/>
                  </a:cubicBezTo>
                  <a:cubicBezTo>
                    <a:pt x="16451" y="21032"/>
                    <a:pt x="21032" y="16451"/>
                    <a:pt x="21032" y="10800"/>
                  </a:cubicBezTo>
                  <a:cubicBezTo>
                    <a:pt x="21032" y="5149"/>
                    <a:pt x="16451" y="568"/>
                    <a:pt x="10800" y="568"/>
                  </a:cubicBezTo>
                  <a:cubicBezTo>
                    <a:pt x="5149" y="568"/>
                    <a:pt x="568" y="5149"/>
                    <a:pt x="568" y="10800"/>
                  </a:cubicBez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Rectangle 4"/>
            <p:cNvSpPr/>
            <p:nvPr/>
          </p:nvSpPr>
          <p:spPr>
            <a:xfrm>
              <a:off x="1974600" y="1549440"/>
              <a:ext cx="222840" cy="77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Rectangle 6"/>
            <p:cNvSpPr/>
            <p:nvPr/>
          </p:nvSpPr>
          <p:spPr>
            <a:xfrm rot="17437800">
              <a:off x="939600" y="2309760"/>
              <a:ext cx="220680" cy="77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Rectangle 7"/>
            <p:cNvSpPr/>
            <p:nvPr/>
          </p:nvSpPr>
          <p:spPr>
            <a:xfrm rot="4320600">
              <a:off x="3089160" y="2376720"/>
              <a:ext cx="220320" cy="77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Rectangle 8"/>
            <p:cNvSpPr/>
            <p:nvPr/>
          </p:nvSpPr>
          <p:spPr>
            <a:xfrm rot="3051600">
              <a:off x="1095840" y="3336480"/>
              <a:ext cx="220320" cy="77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Rectangle 9"/>
            <p:cNvSpPr/>
            <p:nvPr/>
          </p:nvSpPr>
          <p:spPr>
            <a:xfrm rot="19198200">
              <a:off x="2743200" y="3524400"/>
              <a:ext cx="222840" cy="77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Text Box 13"/>
            <p:cNvSpPr/>
            <p:nvPr/>
          </p:nvSpPr>
          <p:spPr>
            <a:xfrm>
              <a:off x="2968560" y="15494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Text Box 14"/>
            <p:cNvSpPr/>
            <p:nvPr/>
          </p:nvSpPr>
          <p:spPr>
            <a:xfrm>
              <a:off x="3273480" y="30348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Text Box 15"/>
            <p:cNvSpPr/>
            <p:nvPr/>
          </p:nvSpPr>
          <p:spPr>
            <a:xfrm>
              <a:off x="1822680" y="382824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Text Box 16"/>
            <p:cNvSpPr/>
            <p:nvPr/>
          </p:nvSpPr>
          <p:spPr>
            <a:xfrm>
              <a:off x="521280" y="26722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Text Box 17"/>
            <p:cNvSpPr/>
            <p:nvPr/>
          </p:nvSpPr>
          <p:spPr>
            <a:xfrm>
              <a:off x="879840" y="1611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930320" y="1658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2852280" y="2320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Text Box 20"/>
            <p:cNvSpPr/>
            <p:nvPr/>
          </p:nvSpPr>
          <p:spPr>
            <a:xfrm>
              <a:off x="2562840" y="3247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Text Box 21"/>
            <p:cNvSpPr/>
            <p:nvPr/>
          </p:nvSpPr>
          <p:spPr>
            <a:xfrm>
              <a:off x="1180080" y="3105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Text Box 22"/>
            <p:cNvSpPr/>
            <p:nvPr/>
          </p:nvSpPr>
          <p:spPr>
            <a:xfrm>
              <a:off x="1081440" y="2266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2" name="Rectangle 23"/>
          <p:cNvSpPr/>
          <p:nvPr/>
        </p:nvSpPr>
        <p:spPr>
          <a:xfrm>
            <a:off x="1663560" y="4775040"/>
            <a:ext cx="5892840" cy="88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Rectangle 26"/>
          <p:cNvSpPr/>
          <p:nvPr/>
        </p:nvSpPr>
        <p:spPr>
          <a:xfrm>
            <a:off x="1028880" y="4775040"/>
            <a:ext cx="63468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Rectangle 27"/>
          <p:cNvSpPr/>
          <p:nvPr/>
        </p:nvSpPr>
        <p:spPr>
          <a:xfrm>
            <a:off x="7556400" y="4775040"/>
            <a:ext cx="63504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AutoShape 28"/>
          <p:cNvSpPr/>
          <p:nvPr/>
        </p:nvSpPr>
        <p:spPr>
          <a:xfrm>
            <a:off x="8023320" y="4724280"/>
            <a:ext cx="311040" cy="189000"/>
          </a:xfrm>
          <a:prstGeom prst="rightArrow">
            <a:avLst>
              <a:gd name="adj1" fmla="val 50000"/>
              <a:gd name="adj2" fmla="val 4114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Text Box 29"/>
          <p:cNvSpPr/>
          <p:nvPr/>
        </p:nvSpPr>
        <p:spPr>
          <a:xfrm>
            <a:off x="2205720" y="4473720"/>
            <a:ext cx="47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b                  c              d                 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7" name="Group 35"/>
          <p:cNvGrpSpPr/>
          <p:nvPr/>
        </p:nvGrpSpPr>
        <p:grpSpPr>
          <a:xfrm>
            <a:off x="1999800" y="1282680"/>
            <a:ext cx="190800" cy="241200"/>
            <a:chOff x="1999800" y="1282680"/>
            <a:chExt cx="190800" cy="241200"/>
          </a:xfrm>
        </p:grpSpPr>
        <p:sp>
          <p:nvSpPr>
            <p:cNvPr id="898" name="Line 31"/>
            <p:cNvSpPr/>
            <p:nvPr/>
          </p:nvSpPr>
          <p:spPr>
            <a:xfrm>
              <a:off x="2000160" y="1282680"/>
              <a:ext cx="190440" cy="24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Line 33"/>
            <p:cNvSpPr/>
            <p:nvPr/>
          </p:nvSpPr>
          <p:spPr>
            <a:xfrm flipH="1">
              <a:off x="1999800" y="1282680"/>
              <a:ext cx="190440" cy="24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0" name="Group 55"/>
          <p:cNvGrpSpPr/>
          <p:nvPr/>
        </p:nvGrpSpPr>
        <p:grpSpPr>
          <a:xfrm>
            <a:off x="4620600" y="990720"/>
            <a:ext cx="3374280" cy="3107160"/>
            <a:chOff x="4620600" y="990720"/>
            <a:chExt cx="3374280" cy="3107160"/>
          </a:xfrm>
        </p:grpSpPr>
        <p:sp>
          <p:nvSpPr>
            <p:cNvPr id="901" name="AutoShape 37"/>
            <p:cNvSpPr/>
            <p:nvPr/>
          </p:nvSpPr>
          <p:spPr>
            <a:xfrm>
              <a:off x="5048280" y="1052280"/>
              <a:ext cx="2571840" cy="2547360"/>
            </a:xfrm>
            <a:custGeom>
              <a:avLst/>
              <a:gdLst>
                <a:gd name="textAreaLeft" fmla="*/ 376200 w 2571840"/>
                <a:gd name="textAreaRight" fmla="*/ 2195640 w 2571840"/>
                <a:gd name="textAreaTop" fmla="*/ 372960 h 2547360"/>
                <a:gd name="textAreaBottom" fmla="*/ 2174400 h 254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68" y="10800"/>
                  </a:moveTo>
                  <a:cubicBezTo>
                    <a:pt x="568" y="16451"/>
                    <a:pt x="5149" y="21032"/>
                    <a:pt x="10800" y="21032"/>
                  </a:cubicBezTo>
                  <a:cubicBezTo>
                    <a:pt x="16451" y="21032"/>
                    <a:pt x="21032" y="16451"/>
                    <a:pt x="21032" y="10800"/>
                  </a:cubicBezTo>
                  <a:cubicBezTo>
                    <a:pt x="21032" y="5149"/>
                    <a:pt x="16451" y="568"/>
                    <a:pt x="10800" y="568"/>
                  </a:cubicBezTo>
                  <a:cubicBezTo>
                    <a:pt x="5149" y="568"/>
                    <a:pt x="568" y="5149"/>
                    <a:pt x="568" y="10800"/>
                  </a:cubicBez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Text Box 43"/>
            <p:cNvSpPr/>
            <p:nvPr/>
          </p:nvSpPr>
          <p:spPr>
            <a:xfrm>
              <a:off x="7372800" y="13712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Text Box 44"/>
            <p:cNvSpPr/>
            <p:nvPr/>
          </p:nvSpPr>
          <p:spPr>
            <a:xfrm>
              <a:off x="7626600" y="27810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Text Box 45"/>
            <p:cNvSpPr/>
            <p:nvPr/>
          </p:nvSpPr>
          <p:spPr>
            <a:xfrm>
              <a:off x="6188760" y="363816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Text Box 46"/>
            <p:cNvSpPr/>
            <p:nvPr/>
          </p:nvSpPr>
          <p:spPr>
            <a:xfrm>
              <a:off x="4620600" y="27810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Text Box 47"/>
            <p:cNvSpPr/>
            <p:nvPr/>
          </p:nvSpPr>
          <p:spPr>
            <a:xfrm>
              <a:off x="4622040" y="1534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Freeform 53"/>
            <p:cNvSpPr/>
            <p:nvPr/>
          </p:nvSpPr>
          <p:spPr>
            <a:xfrm>
              <a:off x="5600520" y="1104480"/>
              <a:ext cx="1511280" cy="24120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952" h="152">
                  <a:moveTo>
                    <a:pt x="0" y="136"/>
                  </a:moveTo>
                  <a:cubicBezTo>
                    <a:pt x="75" y="117"/>
                    <a:pt x="131" y="71"/>
                    <a:pt x="200" y="40"/>
                  </a:cubicBezTo>
                  <a:cubicBezTo>
                    <a:pt x="247" y="19"/>
                    <a:pt x="302" y="13"/>
                    <a:pt x="352" y="0"/>
                  </a:cubicBezTo>
                  <a:cubicBezTo>
                    <a:pt x="445" y="3"/>
                    <a:pt x="539" y="3"/>
                    <a:pt x="632" y="8"/>
                  </a:cubicBezTo>
                  <a:cubicBezTo>
                    <a:pt x="739" y="13"/>
                    <a:pt x="859" y="105"/>
                    <a:pt x="952" y="152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8" name="AutoShape 54"/>
            <p:cNvSpPr/>
            <p:nvPr/>
          </p:nvSpPr>
          <p:spPr>
            <a:xfrm>
              <a:off x="6181560" y="990720"/>
              <a:ext cx="311400" cy="188640"/>
            </a:xfrm>
            <a:prstGeom prst="rightArrow">
              <a:avLst>
                <a:gd name="adj1" fmla="val 50000"/>
                <a:gd name="adj2" fmla="val 41269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09" name="Text Box 56"/>
          <p:cNvSpPr/>
          <p:nvPr/>
        </p:nvSpPr>
        <p:spPr>
          <a:xfrm>
            <a:off x="528840" y="4589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Rectangle 57"/>
          <p:cNvSpPr/>
          <p:nvPr/>
        </p:nvSpPr>
        <p:spPr>
          <a:xfrm>
            <a:off x="1625760" y="5587920"/>
            <a:ext cx="5892480" cy="88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Rectangle 58"/>
          <p:cNvSpPr/>
          <p:nvPr/>
        </p:nvSpPr>
        <p:spPr>
          <a:xfrm>
            <a:off x="990720" y="5587920"/>
            <a:ext cx="63504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Rectangle 59"/>
          <p:cNvSpPr/>
          <p:nvPr/>
        </p:nvSpPr>
        <p:spPr>
          <a:xfrm>
            <a:off x="7518240" y="5587920"/>
            <a:ext cx="63504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AutoShape 60"/>
          <p:cNvSpPr/>
          <p:nvPr/>
        </p:nvSpPr>
        <p:spPr>
          <a:xfrm>
            <a:off x="7985160" y="5537160"/>
            <a:ext cx="311040" cy="189000"/>
          </a:xfrm>
          <a:prstGeom prst="rightArrow">
            <a:avLst>
              <a:gd name="adj1" fmla="val 50000"/>
              <a:gd name="adj2" fmla="val 4114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Text Box 62"/>
          <p:cNvSpPr/>
          <p:nvPr/>
        </p:nvSpPr>
        <p:spPr>
          <a:xfrm>
            <a:off x="511200" y="54021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Rectangle 63"/>
          <p:cNvSpPr/>
          <p:nvPr/>
        </p:nvSpPr>
        <p:spPr>
          <a:xfrm>
            <a:off x="1625760" y="6362640"/>
            <a:ext cx="5892480" cy="88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Rectangle 64"/>
          <p:cNvSpPr/>
          <p:nvPr/>
        </p:nvSpPr>
        <p:spPr>
          <a:xfrm>
            <a:off x="990720" y="6362640"/>
            <a:ext cx="63504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Rectangle 65"/>
          <p:cNvSpPr/>
          <p:nvPr/>
        </p:nvSpPr>
        <p:spPr>
          <a:xfrm>
            <a:off x="7518240" y="6362640"/>
            <a:ext cx="63504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AutoShape 66"/>
          <p:cNvSpPr/>
          <p:nvPr/>
        </p:nvSpPr>
        <p:spPr>
          <a:xfrm>
            <a:off x="7985160" y="6311880"/>
            <a:ext cx="311040" cy="189000"/>
          </a:xfrm>
          <a:prstGeom prst="rightArrow">
            <a:avLst>
              <a:gd name="adj1" fmla="val 50000"/>
              <a:gd name="adj2" fmla="val 4114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Text Box 68"/>
          <p:cNvSpPr/>
          <p:nvPr/>
        </p:nvSpPr>
        <p:spPr>
          <a:xfrm>
            <a:off x="511200" y="6176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Text Box 69"/>
          <p:cNvSpPr/>
          <p:nvPr/>
        </p:nvSpPr>
        <p:spPr>
          <a:xfrm>
            <a:off x="2099880" y="527364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b               c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    d               e                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Text Box 70"/>
          <p:cNvSpPr/>
          <p:nvPr/>
        </p:nvSpPr>
        <p:spPr>
          <a:xfrm>
            <a:off x="2074320" y="606096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               d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    e                a              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Text Box 72"/>
          <p:cNvSpPr/>
          <p:nvPr/>
        </p:nvSpPr>
        <p:spPr>
          <a:xfrm>
            <a:off x="6028200" y="679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r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Text Box 73"/>
          <p:cNvSpPr/>
          <p:nvPr/>
        </p:nvSpPr>
        <p:spPr>
          <a:xfrm>
            <a:off x="3026880" y="88920"/>
            <a:ext cx="31219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lo di Campb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Text Box 74"/>
          <p:cNvSpPr/>
          <p:nvPr/>
        </p:nvSpPr>
        <p:spPr>
          <a:xfrm>
            <a:off x="1952280" y="55080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068"/>
          <p:cNvSpPr/>
          <p:nvPr/>
        </p:nvSpPr>
        <p:spPr>
          <a:xfrm>
            <a:off x="4965840" y="1206360"/>
            <a:ext cx="2133360" cy="1917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6" name="Group 1026"/>
          <p:cNvGrpSpPr/>
          <p:nvPr/>
        </p:nvGrpSpPr>
        <p:grpSpPr>
          <a:xfrm>
            <a:off x="2351160" y="1220760"/>
            <a:ext cx="4410000" cy="4111920"/>
            <a:chOff x="2351160" y="1220760"/>
            <a:chExt cx="4410000" cy="4111920"/>
          </a:xfrm>
        </p:grpSpPr>
        <p:sp>
          <p:nvSpPr>
            <p:cNvPr id="927" name="Oval 1027"/>
            <p:cNvSpPr/>
            <p:nvPr/>
          </p:nvSpPr>
          <p:spPr>
            <a:xfrm>
              <a:off x="2773800" y="1604520"/>
              <a:ext cx="3587040" cy="3364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8" name="Arc 1028"/>
            <p:cNvSpPr/>
            <p:nvPr/>
          </p:nvSpPr>
          <p:spPr>
            <a:xfrm>
              <a:off x="4567680" y="1703160"/>
              <a:ext cx="860040" cy="158328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1583280"/>
                <a:gd name="textAreaBottom" fmla="*/ 1583640 h 1583280"/>
              </a:gdLst>
              <a:ahLst/>
              <a:rect l="textAreaLeft" t="textAreaTop" r="textAreaRight" b="textAreaBottom"/>
              <a:pathLst>
                <a:path fill="none" w="10475" h="20549">
                  <a:moveTo>
                    <a:pt x="6654" y="-1"/>
                  </a:moveTo>
                  <a:cubicBezTo>
                    <a:pt x="7978" y="428"/>
                    <a:pt x="9258" y="984"/>
                    <a:pt x="10475" y="1659"/>
                  </a:cubicBezTo>
                </a:path>
                <a:path stroke="0" w="10475" h="20549">
                  <a:moveTo>
                    <a:pt x="6654" y="-1"/>
                  </a:moveTo>
                  <a:cubicBezTo>
                    <a:pt x="7978" y="428"/>
                    <a:pt x="9258" y="984"/>
                    <a:pt x="10475" y="1659"/>
                  </a:cubicBezTo>
                  <a:lnTo>
                    <a:pt x="0" y="20549"/>
                  </a:lnTo>
                  <a:close/>
                </a:path>
              </a:pathLst>
            </a:custGeom>
            <a:noFill/>
            <a:ln w="8892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9" name="Rectangle 1029"/>
            <p:cNvSpPr/>
            <p:nvPr/>
          </p:nvSpPr>
          <p:spPr>
            <a:xfrm>
              <a:off x="5262840" y="133020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IS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0" name="Arc 1030"/>
            <p:cNvSpPr/>
            <p:nvPr/>
          </p:nvSpPr>
          <p:spPr>
            <a:xfrm>
              <a:off x="4567680" y="1939320"/>
              <a:ext cx="1296720" cy="1347120"/>
            </a:xfrm>
            <a:custGeom>
              <a:avLst/>
              <a:gdLst>
                <a:gd name="textAreaLeft" fmla="*/ 0 w 1296720"/>
                <a:gd name="textAreaRight" fmla="*/ 1297080 w 1296720"/>
                <a:gd name="textAreaTop" fmla="*/ 0 h 1347120"/>
                <a:gd name="textAreaBottom" fmla="*/ 1347480 h 1347120"/>
              </a:gdLst>
              <a:ahLst/>
              <a:rect l="textAreaLeft" t="textAreaTop" r="textAreaRight" b="textAreaBottom"/>
              <a:pathLst>
                <a:path fill="none" w="15793" h="17468">
                  <a:moveTo>
                    <a:pt x="12704" y="-1"/>
                  </a:moveTo>
                  <a:cubicBezTo>
                    <a:pt x="13818" y="809"/>
                    <a:pt x="14853" y="1725"/>
                    <a:pt x="15793" y="2732"/>
                  </a:cubicBezTo>
                </a:path>
                <a:path stroke="0" w="15793" h="17468">
                  <a:moveTo>
                    <a:pt x="12704" y="-1"/>
                  </a:moveTo>
                  <a:cubicBezTo>
                    <a:pt x="13818" y="809"/>
                    <a:pt x="14853" y="1725"/>
                    <a:pt x="15793" y="2732"/>
                  </a:cubicBezTo>
                  <a:lnTo>
                    <a:pt x="0" y="17468"/>
                  </a:lnTo>
                  <a:close/>
                </a:path>
              </a:pathLst>
            </a:custGeom>
            <a:noFill/>
            <a:ln w="8892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1" name="Rectangle 1031"/>
            <p:cNvSpPr/>
            <p:nvPr/>
          </p:nvSpPr>
          <p:spPr>
            <a:xfrm>
              <a:off x="5829840" y="16390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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2" name="Arc 1032"/>
            <p:cNvSpPr/>
            <p:nvPr/>
          </p:nvSpPr>
          <p:spPr>
            <a:xfrm>
              <a:off x="4567680" y="2307960"/>
              <a:ext cx="1609920" cy="978480"/>
            </a:xfrm>
            <a:custGeom>
              <a:avLst/>
              <a:gdLst>
                <a:gd name="textAreaLeft" fmla="*/ 0 w 1609920"/>
                <a:gd name="textAreaRight" fmla="*/ 1610280 w 1609920"/>
                <a:gd name="textAreaTop" fmla="*/ 0 h 978480"/>
                <a:gd name="textAreaBottom" fmla="*/ 978840 h 978480"/>
              </a:gdLst>
              <a:ahLst/>
              <a:rect l="textAreaLeft" t="textAreaTop" r="textAreaRight" b="textAreaBottom"/>
              <a:pathLst>
                <a:path fill="none" w="19584" h="12704">
                  <a:moveTo>
                    <a:pt x="17468" y="-1"/>
                  </a:moveTo>
                  <a:cubicBezTo>
                    <a:pt x="18288" y="1126"/>
                    <a:pt x="18997" y="2330"/>
                    <a:pt x="19585" y="3594"/>
                  </a:cubicBezTo>
                </a:path>
                <a:path stroke="0" w="19584" h="12704">
                  <a:moveTo>
                    <a:pt x="17468" y="-1"/>
                  </a:moveTo>
                  <a:cubicBezTo>
                    <a:pt x="18288" y="1126"/>
                    <a:pt x="18997" y="2330"/>
                    <a:pt x="19585" y="3594"/>
                  </a:cubicBezTo>
                  <a:lnTo>
                    <a:pt x="0" y="12704"/>
                  </a:lnTo>
                  <a:close/>
                </a:path>
              </a:pathLst>
            </a:custGeom>
            <a:noFill/>
            <a:ln w="8892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3" name="Rectangle 1033"/>
            <p:cNvSpPr/>
            <p:nvPr/>
          </p:nvSpPr>
          <p:spPr>
            <a:xfrm>
              <a:off x="6232680" y="210240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IS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4" name="Arc 1034"/>
            <p:cNvSpPr/>
            <p:nvPr/>
          </p:nvSpPr>
          <p:spPr>
            <a:xfrm>
              <a:off x="4567680" y="2773800"/>
              <a:ext cx="1742760" cy="512640"/>
            </a:xfrm>
            <a:custGeom>
              <a:avLst/>
              <a:gdLst>
                <a:gd name="textAreaLeft" fmla="*/ 0 w 1742760"/>
                <a:gd name="textAreaRight" fmla="*/ 1743120 w 174276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fill="none" w="21202" h="6654">
                  <a:moveTo>
                    <a:pt x="20549" y="-1"/>
                  </a:moveTo>
                  <a:cubicBezTo>
                    <a:pt x="20818" y="829"/>
                    <a:pt x="21036" y="1674"/>
                    <a:pt x="21202" y="2530"/>
                  </a:cubicBezTo>
                </a:path>
                <a:path stroke="0" w="21202" h="6654">
                  <a:moveTo>
                    <a:pt x="20549" y="-1"/>
                  </a:moveTo>
                  <a:cubicBezTo>
                    <a:pt x="20818" y="829"/>
                    <a:pt x="21036" y="1674"/>
                    <a:pt x="21202" y="2530"/>
                  </a:cubicBezTo>
                  <a:lnTo>
                    <a:pt x="0" y="6654"/>
                  </a:lnTo>
                  <a:close/>
                </a:path>
              </a:pathLst>
            </a:custGeom>
            <a:noFill/>
            <a:ln w="889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5" name="Rectangle 1035"/>
            <p:cNvSpPr/>
            <p:nvPr/>
          </p:nvSpPr>
          <p:spPr>
            <a:xfrm>
              <a:off x="6431400" y="259992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IS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6" name="Arc 1036"/>
            <p:cNvSpPr/>
            <p:nvPr/>
          </p:nvSpPr>
          <p:spPr>
            <a:xfrm>
              <a:off x="4352400" y="3286800"/>
              <a:ext cx="429840" cy="166500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1665000"/>
                <a:gd name="textAreaBottom" fmla="*/ 1665360 h 1665000"/>
              </a:gdLst>
              <a:ahLst/>
              <a:rect l="textAreaLeft" t="textAreaTop" r="textAreaRight" b="textAreaBottom"/>
              <a:pathLst>
                <a:path fill="none" w="5234" h="21600">
                  <a:moveTo>
                    <a:pt x="5234" y="21440"/>
                  </a:moveTo>
                  <a:cubicBezTo>
                    <a:pt x="4365" y="21546"/>
                    <a:pt x="3491" y="21599"/>
                    <a:pt x="2617" y="21600"/>
                  </a:cubicBezTo>
                  <a:cubicBezTo>
                    <a:pt x="1742" y="21600"/>
                    <a:pt x="868" y="21546"/>
                    <a:pt x="-1" y="21440"/>
                  </a:cubicBezTo>
                </a:path>
                <a:path stroke="0" w="5234" h="21600">
                  <a:moveTo>
                    <a:pt x="5234" y="21440"/>
                  </a:moveTo>
                  <a:cubicBezTo>
                    <a:pt x="4365" y="21546"/>
                    <a:pt x="3491" y="21599"/>
                    <a:pt x="2617" y="21600"/>
                  </a:cubicBezTo>
                  <a:cubicBezTo>
                    <a:pt x="1742" y="21600"/>
                    <a:pt x="868" y="21546"/>
                    <a:pt x="-1" y="21440"/>
                  </a:cubicBezTo>
                  <a:lnTo>
                    <a:pt x="2617" y="0"/>
                  </a:lnTo>
                  <a:close/>
                </a:path>
              </a:pathLst>
            </a:custGeom>
            <a:noFill/>
            <a:ln w="8892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7" name="Rectangle 1037"/>
            <p:cNvSpPr/>
            <p:nvPr/>
          </p:nvSpPr>
          <p:spPr>
            <a:xfrm>
              <a:off x="4147560" y="508896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inc, re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8" name="Arc 1038"/>
            <p:cNvSpPr/>
            <p:nvPr/>
          </p:nvSpPr>
          <p:spPr>
            <a:xfrm>
              <a:off x="3871800" y="3355200"/>
              <a:ext cx="747720" cy="158364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1583640"/>
                <a:gd name="textAreaBottom" fmla="*/ 1584000 h 1583640"/>
              </a:gdLst>
              <a:ahLst/>
              <a:rect l="textAreaLeft" t="textAreaTop" r="textAreaRight" b="textAreaBottom"/>
              <a:pathLst>
                <a:path fill="none" w="9123" h="20549">
                  <a:moveTo>
                    <a:pt x="2468" y="20549"/>
                  </a:moveTo>
                  <a:cubicBezTo>
                    <a:pt x="1626" y="20276"/>
                    <a:pt x="802" y="19952"/>
                    <a:pt x="-1" y="19578"/>
                  </a:cubicBezTo>
                </a:path>
                <a:path stroke="0" w="9123" h="20549">
                  <a:moveTo>
                    <a:pt x="2468" y="20549"/>
                  </a:moveTo>
                  <a:cubicBezTo>
                    <a:pt x="1626" y="20276"/>
                    <a:pt x="802" y="19952"/>
                    <a:pt x="-1" y="19578"/>
                  </a:cubicBezTo>
                  <a:lnTo>
                    <a:pt x="9123" y="0"/>
                  </a:lnTo>
                  <a:close/>
                </a:path>
              </a:pathLst>
            </a:custGeom>
            <a:noFill/>
            <a:ln w="8892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Rectangle 1039"/>
            <p:cNvSpPr/>
            <p:nvPr/>
          </p:nvSpPr>
          <p:spPr>
            <a:xfrm>
              <a:off x="3414240" y="502056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i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Arc 1040"/>
            <p:cNvSpPr/>
            <p:nvPr/>
          </p:nvSpPr>
          <p:spPr>
            <a:xfrm>
              <a:off x="3270240" y="3286800"/>
              <a:ext cx="1297080" cy="1347120"/>
            </a:xfrm>
            <a:custGeom>
              <a:avLst/>
              <a:gdLst>
                <a:gd name="textAreaLeft" fmla="*/ 0 w 1297080"/>
                <a:gd name="textAreaRight" fmla="*/ 1297440 w 1297080"/>
                <a:gd name="textAreaTop" fmla="*/ 0 h 1347120"/>
                <a:gd name="textAreaBottom" fmla="*/ 1347480 h 1347120"/>
              </a:gdLst>
              <a:ahLst/>
              <a:rect l="textAreaLeft" t="textAreaTop" r="textAreaRight" b="textAreaBottom"/>
              <a:pathLst>
                <a:path fill="none" w="15793" h="17468">
                  <a:moveTo>
                    <a:pt x="3088" y="17468"/>
                  </a:moveTo>
                  <a:cubicBezTo>
                    <a:pt x="1974" y="16658"/>
                    <a:pt x="939" y="15742"/>
                    <a:pt x="-1" y="14735"/>
                  </a:cubicBezTo>
                </a:path>
                <a:path stroke="0" w="15793" h="17468">
                  <a:moveTo>
                    <a:pt x="3088" y="17468"/>
                  </a:moveTo>
                  <a:cubicBezTo>
                    <a:pt x="1974" y="16658"/>
                    <a:pt x="939" y="15742"/>
                    <a:pt x="-1" y="14735"/>
                  </a:cubicBezTo>
                  <a:lnTo>
                    <a:pt x="15793" y="0"/>
                  </a:lnTo>
                  <a:close/>
                </a:path>
              </a:pathLst>
            </a:custGeom>
            <a:noFill/>
            <a:ln w="8892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Arc 1041"/>
            <p:cNvSpPr/>
            <p:nvPr/>
          </p:nvSpPr>
          <p:spPr>
            <a:xfrm>
              <a:off x="3045960" y="3286800"/>
              <a:ext cx="1521360" cy="1092240"/>
            </a:xfrm>
            <a:custGeom>
              <a:avLst/>
              <a:gdLst>
                <a:gd name="textAreaLeft" fmla="*/ 0 w 1521360"/>
                <a:gd name="textAreaRight" fmla="*/ 1521720 w 152136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fill="none" w="18521" h="14178">
                  <a:moveTo>
                    <a:pt x="2225" y="14178"/>
                  </a:moveTo>
                  <a:cubicBezTo>
                    <a:pt x="1395" y="13223"/>
                    <a:pt x="650" y="12198"/>
                    <a:pt x="-1" y="11113"/>
                  </a:cubicBezTo>
                </a:path>
                <a:path stroke="0" w="18521" h="14178">
                  <a:moveTo>
                    <a:pt x="2225" y="14178"/>
                  </a:moveTo>
                  <a:cubicBezTo>
                    <a:pt x="1395" y="13223"/>
                    <a:pt x="650" y="12198"/>
                    <a:pt x="-1" y="11113"/>
                  </a:cubicBezTo>
                  <a:lnTo>
                    <a:pt x="18521" y="0"/>
                  </a:lnTo>
                  <a:close/>
                </a:path>
              </a:pathLst>
            </a:custGeom>
            <a:noFill/>
            <a:ln w="8892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Rectangle 1042"/>
            <p:cNvSpPr/>
            <p:nvPr/>
          </p:nvSpPr>
          <p:spPr>
            <a:xfrm>
              <a:off x="2805480" y="42526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Arc 1043"/>
            <p:cNvSpPr/>
            <p:nvPr/>
          </p:nvSpPr>
          <p:spPr>
            <a:xfrm>
              <a:off x="2878920" y="3286800"/>
              <a:ext cx="1688400" cy="80676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fill="none" w="20549" h="10475">
                  <a:moveTo>
                    <a:pt x="1659" y="10475"/>
                  </a:moveTo>
                  <a:cubicBezTo>
                    <a:pt x="984" y="9258"/>
                    <a:pt x="428" y="7978"/>
                    <a:pt x="-1" y="6654"/>
                  </a:cubicBezTo>
                </a:path>
                <a:path stroke="0" w="20549" h="10475">
                  <a:moveTo>
                    <a:pt x="1659" y="10475"/>
                  </a:moveTo>
                  <a:cubicBezTo>
                    <a:pt x="984" y="9258"/>
                    <a:pt x="428" y="7978"/>
                    <a:pt x="-1" y="6654"/>
                  </a:cubicBezTo>
                  <a:lnTo>
                    <a:pt x="20549" y="0"/>
                  </a:lnTo>
                  <a:close/>
                </a:path>
              </a:pathLst>
            </a:custGeom>
            <a:noFill/>
            <a:ln w="889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Rectangle 1044"/>
            <p:cNvSpPr/>
            <p:nvPr/>
          </p:nvSpPr>
          <p:spPr>
            <a:xfrm>
              <a:off x="2638080" y="38296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Genev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Arc 1045"/>
            <p:cNvSpPr/>
            <p:nvPr/>
          </p:nvSpPr>
          <p:spPr>
            <a:xfrm>
              <a:off x="2799000" y="3286800"/>
              <a:ext cx="1768320" cy="456840"/>
            </a:xfrm>
            <a:custGeom>
              <a:avLst/>
              <a:gdLst>
                <a:gd name="textAreaLeft" fmla="*/ 0 w 1768320"/>
                <a:gd name="textAreaRight" fmla="*/ 1768680 w 176832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fill="none" w="21519" h="5937">
                  <a:moveTo>
                    <a:pt x="751" y="5937"/>
                  </a:moveTo>
                  <a:cubicBezTo>
                    <a:pt x="370" y="4607"/>
                    <a:pt x="119" y="3243"/>
                    <a:pt x="-1" y="1865"/>
                  </a:cubicBezTo>
                </a:path>
                <a:path stroke="0" w="21519" h="5937">
                  <a:moveTo>
                    <a:pt x="751" y="5937"/>
                  </a:moveTo>
                  <a:cubicBezTo>
                    <a:pt x="370" y="4607"/>
                    <a:pt x="119" y="3243"/>
                    <a:pt x="-1" y="1865"/>
                  </a:cubicBezTo>
                  <a:lnTo>
                    <a:pt x="21519" y="0"/>
                  </a:lnTo>
                  <a:close/>
                </a:path>
              </a:pathLst>
            </a:custGeom>
            <a:noFill/>
            <a:ln w="889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Rectangle 1046"/>
            <p:cNvSpPr/>
            <p:nvPr/>
          </p:nvSpPr>
          <p:spPr>
            <a:xfrm>
              <a:off x="2497320" y="3460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Genev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Arc 1047"/>
            <p:cNvSpPr/>
            <p:nvPr/>
          </p:nvSpPr>
          <p:spPr>
            <a:xfrm>
              <a:off x="2792520" y="3085200"/>
              <a:ext cx="1774800" cy="317160"/>
            </a:xfrm>
            <a:custGeom>
              <a:avLst/>
              <a:gdLst>
                <a:gd name="textAreaLeft" fmla="*/ 0 w 1774800"/>
                <a:gd name="textAreaRight" fmla="*/ 1775160 w 177480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fill="none" w="21600" h="4120">
                  <a:moveTo>
                    <a:pt x="52" y="4120"/>
                  </a:moveTo>
                  <a:cubicBezTo>
                    <a:pt x="17" y="3619"/>
                    <a:pt x="0" y="3118"/>
                    <a:pt x="0" y="2617"/>
                  </a:cubicBezTo>
                  <a:cubicBezTo>
                    <a:pt x="-1" y="1742"/>
                    <a:pt x="53" y="868"/>
                    <a:pt x="159" y="-1"/>
                  </a:cubicBezTo>
                </a:path>
                <a:path stroke="0" w="21600" h="4120">
                  <a:moveTo>
                    <a:pt x="52" y="4120"/>
                  </a:moveTo>
                  <a:cubicBezTo>
                    <a:pt x="17" y="3619"/>
                    <a:pt x="0" y="3118"/>
                    <a:pt x="0" y="2617"/>
                  </a:cubicBezTo>
                  <a:cubicBezTo>
                    <a:pt x="-1" y="1742"/>
                    <a:pt x="53" y="868"/>
                    <a:pt x="159" y="-1"/>
                  </a:cubicBezTo>
                  <a:lnTo>
                    <a:pt x="21600" y="2617"/>
                  </a:lnTo>
                  <a:close/>
                </a:path>
              </a:pathLst>
            </a:custGeom>
            <a:noFill/>
            <a:ln w="88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Arc 1048"/>
            <p:cNvSpPr/>
            <p:nvPr/>
          </p:nvSpPr>
          <p:spPr>
            <a:xfrm>
              <a:off x="2815200" y="2718360"/>
              <a:ext cx="1752120" cy="568080"/>
            </a:xfrm>
            <a:custGeom>
              <a:avLst/>
              <a:gdLst>
                <a:gd name="textAreaLeft" fmla="*/ 0 w 1752120"/>
                <a:gd name="textAreaRight" fmla="*/ 1752480 w 175212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fill="none" w="21335" h="7379">
                  <a:moveTo>
                    <a:pt x="-1" y="4008"/>
                  </a:moveTo>
                  <a:cubicBezTo>
                    <a:pt x="215" y="2642"/>
                    <a:pt x="561" y="1299"/>
                    <a:pt x="1034" y="-1"/>
                  </a:cubicBezTo>
                </a:path>
                <a:path stroke="0" w="21335" h="7379">
                  <a:moveTo>
                    <a:pt x="-1" y="4008"/>
                  </a:moveTo>
                  <a:cubicBezTo>
                    <a:pt x="215" y="2642"/>
                    <a:pt x="561" y="1299"/>
                    <a:pt x="1034" y="-1"/>
                  </a:cubicBezTo>
                  <a:lnTo>
                    <a:pt x="21335" y="7379"/>
                  </a:lnTo>
                  <a:close/>
                </a:path>
              </a:pathLst>
            </a:custGeom>
            <a:noFill/>
            <a:ln w="88920">
              <a:solidFill>
                <a:srgbClr val="99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9" name="Rectangle 1049"/>
            <p:cNvSpPr/>
            <p:nvPr/>
          </p:nvSpPr>
          <p:spPr>
            <a:xfrm>
              <a:off x="2512800" y="26604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0" name="Arc 1050"/>
            <p:cNvSpPr/>
            <p:nvPr/>
          </p:nvSpPr>
          <p:spPr>
            <a:xfrm>
              <a:off x="2920680" y="2404800"/>
              <a:ext cx="1647000" cy="881640"/>
            </a:xfrm>
            <a:custGeom>
              <a:avLst/>
              <a:gdLst>
                <a:gd name="textAreaLeft" fmla="*/ 0 w 1647000"/>
                <a:gd name="textAreaRight" fmla="*/ 1647360 w 1647000"/>
                <a:gd name="textAreaTop" fmla="*/ 0 h 881640"/>
                <a:gd name="textAreaBottom" fmla="*/ 882000 h 881640"/>
              </a:gdLst>
              <a:ahLst/>
              <a:rect l="textAreaLeft" t="textAreaTop" r="textAreaRight" b="textAreaBottom"/>
              <a:pathLst>
                <a:path fill="none" w="20031" h="11442">
                  <a:moveTo>
                    <a:pt x="-2" y="3362"/>
                  </a:moveTo>
                  <a:cubicBezTo>
                    <a:pt x="470" y="2193"/>
                    <a:pt x="1043" y="1068"/>
                    <a:pt x="1710" y="-1"/>
                  </a:cubicBezTo>
                </a:path>
                <a:path stroke="0" w="20031" h="11442">
                  <a:moveTo>
                    <a:pt x="-2" y="3362"/>
                  </a:moveTo>
                  <a:cubicBezTo>
                    <a:pt x="470" y="2193"/>
                    <a:pt x="1043" y="1068"/>
                    <a:pt x="1710" y="-1"/>
                  </a:cubicBezTo>
                  <a:lnTo>
                    <a:pt x="20031" y="11442"/>
                  </a:lnTo>
                  <a:close/>
                </a:path>
              </a:pathLst>
            </a:custGeom>
            <a:noFill/>
            <a:ln w="8892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1" name="Rectangle 1051"/>
            <p:cNvSpPr/>
            <p:nvPr/>
          </p:nvSpPr>
          <p:spPr>
            <a:xfrm>
              <a:off x="2638080" y="2254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Arc 1052"/>
            <p:cNvSpPr/>
            <p:nvPr/>
          </p:nvSpPr>
          <p:spPr>
            <a:xfrm>
              <a:off x="3094200" y="2151360"/>
              <a:ext cx="1473120" cy="113508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fill="none" w="17916" h="14735">
                  <a:moveTo>
                    <a:pt x="-1" y="2670"/>
                  </a:moveTo>
                  <a:cubicBezTo>
                    <a:pt x="635" y="1725"/>
                    <a:pt x="1345" y="832"/>
                    <a:pt x="2122" y="-1"/>
                  </a:cubicBezTo>
                </a:path>
                <a:path stroke="0" w="17916" h="14735">
                  <a:moveTo>
                    <a:pt x="-1" y="2670"/>
                  </a:moveTo>
                  <a:cubicBezTo>
                    <a:pt x="635" y="1725"/>
                    <a:pt x="1345" y="832"/>
                    <a:pt x="2122" y="-1"/>
                  </a:cubicBezTo>
                  <a:lnTo>
                    <a:pt x="17916" y="14735"/>
                  </a:lnTo>
                  <a:close/>
                </a:path>
              </a:pathLst>
            </a:custGeom>
            <a:noFill/>
            <a:ln w="8892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Rectangle 1053"/>
            <p:cNvSpPr/>
            <p:nvPr/>
          </p:nvSpPr>
          <p:spPr>
            <a:xfrm>
              <a:off x="2921760" y="1900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Arc 1054"/>
            <p:cNvSpPr/>
            <p:nvPr/>
          </p:nvSpPr>
          <p:spPr>
            <a:xfrm>
              <a:off x="3311640" y="2009880"/>
              <a:ext cx="1255680" cy="1276560"/>
            </a:xfrm>
            <a:custGeom>
              <a:avLst/>
              <a:gdLst>
                <a:gd name="textAreaLeft" fmla="*/ 0 w 1255680"/>
                <a:gd name="textAreaRight" fmla="*/ 1256040 w 1255680"/>
                <a:gd name="textAreaTop" fmla="*/ 0 h 1276560"/>
                <a:gd name="textAreaBottom" fmla="*/ 1276920 h 1276560"/>
              </a:gdLst>
              <a:ahLst/>
              <a:rect l="textAreaLeft" t="textAreaTop" r="textAreaRight" b="textAreaBottom"/>
              <a:pathLst>
                <a:path fill="none" w="15273" h="16552">
                  <a:moveTo>
                    <a:pt x="-1" y="1278"/>
                  </a:moveTo>
                  <a:cubicBezTo>
                    <a:pt x="445" y="832"/>
                    <a:pt x="911" y="405"/>
                    <a:pt x="1395" y="-1"/>
                  </a:cubicBezTo>
                </a:path>
                <a:path stroke="0" w="15273" h="16552">
                  <a:moveTo>
                    <a:pt x="-1" y="1278"/>
                  </a:moveTo>
                  <a:cubicBezTo>
                    <a:pt x="445" y="832"/>
                    <a:pt x="911" y="405"/>
                    <a:pt x="1395" y="-1"/>
                  </a:cubicBezTo>
                  <a:lnTo>
                    <a:pt x="15273" y="16552"/>
                  </a:lnTo>
                  <a:close/>
                </a:path>
              </a:pathLst>
            </a:custGeom>
            <a:noFill/>
            <a:ln w="8892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Rectangle 1055"/>
            <p:cNvSpPr/>
            <p:nvPr/>
          </p:nvSpPr>
          <p:spPr>
            <a:xfrm>
              <a:off x="3098520" y="1617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6" name="Arc 1056"/>
            <p:cNvSpPr/>
            <p:nvPr/>
          </p:nvSpPr>
          <p:spPr>
            <a:xfrm>
              <a:off x="3476160" y="1829880"/>
              <a:ext cx="1091160" cy="1456560"/>
            </a:xfrm>
            <a:custGeom>
              <a:avLst/>
              <a:gdLst>
                <a:gd name="textAreaLeft" fmla="*/ 0 w 1091160"/>
                <a:gd name="textAreaRight" fmla="*/ 1091520 w 1091160"/>
                <a:gd name="textAreaTop" fmla="*/ 0 h 1456560"/>
                <a:gd name="textAreaBottom" fmla="*/ 1456920 h 1456560"/>
              </a:gdLst>
              <a:ahLst/>
              <a:rect l="textAreaLeft" t="textAreaTop" r="textAreaRight" b="textAreaBottom"/>
              <a:pathLst>
                <a:path fill="none" w="13291" h="18889">
                  <a:moveTo>
                    <a:pt x="-1" y="1862"/>
                  </a:moveTo>
                  <a:cubicBezTo>
                    <a:pt x="887" y="1169"/>
                    <a:pt x="1829" y="545"/>
                    <a:pt x="2815" y="-1"/>
                  </a:cubicBezTo>
                </a:path>
                <a:path stroke="0" w="13291" h="18889">
                  <a:moveTo>
                    <a:pt x="-1" y="1862"/>
                  </a:moveTo>
                  <a:cubicBezTo>
                    <a:pt x="887" y="1169"/>
                    <a:pt x="1829" y="545"/>
                    <a:pt x="2815" y="-1"/>
                  </a:cubicBezTo>
                  <a:lnTo>
                    <a:pt x="13291" y="18889"/>
                  </a:lnTo>
                  <a:close/>
                </a:path>
              </a:pathLst>
            </a:custGeom>
            <a:noFill/>
            <a:ln w="8892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Rectangle 1057"/>
            <p:cNvSpPr/>
            <p:nvPr/>
          </p:nvSpPr>
          <p:spPr>
            <a:xfrm>
              <a:off x="3373200" y="1443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Arc 1058"/>
            <p:cNvSpPr/>
            <p:nvPr/>
          </p:nvSpPr>
          <p:spPr>
            <a:xfrm>
              <a:off x="3762000" y="1741680"/>
              <a:ext cx="805320" cy="1544760"/>
            </a:xfrm>
            <a:custGeom>
              <a:avLst/>
              <a:gdLst>
                <a:gd name="textAreaLeft" fmla="*/ 0 w 805320"/>
                <a:gd name="textAreaRight" fmla="*/ 805680 w 805320"/>
                <a:gd name="textAreaTop" fmla="*/ 0 h 1544760"/>
                <a:gd name="textAreaBottom" fmla="*/ 1545120 h 1544760"/>
              </a:gdLst>
              <a:ahLst/>
              <a:rect l="textAreaLeft" t="textAreaTop" r="textAreaRight" b="textAreaBottom"/>
              <a:pathLst>
                <a:path fill="none" w="9804" h="20031">
                  <a:moveTo>
                    <a:pt x="-1" y="784"/>
                  </a:moveTo>
                  <a:cubicBezTo>
                    <a:pt x="562" y="497"/>
                    <a:pt x="1138" y="235"/>
                    <a:pt x="1724" y="-2"/>
                  </a:cubicBezTo>
                </a:path>
                <a:path stroke="0" w="9804" h="20031">
                  <a:moveTo>
                    <a:pt x="-1" y="784"/>
                  </a:moveTo>
                  <a:cubicBezTo>
                    <a:pt x="562" y="497"/>
                    <a:pt x="1138" y="235"/>
                    <a:pt x="1724" y="-2"/>
                  </a:cubicBezTo>
                  <a:lnTo>
                    <a:pt x="9804" y="20031"/>
                  </a:lnTo>
                  <a:close/>
                </a:path>
              </a:pathLst>
            </a:custGeom>
            <a:noFill/>
            <a:ln w="889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Rectangle 1059"/>
            <p:cNvSpPr/>
            <p:nvPr/>
          </p:nvSpPr>
          <p:spPr>
            <a:xfrm>
              <a:off x="3683520" y="1323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Arc 1060"/>
            <p:cNvSpPr/>
            <p:nvPr/>
          </p:nvSpPr>
          <p:spPr>
            <a:xfrm>
              <a:off x="3961080" y="1671120"/>
              <a:ext cx="606240" cy="161532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1615320"/>
                <a:gd name="textAreaBottom" fmla="*/ 1615680 h 1615320"/>
              </a:gdLst>
              <a:ahLst/>
              <a:rect l="textAreaLeft" t="textAreaTop" r="textAreaRight" b="textAreaBottom"/>
              <a:pathLst>
                <a:path fill="none" w="7379" h="20961">
                  <a:moveTo>
                    <a:pt x="-1" y="660"/>
                  </a:moveTo>
                  <a:cubicBezTo>
                    <a:pt x="710" y="402"/>
                    <a:pt x="1433" y="181"/>
                    <a:pt x="2166" y="-1"/>
                  </a:cubicBezTo>
                </a:path>
                <a:path stroke="0" w="7379" h="20961">
                  <a:moveTo>
                    <a:pt x="-1" y="660"/>
                  </a:moveTo>
                  <a:cubicBezTo>
                    <a:pt x="710" y="402"/>
                    <a:pt x="1433" y="181"/>
                    <a:pt x="2166" y="-1"/>
                  </a:cubicBezTo>
                  <a:lnTo>
                    <a:pt x="7379" y="20961"/>
                  </a:lnTo>
                  <a:close/>
                </a:path>
              </a:pathLst>
            </a:custGeom>
            <a:noFill/>
            <a:ln w="88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1" name="Rectangle 1061"/>
            <p:cNvSpPr/>
            <p:nvPr/>
          </p:nvSpPr>
          <p:spPr>
            <a:xfrm>
              <a:off x="3897000" y="1280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Arc 1062"/>
            <p:cNvSpPr/>
            <p:nvPr/>
          </p:nvSpPr>
          <p:spPr>
            <a:xfrm>
              <a:off x="4169160" y="1634760"/>
              <a:ext cx="398160" cy="16516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651680"/>
                <a:gd name="textAreaBottom" fmla="*/ 1652040 h 1651680"/>
              </a:gdLst>
              <a:ahLst/>
              <a:rect l="textAreaLeft" t="textAreaTop" r="textAreaRight" b="textAreaBottom"/>
              <a:pathLst>
                <a:path fill="none" w="4844" h="21440">
                  <a:moveTo>
                    <a:pt x="-1" y="390"/>
                  </a:moveTo>
                  <a:cubicBezTo>
                    <a:pt x="734" y="221"/>
                    <a:pt x="1478" y="90"/>
                    <a:pt x="2226" y="-1"/>
                  </a:cubicBezTo>
                </a:path>
                <a:path stroke="0" w="4844" h="21440">
                  <a:moveTo>
                    <a:pt x="-1" y="390"/>
                  </a:moveTo>
                  <a:cubicBezTo>
                    <a:pt x="734" y="221"/>
                    <a:pt x="1478" y="90"/>
                    <a:pt x="2226" y="-1"/>
                  </a:cubicBezTo>
                  <a:lnTo>
                    <a:pt x="4844" y="21440"/>
                  </a:lnTo>
                  <a:close/>
                </a:path>
              </a:pathLst>
            </a:custGeom>
            <a:noFill/>
            <a:ln w="88920">
              <a:solidFill>
                <a:srgbClr val="99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Rectangle 1063"/>
            <p:cNvSpPr/>
            <p:nvPr/>
          </p:nvSpPr>
          <p:spPr>
            <a:xfrm>
              <a:off x="4256640" y="12207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Rectangle 1064"/>
            <p:cNvSpPr/>
            <p:nvPr/>
          </p:nvSpPr>
          <p:spPr>
            <a:xfrm>
              <a:off x="4417920" y="28058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Text Box 1065"/>
            <p:cNvSpPr/>
            <p:nvPr/>
          </p:nvSpPr>
          <p:spPr>
            <a:xfrm>
              <a:off x="3157560" y="451620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Text Box 1066"/>
            <p:cNvSpPr/>
            <p:nvPr/>
          </p:nvSpPr>
          <p:spPr>
            <a:xfrm>
              <a:off x="2351160" y="3050640"/>
              <a:ext cx="2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Text Box 1067"/>
            <p:cNvSpPr/>
            <p:nvPr/>
          </p:nvSpPr>
          <p:spPr>
            <a:xfrm>
              <a:off x="3963600" y="336600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94 K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2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365960" cy="10288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3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5892840" cy="4495680"/>
          </a:xfrm>
          <a:prstGeom prst="rect">
            <a:avLst/>
          </a:prstGeom>
          <a:ln w="0">
            <a:noFill/>
          </a:ln>
        </p:spPr>
      </p:pic>
      <p:sp>
        <p:nvSpPr>
          <p:cNvPr id="970" name="Text Box 4"/>
          <p:cNvSpPr/>
          <p:nvPr/>
        </p:nvSpPr>
        <p:spPr>
          <a:xfrm>
            <a:off x="2422440" y="279360"/>
            <a:ext cx="428328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Gradiente di trasferi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2" descr=""/>
          <p:cNvPicPr/>
          <p:nvPr/>
        </p:nvPicPr>
        <p:blipFill>
          <a:blip r:embed="rId1"/>
          <a:stretch/>
        </p:blipFill>
        <p:spPr>
          <a:xfrm>
            <a:off x="3276720" y="304920"/>
            <a:ext cx="5418000" cy="5918040"/>
          </a:xfrm>
          <a:prstGeom prst="rect">
            <a:avLst/>
          </a:prstGeom>
          <a:ln w="0">
            <a:noFill/>
          </a:ln>
        </p:spPr>
      </p:pic>
      <p:sp>
        <p:nvSpPr>
          <p:cNvPr id="972" name="AutoShape 12"/>
          <p:cNvSpPr/>
          <p:nvPr/>
        </p:nvSpPr>
        <p:spPr>
          <a:xfrm>
            <a:off x="3808440" y="4368960"/>
            <a:ext cx="5062680" cy="2217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Text Box 5"/>
          <p:cNvSpPr/>
          <p:nvPr/>
        </p:nvSpPr>
        <p:spPr>
          <a:xfrm>
            <a:off x="289080" y="2787480"/>
            <a:ext cx="291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formazione di un F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duce una dele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el cromoso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Text Box 6"/>
          <p:cNvSpPr/>
          <p:nvPr/>
        </p:nvSpPr>
        <p:spPr>
          <a:xfrm>
            <a:off x="341280" y="4491000"/>
            <a:ext cx="28386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seguito ad incroci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’ x F</a:t>
            </a:r>
            <a:r>
              <a:rPr b="1" lang="it-IT" sz="4000" spc="-1" strike="noStrike" baseline="18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i produce un diplo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arziale o </a:t>
            </a:r>
            <a:r>
              <a:rPr b="1" lang="it-IT" sz="2000" spc="-1" strike="noStrike">
                <a:solidFill>
                  <a:srgbClr val="3333cc"/>
                </a:solidFill>
                <a:latin typeface="Comic Sans MS"/>
              </a:rPr>
              <a:t>merizig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Text Box 7"/>
          <p:cNvSpPr/>
          <p:nvPr/>
        </p:nvSpPr>
        <p:spPr>
          <a:xfrm>
            <a:off x="351000" y="1206360"/>
            <a:ext cx="270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 ottiene in seguito a un errato processo di escissione di 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Rectangle 8"/>
          <p:cNvSpPr/>
          <p:nvPr/>
        </p:nvSpPr>
        <p:spPr>
          <a:xfrm>
            <a:off x="3314880" y="625320"/>
            <a:ext cx="44280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Rectangle 9"/>
          <p:cNvSpPr/>
          <p:nvPr/>
        </p:nvSpPr>
        <p:spPr>
          <a:xfrm>
            <a:off x="3336840" y="2055960"/>
            <a:ext cx="443160" cy="417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Rectangle 10"/>
          <p:cNvSpPr/>
          <p:nvPr/>
        </p:nvSpPr>
        <p:spPr>
          <a:xfrm>
            <a:off x="3359160" y="3486240"/>
            <a:ext cx="44280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Rectangle 11"/>
          <p:cNvSpPr/>
          <p:nvPr/>
        </p:nvSpPr>
        <p:spPr>
          <a:xfrm>
            <a:off x="3330720" y="5243400"/>
            <a:ext cx="44280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Rectangle 3"/>
          <p:cNvSpPr/>
          <p:nvPr/>
        </p:nvSpPr>
        <p:spPr>
          <a:xfrm>
            <a:off x="617400" y="287280"/>
            <a:ext cx="402264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l fattor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F’ e la F-du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17"/>
          <p:cNvSpPr/>
          <p:nvPr/>
        </p:nvSpPr>
        <p:spPr>
          <a:xfrm>
            <a:off x="382680" y="5349960"/>
            <a:ext cx="8493120" cy="90144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Rectangle 16"/>
          <p:cNvSpPr/>
          <p:nvPr/>
        </p:nvSpPr>
        <p:spPr>
          <a:xfrm>
            <a:off x="387360" y="4389480"/>
            <a:ext cx="8493120" cy="90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Rectangle 15"/>
          <p:cNvSpPr/>
          <p:nvPr/>
        </p:nvSpPr>
        <p:spPr>
          <a:xfrm>
            <a:off x="392040" y="3429000"/>
            <a:ext cx="8493120" cy="901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Text Box 4"/>
          <p:cNvSpPr/>
          <p:nvPr/>
        </p:nvSpPr>
        <p:spPr>
          <a:xfrm>
            <a:off x="-848520" y="1036800"/>
            <a:ext cx="107539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1320" indent="-22813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fattore F può trovarsi nella cellula com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81320" indent="-2281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it-IT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81320" indent="-2281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Hf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81320" indent="-2281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F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Text Box 5"/>
          <p:cNvSpPr/>
          <p:nvPr/>
        </p:nvSpPr>
        <p:spPr>
          <a:xfrm>
            <a:off x="956520" y="29718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 un incrocio…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Text Box 6"/>
          <p:cNvSpPr/>
          <p:nvPr/>
        </p:nvSpPr>
        <p:spPr>
          <a:xfrm>
            <a:off x="5558040" y="2971800"/>
            <a:ext cx="20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riceventi…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Rectangle 8"/>
          <p:cNvSpPr/>
          <p:nvPr/>
        </p:nvSpPr>
        <p:spPr>
          <a:xfrm>
            <a:off x="1359000" y="36259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3200" spc="-1" strike="noStrike" baseline="22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x F</a:t>
            </a:r>
            <a:r>
              <a:rPr b="1" lang="it-IT" sz="4000" spc="-1" strike="noStrike" baseline="18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5046840" y="4362480"/>
            <a:ext cx="4351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mangon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4000" spc="-1" strike="noStrike" baseline="18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 possono acquisire nuovi caratte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1348560" y="451944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Hfr x F</a:t>
            </a:r>
            <a:r>
              <a:rPr b="1" lang="it-IT" sz="4000" spc="-1" strike="noStrike" baseline="18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Text Box 11"/>
          <p:cNvSpPr/>
          <p:nvPr/>
        </p:nvSpPr>
        <p:spPr>
          <a:xfrm>
            <a:off x="5024160" y="3672000"/>
            <a:ext cx="20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ntan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3200" spc="-1" strike="noStrike" baseline="22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Rectangle 13"/>
          <p:cNvSpPr/>
          <p:nvPr/>
        </p:nvSpPr>
        <p:spPr>
          <a:xfrm>
            <a:off x="1355400" y="5433840"/>
            <a:ext cx="103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3200" spc="-1" strike="noStrike" baseline="22000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x F</a:t>
            </a:r>
            <a:r>
              <a:rPr b="1" lang="it-IT" sz="4000" spc="-1" strike="noStrike" baseline="18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Text Box 14"/>
          <p:cNvSpPr/>
          <p:nvPr/>
        </p:nvSpPr>
        <p:spPr>
          <a:xfrm>
            <a:off x="5046840" y="5396040"/>
            <a:ext cx="40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ntan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3200" spc="-1" strike="noStrike" baseline="22000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diploidi parziali per uno o più ge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Text Box 18"/>
          <p:cNvSpPr/>
          <p:nvPr/>
        </p:nvSpPr>
        <p:spPr>
          <a:xfrm>
            <a:off x="3093480" y="225360"/>
            <a:ext cx="28051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Ricapitolando…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Text Box 1027"/>
          <p:cNvSpPr/>
          <p:nvPr/>
        </p:nvSpPr>
        <p:spPr>
          <a:xfrm>
            <a:off x="441360" y="1128600"/>
            <a:ext cx="8321760" cy="155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e10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10f13"/>
                </a:solidFill>
                <a:latin typeface="Comic Sans MS"/>
              </a:rPr>
              <a:t>Salmonell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ono stati isolati diversi plasmidi coniugativi in ceppi naturali di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Salmonella sp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, ma per gli studi di genetica viene utilizzato l’F di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Escherichia col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Text Box 1028"/>
          <p:cNvSpPr/>
          <p:nvPr/>
        </p:nvSpPr>
        <p:spPr>
          <a:xfrm>
            <a:off x="441360" y="3019320"/>
            <a:ext cx="8321760" cy="265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e10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10f13"/>
                </a:solidFill>
                <a:latin typeface="Comic Sans MS"/>
              </a:rPr>
              <a:t>Pseudomon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olti plasmidi coniugativi e mobilizzabili sono stati descritti e molto studiati in ceppi di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Pseudomona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plasmide FP2 di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P. aeruginos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uò mobilizzare anche il cromosom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obilizzazione unidirezion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partire da un solo sito cromosom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Text Box 1029"/>
          <p:cNvSpPr/>
          <p:nvPr/>
        </p:nvSpPr>
        <p:spPr>
          <a:xfrm>
            <a:off x="1215360" y="21096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oniugazione in altri batteri Gram negativ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Text Box 3"/>
          <p:cNvSpPr/>
          <p:nvPr/>
        </p:nvSpPr>
        <p:spPr>
          <a:xfrm>
            <a:off x="1155600" y="952560"/>
            <a:ext cx="6837480" cy="265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ediante plasmidi coniugativi simili al fattore 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Streptomyce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ediata da FEROMONI 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Streptococcu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 responsabili di aggregazione cellul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iugazione traspositiva 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Bacillus, Staphilococcus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Streptococcu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1155600" y="3868560"/>
            <a:ext cx="6813720" cy="2226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Streptomyces coelicolor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l plasmide SCP1 interagisce con il cromosoma batterico in diversi siti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ue differenze con F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ferimento bidirezion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utti i ricombinanti ottenuti sono fertil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Text Box 12"/>
          <p:cNvSpPr/>
          <p:nvPr/>
        </p:nvSpPr>
        <p:spPr>
          <a:xfrm>
            <a:off x="1228320" y="210960"/>
            <a:ext cx="65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oniugazione in altri batteri Gram positiv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Text Box 2"/>
          <p:cNvSpPr/>
          <p:nvPr/>
        </p:nvSpPr>
        <p:spPr>
          <a:xfrm>
            <a:off x="3697560" y="216000"/>
            <a:ext cx="1925640" cy="5205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I plasmid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449280" y="1187280"/>
            <a:ext cx="84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menti genetici circolari, extracromosomali, capaci di replicazione autonoma (replicon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Text Box 4"/>
          <p:cNvSpPr/>
          <p:nvPr/>
        </p:nvSpPr>
        <p:spPr>
          <a:xfrm>
            <a:off x="449280" y="2195640"/>
            <a:ext cx="84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e dimensioni variano da 1 Kb a &gt;1000 Kb e il loro numero varia da 1 a diverse centinaia di copie per cellula osp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Text Box 5"/>
          <p:cNvSpPr/>
          <p:nvPr/>
        </p:nvSpPr>
        <p:spPr>
          <a:xfrm>
            <a:off x="449280" y="3203640"/>
            <a:ext cx="84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a loro informazione genetica non è essenziale per la cellula ospite ma può conferire un vantaggio selettivo in particolari condizion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Text Box 6"/>
          <p:cNvSpPr/>
          <p:nvPr/>
        </p:nvSpPr>
        <p:spPr>
          <a:xfrm>
            <a:off x="449280" y="5221440"/>
            <a:ext cx="84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cuni plasmidi si mantengono stabilmente all’interno della cellula, altri hanno la capacità di diffondersi attraverso la coniug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Text Box 7"/>
          <p:cNvSpPr/>
          <p:nvPr/>
        </p:nvSpPr>
        <p:spPr>
          <a:xfrm>
            <a:off x="449280" y="4211640"/>
            <a:ext cx="84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cuni plasmidi possono esistere sia allo stato libero sia integrato nel cromosoma dell’ospite (</a:t>
            </a: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episomi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5054760" cy="5524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720080" y="22860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Effetti della sostituzione di una 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160720" y="5959440"/>
            <a:ext cx="353052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340720" y="5972040"/>
            <a:ext cx="119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utazi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missens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407400" y="5972040"/>
            <a:ext cx="119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utazi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nonsens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545720" y="5972040"/>
            <a:ext cx="119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utazi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sil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6" name="Group 1028"/>
          <p:cNvGrpSpPr/>
          <p:nvPr/>
        </p:nvGrpSpPr>
        <p:grpSpPr>
          <a:xfrm>
            <a:off x="212760" y="409680"/>
            <a:ext cx="8609760" cy="6152400"/>
            <a:chOff x="212760" y="409680"/>
            <a:chExt cx="8609760" cy="6152400"/>
          </a:xfrm>
        </p:grpSpPr>
        <p:sp>
          <p:nvSpPr>
            <p:cNvPr id="1007" name="Text Box 2"/>
            <p:cNvSpPr/>
            <p:nvPr/>
          </p:nvSpPr>
          <p:spPr>
            <a:xfrm>
              <a:off x="3191760" y="409680"/>
              <a:ext cx="552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Plasmidi coniugativi e mobilizzabili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8" name="Group 5"/>
            <p:cNvGrpSpPr/>
            <p:nvPr/>
          </p:nvGrpSpPr>
          <p:grpSpPr>
            <a:xfrm>
              <a:off x="212760" y="558720"/>
              <a:ext cx="2655360" cy="2562840"/>
              <a:chOff x="212760" y="558720"/>
              <a:chExt cx="2655360" cy="2562840"/>
            </a:xfrm>
          </p:grpSpPr>
          <p:sp>
            <p:nvSpPr>
              <p:cNvPr id="1009" name="Oval 6"/>
              <p:cNvSpPr/>
              <p:nvPr/>
            </p:nvSpPr>
            <p:spPr>
              <a:xfrm>
                <a:off x="470520" y="788760"/>
                <a:ext cx="2072520" cy="2017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0" name="Arc 7"/>
              <p:cNvSpPr/>
              <p:nvPr/>
            </p:nvSpPr>
            <p:spPr>
              <a:xfrm>
                <a:off x="1506960" y="848160"/>
                <a:ext cx="496800" cy="94968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fill="none" w="10475" h="20549">
                    <a:moveTo>
                      <a:pt x="6654" y="-1"/>
                    </a:moveTo>
                    <a:cubicBezTo>
                      <a:pt x="7978" y="428"/>
                      <a:pt x="9258" y="984"/>
                      <a:pt x="10475" y="1659"/>
                    </a:cubicBezTo>
                  </a:path>
                  <a:path stroke="0" w="10475" h="20549">
                    <a:moveTo>
                      <a:pt x="6654" y="-1"/>
                    </a:moveTo>
                    <a:cubicBezTo>
                      <a:pt x="7978" y="428"/>
                      <a:pt x="9258" y="984"/>
                      <a:pt x="10475" y="1659"/>
                    </a:cubicBezTo>
                    <a:lnTo>
                      <a:pt x="0" y="20549"/>
                    </a:lnTo>
                    <a:close/>
                  </a:path>
                </a:pathLst>
              </a:custGeom>
              <a:noFill/>
              <a:ln w="8892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1" name="Rectangle 8"/>
              <p:cNvSpPr/>
              <p:nvPr/>
            </p:nvSpPr>
            <p:spPr>
              <a:xfrm>
                <a:off x="1909440" y="62424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S3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2" name="Arc 9"/>
              <p:cNvSpPr/>
              <p:nvPr/>
            </p:nvSpPr>
            <p:spPr>
              <a:xfrm>
                <a:off x="1506960" y="989640"/>
                <a:ext cx="749160" cy="80820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808200"/>
                  <a:gd name="textAreaBottom" fmla="*/ 808560 h 808200"/>
                </a:gdLst>
                <a:ahLst/>
                <a:rect l="textAreaLeft" t="textAreaTop" r="textAreaRight" b="textAreaBottom"/>
                <a:pathLst>
                  <a:path fill="none" w="15793" h="17468">
                    <a:moveTo>
                      <a:pt x="12704" y="-1"/>
                    </a:moveTo>
                    <a:cubicBezTo>
                      <a:pt x="13818" y="809"/>
                      <a:pt x="14853" y="1725"/>
                      <a:pt x="15793" y="2732"/>
                    </a:cubicBezTo>
                  </a:path>
                  <a:path stroke="0" w="15793" h="17468">
                    <a:moveTo>
                      <a:pt x="12704" y="-1"/>
                    </a:moveTo>
                    <a:cubicBezTo>
                      <a:pt x="13818" y="809"/>
                      <a:pt x="14853" y="1725"/>
                      <a:pt x="15793" y="2732"/>
                    </a:cubicBezTo>
                    <a:lnTo>
                      <a:pt x="0" y="17468"/>
                    </a:lnTo>
                    <a:close/>
                  </a:path>
                </a:pathLst>
              </a:custGeom>
              <a:noFill/>
              <a:ln w="8892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3" name="Rectangle 10"/>
              <p:cNvSpPr/>
              <p:nvPr/>
            </p:nvSpPr>
            <p:spPr>
              <a:xfrm>
                <a:off x="2231640" y="810720"/>
                <a:ext cx="21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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4" name="Arc 11"/>
              <p:cNvSpPr/>
              <p:nvPr/>
            </p:nvSpPr>
            <p:spPr>
              <a:xfrm>
                <a:off x="1506960" y="1211040"/>
                <a:ext cx="930240" cy="586800"/>
              </a:xfrm>
              <a:custGeom>
                <a:avLst/>
                <a:gdLst>
                  <a:gd name="textAreaLeft" fmla="*/ 0 w 930240"/>
                  <a:gd name="textAreaRight" fmla="*/ 930600 w 930240"/>
                  <a:gd name="textAreaTop" fmla="*/ 0 h 586800"/>
                  <a:gd name="textAreaBottom" fmla="*/ 587160 h 586800"/>
                </a:gdLst>
                <a:ahLst/>
                <a:rect l="textAreaLeft" t="textAreaTop" r="textAreaRight" b="textAreaBottom"/>
                <a:pathLst>
                  <a:path fill="none" w="19584" h="12704">
                    <a:moveTo>
                      <a:pt x="17468" y="-1"/>
                    </a:moveTo>
                    <a:cubicBezTo>
                      <a:pt x="18288" y="1126"/>
                      <a:pt x="18997" y="2330"/>
                      <a:pt x="19585" y="3594"/>
                    </a:cubicBezTo>
                  </a:path>
                  <a:path stroke="0" w="19584" h="12704">
                    <a:moveTo>
                      <a:pt x="17468" y="-1"/>
                    </a:moveTo>
                    <a:cubicBezTo>
                      <a:pt x="18288" y="1126"/>
                      <a:pt x="18997" y="2330"/>
                      <a:pt x="19585" y="3594"/>
                    </a:cubicBezTo>
                    <a:lnTo>
                      <a:pt x="0" y="12704"/>
                    </a:lnTo>
                    <a:close/>
                  </a:path>
                </a:pathLst>
              </a:custGeom>
              <a:noFill/>
              <a:ln w="8892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5" name="Rectangle 12"/>
              <p:cNvSpPr/>
              <p:nvPr/>
            </p:nvSpPr>
            <p:spPr>
              <a:xfrm>
                <a:off x="2469960" y="108756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S3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6" name="Arc 13"/>
              <p:cNvSpPr/>
              <p:nvPr/>
            </p:nvSpPr>
            <p:spPr>
              <a:xfrm>
                <a:off x="1506960" y="1490400"/>
                <a:ext cx="1006920" cy="307440"/>
              </a:xfrm>
              <a:custGeom>
                <a:avLst/>
                <a:gdLst>
                  <a:gd name="textAreaLeft" fmla="*/ 0 w 1006920"/>
                  <a:gd name="textAreaRight" fmla="*/ 1007280 w 100692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fill="none" w="21202" h="6654">
                    <a:moveTo>
                      <a:pt x="20549" y="-1"/>
                    </a:moveTo>
                    <a:cubicBezTo>
                      <a:pt x="20818" y="829"/>
                      <a:pt x="21036" y="1674"/>
                      <a:pt x="21202" y="2530"/>
                    </a:cubicBezTo>
                  </a:path>
                  <a:path stroke="0" w="21202" h="6654">
                    <a:moveTo>
                      <a:pt x="20549" y="-1"/>
                    </a:moveTo>
                    <a:cubicBezTo>
                      <a:pt x="20818" y="829"/>
                      <a:pt x="21036" y="1674"/>
                      <a:pt x="21202" y="2530"/>
                    </a:cubicBezTo>
                    <a:lnTo>
                      <a:pt x="0" y="6654"/>
                    </a:lnTo>
                    <a:close/>
                  </a:path>
                </a:pathLst>
              </a:custGeom>
              <a:noFill/>
              <a:ln w="889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7" name="Rectangle 14"/>
              <p:cNvSpPr/>
              <p:nvPr/>
            </p:nvSpPr>
            <p:spPr>
              <a:xfrm>
                <a:off x="2585520" y="138600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S2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8" name="Arc 15"/>
              <p:cNvSpPr/>
              <p:nvPr/>
            </p:nvSpPr>
            <p:spPr>
              <a:xfrm>
                <a:off x="1382400" y="1797840"/>
                <a:ext cx="248400" cy="9986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998640"/>
                  <a:gd name="textAreaBottom" fmla="*/ 998640 h 998640"/>
                </a:gdLst>
                <a:ahLst/>
                <a:rect l="textAreaLeft" t="textAreaTop" r="textAreaRight" b="textAreaBottom"/>
                <a:pathLst>
                  <a:path fill="none" w="5234" h="21600">
                    <a:moveTo>
                      <a:pt x="5234" y="21440"/>
                    </a:moveTo>
                    <a:cubicBezTo>
                      <a:pt x="4365" y="21546"/>
                      <a:pt x="3491" y="21599"/>
                      <a:pt x="2617" y="21600"/>
                    </a:cubicBezTo>
                    <a:cubicBezTo>
                      <a:pt x="1742" y="21600"/>
                      <a:pt x="868" y="21546"/>
                      <a:pt x="-1" y="21440"/>
                    </a:cubicBezTo>
                  </a:path>
                  <a:path stroke="0" w="5234" h="21600">
                    <a:moveTo>
                      <a:pt x="5234" y="21440"/>
                    </a:moveTo>
                    <a:cubicBezTo>
                      <a:pt x="4365" y="21546"/>
                      <a:pt x="3491" y="21599"/>
                      <a:pt x="2617" y="21600"/>
                    </a:cubicBezTo>
                    <a:cubicBezTo>
                      <a:pt x="1742" y="21600"/>
                      <a:pt x="868" y="21546"/>
                      <a:pt x="-1" y="21440"/>
                    </a:cubicBezTo>
                    <a:lnTo>
                      <a:pt x="2617" y="0"/>
                    </a:lnTo>
                    <a:close/>
                  </a:path>
                </a:pathLst>
              </a:custGeom>
              <a:noFill/>
              <a:ln w="8892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9" name="Rectangle 16"/>
              <p:cNvSpPr/>
              <p:nvPr/>
            </p:nvSpPr>
            <p:spPr>
              <a:xfrm>
                <a:off x="1264320" y="2877840"/>
                <a:ext cx="608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, re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0" name="Arc 17"/>
              <p:cNvSpPr/>
              <p:nvPr/>
            </p:nvSpPr>
            <p:spPr>
              <a:xfrm>
                <a:off x="1104840" y="1839240"/>
                <a:ext cx="432000" cy="950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950040"/>
                  <a:gd name="textAreaBottom" fmla="*/ 950400 h 950040"/>
                </a:gdLst>
                <a:ahLst/>
                <a:rect l="textAreaLeft" t="textAreaTop" r="textAreaRight" b="textAreaBottom"/>
                <a:pathLst>
                  <a:path fill="none" w="9123" h="20549">
                    <a:moveTo>
                      <a:pt x="2468" y="20549"/>
                    </a:moveTo>
                    <a:cubicBezTo>
                      <a:pt x="1626" y="20276"/>
                      <a:pt x="802" y="19952"/>
                      <a:pt x="-1" y="19578"/>
                    </a:cubicBezTo>
                  </a:path>
                  <a:path stroke="0" w="9123" h="20549">
                    <a:moveTo>
                      <a:pt x="2468" y="20549"/>
                    </a:moveTo>
                    <a:cubicBezTo>
                      <a:pt x="1626" y="20276"/>
                      <a:pt x="802" y="19952"/>
                      <a:pt x="-1" y="19578"/>
                    </a:cubicBezTo>
                    <a:lnTo>
                      <a:pt x="9123" y="0"/>
                    </a:lnTo>
                    <a:close/>
                  </a:path>
                </a:pathLst>
              </a:custGeom>
              <a:noFill/>
              <a:ln w="8892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1" name="Rectangle 18"/>
              <p:cNvSpPr/>
              <p:nvPr/>
            </p:nvSpPr>
            <p:spPr>
              <a:xfrm>
                <a:off x="841320" y="2837880"/>
                <a:ext cx="34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oriT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2" name="Arc 19"/>
              <p:cNvSpPr/>
              <p:nvPr/>
            </p:nvSpPr>
            <p:spPr>
              <a:xfrm>
                <a:off x="757080" y="1797840"/>
                <a:ext cx="749520" cy="80820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808200"/>
                  <a:gd name="textAreaBottom" fmla="*/ 808560 h 808200"/>
                </a:gdLst>
                <a:ahLst/>
                <a:rect l="textAreaLeft" t="textAreaTop" r="textAreaRight" b="textAreaBottom"/>
                <a:pathLst>
                  <a:path fill="none" w="15793" h="17468">
                    <a:moveTo>
                      <a:pt x="3088" y="17468"/>
                    </a:moveTo>
                    <a:cubicBezTo>
                      <a:pt x="1974" y="16658"/>
                      <a:pt x="939" y="15742"/>
                      <a:pt x="-1" y="14735"/>
                    </a:cubicBezTo>
                  </a:path>
                  <a:path stroke="0" w="15793" h="17468">
                    <a:moveTo>
                      <a:pt x="3088" y="17468"/>
                    </a:moveTo>
                    <a:cubicBezTo>
                      <a:pt x="1974" y="16658"/>
                      <a:pt x="939" y="15742"/>
                      <a:pt x="-1" y="14735"/>
                    </a:cubicBezTo>
                    <a:lnTo>
                      <a:pt x="15793" y="0"/>
                    </a:lnTo>
                    <a:close/>
                  </a:path>
                </a:pathLst>
              </a:custGeom>
              <a:noFill/>
              <a:ln w="8892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3" name="Arc 20"/>
              <p:cNvSpPr/>
              <p:nvPr/>
            </p:nvSpPr>
            <p:spPr>
              <a:xfrm>
                <a:off x="627840" y="1797840"/>
                <a:ext cx="879120" cy="655200"/>
              </a:xfrm>
              <a:custGeom>
                <a:avLst/>
                <a:gdLst>
                  <a:gd name="textAreaLeft" fmla="*/ 0 w 879120"/>
                  <a:gd name="textAreaRight" fmla="*/ 879480 w 879120"/>
                  <a:gd name="textAreaTop" fmla="*/ 0 h 655200"/>
                  <a:gd name="textAreaBottom" fmla="*/ 655200 h 655200"/>
                </a:gdLst>
                <a:ahLst/>
                <a:rect l="textAreaLeft" t="textAreaTop" r="textAreaRight" b="textAreaBottom"/>
                <a:pathLst>
                  <a:path fill="none" w="18521" h="14178">
                    <a:moveTo>
                      <a:pt x="2225" y="14178"/>
                    </a:moveTo>
                    <a:cubicBezTo>
                      <a:pt x="1395" y="13223"/>
                      <a:pt x="650" y="12198"/>
                      <a:pt x="-1" y="11113"/>
                    </a:cubicBezTo>
                  </a:path>
                  <a:path stroke="0" w="18521" h="14178">
                    <a:moveTo>
                      <a:pt x="2225" y="14178"/>
                    </a:moveTo>
                    <a:cubicBezTo>
                      <a:pt x="1395" y="13223"/>
                      <a:pt x="650" y="12198"/>
                      <a:pt x="-1" y="11113"/>
                    </a:cubicBezTo>
                    <a:lnTo>
                      <a:pt x="18521" y="0"/>
                    </a:lnTo>
                    <a:close/>
                  </a:path>
                </a:pathLst>
              </a:custGeom>
              <a:noFill/>
              <a:ln w="8892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4" name="Rectangle 21"/>
              <p:cNvSpPr/>
              <p:nvPr/>
            </p:nvSpPr>
            <p:spPr>
              <a:xfrm>
                <a:off x="488160" y="237744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5" name="Arc 22"/>
              <p:cNvSpPr/>
              <p:nvPr/>
            </p:nvSpPr>
            <p:spPr>
              <a:xfrm>
                <a:off x="531360" y="1797840"/>
                <a:ext cx="975600" cy="483840"/>
              </a:xfrm>
              <a:custGeom>
                <a:avLst/>
                <a:gdLst>
                  <a:gd name="textAreaLeft" fmla="*/ 0 w 975600"/>
                  <a:gd name="textAreaRight" fmla="*/ 975600 w 975600"/>
                  <a:gd name="textAreaTop" fmla="*/ 0 h 483840"/>
                  <a:gd name="textAreaBottom" fmla="*/ 484200 h 483840"/>
                </a:gdLst>
                <a:ahLst/>
                <a:rect l="textAreaLeft" t="textAreaTop" r="textAreaRight" b="textAreaBottom"/>
                <a:pathLst>
                  <a:path fill="none" w="20549" h="10475">
                    <a:moveTo>
                      <a:pt x="1659" y="10475"/>
                    </a:moveTo>
                    <a:cubicBezTo>
                      <a:pt x="984" y="9258"/>
                      <a:pt x="428" y="7978"/>
                      <a:pt x="-1" y="6654"/>
                    </a:cubicBezTo>
                  </a:path>
                  <a:path stroke="0" w="20549" h="10475">
                    <a:moveTo>
                      <a:pt x="1659" y="10475"/>
                    </a:moveTo>
                    <a:cubicBezTo>
                      <a:pt x="984" y="9258"/>
                      <a:pt x="428" y="7978"/>
                      <a:pt x="-1" y="6654"/>
                    </a:cubicBezTo>
                    <a:lnTo>
                      <a:pt x="20549" y="0"/>
                    </a:lnTo>
                    <a:close/>
                  </a:path>
                </a:pathLst>
              </a:custGeom>
              <a:noFill/>
              <a:ln w="8892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6" name="Rectangle 23"/>
              <p:cNvSpPr/>
              <p:nvPr/>
            </p:nvSpPr>
            <p:spPr>
              <a:xfrm>
                <a:off x="396720" y="2123640"/>
                <a:ext cx="107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Geneva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7" name="Arc 24"/>
              <p:cNvSpPr/>
              <p:nvPr/>
            </p:nvSpPr>
            <p:spPr>
              <a:xfrm>
                <a:off x="484920" y="1797840"/>
                <a:ext cx="1021680" cy="273960"/>
              </a:xfrm>
              <a:custGeom>
                <a:avLst/>
                <a:gdLst>
                  <a:gd name="textAreaLeft" fmla="*/ 0 w 1021680"/>
                  <a:gd name="textAreaRight" fmla="*/ 1022040 w 1021680"/>
                  <a:gd name="textAreaTop" fmla="*/ 0 h 273960"/>
                  <a:gd name="textAreaBottom" fmla="*/ 274320 h 273960"/>
                </a:gdLst>
                <a:ahLst/>
                <a:rect l="textAreaLeft" t="textAreaTop" r="textAreaRight" b="textAreaBottom"/>
                <a:pathLst>
                  <a:path fill="none" w="21519" h="5937">
                    <a:moveTo>
                      <a:pt x="751" y="5937"/>
                    </a:moveTo>
                    <a:cubicBezTo>
                      <a:pt x="370" y="4607"/>
                      <a:pt x="119" y="3243"/>
                      <a:pt x="-1" y="1865"/>
                    </a:cubicBezTo>
                  </a:path>
                  <a:path stroke="0" w="21519" h="5937">
                    <a:moveTo>
                      <a:pt x="751" y="5937"/>
                    </a:moveTo>
                    <a:cubicBezTo>
                      <a:pt x="370" y="4607"/>
                      <a:pt x="119" y="3243"/>
                      <a:pt x="-1" y="1865"/>
                    </a:cubicBezTo>
                    <a:lnTo>
                      <a:pt x="21519" y="0"/>
                    </a:lnTo>
                    <a:close/>
                  </a:path>
                </a:pathLst>
              </a:custGeom>
              <a:noFill/>
              <a:ln w="8892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8" name="Rectangle 25"/>
              <p:cNvSpPr/>
              <p:nvPr/>
            </p:nvSpPr>
            <p:spPr>
              <a:xfrm>
                <a:off x="314640" y="19022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Geneva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9" name="Arc 26"/>
              <p:cNvSpPr/>
              <p:nvPr/>
            </p:nvSpPr>
            <p:spPr>
              <a:xfrm>
                <a:off x="481320" y="1677240"/>
                <a:ext cx="1025640" cy="190080"/>
              </a:xfrm>
              <a:custGeom>
                <a:avLst/>
                <a:gdLst>
                  <a:gd name="textAreaLeft" fmla="*/ 0 w 1025640"/>
                  <a:gd name="textAreaRight" fmla="*/ 1026000 w 10256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fill="none" w="21600" h="4120">
                    <a:moveTo>
                      <a:pt x="52" y="4120"/>
                    </a:moveTo>
                    <a:cubicBezTo>
                      <a:pt x="17" y="3619"/>
                      <a:pt x="0" y="3118"/>
                      <a:pt x="0" y="2617"/>
                    </a:cubicBezTo>
                    <a:cubicBezTo>
                      <a:pt x="-1" y="1742"/>
                      <a:pt x="53" y="868"/>
                      <a:pt x="159" y="-1"/>
                    </a:cubicBezTo>
                  </a:path>
                  <a:path stroke="0" w="21600" h="4120">
                    <a:moveTo>
                      <a:pt x="52" y="4120"/>
                    </a:moveTo>
                    <a:cubicBezTo>
                      <a:pt x="17" y="3619"/>
                      <a:pt x="0" y="3118"/>
                      <a:pt x="0" y="2617"/>
                    </a:cubicBezTo>
                    <a:cubicBezTo>
                      <a:pt x="-1" y="1742"/>
                      <a:pt x="53" y="868"/>
                      <a:pt x="159" y="-1"/>
                    </a:cubicBezTo>
                    <a:lnTo>
                      <a:pt x="21600" y="2617"/>
                    </a:lnTo>
                    <a:close/>
                  </a:path>
                </a:pathLst>
              </a:custGeom>
              <a:noFill/>
              <a:ln w="88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0" name="Arc 27"/>
              <p:cNvSpPr/>
              <p:nvPr/>
            </p:nvSpPr>
            <p:spPr>
              <a:xfrm>
                <a:off x="494280" y="1456920"/>
                <a:ext cx="1012320" cy="340920"/>
              </a:xfrm>
              <a:custGeom>
                <a:avLst/>
                <a:gdLst>
                  <a:gd name="textAreaLeft" fmla="*/ 0 w 1012320"/>
                  <a:gd name="textAreaRight" fmla="*/ 1012680 w 1012320"/>
                  <a:gd name="textAreaTop" fmla="*/ 0 h 340920"/>
                  <a:gd name="textAreaBottom" fmla="*/ 340920 h 340920"/>
                </a:gdLst>
                <a:ahLst/>
                <a:rect l="textAreaLeft" t="textAreaTop" r="textAreaRight" b="textAreaBottom"/>
                <a:pathLst>
                  <a:path fill="none" w="21335" h="7379">
                    <a:moveTo>
                      <a:pt x="-1" y="4008"/>
                    </a:moveTo>
                    <a:cubicBezTo>
                      <a:pt x="215" y="2642"/>
                      <a:pt x="561" y="1299"/>
                      <a:pt x="1034" y="-1"/>
                    </a:cubicBezTo>
                  </a:path>
                  <a:path stroke="0" w="21335" h="7379">
                    <a:moveTo>
                      <a:pt x="-1" y="4008"/>
                    </a:moveTo>
                    <a:cubicBezTo>
                      <a:pt x="215" y="2642"/>
                      <a:pt x="561" y="1299"/>
                      <a:pt x="1034" y="-1"/>
                    </a:cubicBezTo>
                    <a:lnTo>
                      <a:pt x="21335" y="7379"/>
                    </a:lnTo>
                    <a:close/>
                  </a:path>
                </a:pathLst>
              </a:custGeom>
              <a:noFill/>
              <a:ln w="8892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1" name="Rectangle 28"/>
              <p:cNvSpPr/>
              <p:nvPr/>
            </p:nvSpPr>
            <p:spPr>
              <a:xfrm>
                <a:off x="320400" y="142236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2" name="Arc 29"/>
              <p:cNvSpPr/>
              <p:nvPr/>
            </p:nvSpPr>
            <p:spPr>
              <a:xfrm>
                <a:off x="555120" y="1269000"/>
                <a:ext cx="951480" cy="528840"/>
              </a:xfrm>
              <a:custGeom>
                <a:avLst/>
                <a:gdLst>
                  <a:gd name="textAreaLeft" fmla="*/ 0 w 951480"/>
                  <a:gd name="textAreaRight" fmla="*/ 951840 w 95148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fill="none" w="20031" h="11442">
                    <a:moveTo>
                      <a:pt x="-2" y="3362"/>
                    </a:moveTo>
                    <a:cubicBezTo>
                      <a:pt x="470" y="2193"/>
                      <a:pt x="1043" y="1068"/>
                      <a:pt x="1710" y="-1"/>
                    </a:cubicBezTo>
                  </a:path>
                  <a:path stroke="0" w="20031" h="11442">
                    <a:moveTo>
                      <a:pt x="-2" y="3362"/>
                    </a:moveTo>
                    <a:cubicBezTo>
                      <a:pt x="470" y="2193"/>
                      <a:pt x="1043" y="1068"/>
                      <a:pt x="1710" y="-1"/>
                    </a:cubicBezTo>
                    <a:lnTo>
                      <a:pt x="20031" y="11442"/>
                    </a:lnTo>
                    <a:close/>
                  </a:path>
                </a:pathLst>
              </a:custGeom>
              <a:noFill/>
              <a:ln w="889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3" name="Rectangle 30"/>
              <p:cNvSpPr/>
              <p:nvPr/>
            </p:nvSpPr>
            <p:spPr>
              <a:xfrm>
                <a:off x="391680" y="117864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4" name="Arc 31"/>
              <p:cNvSpPr/>
              <p:nvPr/>
            </p:nvSpPr>
            <p:spPr>
              <a:xfrm>
                <a:off x="655560" y="1117080"/>
                <a:ext cx="851040" cy="68076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680760"/>
                  <a:gd name="textAreaBottom" fmla="*/ 681120 h 680760"/>
                </a:gdLst>
                <a:ahLst/>
                <a:rect l="textAreaLeft" t="textAreaTop" r="textAreaRight" b="textAreaBottom"/>
                <a:pathLst>
                  <a:path fill="none" w="17916" h="14735">
                    <a:moveTo>
                      <a:pt x="-1" y="2670"/>
                    </a:moveTo>
                    <a:cubicBezTo>
                      <a:pt x="635" y="1725"/>
                      <a:pt x="1345" y="832"/>
                      <a:pt x="2122" y="-1"/>
                    </a:cubicBezTo>
                  </a:path>
                  <a:path stroke="0" w="17916" h="14735">
                    <a:moveTo>
                      <a:pt x="-1" y="2670"/>
                    </a:moveTo>
                    <a:cubicBezTo>
                      <a:pt x="635" y="1725"/>
                      <a:pt x="1345" y="832"/>
                      <a:pt x="2122" y="-1"/>
                    </a:cubicBezTo>
                    <a:lnTo>
                      <a:pt x="17916" y="14735"/>
                    </a:lnTo>
                    <a:close/>
                  </a:path>
                </a:pathLst>
              </a:custGeom>
              <a:noFill/>
              <a:ln w="889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5" name="Rectangle 32"/>
              <p:cNvSpPr/>
              <p:nvPr/>
            </p:nvSpPr>
            <p:spPr>
              <a:xfrm>
                <a:off x="557280" y="96516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6" name="Arc 33"/>
              <p:cNvSpPr/>
              <p:nvPr/>
            </p:nvSpPr>
            <p:spPr>
              <a:xfrm>
                <a:off x="781200" y="1032120"/>
                <a:ext cx="725400" cy="76572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765720"/>
                  <a:gd name="textAreaBottom" fmla="*/ 765720 h 765720"/>
                </a:gdLst>
                <a:ahLst/>
                <a:rect l="textAreaLeft" t="textAreaTop" r="textAreaRight" b="textAreaBottom"/>
                <a:pathLst>
                  <a:path fill="none" w="15273" h="16552">
                    <a:moveTo>
                      <a:pt x="-1" y="1278"/>
                    </a:moveTo>
                    <a:cubicBezTo>
                      <a:pt x="445" y="832"/>
                      <a:pt x="911" y="405"/>
                      <a:pt x="1395" y="-1"/>
                    </a:cubicBezTo>
                  </a:path>
                  <a:path stroke="0" w="15273" h="16552">
                    <a:moveTo>
                      <a:pt x="-1" y="1278"/>
                    </a:moveTo>
                    <a:cubicBezTo>
                      <a:pt x="445" y="832"/>
                      <a:pt x="911" y="405"/>
                      <a:pt x="1395" y="-1"/>
                    </a:cubicBezTo>
                    <a:lnTo>
                      <a:pt x="15273" y="16552"/>
                    </a:lnTo>
                    <a:close/>
                  </a:path>
                </a:pathLst>
              </a:custGeom>
              <a:noFill/>
              <a:ln w="8892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7" name="Rectangle 34"/>
              <p:cNvSpPr/>
              <p:nvPr/>
            </p:nvSpPr>
            <p:spPr>
              <a:xfrm>
                <a:off x="658440" y="79776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8" name="Arc 35"/>
              <p:cNvSpPr/>
              <p:nvPr/>
            </p:nvSpPr>
            <p:spPr>
              <a:xfrm>
                <a:off x="876240" y="924120"/>
                <a:ext cx="630360" cy="873720"/>
              </a:xfrm>
              <a:custGeom>
                <a:avLst/>
                <a:gdLst>
                  <a:gd name="textAreaLeft" fmla="*/ 0 w 630360"/>
                  <a:gd name="textAreaRight" fmla="*/ 630360 w 630360"/>
                  <a:gd name="textAreaTop" fmla="*/ 0 h 873720"/>
                  <a:gd name="textAreaBottom" fmla="*/ 874080 h 873720"/>
                </a:gdLst>
                <a:ahLst/>
                <a:rect l="textAreaLeft" t="textAreaTop" r="textAreaRight" b="textAreaBottom"/>
                <a:pathLst>
                  <a:path fill="none" w="13291" h="18889">
                    <a:moveTo>
                      <a:pt x="-1" y="1862"/>
                    </a:moveTo>
                    <a:cubicBezTo>
                      <a:pt x="887" y="1169"/>
                      <a:pt x="1829" y="545"/>
                      <a:pt x="2815" y="-1"/>
                    </a:cubicBezTo>
                  </a:path>
                  <a:path stroke="0" w="13291" h="18889">
                    <a:moveTo>
                      <a:pt x="-1" y="1862"/>
                    </a:moveTo>
                    <a:cubicBezTo>
                      <a:pt x="887" y="1169"/>
                      <a:pt x="1829" y="545"/>
                      <a:pt x="2815" y="-1"/>
                    </a:cubicBezTo>
                    <a:lnTo>
                      <a:pt x="13291" y="18889"/>
                    </a:lnTo>
                    <a:close/>
                  </a:path>
                </a:pathLst>
              </a:custGeom>
              <a:noFill/>
              <a:ln w="8892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9" name="Rectangle 36"/>
              <p:cNvSpPr/>
              <p:nvPr/>
            </p:nvSpPr>
            <p:spPr>
              <a:xfrm>
                <a:off x="816840" y="69228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0" name="Arc 37"/>
              <p:cNvSpPr/>
              <p:nvPr/>
            </p:nvSpPr>
            <p:spPr>
              <a:xfrm>
                <a:off x="1041480" y="871200"/>
                <a:ext cx="465480" cy="926640"/>
              </a:xfrm>
              <a:custGeom>
                <a:avLst/>
                <a:gdLst>
                  <a:gd name="textAreaLeft" fmla="*/ 0 w 465480"/>
                  <a:gd name="textAreaRight" fmla="*/ 465840 w 465480"/>
                  <a:gd name="textAreaTop" fmla="*/ 0 h 926640"/>
                  <a:gd name="textAreaBottom" fmla="*/ 927000 h 926640"/>
                </a:gdLst>
                <a:ahLst/>
                <a:rect l="textAreaLeft" t="textAreaTop" r="textAreaRight" b="textAreaBottom"/>
                <a:pathLst>
                  <a:path fill="none" w="9804" h="20031">
                    <a:moveTo>
                      <a:pt x="-1" y="784"/>
                    </a:moveTo>
                    <a:cubicBezTo>
                      <a:pt x="562" y="497"/>
                      <a:pt x="1138" y="235"/>
                      <a:pt x="1724" y="-2"/>
                    </a:cubicBezTo>
                  </a:path>
                  <a:path stroke="0" w="9804" h="20031">
                    <a:moveTo>
                      <a:pt x="-1" y="784"/>
                    </a:moveTo>
                    <a:cubicBezTo>
                      <a:pt x="562" y="497"/>
                      <a:pt x="1138" y="235"/>
                      <a:pt x="1724" y="-2"/>
                    </a:cubicBezTo>
                    <a:lnTo>
                      <a:pt x="9804" y="20031"/>
                    </a:lnTo>
                    <a:close/>
                  </a:path>
                </a:pathLst>
              </a:custGeom>
              <a:noFill/>
              <a:ln w="8892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Rectangle 38"/>
              <p:cNvSpPr/>
              <p:nvPr/>
            </p:nvSpPr>
            <p:spPr>
              <a:xfrm>
                <a:off x="996120" y="6217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2" name="Arc 39"/>
              <p:cNvSpPr/>
              <p:nvPr/>
            </p:nvSpPr>
            <p:spPr>
              <a:xfrm>
                <a:off x="1156320" y="828720"/>
                <a:ext cx="350280" cy="96876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968760"/>
                  <a:gd name="textAreaBottom" fmla="*/ 969120 h 968760"/>
                </a:gdLst>
                <a:ahLst/>
                <a:rect l="textAreaLeft" t="textAreaTop" r="textAreaRight" b="textAreaBottom"/>
                <a:pathLst>
                  <a:path fill="none" w="7379" h="20961">
                    <a:moveTo>
                      <a:pt x="-1" y="660"/>
                    </a:moveTo>
                    <a:cubicBezTo>
                      <a:pt x="710" y="402"/>
                      <a:pt x="1433" y="181"/>
                      <a:pt x="2166" y="-1"/>
                    </a:cubicBezTo>
                  </a:path>
                  <a:path stroke="0" w="7379" h="20961">
                    <a:moveTo>
                      <a:pt x="-1" y="660"/>
                    </a:moveTo>
                    <a:cubicBezTo>
                      <a:pt x="710" y="402"/>
                      <a:pt x="1433" y="181"/>
                      <a:pt x="2166" y="-1"/>
                    </a:cubicBezTo>
                    <a:lnTo>
                      <a:pt x="7379" y="20961"/>
                    </a:lnTo>
                    <a:close/>
                  </a:path>
                </a:pathLst>
              </a:custGeom>
              <a:noFill/>
              <a:ln w="88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3" name="Rectangle 40"/>
              <p:cNvSpPr/>
              <p:nvPr/>
            </p:nvSpPr>
            <p:spPr>
              <a:xfrm>
                <a:off x="1118520" y="59328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4" name="Arc 41"/>
              <p:cNvSpPr/>
              <p:nvPr/>
            </p:nvSpPr>
            <p:spPr>
              <a:xfrm>
                <a:off x="1276560" y="807120"/>
                <a:ext cx="230040" cy="99072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990720"/>
                  <a:gd name="textAreaBottom" fmla="*/ 990720 h 990720"/>
                </a:gdLst>
                <a:ahLst/>
                <a:rect l="textAreaLeft" t="textAreaTop" r="textAreaRight" b="textAreaBottom"/>
                <a:pathLst>
                  <a:path fill="none" w="4844" h="21440">
                    <a:moveTo>
                      <a:pt x="-1" y="390"/>
                    </a:moveTo>
                    <a:cubicBezTo>
                      <a:pt x="734" y="221"/>
                      <a:pt x="1478" y="90"/>
                      <a:pt x="2226" y="-1"/>
                    </a:cubicBezTo>
                  </a:path>
                  <a:path stroke="0" w="4844" h="21440">
                    <a:moveTo>
                      <a:pt x="-1" y="390"/>
                    </a:moveTo>
                    <a:cubicBezTo>
                      <a:pt x="734" y="221"/>
                      <a:pt x="1478" y="90"/>
                      <a:pt x="2226" y="-1"/>
                    </a:cubicBezTo>
                    <a:lnTo>
                      <a:pt x="4844" y="21440"/>
                    </a:lnTo>
                    <a:close/>
                  </a:path>
                </a:pathLst>
              </a:custGeom>
              <a:noFill/>
              <a:ln w="8892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5" name="Rectangle 42"/>
              <p:cNvSpPr/>
              <p:nvPr/>
            </p:nvSpPr>
            <p:spPr>
              <a:xfrm>
                <a:off x="1327320" y="5587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6" name="Rectangle 43"/>
              <p:cNvSpPr/>
              <p:nvPr/>
            </p:nvSpPr>
            <p:spPr>
              <a:xfrm>
                <a:off x="1420200" y="150948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7" name="Text Box 44"/>
              <p:cNvSpPr/>
              <p:nvPr/>
            </p:nvSpPr>
            <p:spPr>
              <a:xfrm>
                <a:off x="694080" y="2536560"/>
                <a:ext cx="25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8" name="Text Box 45"/>
              <p:cNvSpPr/>
              <p:nvPr/>
            </p:nvSpPr>
            <p:spPr>
              <a:xfrm>
                <a:off x="212760" y="165636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9" name="Text Box 46"/>
              <p:cNvSpPr/>
              <p:nvPr/>
            </p:nvSpPr>
            <p:spPr>
              <a:xfrm>
                <a:off x="1159200" y="1845360"/>
                <a:ext cx="81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94 K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50" name="Group 73"/>
            <p:cNvGrpSpPr/>
            <p:nvPr/>
          </p:nvGrpSpPr>
          <p:grpSpPr>
            <a:xfrm>
              <a:off x="5973840" y="4975200"/>
              <a:ext cx="2790360" cy="1559880"/>
              <a:chOff x="5973840" y="4975200"/>
              <a:chExt cx="2790360" cy="1559880"/>
            </a:xfrm>
          </p:grpSpPr>
          <p:grpSp>
            <p:nvGrpSpPr>
              <p:cNvPr id="1051" name="Group 74"/>
              <p:cNvGrpSpPr/>
              <p:nvPr/>
            </p:nvGrpSpPr>
            <p:grpSpPr>
              <a:xfrm>
                <a:off x="5973840" y="4975200"/>
                <a:ext cx="2790360" cy="1559880"/>
                <a:chOff x="5973840" y="4975200"/>
                <a:chExt cx="2790360" cy="1559880"/>
              </a:xfrm>
            </p:grpSpPr>
            <p:sp>
              <p:nvSpPr>
                <p:cNvPr id="1052" name="AutoShape 75"/>
                <p:cNvSpPr/>
                <p:nvPr/>
              </p:nvSpPr>
              <p:spPr>
                <a:xfrm>
                  <a:off x="5973840" y="4975200"/>
                  <a:ext cx="2790360" cy="155988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3" name="AutoShape 76"/>
                <p:cNvSpPr/>
                <p:nvPr/>
              </p:nvSpPr>
              <p:spPr>
                <a:xfrm>
                  <a:off x="6115320" y="5091120"/>
                  <a:ext cx="2486160" cy="132588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4" name="AutoShape 77"/>
                <p:cNvSpPr/>
                <p:nvPr/>
              </p:nvSpPr>
              <p:spPr>
                <a:xfrm>
                  <a:off x="6167880" y="5136480"/>
                  <a:ext cx="2395440" cy="122580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5" name="Group 78"/>
              <p:cNvGrpSpPr/>
              <p:nvPr/>
            </p:nvGrpSpPr>
            <p:grpSpPr>
              <a:xfrm>
                <a:off x="7448760" y="5283000"/>
                <a:ext cx="993600" cy="895320"/>
                <a:chOff x="7448760" y="5283000"/>
                <a:chExt cx="993600" cy="895320"/>
              </a:xfrm>
            </p:grpSpPr>
            <p:sp>
              <p:nvSpPr>
                <p:cNvPr id="1056" name="Oval 79"/>
                <p:cNvSpPr/>
                <p:nvPr/>
              </p:nvSpPr>
              <p:spPr>
                <a:xfrm>
                  <a:off x="7524720" y="534636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7" name="Oval 80"/>
                <p:cNvSpPr/>
                <p:nvPr/>
              </p:nvSpPr>
              <p:spPr>
                <a:xfrm>
                  <a:off x="7448760" y="528300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8" name="Group 81"/>
              <p:cNvGrpSpPr/>
              <p:nvPr/>
            </p:nvGrpSpPr>
            <p:grpSpPr>
              <a:xfrm>
                <a:off x="6508800" y="5562360"/>
                <a:ext cx="536760" cy="488880"/>
                <a:chOff x="6508800" y="5562360"/>
                <a:chExt cx="536760" cy="488880"/>
              </a:xfrm>
            </p:grpSpPr>
            <p:sp>
              <p:nvSpPr>
                <p:cNvPr id="1059" name="Oval 82"/>
                <p:cNvSpPr/>
                <p:nvPr/>
              </p:nvSpPr>
              <p:spPr>
                <a:xfrm>
                  <a:off x="6508800" y="5562360"/>
                  <a:ext cx="536760" cy="48888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Oval 83"/>
                <p:cNvSpPr/>
                <p:nvPr/>
              </p:nvSpPr>
              <p:spPr>
                <a:xfrm>
                  <a:off x="6585120" y="5616360"/>
                  <a:ext cx="384120" cy="3780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061" name="Group 84"/>
            <p:cNvGrpSpPr/>
            <p:nvPr/>
          </p:nvGrpSpPr>
          <p:grpSpPr>
            <a:xfrm>
              <a:off x="1893960" y="5002200"/>
              <a:ext cx="2790360" cy="1559880"/>
              <a:chOff x="1893960" y="5002200"/>
              <a:chExt cx="2790360" cy="1559880"/>
            </a:xfrm>
          </p:grpSpPr>
          <p:grpSp>
            <p:nvGrpSpPr>
              <p:cNvPr id="1062" name="Group 85"/>
              <p:cNvGrpSpPr/>
              <p:nvPr/>
            </p:nvGrpSpPr>
            <p:grpSpPr>
              <a:xfrm>
                <a:off x="1893960" y="5002200"/>
                <a:ext cx="2790360" cy="1559880"/>
                <a:chOff x="1893960" y="5002200"/>
                <a:chExt cx="2790360" cy="1559880"/>
              </a:xfrm>
            </p:grpSpPr>
            <p:sp>
              <p:nvSpPr>
                <p:cNvPr id="1063" name="AutoShape 86"/>
                <p:cNvSpPr/>
                <p:nvPr/>
              </p:nvSpPr>
              <p:spPr>
                <a:xfrm>
                  <a:off x="1893960" y="5002200"/>
                  <a:ext cx="2790360" cy="155988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AutoShape 87"/>
                <p:cNvSpPr/>
                <p:nvPr/>
              </p:nvSpPr>
              <p:spPr>
                <a:xfrm>
                  <a:off x="2035440" y="5118120"/>
                  <a:ext cx="2486160" cy="132588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AutoShape 88"/>
                <p:cNvSpPr/>
                <p:nvPr/>
              </p:nvSpPr>
              <p:spPr>
                <a:xfrm>
                  <a:off x="2088000" y="5163480"/>
                  <a:ext cx="2395440" cy="122580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66" name="Group 89"/>
              <p:cNvGrpSpPr/>
              <p:nvPr/>
            </p:nvGrpSpPr>
            <p:grpSpPr>
              <a:xfrm>
                <a:off x="2263680" y="5360760"/>
                <a:ext cx="993600" cy="895320"/>
                <a:chOff x="2263680" y="5360760"/>
                <a:chExt cx="993600" cy="895320"/>
              </a:xfrm>
            </p:grpSpPr>
            <p:sp>
              <p:nvSpPr>
                <p:cNvPr id="1067" name="Oval 90"/>
                <p:cNvSpPr/>
                <p:nvPr/>
              </p:nvSpPr>
              <p:spPr>
                <a:xfrm>
                  <a:off x="2339640" y="542412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8" name="Oval 91"/>
                <p:cNvSpPr/>
                <p:nvPr/>
              </p:nvSpPr>
              <p:spPr>
                <a:xfrm>
                  <a:off x="2263680" y="536076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69" name="Group 92"/>
              <p:cNvGrpSpPr/>
              <p:nvPr/>
            </p:nvGrpSpPr>
            <p:grpSpPr>
              <a:xfrm>
                <a:off x="3645000" y="5551200"/>
                <a:ext cx="536400" cy="488880"/>
                <a:chOff x="3645000" y="5551200"/>
                <a:chExt cx="536400" cy="488880"/>
              </a:xfrm>
            </p:grpSpPr>
            <p:sp>
              <p:nvSpPr>
                <p:cNvPr id="1070" name="Oval 93"/>
                <p:cNvSpPr/>
                <p:nvPr/>
              </p:nvSpPr>
              <p:spPr>
                <a:xfrm>
                  <a:off x="3645000" y="5551200"/>
                  <a:ext cx="536400" cy="48888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1" name="Oval 94"/>
                <p:cNvSpPr/>
                <p:nvPr/>
              </p:nvSpPr>
              <p:spPr>
                <a:xfrm>
                  <a:off x="3720960" y="5604840"/>
                  <a:ext cx="383760" cy="3780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072" name="Group 99"/>
            <p:cNvGrpSpPr/>
            <p:nvPr/>
          </p:nvGrpSpPr>
          <p:grpSpPr>
            <a:xfrm>
              <a:off x="1752480" y="3065400"/>
              <a:ext cx="7070040" cy="1560240"/>
              <a:chOff x="1752480" y="3065400"/>
              <a:chExt cx="7070040" cy="1560240"/>
            </a:xfrm>
          </p:grpSpPr>
          <p:grpSp>
            <p:nvGrpSpPr>
              <p:cNvPr id="1073" name="Group 48"/>
              <p:cNvGrpSpPr/>
              <p:nvPr/>
            </p:nvGrpSpPr>
            <p:grpSpPr>
              <a:xfrm>
                <a:off x="2498400" y="3065400"/>
                <a:ext cx="2790000" cy="1560240"/>
                <a:chOff x="2498400" y="3065400"/>
                <a:chExt cx="2790000" cy="1560240"/>
              </a:xfrm>
            </p:grpSpPr>
            <p:sp>
              <p:nvSpPr>
                <p:cNvPr id="1074" name="AutoShape 49"/>
                <p:cNvSpPr/>
                <p:nvPr/>
              </p:nvSpPr>
              <p:spPr>
                <a:xfrm>
                  <a:off x="2498400" y="3065400"/>
                  <a:ext cx="2790000" cy="156024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5" name="AutoShape 50"/>
                <p:cNvSpPr/>
                <p:nvPr/>
              </p:nvSpPr>
              <p:spPr>
                <a:xfrm>
                  <a:off x="2639880" y="3181320"/>
                  <a:ext cx="2485800" cy="132624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6" name="AutoShape 51"/>
                <p:cNvSpPr/>
                <p:nvPr/>
              </p:nvSpPr>
              <p:spPr>
                <a:xfrm>
                  <a:off x="2692440" y="3226680"/>
                  <a:ext cx="2395080" cy="122616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77" name="Group 52"/>
              <p:cNvGrpSpPr/>
              <p:nvPr/>
            </p:nvGrpSpPr>
            <p:grpSpPr>
              <a:xfrm>
                <a:off x="2868480" y="3424320"/>
                <a:ext cx="993240" cy="895320"/>
                <a:chOff x="2868480" y="3424320"/>
                <a:chExt cx="993240" cy="895320"/>
              </a:xfrm>
            </p:grpSpPr>
            <p:sp>
              <p:nvSpPr>
                <p:cNvPr id="1078" name="Oval 53"/>
                <p:cNvSpPr/>
                <p:nvPr/>
              </p:nvSpPr>
              <p:spPr>
                <a:xfrm>
                  <a:off x="2944080" y="3487680"/>
                  <a:ext cx="840960" cy="76860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9" name="Oval 54"/>
                <p:cNvSpPr/>
                <p:nvPr/>
              </p:nvSpPr>
              <p:spPr>
                <a:xfrm>
                  <a:off x="2868480" y="3424320"/>
                  <a:ext cx="993240" cy="89532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80" name="Group 55"/>
              <p:cNvGrpSpPr/>
              <p:nvPr/>
            </p:nvGrpSpPr>
            <p:grpSpPr>
              <a:xfrm>
                <a:off x="5289120" y="3065400"/>
                <a:ext cx="2790360" cy="1560240"/>
                <a:chOff x="5289120" y="3065400"/>
                <a:chExt cx="2790360" cy="1560240"/>
              </a:xfrm>
            </p:grpSpPr>
            <p:sp>
              <p:nvSpPr>
                <p:cNvPr id="1081" name="AutoShape 56"/>
                <p:cNvSpPr/>
                <p:nvPr/>
              </p:nvSpPr>
              <p:spPr>
                <a:xfrm>
                  <a:off x="5289120" y="3065400"/>
                  <a:ext cx="2790360" cy="156024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2" name="AutoShape 57"/>
                <p:cNvSpPr/>
                <p:nvPr/>
              </p:nvSpPr>
              <p:spPr>
                <a:xfrm>
                  <a:off x="5430600" y="3181320"/>
                  <a:ext cx="2486160" cy="132624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3" name="AutoShape 58"/>
                <p:cNvSpPr/>
                <p:nvPr/>
              </p:nvSpPr>
              <p:spPr>
                <a:xfrm>
                  <a:off x="5483160" y="3226680"/>
                  <a:ext cx="2395440" cy="122616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84" name="Group 59"/>
              <p:cNvGrpSpPr/>
              <p:nvPr/>
            </p:nvGrpSpPr>
            <p:grpSpPr>
              <a:xfrm>
                <a:off x="6764040" y="3373560"/>
                <a:ext cx="993600" cy="895320"/>
                <a:chOff x="6764040" y="3373560"/>
                <a:chExt cx="993600" cy="895320"/>
              </a:xfrm>
            </p:grpSpPr>
            <p:sp>
              <p:nvSpPr>
                <p:cNvPr id="1085" name="Oval 60"/>
                <p:cNvSpPr/>
                <p:nvPr/>
              </p:nvSpPr>
              <p:spPr>
                <a:xfrm>
                  <a:off x="6840000" y="343692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6" name="Oval 61"/>
                <p:cNvSpPr/>
                <p:nvPr/>
              </p:nvSpPr>
              <p:spPr>
                <a:xfrm>
                  <a:off x="6764040" y="337356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87" name="Rectangle 62"/>
              <p:cNvSpPr/>
              <p:nvPr/>
            </p:nvSpPr>
            <p:spPr>
              <a:xfrm>
                <a:off x="4920840" y="3751200"/>
                <a:ext cx="672840" cy="190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8" name="Rectangle 63"/>
              <p:cNvSpPr/>
              <p:nvPr/>
            </p:nvSpPr>
            <p:spPr>
              <a:xfrm>
                <a:off x="5111640" y="3687840"/>
                <a:ext cx="329760" cy="88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9" name="Rectangle 64"/>
              <p:cNvSpPr/>
              <p:nvPr/>
            </p:nvSpPr>
            <p:spPr>
              <a:xfrm>
                <a:off x="5111640" y="3916440"/>
                <a:ext cx="329760" cy="88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90" name="Group 65"/>
              <p:cNvGrpSpPr/>
              <p:nvPr/>
            </p:nvGrpSpPr>
            <p:grpSpPr>
              <a:xfrm>
                <a:off x="4249440" y="3738600"/>
                <a:ext cx="1874160" cy="647640"/>
                <a:chOff x="4249440" y="3738600"/>
                <a:chExt cx="1874160" cy="647640"/>
              </a:xfrm>
            </p:grpSpPr>
            <p:grpSp>
              <p:nvGrpSpPr>
                <p:cNvPr id="1091" name="Group 66"/>
                <p:cNvGrpSpPr/>
                <p:nvPr/>
              </p:nvGrpSpPr>
              <p:grpSpPr>
                <a:xfrm>
                  <a:off x="4249440" y="3738600"/>
                  <a:ext cx="1874160" cy="647640"/>
                  <a:chOff x="4249440" y="3738600"/>
                  <a:chExt cx="1874160" cy="647640"/>
                </a:xfrm>
              </p:grpSpPr>
              <p:sp>
                <p:nvSpPr>
                  <p:cNvPr id="1092" name="Oval 67"/>
                  <p:cNvSpPr/>
                  <p:nvPr/>
                </p:nvSpPr>
                <p:spPr>
                  <a:xfrm>
                    <a:off x="4249440" y="3843360"/>
                    <a:ext cx="536400" cy="48924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93" name="Rectangle 68"/>
                  <p:cNvSpPr/>
                  <p:nvPr/>
                </p:nvSpPr>
                <p:spPr>
                  <a:xfrm>
                    <a:off x="4523760" y="3738600"/>
                    <a:ext cx="279000" cy="64764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94" name="Oval 69"/>
                  <p:cNvSpPr/>
                  <p:nvPr/>
                </p:nvSpPr>
                <p:spPr>
                  <a:xfrm>
                    <a:off x="4325400" y="3897360"/>
                    <a:ext cx="409320" cy="3780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95" name="Line 70"/>
                  <p:cNvSpPr/>
                  <p:nvPr/>
                </p:nvSpPr>
                <p:spPr>
                  <a:xfrm>
                    <a:off x="4511160" y="3840480"/>
                    <a:ext cx="16124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096" name="Freeform 71"/>
                <p:cNvSpPr/>
                <p:nvPr/>
              </p:nvSpPr>
              <p:spPr>
                <a:xfrm>
                  <a:off x="4590360" y="3878280"/>
                  <a:ext cx="202680" cy="457200"/>
                </a:xfrm>
                <a:custGeom>
                  <a:avLst/>
                  <a:gdLst>
                    <a:gd name="textAreaLeft" fmla="*/ 0 w 202680"/>
                    <a:gd name="textAreaRight" fmla="*/ 203040 w 20268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160" h="280">
                      <a:moveTo>
                        <a:pt x="112" y="0"/>
                      </a:moveTo>
                      <a:cubicBezTo>
                        <a:pt x="127" y="30"/>
                        <a:pt x="149" y="48"/>
                        <a:pt x="160" y="80"/>
                      </a:cubicBezTo>
                      <a:cubicBezTo>
                        <a:pt x="157" y="115"/>
                        <a:pt x="158" y="150"/>
                        <a:pt x="152" y="184"/>
                      </a:cubicBezTo>
                      <a:cubicBezTo>
                        <a:pt x="150" y="193"/>
                        <a:pt x="141" y="200"/>
                        <a:pt x="136" y="208"/>
                      </a:cubicBezTo>
                      <a:cubicBezTo>
                        <a:pt x="98" y="274"/>
                        <a:pt x="70" y="280"/>
                        <a:pt x="0" y="280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7" name="Line 72"/>
                <p:cNvSpPr/>
                <p:nvPr/>
              </p:nvSpPr>
              <p:spPr>
                <a:xfrm>
                  <a:off x="5631840" y="3916440"/>
                  <a:ext cx="4694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98" name="Text Box 95"/>
              <p:cNvSpPr/>
              <p:nvPr/>
            </p:nvSpPr>
            <p:spPr>
              <a:xfrm>
                <a:off x="1752480" y="3576600"/>
                <a:ext cx="46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it-IT" sz="2400" spc="-1" strike="noStrike" baseline="38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9" name="Text Box 98"/>
              <p:cNvSpPr/>
              <p:nvPr/>
            </p:nvSpPr>
            <p:spPr>
              <a:xfrm>
                <a:off x="8367480" y="351324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it-IT" sz="3600" spc="-1" strike="noStrike" baseline="28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0" name="Group 1029"/>
          <p:cNvGrpSpPr/>
          <p:nvPr/>
        </p:nvGrpSpPr>
        <p:grpSpPr>
          <a:xfrm>
            <a:off x="1235160" y="264960"/>
            <a:ext cx="6662160" cy="6246720"/>
            <a:chOff x="1235160" y="264960"/>
            <a:chExt cx="6662160" cy="6246720"/>
          </a:xfrm>
        </p:grpSpPr>
        <p:sp>
          <p:nvSpPr>
            <p:cNvPr id="1101" name="Text Box 2"/>
            <p:cNvSpPr/>
            <p:nvPr/>
          </p:nvSpPr>
          <p:spPr>
            <a:xfrm>
              <a:off x="1810800" y="264960"/>
              <a:ext cx="552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Plasmidi coniugativi e mobilizzabili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02" name="Group 106"/>
            <p:cNvGrpSpPr/>
            <p:nvPr/>
          </p:nvGrpSpPr>
          <p:grpSpPr>
            <a:xfrm>
              <a:off x="5106960" y="1035000"/>
              <a:ext cx="2790360" cy="1560240"/>
              <a:chOff x="5106960" y="1035000"/>
              <a:chExt cx="2790360" cy="1560240"/>
            </a:xfrm>
          </p:grpSpPr>
          <p:grpSp>
            <p:nvGrpSpPr>
              <p:cNvPr id="1103" name="Group 107"/>
              <p:cNvGrpSpPr/>
              <p:nvPr/>
            </p:nvGrpSpPr>
            <p:grpSpPr>
              <a:xfrm>
                <a:off x="5106960" y="1035000"/>
                <a:ext cx="2790360" cy="1560240"/>
                <a:chOff x="5106960" y="1035000"/>
                <a:chExt cx="2790360" cy="1560240"/>
              </a:xfrm>
            </p:grpSpPr>
            <p:sp>
              <p:nvSpPr>
                <p:cNvPr id="1104" name="AutoShape 108"/>
                <p:cNvSpPr/>
                <p:nvPr/>
              </p:nvSpPr>
              <p:spPr>
                <a:xfrm>
                  <a:off x="5106960" y="1035000"/>
                  <a:ext cx="2790360" cy="156024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5" name="AutoShape 109"/>
                <p:cNvSpPr/>
                <p:nvPr/>
              </p:nvSpPr>
              <p:spPr>
                <a:xfrm>
                  <a:off x="5248440" y="1150920"/>
                  <a:ext cx="2486160" cy="132624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6" name="AutoShape 110"/>
                <p:cNvSpPr/>
                <p:nvPr/>
              </p:nvSpPr>
              <p:spPr>
                <a:xfrm>
                  <a:off x="5301000" y="1196280"/>
                  <a:ext cx="2395440" cy="122616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07" name="Group 111"/>
              <p:cNvGrpSpPr/>
              <p:nvPr/>
            </p:nvGrpSpPr>
            <p:grpSpPr>
              <a:xfrm>
                <a:off x="6581520" y="1343160"/>
                <a:ext cx="993600" cy="895320"/>
                <a:chOff x="6581520" y="1343160"/>
                <a:chExt cx="993600" cy="895320"/>
              </a:xfrm>
            </p:grpSpPr>
            <p:sp>
              <p:nvSpPr>
                <p:cNvPr id="1108" name="Oval 112"/>
                <p:cNvSpPr/>
                <p:nvPr/>
              </p:nvSpPr>
              <p:spPr>
                <a:xfrm>
                  <a:off x="6657480" y="140652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9" name="Oval 113"/>
                <p:cNvSpPr/>
                <p:nvPr/>
              </p:nvSpPr>
              <p:spPr>
                <a:xfrm>
                  <a:off x="6581520" y="134316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110" name="Group 114"/>
            <p:cNvGrpSpPr/>
            <p:nvPr/>
          </p:nvGrpSpPr>
          <p:grpSpPr>
            <a:xfrm>
              <a:off x="1781280" y="3022560"/>
              <a:ext cx="2790360" cy="1560240"/>
              <a:chOff x="1781280" y="3022560"/>
              <a:chExt cx="2790360" cy="1560240"/>
            </a:xfrm>
          </p:grpSpPr>
          <p:sp>
            <p:nvSpPr>
              <p:cNvPr id="1111" name="AutoShape 115"/>
              <p:cNvSpPr/>
              <p:nvPr/>
            </p:nvSpPr>
            <p:spPr>
              <a:xfrm>
                <a:off x="1781280" y="3022560"/>
                <a:ext cx="2790360" cy="15602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2" name="AutoShape 116"/>
              <p:cNvSpPr/>
              <p:nvPr/>
            </p:nvSpPr>
            <p:spPr>
              <a:xfrm>
                <a:off x="1922760" y="3138480"/>
                <a:ext cx="2486160" cy="132624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3" name="AutoShape 117"/>
              <p:cNvSpPr/>
              <p:nvPr/>
            </p:nvSpPr>
            <p:spPr>
              <a:xfrm>
                <a:off x="1975320" y="3183840"/>
                <a:ext cx="2395440" cy="122616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14" name="Group 118"/>
            <p:cNvGrpSpPr/>
            <p:nvPr/>
          </p:nvGrpSpPr>
          <p:grpSpPr>
            <a:xfrm>
              <a:off x="2151000" y="3381480"/>
              <a:ext cx="993600" cy="895320"/>
              <a:chOff x="2151000" y="3381480"/>
              <a:chExt cx="993600" cy="895320"/>
            </a:xfrm>
          </p:grpSpPr>
          <p:sp>
            <p:nvSpPr>
              <p:cNvPr id="1115" name="Oval 119"/>
              <p:cNvSpPr/>
              <p:nvPr/>
            </p:nvSpPr>
            <p:spPr>
              <a:xfrm>
                <a:off x="2226960" y="3444840"/>
                <a:ext cx="841320" cy="76860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6" name="Oval 120"/>
              <p:cNvSpPr/>
              <p:nvPr/>
            </p:nvSpPr>
            <p:spPr>
              <a:xfrm>
                <a:off x="2151000" y="3381480"/>
                <a:ext cx="993600" cy="89532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17" name="Group 124"/>
            <p:cNvGrpSpPr/>
            <p:nvPr/>
          </p:nvGrpSpPr>
          <p:grpSpPr>
            <a:xfrm>
              <a:off x="4572000" y="3022560"/>
              <a:ext cx="2790360" cy="1560240"/>
              <a:chOff x="4572000" y="3022560"/>
              <a:chExt cx="2790360" cy="1560240"/>
            </a:xfrm>
          </p:grpSpPr>
          <p:sp>
            <p:nvSpPr>
              <p:cNvPr id="1118" name="AutoShape 125"/>
              <p:cNvSpPr/>
              <p:nvPr/>
            </p:nvSpPr>
            <p:spPr>
              <a:xfrm>
                <a:off x="4572000" y="3022560"/>
                <a:ext cx="2790360" cy="15602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9" name="AutoShape 126"/>
              <p:cNvSpPr/>
              <p:nvPr/>
            </p:nvSpPr>
            <p:spPr>
              <a:xfrm>
                <a:off x="4713480" y="3138480"/>
                <a:ext cx="2486160" cy="132624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0" name="AutoShape 127"/>
              <p:cNvSpPr/>
              <p:nvPr/>
            </p:nvSpPr>
            <p:spPr>
              <a:xfrm>
                <a:off x="4766040" y="3183840"/>
                <a:ext cx="2395440" cy="122616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21" name="Group 128"/>
            <p:cNvGrpSpPr/>
            <p:nvPr/>
          </p:nvGrpSpPr>
          <p:grpSpPr>
            <a:xfrm>
              <a:off x="6046920" y="3330720"/>
              <a:ext cx="993600" cy="895320"/>
              <a:chOff x="6046920" y="3330720"/>
              <a:chExt cx="993600" cy="895320"/>
            </a:xfrm>
          </p:grpSpPr>
          <p:sp>
            <p:nvSpPr>
              <p:cNvPr id="1122" name="Oval 129"/>
              <p:cNvSpPr/>
              <p:nvPr/>
            </p:nvSpPr>
            <p:spPr>
              <a:xfrm>
                <a:off x="6122880" y="3394080"/>
                <a:ext cx="841320" cy="76860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3" name="Oval 130"/>
              <p:cNvSpPr/>
              <p:nvPr/>
            </p:nvSpPr>
            <p:spPr>
              <a:xfrm>
                <a:off x="6046920" y="3330720"/>
                <a:ext cx="993600" cy="89532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24" name="Rectangle 131"/>
            <p:cNvSpPr/>
            <p:nvPr/>
          </p:nvSpPr>
          <p:spPr>
            <a:xfrm>
              <a:off x="4203720" y="3708360"/>
              <a:ext cx="673200" cy="190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5" name="Rectangle 132"/>
            <p:cNvSpPr/>
            <p:nvPr/>
          </p:nvSpPr>
          <p:spPr>
            <a:xfrm>
              <a:off x="4394160" y="364500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6" name="Rectangle 133"/>
            <p:cNvSpPr/>
            <p:nvPr/>
          </p:nvSpPr>
          <p:spPr>
            <a:xfrm>
              <a:off x="4394160" y="387360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27" name="Group 181"/>
            <p:cNvGrpSpPr/>
            <p:nvPr/>
          </p:nvGrpSpPr>
          <p:grpSpPr>
            <a:xfrm>
              <a:off x="1235160" y="1035000"/>
              <a:ext cx="2790360" cy="1560240"/>
              <a:chOff x="1235160" y="1035000"/>
              <a:chExt cx="2790360" cy="1560240"/>
            </a:xfrm>
          </p:grpSpPr>
          <p:grpSp>
            <p:nvGrpSpPr>
              <p:cNvPr id="1128" name="Group 96"/>
              <p:cNvGrpSpPr/>
              <p:nvPr/>
            </p:nvGrpSpPr>
            <p:grpSpPr>
              <a:xfrm>
                <a:off x="1235160" y="1035000"/>
                <a:ext cx="2790360" cy="1560240"/>
                <a:chOff x="1235160" y="1035000"/>
                <a:chExt cx="2790360" cy="1560240"/>
              </a:xfrm>
            </p:grpSpPr>
            <p:sp>
              <p:nvSpPr>
                <p:cNvPr id="1129" name="AutoShape 97"/>
                <p:cNvSpPr/>
                <p:nvPr/>
              </p:nvSpPr>
              <p:spPr>
                <a:xfrm>
                  <a:off x="1235160" y="1035000"/>
                  <a:ext cx="2790360" cy="156024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0" name="AutoShape 98"/>
                <p:cNvSpPr/>
                <p:nvPr/>
              </p:nvSpPr>
              <p:spPr>
                <a:xfrm>
                  <a:off x="1376640" y="1150920"/>
                  <a:ext cx="2486160" cy="132624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1" name="AutoShape 99"/>
                <p:cNvSpPr/>
                <p:nvPr/>
              </p:nvSpPr>
              <p:spPr>
                <a:xfrm>
                  <a:off x="1429200" y="1196280"/>
                  <a:ext cx="2395440" cy="122616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32" name="Group 100"/>
              <p:cNvGrpSpPr/>
              <p:nvPr/>
            </p:nvGrpSpPr>
            <p:grpSpPr>
              <a:xfrm>
                <a:off x="1566720" y="1393560"/>
                <a:ext cx="993600" cy="895320"/>
                <a:chOff x="1566720" y="1393560"/>
                <a:chExt cx="993600" cy="895320"/>
              </a:xfrm>
            </p:grpSpPr>
            <p:sp>
              <p:nvSpPr>
                <p:cNvPr id="1133" name="Oval 101"/>
                <p:cNvSpPr/>
                <p:nvPr/>
              </p:nvSpPr>
              <p:spPr>
                <a:xfrm>
                  <a:off x="1642680" y="145692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4" name="Oval 102"/>
                <p:cNvSpPr/>
                <p:nvPr/>
              </p:nvSpPr>
              <p:spPr>
                <a:xfrm>
                  <a:off x="1566720" y="139356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35" name="Group 170"/>
              <p:cNvGrpSpPr/>
              <p:nvPr/>
            </p:nvGrpSpPr>
            <p:grpSpPr>
              <a:xfrm>
                <a:off x="2773440" y="1292040"/>
                <a:ext cx="536400" cy="489960"/>
                <a:chOff x="2773440" y="1292040"/>
                <a:chExt cx="536400" cy="489960"/>
              </a:xfrm>
            </p:grpSpPr>
            <p:grpSp>
              <p:nvGrpSpPr>
                <p:cNvPr id="1136" name="Group 103"/>
                <p:cNvGrpSpPr/>
                <p:nvPr/>
              </p:nvGrpSpPr>
              <p:grpSpPr>
                <a:xfrm>
                  <a:off x="2773440" y="1292040"/>
                  <a:ext cx="536400" cy="488880"/>
                  <a:chOff x="2773440" y="1292040"/>
                  <a:chExt cx="536400" cy="488880"/>
                </a:xfrm>
              </p:grpSpPr>
              <p:sp>
                <p:nvSpPr>
                  <p:cNvPr id="1137" name="Oval 104"/>
                  <p:cNvSpPr/>
                  <p:nvPr/>
                </p:nvSpPr>
                <p:spPr>
                  <a:xfrm>
                    <a:off x="2836800" y="1346040"/>
                    <a:ext cx="409680" cy="377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38" name="Oval 105"/>
                  <p:cNvSpPr/>
                  <p:nvPr/>
                </p:nvSpPr>
                <p:spPr>
                  <a:xfrm>
                    <a:off x="2773440" y="1292040"/>
                    <a:ext cx="536400" cy="4888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139" name="Text Box 136"/>
                <p:cNvSpPr/>
                <p:nvPr/>
              </p:nvSpPr>
              <p:spPr>
                <a:xfrm>
                  <a:off x="2844360" y="13222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40" name="Group 148"/>
              <p:cNvGrpSpPr/>
              <p:nvPr/>
            </p:nvGrpSpPr>
            <p:grpSpPr>
              <a:xfrm>
                <a:off x="2766960" y="1854000"/>
                <a:ext cx="536400" cy="496800"/>
                <a:chOff x="2766960" y="1854000"/>
                <a:chExt cx="536400" cy="496800"/>
              </a:xfrm>
            </p:grpSpPr>
            <p:grpSp>
              <p:nvGrpSpPr>
                <p:cNvPr id="1141" name="Group 143"/>
                <p:cNvGrpSpPr/>
                <p:nvPr/>
              </p:nvGrpSpPr>
              <p:grpSpPr>
                <a:xfrm>
                  <a:off x="2766960" y="1861920"/>
                  <a:ext cx="536400" cy="488880"/>
                  <a:chOff x="2766960" y="1861920"/>
                  <a:chExt cx="536400" cy="488880"/>
                </a:xfrm>
              </p:grpSpPr>
              <p:sp>
                <p:nvSpPr>
                  <p:cNvPr id="1142" name="Oval 144"/>
                  <p:cNvSpPr/>
                  <p:nvPr/>
                </p:nvSpPr>
                <p:spPr>
                  <a:xfrm>
                    <a:off x="2830320" y="1915920"/>
                    <a:ext cx="409680" cy="377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43" name="Oval 145"/>
                  <p:cNvSpPr/>
                  <p:nvPr/>
                </p:nvSpPr>
                <p:spPr>
                  <a:xfrm>
                    <a:off x="2766960" y="1861920"/>
                    <a:ext cx="536400" cy="4888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144" name="Text Box 147"/>
                <p:cNvSpPr/>
                <p:nvPr/>
              </p:nvSpPr>
              <p:spPr>
                <a:xfrm>
                  <a:off x="2808360" y="1854000"/>
                  <a:ext cx="45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145" name="Group 149"/>
            <p:cNvGrpSpPr/>
            <p:nvPr/>
          </p:nvGrpSpPr>
          <p:grpSpPr>
            <a:xfrm>
              <a:off x="3274920" y="3822840"/>
              <a:ext cx="536400" cy="496440"/>
              <a:chOff x="3274920" y="3822840"/>
              <a:chExt cx="536400" cy="496440"/>
            </a:xfrm>
          </p:grpSpPr>
          <p:grpSp>
            <p:nvGrpSpPr>
              <p:cNvPr id="1146" name="Group 150"/>
              <p:cNvGrpSpPr/>
              <p:nvPr/>
            </p:nvGrpSpPr>
            <p:grpSpPr>
              <a:xfrm>
                <a:off x="3274920" y="3830400"/>
                <a:ext cx="536400" cy="488880"/>
                <a:chOff x="3274920" y="3830400"/>
                <a:chExt cx="536400" cy="488880"/>
              </a:xfrm>
            </p:grpSpPr>
            <p:sp>
              <p:nvSpPr>
                <p:cNvPr id="1147" name="Oval 151"/>
                <p:cNvSpPr/>
                <p:nvPr/>
              </p:nvSpPr>
              <p:spPr>
                <a:xfrm>
                  <a:off x="3338280" y="3884400"/>
                  <a:ext cx="409680" cy="377640"/>
                </a:xfrm>
                <a:prstGeom prst="ellipse">
                  <a:avLst/>
                </a:prstGeom>
                <a:noFill/>
                <a:ln w="284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8" name="Oval 152"/>
                <p:cNvSpPr/>
                <p:nvPr/>
              </p:nvSpPr>
              <p:spPr>
                <a:xfrm>
                  <a:off x="3274920" y="3830400"/>
                  <a:ext cx="536400" cy="488880"/>
                </a:xfrm>
                <a:prstGeom prst="ellipse">
                  <a:avLst/>
                </a:prstGeom>
                <a:noFill/>
                <a:ln w="284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49" name="Text Box 153"/>
              <p:cNvSpPr/>
              <p:nvPr/>
            </p:nvSpPr>
            <p:spPr>
              <a:xfrm>
                <a:off x="3317040" y="3822840"/>
                <a:ext cx="45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50" name="Line 154"/>
            <p:cNvSpPr/>
            <p:nvPr/>
          </p:nvSpPr>
          <p:spPr>
            <a:xfrm flipV="1">
              <a:off x="3900600" y="3587400"/>
              <a:ext cx="1422360" cy="43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1" name="Group 183"/>
            <p:cNvGrpSpPr/>
            <p:nvPr/>
          </p:nvGrpSpPr>
          <p:grpSpPr>
            <a:xfrm>
              <a:off x="4919760" y="4951440"/>
              <a:ext cx="2790360" cy="1560240"/>
              <a:chOff x="4919760" y="4951440"/>
              <a:chExt cx="2790360" cy="1560240"/>
            </a:xfrm>
          </p:grpSpPr>
          <p:grpSp>
            <p:nvGrpSpPr>
              <p:cNvPr id="1152" name="Group 46"/>
              <p:cNvGrpSpPr/>
              <p:nvPr/>
            </p:nvGrpSpPr>
            <p:grpSpPr>
              <a:xfrm>
                <a:off x="4919760" y="4951440"/>
                <a:ext cx="2790360" cy="1560240"/>
                <a:chOff x="4919760" y="4951440"/>
                <a:chExt cx="2790360" cy="1560240"/>
              </a:xfrm>
            </p:grpSpPr>
            <p:sp>
              <p:nvSpPr>
                <p:cNvPr id="1153" name="AutoShape 47"/>
                <p:cNvSpPr/>
                <p:nvPr/>
              </p:nvSpPr>
              <p:spPr>
                <a:xfrm>
                  <a:off x="4919760" y="4951440"/>
                  <a:ext cx="2790360" cy="156024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4" name="AutoShape 48"/>
                <p:cNvSpPr/>
                <p:nvPr/>
              </p:nvSpPr>
              <p:spPr>
                <a:xfrm>
                  <a:off x="5061240" y="5067360"/>
                  <a:ext cx="2486160" cy="132624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5" name="AutoShape 49"/>
                <p:cNvSpPr/>
                <p:nvPr/>
              </p:nvSpPr>
              <p:spPr>
                <a:xfrm>
                  <a:off x="5113800" y="5112720"/>
                  <a:ext cx="2395440" cy="122616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56" name="Group 50"/>
              <p:cNvGrpSpPr/>
              <p:nvPr/>
            </p:nvGrpSpPr>
            <p:grpSpPr>
              <a:xfrm>
                <a:off x="6394320" y="5259600"/>
                <a:ext cx="993600" cy="895320"/>
                <a:chOff x="6394320" y="5259600"/>
                <a:chExt cx="993600" cy="895320"/>
              </a:xfrm>
            </p:grpSpPr>
            <p:sp>
              <p:nvSpPr>
                <p:cNvPr id="1157" name="Oval 51"/>
                <p:cNvSpPr/>
                <p:nvPr/>
              </p:nvSpPr>
              <p:spPr>
                <a:xfrm>
                  <a:off x="6470280" y="532296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8" name="Oval 52"/>
                <p:cNvSpPr/>
                <p:nvPr/>
              </p:nvSpPr>
              <p:spPr>
                <a:xfrm>
                  <a:off x="6394320" y="525960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59" name="Group 165"/>
              <p:cNvGrpSpPr/>
              <p:nvPr/>
            </p:nvGrpSpPr>
            <p:grpSpPr>
              <a:xfrm>
                <a:off x="5548320" y="5472360"/>
                <a:ext cx="536400" cy="496440"/>
                <a:chOff x="5548320" y="5472360"/>
                <a:chExt cx="536400" cy="496440"/>
              </a:xfrm>
            </p:grpSpPr>
            <p:grpSp>
              <p:nvGrpSpPr>
                <p:cNvPr id="1160" name="Group 166"/>
                <p:cNvGrpSpPr/>
                <p:nvPr/>
              </p:nvGrpSpPr>
              <p:grpSpPr>
                <a:xfrm>
                  <a:off x="5548320" y="5479920"/>
                  <a:ext cx="536400" cy="488880"/>
                  <a:chOff x="5548320" y="5479920"/>
                  <a:chExt cx="536400" cy="488880"/>
                </a:xfrm>
              </p:grpSpPr>
              <p:sp>
                <p:nvSpPr>
                  <p:cNvPr id="1161" name="Oval 167"/>
                  <p:cNvSpPr/>
                  <p:nvPr/>
                </p:nvSpPr>
                <p:spPr>
                  <a:xfrm>
                    <a:off x="5611680" y="5533920"/>
                    <a:ext cx="409680" cy="377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62" name="Oval 168"/>
                  <p:cNvSpPr/>
                  <p:nvPr/>
                </p:nvSpPr>
                <p:spPr>
                  <a:xfrm>
                    <a:off x="5548320" y="5479920"/>
                    <a:ext cx="536400" cy="4888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163" name="Text Box 169"/>
                <p:cNvSpPr/>
                <p:nvPr/>
              </p:nvSpPr>
              <p:spPr>
                <a:xfrm>
                  <a:off x="5589720" y="5472360"/>
                  <a:ext cx="45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164" name="Group 171"/>
            <p:cNvGrpSpPr/>
            <p:nvPr/>
          </p:nvGrpSpPr>
          <p:grpSpPr>
            <a:xfrm>
              <a:off x="3270240" y="3232080"/>
              <a:ext cx="536400" cy="489960"/>
              <a:chOff x="3270240" y="3232080"/>
              <a:chExt cx="536400" cy="489960"/>
            </a:xfrm>
          </p:grpSpPr>
          <p:grpSp>
            <p:nvGrpSpPr>
              <p:cNvPr id="1165" name="Group 172"/>
              <p:cNvGrpSpPr/>
              <p:nvPr/>
            </p:nvGrpSpPr>
            <p:grpSpPr>
              <a:xfrm>
                <a:off x="3270240" y="3232080"/>
                <a:ext cx="536400" cy="488880"/>
                <a:chOff x="3270240" y="3232080"/>
                <a:chExt cx="536400" cy="488880"/>
              </a:xfrm>
            </p:grpSpPr>
            <p:sp>
              <p:nvSpPr>
                <p:cNvPr id="1166" name="Oval 173"/>
                <p:cNvSpPr/>
                <p:nvPr/>
              </p:nvSpPr>
              <p:spPr>
                <a:xfrm>
                  <a:off x="3333600" y="3286080"/>
                  <a:ext cx="409680" cy="37764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7" name="Oval 174"/>
                <p:cNvSpPr/>
                <p:nvPr/>
              </p:nvSpPr>
              <p:spPr>
                <a:xfrm>
                  <a:off x="3270240" y="3232080"/>
                  <a:ext cx="536400" cy="48888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68" name="Text Box 175"/>
              <p:cNvSpPr/>
              <p:nvPr/>
            </p:nvSpPr>
            <p:spPr>
              <a:xfrm>
                <a:off x="3341160" y="3262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69" name="Group 182"/>
            <p:cNvGrpSpPr/>
            <p:nvPr/>
          </p:nvGrpSpPr>
          <p:grpSpPr>
            <a:xfrm>
              <a:off x="1427040" y="4951440"/>
              <a:ext cx="2790720" cy="1560240"/>
              <a:chOff x="1427040" y="4951440"/>
              <a:chExt cx="2790720" cy="1560240"/>
            </a:xfrm>
          </p:grpSpPr>
          <p:grpSp>
            <p:nvGrpSpPr>
              <p:cNvPr id="1170" name="Group 57"/>
              <p:cNvGrpSpPr/>
              <p:nvPr/>
            </p:nvGrpSpPr>
            <p:grpSpPr>
              <a:xfrm>
                <a:off x="1427040" y="4951440"/>
                <a:ext cx="2790720" cy="1560240"/>
                <a:chOff x="1427040" y="4951440"/>
                <a:chExt cx="2790720" cy="1560240"/>
              </a:xfrm>
            </p:grpSpPr>
            <p:sp>
              <p:nvSpPr>
                <p:cNvPr id="1171" name="AutoShape 58"/>
                <p:cNvSpPr/>
                <p:nvPr/>
              </p:nvSpPr>
              <p:spPr>
                <a:xfrm>
                  <a:off x="1427040" y="4951440"/>
                  <a:ext cx="2790720" cy="156024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2" name="AutoShape 59"/>
                <p:cNvSpPr/>
                <p:nvPr/>
              </p:nvSpPr>
              <p:spPr>
                <a:xfrm>
                  <a:off x="1568520" y="5067360"/>
                  <a:ext cx="2486160" cy="132624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3" name="AutoShape 60"/>
                <p:cNvSpPr/>
                <p:nvPr/>
              </p:nvSpPr>
              <p:spPr>
                <a:xfrm>
                  <a:off x="1621080" y="5112720"/>
                  <a:ext cx="2395800" cy="122616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74" name="Group 61"/>
              <p:cNvGrpSpPr/>
              <p:nvPr/>
            </p:nvGrpSpPr>
            <p:grpSpPr>
              <a:xfrm>
                <a:off x="1797120" y="5310360"/>
                <a:ext cx="993600" cy="895320"/>
                <a:chOff x="1797120" y="5310360"/>
                <a:chExt cx="993600" cy="895320"/>
              </a:xfrm>
            </p:grpSpPr>
            <p:sp>
              <p:nvSpPr>
                <p:cNvPr id="1175" name="Oval 62"/>
                <p:cNvSpPr/>
                <p:nvPr/>
              </p:nvSpPr>
              <p:spPr>
                <a:xfrm>
                  <a:off x="1873080" y="537372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6" name="Oval 63"/>
                <p:cNvSpPr/>
                <p:nvPr/>
              </p:nvSpPr>
              <p:spPr>
                <a:xfrm>
                  <a:off x="1797120" y="531036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77" name="Group 160"/>
              <p:cNvGrpSpPr/>
              <p:nvPr/>
            </p:nvGrpSpPr>
            <p:grpSpPr>
              <a:xfrm>
                <a:off x="2955960" y="5788080"/>
                <a:ext cx="536400" cy="496440"/>
                <a:chOff x="2955960" y="5788080"/>
                <a:chExt cx="536400" cy="496440"/>
              </a:xfrm>
            </p:grpSpPr>
            <p:grpSp>
              <p:nvGrpSpPr>
                <p:cNvPr id="1178" name="Group 161"/>
                <p:cNvGrpSpPr/>
                <p:nvPr/>
              </p:nvGrpSpPr>
              <p:grpSpPr>
                <a:xfrm>
                  <a:off x="2955960" y="5795640"/>
                  <a:ext cx="536400" cy="488880"/>
                  <a:chOff x="2955960" y="5795640"/>
                  <a:chExt cx="536400" cy="488880"/>
                </a:xfrm>
              </p:grpSpPr>
              <p:sp>
                <p:nvSpPr>
                  <p:cNvPr id="1179" name="Oval 162"/>
                  <p:cNvSpPr/>
                  <p:nvPr/>
                </p:nvSpPr>
                <p:spPr>
                  <a:xfrm>
                    <a:off x="3019320" y="5849640"/>
                    <a:ext cx="409680" cy="377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0" name="Oval 163"/>
                  <p:cNvSpPr/>
                  <p:nvPr/>
                </p:nvSpPr>
                <p:spPr>
                  <a:xfrm>
                    <a:off x="2955960" y="5795640"/>
                    <a:ext cx="536400" cy="4888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181" name="Text Box 164"/>
                <p:cNvSpPr/>
                <p:nvPr/>
              </p:nvSpPr>
              <p:spPr>
                <a:xfrm>
                  <a:off x="2997360" y="5788080"/>
                  <a:ext cx="45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82" name="Group 176"/>
              <p:cNvGrpSpPr/>
              <p:nvPr/>
            </p:nvGrpSpPr>
            <p:grpSpPr>
              <a:xfrm>
                <a:off x="2970360" y="5189400"/>
                <a:ext cx="536400" cy="489960"/>
                <a:chOff x="2970360" y="5189400"/>
                <a:chExt cx="536400" cy="489960"/>
              </a:xfrm>
            </p:grpSpPr>
            <p:grpSp>
              <p:nvGrpSpPr>
                <p:cNvPr id="1183" name="Group 177"/>
                <p:cNvGrpSpPr/>
                <p:nvPr/>
              </p:nvGrpSpPr>
              <p:grpSpPr>
                <a:xfrm>
                  <a:off x="2970360" y="5189400"/>
                  <a:ext cx="536400" cy="488880"/>
                  <a:chOff x="2970360" y="5189400"/>
                  <a:chExt cx="536400" cy="488880"/>
                </a:xfrm>
              </p:grpSpPr>
              <p:sp>
                <p:nvSpPr>
                  <p:cNvPr id="1184" name="Oval 178"/>
                  <p:cNvSpPr/>
                  <p:nvPr/>
                </p:nvSpPr>
                <p:spPr>
                  <a:xfrm>
                    <a:off x="3033720" y="5243400"/>
                    <a:ext cx="409680" cy="377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5" name="Oval 179"/>
                  <p:cNvSpPr/>
                  <p:nvPr/>
                </p:nvSpPr>
                <p:spPr>
                  <a:xfrm>
                    <a:off x="2970360" y="5189400"/>
                    <a:ext cx="536400" cy="4888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186" name="Text Box 180"/>
                <p:cNvSpPr/>
                <p:nvPr/>
              </p:nvSpPr>
              <p:spPr>
                <a:xfrm>
                  <a:off x="3041280" y="521964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Text Box 2"/>
          <p:cNvSpPr/>
          <p:nvPr/>
        </p:nvSpPr>
        <p:spPr>
          <a:xfrm>
            <a:off x="473040" y="301680"/>
            <a:ext cx="54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Plasmidi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Text Box 3"/>
          <p:cNvSpPr/>
          <p:nvPr/>
        </p:nvSpPr>
        <p:spPr>
          <a:xfrm>
            <a:off x="408600" y="202104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Plasmidi 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Text Box 4"/>
          <p:cNvSpPr/>
          <p:nvPr/>
        </p:nvSpPr>
        <p:spPr>
          <a:xfrm>
            <a:off x="380160" y="374004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Comic Sans MS"/>
              </a:rPr>
              <a:t>Plasmidi di virulen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Text Box 5"/>
          <p:cNvSpPr/>
          <p:nvPr/>
        </p:nvSpPr>
        <p:spPr>
          <a:xfrm>
            <a:off x="357120" y="5186520"/>
            <a:ext cx="31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Plasmidi metabolic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Rectangle 6"/>
          <p:cNvSpPr/>
          <p:nvPr/>
        </p:nvSpPr>
        <p:spPr>
          <a:xfrm>
            <a:off x="473040" y="704880"/>
            <a:ext cx="863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dificano per enzimi capaci di distruggere o modificare gli antibiotici come ampicillina, cloramfenicolo, tetraciclina, kanamicina ecc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cuni plasmidi portano un’unica resistenza, altri fino a ott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ssono essere anche coniugativi e diffondersi rapidament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Rectangle 7"/>
          <p:cNvSpPr/>
          <p:nvPr/>
        </p:nvSpPr>
        <p:spPr>
          <a:xfrm>
            <a:off x="473040" y="2425680"/>
            <a:ext cx="863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feriscono un vantaggio al batterio portatore nei confronti di batteri della stessa specie o specie affin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dificano per le batteriocine (colicine, subtilisine, ecc.) capaci di permeabilizzare le membrane o degradare gli acidi nuclei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Rectangle 8"/>
          <p:cNvSpPr/>
          <p:nvPr/>
        </p:nvSpPr>
        <p:spPr>
          <a:xfrm>
            <a:off x="473040" y="4145040"/>
            <a:ext cx="863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rtatori di tossine; rendono il ceppo batterico più patogen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 ceppo di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. col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esponsabile della “diarrea del viaggiatore” è portatore di un plasmide codificante per una enterotossin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Rectangle 9"/>
          <p:cNvSpPr/>
          <p:nvPr/>
        </p:nvSpPr>
        <p:spPr>
          <a:xfrm>
            <a:off x="473040" y="5591160"/>
            <a:ext cx="863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dificano per enzimi capaci di degradare composti aromatici, pesticidi, zuccheri ecc. In alcuni ceppi di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hizobiu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rtano i geni necessari per la nodulazione nelle leguminos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Text Box 10"/>
          <p:cNvSpPr/>
          <p:nvPr/>
        </p:nvSpPr>
        <p:spPr>
          <a:xfrm>
            <a:off x="-92160" y="66438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Text Box 11"/>
          <p:cNvSpPr/>
          <p:nvPr/>
        </p:nvSpPr>
        <p:spPr>
          <a:xfrm>
            <a:off x="-754200" y="6248520"/>
            <a:ext cx="54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B23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P30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Text Box 2"/>
          <p:cNvSpPr/>
          <p:nvPr/>
        </p:nvSpPr>
        <p:spPr>
          <a:xfrm>
            <a:off x="2089080" y="84240"/>
            <a:ext cx="49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Plasmidi di virulenza e malatt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Text Box 3"/>
          <p:cNvSpPr/>
          <p:nvPr/>
        </p:nvSpPr>
        <p:spPr>
          <a:xfrm>
            <a:off x="299160" y="739800"/>
            <a:ext cx="62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Molti batteri risultano patogeni a causa dei loro plasmid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Text Box 4"/>
          <p:cNvSpPr/>
          <p:nvPr/>
        </p:nvSpPr>
        <p:spPr>
          <a:xfrm>
            <a:off x="1481400" y="1184400"/>
            <a:ext cx="40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plasmide porta geni per le toss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Text Box 5"/>
          <p:cNvSpPr/>
          <p:nvPr/>
        </p:nvSpPr>
        <p:spPr>
          <a:xfrm>
            <a:off x="1626480" y="1590840"/>
            <a:ext cx="62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   “ 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nde il batterio più capace di infettare l’osp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Text Box 6"/>
          <p:cNvSpPr/>
          <p:nvPr/>
        </p:nvSpPr>
        <p:spPr>
          <a:xfrm>
            <a:off x="1645920" y="2035080"/>
            <a:ext cx="68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   “ 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nde il batterio più resistente alle difese dell’osp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02" name="Group 18"/>
          <p:cNvGrpSpPr/>
          <p:nvPr/>
        </p:nvGrpSpPr>
        <p:grpSpPr>
          <a:xfrm>
            <a:off x="177840" y="2527200"/>
            <a:ext cx="8767800" cy="2502000"/>
            <a:chOff x="177840" y="2527200"/>
            <a:chExt cx="8767800" cy="2502000"/>
          </a:xfrm>
        </p:grpSpPr>
        <p:sp>
          <p:nvSpPr>
            <p:cNvPr id="1203" name="Rectangle 17"/>
            <p:cNvSpPr/>
            <p:nvPr/>
          </p:nvSpPr>
          <p:spPr>
            <a:xfrm>
              <a:off x="177840" y="2527200"/>
              <a:ext cx="8686800" cy="2502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Text Box 8"/>
            <p:cNvSpPr/>
            <p:nvPr/>
          </p:nvSpPr>
          <p:spPr>
            <a:xfrm>
              <a:off x="318960" y="2631960"/>
              <a:ext cx="709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Comic Sans MS"/>
                </a:rPr>
                <a:t>Ceppi enterotossici di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Comic Sans MS"/>
                </a:rPr>
                <a:t>E. coli</a:t>
              </a:r>
              <a:r>
                <a:rPr b="0" lang="it-IT" sz="1800" spc="-1" strike="noStrike">
                  <a:solidFill>
                    <a:srgbClr val="3333cc"/>
                  </a:solidFill>
                  <a:latin typeface="Comic Sans MS"/>
                </a:rPr>
                <a:t> provocano la diarrea del viaggiator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Text Box 9"/>
            <p:cNvSpPr/>
            <p:nvPr/>
          </p:nvSpPr>
          <p:spPr>
            <a:xfrm>
              <a:off x="1418400" y="3000240"/>
              <a:ext cx="27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Tossina termolabile (LT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Text Box 10"/>
            <p:cNvSpPr/>
            <p:nvPr/>
          </p:nvSpPr>
          <p:spPr>
            <a:xfrm>
              <a:off x="1445040" y="3355920"/>
              <a:ext cx="28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Tossina termostabile (ST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AutoShape 11"/>
            <p:cNvSpPr/>
            <p:nvPr/>
          </p:nvSpPr>
          <p:spPr>
            <a:xfrm>
              <a:off x="4470480" y="3098520"/>
              <a:ext cx="88920" cy="50796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12960 h 507960"/>
                <a:gd name="textAreaBottom" fmla="*/ 49500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8" name="Text Box 12"/>
            <p:cNvSpPr/>
            <p:nvPr/>
          </p:nvSpPr>
          <p:spPr>
            <a:xfrm>
              <a:off x="4737240" y="3114360"/>
              <a:ext cx="420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sono portate da plasmidi, a volte anche da un solo plasmi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9" name="Text Box 13"/>
            <p:cNvSpPr/>
            <p:nvPr/>
          </p:nvSpPr>
          <p:spPr>
            <a:xfrm>
              <a:off x="403200" y="3889080"/>
              <a:ext cx="805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Comic Sans MS"/>
                </a:rPr>
                <a:t>I ceppi enterotossici di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Comic Sans MS"/>
                </a:rPr>
                <a:t>E. coli</a:t>
              </a:r>
              <a:r>
                <a:rPr b="0" lang="it-IT" sz="1800" spc="-1" strike="noStrike">
                  <a:solidFill>
                    <a:srgbClr val="3333cc"/>
                  </a:solidFill>
                  <a:latin typeface="Comic Sans MS"/>
                </a:rPr>
                <a:t> devono essere anche capaci di colonizzare l’intestin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0" name="Text Box 14"/>
            <p:cNvSpPr/>
            <p:nvPr/>
          </p:nvSpPr>
          <p:spPr>
            <a:xfrm>
              <a:off x="1367640" y="4547880"/>
              <a:ext cx="744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Speciali fimbrie adesive sono codificate da geni di un altro plasmi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1" name="Text Box 16"/>
          <p:cNvSpPr/>
          <p:nvPr/>
        </p:nvSpPr>
        <p:spPr>
          <a:xfrm>
            <a:off x="390600" y="5248440"/>
            <a:ext cx="80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Altri batteri patogeni portano plasmidi di virulenz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Text Box 20"/>
          <p:cNvSpPr/>
          <p:nvPr/>
        </p:nvSpPr>
        <p:spPr>
          <a:xfrm>
            <a:off x="1482480" y="5678640"/>
            <a:ext cx="40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ossina tetanica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lostridium tetan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ntratossina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Bacillus anthrac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 Box 2"/>
          <p:cNvSpPr/>
          <p:nvPr/>
        </p:nvSpPr>
        <p:spPr>
          <a:xfrm>
            <a:off x="2359080" y="22392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Incompatibilità fra plasmid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Text Box 3"/>
          <p:cNvSpPr/>
          <p:nvPr/>
        </p:nvSpPr>
        <p:spPr>
          <a:xfrm>
            <a:off x="746280" y="1336680"/>
            <a:ext cx="80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’incompatibilità si osserva quando un plasmide entra in una cellula dove è già presente un plasmide simi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Text Box 4"/>
          <p:cNvSpPr/>
          <p:nvPr/>
        </p:nvSpPr>
        <p:spPr>
          <a:xfrm>
            <a:off x="746280" y="2289240"/>
            <a:ext cx="80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nuovo plasmide non può essere mantenuto e viene perso nei successivi cicli di divisione batterica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Text Box 5"/>
          <p:cNvSpPr/>
          <p:nvPr/>
        </p:nvSpPr>
        <p:spPr>
          <a:xfrm>
            <a:off x="746280" y="3241800"/>
            <a:ext cx="80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fenomeno è controllato dai geni coinvolti nella regolazione della replicazione plasmidic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Text Box 6"/>
          <p:cNvSpPr/>
          <p:nvPr/>
        </p:nvSpPr>
        <p:spPr>
          <a:xfrm>
            <a:off x="746280" y="4194000"/>
            <a:ext cx="80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lasmidi che condividono lo stesso sistema di replicazione appartengono allo stesso gruppo di incompatibilità (Inc)  e sono tra loro incompatibili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Text Box 7"/>
          <p:cNvSpPr/>
          <p:nvPr/>
        </p:nvSpPr>
        <p:spPr>
          <a:xfrm>
            <a:off x="746280" y="514656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chè un batterio possa contenere diversi tipi di plasmidi, questi non devono essere strettamente correlat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Line 2"/>
          <p:cNvSpPr/>
          <p:nvPr/>
        </p:nvSpPr>
        <p:spPr>
          <a:xfrm>
            <a:off x="1320840" y="3924360"/>
            <a:ext cx="716292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Line 3"/>
          <p:cNvSpPr/>
          <p:nvPr/>
        </p:nvSpPr>
        <p:spPr>
          <a:xfrm>
            <a:off x="1320840" y="4533840"/>
            <a:ext cx="718812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Rectangle 4"/>
          <p:cNvSpPr/>
          <p:nvPr/>
        </p:nvSpPr>
        <p:spPr>
          <a:xfrm>
            <a:off x="4800600" y="4432320"/>
            <a:ext cx="2540160" cy="279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Palatino"/>
              </a:rPr>
              <a:t>s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Line 5"/>
          <p:cNvSpPr/>
          <p:nvPr/>
        </p:nvSpPr>
        <p:spPr>
          <a:xfrm flipH="1">
            <a:off x="2641680" y="3543480"/>
            <a:ext cx="2641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Line 6"/>
          <p:cNvSpPr/>
          <p:nvPr/>
        </p:nvSpPr>
        <p:spPr>
          <a:xfrm>
            <a:off x="4927680" y="491508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Text Box 8"/>
          <p:cNvSpPr/>
          <p:nvPr/>
        </p:nvSpPr>
        <p:spPr>
          <a:xfrm>
            <a:off x="1392840" y="379440"/>
            <a:ext cx="63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Palatino"/>
              </a:rPr>
              <a:t>Sistema </a:t>
            </a:r>
            <a:r>
              <a:rPr b="1" i="1" lang="it-IT" sz="2400" spc="-1" strike="noStrike">
                <a:solidFill>
                  <a:srgbClr val="0033cc"/>
                </a:solidFill>
                <a:latin typeface="Palatino"/>
              </a:rPr>
              <a:t>host cell killing</a:t>
            </a:r>
            <a:r>
              <a:rPr b="1" lang="it-IT" sz="2400" spc="-1" strike="noStrike">
                <a:solidFill>
                  <a:srgbClr val="0033cc"/>
                </a:solidFill>
                <a:latin typeface="Palatino"/>
              </a:rPr>
              <a:t> del plasmide 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Line 9"/>
          <p:cNvSpPr/>
          <p:nvPr/>
        </p:nvSpPr>
        <p:spPr>
          <a:xfrm>
            <a:off x="4927680" y="506736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Line 10"/>
          <p:cNvSpPr/>
          <p:nvPr/>
        </p:nvSpPr>
        <p:spPr>
          <a:xfrm>
            <a:off x="4927680" y="521964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Line 11"/>
          <p:cNvSpPr/>
          <p:nvPr/>
        </p:nvSpPr>
        <p:spPr>
          <a:xfrm>
            <a:off x="4927680" y="537228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Line 12"/>
          <p:cNvSpPr/>
          <p:nvPr/>
        </p:nvSpPr>
        <p:spPr>
          <a:xfrm>
            <a:off x="4927680" y="552456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Rectangle 13"/>
          <p:cNvSpPr/>
          <p:nvPr/>
        </p:nvSpPr>
        <p:spPr>
          <a:xfrm>
            <a:off x="6222960" y="3314880"/>
            <a:ext cx="1320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Palatino"/>
              </a:rPr>
              <a:t>hoc mRNA: </a:t>
            </a:r>
            <a:r>
              <a:rPr b="0" lang="it-IT" sz="2000" spc="-1" strike="noStrike">
                <a:solidFill>
                  <a:srgbClr val="000000"/>
                </a:solidFill>
                <a:latin typeface="Palatino"/>
              </a:rPr>
              <a:t>emivita 20 m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Text Box 14"/>
          <p:cNvSpPr/>
          <p:nvPr/>
        </p:nvSpPr>
        <p:spPr>
          <a:xfrm>
            <a:off x="1289880" y="4995720"/>
            <a:ext cx="37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Palatino"/>
              </a:rPr>
              <a:t>sok mRNA: </a:t>
            </a:r>
            <a:r>
              <a:rPr b="0" lang="it-IT" sz="2000" spc="-1" strike="noStrike">
                <a:solidFill>
                  <a:srgbClr val="000000"/>
                </a:solidFill>
                <a:latin typeface="Palatino"/>
              </a:rPr>
              <a:t>emivita &lt; 1-2 m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Text Box 15"/>
          <p:cNvSpPr/>
          <p:nvPr/>
        </p:nvSpPr>
        <p:spPr>
          <a:xfrm>
            <a:off x="4678200" y="410688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Palatino"/>
              </a:rPr>
              <a:t>128 b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Rectangle 16"/>
          <p:cNvSpPr/>
          <p:nvPr/>
        </p:nvSpPr>
        <p:spPr>
          <a:xfrm>
            <a:off x="2590920" y="3720960"/>
            <a:ext cx="2946240" cy="381240"/>
          </a:xfrm>
          <a:prstGeom prst="rect">
            <a:avLst/>
          </a:prstGeom>
          <a:solidFill>
            <a:srgbClr val="ffcc00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Text Box 17"/>
          <p:cNvSpPr/>
          <p:nvPr/>
        </p:nvSpPr>
        <p:spPr>
          <a:xfrm>
            <a:off x="4876920" y="368136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Palatino"/>
              </a:rPr>
              <a:t>S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Text Box 18"/>
          <p:cNvSpPr/>
          <p:nvPr/>
        </p:nvSpPr>
        <p:spPr>
          <a:xfrm>
            <a:off x="3723840" y="36813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Palatino"/>
              </a:rPr>
              <a:t>h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Text Box 20"/>
          <p:cNvSpPr/>
          <p:nvPr/>
        </p:nvSpPr>
        <p:spPr>
          <a:xfrm>
            <a:off x="311040" y="1413000"/>
            <a:ext cx="8520120" cy="70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sistema hok/sok di alcuni plasmidi a basso numero di copie assicura il mantenimento del plasmide all’interno di una popolazione batter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Line 1031"/>
          <p:cNvSpPr/>
          <p:nvPr/>
        </p:nvSpPr>
        <p:spPr>
          <a:xfrm>
            <a:off x="1359000" y="2260440"/>
            <a:ext cx="673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Text Box 1026"/>
          <p:cNvSpPr/>
          <p:nvPr/>
        </p:nvSpPr>
        <p:spPr>
          <a:xfrm>
            <a:off x="1523520" y="363600"/>
            <a:ext cx="64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Il sistema veleno-antidoto del plasmide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Rectangle 1027"/>
          <p:cNvSpPr/>
          <p:nvPr/>
        </p:nvSpPr>
        <p:spPr>
          <a:xfrm>
            <a:off x="2197080" y="2146320"/>
            <a:ext cx="220968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Rectangle 1028"/>
          <p:cNvSpPr/>
          <p:nvPr/>
        </p:nvSpPr>
        <p:spPr>
          <a:xfrm>
            <a:off x="4432320" y="2146320"/>
            <a:ext cx="220968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Text Box 1029"/>
          <p:cNvSpPr/>
          <p:nvPr/>
        </p:nvSpPr>
        <p:spPr>
          <a:xfrm>
            <a:off x="2871360" y="18064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c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Text Box 1030"/>
          <p:cNvSpPr/>
          <p:nvPr/>
        </p:nvSpPr>
        <p:spPr>
          <a:xfrm>
            <a:off x="5017680" y="18320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cd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Text Box 1032"/>
          <p:cNvSpPr/>
          <p:nvPr/>
        </p:nvSpPr>
        <p:spPr>
          <a:xfrm>
            <a:off x="2660760" y="274644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72 A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Text Box 1033"/>
          <p:cNvSpPr/>
          <p:nvPr/>
        </p:nvSpPr>
        <p:spPr>
          <a:xfrm>
            <a:off x="4978080" y="27464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01 A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Text Box 1034"/>
          <p:cNvSpPr/>
          <p:nvPr/>
        </p:nvSpPr>
        <p:spPr>
          <a:xfrm>
            <a:off x="4795920" y="333072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velen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proteina stabi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teragisce con la DNA giras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Text Box 1035"/>
          <p:cNvSpPr/>
          <p:nvPr/>
        </p:nvSpPr>
        <p:spPr>
          <a:xfrm>
            <a:off x="1609560" y="3330720"/>
            <a:ext cx="27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antido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facilmente degradabile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blocca l’attività di Ccd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16"/>
          <p:cNvSpPr/>
          <p:nvPr/>
        </p:nvSpPr>
        <p:spPr>
          <a:xfrm>
            <a:off x="4757760" y="2311560"/>
            <a:ext cx="4122720" cy="2805120"/>
          </a:xfrm>
          <a:prstGeom prst="rect">
            <a:avLst/>
          </a:prstGeom>
          <a:gradFill rotWithShape="0">
            <a:gsLst>
              <a:gs pos="0">
                <a:srgbClr val="747474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Rectangle 14"/>
          <p:cNvSpPr/>
          <p:nvPr/>
        </p:nvSpPr>
        <p:spPr>
          <a:xfrm>
            <a:off x="274680" y="2289240"/>
            <a:ext cx="4122720" cy="2805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74747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582480" y="927000"/>
            <a:ext cx="79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Comic Sans MS"/>
              </a:rPr>
              <a:t>Modalità si scambio genetico fra batteri mediato da un vir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3537720" y="214200"/>
            <a:ext cx="203544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rasdu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AutoShape 4"/>
          <p:cNvSpPr/>
          <p:nvPr/>
        </p:nvSpPr>
        <p:spPr>
          <a:xfrm rot="8328000">
            <a:off x="3156840" y="1749240"/>
            <a:ext cx="996840" cy="182520"/>
          </a:xfrm>
          <a:prstGeom prst="rightArrow">
            <a:avLst>
              <a:gd name="adj1" fmla="val 50000"/>
              <a:gd name="adj2" fmla="val 1365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AutoShape 5"/>
          <p:cNvSpPr/>
          <p:nvPr/>
        </p:nvSpPr>
        <p:spPr>
          <a:xfrm flipH="1" rot="13272000">
            <a:off x="4934160" y="1749240"/>
            <a:ext cx="996840" cy="182520"/>
          </a:xfrm>
          <a:prstGeom prst="rightArrow">
            <a:avLst>
              <a:gd name="adj1" fmla="val 50000"/>
              <a:gd name="adj2" fmla="val 1365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Text Box 6"/>
          <p:cNvSpPr/>
          <p:nvPr/>
        </p:nvSpPr>
        <p:spPr>
          <a:xfrm>
            <a:off x="409320" y="2473200"/>
            <a:ext cx="39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rasduzione generalizz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Text Box 7"/>
          <p:cNvSpPr/>
          <p:nvPr/>
        </p:nvSpPr>
        <p:spPr>
          <a:xfrm>
            <a:off x="4818960" y="249552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rasduzione specializz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Text Box 8"/>
          <p:cNvSpPr/>
          <p:nvPr/>
        </p:nvSpPr>
        <p:spPr>
          <a:xfrm>
            <a:off x="301680" y="2960640"/>
            <a:ext cx="419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alsiasi marcatore genetico può essere trasferito da un donatore a un ricev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Text Box 9"/>
          <p:cNvSpPr/>
          <p:nvPr/>
        </p:nvSpPr>
        <p:spPr>
          <a:xfrm>
            <a:off x="4770360" y="2984400"/>
            <a:ext cx="419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lo marcatori specifici possono essere trasferit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Rectangle 10"/>
          <p:cNvSpPr/>
          <p:nvPr/>
        </p:nvSpPr>
        <p:spPr>
          <a:xfrm>
            <a:off x="688320" y="404640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22, P1 per Gram(-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Rectangle 11"/>
          <p:cNvSpPr/>
          <p:nvPr/>
        </p:nvSpPr>
        <p:spPr>
          <a:xfrm>
            <a:off x="703080" y="448776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BS1 per Gram (+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Rectangle 12"/>
          <p:cNvSpPr/>
          <p:nvPr/>
        </p:nvSpPr>
        <p:spPr>
          <a:xfrm>
            <a:off x="5813640" y="404640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er 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E. col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Rectangle 13"/>
          <p:cNvSpPr/>
          <p:nvPr/>
        </p:nvSpPr>
        <p:spPr>
          <a:xfrm>
            <a:off x="5461200" y="448776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P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per 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B. subtil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Text Box 17"/>
          <p:cNvSpPr/>
          <p:nvPr/>
        </p:nvSpPr>
        <p:spPr>
          <a:xfrm>
            <a:off x="704880" y="5327640"/>
            <a:ext cx="79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nche se non tutti i fagi trasducono e non tutti i batteri possono essere trasdotti, il fenomeno è sufficientemente diffuso da far supporre che svolga un ruolo importante nel trasferimento genico in na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Text Box 18"/>
          <p:cNvSpPr/>
          <p:nvPr/>
        </p:nvSpPr>
        <p:spPr>
          <a:xfrm>
            <a:off x="-690840" y="62611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B23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2" name="Picture 1026" descr=""/>
          <p:cNvPicPr/>
          <p:nvPr/>
        </p:nvPicPr>
        <p:blipFill>
          <a:blip r:embed="rId1"/>
          <a:stretch/>
        </p:blipFill>
        <p:spPr>
          <a:xfrm>
            <a:off x="797040" y="430200"/>
            <a:ext cx="8235720" cy="5996160"/>
          </a:xfrm>
          <a:prstGeom prst="rect">
            <a:avLst/>
          </a:prstGeom>
          <a:ln w="0">
            <a:noFill/>
          </a:ln>
        </p:spPr>
      </p:pic>
      <p:sp>
        <p:nvSpPr>
          <p:cNvPr id="1263" name="Rectangle 1027"/>
          <p:cNvSpPr/>
          <p:nvPr/>
        </p:nvSpPr>
        <p:spPr>
          <a:xfrm>
            <a:off x="3822840" y="5994360"/>
            <a:ext cx="233676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Text Box 1028"/>
          <p:cNvSpPr/>
          <p:nvPr/>
        </p:nvSpPr>
        <p:spPr>
          <a:xfrm>
            <a:off x="3570120" y="611352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iltro poro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Rectangle 1029"/>
          <p:cNvSpPr/>
          <p:nvPr/>
        </p:nvSpPr>
        <p:spPr>
          <a:xfrm>
            <a:off x="7505640" y="507960"/>
            <a:ext cx="14860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Rectangle 1030"/>
          <p:cNvSpPr/>
          <p:nvPr/>
        </p:nvSpPr>
        <p:spPr>
          <a:xfrm>
            <a:off x="544680" y="527040"/>
            <a:ext cx="196668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Rectangle 1032"/>
          <p:cNvSpPr/>
          <p:nvPr/>
        </p:nvSpPr>
        <p:spPr>
          <a:xfrm>
            <a:off x="411120" y="3429000"/>
            <a:ext cx="233676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Rectangle 1033"/>
          <p:cNvSpPr/>
          <p:nvPr/>
        </p:nvSpPr>
        <p:spPr>
          <a:xfrm>
            <a:off x="5605560" y="3429000"/>
            <a:ext cx="233676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Text Box 1034"/>
          <p:cNvSpPr/>
          <p:nvPr/>
        </p:nvSpPr>
        <p:spPr>
          <a:xfrm>
            <a:off x="231840" y="516564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.typhimurium infettato da P2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Text Box 1036"/>
          <p:cNvSpPr/>
          <p:nvPr/>
        </p:nvSpPr>
        <p:spPr>
          <a:xfrm>
            <a:off x="335160" y="135000"/>
            <a:ext cx="293148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derberg e Zin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95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Rectangle 1037"/>
          <p:cNvSpPr/>
          <p:nvPr/>
        </p:nvSpPr>
        <p:spPr>
          <a:xfrm>
            <a:off x="2476440" y="1015920"/>
            <a:ext cx="36828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2" name="Picture 2" descr=""/>
          <p:cNvPicPr/>
          <p:nvPr/>
        </p:nvPicPr>
        <p:blipFill>
          <a:blip r:embed="rId1"/>
          <a:stretch/>
        </p:blipFill>
        <p:spPr>
          <a:xfrm>
            <a:off x="1569960" y="596880"/>
            <a:ext cx="5627880" cy="6147000"/>
          </a:xfrm>
          <a:prstGeom prst="rect">
            <a:avLst/>
          </a:prstGeom>
          <a:ln w="0">
            <a:noFill/>
          </a:ln>
        </p:spPr>
      </p:pic>
      <p:sp>
        <p:nvSpPr>
          <p:cNvPr id="1273" name="Rectangle 3"/>
          <p:cNvSpPr/>
          <p:nvPr/>
        </p:nvSpPr>
        <p:spPr>
          <a:xfrm>
            <a:off x="5033880" y="2271600"/>
            <a:ext cx="1917720" cy="22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Rectangle 4"/>
          <p:cNvSpPr/>
          <p:nvPr/>
        </p:nvSpPr>
        <p:spPr>
          <a:xfrm>
            <a:off x="5403960" y="1822320"/>
            <a:ext cx="1057320" cy="1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Rectangle 5"/>
          <p:cNvSpPr/>
          <p:nvPr/>
        </p:nvSpPr>
        <p:spPr>
          <a:xfrm>
            <a:off x="5424480" y="3527280"/>
            <a:ext cx="1057320" cy="1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Rectangle 6"/>
          <p:cNvSpPr/>
          <p:nvPr/>
        </p:nvSpPr>
        <p:spPr>
          <a:xfrm>
            <a:off x="5419800" y="4397400"/>
            <a:ext cx="1057320" cy="18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Rectangle 7"/>
          <p:cNvSpPr/>
          <p:nvPr/>
        </p:nvSpPr>
        <p:spPr>
          <a:xfrm>
            <a:off x="5376960" y="4941720"/>
            <a:ext cx="1057320" cy="2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Rectangle 8"/>
          <p:cNvSpPr/>
          <p:nvPr/>
        </p:nvSpPr>
        <p:spPr>
          <a:xfrm>
            <a:off x="5372280" y="6373800"/>
            <a:ext cx="1056960" cy="1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Text Box 9"/>
          <p:cNvSpPr/>
          <p:nvPr/>
        </p:nvSpPr>
        <p:spPr>
          <a:xfrm>
            <a:off x="6430680" y="130824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Text Box 10"/>
          <p:cNvSpPr/>
          <p:nvPr/>
        </p:nvSpPr>
        <p:spPr>
          <a:xfrm>
            <a:off x="6408720" y="194328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Text Box 11"/>
          <p:cNvSpPr/>
          <p:nvPr/>
        </p:nvSpPr>
        <p:spPr>
          <a:xfrm>
            <a:off x="6393960" y="27478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Text Box 12"/>
          <p:cNvSpPr/>
          <p:nvPr/>
        </p:nvSpPr>
        <p:spPr>
          <a:xfrm>
            <a:off x="6360480" y="3865680"/>
            <a:ext cx="21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uaina elicoid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Text Box 13"/>
          <p:cNvSpPr/>
          <p:nvPr/>
        </p:nvSpPr>
        <p:spPr>
          <a:xfrm>
            <a:off x="6404040" y="455292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astra bas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Text Box 14"/>
          <p:cNvSpPr/>
          <p:nvPr/>
        </p:nvSpPr>
        <p:spPr>
          <a:xfrm>
            <a:off x="6757200" y="539748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bre caudal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Rectangle 15"/>
          <p:cNvSpPr/>
          <p:nvPr/>
        </p:nvSpPr>
        <p:spPr>
          <a:xfrm>
            <a:off x="4838760" y="773280"/>
            <a:ext cx="215424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200240" y="1219320"/>
            <a:ext cx="6743520" cy="5057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662400" y="274680"/>
            <a:ext cx="77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Scivolamento dello schema di lettura (frameshif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6" name="Group 365"/>
          <p:cNvGrpSpPr/>
          <p:nvPr/>
        </p:nvGrpSpPr>
        <p:grpSpPr>
          <a:xfrm>
            <a:off x="2803680" y="4051440"/>
            <a:ext cx="3493800" cy="2599920"/>
            <a:chOff x="2803680" y="4051440"/>
            <a:chExt cx="3493800" cy="2599920"/>
          </a:xfrm>
        </p:grpSpPr>
        <p:sp>
          <p:nvSpPr>
            <p:cNvPr id="1287" name="AutoShape 2"/>
            <p:cNvSpPr/>
            <p:nvPr/>
          </p:nvSpPr>
          <p:spPr>
            <a:xfrm>
              <a:off x="2803680" y="4051440"/>
              <a:ext cx="3493800" cy="169236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AutoShape 3"/>
            <p:cNvSpPr/>
            <p:nvPr/>
          </p:nvSpPr>
          <p:spPr>
            <a:xfrm>
              <a:off x="2898000" y="4145400"/>
              <a:ext cx="3292920" cy="150264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AutoShape 4"/>
            <p:cNvSpPr/>
            <p:nvPr/>
          </p:nvSpPr>
          <p:spPr>
            <a:xfrm>
              <a:off x="2939040" y="4179240"/>
              <a:ext cx="3218400" cy="143532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90" name="Group 5"/>
            <p:cNvGrpSpPr/>
            <p:nvPr/>
          </p:nvGrpSpPr>
          <p:grpSpPr>
            <a:xfrm>
              <a:off x="3219480" y="4889160"/>
              <a:ext cx="363600" cy="360000"/>
              <a:chOff x="3219480" y="4889160"/>
              <a:chExt cx="363600" cy="360000"/>
            </a:xfrm>
          </p:grpSpPr>
          <p:sp>
            <p:nvSpPr>
              <p:cNvPr id="1291" name="Oval 6"/>
              <p:cNvSpPr/>
              <p:nvPr/>
            </p:nvSpPr>
            <p:spPr>
              <a:xfrm>
                <a:off x="3368880" y="513072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2" name="Rectangle 7"/>
              <p:cNvSpPr/>
              <p:nvPr/>
            </p:nvSpPr>
            <p:spPr>
              <a:xfrm>
                <a:off x="3381480" y="502272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3" name="Oval 8"/>
              <p:cNvSpPr/>
              <p:nvPr/>
            </p:nvSpPr>
            <p:spPr>
              <a:xfrm>
                <a:off x="3376800" y="501696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4" name="AutoShape 9"/>
              <p:cNvSpPr/>
              <p:nvPr/>
            </p:nvSpPr>
            <p:spPr>
              <a:xfrm rot="16200000">
                <a:off x="3332160" y="488808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95" name="Group 10"/>
              <p:cNvGrpSpPr/>
              <p:nvPr/>
            </p:nvGrpSpPr>
            <p:grpSpPr>
              <a:xfrm>
                <a:off x="3436560" y="5081400"/>
                <a:ext cx="61920" cy="70560"/>
                <a:chOff x="3436560" y="5081400"/>
                <a:chExt cx="61920" cy="70560"/>
              </a:xfrm>
            </p:grpSpPr>
            <p:sp>
              <p:nvSpPr>
                <p:cNvPr id="1296" name="Line 11"/>
                <p:cNvSpPr/>
                <p:nvPr/>
              </p:nvSpPr>
              <p:spPr>
                <a:xfrm flipV="1">
                  <a:off x="3436560" y="508392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7" name="Line 12"/>
                <p:cNvSpPr/>
                <p:nvPr/>
              </p:nvSpPr>
              <p:spPr>
                <a:xfrm>
                  <a:off x="3478320" y="508140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98" name="Line 13"/>
              <p:cNvSpPr/>
              <p:nvPr/>
            </p:nvSpPr>
            <p:spPr>
              <a:xfrm flipV="1">
                <a:off x="3435840" y="5126040"/>
                <a:ext cx="11088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9" name="Line 14"/>
              <p:cNvSpPr/>
              <p:nvPr/>
            </p:nvSpPr>
            <p:spPr>
              <a:xfrm>
                <a:off x="3537720" y="512604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0" name="Line 15"/>
              <p:cNvSpPr/>
              <p:nvPr/>
            </p:nvSpPr>
            <p:spPr>
              <a:xfrm>
                <a:off x="3423600" y="514980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1" name="Line 16"/>
              <p:cNvSpPr/>
              <p:nvPr/>
            </p:nvSpPr>
            <p:spPr>
              <a:xfrm>
                <a:off x="3459960" y="516744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02" name="Group 17"/>
              <p:cNvGrpSpPr/>
              <p:nvPr/>
            </p:nvGrpSpPr>
            <p:grpSpPr>
              <a:xfrm>
                <a:off x="3219480" y="5079960"/>
                <a:ext cx="159120" cy="167760"/>
                <a:chOff x="3219480" y="5079960"/>
                <a:chExt cx="159120" cy="167760"/>
              </a:xfrm>
            </p:grpSpPr>
            <p:grpSp>
              <p:nvGrpSpPr>
                <p:cNvPr id="1303" name="Group 18"/>
                <p:cNvGrpSpPr/>
                <p:nvPr/>
              </p:nvGrpSpPr>
              <p:grpSpPr>
                <a:xfrm>
                  <a:off x="3303360" y="5079960"/>
                  <a:ext cx="62280" cy="70560"/>
                  <a:chOff x="3303360" y="5079960"/>
                  <a:chExt cx="62280" cy="70560"/>
                </a:xfrm>
              </p:grpSpPr>
              <p:sp>
                <p:nvSpPr>
                  <p:cNvPr id="1304" name="Line 19"/>
                  <p:cNvSpPr/>
                  <p:nvPr/>
                </p:nvSpPr>
                <p:spPr>
                  <a:xfrm flipH="1" flipV="1">
                    <a:off x="3324960" y="508248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05" name="Line 20"/>
                  <p:cNvSpPr/>
                  <p:nvPr/>
                </p:nvSpPr>
                <p:spPr>
                  <a:xfrm flipH="1">
                    <a:off x="3303360" y="507996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306" name="Line 21"/>
                <p:cNvSpPr/>
                <p:nvPr/>
              </p:nvSpPr>
              <p:spPr>
                <a:xfrm flipH="1" flipV="1">
                  <a:off x="3256200" y="512460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7" name="Line 22"/>
                <p:cNvSpPr/>
                <p:nvPr/>
              </p:nvSpPr>
              <p:spPr>
                <a:xfrm flipH="1">
                  <a:off x="3219480" y="5124600"/>
                  <a:ext cx="44640" cy="6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8" name="Line 23"/>
                <p:cNvSpPr/>
                <p:nvPr/>
              </p:nvSpPr>
              <p:spPr>
                <a:xfrm flipH="1">
                  <a:off x="3337920" y="514908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9" name="Line 24"/>
                <p:cNvSpPr/>
                <p:nvPr/>
              </p:nvSpPr>
              <p:spPr>
                <a:xfrm flipH="1">
                  <a:off x="3318120" y="5166720"/>
                  <a:ext cx="24120" cy="8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10" name="Freeform 25"/>
            <p:cNvSpPr/>
            <p:nvPr/>
          </p:nvSpPr>
          <p:spPr>
            <a:xfrm>
              <a:off x="3182040" y="5293440"/>
              <a:ext cx="3112920" cy="135792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1357920"/>
                <a:gd name="textAreaBottom" fmla="*/ 1358280 h 1357920"/>
              </a:gdLst>
              <a:ahLst/>
              <a:rect l="textAreaLeft" t="textAreaTop" r="textAreaRight" b="textAreaBottom"/>
              <a:pathLst>
                <a:path w="2806" h="1210">
                  <a:moveTo>
                    <a:pt x="165" y="193"/>
                  </a:moveTo>
                  <a:cubicBezTo>
                    <a:pt x="192" y="246"/>
                    <a:pt x="205" y="287"/>
                    <a:pt x="261" y="306"/>
                  </a:cubicBezTo>
                  <a:cubicBezTo>
                    <a:pt x="272" y="341"/>
                    <a:pt x="285" y="375"/>
                    <a:pt x="295" y="410"/>
                  </a:cubicBezTo>
                  <a:cubicBezTo>
                    <a:pt x="305" y="445"/>
                    <a:pt x="322" y="515"/>
                    <a:pt x="322" y="515"/>
                  </a:cubicBezTo>
                  <a:cubicBezTo>
                    <a:pt x="305" y="565"/>
                    <a:pt x="326" y="519"/>
                    <a:pt x="278" y="567"/>
                  </a:cubicBezTo>
                  <a:cubicBezTo>
                    <a:pt x="214" y="631"/>
                    <a:pt x="287" y="579"/>
                    <a:pt x="226" y="619"/>
                  </a:cubicBezTo>
                  <a:cubicBezTo>
                    <a:pt x="193" y="665"/>
                    <a:pt x="162" y="711"/>
                    <a:pt x="130" y="758"/>
                  </a:cubicBezTo>
                  <a:cubicBezTo>
                    <a:pt x="118" y="775"/>
                    <a:pt x="107" y="793"/>
                    <a:pt x="95" y="810"/>
                  </a:cubicBezTo>
                  <a:cubicBezTo>
                    <a:pt x="89" y="819"/>
                    <a:pt x="78" y="836"/>
                    <a:pt x="78" y="836"/>
                  </a:cubicBezTo>
                  <a:cubicBezTo>
                    <a:pt x="68" y="885"/>
                    <a:pt x="62" y="933"/>
                    <a:pt x="35" y="975"/>
                  </a:cubicBezTo>
                  <a:cubicBezTo>
                    <a:pt x="48" y="1020"/>
                    <a:pt x="29" y="1023"/>
                    <a:pt x="0" y="1054"/>
                  </a:cubicBezTo>
                  <a:cubicBezTo>
                    <a:pt x="17" y="1108"/>
                    <a:pt x="53" y="1073"/>
                    <a:pt x="95" y="1062"/>
                  </a:cubicBezTo>
                  <a:cubicBezTo>
                    <a:pt x="156" y="1023"/>
                    <a:pt x="128" y="1035"/>
                    <a:pt x="174" y="1019"/>
                  </a:cubicBezTo>
                  <a:cubicBezTo>
                    <a:pt x="242" y="1034"/>
                    <a:pt x="308" y="1049"/>
                    <a:pt x="374" y="1071"/>
                  </a:cubicBezTo>
                  <a:cubicBezTo>
                    <a:pt x="436" y="1058"/>
                    <a:pt x="494" y="1038"/>
                    <a:pt x="556" y="1028"/>
                  </a:cubicBezTo>
                  <a:cubicBezTo>
                    <a:pt x="626" y="1004"/>
                    <a:pt x="702" y="1001"/>
                    <a:pt x="774" y="1019"/>
                  </a:cubicBezTo>
                  <a:cubicBezTo>
                    <a:pt x="894" y="1119"/>
                    <a:pt x="964" y="1184"/>
                    <a:pt x="1122" y="1210"/>
                  </a:cubicBezTo>
                  <a:cubicBezTo>
                    <a:pt x="1140" y="1196"/>
                    <a:pt x="1164" y="1187"/>
                    <a:pt x="1174" y="1167"/>
                  </a:cubicBezTo>
                  <a:cubicBezTo>
                    <a:pt x="1185" y="1145"/>
                    <a:pt x="1233" y="999"/>
                    <a:pt x="1235" y="993"/>
                  </a:cubicBezTo>
                  <a:cubicBezTo>
                    <a:pt x="1241" y="976"/>
                    <a:pt x="1270" y="981"/>
                    <a:pt x="1287" y="975"/>
                  </a:cubicBezTo>
                  <a:cubicBezTo>
                    <a:pt x="1305" y="957"/>
                    <a:pt x="1336" y="919"/>
                    <a:pt x="1365" y="906"/>
                  </a:cubicBezTo>
                  <a:cubicBezTo>
                    <a:pt x="1382" y="898"/>
                    <a:pt x="1417" y="888"/>
                    <a:pt x="1417" y="888"/>
                  </a:cubicBezTo>
                  <a:cubicBezTo>
                    <a:pt x="1476" y="890"/>
                    <a:pt x="1657" y="891"/>
                    <a:pt x="1748" y="906"/>
                  </a:cubicBezTo>
                  <a:cubicBezTo>
                    <a:pt x="1799" y="914"/>
                    <a:pt x="1854" y="947"/>
                    <a:pt x="1904" y="958"/>
                  </a:cubicBezTo>
                  <a:cubicBezTo>
                    <a:pt x="1974" y="973"/>
                    <a:pt x="2026" y="977"/>
                    <a:pt x="2096" y="984"/>
                  </a:cubicBezTo>
                  <a:cubicBezTo>
                    <a:pt x="2132" y="961"/>
                    <a:pt x="2150" y="910"/>
                    <a:pt x="2191" y="897"/>
                  </a:cubicBezTo>
                  <a:cubicBezTo>
                    <a:pt x="2208" y="891"/>
                    <a:pt x="2226" y="886"/>
                    <a:pt x="2243" y="880"/>
                  </a:cubicBezTo>
                  <a:cubicBezTo>
                    <a:pt x="2279" y="844"/>
                    <a:pt x="2343" y="853"/>
                    <a:pt x="2391" y="836"/>
                  </a:cubicBezTo>
                  <a:cubicBezTo>
                    <a:pt x="2437" y="839"/>
                    <a:pt x="2484" y="845"/>
                    <a:pt x="2530" y="845"/>
                  </a:cubicBezTo>
                  <a:cubicBezTo>
                    <a:pt x="2633" y="845"/>
                    <a:pt x="2637" y="818"/>
                    <a:pt x="2704" y="862"/>
                  </a:cubicBezTo>
                  <a:cubicBezTo>
                    <a:pt x="2768" y="847"/>
                    <a:pt x="2763" y="828"/>
                    <a:pt x="2774" y="767"/>
                  </a:cubicBezTo>
                  <a:cubicBezTo>
                    <a:pt x="2778" y="714"/>
                    <a:pt x="2806" y="487"/>
                    <a:pt x="2757" y="462"/>
                  </a:cubicBezTo>
                  <a:cubicBezTo>
                    <a:pt x="2729" y="448"/>
                    <a:pt x="2647" y="440"/>
                    <a:pt x="2617" y="436"/>
                  </a:cubicBezTo>
                  <a:cubicBezTo>
                    <a:pt x="2547" y="413"/>
                    <a:pt x="2481" y="394"/>
                    <a:pt x="2409" y="375"/>
                  </a:cubicBezTo>
                  <a:cubicBezTo>
                    <a:pt x="2389" y="355"/>
                    <a:pt x="2360" y="334"/>
                    <a:pt x="2348" y="306"/>
                  </a:cubicBezTo>
                  <a:cubicBezTo>
                    <a:pt x="2330" y="266"/>
                    <a:pt x="2310" y="201"/>
                    <a:pt x="2261" y="184"/>
                  </a:cubicBezTo>
                  <a:cubicBezTo>
                    <a:pt x="2188" y="160"/>
                    <a:pt x="2157" y="158"/>
                    <a:pt x="2087" y="149"/>
                  </a:cubicBezTo>
                  <a:cubicBezTo>
                    <a:pt x="1955" y="108"/>
                    <a:pt x="1729" y="125"/>
                    <a:pt x="1635" y="123"/>
                  </a:cubicBezTo>
                  <a:cubicBezTo>
                    <a:pt x="1316" y="105"/>
                    <a:pt x="996" y="57"/>
                    <a:pt x="678" y="28"/>
                  </a:cubicBezTo>
                  <a:cubicBezTo>
                    <a:pt x="570" y="0"/>
                    <a:pt x="434" y="30"/>
                    <a:pt x="322" y="36"/>
                  </a:cubicBezTo>
                  <a:cubicBezTo>
                    <a:pt x="255" y="45"/>
                    <a:pt x="234" y="43"/>
                    <a:pt x="191" y="89"/>
                  </a:cubicBezTo>
                  <a:cubicBezTo>
                    <a:pt x="176" y="146"/>
                    <a:pt x="185" y="112"/>
                    <a:pt x="165" y="193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11" name="Group 26"/>
            <p:cNvGrpSpPr/>
            <p:nvPr/>
          </p:nvGrpSpPr>
          <p:grpSpPr>
            <a:xfrm>
              <a:off x="3668760" y="4474440"/>
              <a:ext cx="390240" cy="382680"/>
              <a:chOff x="3668760" y="4474440"/>
              <a:chExt cx="390240" cy="382680"/>
            </a:xfrm>
          </p:grpSpPr>
          <p:sp>
            <p:nvSpPr>
              <p:cNvPr id="1312" name="Oval 27"/>
              <p:cNvSpPr/>
              <p:nvPr/>
            </p:nvSpPr>
            <p:spPr>
              <a:xfrm rot="3058800">
                <a:off x="3785400" y="467604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3" name="Rectangle 28"/>
              <p:cNvSpPr/>
              <p:nvPr/>
            </p:nvSpPr>
            <p:spPr>
              <a:xfrm rot="3058800">
                <a:off x="3843720" y="459144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4" name="Oval 29"/>
              <p:cNvSpPr/>
              <p:nvPr/>
            </p:nvSpPr>
            <p:spPr>
              <a:xfrm rot="3058800">
                <a:off x="3880080" y="460656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5" name="AutoShape 30"/>
              <p:cNvSpPr/>
              <p:nvPr/>
            </p:nvSpPr>
            <p:spPr>
              <a:xfrm rot="19258800">
                <a:off x="3887640" y="4502160"/>
                <a:ext cx="140760" cy="14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16" name="Group 31"/>
              <p:cNvGrpSpPr/>
              <p:nvPr/>
            </p:nvGrpSpPr>
            <p:grpSpPr>
              <a:xfrm>
                <a:off x="3841200" y="4709520"/>
                <a:ext cx="72000" cy="59760"/>
                <a:chOff x="3841200" y="4709520"/>
                <a:chExt cx="72000" cy="59760"/>
              </a:xfrm>
            </p:grpSpPr>
            <p:sp>
              <p:nvSpPr>
                <p:cNvPr id="1317" name="Line 32"/>
                <p:cNvSpPr/>
                <p:nvPr/>
              </p:nvSpPr>
              <p:spPr>
                <a:xfrm flipV="1">
                  <a:off x="3841200" y="4710240"/>
                  <a:ext cx="69120" cy="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8" name="Line 33"/>
                <p:cNvSpPr/>
                <p:nvPr/>
              </p:nvSpPr>
              <p:spPr>
                <a:xfrm flipH="1">
                  <a:off x="3871800" y="4709520"/>
                  <a:ext cx="41400" cy="5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19" name="Line 34"/>
              <p:cNvSpPr/>
              <p:nvPr/>
            </p:nvSpPr>
            <p:spPr>
              <a:xfrm>
                <a:off x="3836520" y="4716360"/>
                <a:ext cx="860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0" name="Line 35"/>
              <p:cNvSpPr/>
              <p:nvPr/>
            </p:nvSpPr>
            <p:spPr>
              <a:xfrm flipH="1">
                <a:off x="3900240" y="4784400"/>
                <a:ext cx="16560" cy="72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1" name="Line 36"/>
              <p:cNvSpPr/>
              <p:nvPr/>
            </p:nvSpPr>
            <p:spPr>
              <a:xfrm>
                <a:off x="3825720" y="4709160"/>
                <a:ext cx="972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2" name="Line 37"/>
              <p:cNvSpPr/>
              <p:nvPr/>
            </p:nvSpPr>
            <p:spPr>
              <a:xfrm flipH="1">
                <a:off x="3787560" y="4748760"/>
                <a:ext cx="47520" cy="7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23" name="Group 38"/>
              <p:cNvGrpSpPr/>
              <p:nvPr/>
            </p:nvGrpSpPr>
            <p:grpSpPr>
              <a:xfrm>
                <a:off x="3668760" y="4561560"/>
                <a:ext cx="146880" cy="126000"/>
                <a:chOff x="3668760" y="4561560"/>
                <a:chExt cx="146880" cy="126000"/>
              </a:xfrm>
            </p:grpSpPr>
            <p:grpSp>
              <p:nvGrpSpPr>
                <p:cNvPr id="1324" name="Group 39"/>
                <p:cNvGrpSpPr/>
                <p:nvPr/>
              </p:nvGrpSpPr>
              <p:grpSpPr>
                <a:xfrm>
                  <a:off x="3748680" y="4587120"/>
                  <a:ext cx="66960" cy="69840"/>
                  <a:chOff x="3748680" y="4587120"/>
                  <a:chExt cx="66960" cy="69840"/>
                </a:xfrm>
              </p:grpSpPr>
              <p:sp>
                <p:nvSpPr>
                  <p:cNvPr id="1325" name="Line 40"/>
                  <p:cNvSpPr/>
                  <p:nvPr/>
                </p:nvSpPr>
                <p:spPr>
                  <a:xfrm flipV="1">
                    <a:off x="3797280" y="4590000"/>
                    <a:ext cx="17640" cy="66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26" name="Line 41"/>
                  <p:cNvSpPr/>
                  <p:nvPr/>
                </p:nvSpPr>
                <p:spPr>
                  <a:xfrm flipH="1">
                    <a:off x="3748680" y="4587120"/>
                    <a:ext cx="66960" cy="28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327" name="Line 42"/>
                <p:cNvSpPr/>
                <p:nvPr/>
              </p:nvSpPr>
              <p:spPr>
                <a:xfrm flipH="1" flipV="1">
                  <a:off x="3738600" y="4561560"/>
                  <a:ext cx="54360" cy="100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8" name="Line 43"/>
                <p:cNvSpPr/>
                <p:nvPr/>
              </p:nvSpPr>
              <p:spPr>
                <a:xfrm flipH="1">
                  <a:off x="3668760" y="4567680"/>
                  <a:ext cx="74880" cy="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9" name="Line 44"/>
                <p:cNvSpPr/>
                <p:nvPr/>
              </p:nvSpPr>
              <p:spPr>
                <a:xfrm flipH="1" flipV="1">
                  <a:off x="3755880" y="4654440"/>
                  <a:ext cx="41760" cy="19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0" name="Line 45"/>
                <p:cNvSpPr/>
                <p:nvPr/>
              </p:nvSpPr>
              <p:spPr>
                <a:xfrm flipH="1">
                  <a:off x="3683160" y="4656240"/>
                  <a:ext cx="77760" cy="31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331" name="Group 46"/>
            <p:cNvGrpSpPr/>
            <p:nvPr/>
          </p:nvGrpSpPr>
          <p:grpSpPr>
            <a:xfrm>
              <a:off x="3481200" y="5115240"/>
              <a:ext cx="363600" cy="360000"/>
              <a:chOff x="3481200" y="5115240"/>
              <a:chExt cx="363600" cy="360000"/>
            </a:xfrm>
          </p:grpSpPr>
          <p:sp>
            <p:nvSpPr>
              <p:cNvPr id="1332" name="Oval 47"/>
              <p:cNvSpPr/>
              <p:nvPr/>
            </p:nvSpPr>
            <p:spPr>
              <a:xfrm>
                <a:off x="3630600" y="535644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3" name="Rectangle 48"/>
              <p:cNvSpPr/>
              <p:nvPr/>
            </p:nvSpPr>
            <p:spPr>
              <a:xfrm>
                <a:off x="3643200" y="524844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4" name="Oval 49"/>
              <p:cNvSpPr/>
              <p:nvPr/>
            </p:nvSpPr>
            <p:spPr>
              <a:xfrm>
                <a:off x="3638520" y="524304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5" name="AutoShape 50"/>
              <p:cNvSpPr/>
              <p:nvPr/>
            </p:nvSpPr>
            <p:spPr>
              <a:xfrm rot="16200000">
                <a:off x="3593880" y="5114520"/>
                <a:ext cx="14256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36" name="Group 51"/>
              <p:cNvGrpSpPr/>
              <p:nvPr/>
            </p:nvGrpSpPr>
            <p:grpSpPr>
              <a:xfrm>
                <a:off x="3698280" y="5307120"/>
                <a:ext cx="61920" cy="70560"/>
                <a:chOff x="3698280" y="5307120"/>
                <a:chExt cx="61920" cy="70560"/>
              </a:xfrm>
            </p:grpSpPr>
            <p:sp>
              <p:nvSpPr>
                <p:cNvPr id="1337" name="Line 52"/>
                <p:cNvSpPr/>
                <p:nvPr/>
              </p:nvSpPr>
              <p:spPr>
                <a:xfrm flipV="1">
                  <a:off x="3698280" y="530964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8" name="Line 53"/>
                <p:cNvSpPr/>
                <p:nvPr/>
              </p:nvSpPr>
              <p:spPr>
                <a:xfrm>
                  <a:off x="3740040" y="530712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39" name="Line 54"/>
              <p:cNvSpPr/>
              <p:nvPr/>
            </p:nvSpPr>
            <p:spPr>
              <a:xfrm flipV="1">
                <a:off x="3697560" y="5352120"/>
                <a:ext cx="11088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0" name="Line 55"/>
              <p:cNvSpPr/>
              <p:nvPr/>
            </p:nvSpPr>
            <p:spPr>
              <a:xfrm>
                <a:off x="3799440" y="535212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1" name="Line 56"/>
              <p:cNvSpPr/>
              <p:nvPr/>
            </p:nvSpPr>
            <p:spPr>
              <a:xfrm>
                <a:off x="3685320" y="537552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2" name="Line 57"/>
              <p:cNvSpPr/>
              <p:nvPr/>
            </p:nvSpPr>
            <p:spPr>
              <a:xfrm>
                <a:off x="3721680" y="539352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43" name="Group 58"/>
              <p:cNvGrpSpPr/>
              <p:nvPr/>
            </p:nvGrpSpPr>
            <p:grpSpPr>
              <a:xfrm>
                <a:off x="3481200" y="5306040"/>
                <a:ext cx="159120" cy="168480"/>
                <a:chOff x="3481200" y="5306040"/>
                <a:chExt cx="159120" cy="168480"/>
              </a:xfrm>
            </p:grpSpPr>
            <p:grpSp>
              <p:nvGrpSpPr>
                <p:cNvPr id="1344" name="Group 59"/>
                <p:cNvGrpSpPr/>
                <p:nvPr/>
              </p:nvGrpSpPr>
              <p:grpSpPr>
                <a:xfrm>
                  <a:off x="3565080" y="5306040"/>
                  <a:ext cx="62280" cy="70560"/>
                  <a:chOff x="3565080" y="5306040"/>
                  <a:chExt cx="62280" cy="70560"/>
                </a:xfrm>
              </p:grpSpPr>
              <p:sp>
                <p:nvSpPr>
                  <p:cNvPr id="1345" name="Line 60"/>
                  <p:cNvSpPr/>
                  <p:nvPr/>
                </p:nvSpPr>
                <p:spPr>
                  <a:xfrm flipH="1" flipV="1">
                    <a:off x="3586680" y="530856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46" name="Line 61"/>
                  <p:cNvSpPr/>
                  <p:nvPr/>
                </p:nvSpPr>
                <p:spPr>
                  <a:xfrm flipH="1">
                    <a:off x="3565080" y="530604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347" name="Line 62"/>
                <p:cNvSpPr/>
                <p:nvPr/>
              </p:nvSpPr>
              <p:spPr>
                <a:xfrm flipH="1" flipV="1">
                  <a:off x="3517920" y="535068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8" name="Line 63"/>
                <p:cNvSpPr/>
                <p:nvPr/>
              </p:nvSpPr>
              <p:spPr>
                <a:xfrm flipH="1">
                  <a:off x="3481200" y="5350680"/>
                  <a:ext cx="44640" cy="6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9" name="Line 64"/>
                <p:cNvSpPr/>
                <p:nvPr/>
              </p:nvSpPr>
              <p:spPr>
                <a:xfrm flipH="1">
                  <a:off x="3599640" y="537552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0" name="Line 65"/>
                <p:cNvSpPr/>
                <p:nvPr/>
              </p:nvSpPr>
              <p:spPr>
                <a:xfrm flipH="1">
                  <a:off x="3579840" y="5393160"/>
                  <a:ext cx="2412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351" name="Group 66"/>
            <p:cNvGrpSpPr/>
            <p:nvPr/>
          </p:nvGrpSpPr>
          <p:grpSpPr>
            <a:xfrm>
              <a:off x="3722040" y="5456160"/>
              <a:ext cx="363240" cy="360000"/>
              <a:chOff x="3722040" y="5456160"/>
              <a:chExt cx="363240" cy="360000"/>
            </a:xfrm>
          </p:grpSpPr>
          <p:sp>
            <p:nvSpPr>
              <p:cNvPr id="1352" name="Oval 67"/>
              <p:cNvSpPr/>
              <p:nvPr/>
            </p:nvSpPr>
            <p:spPr>
              <a:xfrm>
                <a:off x="3871440" y="569772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3" name="Rectangle 68"/>
              <p:cNvSpPr/>
              <p:nvPr/>
            </p:nvSpPr>
            <p:spPr>
              <a:xfrm>
                <a:off x="3883680" y="558972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4" name="Oval 69"/>
              <p:cNvSpPr/>
              <p:nvPr/>
            </p:nvSpPr>
            <p:spPr>
              <a:xfrm>
                <a:off x="3879360" y="558396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5" name="AutoShape 70"/>
              <p:cNvSpPr/>
              <p:nvPr/>
            </p:nvSpPr>
            <p:spPr>
              <a:xfrm rot="16200000">
                <a:off x="3834720" y="545508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56" name="Group 71"/>
              <p:cNvGrpSpPr/>
              <p:nvPr/>
            </p:nvGrpSpPr>
            <p:grpSpPr>
              <a:xfrm>
                <a:off x="3939120" y="5648400"/>
                <a:ext cx="61920" cy="70560"/>
                <a:chOff x="3939120" y="5648400"/>
                <a:chExt cx="61920" cy="70560"/>
              </a:xfrm>
            </p:grpSpPr>
            <p:sp>
              <p:nvSpPr>
                <p:cNvPr id="1357" name="Line 72"/>
                <p:cNvSpPr/>
                <p:nvPr/>
              </p:nvSpPr>
              <p:spPr>
                <a:xfrm flipV="1">
                  <a:off x="3939120" y="565092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8" name="Line 73"/>
                <p:cNvSpPr/>
                <p:nvPr/>
              </p:nvSpPr>
              <p:spPr>
                <a:xfrm>
                  <a:off x="3980880" y="564840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59" name="Line 74"/>
              <p:cNvSpPr/>
              <p:nvPr/>
            </p:nvSpPr>
            <p:spPr>
              <a:xfrm flipV="1">
                <a:off x="3938040" y="5693040"/>
                <a:ext cx="11052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0" name="Line 75"/>
              <p:cNvSpPr/>
              <p:nvPr/>
            </p:nvSpPr>
            <p:spPr>
              <a:xfrm>
                <a:off x="4039920" y="569304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1" name="Line 76"/>
              <p:cNvSpPr/>
              <p:nvPr/>
            </p:nvSpPr>
            <p:spPr>
              <a:xfrm>
                <a:off x="3925800" y="571680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2" name="Line 77"/>
              <p:cNvSpPr/>
              <p:nvPr/>
            </p:nvSpPr>
            <p:spPr>
              <a:xfrm>
                <a:off x="3962520" y="573444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63" name="Group 78"/>
              <p:cNvGrpSpPr/>
              <p:nvPr/>
            </p:nvGrpSpPr>
            <p:grpSpPr>
              <a:xfrm>
                <a:off x="3722040" y="5646960"/>
                <a:ext cx="159120" cy="167760"/>
                <a:chOff x="3722040" y="5646960"/>
                <a:chExt cx="159120" cy="167760"/>
              </a:xfrm>
            </p:grpSpPr>
            <p:grpSp>
              <p:nvGrpSpPr>
                <p:cNvPr id="1364" name="Group 79"/>
                <p:cNvGrpSpPr/>
                <p:nvPr/>
              </p:nvGrpSpPr>
              <p:grpSpPr>
                <a:xfrm>
                  <a:off x="3805920" y="5646960"/>
                  <a:ext cx="62280" cy="70560"/>
                  <a:chOff x="3805920" y="5646960"/>
                  <a:chExt cx="62280" cy="70560"/>
                </a:xfrm>
              </p:grpSpPr>
              <p:sp>
                <p:nvSpPr>
                  <p:cNvPr id="1365" name="Line 80"/>
                  <p:cNvSpPr/>
                  <p:nvPr/>
                </p:nvSpPr>
                <p:spPr>
                  <a:xfrm flipH="1" flipV="1">
                    <a:off x="3827520" y="564948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66" name="Line 81"/>
                  <p:cNvSpPr/>
                  <p:nvPr/>
                </p:nvSpPr>
                <p:spPr>
                  <a:xfrm flipH="1">
                    <a:off x="3805920" y="564696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367" name="Line 82"/>
                <p:cNvSpPr/>
                <p:nvPr/>
              </p:nvSpPr>
              <p:spPr>
                <a:xfrm flipH="1" flipV="1">
                  <a:off x="3758760" y="569160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8" name="Line 83"/>
                <p:cNvSpPr/>
                <p:nvPr/>
              </p:nvSpPr>
              <p:spPr>
                <a:xfrm flipH="1">
                  <a:off x="3722040" y="5691600"/>
                  <a:ext cx="44640" cy="6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9" name="Line 84"/>
                <p:cNvSpPr/>
                <p:nvPr/>
              </p:nvSpPr>
              <p:spPr>
                <a:xfrm flipH="1">
                  <a:off x="3840480" y="571608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70" name="Line 85"/>
                <p:cNvSpPr/>
                <p:nvPr/>
              </p:nvSpPr>
              <p:spPr>
                <a:xfrm flipH="1">
                  <a:off x="3820680" y="5733720"/>
                  <a:ext cx="24120" cy="8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371" name="Group 86"/>
            <p:cNvGrpSpPr/>
            <p:nvPr/>
          </p:nvGrpSpPr>
          <p:grpSpPr>
            <a:xfrm>
              <a:off x="4147200" y="4442760"/>
              <a:ext cx="363240" cy="360000"/>
              <a:chOff x="4147200" y="4442760"/>
              <a:chExt cx="363240" cy="360000"/>
            </a:xfrm>
          </p:grpSpPr>
          <p:sp>
            <p:nvSpPr>
              <p:cNvPr id="1372" name="Oval 87"/>
              <p:cNvSpPr/>
              <p:nvPr/>
            </p:nvSpPr>
            <p:spPr>
              <a:xfrm>
                <a:off x="4296600" y="468432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3" name="Rectangle 88"/>
              <p:cNvSpPr/>
              <p:nvPr/>
            </p:nvSpPr>
            <p:spPr>
              <a:xfrm>
                <a:off x="4308840" y="457632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4" name="Oval 89"/>
              <p:cNvSpPr/>
              <p:nvPr/>
            </p:nvSpPr>
            <p:spPr>
              <a:xfrm>
                <a:off x="4304520" y="457056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5" name="AutoShape 90"/>
              <p:cNvSpPr/>
              <p:nvPr/>
            </p:nvSpPr>
            <p:spPr>
              <a:xfrm rot="16200000">
                <a:off x="4259880" y="444168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76" name="Group 91"/>
              <p:cNvGrpSpPr/>
              <p:nvPr/>
            </p:nvGrpSpPr>
            <p:grpSpPr>
              <a:xfrm>
                <a:off x="4364280" y="4635000"/>
                <a:ext cx="61920" cy="70560"/>
                <a:chOff x="4364280" y="4635000"/>
                <a:chExt cx="61920" cy="70560"/>
              </a:xfrm>
            </p:grpSpPr>
            <p:sp>
              <p:nvSpPr>
                <p:cNvPr id="1377" name="Line 92"/>
                <p:cNvSpPr/>
                <p:nvPr/>
              </p:nvSpPr>
              <p:spPr>
                <a:xfrm flipV="1">
                  <a:off x="4364280" y="463752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78" name="Line 93"/>
                <p:cNvSpPr/>
                <p:nvPr/>
              </p:nvSpPr>
              <p:spPr>
                <a:xfrm>
                  <a:off x="4406040" y="463500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79" name="Line 94"/>
              <p:cNvSpPr/>
              <p:nvPr/>
            </p:nvSpPr>
            <p:spPr>
              <a:xfrm flipV="1">
                <a:off x="4363200" y="4679640"/>
                <a:ext cx="11052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0" name="Line 95"/>
              <p:cNvSpPr/>
              <p:nvPr/>
            </p:nvSpPr>
            <p:spPr>
              <a:xfrm>
                <a:off x="4465080" y="467964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1" name="Line 96"/>
              <p:cNvSpPr/>
              <p:nvPr/>
            </p:nvSpPr>
            <p:spPr>
              <a:xfrm>
                <a:off x="4350960" y="470340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2" name="Line 97"/>
              <p:cNvSpPr/>
              <p:nvPr/>
            </p:nvSpPr>
            <p:spPr>
              <a:xfrm>
                <a:off x="4387680" y="472104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83" name="Group 98"/>
              <p:cNvGrpSpPr/>
              <p:nvPr/>
            </p:nvGrpSpPr>
            <p:grpSpPr>
              <a:xfrm>
                <a:off x="4147200" y="4633560"/>
                <a:ext cx="159120" cy="167760"/>
                <a:chOff x="4147200" y="4633560"/>
                <a:chExt cx="159120" cy="167760"/>
              </a:xfrm>
            </p:grpSpPr>
            <p:grpSp>
              <p:nvGrpSpPr>
                <p:cNvPr id="1384" name="Group 99"/>
                <p:cNvGrpSpPr/>
                <p:nvPr/>
              </p:nvGrpSpPr>
              <p:grpSpPr>
                <a:xfrm>
                  <a:off x="4231080" y="4633560"/>
                  <a:ext cx="62280" cy="70560"/>
                  <a:chOff x="4231080" y="4633560"/>
                  <a:chExt cx="62280" cy="70560"/>
                </a:xfrm>
              </p:grpSpPr>
              <p:sp>
                <p:nvSpPr>
                  <p:cNvPr id="1385" name="Line 100"/>
                  <p:cNvSpPr/>
                  <p:nvPr/>
                </p:nvSpPr>
                <p:spPr>
                  <a:xfrm flipH="1" flipV="1">
                    <a:off x="4252680" y="463608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86" name="Line 101"/>
                  <p:cNvSpPr/>
                  <p:nvPr/>
                </p:nvSpPr>
                <p:spPr>
                  <a:xfrm flipH="1">
                    <a:off x="4231080" y="463356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387" name="Line 102"/>
                <p:cNvSpPr/>
                <p:nvPr/>
              </p:nvSpPr>
              <p:spPr>
                <a:xfrm flipH="1" flipV="1">
                  <a:off x="4183920" y="467820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8" name="Line 103"/>
                <p:cNvSpPr/>
                <p:nvPr/>
              </p:nvSpPr>
              <p:spPr>
                <a:xfrm flipH="1">
                  <a:off x="4147200" y="4678200"/>
                  <a:ext cx="44640" cy="6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9" name="Line 104"/>
                <p:cNvSpPr/>
                <p:nvPr/>
              </p:nvSpPr>
              <p:spPr>
                <a:xfrm flipH="1">
                  <a:off x="4265640" y="470268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0" name="Line 105"/>
                <p:cNvSpPr/>
                <p:nvPr/>
              </p:nvSpPr>
              <p:spPr>
                <a:xfrm flipH="1">
                  <a:off x="4245840" y="4720320"/>
                  <a:ext cx="24120" cy="8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391" name="Group 106"/>
            <p:cNvGrpSpPr/>
            <p:nvPr/>
          </p:nvGrpSpPr>
          <p:grpSpPr>
            <a:xfrm>
              <a:off x="4872600" y="4301640"/>
              <a:ext cx="356040" cy="390960"/>
              <a:chOff x="4872600" y="4301640"/>
              <a:chExt cx="356040" cy="390960"/>
            </a:xfrm>
          </p:grpSpPr>
          <p:sp>
            <p:nvSpPr>
              <p:cNvPr id="1392" name="Oval 107"/>
              <p:cNvSpPr/>
              <p:nvPr/>
            </p:nvSpPr>
            <p:spPr>
              <a:xfrm rot="20040000">
                <a:off x="5013000" y="454968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3" name="Rectangle 108"/>
              <p:cNvSpPr/>
              <p:nvPr/>
            </p:nvSpPr>
            <p:spPr>
              <a:xfrm rot="20040000">
                <a:off x="4999680" y="444744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4" name="Oval 109"/>
              <p:cNvSpPr/>
              <p:nvPr/>
            </p:nvSpPr>
            <p:spPr>
              <a:xfrm rot="20040000">
                <a:off x="4970880" y="444672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5" name="AutoShape 110"/>
              <p:cNvSpPr/>
              <p:nvPr/>
            </p:nvSpPr>
            <p:spPr>
              <a:xfrm rot="14640000">
                <a:off x="4897080" y="432468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96" name="Group 111"/>
              <p:cNvGrpSpPr/>
              <p:nvPr/>
            </p:nvGrpSpPr>
            <p:grpSpPr>
              <a:xfrm>
                <a:off x="5077080" y="4473000"/>
                <a:ext cx="60840" cy="71280"/>
                <a:chOff x="5077080" y="4473000"/>
                <a:chExt cx="60840" cy="71280"/>
              </a:xfrm>
            </p:grpSpPr>
            <p:sp>
              <p:nvSpPr>
                <p:cNvPr id="1397" name="Line 112"/>
                <p:cNvSpPr/>
                <p:nvPr/>
              </p:nvSpPr>
              <p:spPr>
                <a:xfrm flipV="1">
                  <a:off x="5077080" y="4475880"/>
                  <a:ext cx="1152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8" name="Line 113"/>
                <p:cNvSpPr/>
                <p:nvPr/>
              </p:nvSpPr>
              <p:spPr>
                <a:xfrm>
                  <a:off x="5088960" y="4473000"/>
                  <a:ext cx="48960" cy="5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99" name="Line 114"/>
              <p:cNvSpPr/>
              <p:nvPr/>
            </p:nvSpPr>
            <p:spPr>
              <a:xfrm flipV="1">
                <a:off x="5079240" y="4483080"/>
                <a:ext cx="90720" cy="6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0" name="Line 115"/>
              <p:cNvSpPr/>
              <p:nvPr/>
            </p:nvSpPr>
            <p:spPr>
              <a:xfrm>
                <a:off x="5161680" y="4487040"/>
                <a:ext cx="6696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1" name="Line 116"/>
              <p:cNvSpPr/>
              <p:nvPr/>
            </p:nvSpPr>
            <p:spPr>
              <a:xfrm>
                <a:off x="5069520" y="4558320"/>
                <a:ext cx="46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2" name="Line 117"/>
              <p:cNvSpPr/>
              <p:nvPr/>
            </p:nvSpPr>
            <p:spPr>
              <a:xfrm>
                <a:off x="5110200" y="4558320"/>
                <a:ext cx="57240" cy="6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03" name="Group 118"/>
              <p:cNvGrpSpPr/>
              <p:nvPr/>
            </p:nvGrpSpPr>
            <p:grpSpPr>
              <a:xfrm>
                <a:off x="4901400" y="4539600"/>
                <a:ext cx="127440" cy="153000"/>
                <a:chOff x="4901400" y="4539600"/>
                <a:chExt cx="127440" cy="153000"/>
              </a:xfrm>
            </p:grpSpPr>
            <p:grpSp>
              <p:nvGrpSpPr>
                <p:cNvPr id="1404" name="Group 119"/>
                <p:cNvGrpSpPr/>
                <p:nvPr/>
              </p:nvGrpSpPr>
              <p:grpSpPr>
                <a:xfrm>
                  <a:off x="4949280" y="4539600"/>
                  <a:ext cx="63720" cy="72000"/>
                  <a:chOff x="4949280" y="4539600"/>
                  <a:chExt cx="63720" cy="72000"/>
                </a:xfrm>
              </p:grpSpPr>
              <p:sp>
                <p:nvSpPr>
                  <p:cNvPr id="1405" name="Line 120"/>
                  <p:cNvSpPr/>
                  <p:nvPr/>
                </p:nvSpPr>
                <p:spPr>
                  <a:xfrm flipH="1" flipV="1">
                    <a:off x="4951440" y="4541040"/>
                    <a:ext cx="61560" cy="33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06" name="Line 121"/>
                  <p:cNvSpPr/>
                  <p:nvPr/>
                </p:nvSpPr>
                <p:spPr>
                  <a:xfrm>
                    <a:off x="4949280" y="4539600"/>
                    <a:ext cx="12600" cy="7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407" name="Line 122"/>
                <p:cNvSpPr/>
                <p:nvPr/>
              </p:nvSpPr>
              <p:spPr>
                <a:xfrm flipH="1">
                  <a:off x="4908240" y="4579560"/>
                  <a:ext cx="108360" cy="29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8" name="Line 123"/>
                <p:cNvSpPr/>
                <p:nvPr/>
              </p:nvSpPr>
              <p:spPr>
                <a:xfrm flipH="1">
                  <a:off x="4901400" y="4605840"/>
                  <a:ext cx="14040" cy="7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9" name="Line 124"/>
                <p:cNvSpPr/>
                <p:nvPr/>
              </p:nvSpPr>
              <p:spPr>
                <a:xfrm flipH="1">
                  <a:off x="5001480" y="4577400"/>
                  <a:ext cx="27360" cy="36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0" name="Line 125"/>
                <p:cNvSpPr/>
                <p:nvPr/>
              </p:nvSpPr>
              <p:spPr>
                <a:xfrm>
                  <a:off x="5004000" y="4609440"/>
                  <a:ext cx="13680" cy="83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411" name="Group 126"/>
            <p:cNvGrpSpPr/>
            <p:nvPr/>
          </p:nvGrpSpPr>
          <p:grpSpPr>
            <a:xfrm>
              <a:off x="5296320" y="4414680"/>
              <a:ext cx="363600" cy="360000"/>
              <a:chOff x="5296320" y="4414680"/>
              <a:chExt cx="363600" cy="360000"/>
            </a:xfrm>
          </p:grpSpPr>
          <p:sp>
            <p:nvSpPr>
              <p:cNvPr id="1412" name="Oval 127"/>
              <p:cNvSpPr/>
              <p:nvPr/>
            </p:nvSpPr>
            <p:spPr>
              <a:xfrm>
                <a:off x="5445720" y="465624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3" name="Rectangle 128"/>
              <p:cNvSpPr/>
              <p:nvPr/>
            </p:nvSpPr>
            <p:spPr>
              <a:xfrm>
                <a:off x="5458320" y="454824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4" name="Oval 129"/>
              <p:cNvSpPr/>
              <p:nvPr/>
            </p:nvSpPr>
            <p:spPr>
              <a:xfrm>
                <a:off x="5453640" y="454248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5" name="AutoShape 130"/>
              <p:cNvSpPr/>
              <p:nvPr/>
            </p:nvSpPr>
            <p:spPr>
              <a:xfrm rot="16200000">
                <a:off x="5409000" y="441360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16" name="Group 131"/>
              <p:cNvGrpSpPr/>
              <p:nvPr/>
            </p:nvGrpSpPr>
            <p:grpSpPr>
              <a:xfrm>
                <a:off x="5513400" y="4606920"/>
                <a:ext cx="61920" cy="70560"/>
                <a:chOff x="5513400" y="4606920"/>
                <a:chExt cx="61920" cy="70560"/>
              </a:xfrm>
            </p:grpSpPr>
            <p:sp>
              <p:nvSpPr>
                <p:cNvPr id="1417" name="Line 132"/>
                <p:cNvSpPr/>
                <p:nvPr/>
              </p:nvSpPr>
              <p:spPr>
                <a:xfrm flipV="1">
                  <a:off x="5513400" y="460944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8" name="Line 133"/>
                <p:cNvSpPr/>
                <p:nvPr/>
              </p:nvSpPr>
              <p:spPr>
                <a:xfrm>
                  <a:off x="5555160" y="460692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19" name="Line 134"/>
              <p:cNvSpPr/>
              <p:nvPr/>
            </p:nvSpPr>
            <p:spPr>
              <a:xfrm flipV="1">
                <a:off x="5512680" y="4651560"/>
                <a:ext cx="11088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0" name="Line 135"/>
              <p:cNvSpPr/>
              <p:nvPr/>
            </p:nvSpPr>
            <p:spPr>
              <a:xfrm>
                <a:off x="5614560" y="465156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1" name="Line 136"/>
              <p:cNvSpPr/>
              <p:nvPr/>
            </p:nvSpPr>
            <p:spPr>
              <a:xfrm>
                <a:off x="5500440" y="467532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2" name="Line 137"/>
              <p:cNvSpPr/>
              <p:nvPr/>
            </p:nvSpPr>
            <p:spPr>
              <a:xfrm>
                <a:off x="5536800" y="469296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23" name="Group 138"/>
              <p:cNvGrpSpPr/>
              <p:nvPr/>
            </p:nvGrpSpPr>
            <p:grpSpPr>
              <a:xfrm>
                <a:off x="5296320" y="4605480"/>
                <a:ext cx="159120" cy="167760"/>
                <a:chOff x="5296320" y="4605480"/>
                <a:chExt cx="159120" cy="167760"/>
              </a:xfrm>
            </p:grpSpPr>
            <p:grpSp>
              <p:nvGrpSpPr>
                <p:cNvPr id="1424" name="Group 139"/>
                <p:cNvGrpSpPr/>
                <p:nvPr/>
              </p:nvGrpSpPr>
              <p:grpSpPr>
                <a:xfrm>
                  <a:off x="5380200" y="4605480"/>
                  <a:ext cx="62280" cy="70560"/>
                  <a:chOff x="5380200" y="4605480"/>
                  <a:chExt cx="62280" cy="70560"/>
                </a:xfrm>
              </p:grpSpPr>
              <p:sp>
                <p:nvSpPr>
                  <p:cNvPr id="1425" name="Line 140"/>
                  <p:cNvSpPr/>
                  <p:nvPr/>
                </p:nvSpPr>
                <p:spPr>
                  <a:xfrm flipH="1" flipV="1">
                    <a:off x="5401800" y="460800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26" name="Line 141"/>
                  <p:cNvSpPr/>
                  <p:nvPr/>
                </p:nvSpPr>
                <p:spPr>
                  <a:xfrm flipH="1">
                    <a:off x="5380200" y="460548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427" name="Line 142"/>
                <p:cNvSpPr/>
                <p:nvPr/>
              </p:nvSpPr>
              <p:spPr>
                <a:xfrm flipH="1" flipV="1">
                  <a:off x="5333040" y="465012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28" name="Line 143"/>
                <p:cNvSpPr/>
                <p:nvPr/>
              </p:nvSpPr>
              <p:spPr>
                <a:xfrm flipH="1">
                  <a:off x="5296320" y="4650120"/>
                  <a:ext cx="44640" cy="6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29" name="Line 144"/>
                <p:cNvSpPr/>
                <p:nvPr/>
              </p:nvSpPr>
              <p:spPr>
                <a:xfrm flipH="1">
                  <a:off x="5414760" y="467460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30" name="Line 145"/>
                <p:cNvSpPr/>
                <p:nvPr/>
              </p:nvSpPr>
              <p:spPr>
                <a:xfrm flipH="1">
                  <a:off x="5394960" y="4692240"/>
                  <a:ext cx="24120" cy="8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431" name="Group 146"/>
            <p:cNvGrpSpPr/>
            <p:nvPr/>
          </p:nvGrpSpPr>
          <p:grpSpPr>
            <a:xfrm>
              <a:off x="4014000" y="4979160"/>
              <a:ext cx="363240" cy="360000"/>
              <a:chOff x="4014000" y="4979160"/>
              <a:chExt cx="363240" cy="360000"/>
            </a:xfrm>
          </p:grpSpPr>
          <p:sp>
            <p:nvSpPr>
              <p:cNvPr id="1432" name="Oval 147"/>
              <p:cNvSpPr/>
              <p:nvPr/>
            </p:nvSpPr>
            <p:spPr>
              <a:xfrm>
                <a:off x="4163400" y="522072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3" name="Rectangle 148"/>
              <p:cNvSpPr/>
              <p:nvPr/>
            </p:nvSpPr>
            <p:spPr>
              <a:xfrm>
                <a:off x="4175640" y="511272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4" name="Oval 149"/>
              <p:cNvSpPr/>
              <p:nvPr/>
            </p:nvSpPr>
            <p:spPr>
              <a:xfrm>
                <a:off x="4171320" y="510696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5" name="AutoShape 150"/>
              <p:cNvSpPr/>
              <p:nvPr/>
            </p:nvSpPr>
            <p:spPr>
              <a:xfrm rot="16200000">
                <a:off x="4126680" y="497808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36" name="Group 151"/>
              <p:cNvGrpSpPr/>
              <p:nvPr/>
            </p:nvGrpSpPr>
            <p:grpSpPr>
              <a:xfrm>
                <a:off x="4231080" y="5171400"/>
                <a:ext cx="61920" cy="70560"/>
                <a:chOff x="4231080" y="5171400"/>
                <a:chExt cx="61920" cy="70560"/>
              </a:xfrm>
            </p:grpSpPr>
            <p:sp>
              <p:nvSpPr>
                <p:cNvPr id="1437" name="Line 152"/>
                <p:cNvSpPr/>
                <p:nvPr/>
              </p:nvSpPr>
              <p:spPr>
                <a:xfrm flipV="1">
                  <a:off x="4231080" y="517392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38" name="Line 153"/>
                <p:cNvSpPr/>
                <p:nvPr/>
              </p:nvSpPr>
              <p:spPr>
                <a:xfrm>
                  <a:off x="4272840" y="517140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39" name="Line 154"/>
              <p:cNvSpPr/>
              <p:nvPr/>
            </p:nvSpPr>
            <p:spPr>
              <a:xfrm flipV="1">
                <a:off x="4230000" y="5216040"/>
                <a:ext cx="11052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0" name="Line 155"/>
              <p:cNvSpPr/>
              <p:nvPr/>
            </p:nvSpPr>
            <p:spPr>
              <a:xfrm>
                <a:off x="4331880" y="521604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1" name="Line 156"/>
              <p:cNvSpPr/>
              <p:nvPr/>
            </p:nvSpPr>
            <p:spPr>
              <a:xfrm>
                <a:off x="4217760" y="523980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2" name="Line 157"/>
              <p:cNvSpPr/>
              <p:nvPr/>
            </p:nvSpPr>
            <p:spPr>
              <a:xfrm>
                <a:off x="4254480" y="525744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43" name="Group 158"/>
              <p:cNvGrpSpPr/>
              <p:nvPr/>
            </p:nvGrpSpPr>
            <p:grpSpPr>
              <a:xfrm>
                <a:off x="4014000" y="5169960"/>
                <a:ext cx="159120" cy="167760"/>
                <a:chOff x="4014000" y="5169960"/>
                <a:chExt cx="159120" cy="167760"/>
              </a:xfrm>
            </p:grpSpPr>
            <p:grpSp>
              <p:nvGrpSpPr>
                <p:cNvPr id="1444" name="Group 159"/>
                <p:cNvGrpSpPr/>
                <p:nvPr/>
              </p:nvGrpSpPr>
              <p:grpSpPr>
                <a:xfrm>
                  <a:off x="4097880" y="5169960"/>
                  <a:ext cx="62280" cy="70560"/>
                  <a:chOff x="4097880" y="5169960"/>
                  <a:chExt cx="62280" cy="70560"/>
                </a:xfrm>
              </p:grpSpPr>
              <p:sp>
                <p:nvSpPr>
                  <p:cNvPr id="1445" name="Line 160"/>
                  <p:cNvSpPr/>
                  <p:nvPr/>
                </p:nvSpPr>
                <p:spPr>
                  <a:xfrm flipH="1" flipV="1">
                    <a:off x="4119480" y="517248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46" name="Line 161"/>
                  <p:cNvSpPr/>
                  <p:nvPr/>
                </p:nvSpPr>
                <p:spPr>
                  <a:xfrm flipH="1">
                    <a:off x="4097880" y="516996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447" name="Line 162"/>
                <p:cNvSpPr/>
                <p:nvPr/>
              </p:nvSpPr>
              <p:spPr>
                <a:xfrm flipH="1" flipV="1">
                  <a:off x="4050720" y="521460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8" name="Line 163"/>
                <p:cNvSpPr/>
                <p:nvPr/>
              </p:nvSpPr>
              <p:spPr>
                <a:xfrm flipH="1">
                  <a:off x="4014000" y="5214600"/>
                  <a:ext cx="44640" cy="6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9" name="Line 164"/>
                <p:cNvSpPr/>
                <p:nvPr/>
              </p:nvSpPr>
              <p:spPr>
                <a:xfrm flipH="1">
                  <a:off x="4132440" y="523908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0" name="Line 165"/>
                <p:cNvSpPr/>
                <p:nvPr/>
              </p:nvSpPr>
              <p:spPr>
                <a:xfrm flipH="1">
                  <a:off x="4112640" y="5256720"/>
                  <a:ext cx="24120" cy="8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451" name="Group 166"/>
            <p:cNvGrpSpPr/>
            <p:nvPr/>
          </p:nvGrpSpPr>
          <p:grpSpPr>
            <a:xfrm>
              <a:off x="4700880" y="4932720"/>
              <a:ext cx="376560" cy="362520"/>
              <a:chOff x="4700880" y="4932720"/>
              <a:chExt cx="376560" cy="362520"/>
            </a:xfrm>
          </p:grpSpPr>
          <p:sp>
            <p:nvSpPr>
              <p:cNvPr id="1452" name="Oval 167"/>
              <p:cNvSpPr/>
              <p:nvPr/>
            </p:nvSpPr>
            <p:spPr>
              <a:xfrm rot="5976600">
                <a:off x="4787280" y="511164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3" name="Rectangle 168"/>
              <p:cNvSpPr/>
              <p:nvPr/>
            </p:nvSpPr>
            <p:spPr>
              <a:xfrm rot="5976600">
                <a:off x="4858200" y="507384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4" name="Oval 169"/>
              <p:cNvSpPr/>
              <p:nvPr/>
            </p:nvSpPr>
            <p:spPr>
              <a:xfrm rot="5976600">
                <a:off x="4903560" y="513216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5" name="AutoShape 170"/>
              <p:cNvSpPr/>
              <p:nvPr/>
            </p:nvSpPr>
            <p:spPr>
              <a:xfrm rot="576000">
                <a:off x="4925160" y="5080320"/>
                <a:ext cx="140760" cy="1454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56" name="Group 171"/>
              <p:cNvGrpSpPr/>
              <p:nvPr/>
            </p:nvGrpSpPr>
            <p:grpSpPr>
              <a:xfrm>
                <a:off x="4793400" y="5156640"/>
                <a:ext cx="72000" cy="59760"/>
                <a:chOff x="4793400" y="5156640"/>
                <a:chExt cx="72000" cy="59760"/>
              </a:xfrm>
            </p:grpSpPr>
            <p:sp>
              <p:nvSpPr>
                <p:cNvPr id="1457" name="Line 172"/>
                <p:cNvSpPr/>
                <p:nvPr/>
              </p:nvSpPr>
              <p:spPr>
                <a:xfrm>
                  <a:off x="4815000" y="5156640"/>
                  <a:ext cx="48240" cy="49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8" name="Line 173"/>
                <p:cNvSpPr/>
                <p:nvPr/>
              </p:nvSpPr>
              <p:spPr>
                <a:xfrm flipH="1">
                  <a:off x="4793400" y="5208120"/>
                  <a:ext cx="72000" cy="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59" name="Line 174"/>
              <p:cNvSpPr/>
              <p:nvPr/>
            </p:nvSpPr>
            <p:spPr>
              <a:xfrm>
                <a:off x="4809960" y="5154840"/>
                <a:ext cx="72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0" name="Line 175"/>
              <p:cNvSpPr/>
              <p:nvPr/>
            </p:nvSpPr>
            <p:spPr>
              <a:xfrm flipH="1">
                <a:off x="4746240" y="5259960"/>
                <a:ext cx="65520" cy="35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1" name="Line 176"/>
              <p:cNvSpPr/>
              <p:nvPr/>
            </p:nvSpPr>
            <p:spPr>
              <a:xfrm flipH="1">
                <a:off x="4780440" y="5141880"/>
                <a:ext cx="27720" cy="3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2" name="Line 177"/>
              <p:cNvSpPr/>
              <p:nvPr/>
            </p:nvSpPr>
            <p:spPr>
              <a:xfrm flipH="1">
                <a:off x="4700880" y="5175720"/>
                <a:ext cx="83520" cy="1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63" name="Group 178"/>
              <p:cNvGrpSpPr/>
              <p:nvPr/>
            </p:nvGrpSpPr>
            <p:grpSpPr>
              <a:xfrm>
                <a:off x="4729680" y="4932720"/>
                <a:ext cx="163080" cy="164880"/>
                <a:chOff x="4729680" y="4932720"/>
                <a:chExt cx="163080" cy="164880"/>
              </a:xfrm>
            </p:grpSpPr>
            <p:grpSp>
              <p:nvGrpSpPr>
                <p:cNvPr id="1464" name="Group 179"/>
                <p:cNvGrpSpPr/>
                <p:nvPr/>
              </p:nvGrpSpPr>
              <p:grpSpPr>
                <a:xfrm>
                  <a:off x="4827240" y="5022360"/>
                  <a:ext cx="65520" cy="64440"/>
                  <a:chOff x="4827240" y="5022360"/>
                  <a:chExt cx="65520" cy="64440"/>
                </a:xfrm>
              </p:grpSpPr>
              <p:sp>
                <p:nvSpPr>
                  <p:cNvPr id="1465" name="Line 180"/>
                  <p:cNvSpPr/>
                  <p:nvPr/>
                </p:nvSpPr>
                <p:spPr>
                  <a:xfrm flipV="1">
                    <a:off x="4827960" y="5055480"/>
                    <a:ext cx="61920" cy="31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66" name="Line 181"/>
                  <p:cNvSpPr/>
                  <p:nvPr/>
                </p:nvSpPr>
                <p:spPr>
                  <a:xfrm flipH="1" flipV="1">
                    <a:off x="4827240" y="5022360"/>
                    <a:ext cx="65520" cy="31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467" name="Line 182"/>
                <p:cNvSpPr/>
                <p:nvPr/>
              </p:nvSpPr>
              <p:spPr>
                <a:xfrm flipV="1">
                  <a:off x="4821480" y="4979880"/>
                  <a:ext cx="39240" cy="10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8" name="Line 183"/>
                <p:cNvSpPr/>
                <p:nvPr/>
              </p:nvSpPr>
              <p:spPr>
                <a:xfrm flipH="1" flipV="1">
                  <a:off x="4808520" y="4932720"/>
                  <a:ext cx="50760" cy="54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9" name="Line 184"/>
                <p:cNvSpPr/>
                <p:nvPr/>
              </p:nvSpPr>
              <p:spPr>
                <a:xfrm flipH="1" flipV="1">
                  <a:off x="4802400" y="5053680"/>
                  <a:ext cx="13680" cy="43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0" name="Line 185"/>
                <p:cNvSpPr/>
                <p:nvPr/>
              </p:nvSpPr>
              <p:spPr>
                <a:xfrm flipH="1" flipV="1">
                  <a:off x="4729680" y="5020920"/>
                  <a:ext cx="74880" cy="37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471" name="Group 186"/>
            <p:cNvGrpSpPr/>
            <p:nvPr/>
          </p:nvGrpSpPr>
          <p:grpSpPr>
            <a:xfrm>
              <a:off x="4037400" y="6098040"/>
              <a:ext cx="340920" cy="391320"/>
              <a:chOff x="4037400" y="6098040"/>
              <a:chExt cx="340920" cy="391320"/>
            </a:xfrm>
          </p:grpSpPr>
          <p:sp>
            <p:nvSpPr>
              <p:cNvPr id="1472" name="Oval 187"/>
              <p:cNvSpPr/>
              <p:nvPr/>
            </p:nvSpPr>
            <p:spPr>
              <a:xfrm rot="20344800">
                <a:off x="4159800" y="634932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3" name="Rectangle 188"/>
              <p:cNvSpPr/>
              <p:nvPr/>
            </p:nvSpPr>
            <p:spPr>
              <a:xfrm rot="20344800">
                <a:off x="4151160" y="624528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4" name="Oval 189"/>
              <p:cNvSpPr/>
              <p:nvPr/>
            </p:nvSpPr>
            <p:spPr>
              <a:xfrm rot="20344800">
                <a:off x="4127040" y="624240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5" name="AutoShape 190"/>
              <p:cNvSpPr/>
              <p:nvPr/>
            </p:nvSpPr>
            <p:spPr>
              <a:xfrm rot="14944800">
                <a:off x="4058640" y="611820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76" name="Group 191"/>
              <p:cNvGrpSpPr/>
              <p:nvPr/>
            </p:nvGrpSpPr>
            <p:grpSpPr>
              <a:xfrm>
                <a:off x="4225320" y="6276600"/>
                <a:ext cx="61920" cy="70200"/>
                <a:chOff x="4225320" y="6276600"/>
                <a:chExt cx="61920" cy="70200"/>
              </a:xfrm>
            </p:grpSpPr>
            <p:sp>
              <p:nvSpPr>
                <p:cNvPr id="1477" name="Line 192"/>
                <p:cNvSpPr/>
                <p:nvPr/>
              </p:nvSpPr>
              <p:spPr>
                <a:xfrm flipV="1">
                  <a:off x="4225320" y="6279480"/>
                  <a:ext cx="17280" cy="6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8" name="Line 193"/>
                <p:cNvSpPr/>
                <p:nvPr/>
              </p:nvSpPr>
              <p:spPr>
                <a:xfrm>
                  <a:off x="4243320" y="6276600"/>
                  <a:ext cx="43920" cy="58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79" name="Line 194"/>
              <p:cNvSpPr/>
              <p:nvPr/>
            </p:nvSpPr>
            <p:spPr>
              <a:xfrm flipV="1">
                <a:off x="4226760" y="6293880"/>
                <a:ext cx="96120" cy="58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0" name="Line 195"/>
              <p:cNvSpPr/>
              <p:nvPr/>
            </p:nvSpPr>
            <p:spPr>
              <a:xfrm>
                <a:off x="4314600" y="6297120"/>
                <a:ext cx="63720" cy="3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1" name="Line 196"/>
              <p:cNvSpPr/>
              <p:nvPr/>
            </p:nvSpPr>
            <p:spPr>
              <a:xfrm>
                <a:off x="4216680" y="6360120"/>
                <a:ext cx="45360" cy="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2" name="Line 197"/>
              <p:cNvSpPr/>
              <p:nvPr/>
            </p:nvSpPr>
            <p:spPr>
              <a:xfrm>
                <a:off x="4256640" y="6363720"/>
                <a:ext cx="51840" cy="67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83" name="Group 198"/>
              <p:cNvGrpSpPr/>
              <p:nvPr/>
            </p:nvGrpSpPr>
            <p:grpSpPr>
              <a:xfrm>
                <a:off x="4038480" y="6330600"/>
                <a:ext cx="135720" cy="158760"/>
                <a:chOff x="4038480" y="6330600"/>
                <a:chExt cx="135720" cy="158760"/>
              </a:xfrm>
            </p:grpSpPr>
            <p:grpSp>
              <p:nvGrpSpPr>
                <p:cNvPr id="1484" name="Group 199"/>
                <p:cNvGrpSpPr/>
                <p:nvPr/>
              </p:nvGrpSpPr>
              <p:grpSpPr>
                <a:xfrm>
                  <a:off x="4098240" y="6330600"/>
                  <a:ext cx="60120" cy="73080"/>
                  <a:chOff x="4098240" y="6330600"/>
                  <a:chExt cx="60120" cy="73080"/>
                </a:xfrm>
              </p:grpSpPr>
              <p:sp>
                <p:nvSpPr>
                  <p:cNvPr id="1485" name="Line 200"/>
                  <p:cNvSpPr/>
                  <p:nvPr/>
                </p:nvSpPr>
                <p:spPr>
                  <a:xfrm flipH="1" flipV="1">
                    <a:off x="4100400" y="6332400"/>
                    <a:ext cx="57960" cy="38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86" name="Line 201"/>
                  <p:cNvSpPr/>
                  <p:nvPr/>
                </p:nvSpPr>
                <p:spPr>
                  <a:xfrm>
                    <a:off x="4098240" y="6330600"/>
                    <a:ext cx="6120" cy="73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487" name="Line 202"/>
                <p:cNvSpPr/>
                <p:nvPr/>
              </p:nvSpPr>
              <p:spPr>
                <a:xfrm flipH="1">
                  <a:off x="4051080" y="6376320"/>
                  <a:ext cx="110880" cy="20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8" name="Line 203"/>
                <p:cNvSpPr/>
                <p:nvPr/>
              </p:nvSpPr>
              <p:spPr>
                <a:xfrm flipH="1">
                  <a:off x="4038480" y="6393600"/>
                  <a:ext cx="20160" cy="72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9" name="Line 204"/>
                <p:cNvSpPr/>
                <p:nvPr/>
              </p:nvSpPr>
              <p:spPr>
                <a:xfrm flipH="1">
                  <a:off x="4143600" y="6375600"/>
                  <a:ext cx="30600" cy="3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0" name="Line 205"/>
                <p:cNvSpPr/>
                <p:nvPr/>
              </p:nvSpPr>
              <p:spPr>
                <a:xfrm>
                  <a:off x="4146480" y="6405120"/>
                  <a:ext cx="6480" cy="84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491" name="Group 206"/>
            <p:cNvGrpSpPr/>
            <p:nvPr/>
          </p:nvGrpSpPr>
          <p:grpSpPr>
            <a:xfrm>
              <a:off x="5455080" y="4983480"/>
              <a:ext cx="383760" cy="376200"/>
              <a:chOff x="5455080" y="4983480"/>
              <a:chExt cx="383760" cy="376200"/>
            </a:xfrm>
          </p:grpSpPr>
          <p:sp>
            <p:nvSpPr>
              <p:cNvPr id="1492" name="Oval 207"/>
              <p:cNvSpPr/>
              <p:nvPr/>
            </p:nvSpPr>
            <p:spPr>
              <a:xfrm rot="18163200">
                <a:off x="5668920" y="517032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3" name="Rectangle 208"/>
              <p:cNvSpPr/>
              <p:nvPr/>
            </p:nvSpPr>
            <p:spPr>
              <a:xfrm rot="18163200">
                <a:off x="5631840" y="509076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4" name="Oval 209"/>
              <p:cNvSpPr/>
              <p:nvPr/>
            </p:nvSpPr>
            <p:spPr>
              <a:xfrm rot="18163200">
                <a:off x="5581800" y="510840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5" name="AutoShape 210"/>
              <p:cNvSpPr/>
              <p:nvPr/>
            </p:nvSpPr>
            <p:spPr>
              <a:xfrm rot="12763200">
                <a:off x="5483160" y="5009760"/>
                <a:ext cx="140760" cy="14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96" name="Group 211"/>
              <p:cNvGrpSpPr/>
              <p:nvPr/>
            </p:nvGrpSpPr>
            <p:grpSpPr>
              <a:xfrm>
                <a:off x="5694840" y="5083560"/>
                <a:ext cx="69840" cy="66960"/>
                <a:chOff x="5694840" y="5083560"/>
                <a:chExt cx="69840" cy="66960"/>
              </a:xfrm>
            </p:grpSpPr>
            <p:sp>
              <p:nvSpPr>
                <p:cNvPr id="1497" name="Line 212"/>
                <p:cNvSpPr/>
                <p:nvPr/>
              </p:nvSpPr>
              <p:spPr>
                <a:xfrm flipH="1" flipV="1">
                  <a:off x="5696280" y="5086080"/>
                  <a:ext cx="24840" cy="64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8" name="Line 213"/>
                <p:cNvSpPr/>
                <p:nvPr/>
              </p:nvSpPr>
              <p:spPr>
                <a:xfrm>
                  <a:off x="5694840" y="5083560"/>
                  <a:ext cx="69840" cy="2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99" name="Line 214"/>
              <p:cNvSpPr/>
              <p:nvPr/>
            </p:nvSpPr>
            <p:spPr>
              <a:xfrm flipV="1">
                <a:off x="5725080" y="5049360"/>
                <a:ext cx="43920" cy="10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0" name="Line 215"/>
              <p:cNvSpPr/>
              <p:nvPr/>
            </p:nvSpPr>
            <p:spPr>
              <a:xfrm flipV="1">
                <a:off x="5764680" y="5049720"/>
                <a:ext cx="7416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1" name="Line 216"/>
              <p:cNvSpPr/>
              <p:nvPr/>
            </p:nvSpPr>
            <p:spPr>
              <a:xfrm flipV="1">
                <a:off x="5721840" y="5143320"/>
                <a:ext cx="39960" cy="2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2" name="Line 217"/>
              <p:cNvSpPr/>
              <p:nvPr/>
            </p:nvSpPr>
            <p:spPr>
              <a:xfrm>
                <a:off x="5756760" y="5145480"/>
                <a:ext cx="81000" cy="2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03" name="Group 218"/>
              <p:cNvGrpSpPr/>
              <p:nvPr/>
            </p:nvGrpSpPr>
            <p:grpSpPr>
              <a:xfrm>
                <a:off x="5609520" y="5204520"/>
                <a:ext cx="136800" cy="155160"/>
                <a:chOff x="5609520" y="5204520"/>
                <a:chExt cx="136800" cy="155160"/>
              </a:xfrm>
            </p:grpSpPr>
            <p:grpSp>
              <p:nvGrpSpPr>
                <p:cNvPr id="1504" name="Group 219"/>
                <p:cNvGrpSpPr/>
                <p:nvPr/>
              </p:nvGrpSpPr>
              <p:grpSpPr>
                <a:xfrm>
                  <a:off x="5609520" y="5210280"/>
                  <a:ext cx="72000" cy="59400"/>
                  <a:chOff x="5609520" y="5210280"/>
                  <a:chExt cx="72000" cy="59400"/>
                </a:xfrm>
              </p:grpSpPr>
              <p:sp>
                <p:nvSpPr>
                  <p:cNvPr id="1505" name="Line 220"/>
                  <p:cNvSpPr/>
                  <p:nvPr/>
                </p:nvSpPr>
                <p:spPr>
                  <a:xfrm flipH="1">
                    <a:off x="5612400" y="5210280"/>
                    <a:ext cx="69120" cy="4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6" name="Line 221"/>
                  <p:cNvSpPr/>
                  <p:nvPr/>
                </p:nvSpPr>
                <p:spPr>
                  <a:xfrm>
                    <a:off x="5609520" y="5214600"/>
                    <a:ext cx="47520" cy="55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507" name="Line 222"/>
                <p:cNvSpPr/>
                <p:nvPr/>
              </p:nvSpPr>
              <p:spPr>
                <a:xfrm flipH="1">
                  <a:off x="5609520" y="5212800"/>
                  <a:ext cx="78120" cy="83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8" name="Line 223"/>
                <p:cNvSpPr/>
                <p:nvPr/>
              </p:nvSpPr>
              <p:spPr>
                <a:xfrm>
                  <a:off x="5613480" y="5289120"/>
                  <a:ext cx="255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9" name="Line 224"/>
                <p:cNvSpPr/>
                <p:nvPr/>
              </p:nvSpPr>
              <p:spPr>
                <a:xfrm flipH="1">
                  <a:off x="5691960" y="5204520"/>
                  <a:ext cx="5040" cy="46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10" name="Line 225"/>
                <p:cNvSpPr/>
                <p:nvPr/>
              </p:nvSpPr>
              <p:spPr>
                <a:xfrm>
                  <a:off x="5691960" y="5245200"/>
                  <a:ext cx="54360" cy="6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511" name="Group 245"/>
            <p:cNvGrpSpPr/>
            <p:nvPr/>
          </p:nvGrpSpPr>
          <p:grpSpPr>
            <a:xfrm>
              <a:off x="5009040" y="5928840"/>
              <a:ext cx="363600" cy="360000"/>
              <a:chOff x="5009040" y="5928840"/>
              <a:chExt cx="363600" cy="360000"/>
            </a:xfrm>
          </p:grpSpPr>
          <p:sp>
            <p:nvSpPr>
              <p:cNvPr id="1512" name="Oval 246"/>
              <p:cNvSpPr/>
              <p:nvPr/>
            </p:nvSpPr>
            <p:spPr>
              <a:xfrm>
                <a:off x="5158440" y="617004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3" name="Rectangle 247"/>
              <p:cNvSpPr/>
              <p:nvPr/>
            </p:nvSpPr>
            <p:spPr>
              <a:xfrm>
                <a:off x="5171040" y="606204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4" name="Oval 248"/>
              <p:cNvSpPr/>
              <p:nvPr/>
            </p:nvSpPr>
            <p:spPr>
              <a:xfrm>
                <a:off x="5166360" y="605664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5" name="AutoShape 249"/>
              <p:cNvSpPr/>
              <p:nvPr/>
            </p:nvSpPr>
            <p:spPr>
              <a:xfrm rot="16200000">
                <a:off x="5121720" y="5928120"/>
                <a:ext cx="14256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16" name="Group 250"/>
              <p:cNvGrpSpPr/>
              <p:nvPr/>
            </p:nvGrpSpPr>
            <p:grpSpPr>
              <a:xfrm>
                <a:off x="5226120" y="6120720"/>
                <a:ext cx="61920" cy="70560"/>
                <a:chOff x="5226120" y="6120720"/>
                <a:chExt cx="61920" cy="70560"/>
              </a:xfrm>
            </p:grpSpPr>
            <p:sp>
              <p:nvSpPr>
                <p:cNvPr id="1517" name="Line 251"/>
                <p:cNvSpPr/>
                <p:nvPr/>
              </p:nvSpPr>
              <p:spPr>
                <a:xfrm flipV="1">
                  <a:off x="5226120" y="612324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18" name="Line 252"/>
                <p:cNvSpPr/>
                <p:nvPr/>
              </p:nvSpPr>
              <p:spPr>
                <a:xfrm>
                  <a:off x="5267880" y="612072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19" name="Line 253"/>
              <p:cNvSpPr/>
              <p:nvPr/>
            </p:nvSpPr>
            <p:spPr>
              <a:xfrm flipV="1">
                <a:off x="5225400" y="6165720"/>
                <a:ext cx="11088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0" name="Line 254"/>
              <p:cNvSpPr/>
              <p:nvPr/>
            </p:nvSpPr>
            <p:spPr>
              <a:xfrm>
                <a:off x="5327280" y="616572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1" name="Line 255"/>
              <p:cNvSpPr/>
              <p:nvPr/>
            </p:nvSpPr>
            <p:spPr>
              <a:xfrm>
                <a:off x="5213160" y="618912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2" name="Line 256"/>
              <p:cNvSpPr/>
              <p:nvPr/>
            </p:nvSpPr>
            <p:spPr>
              <a:xfrm>
                <a:off x="5249520" y="620712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23" name="Group 257"/>
              <p:cNvGrpSpPr/>
              <p:nvPr/>
            </p:nvGrpSpPr>
            <p:grpSpPr>
              <a:xfrm>
                <a:off x="5009040" y="6119640"/>
                <a:ext cx="159120" cy="168480"/>
                <a:chOff x="5009040" y="6119640"/>
                <a:chExt cx="159120" cy="168480"/>
              </a:xfrm>
            </p:grpSpPr>
            <p:grpSp>
              <p:nvGrpSpPr>
                <p:cNvPr id="1524" name="Group 258"/>
                <p:cNvGrpSpPr/>
                <p:nvPr/>
              </p:nvGrpSpPr>
              <p:grpSpPr>
                <a:xfrm>
                  <a:off x="5092920" y="6119640"/>
                  <a:ext cx="62280" cy="70560"/>
                  <a:chOff x="5092920" y="6119640"/>
                  <a:chExt cx="62280" cy="70560"/>
                </a:xfrm>
              </p:grpSpPr>
              <p:sp>
                <p:nvSpPr>
                  <p:cNvPr id="1525" name="Line 259"/>
                  <p:cNvSpPr/>
                  <p:nvPr/>
                </p:nvSpPr>
                <p:spPr>
                  <a:xfrm flipH="1" flipV="1">
                    <a:off x="5114520" y="612216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26" name="Line 260"/>
                  <p:cNvSpPr/>
                  <p:nvPr/>
                </p:nvSpPr>
                <p:spPr>
                  <a:xfrm flipH="1">
                    <a:off x="5092920" y="611964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527" name="Line 261"/>
                <p:cNvSpPr/>
                <p:nvPr/>
              </p:nvSpPr>
              <p:spPr>
                <a:xfrm flipH="1" flipV="1">
                  <a:off x="5045760" y="616428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28" name="Line 262"/>
                <p:cNvSpPr/>
                <p:nvPr/>
              </p:nvSpPr>
              <p:spPr>
                <a:xfrm flipH="1">
                  <a:off x="5009040" y="6164280"/>
                  <a:ext cx="44640" cy="6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29" name="Line 263"/>
                <p:cNvSpPr/>
                <p:nvPr/>
              </p:nvSpPr>
              <p:spPr>
                <a:xfrm flipH="1">
                  <a:off x="5127480" y="618912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0" name="Line 264"/>
                <p:cNvSpPr/>
                <p:nvPr/>
              </p:nvSpPr>
              <p:spPr>
                <a:xfrm flipH="1">
                  <a:off x="5107680" y="6206760"/>
                  <a:ext cx="2412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531" name="Group 265"/>
            <p:cNvGrpSpPr/>
            <p:nvPr/>
          </p:nvGrpSpPr>
          <p:grpSpPr>
            <a:xfrm>
              <a:off x="4558320" y="5445360"/>
              <a:ext cx="383400" cy="390960"/>
              <a:chOff x="4558320" y="5445360"/>
              <a:chExt cx="383400" cy="390960"/>
            </a:xfrm>
          </p:grpSpPr>
          <p:sp>
            <p:nvSpPr>
              <p:cNvPr id="1532" name="Oval 266"/>
              <p:cNvSpPr/>
              <p:nvPr/>
            </p:nvSpPr>
            <p:spPr>
              <a:xfrm rot="19170000">
                <a:off x="4742280" y="567468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3" name="Rectangle 267"/>
              <p:cNvSpPr/>
              <p:nvPr/>
            </p:nvSpPr>
            <p:spPr>
              <a:xfrm rot="19170000">
                <a:off x="4715640" y="558108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4" name="Oval 268"/>
              <p:cNvSpPr/>
              <p:nvPr/>
            </p:nvSpPr>
            <p:spPr>
              <a:xfrm rot="19170000">
                <a:off x="4675680" y="558684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5" name="AutoShape 269"/>
              <p:cNvSpPr/>
              <p:nvPr/>
            </p:nvSpPr>
            <p:spPr>
              <a:xfrm rot="13770000">
                <a:off x="4588200" y="547380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36" name="Group 270"/>
              <p:cNvGrpSpPr/>
              <p:nvPr/>
            </p:nvGrpSpPr>
            <p:grpSpPr>
              <a:xfrm>
                <a:off x="4794840" y="5589720"/>
                <a:ext cx="61200" cy="72000"/>
                <a:chOff x="4794840" y="5589720"/>
                <a:chExt cx="61200" cy="72000"/>
              </a:xfrm>
            </p:grpSpPr>
            <p:sp>
              <p:nvSpPr>
                <p:cNvPr id="1537" name="Line 271"/>
                <p:cNvSpPr/>
                <p:nvPr/>
              </p:nvSpPr>
              <p:spPr>
                <a:xfrm flipH="1" flipV="1">
                  <a:off x="4795560" y="5592600"/>
                  <a:ext cx="5760" cy="69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8" name="Line 272"/>
                <p:cNvSpPr/>
                <p:nvPr/>
              </p:nvSpPr>
              <p:spPr>
                <a:xfrm>
                  <a:off x="4794840" y="5589720"/>
                  <a:ext cx="61200" cy="40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39" name="Line 273"/>
              <p:cNvSpPr/>
              <p:nvPr/>
            </p:nvSpPr>
            <p:spPr>
              <a:xfrm flipV="1">
                <a:off x="4804560" y="5579640"/>
                <a:ext cx="7092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0" name="Line 274"/>
              <p:cNvSpPr/>
              <p:nvPr/>
            </p:nvSpPr>
            <p:spPr>
              <a:xfrm>
                <a:off x="4868640" y="5585400"/>
                <a:ext cx="730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1" name="Line 275"/>
              <p:cNvSpPr/>
              <p:nvPr/>
            </p:nvSpPr>
            <p:spPr>
              <a:xfrm flipV="1">
                <a:off x="4797360" y="5667120"/>
                <a:ext cx="44640" cy="1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2" name="Line 276"/>
              <p:cNvSpPr/>
              <p:nvPr/>
            </p:nvSpPr>
            <p:spPr>
              <a:xfrm>
                <a:off x="4836960" y="5667120"/>
                <a:ext cx="71280" cy="46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43" name="Group 277"/>
              <p:cNvGrpSpPr/>
              <p:nvPr/>
            </p:nvGrpSpPr>
            <p:grpSpPr>
              <a:xfrm>
                <a:off x="4654080" y="5689080"/>
                <a:ext cx="127080" cy="147240"/>
                <a:chOff x="4654080" y="5689080"/>
                <a:chExt cx="127080" cy="147240"/>
              </a:xfrm>
            </p:grpSpPr>
            <p:grpSp>
              <p:nvGrpSpPr>
                <p:cNvPr id="1544" name="Group 278"/>
                <p:cNvGrpSpPr/>
                <p:nvPr/>
              </p:nvGrpSpPr>
              <p:grpSpPr>
                <a:xfrm>
                  <a:off x="4676400" y="5689080"/>
                  <a:ext cx="70200" cy="66960"/>
                  <a:chOff x="4676400" y="5689080"/>
                  <a:chExt cx="70200" cy="66960"/>
                </a:xfrm>
              </p:grpSpPr>
              <p:sp>
                <p:nvSpPr>
                  <p:cNvPr id="1545" name="Line 279"/>
                  <p:cNvSpPr/>
                  <p:nvPr/>
                </p:nvSpPr>
                <p:spPr>
                  <a:xfrm flipH="1" flipV="1">
                    <a:off x="4678920" y="5690160"/>
                    <a:ext cx="67680" cy="16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6" name="Line 280"/>
                  <p:cNvSpPr/>
                  <p:nvPr/>
                </p:nvSpPr>
                <p:spPr>
                  <a:xfrm>
                    <a:off x="4676400" y="5689080"/>
                    <a:ext cx="30240" cy="66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547" name="Line 281"/>
                <p:cNvSpPr/>
                <p:nvPr/>
              </p:nvSpPr>
              <p:spPr>
                <a:xfrm flipH="1">
                  <a:off x="4654080" y="5711040"/>
                  <a:ext cx="97560" cy="5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48" name="Line 282"/>
                <p:cNvSpPr/>
                <p:nvPr/>
              </p:nvSpPr>
              <p:spPr>
                <a:xfrm>
                  <a:off x="4660200" y="5761800"/>
                  <a:ext cx="5040" cy="7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49" name="Line 283"/>
                <p:cNvSpPr/>
                <p:nvPr/>
              </p:nvSpPr>
              <p:spPr>
                <a:xfrm flipH="1">
                  <a:off x="4745520" y="5706000"/>
                  <a:ext cx="17640" cy="42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0" name="Line 284"/>
                <p:cNvSpPr/>
                <p:nvPr/>
              </p:nvSpPr>
              <p:spPr>
                <a:xfrm>
                  <a:off x="4746960" y="5743080"/>
                  <a:ext cx="34200" cy="77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551" name="Group 285"/>
            <p:cNvGrpSpPr/>
            <p:nvPr/>
          </p:nvGrpSpPr>
          <p:grpSpPr>
            <a:xfrm>
              <a:off x="5607000" y="5873040"/>
              <a:ext cx="387000" cy="349560"/>
              <a:chOff x="5607000" y="5873040"/>
              <a:chExt cx="387000" cy="349560"/>
            </a:xfrm>
          </p:grpSpPr>
          <p:sp>
            <p:nvSpPr>
              <p:cNvPr id="1552" name="Oval 286"/>
              <p:cNvSpPr/>
              <p:nvPr/>
            </p:nvSpPr>
            <p:spPr>
              <a:xfrm rot="17304600">
                <a:off x="5832360" y="602316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3" name="Rectangle 287"/>
              <p:cNvSpPr/>
              <p:nvPr/>
            </p:nvSpPr>
            <p:spPr>
              <a:xfrm rot="17304600">
                <a:off x="5788800" y="595692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4" name="Oval 288"/>
              <p:cNvSpPr/>
              <p:nvPr/>
            </p:nvSpPr>
            <p:spPr>
              <a:xfrm rot="17304600">
                <a:off x="5732640" y="598644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5" name="AutoShape 289"/>
              <p:cNvSpPr/>
              <p:nvPr/>
            </p:nvSpPr>
            <p:spPr>
              <a:xfrm rot="11904000">
                <a:off x="5626080" y="5902200"/>
                <a:ext cx="140760" cy="14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56" name="Group 290"/>
              <p:cNvGrpSpPr/>
              <p:nvPr/>
            </p:nvGrpSpPr>
            <p:grpSpPr>
              <a:xfrm>
                <a:off x="5834520" y="5941440"/>
                <a:ext cx="72720" cy="58320"/>
                <a:chOff x="5834520" y="5941440"/>
                <a:chExt cx="72720" cy="58320"/>
              </a:xfrm>
            </p:grpSpPr>
            <p:sp>
              <p:nvSpPr>
                <p:cNvPr id="1557" name="Line 291"/>
                <p:cNvSpPr/>
                <p:nvPr/>
              </p:nvSpPr>
              <p:spPr>
                <a:xfrm flipH="1" flipV="1">
                  <a:off x="5836320" y="5943600"/>
                  <a:ext cx="40320" cy="56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8" name="Line 292"/>
                <p:cNvSpPr/>
                <p:nvPr/>
              </p:nvSpPr>
              <p:spPr>
                <a:xfrm>
                  <a:off x="5834520" y="5941440"/>
                  <a:ext cx="72720" cy="2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59" name="Line 293"/>
              <p:cNvSpPr/>
              <p:nvPr/>
            </p:nvSpPr>
            <p:spPr>
              <a:xfrm flipV="1">
                <a:off x="5881320" y="5889960"/>
                <a:ext cx="16560" cy="11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0" name="Line 294"/>
              <p:cNvSpPr/>
              <p:nvPr/>
            </p:nvSpPr>
            <p:spPr>
              <a:xfrm flipV="1">
                <a:off x="5895360" y="5873040"/>
                <a:ext cx="7020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1" name="Line 295"/>
              <p:cNvSpPr/>
              <p:nvPr/>
            </p:nvSpPr>
            <p:spPr>
              <a:xfrm flipV="1">
                <a:off x="5881320" y="5982480"/>
                <a:ext cx="32760" cy="32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2" name="Line 296"/>
              <p:cNvSpPr/>
              <p:nvPr/>
            </p:nvSpPr>
            <p:spPr>
              <a:xfrm>
                <a:off x="5909400" y="5986080"/>
                <a:ext cx="84600" cy="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63" name="Group 297"/>
              <p:cNvGrpSpPr/>
              <p:nvPr/>
            </p:nvGrpSpPr>
            <p:grpSpPr>
              <a:xfrm>
                <a:off x="5783760" y="6058080"/>
                <a:ext cx="155880" cy="164520"/>
                <a:chOff x="5783760" y="6058080"/>
                <a:chExt cx="155880" cy="164520"/>
              </a:xfrm>
            </p:grpSpPr>
            <p:grpSp>
              <p:nvGrpSpPr>
                <p:cNvPr id="1564" name="Group 298"/>
                <p:cNvGrpSpPr/>
                <p:nvPr/>
              </p:nvGrpSpPr>
              <p:grpSpPr>
                <a:xfrm>
                  <a:off x="5783760" y="6067080"/>
                  <a:ext cx="68760" cy="63720"/>
                  <a:chOff x="5783760" y="6067080"/>
                  <a:chExt cx="68760" cy="63720"/>
                </a:xfrm>
              </p:grpSpPr>
              <p:sp>
                <p:nvSpPr>
                  <p:cNvPr id="1565" name="Line 299"/>
                  <p:cNvSpPr/>
                  <p:nvPr/>
                </p:nvSpPr>
                <p:spPr>
                  <a:xfrm flipH="1">
                    <a:off x="5786640" y="6067080"/>
                    <a:ext cx="65880" cy="21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66" name="Line 300"/>
                  <p:cNvSpPr/>
                  <p:nvPr/>
                </p:nvSpPr>
                <p:spPr>
                  <a:xfrm>
                    <a:off x="5783760" y="6089400"/>
                    <a:ext cx="59760" cy="41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567" name="Line 301"/>
                <p:cNvSpPr/>
                <p:nvPr/>
              </p:nvSpPr>
              <p:spPr>
                <a:xfrm flipH="1">
                  <a:off x="5803560" y="6068160"/>
                  <a:ext cx="55440" cy="1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68" name="Line 302"/>
                <p:cNvSpPr/>
                <p:nvPr/>
              </p:nvSpPr>
              <p:spPr>
                <a:xfrm>
                  <a:off x="5806080" y="6160680"/>
                  <a:ext cx="4212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69" name="Line 303"/>
                <p:cNvSpPr/>
                <p:nvPr/>
              </p:nvSpPr>
              <p:spPr>
                <a:xfrm>
                  <a:off x="5866200" y="6058080"/>
                  <a:ext cx="6480" cy="45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70" name="Line 304"/>
                <p:cNvSpPr/>
                <p:nvPr/>
              </p:nvSpPr>
              <p:spPr>
                <a:xfrm>
                  <a:off x="5871240" y="6098400"/>
                  <a:ext cx="68400" cy="4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571" name="Group 305"/>
            <p:cNvGrpSpPr/>
            <p:nvPr/>
          </p:nvGrpSpPr>
          <p:grpSpPr>
            <a:xfrm>
              <a:off x="5059440" y="5486760"/>
              <a:ext cx="389880" cy="386280"/>
              <a:chOff x="5059440" y="5486760"/>
              <a:chExt cx="389880" cy="386280"/>
            </a:xfrm>
          </p:grpSpPr>
          <p:sp>
            <p:nvSpPr>
              <p:cNvPr id="1572" name="Oval 306"/>
              <p:cNvSpPr/>
              <p:nvPr/>
            </p:nvSpPr>
            <p:spPr>
              <a:xfrm rot="2743800">
                <a:off x="5185800" y="570096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3" name="Rectangle 307"/>
              <p:cNvSpPr/>
              <p:nvPr/>
            </p:nvSpPr>
            <p:spPr>
              <a:xfrm rot="2743800">
                <a:off x="5240880" y="561168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4" name="Oval 308"/>
              <p:cNvSpPr/>
              <p:nvPr/>
            </p:nvSpPr>
            <p:spPr>
              <a:xfrm rot="2743800">
                <a:off x="5273640" y="562392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5" name="AutoShape 309"/>
              <p:cNvSpPr/>
              <p:nvPr/>
            </p:nvSpPr>
            <p:spPr>
              <a:xfrm rot="18943800">
                <a:off x="5277600" y="5515200"/>
                <a:ext cx="140760" cy="1454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76" name="Group 310"/>
              <p:cNvGrpSpPr/>
              <p:nvPr/>
            </p:nvGrpSpPr>
            <p:grpSpPr>
              <a:xfrm>
                <a:off x="5244120" y="5725440"/>
                <a:ext cx="71280" cy="63360"/>
                <a:chOff x="5244120" y="5725440"/>
                <a:chExt cx="71280" cy="63360"/>
              </a:xfrm>
            </p:grpSpPr>
            <p:sp>
              <p:nvSpPr>
                <p:cNvPr id="1577" name="Line 311"/>
                <p:cNvSpPr/>
                <p:nvPr/>
              </p:nvSpPr>
              <p:spPr>
                <a:xfrm flipV="1">
                  <a:off x="5244120" y="5726160"/>
                  <a:ext cx="68400" cy="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78" name="Line 312"/>
                <p:cNvSpPr/>
                <p:nvPr/>
              </p:nvSpPr>
              <p:spPr>
                <a:xfrm flipH="1">
                  <a:off x="5279400" y="5725440"/>
                  <a:ext cx="3600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79" name="Line 313"/>
              <p:cNvSpPr/>
              <p:nvPr/>
            </p:nvSpPr>
            <p:spPr>
              <a:xfrm>
                <a:off x="5239440" y="5739120"/>
                <a:ext cx="9252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0" name="Line 314"/>
              <p:cNvSpPr/>
              <p:nvPr/>
            </p:nvSpPr>
            <p:spPr>
              <a:xfrm flipH="1">
                <a:off x="5315400" y="5799240"/>
                <a:ext cx="10080" cy="7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1" name="Line 315"/>
              <p:cNvSpPr/>
              <p:nvPr/>
            </p:nvSpPr>
            <p:spPr>
              <a:xfrm>
                <a:off x="5228280" y="5733000"/>
                <a:ext cx="14040" cy="4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2" name="Line 316"/>
              <p:cNvSpPr/>
              <p:nvPr/>
            </p:nvSpPr>
            <p:spPr>
              <a:xfrm flipH="1">
                <a:off x="5200920" y="5771880"/>
                <a:ext cx="40680" cy="7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83" name="Group 317"/>
              <p:cNvGrpSpPr/>
              <p:nvPr/>
            </p:nvGrpSpPr>
            <p:grpSpPr>
              <a:xfrm>
                <a:off x="5059440" y="5594760"/>
                <a:ext cx="147600" cy="130320"/>
                <a:chOff x="5059440" y="5594760"/>
                <a:chExt cx="147600" cy="130320"/>
              </a:xfrm>
            </p:grpSpPr>
            <p:grpSp>
              <p:nvGrpSpPr>
                <p:cNvPr id="1584" name="Group 318"/>
                <p:cNvGrpSpPr/>
                <p:nvPr/>
              </p:nvGrpSpPr>
              <p:grpSpPr>
                <a:xfrm>
                  <a:off x="5142600" y="5612760"/>
                  <a:ext cx="64440" cy="71280"/>
                  <a:chOff x="5142600" y="5612760"/>
                  <a:chExt cx="64440" cy="71280"/>
                </a:xfrm>
              </p:grpSpPr>
              <p:sp>
                <p:nvSpPr>
                  <p:cNvPr id="1585" name="Line 319"/>
                  <p:cNvSpPr/>
                  <p:nvPr/>
                </p:nvSpPr>
                <p:spPr>
                  <a:xfrm flipV="1">
                    <a:off x="5195160" y="5616000"/>
                    <a:ext cx="11520" cy="68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86" name="Line 320"/>
                  <p:cNvSpPr/>
                  <p:nvPr/>
                </p:nvSpPr>
                <p:spPr>
                  <a:xfrm flipH="1">
                    <a:off x="5142600" y="5612760"/>
                    <a:ext cx="64440" cy="34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587" name="Line 321"/>
                <p:cNvSpPr/>
                <p:nvPr/>
              </p:nvSpPr>
              <p:spPr>
                <a:xfrm flipH="1" flipV="1">
                  <a:off x="5128200" y="5594760"/>
                  <a:ext cx="63000" cy="9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88" name="Line 322"/>
                <p:cNvSpPr/>
                <p:nvPr/>
              </p:nvSpPr>
              <p:spPr>
                <a:xfrm flipH="1">
                  <a:off x="5059440" y="5600520"/>
                  <a:ext cx="74160" cy="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89" name="Line 323"/>
                <p:cNvSpPr/>
                <p:nvPr/>
              </p:nvSpPr>
              <p:spPr>
                <a:xfrm flipH="1" flipV="1">
                  <a:off x="5153760" y="5685480"/>
                  <a:ext cx="43200" cy="15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90" name="Line 324"/>
                <p:cNvSpPr/>
                <p:nvPr/>
              </p:nvSpPr>
              <p:spPr>
                <a:xfrm flipH="1">
                  <a:off x="5084280" y="5686560"/>
                  <a:ext cx="74520" cy="38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591" name="Group 325"/>
            <p:cNvGrpSpPr/>
            <p:nvPr/>
          </p:nvGrpSpPr>
          <p:grpSpPr>
            <a:xfrm>
              <a:off x="3485880" y="5977440"/>
              <a:ext cx="388800" cy="378720"/>
              <a:chOff x="3485880" y="5977440"/>
              <a:chExt cx="388800" cy="378720"/>
            </a:xfrm>
          </p:grpSpPr>
          <p:sp>
            <p:nvSpPr>
              <p:cNvPr id="1592" name="Oval 326"/>
              <p:cNvSpPr/>
              <p:nvPr/>
            </p:nvSpPr>
            <p:spPr>
              <a:xfrm rot="3211200">
                <a:off x="3597120" y="617184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3" name="Rectangle 327"/>
              <p:cNvSpPr/>
              <p:nvPr/>
            </p:nvSpPr>
            <p:spPr>
              <a:xfrm rot="3211200">
                <a:off x="3657240" y="608940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4" name="Oval 328"/>
              <p:cNvSpPr/>
              <p:nvPr/>
            </p:nvSpPr>
            <p:spPr>
              <a:xfrm rot="3211200">
                <a:off x="3694680" y="610632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5" name="AutoShape 329"/>
              <p:cNvSpPr/>
              <p:nvPr/>
            </p:nvSpPr>
            <p:spPr>
              <a:xfrm rot="19411200">
                <a:off x="3704400" y="6004800"/>
                <a:ext cx="140760" cy="14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96" name="Group 330"/>
              <p:cNvGrpSpPr/>
              <p:nvPr/>
            </p:nvGrpSpPr>
            <p:grpSpPr>
              <a:xfrm>
                <a:off x="3651840" y="6209640"/>
                <a:ext cx="71640" cy="57600"/>
                <a:chOff x="3651840" y="6209640"/>
                <a:chExt cx="71640" cy="57600"/>
              </a:xfrm>
            </p:grpSpPr>
            <p:sp>
              <p:nvSpPr>
                <p:cNvPr id="1597" name="Line 331"/>
                <p:cNvSpPr/>
                <p:nvPr/>
              </p:nvSpPr>
              <p:spPr>
                <a:xfrm flipV="1">
                  <a:off x="3651840" y="6210000"/>
                  <a:ext cx="68760" cy="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98" name="Line 332"/>
                <p:cNvSpPr/>
                <p:nvPr/>
              </p:nvSpPr>
              <p:spPr>
                <a:xfrm flipH="1">
                  <a:off x="3679560" y="6209640"/>
                  <a:ext cx="43920" cy="57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99" name="Line 333"/>
              <p:cNvSpPr/>
              <p:nvPr/>
            </p:nvSpPr>
            <p:spPr>
              <a:xfrm>
                <a:off x="3646800" y="6212880"/>
                <a:ext cx="82440" cy="78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0" name="Line 334"/>
              <p:cNvSpPr/>
              <p:nvPr/>
            </p:nvSpPr>
            <p:spPr>
              <a:xfrm flipH="1">
                <a:off x="3704040" y="6284520"/>
                <a:ext cx="1980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1" name="Line 335"/>
              <p:cNvSpPr/>
              <p:nvPr/>
            </p:nvSpPr>
            <p:spPr>
              <a:xfrm>
                <a:off x="3636360" y="6205320"/>
                <a:ext cx="7560" cy="4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2" name="Line 336"/>
              <p:cNvSpPr/>
              <p:nvPr/>
            </p:nvSpPr>
            <p:spPr>
              <a:xfrm flipH="1">
                <a:off x="3593520" y="6245280"/>
                <a:ext cx="50400" cy="68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603" name="Group 337"/>
              <p:cNvGrpSpPr/>
              <p:nvPr/>
            </p:nvGrpSpPr>
            <p:grpSpPr>
              <a:xfrm>
                <a:off x="3485880" y="6054120"/>
                <a:ext cx="145800" cy="123480"/>
                <a:chOff x="3485880" y="6054120"/>
                <a:chExt cx="145800" cy="123480"/>
              </a:xfrm>
            </p:grpSpPr>
            <p:grpSp>
              <p:nvGrpSpPr>
                <p:cNvPr id="1604" name="Group 338"/>
                <p:cNvGrpSpPr/>
                <p:nvPr/>
              </p:nvGrpSpPr>
              <p:grpSpPr>
                <a:xfrm>
                  <a:off x="3563280" y="6082920"/>
                  <a:ext cx="68400" cy="69120"/>
                  <a:chOff x="3563280" y="6082920"/>
                  <a:chExt cx="68400" cy="69120"/>
                </a:xfrm>
              </p:grpSpPr>
              <p:sp>
                <p:nvSpPr>
                  <p:cNvPr id="1605" name="Line 339"/>
                  <p:cNvSpPr/>
                  <p:nvPr/>
                </p:nvSpPr>
                <p:spPr>
                  <a:xfrm flipV="1">
                    <a:off x="3610440" y="6085800"/>
                    <a:ext cx="20160" cy="66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06" name="Line 340"/>
                  <p:cNvSpPr/>
                  <p:nvPr/>
                </p:nvSpPr>
                <p:spPr>
                  <a:xfrm flipH="1">
                    <a:off x="3563280" y="6082920"/>
                    <a:ext cx="68400" cy="24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607" name="Line 341"/>
                <p:cNvSpPr/>
                <p:nvPr/>
              </p:nvSpPr>
              <p:spPr>
                <a:xfrm flipH="1" flipV="1">
                  <a:off x="3555720" y="6054120"/>
                  <a:ext cx="50040" cy="10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08" name="Line 342"/>
                <p:cNvSpPr/>
                <p:nvPr/>
              </p:nvSpPr>
              <p:spPr>
                <a:xfrm flipH="1" flipV="1">
                  <a:off x="3485880" y="6059160"/>
                  <a:ext cx="745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09" name="Line 343"/>
                <p:cNvSpPr/>
                <p:nvPr/>
              </p:nvSpPr>
              <p:spPr>
                <a:xfrm flipH="1" flipV="1">
                  <a:off x="3568680" y="6147360"/>
                  <a:ext cx="41040" cy="21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10" name="Line 344"/>
                <p:cNvSpPr/>
                <p:nvPr/>
              </p:nvSpPr>
              <p:spPr>
                <a:xfrm flipH="1">
                  <a:off x="3494880" y="6149520"/>
                  <a:ext cx="78840" cy="28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611" name="Group 345"/>
            <p:cNvGrpSpPr/>
            <p:nvPr/>
          </p:nvGrpSpPr>
          <p:grpSpPr>
            <a:xfrm>
              <a:off x="3226320" y="4282200"/>
              <a:ext cx="363240" cy="360000"/>
              <a:chOff x="3226320" y="4282200"/>
              <a:chExt cx="363240" cy="360000"/>
            </a:xfrm>
          </p:grpSpPr>
          <p:sp>
            <p:nvSpPr>
              <p:cNvPr id="1612" name="Oval 346"/>
              <p:cNvSpPr/>
              <p:nvPr/>
            </p:nvSpPr>
            <p:spPr>
              <a:xfrm>
                <a:off x="3375720" y="452340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3" name="Rectangle 347"/>
              <p:cNvSpPr/>
              <p:nvPr/>
            </p:nvSpPr>
            <p:spPr>
              <a:xfrm>
                <a:off x="3387960" y="441540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4" name="Oval 348"/>
              <p:cNvSpPr/>
              <p:nvPr/>
            </p:nvSpPr>
            <p:spPr>
              <a:xfrm>
                <a:off x="3383640" y="441000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5" name="AutoShape 349"/>
              <p:cNvSpPr/>
              <p:nvPr/>
            </p:nvSpPr>
            <p:spPr>
              <a:xfrm rot="16200000">
                <a:off x="3339000" y="4281480"/>
                <a:ext cx="14256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616" name="Group 350"/>
              <p:cNvGrpSpPr/>
              <p:nvPr/>
            </p:nvGrpSpPr>
            <p:grpSpPr>
              <a:xfrm>
                <a:off x="3443400" y="4474080"/>
                <a:ext cx="61920" cy="70560"/>
                <a:chOff x="3443400" y="4474080"/>
                <a:chExt cx="61920" cy="70560"/>
              </a:xfrm>
            </p:grpSpPr>
            <p:sp>
              <p:nvSpPr>
                <p:cNvPr id="1617" name="Line 351"/>
                <p:cNvSpPr/>
                <p:nvPr/>
              </p:nvSpPr>
              <p:spPr>
                <a:xfrm flipV="1">
                  <a:off x="3443400" y="447660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18" name="Line 352"/>
                <p:cNvSpPr/>
                <p:nvPr/>
              </p:nvSpPr>
              <p:spPr>
                <a:xfrm>
                  <a:off x="3485160" y="447408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19" name="Line 353"/>
              <p:cNvSpPr/>
              <p:nvPr/>
            </p:nvSpPr>
            <p:spPr>
              <a:xfrm flipV="1">
                <a:off x="3442320" y="4519080"/>
                <a:ext cx="11052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0" name="Line 354"/>
              <p:cNvSpPr/>
              <p:nvPr/>
            </p:nvSpPr>
            <p:spPr>
              <a:xfrm>
                <a:off x="3544200" y="451908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1" name="Line 355"/>
              <p:cNvSpPr/>
              <p:nvPr/>
            </p:nvSpPr>
            <p:spPr>
              <a:xfrm>
                <a:off x="3430080" y="454248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2" name="Line 356"/>
              <p:cNvSpPr/>
              <p:nvPr/>
            </p:nvSpPr>
            <p:spPr>
              <a:xfrm>
                <a:off x="3466800" y="456048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623" name="Group 357"/>
              <p:cNvGrpSpPr/>
              <p:nvPr/>
            </p:nvGrpSpPr>
            <p:grpSpPr>
              <a:xfrm>
                <a:off x="3226320" y="4473000"/>
                <a:ext cx="159120" cy="168480"/>
                <a:chOff x="3226320" y="4473000"/>
                <a:chExt cx="159120" cy="168480"/>
              </a:xfrm>
            </p:grpSpPr>
            <p:grpSp>
              <p:nvGrpSpPr>
                <p:cNvPr id="1624" name="Group 358"/>
                <p:cNvGrpSpPr/>
                <p:nvPr/>
              </p:nvGrpSpPr>
              <p:grpSpPr>
                <a:xfrm>
                  <a:off x="3310200" y="4473000"/>
                  <a:ext cx="62280" cy="70560"/>
                  <a:chOff x="3310200" y="4473000"/>
                  <a:chExt cx="62280" cy="70560"/>
                </a:xfrm>
              </p:grpSpPr>
              <p:sp>
                <p:nvSpPr>
                  <p:cNvPr id="1625" name="Line 359"/>
                  <p:cNvSpPr/>
                  <p:nvPr/>
                </p:nvSpPr>
                <p:spPr>
                  <a:xfrm flipH="1" flipV="1">
                    <a:off x="3331800" y="447552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26" name="Line 360"/>
                  <p:cNvSpPr/>
                  <p:nvPr/>
                </p:nvSpPr>
                <p:spPr>
                  <a:xfrm flipH="1">
                    <a:off x="3310200" y="447300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627" name="Line 361"/>
                <p:cNvSpPr/>
                <p:nvPr/>
              </p:nvSpPr>
              <p:spPr>
                <a:xfrm flipH="1" flipV="1">
                  <a:off x="3263040" y="451764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28" name="Line 362"/>
                <p:cNvSpPr/>
                <p:nvPr/>
              </p:nvSpPr>
              <p:spPr>
                <a:xfrm flipH="1">
                  <a:off x="3226320" y="4517640"/>
                  <a:ext cx="44640" cy="6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29" name="Line 363"/>
                <p:cNvSpPr/>
                <p:nvPr/>
              </p:nvSpPr>
              <p:spPr>
                <a:xfrm flipH="1">
                  <a:off x="3344760" y="454248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30" name="Line 364"/>
                <p:cNvSpPr/>
                <p:nvPr/>
              </p:nvSpPr>
              <p:spPr>
                <a:xfrm flipH="1">
                  <a:off x="3324960" y="4560120"/>
                  <a:ext cx="2412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631" name="Group 711"/>
          <p:cNvGrpSpPr/>
          <p:nvPr/>
        </p:nvGrpSpPr>
        <p:grpSpPr>
          <a:xfrm>
            <a:off x="2813040" y="1266840"/>
            <a:ext cx="3494160" cy="1692360"/>
            <a:chOff x="2813040" y="1266840"/>
            <a:chExt cx="3494160" cy="1692360"/>
          </a:xfrm>
        </p:grpSpPr>
        <p:sp>
          <p:nvSpPr>
            <p:cNvPr id="1632" name="AutoShape 367"/>
            <p:cNvSpPr/>
            <p:nvPr/>
          </p:nvSpPr>
          <p:spPr>
            <a:xfrm>
              <a:off x="2813040" y="1266840"/>
              <a:ext cx="3494160" cy="169236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3" name="AutoShape 368"/>
            <p:cNvSpPr/>
            <p:nvPr/>
          </p:nvSpPr>
          <p:spPr>
            <a:xfrm>
              <a:off x="2921040" y="1360800"/>
              <a:ext cx="3294000" cy="15033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4" name="AutoShape 369"/>
            <p:cNvSpPr/>
            <p:nvPr/>
          </p:nvSpPr>
          <p:spPr>
            <a:xfrm>
              <a:off x="2962440" y="1395720"/>
              <a:ext cx="3219480" cy="143496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5" name="Group 451"/>
          <p:cNvGrpSpPr/>
          <p:nvPr/>
        </p:nvGrpSpPr>
        <p:grpSpPr>
          <a:xfrm>
            <a:off x="4281840" y="713880"/>
            <a:ext cx="570960" cy="690840"/>
            <a:chOff x="4281840" y="713880"/>
            <a:chExt cx="570960" cy="690840"/>
          </a:xfrm>
        </p:grpSpPr>
        <p:sp>
          <p:nvSpPr>
            <p:cNvPr id="1636" name="Oval 452"/>
            <p:cNvSpPr/>
            <p:nvPr/>
          </p:nvSpPr>
          <p:spPr>
            <a:xfrm>
              <a:off x="4516200" y="1176840"/>
              <a:ext cx="102960" cy="38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7" name="Rectangle 453"/>
            <p:cNvSpPr/>
            <p:nvPr/>
          </p:nvSpPr>
          <p:spPr>
            <a:xfrm>
              <a:off x="4535640" y="969840"/>
              <a:ext cx="64080" cy="223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8" name="Oval 454"/>
            <p:cNvSpPr/>
            <p:nvPr/>
          </p:nvSpPr>
          <p:spPr>
            <a:xfrm>
              <a:off x="4528440" y="959040"/>
              <a:ext cx="83520" cy="38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9" name="AutoShape 455"/>
            <p:cNvSpPr/>
            <p:nvPr/>
          </p:nvSpPr>
          <p:spPr>
            <a:xfrm rot="16200000">
              <a:off x="4433760" y="737280"/>
              <a:ext cx="273240" cy="226080"/>
            </a:xfrm>
            <a:prstGeom prst="hexagon">
              <a:avLst>
                <a:gd name="adj" fmla="val 30215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0" name="Group 456"/>
            <p:cNvGrpSpPr/>
            <p:nvPr/>
          </p:nvGrpSpPr>
          <p:grpSpPr>
            <a:xfrm>
              <a:off x="4622760" y="1082160"/>
              <a:ext cx="97560" cy="135360"/>
              <a:chOff x="4622760" y="1082160"/>
              <a:chExt cx="97560" cy="135360"/>
            </a:xfrm>
          </p:grpSpPr>
          <p:sp>
            <p:nvSpPr>
              <p:cNvPr id="1641" name="Line 457"/>
              <p:cNvSpPr/>
              <p:nvPr/>
            </p:nvSpPr>
            <p:spPr>
              <a:xfrm flipV="1">
                <a:off x="4622760" y="1087920"/>
                <a:ext cx="6336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2" name="Line 458"/>
              <p:cNvSpPr/>
              <p:nvPr/>
            </p:nvSpPr>
            <p:spPr>
              <a:xfrm>
                <a:off x="4688640" y="1082160"/>
                <a:ext cx="3168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43" name="Line 459"/>
            <p:cNvSpPr/>
            <p:nvPr/>
          </p:nvSpPr>
          <p:spPr>
            <a:xfrm flipV="1">
              <a:off x="4620960" y="1168200"/>
              <a:ext cx="173880" cy="3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4" name="Line 460"/>
            <p:cNvSpPr/>
            <p:nvPr/>
          </p:nvSpPr>
          <p:spPr>
            <a:xfrm>
              <a:off x="4781520" y="1168200"/>
              <a:ext cx="7128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5" name="Line 461"/>
            <p:cNvSpPr/>
            <p:nvPr/>
          </p:nvSpPr>
          <p:spPr>
            <a:xfrm>
              <a:off x="4602240" y="1213560"/>
              <a:ext cx="64080" cy="4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6" name="Line 462"/>
            <p:cNvSpPr/>
            <p:nvPr/>
          </p:nvSpPr>
          <p:spPr>
            <a:xfrm>
              <a:off x="4659480" y="1247760"/>
              <a:ext cx="38160" cy="15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7" name="Group 463"/>
            <p:cNvGrpSpPr/>
            <p:nvPr/>
          </p:nvGrpSpPr>
          <p:grpSpPr>
            <a:xfrm>
              <a:off x="4281840" y="1079640"/>
              <a:ext cx="250200" cy="322560"/>
              <a:chOff x="4281840" y="1079640"/>
              <a:chExt cx="250200" cy="322560"/>
            </a:xfrm>
          </p:grpSpPr>
          <p:grpSp>
            <p:nvGrpSpPr>
              <p:cNvPr id="1648" name="Group 464"/>
              <p:cNvGrpSpPr/>
              <p:nvPr/>
            </p:nvGrpSpPr>
            <p:grpSpPr>
              <a:xfrm>
                <a:off x="4413600" y="1079640"/>
                <a:ext cx="98280" cy="135360"/>
                <a:chOff x="4413600" y="1079640"/>
                <a:chExt cx="98280" cy="135360"/>
              </a:xfrm>
            </p:grpSpPr>
            <p:sp>
              <p:nvSpPr>
                <p:cNvPr id="1649" name="Line 465"/>
                <p:cNvSpPr/>
                <p:nvPr/>
              </p:nvSpPr>
              <p:spPr>
                <a:xfrm flipH="1" flipV="1">
                  <a:off x="4448160" y="1085400"/>
                  <a:ext cx="6372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50" name="Line 466"/>
                <p:cNvSpPr/>
                <p:nvPr/>
              </p:nvSpPr>
              <p:spPr>
                <a:xfrm flipH="1">
                  <a:off x="4413600" y="1079640"/>
                  <a:ext cx="32040" cy="13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51" name="Line 467"/>
              <p:cNvSpPr/>
              <p:nvPr/>
            </p:nvSpPr>
            <p:spPr>
              <a:xfrm flipH="1" flipV="1">
                <a:off x="4339440" y="1165320"/>
                <a:ext cx="17388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2" name="Line 468"/>
              <p:cNvSpPr/>
              <p:nvPr/>
            </p:nvSpPr>
            <p:spPr>
              <a:xfrm flipH="1">
                <a:off x="4281840" y="1165320"/>
                <a:ext cx="70200" cy="11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3" name="Line 469"/>
              <p:cNvSpPr/>
              <p:nvPr/>
            </p:nvSpPr>
            <p:spPr>
              <a:xfrm flipH="1">
                <a:off x="4467960" y="1212480"/>
                <a:ext cx="6408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4" name="Line 470"/>
              <p:cNvSpPr/>
              <p:nvPr/>
            </p:nvSpPr>
            <p:spPr>
              <a:xfrm flipH="1">
                <a:off x="4437000" y="1246320"/>
                <a:ext cx="38160" cy="15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55" name="Group 712"/>
          <p:cNvGrpSpPr/>
          <p:nvPr/>
        </p:nvGrpSpPr>
        <p:grpSpPr>
          <a:xfrm>
            <a:off x="3220920" y="1709640"/>
            <a:ext cx="993600" cy="895320"/>
            <a:chOff x="3220920" y="1709640"/>
            <a:chExt cx="993600" cy="895320"/>
          </a:xfrm>
        </p:grpSpPr>
        <p:sp>
          <p:nvSpPr>
            <p:cNvPr id="1656" name="Oval 713"/>
            <p:cNvSpPr/>
            <p:nvPr/>
          </p:nvSpPr>
          <p:spPr>
            <a:xfrm>
              <a:off x="3296880" y="1773000"/>
              <a:ext cx="841320" cy="76860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7" name="Oval 714"/>
            <p:cNvSpPr/>
            <p:nvPr/>
          </p:nvSpPr>
          <p:spPr>
            <a:xfrm>
              <a:off x="3220920" y="1709640"/>
              <a:ext cx="993600" cy="8953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58" name="Freeform 715"/>
          <p:cNvSpPr/>
          <p:nvPr/>
        </p:nvSpPr>
        <p:spPr>
          <a:xfrm>
            <a:off x="4489560" y="1227240"/>
            <a:ext cx="255600" cy="760320"/>
          </a:xfrm>
          <a:custGeom>
            <a:avLst/>
            <a:gdLst>
              <a:gd name="textAreaLeft" fmla="*/ 0 w 255600"/>
              <a:gd name="textAreaRight" fmla="*/ 255600 w 25560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61" h="479">
                <a:moveTo>
                  <a:pt x="34" y="0"/>
                </a:moveTo>
                <a:cubicBezTo>
                  <a:pt x="10" y="94"/>
                  <a:pt x="0" y="179"/>
                  <a:pt x="86" y="235"/>
                </a:cubicBezTo>
                <a:cubicBezTo>
                  <a:pt x="92" y="244"/>
                  <a:pt x="101" y="251"/>
                  <a:pt x="103" y="261"/>
                </a:cubicBezTo>
                <a:cubicBezTo>
                  <a:pt x="106" y="284"/>
                  <a:pt x="83" y="334"/>
                  <a:pt x="77" y="357"/>
                </a:cubicBezTo>
                <a:cubicBezTo>
                  <a:pt x="80" y="369"/>
                  <a:pt x="78" y="383"/>
                  <a:pt x="86" y="392"/>
                </a:cubicBezTo>
                <a:cubicBezTo>
                  <a:pt x="100" y="408"/>
                  <a:pt x="138" y="427"/>
                  <a:pt x="138" y="427"/>
                </a:cubicBezTo>
                <a:cubicBezTo>
                  <a:pt x="161" y="460"/>
                  <a:pt x="156" y="442"/>
                  <a:pt x="156" y="47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Text Box 716"/>
          <p:cNvSpPr/>
          <p:nvPr/>
        </p:nvSpPr>
        <p:spPr>
          <a:xfrm>
            <a:off x="2893320" y="50760"/>
            <a:ext cx="340560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Batteriofagi virule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0" name="AutoShape 717"/>
          <p:cNvSpPr/>
          <p:nvPr/>
        </p:nvSpPr>
        <p:spPr>
          <a:xfrm>
            <a:off x="4429080" y="3159000"/>
            <a:ext cx="271440" cy="684360"/>
          </a:xfrm>
          <a:prstGeom prst="downArrow">
            <a:avLst>
              <a:gd name="adj1" fmla="val 19296"/>
              <a:gd name="adj2" fmla="val 57906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Text Box 718"/>
          <p:cNvSpPr/>
          <p:nvPr/>
        </p:nvSpPr>
        <p:spPr>
          <a:xfrm>
            <a:off x="5308920" y="324468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clo lit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Freeform 719"/>
          <p:cNvSpPr/>
          <p:nvPr/>
        </p:nvSpPr>
        <p:spPr>
          <a:xfrm>
            <a:off x="4541760" y="1208160"/>
            <a:ext cx="255600" cy="760320"/>
          </a:xfrm>
          <a:custGeom>
            <a:avLst/>
            <a:gdLst>
              <a:gd name="textAreaLeft" fmla="*/ 0 w 255600"/>
              <a:gd name="textAreaRight" fmla="*/ 255600 w 25560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61" h="479">
                <a:moveTo>
                  <a:pt x="34" y="0"/>
                </a:moveTo>
                <a:cubicBezTo>
                  <a:pt x="10" y="94"/>
                  <a:pt x="0" y="179"/>
                  <a:pt x="86" y="235"/>
                </a:cubicBezTo>
                <a:cubicBezTo>
                  <a:pt x="92" y="244"/>
                  <a:pt x="101" y="251"/>
                  <a:pt x="103" y="261"/>
                </a:cubicBezTo>
                <a:cubicBezTo>
                  <a:pt x="106" y="284"/>
                  <a:pt x="83" y="334"/>
                  <a:pt x="77" y="357"/>
                </a:cubicBezTo>
                <a:cubicBezTo>
                  <a:pt x="80" y="369"/>
                  <a:pt x="78" y="383"/>
                  <a:pt x="86" y="392"/>
                </a:cubicBezTo>
                <a:cubicBezTo>
                  <a:pt x="100" y="408"/>
                  <a:pt x="138" y="427"/>
                  <a:pt x="138" y="427"/>
                </a:cubicBezTo>
                <a:cubicBezTo>
                  <a:pt x="161" y="460"/>
                  <a:pt x="156" y="442"/>
                  <a:pt x="156" y="47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3" name="Group 1026"/>
          <p:cNvGrpSpPr/>
          <p:nvPr/>
        </p:nvGrpSpPr>
        <p:grpSpPr>
          <a:xfrm>
            <a:off x="290520" y="3927600"/>
            <a:ext cx="3494160" cy="2599920"/>
            <a:chOff x="290520" y="3927600"/>
            <a:chExt cx="3494160" cy="2599920"/>
          </a:xfrm>
        </p:grpSpPr>
        <p:sp>
          <p:nvSpPr>
            <p:cNvPr id="1664" name="AutoShape 1027"/>
            <p:cNvSpPr/>
            <p:nvPr/>
          </p:nvSpPr>
          <p:spPr>
            <a:xfrm>
              <a:off x="290520" y="3927600"/>
              <a:ext cx="3494160" cy="169236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5" name="AutoShape 1028"/>
            <p:cNvSpPr/>
            <p:nvPr/>
          </p:nvSpPr>
          <p:spPr>
            <a:xfrm>
              <a:off x="384840" y="4021560"/>
              <a:ext cx="3293280" cy="150264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6" name="AutoShape 1029"/>
            <p:cNvSpPr/>
            <p:nvPr/>
          </p:nvSpPr>
          <p:spPr>
            <a:xfrm>
              <a:off x="425880" y="4055400"/>
              <a:ext cx="3218760" cy="143532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67" name="Group 1030"/>
            <p:cNvGrpSpPr/>
            <p:nvPr/>
          </p:nvGrpSpPr>
          <p:grpSpPr>
            <a:xfrm>
              <a:off x="706320" y="4765320"/>
              <a:ext cx="363600" cy="360000"/>
              <a:chOff x="706320" y="4765320"/>
              <a:chExt cx="363600" cy="360000"/>
            </a:xfrm>
          </p:grpSpPr>
          <p:sp>
            <p:nvSpPr>
              <p:cNvPr id="1668" name="Oval 1031"/>
              <p:cNvSpPr/>
              <p:nvPr/>
            </p:nvSpPr>
            <p:spPr>
              <a:xfrm>
                <a:off x="855720" y="500688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9" name="Rectangle 1032"/>
              <p:cNvSpPr/>
              <p:nvPr/>
            </p:nvSpPr>
            <p:spPr>
              <a:xfrm>
                <a:off x="868320" y="489888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0" name="Oval 1033"/>
              <p:cNvSpPr/>
              <p:nvPr/>
            </p:nvSpPr>
            <p:spPr>
              <a:xfrm>
                <a:off x="863640" y="489312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1" name="AutoShape 1034"/>
              <p:cNvSpPr/>
              <p:nvPr/>
            </p:nvSpPr>
            <p:spPr>
              <a:xfrm rot="16200000">
                <a:off x="819000" y="476424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672" name="Group 1035"/>
              <p:cNvGrpSpPr/>
              <p:nvPr/>
            </p:nvGrpSpPr>
            <p:grpSpPr>
              <a:xfrm>
                <a:off x="923400" y="4957560"/>
                <a:ext cx="61920" cy="70560"/>
                <a:chOff x="923400" y="4957560"/>
                <a:chExt cx="61920" cy="70560"/>
              </a:xfrm>
            </p:grpSpPr>
            <p:sp>
              <p:nvSpPr>
                <p:cNvPr id="1673" name="Line 1036"/>
                <p:cNvSpPr/>
                <p:nvPr/>
              </p:nvSpPr>
              <p:spPr>
                <a:xfrm flipV="1">
                  <a:off x="923400" y="496008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4" name="Line 1037"/>
                <p:cNvSpPr/>
                <p:nvPr/>
              </p:nvSpPr>
              <p:spPr>
                <a:xfrm>
                  <a:off x="965160" y="495756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75" name="Line 1038"/>
              <p:cNvSpPr/>
              <p:nvPr/>
            </p:nvSpPr>
            <p:spPr>
              <a:xfrm flipV="1">
                <a:off x="922680" y="5002200"/>
                <a:ext cx="11088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6" name="Line 1039"/>
              <p:cNvSpPr/>
              <p:nvPr/>
            </p:nvSpPr>
            <p:spPr>
              <a:xfrm>
                <a:off x="1024560" y="500220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7" name="Line 1040"/>
              <p:cNvSpPr/>
              <p:nvPr/>
            </p:nvSpPr>
            <p:spPr>
              <a:xfrm>
                <a:off x="910440" y="502596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8" name="Line 1041"/>
              <p:cNvSpPr/>
              <p:nvPr/>
            </p:nvSpPr>
            <p:spPr>
              <a:xfrm>
                <a:off x="946800" y="504360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679" name="Group 1042"/>
              <p:cNvGrpSpPr/>
              <p:nvPr/>
            </p:nvGrpSpPr>
            <p:grpSpPr>
              <a:xfrm>
                <a:off x="706320" y="4956120"/>
                <a:ext cx="159120" cy="167760"/>
                <a:chOff x="706320" y="4956120"/>
                <a:chExt cx="159120" cy="167760"/>
              </a:xfrm>
            </p:grpSpPr>
            <p:grpSp>
              <p:nvGrpSpPr>
                <p:cNvPr id="1680" name="Group 1043"/>
                <p:cNvGrpSpPr/>
                <p:nvPr/>
              </p:nvGrpSpPr>
              <p:grpSpPr>
                <a:xfrm>
                  <a:off x="790200" y="4956120"/>
                  <a:ext cx="62280" cy="70560"/>
                  <a:chOff x="790200" y="4956120"/>
                  <a:chExt cx="62280" cy="70560"/>
                </a:xfrm>
              </p:grpSpPr>
              <p:sp>
                <p:nvSpPr>
                  <p:cNvPr id="1681" name="Line 1044"/>
                  <p:cNvSpPr/>
                  <p:nvPr/>
                </p:nvSpPr>
                <p:spPr>
                  <a:xfrm flipH="1" flipV="1">
                    <a:off x="811800" y="495864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82" name="Line 1045"/>
                  <p:cNvSpPr/>
                  <p:nvPr/>
                </p:nvSpPr>
                <p:spPr>
                  <a:xfrm flipH="1">
                    <a:off x="790200" y="495612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683" name="Line 1046"/>
                <p:cNvSpPr/>
                <p:nvPr/>
              </p:nvSpPr>
              <p:spPr>
                <a:xfrm flipH="1" flipV="1">
                  <a:off x="743040" y="500076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4" name="Line 1047"/>
                <p:cNvSpPr/>
                <p:nvPr/>
              </p:nvSpPr>
              <p:spPr>
                <a:xfrm flipH="1">
                  <a:off x="706320" y="5000760"/>
                  <a:ext cx="44640" cy="6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5" name="Line 1048"/>
                <p:cNvSpPr/>
                <p:nvPr/>
              </p:nvSpPr>
              <p:spPr>
                <a:xfrm flipH="1">
                  <a:off x="824760" y="502524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6" name="Line 1049"/>
                <p:cNvSpPr/>
                <p:nvPr/>
              </p:nvSpPr>
              <p:spPr>
                <a:xfrm flipH="1">
                  <a:off x="804960" y="5042880"/>
                  <a:ext cx="24120" cy="8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687" name="Freeform 1050"/>
            <p:cNvSpPr/>
            <p:nvPr/>
          </p:nvSpPr>
          <p:spPr>
            <a:xfrm>
              <a:off x="668880" y="5169600"/>
              <a:ext cx="3113280" cy="1357920"/>
            </a:xfrm>
            <a:custGeom>
              <a:avLst/>
              <a:gdLst>
                <a:gd name="textAreaLeft" fmla="*/ 0 w 3113280"/>
                <a:gd name="textAreaRight" fmla="*/ 3113640 w 3113280"/>
                <a:gd name="textAreaTop" fmla="*/ 0 h 1357920"/>
                <a:gd name="textAreaBottom" fmla="*/ 1358280 h 1357920"/>
              </a:gdLst>
              <a:ahLst/>
              <a:rect l="textAreaLeft" t="textAreaTop" r="textAreaRight" b="textAreaBottom"/>
              <a:pathLst>
                <a:path w="2806" h="1210">
                  <a:moveTo>
                    <a:pt x="165" y="193"/>
                  </a:moveTo>
                  <a:cubicBezTo>
                    <a:pt x="192" y="246"/>
                    <a:pt x="205" y="287"/>
                    <a:pt x="261" y="306"/>
                  </a:cubicBezTo>
                  <a:cubicBezTo>
                    <a:pt x="272" y="341"/>
                    <a:pt x="285" y="375"/>
                    <a:pt x="295" y="410"/>
                  </a:cubicBezTo>
                  <a:cubicBezTo>
                    <a:pt x="305" y="445"/>
                    <a:pt x="322" y="515"/>
                    <a:pt x="322" y="515"/>
                  </a:cubicBezTo>
                  <a:cubicBezTo>
                    <a:pt x="305" y="565"/>
                    <a:pt x="326" y="519"/>
                    <a:pt x="278" y="567"/>
                  </a:cubicBezTo>
                  <a:cubicBezTo>
                    <a:pt x="214" y="631"/>
                    <a:pt x="287" y="579"/>
                    <a:pt x="226" y="619"/>
                  </a:cubicBezTo>
                  <a:cubicBezTo>
                    <a:pt x="193" y="665"/>
                    <a:pt x="162" y="711"/>
                    <a:pt x="130" y="758"/>
                  </a:cubicBezTo>
                  <a:cubicBezTo>
                    <a:pt x="118" y="775"/>
                    <a:pt x="107" y="793"/>
                    <a:pt x="95" y="810"/>
                  </a:cubicBezTo>
                  <a:cubicBezTo>
                    <a:pt x="89" y="819"/>
                    <a:pt x="78" y="836"/>
                    <a:pt x="78" y="836"/>
                  </a:cubicBezTo>
                  <a:cubicBezTo>
                    <a:pt x="68" y="885"/>
                    <a:pt x="62" y="933"/>
                    <a:pt x="35" y="975"/>
                  </a:cubicBezTo>
                  <a:cubicBezTo>
                    <a:pt x="48" y="1020"/>
                    <a:pt x="29" y="1023"/>
                    <a:pt x="0" y="1054"/>
                  </a:cubicBezTo>
                  <a:cubicBezTo>
                    <a:pt x="17" y="1108"/>
                    <a:pt x="53" y="1073"/>
                    <a:pt x="95" y="1062"/>
                  </a:cubicBezTo>
                  <a:cubicBezTo>
                    <a:pt x="156" y="1023"/>
                    <a:pt x="128" y="1035"/>
                    <a:pt x="174" y="1019"/>
                  </a:cubicBezTo>
                  <a:cubicBezTo>
                    <a:pt x="242" y="1034"/>
                    <a:pt x="308" y="1049"/>
                    <a:pt x="374" y="1071"/>
                  </a:cubicBezTo>
                  <a:cubicBezTo>
                    <a:pt x="436" y="1058"/>
                    <a:pt x="494" y="1038"/>
                    <a:pt x="556" y="1028"/>
                  </a:cubicBezTo>
                  <a:cubicBezTo>
                    <a:pt x="626" y="1004"/>
                    <a:pt x="702" y="1001"/>
                    <a:pt x="774" y="1019"/>
                  </a:cubicBezTo>
                  <a:cubicBezTo>
                    <a:pt x="894" y="1119"/>
                    <a:pt x="964" y="1184"/>
                    <a:pt x="1122" y="1210"/>
                  </a:cubicBezTo>
                  <a:cubicBezTo>
                    <a:pt x="1140" y="1196"/>
                    <a:pt x="1164" y="1187"/>
                    <a:pt x="1174" y="1167"/>
                  </a:cubicBezTo>
                  <a:cubicBezTo>
                    <a:pt x="1185" y="1145"/>
                    <a:pt x="1233" y="999"/>
                    <a:pt x="1235" y="993"/>
                  </a:cubicBezTo>
                  <a:cubicBezTo>
                    <a:pt x="1241" y="976"/>
                    <a:pt x="1270" y="981"/>
                    <a:pt x="1287" y="975"/>
                  </a:cubicBezTo>
                  <a:cubicBezTo>
                    <a:pt x="1305" y="957"/>
                    <a:pt x="1336" y="919"/>
                    <a:pt x="1365" y="906"/>
                  </a:cubicBezTo>
                  <a:cubicBezTo>
                    <a:pt x="1382" y="898"/>
                    <a:pt x="1417" y="888"/>
                    <a:pt x="1417" y="888"/>
                  </a:cubicBezTo>
                  <a:cubicBezTo>
                    <a:pt x="1476" y="890"/>
                    <a:pt x="1657" y="891"/>
                    <a:pt x="1748" y="906"/>
                  </a:cubicBezTo>
                  <a:cubicBezTo>
                    <a:pt x="1799" y="914"/>
                    <a:pt x="1854" y="947"/>
                    <a:pt x="1904" y="958"/>
                  </a:cubicBezTo>
                  <a:cubicBezTo>
                    <a:pt x="1974" y="973"/>
                    <a:pt x="2026" y="977"/>
                    <a:pt x="2096" y="984"/>
                  </a:cubicBezTo>
                  <a:cubicBezTo>
                    <a:pt x="2132" y="961"/>
                    <a:pt x="2150" y="910"/>
                    <a:pt x="2191" y="897"/>
                  </a:cubicBezTo>
                  <a:cubicBezTo>
                    <a:pt x="2208" y="891"/>
                    <a:pt x="2226" y="886"/>
                    <a:pt x="2243" y="880"/>
                  </a:cubicBezTo>
                  <a:cubicBezTo>
                    <a:pt x="2279" y="844"/>
                    <a:pt x="2343" y="853"/>
                    <a:pt x="2391" y="836"/>
                  </a:cubicBezTo>
                  <a:cubicBezTo>
                    <a:pt x="2437" y="839"/>
                    <a:pt x="2484" y="845"/>
                    <a:pt x="2530" y="845"/>
                  </a:cubicBezTo>
                  <a:cubicBezTo>
                    <a:pt x="2633" y="845"/>
                    <a:pt x="2637" y="818"/>
                    <a:pt x="2704" y="862"/>
                  </a:cubicBezTo>
                  <a:cubicBezTo>
                    <a:pt x="2768" y="847"/>
                    <a:pt x="2763" y="828"/>
                    <a:pt x="2774" y="767"/>
                  </a:cubicBezTo>
                  <a:cubicBezTo>
                    <a:pt x="2778" y="714"/>
                    <a:pt x="2806" y="487"/>
                    <a:pt x="2757" y="462"/>
                  </a:cubicBezTo>
                  <a:cubicBezTo>
                    <a:pt x="2729" y="448"/>
                    <a:pt x="2647" y="440"/>
                    <a:pt x="2617" y="436"/>
                  </a:cubicBezTo>
                  <a:cubicBezTo>
                    <a:pt x="2547" y="413"/>
                    <a:pt x="2481" y="394"/>
                    <a:pt x="2409" y="375"/>
                  </a:cubicBezTo>
                  <a:cubicBezTo>
                    <a:pt x="2389" y="355"/>
                    <a:pt x="2360" y="334"/>
                    <a:pt x="2348" y="306"/>
                  </a:cubicBezTo>
                  <a:cubicBezTo>
                    <a:pt x="2330" y="266"/>
                    <a:pt x="2310" y="201"/>
                    <a:pt x="2261" y="184"/>
                  </a:cubicBezTo>
                  <a:cubicBezTo>
                    <a:pt x="2188" y="160"/>
                    <a:pt x="2157" y="158"/>
                    <a:pt x="2087" y="149"/>
                  </a:cubicBezTo>
                  <a:cubicBezTo>
                    <a:pt x="1955" y="108"/>
                    <a:pt x="1729" y="125"/>
                    <a:pt x="1635" y="123"/>
                  </a:cubicBezTo>
                  <a:cubicBezTo>
                    <a:pt x="1316" y="105"/>
                    <a:pt x="996" y="57"/>
                    <a:pt x="678" y="28"/>
                  </a:cubicBezTo>
                  <a:cubicBezTo>
                    <a:pt x="570" y="0"/>
                    <a:pt x="434" y="30"/>
                    <a:pt x="322" y="36"/>
                  </a:cubicBezTo>
                  <a:cubicBezTo>
                    <a:pt x="255" y="45"/>
                    <a:pt x="234" y="43"/>
                    <a:pt x="191" y="89"/>
                  </a:cubicBezTo>
                  <a:cubicBezTo>
                    <a:pt x="176" y="146"/>
                    <a:pt x="185" y="112"/>
                    <a:pt x="165" y="193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88" name="Group 1051"/>
            <p:cNvGrpSpPr/>
            <p:nvPr/>
          </p:nvGrpSpPr>
          <p:grpSpPr>
            <a:xfrm>
              <a:off x="1155600" y="4350600"/>
              <a:ext cx="390240" cy="382680"/>
              <a:chOff x="1155600" y="4350600"/>
              <a:chExt cx="390240" cy="382680"/>
            </a:xfrm>
          </p:grpSpPr>
          <p:sp>
            <p:nvSpPr>
              <p:cNvPr id="1689" name="Oval 1052"/>
              <p:cNvSpPr/>
              <p:nvPr/>
            </p:nvSpPr>
            <p:spPr>
              <a:xfrm rot="3058800">
                <a:off x="1272240" y="455220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0" name="Rectangle 1053"/>
              <p:cNvSpPr/>
              <p:nvPr/>
            </p:nvSpPr>
            <p:spPr>
              <a:xfrm rot="3058800">
                <a:off x="1330560" y="446760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1" name="Oval 1054"/>
              <p:cNvSpPr/>
              <p:nvPr/>
            </p:nvSpPr>
            <p:spPr>
              <a:xfrm rot="3058800">
                <a:off x="1366920" y="448272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2" name="AutoShape 1055"/>
              <p:cNvSpPr/>
              <p:nvPr/>
            </p:nvSpPr>
            <p:spPr>
              <a:xfrm rot="19258800">
                <a:off x="1374480" y="4378320"/>
                <a:ext cx="140760" cy="14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693" name="Group 1056"/>
              <p:cNvGrpSpPr/>
              <p:nvPr/>
            </p:nvGrpSpPr>
            <p:grpSpPr>
              <a:xfrm>
                <a:off x="1328040" y="4585680"/>
                <a:ext cx="72000" cy="59760"/>
                <a:chOff x="1328040" y="4585680"/>
                <a:chExt cx="72000" cy="59760"/>
              </a:xfrm>
            </p:grpSpPr>
            <p:sp>
              <p:nvSpPr>
                <p:cNvPr id="1694" name="Line 1057"/>
                <p:cNvSpPr/>
                <p:nvPr/>
              </p:nvSpPr>
              <p:spPr>
                <a:xfrm flipV="1">
                  <a:off x="1328040" y="4586400"/>
                  <a:ext cx="69120" cy="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95" name="Line 1058"/>
                <p:cNvSpPr/>
                <p:nvPr/>
              </p:nvSpPr>
              <p:spPr>
                <a:xfrm flipH="1">
                  <a:off x="1358640" y="4585680"/>
                  <a:ext cx="41400" cy="5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6" name="Line 1059"/>
              <p:cNvSpPr/>
              <p:nvPr/>
            </p:nvSpPr>
            <p:spPr>
              <a:xfrm>
                <a:off x="1323360" y="4592520"/>
                <a:ext cx="860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7" name="Line 1060"/>
              <p:cNvSpPr/>
              <p:nvPr/>
            </p:nvSpPr>
            <p:spPr>
              <a:xfrm flipH="1">
                <a:off x="1387080" y="4660560"/>
                <a:ext cx="16560" cy="72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8" name="Line 1061"/>
              <p:cNvSpPr/>
              <p:nvPr/>
            </p:nvSpPr>
            <p:spPr>
              <a:xfrm>
                <a:off x="1312560" y="4585320"/>
                <a:ext cx="972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9" name="Line 1062"/>
              <p:cNvSpPr/>
              <p:nvPr/>
            </p:nvSpPr>
            <p:spPr>
              <a:xfrm flipH="1">
                <a:off x="1274400" y="4624920"/>
                <a:ext cx="47520" cy="7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00" name="Group 1063"/>
              <p:cNvGrpSpPr/>
              <p:nvPr/>
            </p:nvGrpSpPr>
            <p:grpSpPr>
              <a:xfrm>
                <a:off x="1155600" y="4437720"/>
                <a:ext cx="146880" cy="126000"/>
                <a:chOff x="1155600" y="4437720"/>
                <a:chExt cx="146880" cy="126000"/>
              </a:xfrm>
            </p:grpSpPr>
            <p:grpSp>
              <p:nvGrpSpPr>
                <p:cNvPr id="1701" name="Group 1064"/>
                <p:cNvGrpSpPr/>
                <p:nvPr/>
              </p:nvGrpSpPr>
              <p:grpSpPr>
                <a:xfrm>
                  <a:off x="1235520" y="4463280"/>
                  <a:ext cx="66960" cy="69840"/>
                  <a:chOff x="1235520" y="4463280"/>
                  <a:chExt cx="66960" cy="69840"/>
                </a:xfrm>
              </p:grpSpPr>
              <p:sp>
                <p:nvSpPr>
                  <p:cNvPr id="1702" name="Line 1065"/>
                  <p:cNvSpPr/>
                  <p:nvPr/>
                </p:nvSpPr>
                <p:spPr>
                  <a:xfrm flipV="1">
                    <a:off x="1284120" y="4466160"/>
                    <a:ext cx="17640" cy="66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03" name="Line 1066"/>
                  <p:cNvSpPr/>
                  <p:nvPr/>
                </p:nvSpPr>
                <p:spPr>
                  <a:xfrm flipH="1">
                    <a:off x="1235520" y="4463280"/>
                    <a:ext cx="66960" cy="28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704" name="Line 1067"/>
                <p:cNvSpPr/>
                <p:nvPr/>
              </p:nvSpPr>
              <p:spPr>
                <a:xfrm flipH="1" flipV="1">
                  <a:off x="1225440" y="4437720"/>
                  <a:ext cx="54360" cy="100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05" name="Line 1068"/>
                <p:cNvSpPr/>
                <p:nvPr/>
              </p:nvSpPr>
              <p:spPr>
                <a:xfrm flipH="1">
                  <a:off x="1155600" y="4443840"/>
                  <a:ext cx="74880" cy="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06" name="Line 1069"/>
                <p:cNvSpPr/>
                <p:nvPr/>
              </p:nvSpPr>
              <p:spPr>
                <a:xfrm flipH="1" flipV="1">
                  <a:off x="1242720" y="4530600"/>
                  <a:ext cx="41760" cy="19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07" name="Line 1070"/>
                <p:cNvSpPr/>
                <p:nvPr/>
              </p:nvSpPr>
              <p:spPr>
                <a:xfrm flipH="1">
                  <a:off x="1170000" y="4532400"/>
                  <a:ext cx="77760" cy="31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08" name="Group 1071"/>
            <p:cNvGrpSpPr/>
            <p:nvPr/>
          </p:nvGrpSpPr>
          <p:grpSpPr>
            <a:xfrm>
              <a:off x="968400" y="4991400"/>
              <a:ext cx="363600" cy="360000"/>
              <a:chOff x="968400" y="4991400"/>
              <a:chExt cx="363600" cy="360000"/>
            </a:xfrm>
          </p:grpSpPr>
          <p:sp>
            <p:nvSpPr>
              <p:cNvPr id="1709" name="Oval 1072"/>
              <p:cNvSpPr/>
              <p:nvPr/>
            </p:nvSpPr>
            <p:spPr>
              <a:xfrm>
                <a:off x="1117800" y="523260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0" name="Rectangle 1073"/>
              <p:cNvSpPr/>
              <p:nvPr/>
            </p:nvSpPr>
            <p:spPr>
              <a:xfrm>
                <a:off x="1130400" y="512460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1" name="Oval 1074"/>
              <p:cNvSpPr/>
              <p:nvPr/>
            </p:nvSpPr>
            <p:spPr>
              <a:xfrm>
                <a:off x="1125720" y="511920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2" name="AutoShape 1075"/>
              <p:cNvSpPr/>
              <p:nvPr/>
            </p:nvSpPr>
            <p:spPr>
              <a:xfrm rot="16200000">
                <a:off x="1081080" y="4990680"/>
                <a:ext cx="14256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13" name="Group 1076"/>
              <p:cNvGrpSpPr/>
              <p:nvPr/>
            </p:nvGrpSpPr>
            <p:grpSpPr>
              <a:xfrm>
                <a:off x="1185480" y="5183280"/>
                <a:ext cx="61920" cy="70560"/>
                <a:chOff x="1185480" y="5183280"/>
                <a:chExt cx="61920" cy="70560"/>
              </a:xfrm>
            </p:grpSpPr>
            <p:sp>
              <p:nvSpPr>
                <p:cNvPr id="1714" name="Line 1077"/>
                <p:cNvSpPr/>
                <p:nvPr/>
              </p:nvSpPr>
              <p:spPr>
                <a:xfrm flipV="1">
                  <a:off x="1185480" y="518580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15" name="Line 1078"/>
                <p:cNvSpPr/>
                <p:nvPr/>
              </p:nvSpPr>
              <p:spPr>
                <a:xfrm>
                  <a:off x="1227240" y="518328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716" name="Line 1079"/>
              <p:cNvSpPr/>
              <p:nvPr/>
            </p:nvSpPr>
            <p:spPr>
              <a:xfrm flipV="1">
                <a:off x="1184760" y="5228280"/>
                <a:ext cx="11088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7" name="Line 1080"/>
              <p:cNvSpPr/>
              <p:nvPr/>
            </p:nvSpPr>
            <p:spPr>
              <a:xfrm>
                <a:off x="1286640" y="522828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8" name="Line 1081"/>
              <p:cNvSpPr/>
              <p:nvPr/>
            </p:nvSpPr>
            <p:spPr>
              <a:xfrm>
                <a:off x="1172520" y="525168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9" name="Line 1082"/>
              <p:cNvSpPr/>
              <p:nvPr/>
            </p:nvSpPr>
            <p:spPr>
              <a:xfrm>
                <a:off x="1208880" y="526968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0" name="Group 1083"/>
              <p:cNvGrpSpPr/>
              <p:nvPr/>
            </p:nvGrpSpPr>
            <p:grpSpPr>
              <a:xfrm>
                <a:off x="968400" y="5182200"/>
                <a:ext cx="159120" cy="168480"/>
                <a:chOff x="968400" y="5182200"/>
                <a:chExt cx="159120" cy="168480"/>
              </a:xfrm>
            </p:grpSpPr>
            <p:grpSp>
              <p:nvGrpSpPr>
                <p:cNvPr id="1721" name="Group 1084"/>
                <p:cNvGrpSpPr/>
                <p:nvPr/>
              </p:nvGrpSpPr>
              <p:grpSpPr>
                <a:xfrm>
                  <a:off x="1052280" y="5182200"/>
                  <a:ext cx="62280" cy="70560"/>
                  <a:chOff x="1052280" y="5182200"/>
                  <a:chExt cx="62280" cy="70560"/>
                </a:xfrm>
              </p:grpSpPr>
              <p:sp>
                <p:nvSpPr>
                  <p:cNvPr id="1722" name="Line 1085"/>
                  <p:cNvSpPr/>
                  <p:nvPr/>
                </p:nvSpPr>
                <p:spPr>
                  <a:xfrm flipH="1" flipV="1">
                    <a:off x="1073880" y="518472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23" name="Line 1086"/>
                  <p:cNvSpPr/>
                  <p:nvPr/>
                </p:nvSpPr>
                <p:spPr>
                  <a:xfrm flipH="1">
                    <a:off x="1052280" y="518220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724" name="Line 1087"/>
                <p:cNvSpPr/>
                <p:nvPr/>
              </p:nvSpPr>
              <p:spPr>
                <a:xfrm flipH="1" flipV="1">
                  <a:off x="1005120" y="522684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25" name="Line 1088"/>
                <p:cNvSpPr/>
                <p:nvPr/>
              </p:nvSpPr>
              <p:spPr>
                <a:xfrm flipH="1">
                  <a:off x="968400" y="5226840"/>
                  <a:ext cx="44640" cy="6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26" name="Line 1089"/>
                <p:cNvSpPr/>
                <p:nvPr/>
              </p:nvSpPr>
              <p:spPr>
                <a:xfrm flipH="1">
                  <a:off x="1086840" y="525168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27" name="Line 1090"/>
                <p:cNvSpPr/>
                <p:nvPr/>
              </p:nvSpPr>
              <p:spPr>
                <a:xfrm flipH="1">
                  <a:off x="1067040" y="5269320"/>
                  <a:ext cx="2412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28" name="Group 1091"/>
            <p:cNvGrpSpPr/>
            <p:nvPr/>
          </p:nvGrpSpPr>
          <p:grpSpPr>
            <a:xfrm>
              <a:off x="1209240" y="5332320"/>
              <a:ext cx="363240" cy="360000"/>
              <a:chOff x="1209240" y="5332320"/>
              <a:chExt cx="363240" cy="360000"/>
            </a:xfrm>
          </p:grpSpPr>
          <p:sp>
            <p:nvSpPr>
              <p:cNvPr id="1729" name="Oval 1092"/>
              <p:cNvSpPr/>
              <p:nvPr/>
            </p:nvSpPr>
            <p:spPr>
              <a:xfrm>
                <a:off x="1358640" y="557388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0" name="Rectangle 1093"/>
              <p:cNvSpPr/>
              <p:nvPr/>
            </p:nvSpPr>
            <p:spPr>
              <a:xfrm>
                <a:off x="1370880" y="546588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1" name="Oval 1094"/>
              <p:cNvSpPr/>
              <p:nvPr/>
            </p:nvSpPr>
            <p:spPr>
              <a:xfrm>
                <a:off x="1366560" y="546012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2" name="AutoShape 1095"/>
              <p:cNvSpPr/>
              <p:nvPr/>
            </p:nvSpPr>
            <p:spPr>
              <a:xfrm rot="16200000">
                <a:off x="1321920" y="533124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33" name="Group 1096"/>
              <p:cNvGrpSpPr/>
              <p:nvPr/>
            </p:nvGrpSpPr>
            <p:grpSpPr>
              <a:xfrm>
                <a:off x="1426320" y="5524560"/>
                <a:ext cx="61920" cy="70560"/>
                <a:chOff x="1426320" y="5524560"/>
                <a:chExt cx="61920" cy="70560"/>
              </a:xfrm>
            </p:grpSpPr>
            <p:sp>
              <p:nvSpPr>
                <p:cNvPr id="1734" name="Line 1097"/>
                <p:cNvSpPr/>
                <p:nvPr/>
              </p:nvSpPr>
              <p:spPr>
                <a:xfrm flipV="1">
                  <a:off x="1426320" y="552708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35" name="Line 1098"/>
                <p:cNvSpPr/>
                <p:nvPr/>
              </p:nvSpPr>
              <p:spPr>
                <a:xfrm>
                  <a:off x="1468080" y="552456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736" name="Line 1099"/>
              <p:cNvSpPr/>
              <p:nvPr/>
            </p:nvSpPr>
            <p:spPr>
              <a:xfrm flipV="1">
                <a:off x="1425240" y="5569200"/>
                <a:ext cx="11052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7" name="Line 1100"/>
              <p:cNvSpPr/>
              <p:nvPr/>
            </p:nvSpPr>
            <p:spPr>
              <a:xfrm>
                <a:off x="1527120" y="556920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8" name="Line 1101"/>
              <p:cNvSpPr/>
              <p:nvPr/>
            </p:nvSpPr>
            <p:spPr>
              <a:xfrm>
                <a:off x="1413000" y="559296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9" name="Line 1102"/>
              <p:cNvSpPr/>
              <p:nvPr/>
            </p:nvSpPr>
            <p:spPr>
              <a:xfrm>
                <a:off x="1449720" y="561060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40" name="Group 1103"/>
              <p:cNvGrpSpPr/>
              <p:nvPr/>
            </p:nvGrpSpPr>
            <p:grpSpPr>
              <a:xfrm>
                <a:off x="1209240" y="5523120"/>
                <a:ext cx="159120" cy="167760"/>
                <a:chOff x="1209240" y="5523120"/>
                <a:chExt cx="159120" cy="167760"/>
              </a:xfrm>
            </p:grpSpPr>
            <p:grpSp>
              <p:nvGrpSpPr>
                <p:cNvPr id="1741" name="Group 1104"/>
                <p:cNvGrpSpPr/>
                <p:nvPr/>
              </p:nvGrpSpPr>
              <p:grpSpPr>
                <a:xfrm>
                  <a:off x="1293120" y="5523120"/>
                  <a:ext cx="62280" cy="70560"/>
                  <a:chOff x="1293120" y="5523120"/>
                  <a:chExt cx="62280" cy="70560"/>
                </a:xfrm>
              </p:grpSpPr>
              <p:sp>
                <p:nvSpPr>
                  <p:cNvPr id="1742" name="Line 1105"/>
                  <p:cNvSpPr/>
                  <p:nvPr/>
                </p:nvSpPr>
                <p:spPr>
                  <a:xfrm flipH="1" flipV="1">
                    <a:off x="1314720" y="552564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43" name="Line 1106"/>
                  <p:cNvSpPr/>
                  <p:nvPr/>
                </p:nvSpPr>
                <p:spPr>
                  <a:xfrm flipH="1">
                    <a:off x="1293120" y="552312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744" name="Line 1107"/>
                <p:cNvSpPr/>
                <p:nvPr/>
              </p:nvSpPr>
              <p:spPr>
                <a:xfrm flipH="1" flipV="1">
                  <a:off x="1245960" y="556776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5" name="Line 1108"/>
                <p:cNvSpPr/>
                <p:nvPr/>
              </p:nvSpPr>
              <p:spPr>
                <a:xfrm flipH="1">
                  <a:off x="1209240" y="5567760"/>
                  <a:ext cx="44640" cy="6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6" name="Line 1109"/>
                <p:cNvSpPr/>
                <p:nvPr/>
              </p:nvSpPr>
              <p:spPr>
                <a:xfrm flipH="1">
                  <a:off x="1327680" y="559224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7" name="Line 1110"/>
                <p:cNvSpPr/>
                <p:nvPr/>
              </p:nvSpPr>
              <p:spPr>
                <a:xfrm flipH="1">
                  <a:off x="1307880" y="5609880"/>
                  <a:ext cx="24120" cy="8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48" name="Group 1111"/>
            <p:cNvGrpSpPr/>
            <p:nvPr/>
          </p:nvGrpSpPr>
          <p:grpSpPr>
            <a:xfrm>
              <a:off x="1634040" y="4318920"/>
              <a:ext cx="363240" cy="360000"/>
              <a:chOff x="1634040" y="4318920"/>
              <a:chExt cx="363240" cy="360000"/>
            </a:xfrm>
          </p:grpSpPr>
          <p:sp>
            <p:nvSpPr>
              <p:cNvPr id="1749" name="Oval 1112"/>
              <p:cNvSpPr/>
              <p:nvPr/>
            </p:nvSpPr>
            <p:spPr>
              <a:xfrm>
                <a:off x="1783440" y="456048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0" name="Rectangle 1113"/>
              <p:cNvSpPr/>
              <p:nvPr/>
            </p:nvSpPr>
            <p:spPr>
              <a:xfrm>
                <a:off x="1795680" y="445248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1" name="Oval 1114"/>
              <p:cNvSpPr/>
              <p:nvPr/>
            </p:nvSpPr>
            <p:spPr>
              <a:xfrm>
                <a:off x="1791360" y="444672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2" name="AutoShape 1115"/>
              <p:cNvSpPr/>
              <p:nvPr/>
            </p:nvSpPr>
            <p:spPr>
              <a:xfrm rot="16200000">
                <a:off x="1746720" y="431784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53" name="Group 1116"/>
              <p:cNvGrpSpPr/>
              <p:nvPr/>
            </p:nvGrpSpPr>
            <p:grpSpPr>
              <a:xfrm>
                <a:off x="1851120" y="4511160"/>
                <a:ext cx="61920" cy="70560"/>
                <a:chOff x="1851120" y="4511160"/>
                <a:chExt cx="61920" cy="70560"/>
              </a:xfrm>
            </p:grpSpPr>
            <p:sp>
              <p:nvSpPr>
                <p:cNvPr id="1754" name="Line 1117"/>
                <p:cNvSpPr/>
                <p:nvPr/>
              </p:nvSpPr>
              <p:spPr>
                <a:xfrm flipV="1">
                  <a:off x="1851120" y="451368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5" name="Line 1118"/>
                <p:cNvSpPr/>
                <p:nvPr/>
              </p:nvSpPr>
              <p:spPr>
                <a:xfrm>
                  <a:off x="1892880" y="451116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756" name="Line 1119"/>
              <p:cNvSpPr/>
              <p:nvPr/>
            </p:nvSpPr>
            <p:spPr>
              <a:xfrm flipV="1">
                <a:off x="1850040" y="4555800"/>
                <a:ext cx="11052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7" name="Line 1120"/>
              <p:cNvSpPr/>
              <p:nvPr/>
            </p:nvSpPr>
            <p:spPr>
              <a:xfrm>
                <a:off x="1951920" y="455580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8" name="Line 1121"/>
              <p:cNvSpPr/>
              <p:nvPr/>
            </p:nvSpPr>
            <p:spPr>
              <a:xfrm>
                <a:off x="1837800" y="457956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9" name="Line 1122"/>
              <p:cNvSpPr/>
              <p:nvPr/>
            </p:nvSpPr>
            <p:spPr>
              <a:xfrm>
                <a:off x="1874520" y="459720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60" name="Group 1123"/>
              <p:cNvGrpSpPr/>
              <p:nvPr/>
            </p:nvGrpSpPr>
            <p:grpSpPr>
              <a:xfrm>
                <a:off x="1634040" y="4509720"/>
                <a:ext cx="159120" cy="167760"/>
                <a:chOff x="1634040" y="4509720"/>
                <a:chExt cx="159120" cy="167760"/>
              </a:xfrm>
            </p:grpSpPr>
            <p:grpSp>
              <p:nvGrpSpPr>
                <p:cNvPr id="1761" name="Group 1124"/>
                <p:cNvGrpSpPr/>
                <p:nvPr/>
              </p:nvGrpSpPr>
              <p:grpSpPr>
                <a:xfrm>
                  <a:off x="1717920" y="4509720"/>
                  <a:ext cx="62280" cy="70560"/>
                  <a:chOff x="1717920" y="4509720"/>
                  <a:chExt cx="62280" cy="70560"/>
                </a:xfrm>
              </p:grpSpPr>
              <p:sp>
                <p:nvSpPr>
                  <p:cNvPr id="1762" name="Line 1125"/>
                  <p:cNvSpPr/>
                  <p:nvPr/>
                </p:nvSpPr>
                <p:spPr>
                  <a:xfrm flipH="1" flipV="1">
                    <a:off x="1739520" y="451224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63" name="Line 1126"/>
                  <p:cNvSpPr/>
                  <p:nvPr/>
                </p:nvSpPr>
                <p:spPr>
                  <a:xfrm flipH="1">
                    <a:off x="1717920" y="450972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764" name="Line 1127"/>
                <p:cNvSpPr/>
                <p:nvPr/>
              </p:nvSpPr>
              <p:spPr>
                <a:xfrm flipH="1" flipV="1">
                  <a:off x="1670760" y="455436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5" name="Line 1128"/>
                <p:cNvSpPr/>
                <p:nvPr/>
              </p:nvSpPr>
              <p:spPr>
                <a:xfrm flipH="1">
                  <a:off x="1634040" y="4554360"/>
                  <a:ext cx="44640" cy="6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6" name="Line 1129"/>
                <p:cNvSpPr/>
                <p:nvPr/>
              </p:nvSpPr>
              <p:spPr>
                <a:xfrm flipH="1">
                  <a:off x="1752480" y="457884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7" name="Line 1130"/>
                <p:cNvSpPr/>
                <p:nvPr/>
              </p:nvSpPr>
              <p:spPr>
                <a:xfrm flipH="1">
                  <a:off x="1732680" y="4596480"/>
                  <a:ext cx="24120" cy="8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68" name="Group 1131"/>
            <p:cNvGrpSpPr/>
            <p:nvPr/>
          </p:nvGrpSpPr>
          <p:grpSpPr>
            <a:xfrm>
              <a:off x="2359800" y="4177800"/>
              <a:ext cx="356040" cy="390960"/>
              <a:chOff x="2359800" y="4177800"/>
              <a:chExt cx="356040" cy="390960"/>
            </a:xfrm>
          </p:grpSpPr>
          <p:sp>
            <p:nvSpPr>
              <p:cNvPr id="1769" name="Oval 1132"/>
              <p:cNvSpPr/>
              <p:nvPr/>
            </p:nvSpPr>
            <p:spPr>
              <a:xfrm rot="20040000">
                <a:off x="2500200" y="442584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0" name="Rectangle 1133"/>
              <p:cNvSpPr/>
              <p:nvPr/>
            </p:nvSpPr>
            <p:spPr>
              <a:xfrm rot="20040000">
                <a:off x="2486880" y="432360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1" name="Oval 1134"/>
              <p:cNvSpPr/>
              <p:nvPr/>
            </p:nvSpPr>
            <p:spPr>
              <a:xfrm rot="20040000">
                <a:off x="2458080" y="432288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2" name="AutoShape 1135"/>
              <p:cNvSpPr/>
              <p:nvPr/>
            </p:nvSpPr>
            <p:spPr>
              <a:xfrm rot="14640000">
                <a:off x="2384280" y="420084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73" name="Group 1136"/>
              <p:cNvGrpSpPr/>
              <p:nvPr/>
            </p:nvGrpSpPr>
            <p:grpSpPr>
              <a:xfrm>
                <a:off x="2564280" y="4349160"/>
                <a:ext cx="60840" cy="71280"/>
                <a:chOff x="2564280" y="4349160"/>
                <a:chExt cx="60840" cy="71280"/>
              </a:xfrm>
            </p:grpSpPr>
            <p:sp>
              <p:nvSpPr>
                <p:cNvPr id="1774" name="Line 1137"/>
                <p:cNvSpPr/>
                <p:nvPr/>
              </p:nvSpPr>
              <p:spPr>
                <a:xfrm flipV="1">
                  <a:off x="2564280" y="4352040"/>
                  <a:ext cx="1152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5" name="Line 1138"/>
                <p:cNvSpPr/>
                <p:nvPr/>
              </p:nvSpPr>
              <p:spPr>
                <a:xfrm>
                  <a:off x="2576160" y="4349160"/>
                  <a:ext cx="48960" cy="5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776" name="Line 1139"/>
              <p:cNvSpPr/>
              <p:nvPr/>
            </p:nvSpPr>
            <p:spPr>
              <a:xfrm flipV="1">
                <a:off x="2566440" y="4359240"/>
                <a:ext cx="90720" cy="6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7" name="Line 1140"/>
              <p:cNvSpPr/>
              <p:nvPr/>
            </p:nvSpPr>
            <p:spPr>
              <a:xfrm>
                <a:off x="2648880" y="4363200"/>
                <a:ext cx="6696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8" name="Line 1141"/>
              <p:cNvSpPr/>
              <p:nvPr/>
            </p:nvSpPr>
            <p:spPr>
              <a:xfrm>
                <a:off x="2556720" y="4434480"/>
                <a:ext cx="46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9" name="Line 1142"/>
              <p:cNvSpPr/>
              <p:nvPr/>
            </p:nvSpPr>
            <p:spPr>
              <a:xfrm>
                <a:off x="2597400" y="4434480"/>
                <a:ext cx="57240" cy="6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80" name="Group 1143"/>
              <p:cNvGrpSpPr/>
              <p:nvPr/>
            </p:nvGrpSpPr>
            <p:grpSpPr>
              <a:xfrm>
                <a:off x="2388600" y="4415760"/>
                <a:ext cx="127440" cy="153000"/>
                <a:chOff x="2388600" y="4415760"/>
                <a:chExt cx="127440" cy="153000"/>
              </a:xfrm>
            </p:grpSpPr>
            <p:grpSp>
              <p:nvGrpSpPr>
                <p:cNvPr id="1781" name="Group 1144"/>
                <p:cNvGrpSpPr/>
                <p:nvPr/>
              </p:nvGrpSpPr>
              <p:grpSpPr>
                <a:xfrm>
                  <a:off x="2436480" y="4415760"/>
                  <a:ext cx="63720" cy="72000"/>
                  <a:chOff x="2436480" y="4415760"/>
                  <a:chExt cx="63720" cy="72000"/>
                </a:xfrm>
              </p:grpSpPr>
              <p:sp>
                <p:nvSpPr>
                  <p:cNvPr id="1782" name="Line 1145"/>
                  <p:cNvSpPr/>
                  <p:nvPr/>
                </p:nvSpPr>
                <p:spPr>
                  <a:xfrm flipH="1" flipV="1">
                    <a:off x="2438640" y="4417200"/>
                    <a:ext cx="61560" cy="33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83" name="Line 1146"/>
                  <p:cNvSpPr/>
                  <p:nvPr/>
                </p:nvSpPr>
                <p:spPr>
                  <a:xfrm>
                    <a:off x="2436480" y="4415760"/>
                    <a:ext cx="12600" cy="7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784" name="Line 1147"/>
                <p:cNvSpPr/>
                <p:nvPr/>
              </p:nvSpPr>
              <p:spPr>
                <a:xfrm flipH="1">
                  <a:off x="2395440" y="4455720"/>
                  <a:ext cx="108360" cy="29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5" name="Line 1148"/>
                <p:cNvSpPr/>
                <p:nvPr/>
              </p:nvSpPr>
              <p:spPr>
                <a:xfrm flipH="1">
                  <a:off x="2388600" y="4482000"/>
                  <a:ext cx="14040" cy="7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6" name="Line 1149"/>
                <p:cNvSpPr/>
                <p:nvPr/>
              </p:nvSpPr>
              <p:spPr>
                <a:xfrm flipH="1">
                  <a:off x="2488680" y="4453560"/>
                  <a:ext cx="27360" cy="36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7" name="Line 1150"/>
                <p:cNvSpPr/>
                <p:nvPr/>
              </p:nvSpPr>
              <p:spPr>
                <a:xfrm>
                  <a:off x="2491200" y="4485600"/>
                  <a:ext cx="13680" cy="83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88" name="Group 1151"/>
            <p:cNvGrpSpPr/>
            <p:nvPr/>
          </p:nvGrpSpPr>
          <p:grpSpPr>
            <a:xfrm>
              <a:off x="2783520" y="4290840"/>
              <a:ext cx="363600" cy="360000"/>
              <a:chOff x="2783520" y="4290840"/>
              <a:chExt cx="363600" cy="360000"/>
            </a:xfrm>
          </p:grpSpPr>
          <p:sp>
            <p:nvSpPr>
              <p:cNvPr id="1789" name="Oval 1152"/>
              <p:cNvSpPr/>
              <p:nvPr/>
            </p:nvSpPr>
            <p:spPr>
              <a:xfrm>
                <a:off x="2932920" y="453240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0" name="Rectangle 1153"/>
              <p:cNvSpPr/>
              <p:nvPr/>
            </p:nvSpPr>
            <p:spPr>
              <a:xfrm>
                <a:off x="2945520" y="442440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1" name="Oval 1154"/>
              <p:cNvSpPr/>
              <p:nvPr/>
            </p:nvSpPr>
            <p:spPr>
              <a:xfrm>
                <a:off x="2940840" y="441864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2" name="AutoShape 1155"/>
              <p:cNvSpPr/>
              <p:nvPr/>
            </p:nvSpPr>
            <p:spPr>
              <a:xfrm rot="16200000">
                <a:off x="2896200" y="428976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93" name="Group 1156"/>
              <p:cNvGrpSpPr/>
              <p:nvPr/>
            </p:nvGrpSpPr>
            <p:grpSpPr>
              <a:xfrm>
                <a:off x="3000600" y="4483080"/>
                <a:ext cx="61920" cy="70560"/>
                <a:chOff x="3000600" y="4483080"/>
                <a:chExt cx="61920" cy="70560"/>
              </a:xfrm>
            </p:grpSpPr>
            <p:sp>
              <p:nvSpPr>
                <p:cNvPr id="1794" name="Line 1157"/>
                <p:cNvSpPr/>
                <p:nvPr/>
              </p:nvSpPr>
              <p:spPr>
                <a:xfrm flipV="1">
                  <a:off x="3000600" y="448560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5" name="Line 1158"/>
                <p:cNvSpPr/>
                <p:nvPr/>
              </p:nvSpPr>
              <p:spPr>
                <a:xfrm>
                  <a:off x="3042360" y="448308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796" name="Line 1159"/>
              <p:cNvSpPr/>
              <p:nvPr/>
            </p:nvSpPr>
            <p:spPr>
              <a:xfrm flipV="1">
                <a:off x="2999880" y="4527720"/>
                <a:ext cx="11088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7" name="Line 1160"/>
              <p:cNvSpPr/>
              <p:nvPr/>
            </p:nvSpPr>
            <p:spPr>
              <a:xfrm>
                <a:off x="3101760" y="452772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8" name="Line 1161"/>
              <p:cNvSpPr/>
              <p:nvPr/>
            </p:nvSpPr>
            <p:spPr>
              <a:xfrm>
                <a:off x="2987640" y="455148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9" name="Line 1162"/>
              <p:cNvSpPr/>
              <p:nvPr/>
            </p:nvSpPr>
            <p:spPr>
              <a:xfrm>
                <a:off x="3024000" y="456912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00" name="Group 1163"/>
              <p:cNvGrpSpPr/>
              <p:nvPr/>
            </p:nvGrpSpPr>
            <p:grpSpPr>
              <a:xfrm>
                <a:off x="2783520" y="4481640"/>
                <a:ext cx="159120" cy="167760"/>
                <a:chOff x="2783520" y="4481640"/>
                <a:chExt cx="159120" cy="167760"/>
              </a:xfrm>
            </p:grpSpPr>
            <p:grpSp>
              <p:nvGrpSpPr>
                <p:cNvPr id="1801" name="Group 1164"/>
                <p:cNvGrpSpPr/>
                <p:nvPr/>
              </p:nvGrpSpPr>
              <p:grpSpPr>
                <a:xfrm>
                  <a:off x="2867400" y="4481640"/>
                  <a:ext cx="62280" cy="70560"/>
                  <a:chOff x="2867400" y="4481640"/>
                  <a:chExt cx="62280" cy="70560"/>
                </a:xfrm>
              </p:grpSpPr>
              <p:sp>
                <p:nvSpPr>
                  <p:cNvPr id="1802" name="Line 1165"/>
                  <p:cNvSpPr/>
                  <p:nvPr/>
                </p:nvSpPr>
                <p:spPr>
                  <a:xfrm flipH="1" flipV="1">
                    <a:off x="2889000" y="448416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03" name="Line 1166"/>
                  <p:cNvSpPr/>
                  <p:nvPr/>
                </p:nvSpPr>
                <p:spPr>
                  <a:xfrm flipH="1">
                    <a:off x="2867400" y="448164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804" name="Line 1167"/>
                <p:cNvSpPr/>
                <p:nvPr/>
              </p:nvSpPr>
              <p:spPr>
                <a:xfrm flipH="1" flipV="1">
                  <a:off x="2820240" y="452628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5" name="Line 1168"/>
                <p:cNvSpPr/>
                <p:nvPr/>
              </p:nvSpPr>
              <p:spPr>
                <a:xfrm flipH="1">
                  <a:off x="2783520" y="4526280"/>
                  <a:ext cx="44640" cy="6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6" name="Line 1169"/>
                <p:cNvSpPr/>
                <p:nvPr/>
              </p:nvSpPr>
              <p:spPr>
                <a:xfrm flipH="1">
                  <a:off x="2901960" y="455076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7" name="Line 1170"/>
                <p:cNvSpPr/>
                <p:nvPr/>
              </p:nvSpPr>
              <p:spPr>
                <a:xfrm flipH="1">
                  <a:off x="2882160" y="4568400"/>
                  <a:ext cx="24120" cy="8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808" name="Group 1171"/>
            <p:cNvGrpSpPr/>
            <p:nvPr/>
          </p:nvGrpSpPr>
          <p:grpSpPr>
            <a:xfrm>
              <a:off x="1500840" y="4855320"/>
              <a:ext cx="363240" cy="360000"/>
              <a:chOff x="1500840" y="4855320"/>
              <a:chExt cx="363240" cy="360000"/>
            </a:xfrm>
          </p:grpSpPr>
          <p:sp>
            <p:nvSpPr>
              <p:cNvPr id="1809" name="Oval 1172"/>
              <p:cNvSpPr/>
              <p:nvPr/>
            </p:nvSpPr>
            <p:spPr>
              <a:xfrm>
                <a:off x="1650240" y="509688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0" name="Rectangle 1173"/>
              <p:cNvSpPr/>
              <p:nvPr/>
            </p:nvSpPr>
            <p:spPr>
              <a:xfrm>
                <a:off x="1662480" y="498888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1" name="Oval 1174"/>
              <p:cNvSpPr/>
              <p:nvPr/>
            </p:nvSpPr>
            <p:spPr>
              <a:xfrm>
                <a:off x="1658160" y="498312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2" name="AutoShape 1175"/>
              <p:cNvSpPr/>
              <p:nvPr/>
            </p:nvSpPr>
            <p:spPr>
              <a:xfrm rot="16200000">
                <a:off x="1613520" y="485424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13" name="Group 1176"/>
              <p:cNvGrpSpPr/>
              <p:nvPr/>
            </p:nvGrpSpPr>
            <p:grpSpPr>
              <a:xfrm>
                <a:off x="1717920" y="5047560"/>
                <a:ext cx="61920" cy="70560"/>
                <a:chOff x="1717920" y="5047560"/>
                <a:chExt cx="61920" cy="70560"/>
              </a:xfrm>
            </p:grpSpPr>
            <p:sp>
              <p:nvSpPr>
                <p:cNvPr id="1814" name="Line 1177"/>
                <p:cNvSpPr/>
                <p:nvPr/>
              </p:nvSpPr>
              <p:spPr>
                <a:xfrm flipV="1">
                  <a:off x="1717920" y="505008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15" name="Line 1178"/>
                <p:cNvSpPr/>
                <p:nvPr/>
              </p:nvSpPr>
              <p:spPr>
                <a:xfrm>
                  <a:off x="1759680" y="504756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816" name="Line 1179"/>
              <p:cNvSpPr/>
              <p:nvPr/>
            </p:nvSpPr>
            <p:spPr>
              <a:xfrm flipV="1">
                <a:off x="1716840" y="5092200"/>
                <a:ext cx="11052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7" name="Line 1180"/>
              <p:cNvSpPr/>
              <p:nvPr/>
            </p:nvSpPr>
            <p:spPr>
              <a:xfrm>
                <a:off x="1818720" y="509220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8" name="Line 1181"/>
              <p:cNvSpPr/>
              <p:nvPr/>
            </p:nvSpPr>
            <p:spPr>
              <a:xfrm>
                <a:off x="1704600" y="511596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9" name="Line 1182"/>
              <p:cNvSpPr/>
              <p:nvPr/>
            </p:nvSpPr>
            <p:spPr>
              <a:xfrm>
                <a:off x="1741320" y="513360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20" name="Group 1183"/>
              <p:cNvGrpSpPr/>
              <p:nvPr/>
            </p:nvGrpSpPr>
            <p:grpSpPr>
              <a:xfrm>
                <a:off x="1500840" y="5046120"/>
                <a:ext cx="159120" cy="167760"/>
                <a:chOff x="1500840" y="5046120"/>
                <a:chExt cx="159120" cy="167760"/>
              </a:xfrm>
            </p:grpSpPr>
            <p:grpSp>
              <p:nvGrpSpPr>
                <p:cNvPr id="1821" name="Group 1184"/>
                <p:cNvGrpSpPr/>
                <p:nvPr/>
              </p:nvGrpSpPr>
              <p:grpSpPr>
                <a:xfrm>
                  <a:off x="1584720" y="5046120"/>
                  <a:ext cx="62280" cy="70560"/>
                  <a:chOff x="1584720" y="5046120"/>
                  <a:chExt cx="62280" cy="70560"/>
                </a:xfrm>
              </p:grpSpPr>
              <p:sp>
                <p:nvSpPr>
                  <p:cNvPr id="1822" name="Line 1185"/>
                  <p:cNvSpPr/>
                  <p:nvPr/>
                </p:nvSpPr>
                <p:spPr>
                  <a:xfrm flipH="1" flipV="1">
                    <a:off x="1606320" y="504864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23" name="Line 1186"/>
                  <p:cNvSpPr/>
                  <p:nvPr/>
                </p:nvSpPr>
                <p:spPr>
                  <a:xfrm flipH="1">
                    <a:off x="1584720" y="504612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824" name="Line 1187"/>
                <p:cNvSpPr/>
                <p:nvPr/>
              </p:nvSpPr>
              <p:spPr>
                <a:xfrm flipH="1" flipV="1">
                  <a:off x="1537560" y="509076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25" name="Line 1188"/>
                <p:cNvSpPr/>
                <p:nvPr/>
              </p:nvSpPr>
              <p:spPr>
                <a:xfrm flipH="1">
                  <a:off x="1500840" y="5090760"/>
                  <a:ext cx="44640" cy="6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26" name="Line 1189"/>
                <p:cNvSpPr/>
                <p:nvPr/>
              </p:nvSpPr>
              <p:spPr>
                <a:xfrm flipH="1">
                  <a:off x="1619280" y="511524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27" name="Line 1190"/>
                <p:cNvSpPr/>
                <p:nvPr/>
              </p:nvSpPr>
              <p:spPr>
                <a:xfrm flipH="1">
                  <a:off x="1599480" y="5132880"/>
                  <a:ext cx="24120" cy="8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828" name="Group 1191"/>
            <p:cNvGrpSpPr/>
            <p:nvPr/>
          </p:nvGrpSpPr>
          <p:grpSpPr>
            <a:xfrm>
              <a:off x="2187000" y="4808880"/>
              <a:ext cx="377280" cy="362520"/>
              <a:chOff x="2187000" y="4808880"/>
              <a:chExt cx="377280" cy="362520"/>
            </a:xfrm>
          </p:grpSpPr>
          <p:sp>
            <p:nvSpPr>
              <p:cNvPr id="1829" name="Oval 1192"/>
              <p:cNvSpPr/>
              <p:nvPr/>
            </p:nvSpPr>
            <p:spPr>
              <a:xfrm rot="5976600">
                <a:off x="2274120" y="498780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0" name="Rectangle 1193"/>
              <p:cNvSpPr/>
              <p:nvPr/>
            </p:nvSpPr>
            <p:spPr>
              <a:xfrm rot="5976600">
                <a:off x="2344680" y="495000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1" name="Oval 1194"/>
              <p:cNvSpPr/>
              <p:nvPr/>
            </p:nvSpPr>
            <p:spPr>
              <a:xfrm rot="5976600">
                <a:off x="2390400" y="500832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2" name="AutoShape 1195"/>
              <p:cNvSpPr/>
              <p:nvPr/>
            </p:nvSpPr>
            <p:spPr>
              <a:xfrm rot="576000">
                <a:off x="2412000" y="4956480"/>
                <a:ext cx="140760" cy="1454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33" name="Group 1196"/>
              <p:cNvGrpSpPr/>
              <p:nvPr/>
            </p:nvGrpSpPr>
            <p:grpSpPr>
              <a:xfrm>
                <a:off x="2279880" y="5032800"/>
                <a:ext cx="72000" cy="59400"/>
                <a:chOff x="2279880" y="5032800"/>
                <a:chExt cx="72000" cy="59400"/>
              </a:xfrm>
            </p:grpSpPr>
            <p:sp>
              <p:nvSpPr>
                <p:cNvPr id="1834" name="Line 1197"/>
                <p:cNvSpPr/>
                <p:nvPr/>
              </p:nvSpPr>
              <p:spPr>
                <a:xfrm>
                  <a:off x="2301480" y="5032800"/>
                  <a:ext cx="48240" cy="49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35" name="Line 1198"/>
                <p:cNvSpPr/>
                <p:nvPr/>
              </p:nvSpPr>
              <p:spPr>
                <a:xfrm flipH="1">
                  <a:off x="2279880" y="5083920"/>
                  <a:ext cx="72000" cy="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836" name="Line 1199"/>
              <p:cNvSpPr/>
              <p:nvPr/>
            </p:nvSpPr>
            <p:spPr>
              <a:xfrm>
                <a:off x="2296440" y="5031000"/>
                <a:ext cx="72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7" name="Line 1200"/>
              <p:cNvSpPr/>
              <p:nvPr/>
            </p:nvSpPr>
            <p:spPr>
              <a:xfrm flipH="1">
                <a:off x="2232720" y="5136120"/>
                <a:ext cx="65520" cy="35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8" name="Line 1201"/>
              <p:cNvSpPr/>
              <p:nvPr/>
            </p:nvSpPr>
            <p:spPr>
              <a:xfrm flipH="1">
                <a:off x="2266920" y="5018040"/>
                <a:ext cx="27720" cy="3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9" name="Line 1202"/>
              <p:cNvSpPr/>
              <p:nvPr/>
            </p:nvSpPr>
            <p:spPr>
              <a:xfrm flipH="1">
                <a:off x="2187000" y="5051880"/>
                <a:ext cx="83880" cy="1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40" name="Group 1203"/>
              <p:cNvGrpSpPr/>
              <p:nvPr/>
            </p:nvGrpSpPr>
            <p:grpSpPr>
              <a:xfrm>
                <a:off x="2216520" y="4808880"/>
                <a:ext cx="163080" cy="164880"/>
                <a:chOff x="2216520" y="4808880"/>
                <a:chExt cx="163080" cy="164880"/>
              </a:xfrm>
            </p:grpSpPr>
            <p:grpSp>
              <p:nvGrpSpPr>
                <p:cNvPr id="1841" name="Group 1204"/>
                <p:cNvGrpSpPr/>
                <p:nvPr/>
              </p:nvGrpSpPr>
              <p:grpSpPr>
                <a:xfrm>
                  <a:off x="2314080" y="4898520"/>
                  <a:ext cx="65520" cy="64440"/>
                  <a:chOff x="2314080" y="4898520"/>
                  <a:chExt cx="65520" cy="64440"/>
                </a:xfrm>
              </p:grpSpPr>
              <p:sp>
                <p:nvSpPr>
                  <p:cNvPr id="1842" name="Line 1205"/>
                  <p:cNvSpPr/>
                  <p:nvPr/>
                </p:nvSpPr>
                <p:spPr>
                  <a:xfrm flipV="1">
                    <a:off x="2314800" y="4931640"/>
                    <a:ext cx="61920" cy="31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43" name="Line 1206"/>
                  <p:cNvSpPr/>
                  <p:nvPr/>
                </p:nvSpPr>
                <p:spPr>
                  <a:xfrm flipH="1" flipV="1">
                    <a:off x="2314080" y="4898520"/>
                    <a:ext cx="65520" cy="31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844" name="Line 1207"/>
                <p:cNvSpPr/>
                <p:nvPr/>
              </p:nvSpPr>
              <p:spPr>
                <a:xfrm flipV="1">
                  <a:off x="2308320" y="4856040"/>
                  <a:ext cx="39240" cy="10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5" name="Line 1208"/>
                <p:cNvSpPr/>
                <p:nvPr/>
              </p:nvSpPr>
              <p:spPr>
                <a:xfrm flipH="1" flipV="1">
                  <a:off x="2295360" y="4808880"/>
                  <a:ext cx="50760" cy="54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6" name="Line 1209"/>
                <p:cNvSpPr/>
                <p:nvPr/>
              </p:nvSpPr>
              <p:spPr>
                <a:xfrm flipH="1" flipV="1">
                  <a:off x="2289240" y="4929840"/>
                  <a:ext cx="13680" cy="43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7" name="Line 1210"/>
                <p:cNvSpPr/>
                <p:nvPr/>
              </p:nvSpPr>
              <p:spPr>
                <a:xfrm flipH="1" flipV="1">
                  <a:off x="2216520" y="4897080"/>
                  <a:ext cx="74880" cy="37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848" name="Group 1211"/>
            <p:cNvGrpSpPr/>
            <p:nvPr/>
          </p:nvGrpSpPr>
          <p:grpSpPr>
            <a:xfrm>
              <a:off x="1524240" y="5974200"/>
              <a:ext cx="340920" cy="391320"/>
              <a:chOff x="1524240" y="5974200"/>
              <a:chExt cx="340920" cy="391320"/>
            </a:xfrm>
          </p:grpSpPr>
          <p:sp>
            <p:nvSpPr>
              <p:cNvPr id="1849" name="Oval 1212"/>
              <p:cNvSpPr/>
              <p:nvPr/>
            </p:nvSpPr>
            <p:spPr>
              <a:xfrm rot="20344800">
                <a:off x="1646640" y="622548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0" name="Rectangle 1213"/>
              <p:cNvSpPr/>
              <p:nvPr/>
            </p:nvSpPr>
            <p:spPr>
              <a:xfrm rot="20344800">
                <a:off x="1638000" y="612144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1" name="Oval 1214"/>
              <p:cNvSpPr/>
              <p:nvPr/>
            </p:nvSpPr>
            <p:spPr>
              <a:xfrm rot="20344800">
                <a:off x="1613880" y="611856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2" name="AutoShape 1215"/>
              <p:cNvSpPr/>
              <p:nvPr/>
            </p:nvSpPr>
            <p:spPr>
              <a:xfrm rot="14944800">
                <a:off x="1545480" y="599436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53" name="Group 1216"/>
              <p:cNvGrpSpPr/>
              <p:nvPr/>
            </p:nvGrpSpPr>
            <p:grpSpPr>
              <a:xfrm>
                <a:off x="1712160" y="6152760"/>
                <a:ext cx="61920" cy="70200"/>
                <a:chOff x="1712160" y="6152760"/>
                <a:chExt cx="61920" cy="70200"/>
              </a:xfrm>
            </p:grpSpPr>
            <p:sp>
              <p:nvSpPr>
                <p:cNvPr id="1854" name="Line 1217"/>
                <p:cNvSpPr/>
                <p:nvPr/>
              </p:nvSpPr>
              <p:spPr>
                <a:xfrm flipV="1">
                  <a:off x="1712160" y="6155640"/>
                  <a:ext cx="17280" cy="6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5" name="Line 1218"/>
                <p:cNvSpPr/>
                <p:nvPr/>
              </p:nvSpPr>
              <p:spPr>
                <a:xfrm>
                  <a:off x="1730160" y="6152760"/>
                  <a:ext cx="43920" cy="58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856" name="Line 1219"/>
              <p:cNvSpPr/>
              <p:nvPr/>
            </p:nvSpPr>
            <p:spPr>
              <a:xfrm flipV="1">
                <a:off x="1713600" y="6170040"/>
                <a:ext cx="96120" cy="58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7" name="Line 1220"/>
              <p:cNvSpPr/>
              <p:nvPr/>
            </p:nvSpPr>
            <p:spPr>
              <a:xfrm>
                <a:off x="1801440" y="6173280"/>
                <a:ext cx="63720" cy="3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8" name="Line 1221"/>
              <p:cNvSpPr/>
              <p:nvPr/>
            </p:nvSpPr>
            <p:spPr>
              <a:xfrm>
                <a:off x="1703520" y="6236280"/>
                <a:ext cx="45360" cy="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9" name="Line 1222"/>
              <p:cNvSpPr/>
              <p:nvPr/>
            </p:nvSpPr>
            <p:spPr>
              <a:xfrm>
                <a:off x="1743480" y="6239880"/>
                <a:ext cx="51840" cy="67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60" name="Group 1223"/>
              <p:cNvGrpSpPr/>
              <p:nvPr/>
            </p:nvGrpSpPr>
            <p:grpSpPr>
              <a:xfrm>
                <a:off x="1525320" y="6206760"/>
                <a:ext cx="135720" cy="158760"/>
                <a:chOff x="1525320" y="6206760"/>
                <a:chExt cx="135720" cy="158760"/>
              </a:xfrm>
            </p:grpSpPr>
            <p:grpSp>
              <p:nvGrpSpPr>
                <p:cNvPr id="1861" name="Group 1224"/>
                <p:cNvGrpSpPr/>
                <p:nvPr/>
              </p:nvGrpSpPr>
              <p:grpSpPr>
                <a:xfrm>
                  <a:off x="1585080" y="6206760"/>
                  <a:ext cx="60120" cy="73080"/>
                  <a:chOff x="1585080" y="6206760"/>
                  <a:chExt cx="60120" cy="73080"/>
                </a:xfrm>
              </p:grpSpPr>
              <p:sp>
                <p:nvSpPr>
                  <p:cNvPr id="1862" name="Line 1225"/>
                  <p:cNvSpPr/>
                  <p:nvPr/>
                </p:nvSpPr>
                <p:spPr>
                  <a:xfrm flipH="1" flipV="1">
                    <a:off x="1587240" y="6208560"/>
                    <a:ext cx="57960" cy="38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63" name="Line 1226"/>
                  <p:cNvSpPr/>
                  <p:nvPr/>
                </p:nvSpPr>
                <p:spPr>
                  <a:xfrm>
                    <a:off x="1585080" y="6206760"/>
                    <a:ext cx="6120" cy="73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864" name="Line 1227"/>
                <p:cNvSpPr/>
                <p:nvPr/>
              </p:nvSpPr>
              <p:spPr>
                <a:xfrm flipH="1">
                  <a:off x="1537920" y="6252480"/>
                  <a:ext cx="110880" cy="20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65" name="Line 1228"/>
                <p:cNvSpPr/>
                <p:nvPr/>
              </p:nvSpPr>
              <p:spPr>
                <a:xfrm flipH="1">
                  <a:off x="1525320" y="6269760"/>
                  <a:ext cx="20160" cy="72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66" name="Line 1229"/>
                <p:cNvSpPr/>
                <p:nvPr/>
              </p:nvSpPr>
              <p:spPr>
                <a:xfrm flipH="1">
                  <a:off x="1630440" y="6251760"/>
                  <a:ext cx="30600" cy="3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67" name="Line 1230"/>
                <p:cNvSpPr/>
                <p:nvPr/>
              </p:nvSpPr>
              <p:spPr>
                <a:xfrm>
                  <a:off x="1633320" y="6281280"/>
                  <a:ext cx="6480" cy="84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868" name="Group 1231"/>
            <p:cNvGrpSpPr/>
            <p:nvPr/>
          </p:nvGrpSpPr>
          <p:grpSpPr>
            <a:xfrm>
              <a:off x="2942280" y="4859640"/>
              <a:ext cx="384120" cy="376200"/>
              <a:chOff x="2942280" y="4859640"/>
              <a:chExt cx="384120" cy="376200"/>
            </a:xfrm>
          </p:grpSpPr>
          <p:sp>
            <p:nvSpPr>
              <p:cNvPr id="1869" name="Oval 1232"/>
              <p:cNvSpPr/>
              <p:nvPr/>
            </p:nvSpPr>
            <p:spPr>
              <a:xfrm rot="18163200">
                <a:off x="3156120" y="504648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0" name="Rectangle 1233"/>
              <p:cNvSpPr/>
              <p:nvPr/>
            </p:nvSpPr>
            <p:spPr>
              <a:xfrm rot="18163200">
                <a:off x="3119400" y="496728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1" name="Oval 1234"/>
              <p:cNvSpPr/>
              <p:nvPr/>
            </p:nvSpPr>
            <p:spPr>
              <a:xfrm rot="18163200">
                <a:off x="3069000" y="498456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2" name="AutoShape 1235"/>
              <p:cNvSpPr/>
              <p:nvPr/>
            </p:nvSpPr>
            <p:spPr>
              <a:xfrm rot="12763200">
                <a:off x="2970360" y="4885920"/>
                <a:ext cx="140760" cy="14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3" name="Group 1236"/>
              <p:cNvGrpSpPr/>
              <p:nvPr/>
            </p:nvGrpSpPr>
            <p:grpSpPr>
              <a:xfrm>
                <a:off x="3182400" y="4959720"/>
                <a:ext cx="69840" cy="66960"/>
                <a:chOff x="3182400" y="4959720"/>
                <a:chExt cx="69840" cy="66960"/>
              </a:xfrm>
            </p:grpSpPr>
            <p:sp>
              <p:nvSpPr>
                <p:cNvPr id="1874" name="Line 1237"/>
                <p:cNvSpPr/>
                <p:nvPr/>
              </p:nvSpPr>
              <p:spPr>
                <a:xfrm flipH="1" flipV="1">
                  <a:off x="3183840" y="4962240"/>
                  <a:ext cx="24840" cy="64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75" name="Line 1238"/>
                <p:cNvSpPr/>
                <p:nvPr/>
              </p:nvSpPr>
              <p:spPr>
                <a:xfrm>
                  <a:off x="3182400" y="4959720"/>
                  <a:ext cx="6984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876" name="Line 1239"/>
              <p:cNvSpPr/>
              <p:nvPr/>
            </p:nvSpPr>
            <p:spPr>
              <a:xfrm flipV="1">
                <a:off x="3212640" y="4925880"/>
                <a:ext cx="43920" cy="10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7" name="Line 1240"/>
              <p:cNvSpPr/>
              <p:nvPr/>
            </p:nvSpPr>
            <p:spPr>
              <a:xfrm flipV="1">
                <a:off x="3252240" y="4926240"/>
                <a:ext cx="74160" cy="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8" name="Line 1241"/>
              <p:cNvSpPr/>
              <p:nvPr/>
            </p:nvSpPr>
            <p:spPr>
              <a:xfrm flipV="1">
                <a:off x="3209400" y="5019480"/>
                <a:ext cx="39960" cy="2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9" name="Line 1242"/>
              <p:cNvSpPr/>
              <p:nvPr/>
            </p:nvSpPr>
            <p:spPr>
              <a:xfrm>
                <a:off x="3243960" y="5021640"/>
                <a:ext cx="81360" cy="2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80" name="Group 1243"/>
              <p:cNvGrpSpPr/>
              <p:nvPr/>
            </p:nvGrpSpPr>
            <p:grpSpPr>
              <a:xfrm>
                <a:off x="3096720" y="5080680"/>
                <a:ext cx="136800" cy="155160"/>
                <a:chOff x="3096720" y="5080680"/>
                <a:chExt cx="136800" cy="155160"/>
              </a:xfrm>
            </p:grpSpPr>
            <p:grpSp>
              <p:nvGrpSpPr>
                <p:cNvPr id="1881" name="Group 1244"/>
                <p:cNvGrpSpPr/>
                <p:nvPr/>
              </p:nvGrpSpPr>
              <p:grpSpPr>
                <a:xfrm>
                  <a:off x="3096720" y="5086440"/>
                  <a:ext cx="72000" cy="59400"/>
                  <a:chOff x="3096720" y="5086440"/>
                  <a:chExt cx="72000" cy="59400"/>
                </a:xfrm>
              </p:grpSpPr>
              <p:sp>
                <p:nvSpPr>
                  <p:cNvPr id="1882" name="Line 1245"/>
                  <p:cNvSpPr/>
                  <p:nvPr/>
                </p:nvSpPr>
                <p:spPr>
                  <a:xfrm flipH="1">
                    <a:off x="3099600" y="5086440"/>
                    <a:ext cx="69120" cy="4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83" name="Line 1246"/>
                  <p:cNvSpPr/>
                  <p:nvPr/>
                </p:nvSpPr>
                <p:spPr>
                  <a:xfrm>
                    <a:off x="3096720" y="5090760"/>
                    <a:ext cx="47520" cy="55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884" name="Line 1247"/>
                <p:cNvSpPr/>
                <p:nvPr/>
              </p:nvSpPr>
              <p:spPr>
                <a:xfrm flipH="1">
                  <a:off x="3096720" y="5088960"/>
                  <a:ext cx="78120" cy="83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85" name="Line 1248"/>
                <p:cNvSpPr/>
                <p:nvPr/>
              </p:nvSpPr>
              <p:spPr>
                <a:xfrm>
                  <a:off x="3100680" y="5165280"/>
                  <a:ext cx="255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86" name="Line 1249"/>
                <p:cNvSpPr/>
                <p:nvPr/>
              </p:nvSpPr>
              <p:spPr>
                <a:xfrm flipH="1">
                  <a:off x="3179160" y="5080680"/>
                  <a:ext cx="5040" cy="46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87" name="Line 1250"/>
                <p:cNvSpPr/>
                <p:nvPr/>
              </p:nvSpPr>
              <p:spPr>
                <a:xfrm>
                  <a:off x="3179160" y="5121360"/>
                  <a:ext cx="54360" cy="6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888" name="Group 1251"/>
            <p:cNvGrpSpPr/>
            <p:nvPr/>
          </p:nvGrpSpPr>
          <p:grpSpPr>
            <a:xfrm>
              <a:off x="2496240" y="5805000"/>
              <a:ext cx="363600" cy="360000"/>
              <a:chOff x="2496240" y="5805000"/>
              <a:chExt cx="363600" cy="360000"/>
            </a:xfrm>
          </p:grpSpPr>
          <p:sp>
            <p:nvSpPr>
              <p:cNvPr id="1889" name="Oval 1252"/>
              <p:cNvSpPr/>
              <p:nvPr/>
            </p:nvSpPr>
            <p:spPr>
              <a:xfrm>
                <a:off x="2645640" y="604620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0" name="Rectangle 1253"/>
              <p:cNvSpPr/>
              <p:nvPr/>
            </p:nvSpPr>
            <p:spPr>
              <a:xfrm>
                <a:off x="2658240" y="593820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1" name="Oval 1254"/>
              <p:cNvSpPr/>
              <p:nvPr/>
            </p:nvSpPr>
            <p:spPr>
              <a:xfrm>
                <a:off x="2653560" y="593280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2" name="AutoShape 1255"/>
              <p:cNvSpPr/>
              <p:nvPr/>
            </p:nvSpPr>
            <p:spPr>
              <a:xfrm rot="16200000">
                <a:off x="2608920" y="5804280"/>
                <a:ext cx="14256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93" name="Group 1256"/>
              <p:cNvGrpSpPr/>
              <p:nvPr/>
            </p:nvGrpSpPr>
            <p:grpSpPr>
              <a:xfrm>
                <a:off x="2713320" y="5996880"/>
                <a:ext cx="61920" cy="70560"/>
                <a:chOff x="2713320" y="5996880"/>
                <a:chExt cx="61920" cy="70560"/>
              </a:xfrm>
            </p:grpSpPr>
            <p:sp>
              <p:nvSpPr>
                <p:cNvPr id="1894" name="Line 1257"/>
                <p:cNvSpPr/>
                <p:nvPr/>
              </p:nvSpPr>
              <p:spPr>
                <a:xfrm flipV="1">
                  <a:off x="2713320" y="599940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5" name="Line 1258"/>
                <p:cNvSpPr/>
                <p:nvPr/>
              </p:nvSpPr>
              <p:spPr>
                <a:xfrm>
                  <a:off x="2755080" y="599688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896" name="Line 1259"/>
              <p:cNvSpPr/>
              <p:nvPr/>
            </p:nvSpPr>
            <p:spPr>
              <a:xfrm flipV="1">
                <a:off x="2712600" y="6041880"/>
                <a:ext cx="11088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7" name="Line 1260"/>
              <p:cNvSpPr/>
              <p:nvPr/>
            </p:nvSpPr>
            <p:spPr>
              <a:xfrm>
                <a:off x="2814480" y="604188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8" name="Line 1261"/>
              <p:cNvSpPr/>
              <p:nvPr/>
            </p:nvSpPr>
            <p:spPr>
              <a:xfrm>
                <a:off x="2700360" y="606528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9" name="Line 1262"/>
              <p:cNvSpPr/>
              <p:nvPr/>
            </p:nvSpPr>
            <p:spPr>
              <a:xfrm>
                <a:off x="2736720" y="608328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00" name="Group 1263"/>
              <p:cNvGrpSpPr/>
              <p:nvPr/>
            </p:nvGrpSpPr>
            <p:grpSpPr>
              <a:xfrm>
                <a:off x="2496240" y="5995800"/>
                <a:ext cx="159120" cy="168480"/>
                <a:chOff x="2496240" y="5995800"/>
                <a:chExt cx="159120" cy="168480"/>
              </a:xfrm>
            </p:grpSpPr>
            <p:grpSp>
              <p:nvGrpSpPr>
                <p:cNvPr id="1901" name="Group 1264"/>
                <p:cNvGrpSpPr/>
                <p:nvPr/>
              </p:nvGrpSpPr>
              <p:grpSpPr>
                <a:xfrm>
                  <a:off x="2580120" y="5995800"/>
                  <a:ext cx="62280" cy="70560"/>
                  <a:chOff x="2580120" y="5995800"/>
                  <a:chExt cx="62280" cy="70560"/>
                </a:xfrm>
              </p:grpSpPr>
              <p:sp>
                <p:nvSpPr>
                  <p:cNvPr id="1902" name="Line 1265"/>
                  <p:cNvSpPr/>
                  <p:nvPr/>
                </p:nvSpPr>
                <p:spPr>
                  <a:xfrm flipH="1" flipV="1">
                    <a:off x="2601720" y="599832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03" name="Line 1266"/>
                  <p:cNvSpPr/>
                  <p:nvPr/>
                </p:nvSpPr>
                <p:spPr>
                  <a:xfrm flipH="1">
                    <a:off x="2580120" y="599580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904" name="Line 1267"/>
                <p:cNvSpPr/>
                <p:nvPr/>
              </p:nvSpPr>
              <p:spPr>
                <a:xfrm flipH="1" flipV="1">
                  <a:off x="2532960" y="604044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5" name="Line 1268"/>
                <p:cNvSpPr/>
                <p:nvPr/>
              </p:nvSpPr>
              <p:spPr>
                <a:xfrm flipH="1">
                  <a:off x="2496240" y="6040440"/>
                  <a:ext cx="44640" cy="6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6" name="Line 1269"/>
                <p:cNvSpPr/>
                <p:nvPr/>
              </p:nvSpPr>
              <p:spPr>
                <a:xfrm flipH="1">
                  <a:off x="2614680" y="606528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7" name="Line 1270"/>
                <p:cNvSpPr/>
                <p:nvPr/>
              </p:nvSpPr>
              <p:spPr>
                <a:xfrm flipH="1">
                  <a:off x="2594880" y="6082920"/>
                  <a:ext cx="2412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08" name="Group 1271"/>
            <p:cNvGrpSpPr/>
            <p:nvPr/>
          </p:nvGrpSpPr>
          <p:grpSpPr>
            <a:xfrm>
              <a:off x="2045160" y="5321520"/>
              <a:ext cx="383400" cy="390960"/>
              <a:chOff x="2045160" y="5321520"/>
              <a:chExt cx="383400" cy="390960"/>
            </a:xfrm>
          </p:grpSpPr>
          <p:sp>
            <p:nvSpPr>
              <p:cNvPr id="1909" name="Oval 1272"/>
              <p:cNvSpPr/>
              <p:nvPr/>
            </p:nvSpPr>
            <p:spPr>
              <a:xfrm rot="19170000">
                <a:off x="2229120" y="555084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0" name="Rectangle 1273"/>
              <p:cNvSpPr/>
              <p:nvPr/>
            </p:nvSpPr>
            <p:spPr>
              <a:xfrm rot="19170000">
                <a:off x="2202480" y="545724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1" name="Oval 1274"/>
              <p:cNvSpPr/>
              <p:nvPr/>
            </p:nvSpPr>
            <p:spPr>
              <a:xfrm rot="19170000">
                <a:off x="2162520" y="546300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2" name="AutoShape 1275"/>
              <p:cNvSpPr/>
              <p:nvPr/>
            </p:nvSpPr>
            <p:spPr>
              <a:xfrm rot="13770000">
                <a:off x="2075040" y="534996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13" name="Group 1276"/>
              <p:cNvGrpSpPr/>
              <p:nvPr/>
            </p:nvGrpSpPr>
            <p:grpSpPr>
              <a:xfrm>
                <a:off x="2281680" y="5465880"/>
                <a:ext cx="61200" cy="72000"/>
                <a:chOff x="2281680" y="5465880"/>
                <a:chExt cx="61200" cy="72000"/>
              </a:xfrm>
            </p:grpSpPr>
            <p:sp>
              <p:nvSpPr>
                <p:cNvPr id="1914" name="Line 1277"/>
                <p:cNvSpPr/>
                <p:nvPr/>
              </p:nvSpPr>
              <p:spPr>
                <a:xfrm flipH="1" flipV="1">
                  <a:off x="2282400" y="5468760"/>
                  <a:ext cx="5760" cy="69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5" name="Line 1278"/>
                <p:cNvSpPr/>
                <p:nvPr/>
              </p:nvSpPr>
              <p:spPr>
                <a:xfrm>
                  <a:off x="2281680" y="5465880"/>
                  <a:ext cx="61200" cy="40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16" name="Line 1279"/>
              <p:cNvSpPr/>
              <p:nvPr/>
            </p:nvSpPr>
            <p:spPr>
              <a:xfrm flipV="1">
                <a:off x="2291400" y="5455800"/>
                <a:ext cx="7092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7" name="Line 1280"/>
              <p:cNvSpPr/>
              <p:nvPr/>
            </p:nvSpPr>
            <p:spPr>
              <a:xfrm>
                <a:off x="2355480" y="5461560"/>
                <a:ext cx="730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8" name="Line 1281"/>
              <p:cNvSpPr/>
              <p:nvPr/>
            </p:nvSpPr>
            <p:spPr>
              <a:xfrm flipV="1">
                <a:off x="2284200" y="5543280"/>
                <a:ext cx="44640" cy="1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9" name="Line 1282"/>
              <p:cNvSpPr/>
              <p:nvPr/>
            </p:nvSpPr>
            <p:spPr>
              <a:xfrm>
                <a:off x="2323800" y="5543280"/>
                <a:ext cx="71280" cy="46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20" name="Group 1283"/>
              <p:cNvGrpSpPr/>
              <p:nvPr/>
            </p:nvGrpSpPr>
            <p:grpSpPr>
              <a:xfrm>
                <a:off x="2140920" y="5565240"/>
                <a:ext cx="127080" cy="147240"/>
                <a:chOff x="2140920" y="5565240"/>
                <a:chExt cx="127080" cy="147240"/>
              </a:xfrm>
            </p:grpSpPr>
            <p:grpSp>
              <p:nvGrpSpPr>
                <p:cNvPr id="1921" name="Group 1284"/>
                <p:cNvGrpSpPr/>
                <p:nvPr/>
              </p:nvGrpSpPr>
              <p:grpSpPr>
                <a:xfrm>
                  <a:off x="2163240" y="5565240"/>
                  <a:ext cx="70200" cy="66960"/>
                  <a:chOff x="2163240" y="5565240"/>
                  <a:chExt cx="70200" cy="66960"/>
                </a:xfrm>
              </p:grpSpPr>
              <p:sp>
                <p:nvSpPr>
                  <p:cNvPr id="1922" name="Line 1285"/>
                  <p:cNvSpPr/>
                  <p:nvPr/>
                </p:nvSpPr>
                <p:spPr>
                  <a:xfrm flipH="1" flipV="1">
                    <a:off x="2165760" y="5566320"/>
                    <a:ext cx="67680" cy="16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23" name="Line 1286"/>
                  <p:cNvSpPr/>
                  <p:nvPr/>
                </p:nvSpPr>
                <p:spPr>
                  <a:xfrm>
                    <a:off x="2163240" y="5565240"/>
                    <a:ext cx="30240" cy="66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924" name="Line 1287"/>
                <p:cNvSpPr/>
                <p:nvPr/>
              </p:nvSpPr>
              <p:spPr>
                <a:xfrm flipH="1">
                  <a:off x="2140920" y="5587200"/>
                  <a:ext cx="97560" cy="5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5" name="Line 1288"/>
                <p:cNvSpPr/>
                <p:nvPr/>
              </p:nvSpPr>
              <p:spPr>
                <a:xfrm>
                  <a:off x="2147040" y="5637960"/>
                  <a:ext cx="5040" cy="7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6" name="Line 1289"/>
                <p:cNvSpPr/>
                <p:nvPr/>
              </p:nvSpPr>
              <p:spPr>
                <a:xfrm flipH="1">
                  <a:off x="2232360" y="5582160"/>
                  <a:ext cx="17640" cy="42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7" name="Line 1290"/>
                <p:cNvSpPr/>
                <p:nvPr/>
              </p:nvSpPr>
              <p:spPr>
                <a:xfrm>
                  <a:off x="2233800" y="5619240"/>
                  <a:ext cx="34200" cy="77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28" name="Group 1291"/>
            <p:cNvGrpSpPr/>
            <p:nvPr/>
          </p:nvGrpSpPr>
          <p:grpSpPr>
            <a:xfrm>
              <a:off x="3093840" y="5749200"/>
              <a:ext cx="387000" cy="349560"/>
              <a:chOff x="3093840" y="5749200"/>
              <a:chExt cx="387000" cy="349560"/>
            </a:xfrm>
          </p:grpSpPr>
          <p:sp>
            <p:nvSpPr>
              <p:cNvPr id="1929" name="Oval 1292"/>
              <p:cNvSpPr/>
              <p:nvPr/>
            </p:nvSpPr>
            <p:spPr>
              <a:xfrm rot="17304600">
                <a:off x="3319200" y="589932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0" name="Rectangle 1293"/>
              <p:cNvSpPr/>
              <p:nvPr/>
            </p:nvSpPr>
            <p:spPr>
              <a:xfrm rot="17304600">
                <a:off x="3275640" y="583308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1" name="Oval 1294"/>
              <p:cNvSpPr/>
              <p:nvPr/>
            </p:nvSpPr>
            <p:spPr>
              <a:xfrm rot="17304600">
                <a:off x="3219480" y="586260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2" name="AutoShape 1295"/>
              <p:cNvSpPr/>
              <p:nvPr/>
            </p:nvSpPr>
            <p:spPr>
              <a:xfrm rot="11904000">
                <a:off x="3112920" y="5778360"/>
                <a:ext cx="140760" cy="14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33" name="Group 1296"/>
              <p:cNvGrpSpPr/>
              <p:nvPr/>
            </p:nvGrpSpPr>
            <p:grpSpPr>
              <a:xfrm>
                <a:off x="3321360" y="5817600"/>
                <a:ext cx="72720" cy="58320"/>
                <a:chOff x="3321360" y="5817600"/>
                <a:chExt cx="72720" cy="58320"/>
              </a:xfrm>
            </p:grpSpPr>
            <p:sp>
              <p:nvSpPr>
                <p:cNvPr id="1934" name="Line 1297"/>
                <p:cNvSpPr/>
                <p:nvPr/>
              </p:nvSpPr>
              <p:spPr>
                <a:xfrm flipH="1" flipV="1">
                  <a:off x="3323160" y="5819760"/>
                  <a:ext cx="40320" cy="56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5" name="Line 1298"/>
                <p:cNvSpPr/>
                <p:nvPr/>
              </p:nvSpPr>
              <p:spPr>
                <a:xfrm>
                  <a:off x="3321360" y="5817600"/>
                  <a:ext cx="72720" cy="2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36" name="Line 1299"/>
              <p:cNvSpPr/>
              <p:nvPr/>
            </p:nvSpPr>
            <p:spPr>
              <a:xfrm flipV="1">
                <a:off x="3368160" y="5766120"/>
                <a:ext cx="16560" cy="11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7" name="Line 1300"/>
              <p:cNvSpPr/>
              <p:nvPr/>
            </p:nvSpPr>
            <p:spPr>
              <a:xfrm flipV="1">
                <a:off x="3382200" y="5749200"/>
                <a:ext cx="7020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8" name="Line 1301"/>
              <p:cNvSpPr/>
              <p:nvPr/>
            </p:nvSpPr>
            <p:spPr>
              <a:xfrm flipV="1">
                <a:off x="3368160" y="5858640"/>
                <a:ext cx="32760" cy="32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9" name="Line 1302"/>
              <p:cNvSpPr/>
              <p:nvPr/>
            </p:nvSpPr>
            <p:spPr>
              <a:xfrm>
                <a:off x="3396240" y="5862240"/>
                <a:ext cx="84600" cy="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40" name="Group 1303"/>
              <p:cNvGrpSpPr/>
              <p:nvPr/>
            </p:nvGrpSpPr>
            <p:grpSpPr>
              <a:xfrm>
                <a:off x="3270600" y="5934240"/>
                <a:ext cx="155880" cy="164520"/>
                <a:chOff x="3270600" y="5934240"/>
                <a:chExt cx="155880" cy="164520"/>
              </a:xfrm>
            </p:grpSpPr>
            <p:grpSp>
              <p:nvGrpSpPr>
                <p:cNvPr id="1941" name="Group 1304"/>
                <p:cNvGrpSpPr/>
                <p:nvPr/>
              </p:nvGrpSpPr>
              <p:grpSpPr>
                <a:xfrm>
                  <a:off x="3270600" y="5943240"/>
                  <a:ext cx="68760" cy="63720"/>
                  <a:chOff x="3270600" y="5943240"/>
                  <a:chExt cx="68760" cy="63720"/>
                </a:xfrm>
              </p:grpSpPr>
              <p:sp>
                <p:nvSpPr>
                  <p:cNvPr id="1942" name="Line 1305"/>
                  <p:cNvSpPr/>
                  <p:nvPr/>
                </p:nvSpPr>
                <p:spPr>
                  <a:xfrm flipH="1">
                    <a:off x="3273480" y="5943240"/>
                    <a:ext cx="65880" cy="21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43" name="Line 1306"/>
                  <p:cNvSpPr/>
                  <p:nvPr/>
                </p:nvSpPr>
                <p:spPr>
                  <a:xfrm>
                    <a:off x="3270600" y="5965560"/>
                    <a:ext cx="59760" cy="41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944" name="Line 1307"/>
                <p:cNvSpPr/>
                <p:nvPr/>
              </p:nvSpPr>
              <p:spPr>
                <a:xfrm flipH="1">
                  <a:off x="3290400" y="5944320"/>
                  <a:ext cx="55440" cy="1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5" name="Line 1308"/>
                <p:cNvSpPr/>
                <p:nvPr/>
              </p:nvSpPr>
              <p:spPr>
                <a:xfrm>
                  <a:off x="3292920" y="6036840"/>
                  <a:ext cx="4212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6" name="Line 1309"/>
                <p:cNvSpPr/>
                <p:nvPr/>
              </p:nvSpPr>
              <p:spPr>
                <a:xfrm>
                  <a:off x="3353040" y="5934240"/>
                  <a:ext cx="6480" cy="45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7" name="Line 1310"/>
                <p:cNvSpPr/>
                <p:nvPr/>
              </p:nvSpPr>
              <p:spPr>
                <a:xfrm>
                  <a:off x="3358080" y="5974560"/>
                  <a:ext cx="68400" cy="4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48" name="Group 1311"/>
            <p:cNvGrpSpPr/>
            <p:nvPr/>
          </p:nvGrpSpPr>
          <p:grpSpPr>
            <a:xfrm>
              <a:off x="2546280" y="5362920"/>
              <a:ext cx="389880" cy="386640"/>
              <a:chOff x="2546280" y="5362920"/>
              <a:chExt cx="389880" cy="386640"/>
            </a:xfrm>
          </p:grpSpPr>
          <p:sp>
            <p:nvSpPr>
              <p:cNvPr id="1949" name="Oval 1312"/>
              <p:cNvSpPr/>
              <p:nvPr/>
            </p:nvSpPr>
            <p:spPr>
              <a:xfrm rot="2743800">
                <a:off x="2672640" y="557712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0" name="Rectangle 1313"/>
              <p:cNvSpPr/>
              <p:nvPr/>
            </p:nvSpPr>
            <p:spPr>
              <a:xfrm rot="2743800">
                <a:off x="2727360" y="548820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1" name="Oval 1314"/>
              <p:cNvSpPr/>
              <p:nvPr/>
            </p:nvSpPr>
            <p:spPr>
              <a:xfrm rot="2743800">
                <a:off x="2760480" y="550008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2" name="AutoShape 1315"/>
              <p:cNvSpPr/>
              <p:nvPr/>
            </p:nvSpPr>
            <p:spPr>
              <a:xfrm rot="18943800">
                <a:off x="2764440" y="5391360"/>
                <a:ext cx="140760" cy="1454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53" name="Group 1316"/>
              <p:cNvGrpSpPr/>
              <p:nvPr/>
            </p:nvGrpSpPr>
            <p:grpSpPr>
              <a:xfrm>
                <a:off x="2730960" y="5601960"/>
                <a:ext cx="70920" cy="63000"/>
                <a:chOff x="2730960" y="5601960"/>
                <a:chExt cx="70920" cy="63000"/>
              </a:xfrm>
            </p:grpSpPr>
            <p:sp>
              <p:nvSpPr>
                <p:cNvPr id="1954" name="Line 1317"/>
                <p:cNvSpPr/>
                <p:nvPr/>
              </p:nvSpPr>
              <p:spPr>
                <a:xfrm flipV="1">
                  <a:off x="2730960" y="5602680"/>
                  <a:ext cx="68040" cy="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5" name="Line 1318"/>
                <p:cNvSpPr/>
                <p:nvPr/>
              </p:nvSpPr>
              <p:spPr>
                <a:xfrm flipH="1">
                  <a:off x="2765880" y="5601960"/>
                  <a:ext cx="36000" cy="63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56" name="Line 1319"/>
              <p:cNvSpPr/>
              <p:nvPr/>
            </p:nvSpPr>
            <p:spPr>
              <a:xfrm>
                <a:off x="2726280" y="5615280"/>
                <a:ext cx="92160" cy="6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7" name="Line 1320"/>
              <p:cNvSpPr/>
              <p:nvPr/>
            </p:nvSpPr>
            <p:spPr>
              <a:xfrm flipH="1">
                <a:off x="2802240" y="5675760"/>
                <a:ext cx="10080" cy="7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8" name="Line 1321"/>
              <p:cNvSpPr/>
              <p:nvPr/>
            </p:nvSpPr>
            <p:spPr>
              <a:xfrm>
                <a:off x="2714760" y="5609520"/>
                <a:ext cx="14040" cy="4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9" name="Line 1322"/>
              <p:cNvSpPr/>
              <p:nvPr/>
            </p:nvSpPr>
            <p:spPr>
              <a:xfrm flipH="1">
                <a:off x="2687040" y="5648400"/>
                <a:ext cx="41040" cy="7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60" name="Group 1323"/>
              <p:cNvGrpSpPr/>
              <p:nvPr/>
            </p:nvGrpSpPr>
            <p:grpSpPr>
              <a:xfrm>
                <a:off x="2546280" y="5470920"/>
                <a:ext cx="147600" cy="130320"/>
                <a:chOff x="2546280" y="5470920"/>
                <a:chExt cx="147600" cy="130320"/>
              </a:xfrm>
            </p:grpSpPr>
            <p:grpSp>
              <p:nvGrpSpPr>
                <p:cNvPr id="1961" name="Group 1324"/>
                <p:cNvGrpSpPr/>
                <p:nvPr/>
              </p:nvGrpSpPr>
              <p:grpSpPr>
                <a:xfrm>
                  <a:off x="2629440" y="5488920"/>
                  <a:ext cx="64440" cy="71280"/>
                  <a:chOff x="2629440" y="5488920"/>
                  <a:chExt cx="64440" cy="71280"/>
                </a:xfrm>
              </p:grpSpPr>
              <p:sp>
                <p:nvSpPr>
                  <p:cNvPr id="1962" name="Line 1325"/>
                  <p:cNvSpPr/>
                  <p:nvPr/>
                </p:nvSpPr>
                <p:spPr>
                  <a:xfrm flipV="1">
                    <a:off x="2682000" y="5492160"/>
                    <a:ext cx="11520" cy="68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63" name="Line 1326"/>
                  <p:cNvSpPr/>
                  <p:nvPr/>
                </p:nvSpPr>
                <p:spPr>
                  <a:xfrm flipH="1">
                    <a:off x="2629440" y="5488920"/>
                    <a:ext cx="64440" cy="34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964" name="Line 1327"/>
                <p:cNvSpPr/>
                <p:nvPr/>
              </p:nvSpPr>
              <p:spPr>
                <a:xfrm flipH="1" flipV="1">
                  <a:off x="2615040" y="5470920"/>
                  <a:ext cx="63000" cy="9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5" name="Line 1328"/>
                <p:cNvSpPr/>
                <p:nvPr/>
              </p:nvSpPr>
              <p:spPr>
                <a:xfrm flipH="1">
                  <a:off x="2546280" y="5476680"/>
                  <a:ext cx="74160" cy="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6" name="Line 1329"/>
                <p:cNvSpPr/>
                <p:nvPr/>
              </p:nvSpPr>
              <p:spPr>
                <a:xfrm flipH="1" flipV="1">
                  <a:off x="2640600" y="5561640"/>
                  <a:ext cx="43200" cy="15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7" name="Line 1330"/>
                <p:cNvSpPr/>
                <p:nvPr/>
              </p:nvSpPr>
              <p:spPr>
                <a:xfrm flipH="1">
                  <a:off x="2571120" y="5562720"/>
                  <a:ext cx="74520" cy="38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68" name="Group 1331"/>
            <p:cNvGrpSpPr/>
            <p:nvPr/>
          </p:nvGrpSpPr>
          <p:grpSpPr>
            <a:xfrm>
              <a:off x="972720" y="5853600"/>
              <a:ext cx="388800" cy="378720"/>
              <a:chOff x="972720" y="5853600"/>
              <a:chExt cx="388800" cy="378720"/>
            </a:xfrm>
          </p:grpSpPr>
          <p:sp>
            <p:nvSpPr>
              <p:cNvPr id="1969" name="Oval 1332"/>
              <p:cNvSpPr/>
              <p:nvPr/>
            </p:nvSpPr>
            <p:spPr>
              <a:xfrm rot="3211200">
                <a:off x="1083960" y="604800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0" name="Rectangle 1333"/>
              <p:cNvSpPr/>
              <p:nvPr/>
            </p:nvSpPr>
            <p:spPr>
              <a:xfrm rot="3211200">
                <a:off x="1144080" y="596556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1" name="Oval 1334"/>
              <p:cNvSpPr/>
              <p:nvPr/>
            </p:nvSpPr>
            <p:spPr>
              <a:xfrm rot="3211200">
                <a:off x="1181520" y="598248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2" name="AutoShape 1335"/>
              <p:cNvSpPr/>
              <p:nvPr/>
            </p:nvSpPr>
            <p:spPr>
              <a:xfrm rot="19411200">
                <a:off x="1191240" y="5880960"/>
                <a:ext cx="140760" cy="14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73" name="Group 1336"/>
              <p:cNvGrpSpPr/>
              <p:nvPr/>
            </p:nvGrpSpPr>
            <p:grpSpPr>
              <a:xfrm>
                <a:off x="1138680" y="6085800"/>
                <a:ext cx="71640" cy="57600"/>
                <a:chOff x="1138680" y="6085800"/>
                <a:chExt cx="71640" cy="57600"/>
              </a:xfrm>
            </p:grpSpPr>
            <p:sp>
              <p:nvSpPr>
                <p:cNvPr id="1974" name="Line 1337"/>
                <p:cNvSpPr/>
                <p:nvPr/>
              </p:nvSpPr>
              <p:spPr>
                <a:xfrm flipV="1">
                  <a:off x="1138680" y="6086160"/>
                  <a:ext cx="68760" cy="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75" name="Line 1338"/>
                <p:cNvSpPr/>
                <p:nvPr/>
              </p:nvSpPr>
              <p:spPr>
                <a:xfrm flipH="1">
                  <a:off x="1166400" y="6085800"/>
                  <a:ext cx="43920" cy="57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76" name="Line 1339"/>
              <p:cNvSpPr/>
              <p:nvPr/>
            </p:nvSpPr>
            <p:spPr>
              <a:xfrm>
                <a:off x="1133640" y="6089040"/>
                <a:ext cx="82440" cy="78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7" name="Line 1340"/>
              <p:cNvSpPr/>
              <p:nvPr/>
            </p:nvSpPr>
            <p:spPr>
              <a:xfrm flipH="1">
                <a:off x="1190880" y="6160680"/>
                <a:ext cx="1980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8" name="Line 1341"/>
              <p:cNvSpPr/>
              <p:nvPr/>
            </p:nvSpPr>
            <p:spPr>
              <a:xfrm>
                <a:off x="1123200" y="6081480"/>
                <a:ext cx="7560" cy="4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9" name="Line 1342"/>
              <p:cNvSpPr/>
              <p:nvPr/>
            </p:nvSpPr>
            <p:spPr>
              <a:xfrm flipH="1">
                <a:off x="1080360" y="6121440"/>
                <a:ext cx="50400" cy="68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80" name="Group 1343"/>
              <p:cNvGrpSpPr/>
              <p:nvPr/>
            </p:nvGrpSpPr>
            <p:grpSpPr>
              <a:xfrm>
                <a:off x="972720" y="5930280"/>
                <a:ext cx="145800" cy="123480"/>
                <a:chOff x="972720" y="5930280"/>
                <a:chExt cx="145800" cy="123480"/>
              </a:xfrm>
            </p:grpSpPr>
            <p:grpSp>
              <p:nvGrpSpPr>
                <p:cNvPr id="1981" name="Group 1344"/>
                <p:cNvGrpSpPr/>
                <p:nvPr/>
              </p:nvGrpSpPr>
              <p:grpSpPr>
                <a:xfrm>
                  <a:off x="1050120" y="5959080"/>
                  <a:ext cx="68400" cy="69120"/>
                  <a:chOff x="1050120" y="5959080"/>
                  <a:chExt cx="68400" cy="69120"/>
                </a:xfrm>
              </p:grpSpPr>
              <p:sp>
                <p:nvSpPr>
                  <p:cNvPr id="1982" name="Line 1345"/>
                  <p:cNvSpPr/>
                  <p:nvPr/>
                </p:nvSpPr>
                <p:spPr>
                  <a:xfrm flipV="1">
                    <a:off x="1097280" y="5961960"/>
                    <a:ext cx="20160" cy="66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83" name="Line 1346"/>
                  <p:cNvSpPr/>
                  <p:nvPr/>
                </p:nvSpPr>
                <p:spPr>
                  <a:xfrm flipH="1">
                    <a:off x="1050120" y="5959080"/>
                    <a:ext cx="68400" cy="24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984" name="Line 1347"/>
                <p:cNvSpPr/>
                <p:nvPr/>
              </p:nvSpPr>
              <p:spPr>
                <a:xfrm flipH="1" flipV="1">
                  <a:off x="1042560" y="5930280"/>
                  <a:ext cx="50040" cy="10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85" name="Line 1348"/>
                <p:cNvSpPr/>
                <p:nvPr/>
              </p:nvSpPr>
              <p:spPr>
                <a:xfrm flipH="1" flipV="1">
                  <a:off x="972720" y="5935320"/>
                  <a:ext cx="745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86" name="Line 1349"/>
                <p:cNvSpPr/>
                <p:nvPr/>
              </p:nvSpPr>
              <p:spPr>
                <a:xfrm flipH="1" flipV="1">
                  <a:off x="1055520" y="6023520"/>
                  <a:ext cx="41040" cy="21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87" name="Line 1350"/>
                <p:cNvSpPr/>
                <p:nvPr/>
              </p:nvSpPr>
              <p:spPr>
                <a:xfrm flipH="1">
                  <a:off x="981720" y="6025680"/>
                  <a:ext cx="78840" cy="28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88" name="Group 1351"/>
            <p:cNvGrpSpPr/>
            <p:nvPr/>
          </p:nvGrpSpPr>
          <p:grpSpPr>
            <a:xfrm>
              <a:off x="713160" y="4158360"/>
              <a:ext cx="363240" cy="360000"/>
              <a:chOff x="713160" y="4158360"/>
              <a:chExt cx="363240" cy="360000"/>
            </a:xfrm>
          </p:grpSpPr>
          <p:sp>
            <p:nvSpPr>
              <p:cNvPr id="1989" name="Oval 1352"/>
              <p:cNvSpPr/>
              <p:nvPr/>
            </p:nvSpPr>
            <p:spPr>
              <a:xfrm>
                <a:off x="862560" y="439956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0" name="Rectangle 1353"/>
              <p:cNvSpPr/>
              <p:nvPr/>
            </p:nvSpPr>
            <p:spPr>
              <a:xfrm>
                <a:off x="874800" y="429156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1" name="Oval 1354"/>
              <p:cNvSpPr/>
              <p:nvPr/>
            </p:nvSpPr>
            <p:spPr>
              <a:xfrm>
                <a:off x="870480" y="428616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2" name="AutoShape 1355"/>
              <p:cNvSpPr/>
              <p:nvPr/>
            </p:nvSpPr>
            <p:spPr>
              <a:xfrm rot="16200000">
                <a:off x="825840" y="4157640"/>
                <a:ext cx="14256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93" name="Group 1356"/>
              <p:cNvGrpSpPr/>
              <p:nvPr/>
            </p:nvGrpSpPr>
            <p:grpSpPr>
              <a:xfrm>
                <a:off x="930240" y="4350240"/>
                <a:ext cx="61920" cy="70560"/>
                <a:chOff x="930240" y="4350240"/>
                <a:chExt cx="61920" cy="70560"/>
              </a:xfrm>
            </p:grpSpPr>
            <p:sp>
              <p:nvSpPr>
                <p:cNvPr id="1994" name="Line 1357"/>
                <p:cNvSpPr/>
                <p:nvPr/>
              </p:nvSpPr>
              <p:spPr>
                <a:xfrm flipV="1">
                  <a:off x="930240" y="435276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95" name="Line 1358"/>
                <p:cNvSpPr/>
                <p:nvPr/>
              </p:nvSpPr>
              <p:spPr>
                <a:xfrm>
                  <a:off x="972000" y="435024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96" name="Line 1359"/>
              <p:cNvSpPr/>
              <p:nvPr/>
            </p:nvSpPr>
            <p:spPr>
              <a:xfrm flipV="1">
                <a:off x="929160" y="4395240"/>
                <a:ext cx="11052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7" name="Line 1360"/>
              <p:cNvSpPr/>
              <p:nvPr/>
            </p:nvSpPr>
            <p:spPr>
              <a:xfrm>
                <a:off x="1031040" y="439524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8" name="Line 1361"/>
              <p:cNvSpPr/>
              <p:nvPr/>
            </p:nvSpPr>
            <p:spPr>
              <a:xfrm>
                <a:off x="916920" y="441864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9" name="Line 1362"/>
              <p:cNvSpPr/>
              <p:nvPr/>
            </p:nvSpPr>
            <p:spPr>
              <a:xfrm>
                <a:off x="953640" y="443664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00" name="Group 1363"/>
              <p:cNvGrpSpPr/>
              <p:nvPr/>
            </p:nvGrpSpPr>
            <p:grpSpPr>
              <a:xfrm>
                <a:off x="713160" y="4349160"/>
                <a:ext cx="159120" cy="168480"/>
                <a:chOff x="713160" y="4349160"/>
                <a:chExt cx="159120" cy="168480"/>
              </a:xfrm>
            </p:grpSpPr>
            <p:grpSp>
              <p:nvGrpSpPr>
                <p:cNvPr id="2001" name="Group 1364"/>
                <p:cNvGrpSpPr/>
                <p:nvPr/>
              </p:nvGrpSpPr>
              <p:grpSpPr>
                <a:xfrm>
                  <a:off x="797040" y="4349160"/>
                  <a:ext cx="62280" cy="70560"/>
                  <a:chOff x="797040" y="4349160"/>
                  <a:chExt cx="62280" cy="70560"/>
                </a:xfrm>
              </p:grpSpPr>
              <p:sp>
                <p:nvSpPr>
                  <p:cNvPr id="2002" name="Line 1365"/>
                  <p:cNvSpPr/>
                  <p:nvPr/>
                </p:nvSpPr>
                <p:spPr>
                  <a:xfrm flipH="1" flipV="1">
                    <a:off x="818640" y="435168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03" name="Line 1366"/>
                  <p:cNvSpPr/>
                  <p:nvPr/>
                </p:nvSpPr>
                <p:spPr>
                  <a:xfrm flipH="1">
                    <a:off x="797040" y="434916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004" name="Line 1367"/>
                <p:cNvSpPr/>
                <p:nvPr/>
              </p:nvSpPr>
              <p:spPr>
                <a:xfrm flipH="1" flipV="1">
                  <a:off x="749880" y="439380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05" name="Line 1368"/>
                <p:cNvSpPr/>
                <p:nvPr/>
              </p:nvSpPr>
              <p:spPr>
                <a:xfrm flipH="1">
                  <a:off x="713160" y="4393800"/>
                  <a:ext cx="44640" cy="6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06" name="Line 1369"/>
                <p:cNvSpPr/>
                <p:nvPr/>
              </p:nvSpPr>
              <p:spPr>
                <a:xfrm flipH="1">
                  <a:off x="831600" y="441864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07" name="Line 1370"/>
                <p:cNvSpPr/>
                <p:nvPr/>
              </p:nvSpPr>
              <p:spPr>
                <a:xfrm flipH="1">
                  <a:off x="811800" y="4436280"/>
                  <a:ext cx="2412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008" name="Group 1371"/>
          <p:cNvGrpSpPr/>
          <p:nvPr/>
        </p:nvGrpSpPr>
        <p:grpSpPr>
          <a:xfrm>
            <a:off x="2813040" y="1266840"/>
            <a:ext cx="3494160" cy="1692360"/>
            <a:chOff x="2813040" y="1266840"/>
            <a:chExt cx="3494160" cy="1692360"/>
          </a:xfrm>
        </p:grpSpPr>
        <p:sp>
          <p:nvSpPr>
            <p:cNvPr id="2009" name="AutoShape 1372"/>
            <p:cNvSpPr/>
            <p:nvPr/>
          </p:nvSpPr>
          <p:spPr>
            <a:xfrm>
              <a:off x="2813040" y="1266840"/>
              <a:ext cx="3494160" cy="169236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0" name="AutoShape 1373"/>
            <p:cNvSpPr/>
            <p:nvPr/>
          </p:nvSpPr>
          <p:spPr>
            <a:xfrm>
              <a:off x="2921040" y="1360800"/>
              <a:ext cx="3294000" cy="15033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1" name="AutoShape 1374"/>
            <p:cNvSpPr/>
            <p:nvPr/>
          </p:nvSpPr>
          <p:spPr>
            <a:xfrm>
              <a:off x="2962440" y="1395720"/>
              <a:ext cx="3219480" cy="143496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12" name="Group 1375"/>
          <p:cNvGrpSpPr/>
          <p:nvPr/>
        </p:nvGrpSpPr>
        <p:grpSpPr>
          <a:xfrm>
            <a:off x="4280400" y="713880"/>
            <a:ext cx="570600" cy="690840"/>
            <a:chOff x="4280400" y="713880"/>
            <a:chExt cx="570600" cy="690840"/>
          </a:xfrm>
        </p:grpSpPr>
        <p:sp>
          <p:nvSpPr>
            <p:cNvPr id="2013" name="Oval 1376"/>
            <p:cNvSpPr/>
            <p:nvPr/>
          </p:nvSpPr>
          <p:spPr>
            <a:xfrm>
              <a:off x="4514760" y="1176840"/>
              <a:ext cx="102960" cy="38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4" name="Rectangle 1377"/>
            <p:cNvSpPr/>
            <p:nvPr/>
          </p:nvSpPr>
          <p:spPr>
            <a:xfrm>
              <a:off x="4534200" y="969840"/>
              <a:ext cx="64080" cy="223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5" name="Oval 1378"/>
            <p:cNvSpPr/>
            <p:nvPr/>
          </p:nvSpPr>
          <p:spPr>
            <a:xfrm>
              <a:off x="4527000" y="959040"/>
              <a:ext cx="83520" cy="38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6" name="AutoShape 1379"/>
            <p:cNvSpPr/>
            <p:nvPr/>
          </p:nvSpPr>
          <p:spPr>
            <a:xfrm rot="16200000">
              <a:off x="4432320" y="737280"/>
              <a:ext cx="273240" cy="226080"/>
            </a:xfrm>
            <a:prstGeom prst="hexagon">
              <a:avLst>
                <a:gd name="adj" fmla="val 30215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17" name="Group 1380"/>
            <p:cNvGrpSpPr/>
            <p:nvPr/>
          </p:nvGrpSpPr>
          <p:grpSpPr>
            <a:xfrm>
              <a:off x="4620960" y="1082160"/>
              <a:ext cx="97200" cy="135360"/>
              <a:chOff x="4620960" y="1082160"/>
              <a:chExt cx="97200" cy="135360"/>
            </a:xfrm>
          </p:grpSpPr>
          <p:sp>
            <p:nvSpPr>
              <p:cNvPr id="2018" name="Line 1381"/>
              <p:cNvSpPr/>
              <p:nvPr/>
            </p:nvSpPr>
            <p:spPr>
              <a:xfrm flipV="1">
                <a:off x="4620960" y="1087920"/>
                <a:ext cx="6300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9" name="Line 1382"/>
              <p:cNvSpPr/>
              <p:nvPr/>
            </p:nvSpPr>
            <p:spPr>
              <a:xfrm>
                <a:off x="4686480" y="1082160"/>
                <a:ext cx="3168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20" name="Line 1383"/>
            <p:cNvSpPr/>
            <p:nvPr/>
          </p:nvSpPr>
          <p:spPr>
            <a:xfrm flipV="1">
              <a:off x="4619520" y="1168200"/>
              <a:ext cx="173880" cy="3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1" name="Line 1384"/>
            <p:cNvSpPr/>
            <p:nvPr/>
          </p:nvSpPr>
          <p:spPr>
            <a:xfrm>
              <a:off x="4779720" y="1168200"/>
              <a:ext cx="7128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2" name="Line 1385"/>
            <p:cNvSpPr/>
            <p:nvPr/>
          </p:nvSpPr>
          <p:spPr>
            <a:xfrm>
              <a:off x="4600440" y="1213560"/>
              <a:ext cx="64080" cy="4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3" name="Line 1386"/>
            <p:cNvSpPr/>
            <p:nvPr/>
          </p:nvSpPr>
          <p:spPr>
            <a:xfrm>
              <a:off x="4657680" y="1247760"/>
              <a:ext cx="38160" cy="15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24" name="Group 1387"/>
            <p:cNvGrpSpPr/>
            <p:nvPr/>
          </p:nvGrpSpPr>
          <p:grpSpPr>
            <a:xfrm>
              <a:off x="4280400" y="1079640"/>
              <a:ext cx="250200" cy="322560"/>
              <a:chOff x="4280400" y="1079640"/>
              <a:chExt cx="250200" cy="322560"/>
            </a:xfrm>
          </p:grpSpPr>
          <p:grpSp>
            <p:nvGrpSpPr>
              <p:cNvPr id="2025" name="Group 1388"/>
              <p:cNvGrpSpPr/>
              <p:nvPr/>
            </p:nvGrpSpPr>
            <p:grpSpPr>
              <a:xfrm>
                <a:off x="4412160" y="1079640"/>
                <a:ext cx="98280" cy="135360"/>
                <a:chOff x="4412160" y="1079640"/>
                <a:chExt cx="98280" cy="135360"/>
              </a:xfrm>
            </p:grpSpPr>
            <p:sp>
              <p:nvSpPr>
                <p:cNvPr id="2026" name="Line 1389"/>
                <p:cNvSpPr/>
                <p:nvPr/>
              </p:nvSpPr>
              <p:spPr>
                <a:xfrm flipH="1" flipV="1">
                  <a:off x="4446720" y="1085400"/>
                  <a:ext cx="6372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7" name="Line 1390"/>
                <p:cNvSpPr/>
                <p:nvPr/>
              </p:nvSpPr>
              <p:spPr>
                <a:xfrm flipH="1">
                  <a:off x="4412160" y="1079640"/>
                  <a:ext cx="32040" cy="13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028" name="Line 1391"/>
              <p:cNvSpPr/>
              <p:nvPr/>
            </p:nvSpPr>
            <p:spPr>
              <a:xfrm flipH="1" flipV="1">
                <a:off x="4338000" y="1165320"/>
                <a:ext cx="17388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9" name="Line 1392"/>
              <p:cNvSpPr/>
              <p:nvPr/>
            </p:nvSpPr>
            <p:spPr>
              <a:xfrm flipH="1">
                <a:off x="4280400" y="1165320"/>
                <a:ext cx="70200" cy="11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0" name="Line 1393"/>
              <p:cNvSpPr/>
              <p:nvPr/>
            </p:nvSpPr>
            <p:spPr>
              <a:xfrm flipH="1">
                <a:off x="4466520" y="1212480"/>
                <a:ext cx="6408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1" name="Line 1394"/>
              <p:cNvSpPr/>
              <p:nvPr/>
            </p:nvSpPr>
            <p:spPr>
              <a:xfrm flipH="1">
                <a:off x="4435560" y="1246320"/>
                <a:ext cx="38160" cy="15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032" name="Group 1395"/>
          <p:cNvGrpSpPr/>
          <p:nvPr/>
        </p:nvGrpSpPr>
        <p:grpSpPr>
          <a:xfrm>
            <a:off x="3220920" y="1709640"/>
            <a:ext cx="993600" cy="895320"/>
            <a:chOff x="3220920" y="1709640"/>
            <a:chExt cx="993600" cy="895320"/>
          </a:xfrm>
        </p:grpSpPr>
        <p:sp>
          <p:nvSpPr>
            <p:cNvPr id="2033" name="Oval 1396"/>
            <p:cNvSpPr/>
            <p:nvPr/>
          </p:nvSpPr>
          <p:spPr>
            <a:xfrm>
              <a:off x="3296880" y="1773000"/>
              <a:ext cx="841320" cy="76860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4" name="Oval 1397"/>
            <p:cNvSpPr/>
            <p:nvPr/>
          </p:nvSpPr>
          <p:spPr>
            <a:xfrm>
              <a:off x="3220920" y="1709640"/>
              <a:ext cx="993600" cy="8953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35" name="Freeform 1398"/>
          <p:cNvSpPr/>
          <p:nvPr/>
        </p:nvSpPr>
        <p:spPr>
          <a:xfrm>
            <a:off x="4489560" y="1227240"/>
            <a:ext cx="255600" cy="760320"/>
          </a:xfrm>
          <a:custGeom>
            <a:avLst/>
            <a:gdLst>
              <a:gd name="textAreaLeft" fmla="*/ 0 w 255600"/>
              <a:gd name="textAreaRight" fmla="*/ 255600 w 25560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61" h="479">
                <a:moveTo>
                  <a:pt x="34" y="0"/>
                </a:moveTo>
                <a:cubicBezTo>
                  <a:pt x="10" y="94"/>
                  <a:pt x="0" y="179"/>
                  <a:pt x="86" y="235"/>
                </a:cubicBezTo>
                <a:cubicBezTo>
                  <a:pt x="92" y="244"/>
                  <a:pt x="101" y="251"/>
                  <a:pt x="103" y="261"/>
                </a:cubicBezTo>
                <a:cubicBezTo>
                  <a:pt x="106" y="284"/>
                  <a:pt x="83" y="334"/>
                  <a:pt x="77" y="357"/>
                </a:cubicBezTo>
                <a:cubicBezTo>
                  <a:pt x="80" y="369"/>
                  <a:pt x="78" y="383"/>
                  <a:pt x="86" y="392"/>
                </a:cubicBezTo>
                <a:cubicBezTo>
                  <a:pt x="100" y="408"/>
                  <a:pt x="138" y="427"/>
                  <a:pt x="138" y="427"/>
                </a:cubicBezTo>
                <a:cubicBezTo>
                  <a:pt x="161" y="460"/>
                  <a:pt x="156" y="442"/>
                  <a:pt x="156" y="47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Text Box 1399"/>
          <p:cNvSpPr/>
          <p:nvPr/>
        </p:nvSpPr>
        <p:spPr>
          <a:xfrm>
            <a:off x="2758320" y="50760"/>
            <a:ext cx="363564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Batteriofagi tempera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AutoShape 1400"/>
          <p:cNvSpPr/>
          <p:nvPr/>
        </p:nvSpPr>
        <p:spPr>
          <a:xfrm rot="19121400">
            <a:off x="5289480" y="3144600"/>
            <a:ext cx="271440" cy="684000"/>
          </a:xfrm>
          <a:prstGeom prst="downArrow">
            <a:avLst>
              <a:gd name="adj1" fmla="val 19296"/>
              <a:gd name="adj2" fmla="val 57876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Text Box 1401"/>
          <p:cNvSpPr/>
          <p:nvPr/>
        </p:nvSpPr>
        <p:spPr>
          <a:xfrm>
            <a:off x="1265760" y="314784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clo lit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39" name="Group 1402"/>
          <p:cNvGrpSpPr/>
          <p:nvPr/>
        </p:nvGrpSpPr>
        <p:grpSpPr>
          <a:xfrm>
            <a:off x="5261040" y="4016520"/>
            <a:ext cx="3494160" cy="1692000"/>
            <a:chOff x="5261040" y="4016520"/>
            <a:chExt cx="3494160" cy="1692000"/>
          </a:xfrm>
        </p:grpSpPr>
        <p:sp>
          <p:nvSpPr>
            <p:cNvPr id="2040" name="AutoShape 1403"/>
            <p:cNvSpPr/>
            <p:nvPr/>
          </p:nvSpPr>
          <p:spPr>
            <a:xfrm>
              <a:off x="5261040" y="4016520"/>
              <a:ext cx="3494160" cy="169200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1" name="AutoShape 1404"/>
            <p:cNvSpPr/>
            <p:nvPr/>
          </p:nvSpPr>
          <p:spPr>
            <a:xfrm>
              <a:off x="5369040" y="4110120"/>
              <a:ext cx="3294000" cy="150300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2" name="AutoShape 1405"/>
            <p:cNvSpPr/>
            <p:nvPr/>
          </p:nvSpPr>
          <p:spPr>
            <a:xfrm>
              <a:off x="5410440" y="4145040"/>
              <a:ext cx="3219480" cy="143460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43" name="Group 1413"/>
          <p:cNvGrpSpPr/>
          <p:nvPr/>
        </p:nvGrpSpPr>
        <p:grpSpPr>
          <a:xfrm>
            <a:off x="5695200" y="4274280"/>
            <a:ext cx="1177560" cy="1164960"/>
            <a:chOff x="5695200" y="4274280"/>
            <a:chExt cx="1177560" cy="1164960"/>
          </a:xfrm>
        </p:grpSpPr>
        <p:sp>
          <p:nvSpPr>
            <p:cNvPr id="2044" name="AutoShape 1411"/>
            <p:cNvSpPr/>
            <p:nvPr/>
          </p:nvSpPr>
          <p:spPr>
            <a:xfrm rot="21522000">
              <a:off x="5716440" y="4293720"/>
              <a:ext cx="1131480" cy="1131840"/>
            </a:xfrm>
            <a:custGeom>
              <a:avLst/>
              <a:gdLst>
                <a:gd name="textAreaLeft" fmla="*/ 0 w 1131480"/>
                <a:gd name="textAreaRight" fmla="*/ 1131840 w 1131480"/>
                <a:gd name="textAreaTop" fmla="*/ 0 h 1131840"/>
                <a:gd name="textAreaBottom" fmla="*/ 1033560 h 113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7043" y="19267"/>
                  </a:moveTo>
                  <a:cubicBezTo>
                    <a:pt x="3694" y="17782"/>
                    <a:pt x="1536" y="14463"/>
                    <a:pt x="1536" y="10800"/>
                  </a:cubicBezTo>
                  <a:cubicBezTo>
                    <a:pt x="1536" y="5683"/>
                    <a:pt x="5683" y="1536"/>
                    <a:pt x="10800" y="1536"/>
                  </a:cubicBezTo>
                  <a:cubicBezTo>
                    <a:pt x="15916" y="1536"/>
                    <a:pt x="20064" y="5683"/>
                    <a:pt x="20064" y="10800"/>
                  </a:cubicBezTo>
                  <a:cubicBezTo>
                    <a:pt x="20064" y="14463"/>
                    <a:pt x="17905" y="17782"/>
                    <a:pt x="14556" y="19267"/>
                  </a:cubicBezTo>
                  <a:lnTo>
                    <a:pt x="15179" y="20671"/>
                  </a:lnTo>
                  <a:cubicBezTo>
                    <a:pt x="19083" y="18940"/>
                    <a:pt x="21600" y="1507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070"/>
                    <a:pt x="2516" y="18940"/>
                    <a:pt x="6420" y="20671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5" name="AutoShape 1410"/>
            <p:cNvSpPr/>
            <p:nvPr/>
          </p:nvSpPr>
          <p:spPr>
            <a:xfrm rot="16262400">
              <a:off x="5711760" y="4277880"/>
              <a:ext cx="1144440" cy="115704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1157040"/>
                <a:gd name="textAreaBottom" fmla="*/ 1058760 h 11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7219" y="19028"/>
                  </a:moveTo>
                  <a:cubicBezTo>
                    <a:pt x="3944" y="17603"/>
                    <a:pt x="1826" y="14371"/>
                    <a:pt x="1826" y="10800"/>
                  </a:cubicBezTo>
                  <a:cubicBezTo>
                    <a:pt x="1826" y="5843"/>
                    <a:pt x="5843" y="1826"/>
                    <a:pt x="10800" y="1826"/>
                  </a:cubicBezTo>
                  <a:cubicBezTo>
                    <a:pt x="15756" y="1826"/>
                    <a:pt x="19774" y="5843"/>
                    <a:pt x="19774" y="10800"/>
                  </a:cubicBezTo>
                  <a:cubicBezTo>
                    <a:pt x="19774" y="14371"/>
                    <a:pt x="17655" y="17603"/>
                    <a:pt x="14380" y="19028"/>
                  </a:cubicBezTo>
                  <a:lnTo>
                    <a:pt x="15109" y="20702"/>
                  </a:lnTo>
                  <a:cubicBezTo>
                    <a:pt x="19050" y="18987"/>
                    <a:pt x="21600" y="1509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098"/>
                    <a:pt x="2549" y="18987"/>
                    <a:pt x="6490" y="20702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46" name="AutoShape 1414"/>
          <p:cNvSpPr/>
          <p:nvPr/>
        </p:nvSpPr>
        <p:spPr>
          <a:xfrm flipH="1" rot="2478600">
            <a:off x="3458520" y="3133440"/>
            <a:ext cx="271440" cy="684000"/>
          </a:xfrm>
          <a:prstGeom prst="downArrow">
            <a:avLst>
              <a:gd name="adj1" fmla="val 19296"/>
              <a:gd name="adj2" fmla="val 57876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7" name="AutoShape 1415"/>
          <p:cNvSpPr/>
          <p:nvPr/>
        </p:nvSpPr>
        <p:spPr>
          <a:xfrm rot="5398800">
            <a:off x="4355640" y="4511520"/>
            <a:ext cx="271440" cy="684360"/>
          </a:xfrm>
          <a:prstGeom prst="downArrow">
            <a:avLst>
              <a:gd name="adj1" fmla="val 19296"/>
              <a:gd name="adj2" fmla="val 57906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8" name="Text Box 1416"/>
          <p:cNvSpPr/>
          <p:nvPr/>
        </p:nvSpPr>
        <p:spPr>
          <a:xfrm>
            <a:off x="6219720" y="317664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clo lisoge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9" name="Text Box 1417"/>
          <p:cNvSpPr/>
          <p:nvPr/>
        </p:nvSpPr>
        <p:spPr>
          <a:xfrm>
            <a:off x="3880800" y="50133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u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0" name="Text Box 1418"/>
          <p:cNvSpPr/>
          <p:nvPr/>
        </p:nvSpPr>
        <p:spPr>
          <a:xfrm>
            <a:off x="6923160" y="468324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ag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1" name="Freeform 1419"/>
          <p:cNvSpPr/>
          <p:nvPr/>
        </p:nvSpPr>
        <p:spPr>
          <a:xfrm>
            <a:off x="4541760" y="1208160"/>
            <a:ext cx="255600" cy="760320"/>
          </a:xfrm>
          <a:custGeom>
            <a:avLst/>
            <a:gdLst>
              <a:gd name="textAreaLeft" fmla="*/ 0 w 255600"/>
              <a:gd name="textAreaRight" fmla="*/ 255600 w 25560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61" h="479">
                <a:moveTo>
                  <a:pt x="34" y="0"/>
                </a:moveTo>
                <a:cubicBezTo>
                  <a:pt x="10" y="94"/>
                  <a:pt x="0" y="179"/>
                  <a:pt x="86" y="235"/>
                </a:cubicBezTo>
                <a:cubicBezTo>
                  <a:pt x="92" y="244"/>
                  <a:pt x="101" y="251"/>
                  <a:pt x="103" y="261"/>
                </a:cubicBezTo>
                <a:cubicBezTo>
                  <a:pt x="106" y="284"/>
                  <a:pt x="83" y="334"/>
                  <a:pt x="77" y="357"/>
                </a:cubicBezTo>
                <a:cubicBezTo>
                  <a:pt x="80" y="369"/>
                  <a:pt x="78" y="383"/>
                  <a:pt x="86" y="392"/>
                </a:cubicBezTo>
                <a:cubicBezTo>
                  <a:pt x="100" y="408"/>
                  <a:pt x="138" y="427"/>
                  <a:pt x="138" y="427"/>
                </a:cubicBezTo>
                <a:cubicBezTo>
                  <a:pt x="161" y="460"/>
                  <a:pt x="156" y="442"/>
                  <a:pt x="156" y="47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2" name="Group 35"/>
          <p:cNvGrpSpPr/>
          <p:nvPr/>
        </p:nvGrpSpPr>
        <p:grpSpPr>
          <a:xfrm>
            <a:off x="4858920" y="1347480"/>
            <a:ext cx="1155960" cy="1324440"/>
            <a:chOff x="4858920" y="1347480"/>
            <a:chExt cx="1155960" cy="1324440"/>
          </a:xfrm>
        </p:grpSpPr>
        <p:sp>
          <p:nvSpPr>
            <p:cNvPr id="2053" name="Oval 16"/>
            <p:cNvSpPr/>
            <p:nvPr/>
          </p:nvSpPr>
          <p:spPr>
            <a:xfrm>
              <a:off x="5333760" y="2235240"/>
              <a:ext cx="2080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4" name="Rectangle 17"/>
            <p:cNvSpPr/>
            <p:nvPr/>
          </p:nvSpPr>
          <p:spPr>
            <a:xfrm>
              <a:off x="5375160" y="1836720"/>
              <a:ext cx="129960" cy="430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5" name="Oval 18"/>
            <p:cNvSpPr/>
            <p:nvPr/>
          </p:nvSpPr>
          <p:spPr>
            <a:xfrm>
              <a:off x="5359320" y="1816200"/>
              <a:ext cx="16956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6" name="AutoShape 19"/>
            <p:cNvSpPr/>
            <p:nvPr/>
          </p:nvSpPr>
          <p:spPr>
            <a:xfrm rot="16200000">
              <a:off x="5182920" y="1380960"/>
              <a:ext cx="522360" cy="455400"/>
            </a:xfrm>
            <a:prstGeom prst="hexagon">
              <a:avLst>
                <a:gd name="adj" fmla="val 28676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57" name="Group 20"/>
            <p:cNvGrpSpPr/>
            <p:nvPr/>
          </p:nvGrpSpPr>
          <p:grpSpPr>
            <a:xfrm>
              <a:off x="5547960" y="2050920"/>
              <a:ext cx="200160" cy="260280"/>
              <a:chOff x="5547960" y="2050920"/>
              <a:chExt cx="200160" cy="260280"/>
            </a:xfrm>
          </p:grpSpPr>
          <p:sp>
            <p:nvSpPr>
              <p:cNvPr id="2058" name="Line 21"/>
              <p:cNvSpPr/>
              <p:nvPr/>
            </p:nvSpPr>
            <p:spPr>
              <a:xfrm flipV="1">
                <a:off x="5547960" y="2062080"/>
                <a:ext cx="129960" cy="20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9" name="Line 22"/>
              <p:cNvSpPr/>
              <p:nvPr/>
            </p:nvSpPr>
            <p:spPr>
              <a:xfrm>
                <a:off x="5682960" y="2050920"/>
                <a:ext cx="65160" cy="26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60" name="Line 23"/>
            <p:cNvSpPr/>
            <p:nvPr/>
          </p:nvSpPr>
          <p:spPr>
            <a:xfrm flipV="1">
              <a:off x="5545080" y="2216160"/>
              <a:ext cx="35208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1" name="Line 24"/>
            <p:cNvSpPr/>
            <p:nvPr/>
          </p:nvSpPr>
          <p:spPr>
            <a:xfrm>
              <a:off x="5871960" y="2216160"/>
              <a:ext cx="142920" cy="22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2" name="Line 25"/>
            <p:cNvSpPr/>
            <p:nvPr/>
          </p:nvSpPr>
          <p:spPr>
            <a:xfrm>
              <a:off x="5506920" y="2306520"/>
              <a:ext cx="12996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3" name="Line 26"/>
            <p:cNvSpPr/>
            <p:nvPr/>
          </p:nvSpPr>
          <p:spPr>
            <a:xfrm>
              <a:off x="5622840" y="2371680"/>
              <a:ext cx="77760" cy="30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64" name="Group 27"/>
            <p:cNvGrpSpPr/>
            <p:nvPr/>
          </p:nvGrpSpPr>
          <p:grpSpPr>
            <a:xfrm>
              <a:off x="4858920" y="2048040"/>
              <a:ext cx="507960" cy="620640"/>
              <a:chOff x="4858920" y="2048040"/>
              <a:chExt cx="507960" cy="620640"/>
            </a:xfrm>
          </p:grpSpPr>
          <p:grpSp>
            <p:nvGrpSpPr>
              <p:cNvPr id="2065" name="Group 28"/>
              <p:cNvGrpSpPr/>
              <p:nvPr/>
            </p:nvGrpSpPr>
            <p:grpSpPr>
              <a:xfrm>
                <a:off x="5126040" y="2048040"/>
                <a:ext cx="199440" cy="260280"/>
                <a:chOff x="5126040" y="2048040"/>
                <a:chExt cx="199440" cy="260280"/>
              </a:xfrm>
            </p:grpSpPr>
            <p:sp>
              <p:nvSpPr>
                <p:cNvPr id="2066" name="Line 29"/>
                <p:cNvSpPr/>
                <p:nvPr/>
              </p:nvSpPr>
              <p:spPr>
                <a:xfrm flipH="1" flipV="1">
                  <a:off x="5195880" y="2059200"/>
                  <a:ext cx="129600" cy="208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67" name="Line 30"/>
                <p:cNvSpPr/>
                <p:nvPr/>
              </p:nvSpPr>
              <p:spPr>
                <a:xfrm flipH="1">
                  <a:off x="5126040" y="2048040"/>
                  <a:ext cx="64800" cy="26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068" name="Line 31"/>
              <p:cNvSpPr/>
              <p:nvPr/>
            </p:nvSpPr>
            <p:spPr>
              <a:xfrm flipH="1" flipV="1">
                <a:off x="4976280" y="2212560"/>
                <a:ext cx="352440" cy="78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9" name="Line 32"/>
              <p:cNvSpPr/>
              <p:nvPr/>
            </p:nvSpPr>
            <p:spPr>
              <a:xfrm flipH="1">
                <a:off x="4858920" y="2212920"/>
                <a:ext cx="142920" cy="22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0" name="Line 33"/>
              <p:cNvSpPr/>
              <p:nvPr/>
            </p:nvSpPr>
            <p:spPr>
              <a:xfrm flipH="1">
                <a:off x="5236920" y="2303640"/>
                <a:ext cx="129960" cy="77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1" name="Line 34"/>
              <p:cNvSpPr/>
              <p:nvPr/>
            </p:nvSpPr>
            <p:spPr>
              <a:xfrm flipH="1">
                <a:off x="5173200" y="2368800"/>
                <a:ext cx="77760" cy="29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072" name="Group 39"/>
          <p:cNvGrpSpPr/>
          <p:nvPr/>
        </p:nvGrpSpPr>
        <p:grpSpPr>
          <a:xfrm>
            <a:off x="2141640" y="2363760"/>
            <a:ext cx="4903560" cy="2641680"/>
            <a:chOff x="2141640" y="2363760"/>
            <a:chExt cx="4903560" cy="2641680"/>
          </a:xfrm>
        </p:grpSpPr>
        <p:sp>
          <p:nvSpPr>
            <p:cNvPr id="2073" name="AutoShape 4"/>
            <p:cNvSpPr/>
            <p:nvPr/>
          </p:nvSpPr>
          <p:spPr>
            <a:xfrm>
              <a:off x="2141640" y="2363760"/>
              <a:ext cx="4903560" cy="264168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4" name="AutoShape 5"/>
            <p:cNvSpPr/>
            <p:nvPr/>
          </p:nvSpPr>
          <p:spPr>
            <a:xfrm>
              <a:off x="2273400" y="2511360"/>
              <a:ext cx="4622760" cy="234504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5" name="AutoShape 6"/>
            <p:cNvSpPr/>
            <p:nvPr/>
          </p:nvSpPr>
          <p:spPr>
            <a:xfrm>
              <a:off x="2320920" y="2554200"/>
              <a:ext cx="4516560" cy="224028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6" name="Freeform 38"/>
            <p:cNvSpPr/>
            <p:nvPr/>
          </p:nvSpPr>
          <p:spPr>
            <a:xfrm>
              <a:off x="2973240" y="3327480"/>
              <a:ext cx="3059280" cy="917640"/>
            </a:xfrm>
            <a:custGeom>
              <a:avLst/>
              <a:gdLst>
                <a:gd name="textAreaLeft" fmla="*/ 0 w 3059280"/>
                <a:gd name="textAreaRight" fmla="*/ 3059640 w 3059280"/>
                <a:gd name="textAreaTop" fmla="*/ 0 h 917640"/>
                <a:gd name="textAreaBottom" fmla="*/ 918000 h 917640"/>
              </a:gdLst>
              <a:ahLst/>
              <a:rect l="textAreaLeft" t="textAreaTop" r="textAreaRight" b="textAreaBottom"/>
              <a:pathLst>
                <a:path w="1927" h="578">
                  <a:moveTo>
                    <a:pt x="996" y="195"/>
                  </a:moveTo>
                  <a:cubicBezTo>
                    <a:pt x="973" y="201"/>
                    <a:pt x="948" y="201"/>
                    <a:pt x="927" y="213"/>
                  </a:cubicBezTo>
                  <a:cubicBezTo>
                    <a:pt x="906" y="225"/>
                    <a:pt x="894" y="249"/>
                    <a:pt x="875" y="265"/>
                  </a:cubicBezTo>
                  <a:cubicBezTo>
                    <a:pt x="825" y="308"/>
                    <a:pt x="803" y="313"/>
                    <a:pt x="770" y="361"/>
                  </a:cubicBezTo>
                  <a:cubicBezTo>
                    <a:pt x="756" y="471"/>
                    <a:pt x="779" y="499"/>
                    <a:pt x="883" y="526"/>
                  </a:cubicBezTo>
                  <a:cubicBezTo>
                    <a:pt x="1054" y="519"/>
                    <a:pt x="1094" y="518"/>
                    <a:pt x="1231" y="482"/>
                  </a:cubicBezTo>
                  <a:cubicBezTo>
                    <a:pt x="1265" y="449"/>
                    <a:pt x="1260" y="388"/>
                    <a:pt x="1266" y="343"/>
                  </a:cubicBezTo>
                  <a:cubicBezTo>
                    <a:pt x="1251" y="255"/>
                    <a:pt x="1235" y="152"/>
                    <a:pt x="1136" y="126"/>
                  </a:cubicBezTo>
                  <a:cubicBezTo>
                    <a:pt x="1008" y="135"/>
                    <a:pt x="1006" y="111"/>
                    <a:pt x="962" y="213"/>
                  </a:cubicBezTo>
                  <a:cubicBezTo>
                    <a:pt x="958" y="240"/>
                    <a:pt x="940" y="337"/>
                    <a:pt x="962" y="361"/>
                  </a:cubicBezTo>
                  <a:cubicBezTo>
                    <a:pt x="982" y="383"/>
                    <a:pt x="1019" y="382"/>
                    <a:pt x="1049" y="387"/>
                  </a:cubicBezTo>
                  <a:cubicBezTo>
                    <a:pt x="1112" y="397"/>
                    <a:pt x="1176" y="398"/>
                    <a:pt x="1240" y="404"/>
                  </a:cubicBezTo>
                  <a:cubicBezTo>
                    <a:pt x="1275" y="407"/>
                    <a:pt x="1344" y="413"/>
                    <a:pt x="1344" y="413"/>
                  </a:cubicBezTo>
                  <a:cubicBezTo>
                    <a:pt x="1367" y="410"/>
                    <a:pt x="1396" y="420"/>
                    <a:pt x="1414" y="404"/>
                  </a:cubicBezTo>
                  <a:cubicBezTo>
                    <a:pt x="1432" y="388"/>
                    <a:pt x="1430" y="359"/>
                    <a:pt x="1431" y="335"/>
                  </a:cubicBezTo>
                  <a:cubicBezTo>
                    <a:pt x="1433" y="257"/>
                    <a:pt x="1426" y="178"/>
                    <a:pt x="1423" y="100"/>
                  </a:cubicBezTo>
                  <a:cubicBezTo>
                    <a:pt x="1403" y="106"/>
                    <a:pt x="1380" y="105"/>
                    <a:pt x="1362" y="117"/>
                  </a:cubicBezTo>
                  <a:cubicBezTo>
                    <a:pt x="1345" y="129"/>
                    <a:pt x="1318" y="161"/>
                    <a:pt x="1318" y="161"/>
                  </a:cubicBezTo>
                  <a:cubicBezTo>
                    <a:pt x="1304" y="220"/>
                    <a:pt x="1266" y="319"/>
                    <a:pt x="1344" y="343"/>
                  </a:cubicBezTo>
                  <a:cubicBezTo>
                    <a:pt x="1384" y="371"/>
                    <a:pt x="1437" y="391"/>
                    <a:pt x="1484" y="404"/>
                  </a:cubicBezTo>
                  <a:cubicBezTo>
                    <a:pt x="1530" y="416"/>
                    <a:pt x="1623" y="439"/>
                    <a:pt x="1623" y="439"/>
                  </a:cubicBezTo>
                  <a:cubicBezTo>
                    <a:pt x="1634" y="422"/>
                    <a:pt x="1647" y="405"/>
                    <a:pt x="1657" y="387"/>
                  </a:cubicBezTo>
                  <a:cubicBezTo>
                    <a:pt x="1670" y="364"/>
                    <a:pt x="1692" y="317"/>
                    <a:pt x="1692" y="317"/>
                  </a:cubicBezTo>
                  <a:cubicBezTo>
                    <a:pt x="1672" y="194"/>
                    <a:pt x="1692" y="210"/>
                    <a:pt x="1588" y="195"/>
                  </a:cubicBezTo>
                  <a:cubicBezTo>
                    <a:pt x="1554" y="184"/>
                    <a:pt x="1536" y="195"/>
                    <a:pt x="1501" y="204"/>
                  </a:cubicBezTo>
                  <a:cubicBezTo>
                    <a:pt x="1485" y="237"/>
                    <a:pt x="1475" y="265"/>
                    <a:pt x="1466" y="300"/>
                  </a:cubicBezTo>
                  <a:cubicBezTo>
                    <a:pt x="1469" y="323"/>
                    <a:pt x="1468" y="347"/>
                    <a:pt x="1475" y="369"/>
                  </a:cubicBezTo>
                  <a:cubicBezTo>
                    <a:pt x="1491" y="424"/>
                    <a:pt x="1589" y="432"/>
                    <a:pt x="1631" y="439"/>
                  </a:cubicBezTo>
                  <a:cubicBezTo>
                    <a:pt x="1693" y="434"/>
                    <a:pt x="1826" y="444"/>
                    <a:pt x="1875" y="395"/>
                  </a:cubicBezTo>
                  <a:cubicBezTo>
                    <a:pt x="1902" y="324"/>
                    <a:pt x="1927" y="290"/>
                    <a:pt x="1884" y="204"/>
                  </a:cubicBezTo>
                  <a:cubicBezTo>
                    <a:pt x="1871" y="178"/>
                    <a:pt x="1836" y="172"/>
                    <a:pt x="1814" y="152"/>
                  </a:cubicBezTo>
                  <a:cubicBezTo>
                    <a:pt x="1655" y="8"/>
                    <a:pt x="1758" y="36"/>
                    <a:pt x="1605" y="22"/>
                  </a:cubicBezTo>
                  <a:cubicBezTo>
                    <a:pt x="1565" y="25"/>
                    <a:pt x="1522" y="17"/>
                    <a:pt x="1484" y="30"/>
                  </a:cubicBezTo>
                  <a:cubicBezTo>
                    <a:pt x="1461" y="38"/>
                    <a:pt x="1431" y="82"/>
                    <a:pt x="1431" y="82"/>
                  </a:cubicBezTo>
                  <a:cubicBezTo>
                    <a:pt x="1410" y="148"/>
                    <a:pt x="1401" y="217"/>
                    <a:pt x="1379" y="282"/>
                  </a:cubicBezTo>
                  <a:cubicBezTo>
                    <a:pt x="1393" y="337"/>
                    <a:pt x="1402" y="324"/>
                    <a:pt x="1457" y="335"/>
                  </a:cubicBezTo>
                  <a:cubicBezTo>
                    <a:pt x="1505" y="319"/>
                    <a:pt x="1546" y="315"/>
                    <a:pt x="1475" y="213"/>
                  </a:cubicBezTo>
                  <a:cubicBezTo>
                    <a:pt x="1458" y="188"/>
                    <a:pt x="1418" y="194"/>
                    <a:pt x="1388" y="187"/>
                  </a:cubicBezTo>
                  <a:cubicBezTo>
                    <a:pt x="1356" y="180"/>
                    <a:pt x="1234" y="171"/>
                    <a:pt x="1214" y="169"/>
                  </a:cubicBezTo>
                  <a:cubicBezTo>
                    <a:pt x="1136" y="175"/>
                    <a:pt x="1054" y="162"/>
                    <a:pt x="979" y="187"/>
                  </a:cubicBezTo>
                  <a:cubicBezTo>
                    <a:pt x="956" y="195"/>
                    <a:pt x="957" y="232"/>
                    <a:pt x="953" y="256"/>
                  </a:cubicBezTo>
                  <a:cubicBezTo>
                    <a:pt x="946" y="296"/>
                    <a:pt x="947" y="337"/>
                    <a:pt x="944" y="378"/>
                  </a:cubicBezTo>
                  <a:cubicBezTo>
                    <a:pt x="1015" y="445"/>
                    <a:pt x="1010" y="372"/>
                    <a:pt x="1031" y="335"/>
                  </a:cubicBezTo>
                  <a:cubicBezTo>
                    <a:pt x="1045" y="310"/>
                    <a:pt x="1066" y="288"/>
                    <a:pt x="1083" y="265"/>
                  </a:cubicBezTo>
                  <a:cubicBezTo>
                    <a:pt x="1092" y="220"/>
                    <a:pt x="1131" y="71"/>
                    <a:pt x="1092" y="39"/>
                  </a:cubicBezTo>
                  <a:cubicBezTo>
                    <a:pt x="1045" y="0"/>
                    <a:pt x="910" y="22"/>
                    <a:pt x="910" y="22"/>
                  </a:cubicBezTo>
                  <a:cubicBezTo>
                    <a:pt x="838" y="30"/>
                    <a:pt x="802" y="22"/>
                    <a:pt x="753" y="74"/>
                  </a:cubicBezTo>
                  <a:cubicBezTo>
                    <a:pt x="746" y="102"/>
                    <a:pt x="710" y="207"/>
                    <a:pt x="753" y="230"/>
                  </a:cubicBezTo>
                  <a:cubicBezTo>
                    <a:pt x="787" y="248"/>
                    <a:pt x="828" y="219"/>
                    <a:pt x="866" y="213"/>
                  </a:cubicBezTo>
                  <a:cubicBezTo>
                    <a:pt x="852" y="40"/>
                    <a:pt x="872" y="80"/>
                    <a:pt x="675" y="91"/>
                  </a:cubicBezTo>
                  <a:cubicBezTo>
                    <a:pt x="624" y="140"/>
                    <a:pt x="623" y="196"/>
                    <a:pt x="614" y="265"/>
                  </a:cubicBezTo>
                  <a:cubicBezTo>
                    <a:pt x="625" y="331"/>
                    <a:pt x="619" y="334"/>
                    <a:pt x="683" y="317"/>
                  </a:cubicBezTo>
                  <a:cubicBezTo>
                    <a:pt x="686" y="288"/>
                    <a:pt x="694" y="259"/>
                    <a:pt x="692" y="230"/>
                  </a:cubicBezTo>
                  <a:cubicBezTo>
                    <a:pt x="686" y="132"/>
                    <a:pt x="550" y="126"/>
                    <a:pt x="483" y="117"/>
                  </a:cubicBezTo>
                  <a:cubicBezTo>
                    <a:pt x="459" y="119"/>
                    <a:pt x="352" y="123"/>
                    <a:pt x="336" y="143"/>
                  </a:cubicBezTo>
                  <a:cubicBezTo>
                    <a:pt x="321" y="162"/>
                    <a:pt x="324" y="190"/>
                    <a:pt x="318" y="213"/>
                  </a:cubicBezTo>
                  <a:cubicBezTo>
                    <a:pt x="321" y="256"/>
                    <a:pt x="310" y="303"/>
                    <a:pt x="327" y="343"/>
                  </a:cubicBezTo>
                  <a:cubicBezTo>
                    <a:pt x="333" y="356"/>
                    <a:pt x="360" y="345"/>
                    <a:pt x="370" y="335"/>
                  </a:cubicBezTo>
                  <a:cubicBezTo>
                    <a:pt x="383" y="322"/>
                    <a:pt x="382" y="300"/>
                    <a:pt x="388" y="282"/>
                  </a:cubicBezTo>
                  <a:cubicBezTo>
                    <a:pt x="396" y="213"/>
                    <a:pt x="431" y="65"/>
                    <a:pt x="370" y="4"/>
                  </a:cubicBezTo>
                  <a:cubicBezTo>
                    <a:pt x="337" y="54"/>
                    <a:pt x="319" y="70"/>
                    <a:pt x="301" y="126"/>
                  </a:cubicBezTo>
                  <a:cubicBezTo>
                    <a:pt x="301" y="126"/>
                    <a:pt x="281" y="268"/>
                    <a:pt x="301" y="300"/>
                  </a:cubicBezTo>
                  <a:cubicBezTo>
                    <a:pt x="308" y="311"/>
                    <a:pt x="324" y="311"/>
                    <a:pt x="336" y="317"/>
                  </a:cubicBezTo>
                  <a:cubicBezTo>
                    <a:pt x="375" y="309"/>
                    <a:pt x="427" y="313"/>
                    <a:pt x="362" y="239"/>
                  </a:cubicBezTo>
                  <a:cubicBezTo>
                    <a:pt x="303" y="172"/>
                    <a:pt x="187" y="119"/>
                    <a:pt x="101" y="108"/>
                  </a:cubicBezTo>
                  <a:cubicBezTo>
                    <a:pt x="53" y="93"/>
                    <a:pt x="51" y="108"/>
                    <a:pt x="40" y="152"/>
                  </a:cubicBezTo>
                  <a:cubicBezTo>
                    <a:pt x="47" y="255"/>
                    <a:pt x="27" y="324"/>
                    <a:pt x="136" y="352"/>
                  </a:cubicBezTo>
                  <a:cubicBezTo>
                    <a:pt x="188" y="349"/>
                    <a:pt x="240" y="349"/>
                    <a:pt x="292" y="343"/>
                  </a:cubicBezTo>
                  <a:cubicBezTo>
                    <a:pt x="310" y="341"/>
                    <a:pt x="333" y="341"/>
                    <a:pt x="344" y="326"/>
                  </a:cubicBezTo>
                  <a:cubicBezTo>
                    <a:pt x="365" y="296"/>
                    <a:pt x="379" y="222"/>
                    <a:pt x="379" y="222"/>
                  </a:cubicBezTo>
                  <a:cubicBezTo>
                    <a:pt x="376" y="213"/>
                    <a:pt x="379" y="196"/>
                    <a:pt x="370" y="195"/>
                  </a:cubicBezTo>
                  <a:cubicBezTo>
                    <a:pt x="357" y="194"/>
                    <a:pt x="267" y="224"/>
                    <a:pt x="249" y="230"/>
                  </a:cubicBezTo>
                  <a:cubicBezTo>
                    <a:pt x="244" y="245"/>
                    <a:pt x="205" y="324"/>
                    <a:pt x="231" y="343"/>
                  </a:cubicBezTo>
                  <a:cubicBezTo>
                    <a:pt x="249" y="356"/>
                    <a:pt x="339" y="373"/>
                    <a:pt x="353" y="378"/>
                  </a:cubicBezTo>
                  <a:cubicBezTo>
                    <a:pt x="545" y="447"/>
                    <a:pt x="401" y="424"/>
                    <a:pt x="579" y="439"/>
                  </a:cubicBezTo>
                  <a:cubicBezTo>
                    <a:pt x="608" y="436"/>
                    <a:pt x="638" y="437"/>
                    <a:pt x="666" y="430"/>
                  </a:cubicBezTo>
                  <a:cubicBezTo>
                    <a:pt x="702" y="422"/>
                    <a:pt x="770" y="395"/>
                    <a:pt x="770" y="395"/>
                  </a:cubicBezTo>
                  <a:cubicBezTo>
                    <a:pt x="787" y="329"/>
                    <a:pt x="811" y="250"/>
                    <a:pt x="744" y="204"/>
                  </a:cubicBezTo>
                  <a:cubicBezTo>
                    <a:pt x="712" y="210"/>
                    <a:pt x="676" y="205"/>
                    <a:pt x="649" y="222"/>
                  </a:cubicBezTo>
                  <a:cubicBezTo>
                    <a:pt x="641" y="227"/>
                    <a:pt x="619" y="324"/>
                    <a:pt x="614" y="343"/>
                  </a:cubicBezTo>
                  <a:cubicBezTo>
                    <a:pt x="627" y="379"/>
                    <a:pt x="618" y="379"/>
                    <a:pt x="675" y="378"/>
                  </a:cubicBezTo>
                  <a:cubicBezTo>
                    <a:pt x="785" y="376"/>
                    <a:pt x="895" y="367"/>
                    <a:pt x="1005" y="361"/>
                  </a:cubicBezTo>
                  <a:cubicBezTo>
                    <a:pt x="1088" y="278"/>
                    <a:pt x="1041" y="179"/>
                    <a:pt x="979" y="100"/>
                  </a:cubicBezTo>
                  <a:cubicBezTo>
                    <a:pt x="974" y="94"/>
                    <a:pt x="970" y="84"/>
                    <a:pt x="962" y="82"/>
                  </a:cubicBezTo>
                  <a:cubicBezTo>
                    <a:pt x="939" y="75"/>
                    <a:pt x="915" y="77"/>
                    <a:pt x="892" y="74"/>
                  </a:cubicBezTo>
                  <a:cubicBezTo>
                    <a:pt x="689" y="83"/>
                    <a:pt x="690" y="34"/>
                    <a:pt x="675" y="195"/>
                  </a:cubicBezTo>
                  <a:cubicBezTo>
                    <a:pt x="681" y="224"/>
                    <a:pt x="676" y="257"/>
                    <a:pt x="692" y="282"/>
                  </a:cubicBezTo>
                  <a:cubicBezTo>
                    <a:pt x="737" y="354"/>
                    <a:pt x="860" y="388"/>
                    <a:pt x="936" y="395"/>
                  </a:cubicBezTo>
                  <a:cubicBezTo>
                    <a:pt x="1244" y="381"/>
                    <a:pt x="1325" y="449"/>
                    <a:pt x="1492" y="239"/>
                  </a:cubicBezTo>
                  <a:cubicBezTo>
                    <a:pt x="1501" y="188"/>
                    <a:pt x="1517" y="170"/>
                    <a:pt x="1466" y="152"/>
                  </a:cubicBezTo>
                  <a:cubicBezTo>
                    <a:pt x="1457" y="155"/>
                    <a:pt x="1445" y="153"/>
                    <a:pt x="1440" y="161"/>
                  </a:cubicBezTo>
                  <a:cubicBezTo>
                    <a:pt x="1431" y="176"/>
                    <a:pt x="1431" y="195"/>
                    <a:pt x="1431" y="213"/>
                  </a:cubicBezTo>
                  <a:cubicBezTo>
                    <a:pt x="1431" y="259"/>
                    <a:pt x="1421" y="310"/>
                    <a:pt x="1440" y="352"/>
                  </a:cubicBezTo>
                  <a:cubicBezTo>
                    <a:pt x="1451" y="376"/>
                    <a:pt x="1485" y="378"/>
                    <a:pt x="1510" y="387"/>
                  </a:cubicBezTo>
                  <a:cubicBezTo>
                    <a:pt x="1573" y="409"/>
                    <a:pt x="1652" y="413"/>
                    <a:pt x="1718" y="422"/>
                  </a:cubicBezTo>
                  <a:cubicBezTo>
                    <a:pt x="1727" y="416"/>
                    <a:pt x="1741" y="414"/>
                    <a:pt x="1744" y="404"/>
                  </a:cubicBezTo>
                  <a:cubicBezTo>
                    <a:pt x="1760" y="355"/>
                    <a:pt x="1751" y="229"/>
                    <a:pt x="1736" y="178"/>
                  </a:cubicBezTo>
                  <a:cubicBezTo>
                    <a:pt x="1731" y="162"/>
                    <a:pt x="1712" y="155"/>
                    <a:pt x="1701" y="143"/>
                  </a:cubicBezTo>
                  <a:cubicBezTo>
                    <a:pt x="1564" y="153"/>
                    <a:pt x="1522" y="151"/>
                    <a:pt x="1405" y="222"/>
                  </a:cubicBezTo>
                  <a:cubicBezTo>
                    <a:pt x="1381" y="258"/>
                    <a:pt x="1359" y="284"/>
                    <a:pt x="1344" y="326"/>
                  </a:cubicBezTo>
                  <a:cubicBezTo>
                    <a:pt x="1364" y="473"/>
                    <a:pt x="1328" y="476"/>
                    <a:pt x="1457" y="491"/>
                  </a:cubicBezTo>
                  <a:cubicBezTo>
                    <a:pt x="1546" y="473"/>
                    <a:pt x="1538" y="405"/>
                    <a:pt x="1553" y="326"/>
                  </a:cubicBezTo>
                  <a:cubicBezTo>
                    <a:pt x="1550" y="253"/>
                    <a:pt x="1557" y="180"/>
                    <a:pt x="1544" y="108"/>
                  </a:cubicBezTo>
                  <a:cubicBezTo>
                    <a:pt x="1542" y="94"/>
                    <a:pt x="1523" y="88"/>
                    <a:pt x="1510" y="82"/>
                  </a:cubicBezTo>
                  <a:cubicBezTo>
                    <a:pt x="1453" y="54"/>
                    <a:pt x="1380" y="55"/>
                    <a:pt x="1318" y="48"/>
                  </a:cubicBezTo>
                  <a:cubicBezTo>
                    <a:pt x="1209" y="20"/>
                    <a:pt x="1164" y="36"/>
                    <a:pt x="1092" y="108"/>
                  </a:cubicBezTo>
                  <a:cubicBezTo>
                    <a:pt x="1064" y="194"/>
                    <a:pt x="1043" y="280"/>
                    <a:pt x="1031" y="369"/>
                  </a:cubicBezTo>
                  <a:cubicBezTo>
                    <a:pt x="1034" y="387"/>
                    <a:pt x="1027" y="409"/>
                    <a:pt x="1040" y="422"/>
                  </a:cubicBezTo>
                  <a:cubicBezTo>
                    <a:pt x="1057" y="439"/>
                    <a:pt x="1085" y="403"/>
                    <a:pt x="1092" y="395"/>
                  </a:cubicBezTo>
                  <a:cubicBezTo>
                    <a:pt x="1099" y="341"/>
                    <a:pt x="1115" y="251"/>
                    <a:pt x="1092" y="204"/>
                  </a:cubicBezTo>
                  <a:cubicBezTo>
                    <a:pt x="1081" y="181"/>
                    <a:pt x="1045" y="183"/>
                    <a:pt x="1023" y="169"/>
                  </a:cubicBezTo>
                  <a:cubicBezTo>
                    <a:pt x="951" y="124"/>
                    <a:pt x="901" y="71"/>
                    <a:pt x="814" y="56"/>
                  </a:cubicBezTo>
                  <a:cubicBezTo>
                    <a:pt x="674" y="74"/>
                    <a:pt x="597" y="87"/>
                    <a:pt x="483" y="195"/>
                  </a:cubicBezTo>
                  <a:cubicBezTo>
                    <a:pt x="477" y="213"/>
                    <a:pt x="471" y="230"/>
                    <a:pt x="466" y="248"/>
                  </a:cubicBezTo>
                  <a:cubicBezTo>
                    <a:pt x="454" y="294"/>
                    <a:pt x="431" y="387"/>
                    <a:pt x="431" y="387"/>
                  </a:cubicBezTo>
                  <a:cubicBezTo>
                    <a:pt x="419" y="490"/>
                    <a:pt x="419" y="482"/>
                    <a:pt x="518" y="456"/>
                  </a:cubicBezTo>
                  <a:cubicBezTo>
                    <a:pt x="535" y="439"/>
                    <a:pt x="550" y="417"/>
                    <a:pt x="570" y="404"/>
                  </a:cubicBezTo>
                  <a:cubicBezTo>
                    <a:pt x="586" y="394"/>
                    <a:pt x="612" y="402"/>
                    <a:pt x="623" y="387"/>
                  </a:cubicBezTo>
                  <a:cubicBezTo>
                    <a:pt x="636" y="369"/>
                    <a:pt x="666" y="247"/>
                    <a:pt x="675" y="213"/>
                  </a:cubicBezTo>
                  <a:cubicBezTo>
                    <a:pt x="678" y="190"/>
                    <a:pt x="683" y="166"/>
                    <a:pt x="683" y="143"/>
                  </a:cubicBezTo>
                  <a:cubicBezTo>
                    <a:pt x="683" y="71"/>
                    <a:pt x="586" y="69"/>
                    <a:pt x="536" y="56"/>
                  </a:cubicBezTo>
                  <a:cubicBezTo>
                    <a:pt x="455" y="59"/>
                    <a:pt x="373" y="60"/>
                    <a:pt x="292" y="65"/>
                  </a:cubicBezTo>
                  <a:cubicBezTo>
                    <a:pt x="238" y="68"/>
                    <a:pt x="136" y="108"/>
                    <a:pt x="136" y="108"/>
                  </a:cubicBezTo>
                  <a:cubicBezTo>
                    <a:pt x="115" y="170"/>
                    <a:pt x="91" y="235"/>
                    <a:pt x="127" y="300"/>
                  </a:cubicBezTo>
                  <a:cubicBezTo>
                    <a:pt x="143" y="328"/>
                    <a:pt x="169" y="351"/>
                    <a:pt x="196" y="369"/>
                  </a:cubicBezTo>
                  <a:cubicBezTo>
                    <a:pt x="219" y="384"/>
                    <a:pt x="275" y="395"/>
                    <a:pt x="275" y="395"/>
                  </a:cubicBezTo>
                  <a:cubicBezTo>
                    <a:pt x="326" y="369"/>
                    <a:pt x="325" y="367"/>
                    <a:pt x="344" y="308"/>
                  </a:cubicBezTo>
                  <a:cubicBezTo>
                    <a:pt x="351" y="253"/>
                    <a:pt x="369" y="188"/>
                    <a:pt x="327" y="143"/>
                  </a:cubicBezTo>
                  <a:cubicBezTo>
                    <a:pt x="238" y="147"/>
                    <a:pt x="113" y="105"/>
                    <a:pt x="57" y="187"/>
                  </a:cubicBezTo>
                  <a:cubicBezTo>
                    <a:pt x="45" y="278"/>
                    <a:pt x="0" y="422"/>
                    <a:pt x="109" y="456"/>
                  </a:cubicBezTo>
                  <a:cubicBezTo>
                    <a:pt x="218" y="450"/>
                    <a:pt x="348" y="461"/>
                    <a:pt x="431" y="378"/>
                  </a:cubicBezTo>
                  <a:cubicBezTo>
                    <a:pt x="442" y="314"/>
                    <a:pt x="445" y="181"/>
                    <a:pt x="396" y="135"/>
                  </a:cubicBezTo>
                  <a:cubicBezTo>
                    <a:pt x="347" y="184"/>
                    <a:pt x="322" y="269"/>
                    <a:pt x="362" y="335"/>
                  </a:cubicBezTo>
                  <a:cubicBezTo>
                    <a:pt x="383" y="370"/>
                    <a:pt x="420" y="393"/>
                    <a:pt x="449" y="422"/>
                  </a:cubicBezTo>
                  <a:cubicBezTo>
                    <a:pt x="489" y="462"/>
                    <a:pt x="560" y="446"/>
                    <a:pt x="614" y="465"/>
                  </a:cubicBezTo>
                  <a:cubicBezTo>
                    <a:pt x="767" y="448"/>
                    <a:pt x="751" y="480"/>
                    <a:pt x="814" y="395"/>
                  </a:cubicBezTo>
                  <a:cubicBezTo>
                    <a:pt x="826" y="324"/>
                    <a:pt x="845" y="249"/>
                    <a:pt x="823" y="178"/>
                  </a:cubicBezTo>
                  <a:cubicBezTo>
                    <a:pt x="743" y="185"/>
                    <a:pt x="671" y="187"/>
                    <a:pt x="596" y="213"/>
                  </a:cubicBezTo>
                  <a:cubicBezTo>
                    <a:pt x="590" y="236"/>
                    <a:pt x="580" y="258"/>
                    <a:pt x="579" y="282"/>
                  </a:cubicBezTo>
                  <a:cubicBezTo>
                    <a:pt x="578" y="311"/>
                    <a:pt x="552" y="482"/>
                    <a:pt x="640" y="500"/>
                  </a:cubicBezTo>
                  <a:cubicBezTo>
                    <a:pt x="674" y="507"/>
                    <a:pt x="709" y="505"/>
                    <a:pt x="744" y="508"/>
                  </a:cubicBezTo>
                  <a:cubicBezTo>
                    <a:pt x="877" y="504"/>
                    <a:pt x="985" y="503"/>
                    <a:pt x="1110" y="482"/>
                  </a:cubicBezTo>
                  <a:cubicBezTo>
                    <a:pt x="1165" y="440"/>
                    <a:pt x="1153" y="404"/>
                    <a:pt x="1170" y="335"/>
                  </a:cubicBezTo>
                  <a:cubicBezTo>
                    <a:pt x="1164" y="306"/>
                    <a:pt x="1167" y="274"/>
                    <a:pt x="1153" y="248"/>
                  </a:cubicBezTo>
                  <a:cubicBezTo>
                    <a:pt x="1149" y="240"/>
                    <a:pt x="1134" y="250"/>
                    <a:pt x="1127" y="256"/>
                  </a:cubicBezTo>
                  <a:cubicBezTo>
                    <a:pt x="1109" y="270"/>
                    <a:pt x="1097" y="322"/>
                    <a:pt x="1092" y="335"/>
                  </a:cubicBezTo>
                  <a:cubicBezTo>
                    <a:pt x="1098" y="396"/>
                    <a:pt x="1095" y="458"/>
                    <a:pt x="1110" y="517"/>
                  </a:cubicBezTo>
                  <a:cubicBezTo>
                    <a:pt x="1113" y="529"/>
                    <a:pt x="1132" y="532"/>
                    <a:pt x="1144" y="535"/>
                  </a:cubicBezTo>
                  <a:cubicBezTo>
                    <a:pt x="1178" y="544"/>
                    <a:pt x="1214" y="547"/>
                    <a:pt x="1249" y="552"/>
                  </a:cubicBezTo>
                  <a:cubicBezTo>
                    <a:pt x="1337" y="564"/>
                    <a:pt x="1391" y="569"/>
                    <a:pt x="1475" y="578"/>
                  </a:cubicBezTo>
                  <a:cubicBezTo>
                    <a:pt x="1568" y="555"/>
                    <a:pt x="1553" y="555"/>
                    <a:pt x="1614" y="474"/>
                  </a:cubicBezTo>
                  <a:cubicBezTo>
                    <a:pt x="1628" y="366"/>
                    <a:pt x="1632" y="315"/>
                    <a:pt x="1614" y="195"/>
                  </a:cubicBezTo>
                  <a:cubicBezTo>
                    <a:pt x="1610" y="172"/>
                    <a:pt x="1612" y="144"/>
                    <a:pt x="1597" y="126"/>
                  </a:cubicBezTo>
                  <a:cubicBezTo>
                    <a:pt x="1585" y="111"/>
                    <a:pt x="1562" y="114"/>
                    <a:pt x="1544" y="108"/>
                  </a:cubicBezTo>
                  <a:cubicBezTo>
                    <a:pt x="1533" y="114"/>
                    <a:pt x="1522" y="121"/>
                    <a:pt x="1510" y="126"/>
                  </a:cubicBezTo>
                  <a:cubicBezTo>
                    <a:pt x="1493" y="133"/>
                    <a:pt x="1469" y="129"/>
                    <a:pt x="1457" y="143"/>
                  </a:cubicBezTo>
                  <a:cubicBezTo>
                    <a:pt x="1445" y="156"/>
                    <a:pt x="1452" y="178"/>
                    <a:pt x="1449" y="195"/>
                  </a:cubicBezTo>
                  <a:cubicBezTo>
                    <a:pt x="1452" y="218"/>
                    <a:pt x="1450" y="242"/>
                    <a:pt x="1457" y="265"/>
                  </a:cubicBezTo>
                  <a:cubicBezTo>
                    <a:pt x="1472" y="316"/>
                    <a:pt x="1625" y="321"/>
                    <a:pt x="1666" y="326"/>
                  </a:cubicBezTo>
                  <a:cubicBezTo>
                    <a:pt x="1693" y="352"/>
                    <a:pt x="1770" y="369"/>
                    <a:pt x="1770" y="369"/>
                  </a:cubicBezTo>
                  <a:cubicBezTo>
                    <a:pt x="1812" y="307"/>
                    <a:pt x="1800" y="337"/>
                    <a:pt x="1814" y="282"/>
                  </a:cubicBezTo>
                  <a:cubicBezTo>
                    <a:pt x="1793" y="203"/>
                    <a:pt x="1741" y="223"/>
                    <a:pt x="1666" y="213"/>
                  </a:cubicBezTo>
                  <a:cubicBezTo>
                    <a:pt x="1657" y="210"/>
                    <a:pt x="1649" y="204"/>
                    <a:pt x="1640" y="204"/>
                  </a:cubicBezTo>
                  <a:cubicBezTo>
                    <a:pt x="1625" y="204"/>
                    <a:pt x="1597" y="213"/>
                    <a:pt x="1597" y="213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7" name="Freeform 37"/>
          <p:cNvSpPr/>
          <p:nvPr/>
        </p:nvSpPr>
        <p:spPr>
          <a:xfrm>
            <a:off x="5025960" y="1473120"/>
            <a:ext cx="579600" cy="1917720"/>
          </a:xfrm>
          <a:custGeom>
            <a:avLst/>
            <a:gdLst>
              <a:gd name="textAreaLeft" fmla="*/ 0 w 579600"/>
              <a:gd name="textAreaRight" fmla="*/ 579960 w 579600"/>
              <a:gd name="textAreaTop" fmla="*/ 0 h 1917720"/>
              <a:gd name="textAreaBottom" fmla="*/ 1918080 h 1917720"/>
            </a:gdLst>
            <a:ahLst/>
            <a:rect l="textAreaLeft" t="textAreaTop" r="textAreaRight" b="textAreaBottom"/>
            <a:pathLst>
              <a:path w="365" h="1208">
                <a:moveTo>
                  <a:pt x="0" y="1208"/>
                </a:moveTo>
                <a:cubicBezTo>
                  <a:pt x="23" y="1205"/>
                  <a:pt x="47" y="1206"/>
                  <a:pt x="69" y="1200"/>
                </a:cubicBezTo>
                <a:cubicBezTo>
                  <a:pt x="91" y="1194"/>
                  <a:pt x="155" y="1118"/>
                  <a:pt x="165" y="1095"/>
                </a:cubicBezTo>
                <a:cubicBezTo>
                  <a:pt x="196" y="1025"/>
                  <a:pt x="164" y="1060"/>
                  <a:pt x="200" y="1026"/>
                </a:cubicBezTo>
                <a:cubicBezTo>
                  <a:pt x="218" y="975"/>
                  <a:pt x="208" y="920"/>
                  <a:pt x="226" y="869"/>
                </a:cubicBezTo>
                <a:cubicBezTo>
                  <a:pt x="234" y="804"/>
                  <a:pt x="250" y="749"/>
                  <a:pt x="269" y="687"/>
                </a:cubicBezTo>
                <a:cubicBezTo>
                  <a:pt x="263" y="548"/>
                  <a:pt x="232" y="368"/>
                  <a:pt x="278" y="234"/>
                </a:cubicBezTo>
                <a:cubicBezTo>
                  <a:pt x="285" y="215"/>
                  <a:pt x="325" y="197"/>
                  <a:pt x="339" y="182"/>
                </a:cubicBezTo>
                <a:cubicBezTo>
                  <a:pt x="365" y="107"/>
                  <a:pt x="311" y="128"/>
                  <a:pt x="235" y="121"/>
                </a:cubicBezTo>
                <a:cubicBezTo>
                  <a:pt x="212" y="124"/>
                  <a:pt x="185" y="117"/>
                  <a:pt x="165" y="130"/>
                </a:cubicBezTo>
                <a:cubicBezTo>
                  <a:pt x="156" y="136"/>
                  <a:pt x="172" y="154"/>
                  <a:pt x="182" y="156"/>
                </a:cubicBezTo>
                <a:cubicBezTo>
                  <a:pt x="205" y="161"/>
                  <a:pt x="229" y="150"/>
                  <a:pt x="252" y="147"/>
                </a:cubicBezTo>
                <a:cubicBezTo>
                  <a:pt x="291" y="135"/>
                  <a:pt x="311" y="125"/>
                  <a:pt x="339" y="95"/>
                </a:cubicBezTo>
                <a:cubicBezTo>
                  <a:pt x="365" y="19"/>
                  <a:pt x="282" y="13"/>
                  <a:pt x="226" y="0"/>
                </a:cubicBezTo>
                <a:cubicBezTo>
                  <a:pt x="175" y="12"/>
                  <a:pt x="170" y="8"/>
                  <a:pt x="182" y="60"/>
                </a:cubicBezTo>
                <a:cubicBezTo>
                  <a:pt x="208" y="57"/>
                  <a:pt x="235" y="56"/>
                  <a:pt x="261" y="52"/>
                </a:cubicBezTo>
                <a:cubicBezTo>
                  <a:pt x="264" y="51"/>
                  <a:pt x="332" y="17"/>
                  <a:pt x="296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8" name="Line 40"/>
          <p:cNvSpPr/>
          <p:nvPr/>
        </p:nvSpPr>
        <p:spPr>
          <a:xfrm>
            <a:off x="662040" y="5715000"/>
            <a:ext cx="1146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9" name="Line 41"/>
          <p:cNvSpPr/>
          <p:nvPr/>
        </p:nvSpPr>
        <p:spPr>
          <a:xfrm>
            <a:off x="676440" y="6254640"/>
            <a:ext cx="1145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0" name="Text Box 42"/>
          <p:cNvSpPr/>
          <p:nvPr/>
        </p:nvSpPr>
        <p:spPr>
          <a:xfrm>
            <a:off x="1803240" y="546264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NA batteri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1" name="Text Box 43"/>
          <p:cNvSpPr/>
          <p:nvPr/>
        </p:nvSpPr>
        <p:spPr>
          <a:xfrm>
            <a:off x="1795320" y="601992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NA vira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2" name="Text Box 44"/>
          <p:cNvSpPr/>
          <p:nvPr/>
        </p:nvSpPr>
        <p:spPr>
          <a:xfrm>
            <a:off x="2253600" y="176040"/>
            <a:ext cx="46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Il processo di infezione vir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AutoShape 3"/>
          <p:cNvSpPr/>
          <p:nvPr/>
        </p:nvSpPr>
        <p:spPr>
          <a:xfrm>
            <a:off x="625320" y="1152360"/>
            <a:ext cx="7844040" cy="4050000"/>
          </a:xfrm>
          <a:prstGeom prst="roundRect">
            <a:avLst>
              <a:gd name="adj" fmla="val 4285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4" name="AutoShape 4"/>
          <p:cNvSpPr/>
          <p:nvPr/>
        </p:nvSpPr>
        <p:spPr>
          <a:xfrm>
            <a:off x="861840" y="1360440"/>
            <a:ext cx="7394760" cy="3594240"/>
          </a:xfrm>
          <a:prstGeom prst="roundRect">
            <a:avLst>
              <a:gd name="adj" fmla="val 4192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5" name="AutoShape 5"/>
          <p:cNvSpPr/>
          <p:nvPr/>
        </p:nvSpPr>
        <p:spPr>
          <a:xfrm>
            <a:off x="936720" y="1432080"/>
            <a:ext cx="7226280" cy="3433680"/>
          </a:xfrm>
          <a:prstGeom prst="roundRect">
            <a:avLst>
              <a:gd name="adj" fmla="val 41926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6" name="Freeform 27"/>
          <p:cNvSpPr/>
          <p:nvPr/>
        </p:nvSpPr>
        <p:spPr>
          <a:xfrm>
            <a:off x="1265400" y="3200400"/>
            <a:ext cx="527040" cy="600120"/>
          </a:xfrm>
          <a:custGeom>
            <a:avLst/>
            <a:gdLst>
              <a:gd name="textAreaLeft" fmla="*/ 0 w 527040"/>
              <a:gd name="textAreaRight" fmla="*/ 527400 w 52704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08" h="246">
                <a:moveTo>
                  <a:pt x="0" y="151"/>
                </a:moveTo>
                <a:cubicBezTo>
                  <a:pt x="36" y="206"/>
                  <a:pt x="40" y="194"/>
                  <a:pt x="95" y="177"/>
                </a:cubicBezTo>
                <a:cubicBezTo>
                  <a:pt x="97" y="171"/>
                  <a:pt x="116" y="118"/>
                  <a:pt x="113" y="116"/>
                </a:cubicBezTo>
                <a:cubicBezTo>
                  <a:pt x="102" y="109"/>
                  <a:pt x="90" y="127"/>
                  <a:pt x="78" y="133"/>
                </a:cubicBezTo>
                <a:cubicBezTo>
                  <a:pt x="85" y="191"/>
                  <a:pt x="74" y="229"/>
                  <a:pt x="130" y="246"/>
                </a:cubicBezTo>
                <a:cubicBezTo>
                  <a:pt x="136" y="240"/>
                  <a:pt x="145" y="237"/>
                  <a:pt x="148" y="229"/>
                </a:cubicBezTo>
                <a:cubicBezTo>
                  <a:pt x="154" y="213"/>
                  <a:pt x="154" y="194"/>
                  <a:pt x="156" y="177"/>
                </a:cubicBezTo>
                <a:cubicBezTo>
                  <a:pt x="177" y="26"/>
                  <a:pt x="200" y="0"/>
                  <a:pt x="156" y="64"/>
                </a:cubicBezTo>
                <a:cubicBezTo>
                  <a:pt x="163" y="119"/>
                  <a:pt x="152" y="151"/>
                  <a:pt x="208" y="151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7" name="Freeform 28"/>
          <p:cNvSpPr/>
          <p:nvPr/>
        </p:nvSpPr>
        <p:spPr>
          <a:xfrm>
            <a:off x="2101680" y="3807000"/>
            <a:ext cx="552600" cy="339480"/>
          </a:xfrm>
          <a:custGeom>
            <a:avLst/>
            <a:gdLst>
              <a:gd name="textAreaLeft" fmla="*/ 0 w 552600"/>
              <a:gd name="textAreaRight" fmla="*/ 552960 w 55260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217" h="139">
                <a:moveTo>
                  <a:pt x="17" y="139"/>
                </a:moveTo>
                <a:cubicBezTo>
                  <a:pt x="24" y="55"/>
                  <a:pt x="0" y="21"/>
                  <a:pt x="69" y="0"/>
                </a:cubicBezTo>
                <a:cubicBezTo>
                  <a:pt x="120" y="15"/>
                  <a:pt x="115" y="50"/>
                  <a:pt x="130" y="95"/>
                </a:cubicBezTo>
                <a:cubicBezTo>
                  <a:pt x="133" y="104"/>
                  <a:pt x="145" y="114"/>
                  <a:pt x="139" y="121"/>
                </a:cubicBezTo>
                <a:cubicBezTo>
                  <a:pt x="133" y="128"/>
                  <a:pt x="122" y="116"/>
                  <a:pt x="113" y="113"/>
                </a:cubicBezTo>
                <a:cubicBezTo>
                  <a:pt x="110" y="104"/>
                  <a:pt x="102" y="96"/>
                  <a:pt x="104" y="87"/>
                </a:cubicBezTo>
                <a:cubicBezTo>
                  <a:pt x="112" y="47"/>
                  <a:pt x="170" y="80"/>
                  <a:pt x="191" y="87"/>
                </a:cubicBezTo>
                <a:cubicBezTo>
                  <a:pt x="212" y="107"/>
                  <a:pt x="204" y="98"/>
                  <a:pt x="217" y="113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8" name="Freeform 29"/>
          <p:cNvSpPr/>
          <p:nvPr/>
        </p:nvSpPr>
        <p:spPr>
          <a:xfrm>
            <a:off x="3841920" y="3930480"/>
            <a:ext cx="555480" cy="444600"/>
          </a:xfrm>
          <a:custGeom>
            <a:avLst/>
            <a:gdLst>
              <a:gd name="textAreaLeft" fmla="*/ 0 w 555480"/>
              <a:gd name="textAreaRight" fmla="*/ 555840 w 55548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18" h="183">
                <a:moveTo>
                  <a:pt x="36" y="0"/>
                </a:moveTo>
                <a:cubicBezTo>
                  <a:pt x="0" y="103"/>
                  <a:pt x="107" y="97"/>
                  <a:pt x="166" y="113"/>
                </a:cubicBezTo>
                <a:cubicBezTo>
                  <a:pt x="216" y="100"/>
                  <a:pt x="218" y="93"/>
                  <a:pt x="201" y="44"/>
                </a:cubicBezTo>
                <a:cubicBezTo>
                  <a:pt x="156" y="58"/>
                  <a:pt x="156" y="85"/>
                  <a:pt x="132" y="122"/>
                </a:cubicBezTo>
                <a:cubicBezTo>
                  <a:pt x="121" y="173"/>
                  <a:pt x="126" y="183"/>
                  <a:pt x="62" y="183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Freeform 31"/>
          <p:cNvSpPr/>
          <p:nvPr/>
        </p:nvSpPr>
        <p:spPr>
          <a:xfrm>
            <a:off x="1585800" y="2701800"/>
            <a:ext cx="728640" cy="501840"/>
          </a:xfrm>
          <a:custGeom>
            <a:avLst/>
            <a:gdLst>
              <a:gd name="textAreaLeft" fmla="*/ 0 w 728640"/>
              <a:gd name="textAreaRight" fmla="*/ 729000 w 728640"/>
              <a:gd name="textAreaTop" fmla="*/ 0 h 501840"/>
              <a:gd name="textAreaBottom" fmla="*/ 502200 h 501840"/>
            </a:gdLst>
            <a:ahLst/>
            <a:rect l="textAreaLeft" t="textAreaTop" r="textAreaRight" b="textAreaBottom"/>
            <a:pathLst>
              <a:path w="287" h="206">
                <a:moveTo>
                  <a:pt x="36" y="6"/>
                </a:moveTo>
                <a:cubicBezTo>
                  <a:pt x="43" y="150"/>
                  <a:pt x="0" y="172"/>
                  <a:pt x="97" y="206"/>
                </a:cubicBezTo>
                <a:cubicBezTo>
                  <a:pt x="130" y="194"/>
                  <a:pt x="139" y="184"/>
                  <a:pt x="158" y="154"/>
                </a:cubicBezTo>
                <a:cubicBezTo>
                  <a:pt x="170" y="109"/>
                  <a:pt x="150" y="54"/>
                  <a:pt x="175" y="15"/>
                </a:cubicBezTo>
                <a:cubicBezTo>
                  <a:pt x="185" y="0"/>
                  <a:pt x="210" y="21"/>
                  <a:pt x="228" y="24"/>
                </a:cubicBezTo>
                <a:cubicBezTo>
                  <a:pt x="261" y="57"/>
                  <a:pt x="287" y="90"/>
                  <a:pt x="228" y="111"/>
                </a:cubicBezTo>
                <a:cubicBezTo>
                  <a:pt x="152" y="100"/>
                  <a:pt x="188" y="102"/>
                  <a:pt x="123" y="10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Freeform 32"/>
          <p:cNvSpPr/>
          <p:nvPr/>
        </p:nvSpPr>
        <p:spPr>
          <a:xfrm rot="16200000">
            <a:off x="4228200" y="2014920"/>
            <a:ext cx="420840" cy="507960"/>
          </a:xfrm>
          <a:custGeom>
            <a:avLst/>
            <a:gdLst>
              <a:gd name="textAreaLeft" fmla="*/ 0 w 420840"/>
              <a:gd name="textAreaRight" fmla="*/ 421200 w 4208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73" h="200">
                <a:moveTo>
                  <a:pt x="60" y="200"/>
                </a:moveTo>
                <a:cubicBezTo>
                  <a:pt x="65" y="139"/>
                  <a:pt x="57" y="75"/>
                  <a:pt x="78" y="17"/>
                </a:cubicBezTo>
                <a:cubicBezTo>
                  <a:pt x="82" y="7"/>
                  <a:pt x="95" y="6"/>
                  <a:pt x="104" y="0"/>
                </a:cubicBezTo>
                <a:cubicBezTo>
                  <a:pt x="146" y="10"/>
                  <a:pt x="160" y="1"/>
                  <a:pt x="173" y="43"/>
                </a:cubicBezTo>
                <a:cubicBezTo>
                  <a:pt x="146" y="70"/>
                  <a:pt x="140" y="83"/>
                  <a:pt x="95" y="87"/>
                </a:cubicBezTo>
                <a:cubicBezTo>
                  <a:pt x="63" y="90"/>
                  <a:pt x="0" y="95"/>
                  <a:pt x="0" y="9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1" name="Freeform 33"/>
          <p:cNvSpPr/>
          <p:nvPr/>
        </p:nvSpPr>
        <p:spPr>
          <a:xfrm>
            <a:off x="5751360" y="3833640"/>
            <a:ext cx="640080" cy="103320"/>
          </a:xfrm>
          <a:custGeom>
            <a:avLst/>
            <a:gdLst>
              <a:gd name="textAreaLeft" fmla="*/ 0 w 640080"/>
              <a:gd name="textAreaRight" fmla="*/ 640440 w 6400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252" h="43">
                <a:moveTo>
                  <a:pt x="0" y="26"/>
                </a:moveTo>
                <a:cubicBezTo>
                  <a:pt x="58" y="6"/>
                  <a:pt x="96" y="0"/>
                  <a:pt x="157" y="9"/>
                </a:cubicBezTo>
                <a:cubicBezTo>
                  <a:pt x="183" y="26"/>
                  <a:pt x="205" y="34"/>
                  <a:pt x="235" y="43"/>
                </a:cubicBezTo>
                <a:cubicBezTo>
                  <a:pt x="241" y="34"/>
                  <a:pt x="252" y="17"/>
                  <a:pt x="252" y="17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2" name="Freeform 34"/>
          <p:cNvSpPr/>
          <p:nvPr/>
        </p:nvSpPr>
        <p:spPr>
          <a:xfrm>
            <a:off x="2706840" y="3235320"/>
            <a:ext cx="1087200" cy="382680"/>
          </a:xfrm>
          <a:custGeom>
            <a:avLst/>
            <a:gdLst>
              <a:gd name="textAreaLeft" fmla="*/ 0 w 1087200"/>
              <a:gd name="textAreaRight" fmla="*/ 1087560 w 10872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428" h="157">
                <a:moveTo>
                  <a:pt x="0" y="44"/>
                </a:moveTo>
                <a:cubicBezTo>
                  <a:pt x="132" y="35"/>
                  <a:pt x="261" y="23"/>
                  <a:pt x="391" y="0"/>
                </a:cubicBezTo>
                <a:cubicBezTo>
                  <a:pt x="397" y="9"/>
                  <a:pt x="402" y="18"/>
                  <a:pt x="409" y="26"/>
                </a:cubicBezTo>
                <a:cubicBezTo>
                  <a:pt x="414" y="32"/>
                  <a:pt x="428" y="36"/>
                  <a:pt x="426" y="44"/>
                </a:cubicBezTo>
                <a:cubicBezTo>
                  <a:pt x="424" y="56"/>
                  <a:pt x="409" y="62"/>
                  <a:pt x="400" y="70"/>
                </a:cubicBezTo>
                <a:cubicBezTo>
                  <a:pt x="361" y="103"/>
                  <a:pt x="305" y="93"/>
                  <a:pt x="305" y="157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3" name="Freeform 35"/>
          <p:cNvSpPr/>
          <p:nvPr/>
        </p:nvSpPr>
        <p:spPr>
          <a:xfrm>
            <a:off x="3008160" y="2451240"/>
            <a:ext cx="849600" cy="361800"/>
          </a:xfrm>
          <a:custGeom>
            <a:avLst/>
            <a:gdLst>
              <a:gd name="textAreaLeft" fmla="*/ 0 w 849600"/>
              <a:gd name="textAreaRight" fmla="*/ 849960 w 84960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334" h="148">
                <a:moveTo>
                  <a:pt x="0" y="61"/>
                </a:moveTo>
                <a:cubicBezTo>
                  <a:pt x="26" y="58"/>
                  <a:pt x="53" y="58"/>
                  <a:pt x="79" y="52"/>
                </a:cubicBezTo>
                <a:cubicBezTo>
                  <a:pt x="110" y="44"/>
                  <a:pt x="126" y="11"/>
                  <a:pt x="157" y="0"/>
                </a:cubicBezTo>
                <a:cubicBezTo>
                  <a:pt x="180" y="3"/>
                  <a:pt x="312" y="19"/>
                  <a:pt x="322" y="26"/>
                </a:cubicBezTo>
                <a:cubicBezTo>
                  <a:pt x="334" y="35"/>
                  <a:pt x="316" y="55"/>
                  <a:pt x="313" y="70"/>
                </a:cubicBezTo>
                <a:cubicBezTo>
                  <a:pt x="266" y="62"/>
                  <a:pt x="244" y="50"/>
                  <a:pt x="200" y="61"/>
                </a:cubicBezTo>
                <a:cubicBezTo>
                  <a:pt x="196" y="64"/>
                  <a:pt x="149" y="98"/>
                  <a:pt x="148" y="104"/>
                </a:cubicBezTo>
                <a:cubicBezTo>
                  <a:pt x="143" y="129"/>
                  <a:pt x="172" y="148"/>
                  <a:pt x="192" y="14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Freeform 36"/>
          <p:cNvSpPr/>
          <p:nvPr/>
        </p:nvSpPr>
        <p:spPr>
          <a:xfrm>
            <a:off x="5614920" y="4232160"/>
            <a:ext cx="438120" cy="487440"/>
          </a:xfrm>
          <a:custGeom>
            <a:avLst/>
            <a:gdLst>
              <a:gd name="textAreaLeft" fmla="*/ 0 w 438120"/>
              <a:gd name="textAreaRight" fmla="*/ 438480 w 43812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173" h="200">
                <a:moveTo>
                  <a:pt x="60" y="200"/>
                </a:moveTo>
                <a:cubicBezTo>
                  <a:pt x="65" y="139"/>
                  <a:pt x="57" y="75"/>
                  <a:pt x="78" y="17"/>
                </a:cubicBezTo>
                <a:cubicBezTo>
                  <a:pt x="82" y="7"/>
                  <a:pt x="95" y="6"/>
                  <a:pt x="104" y="0"/>
                </a:cubicBezTo>
                <a:cubicBezTo>
                  <a:pt x="146" y="10"/>
                  <a:pt x="160" y="1"/>
                  <a:pt x="173" y="43"/>
                </a:cubicBezTo>
                <a:cubicBezTo>
                  <a:pt x="146" y="70"/>
                  <a:pt x="140" y="83"/>
                  <a:pt x="95" y="87"/>
                </a:cubicBezTo>
                <a:cubicBezTo>
                  <a:pt x="63" y="90"/>
                  <a:pt x="0" y="95"/>
                  <a:pt x="0" y="9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5" name="Freeform 37"/>
          <p:cNvSpPr/>
          <p:nvPr/>
        </p:nvSpPr>
        <p:spPr>
          <a:xfrm rot="16200000">
            <a:off x="5918760" y="2476800"/>
            <a:ext cx="613080" cy="109440"/>
          </a:xfrm>
          <a:custGeom>
            <a:avLst/>
            <a:gdLst>
              <a:gd name="textAreaLeft" fmla="*/ 0 w 613080"/>
              <a:gd name="textAreaRight" fmla="*/ 613440 w 6130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52" h="43">
                <a:moveTo>
                  <a:pt x="0" y="26"/>
                </a:moveTo>
                <a:cubicBezTo>
                  <a:pt x="58" y="6"/>
                  <a:pt x="96" y="0"/>
                  <a:pt x="157" y="9"/>
                </a:cubicBezTo>
                <a:cubicBezTo>
                  <a:pt x="183" y="26"/>
                  <a:pt x="205" y="34"/>
                  <a:pt x="235" y="43"/>
                </a:cubicBezTo>
                <a:cubicBezTo>
                  <a:pt x="241" y="34"/>
                  <a:pt x="252" y="17"/>
                  <a:pt x="252" y="17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Freeform 38"/>
          <p:cNvSpPr/>
          <p:nvPr/>
        </p:nvSpPr>
        <p:spPr>
          <a:xfrm rot="16200000">
            <a:off x="5002920" y="1880280"/>
            <a:ext cx="1039680" cy="3999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428" h="157">
                <a:moveTo>
                  <a:pt x="0" y="44"/>
                </a:moveTo>
                <a:cubicBezTo>
                  <a:pt x="132" y="35"/>
                  <a:pt x="261" y="23"/>
                  <a:pt x="391" y="0"/>
                </a:cubicBezTo>
                <a:cubicBezTo>
                  <a:pt x="397" y="9"/>
                  <a:pt x="402" y="18"/>
                  <a:pt x="409" y="26"/>
                </a:cubicBezTo>
                <a:cubicBezTo>
                  <a:pt x="414" y="32"/>
                  <a:pt x="428" y="36"/>
                  <a:pt x="426" y="44"/>
                </a:cubicBezTo>
                <a:cubicBezTo>
                  <a:pt x="424" y="56"/>
                  <a:pt x="409" y="62"/>
                  <a:pt x="400" y="70"/>
                </a:cubicBezTo>
                <a:cubicBezTo>
                  <a:pt x="361" y="103"/>
                  <a:pt x="305" y="93"/>
                  <a:pt x="305" y="157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7" name="Freeform 39"/>
          <p:cNvSpPr/>
          <p:nvPr/>
        </p:nvSpPr>
        <p:spPr>
          <a:xfrm rot="16200000">
            <a:off x="7272360" y="2626920"/>
            <a:ext cx="811080" cy="376200"/>
          </a:xfrm>
          <a:custGeom>
            <a:avLst/>
            <a:gdLst>
              <a:gd name="textAreaLeft" fmla="*/ 0 w 811080"/>
              <a:gd name="textAreaRight" fmla="*/ 811440 w 81108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334" h="148">
                <a:moveTo>
                  <a:pt x="0" y="61"/>
                </a:moveTo>
                <a:cubicBezTo>
                  <a:pt x="26" y="58"/>
                  <a:pt x="53" y="58"/>
                  <a:pt x="79" y="52"/>
                </a:cubicBezTo>
                <a:cubicBezTo>
                  <a:pt x="110" y="44"/>
                  <a:pt x="126" y="11"/>
                  <a:pt x="157" y="0"/>
                </a:cubicBezTo>
                <a:cubicBezTo>
                  <a:pt x="180" y="3"/>
                  <a:pt x="312" y="19"/>
                  <a:pt x="322" y="26"/>
                </a:cubicBezTo>
                <a:cubicBezTo>
                  <a:pt x="334" y="35"/>
                  <a:pt x="316" y="55"/>
                  <a:pt x="313" y="70"/>
                </a:cubicBezTo>
                <a:cubicBezTo>
                  <a:pt x="266" y="62"/>
                  <a:pt x="244" y="50"/>
                  <a:pt x="200" y="61"/>
                </a:cubicBezTo>
                <a:cubicBezTo>
                  <a:pt x="196" y="64"/>
                  <a:pt x="149" y="98"/>
                  <a:pt x="148" y="104"/>
                </a:cubicBezTo>
                <a:cubicBezTo>
                  <a:pt x="143" y="129"/>
                  <a:pt x="172" y="148"/>
                  <a:pt x="192" y="14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Freeform 43"/>
          <p:cNvSpPr/>
          <p:nvPr/>
        </p:nvSpPr>
        <p:spPr>
          <a:xfrm>
            <a:off x="2874960" y="4087800"/>
            <a:ext cx="301680" cy="382680"/>
          </a:xfrm>
          <a:custGeom>
            <a:avLst/>
            <a:gdLst>
              <a:gd name="textAreaLeft" fmla="*/ 0 w 301680"/>
              <a:gd name="textAreaRight" fmla="*/ 302040 w 3016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200" h="261">
                <a:moveTo>
                  <a:pt x="0" y="261"/>
                </a:moveTo>
                <a:cubicBezTo>
                  <a:pt x="52" y="157"/>
                  <a:pt x="59" y="133"/>
                  <a:pt x="182" y="17"/>
                </a:cubicBezTo>
                <a:cubicBezTo>
                  <a:pt x="188" y="11"/>
                  <a:pt x="200" y="0"/>
                  <a:pt x="20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Freeform 44"/>
          <p:cNvSpPr/>
          <p:nvPr/>
        </p:nvSpPr>
        <p:spPr>
          <a:xfrm>
            <a:off x="2209680" y="1751040"/>
            <a:ext cx="497160" cy="112680"/>
          </a:xfrm>
          <a:custGeom>
            <a:avLst/>
            <a:gdLst>
              <a:gd name="textAreaLeft" fmla="*/ 0 w 497160"/>
              <a:gd name="textAreaRight" fmla="*/ 497520 w 4971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30" h="77">
                <a:moveTo>
                  <a:pt x="0" y="6"/>
                </a:moveTo>
                <a:cubicBezTo>
                  <a:pt x="35" y="9"/>
                  <a:pt x="73" y="0"/>
                  <a:pt x="104" y="15"/>
                </a:cubicBezTo>
                <a:cubicBezTo>
                  <a:pt x="127" y="26"/>
                  <a:pt x="148" y="76"/>
                  <a:pt x="148" y="76"/>
                </a:cubicBezTo>
                <a:cubicBezTo>
                  <a:pt x="171" y="73"/>
                  <a:pt x="196" y="77"/>
                  <a:pt x="217" y="67"/>
                </a:cubicBezTo>
                <a:cubicBezTo>
                  <a:pt x="236" y="58"/>
                  <a:pt x="240" y="23"/>
                  <a:pt x="261" y="23"/>
                </a:cubicBezTo>
                <a:cubicBezTo>
                  <a:pt x="284" y="23"/>
                  <a:pt x="307" y="23"/>
                  <a:pt x="330" y="2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0" name="Freeform 45"/>
          <p:cNvSpPr/>
          <p:nvPr/>
        </p:nvSpPr>
        <p:spPr>
          <a:xfrm>
            <a:off x="7596360" y="3665520"/>
            <a:ext cx="230040" cy="509760"/>
          </a:xfrm>
          <a:custGeom>
            <a:avLst/>
            <a:gdLst>
              <a:gd name="textAreaLeft" fmla="*/ 0 w 230040"/>
              <a:gd name="textAreaRight" fmla="*/ 230400 w 23004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153" h="348">
                <a:moveTo>
                  <a:pt x="110" y="348"/>
                </a:moveTo>
                <a:cubicBezTo>
                  <a:pt x="127" y="279"/>
                  <a:pt x="142" y="210"/>
                  <a:pt x="153" y="139"/>
                </a:cubicBezTo>
                <a:cubicBezTo>
                  <a:pt x="112" y="77"/>
                  <a:pt x="63" y="134"/>
                  <a:pt x="14" y="87"/>
                </a:cubicBezTo>
                <a:cubicBezTo>
                  <a:pt x="0" y="42"/>
                  <a:pt x="6" y="70"/>
                  <a:pt x="6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1" name="Freeform 46"/>
          <p:cNvSpPr/>
          <p:nvPr/>
        </p:nvSpPr>
        <p:spPr>
          <a:xfrm>
            <a:off x="3757680" y="1542960"/>
            <a:ext cx="541440" cy="319320"/>
          </a:xfrm>
          <a:custGeom>
            <a:avLst/>
            <a:gdLst>
              <a:gd name="textAreaLeft" fmla="*/ 0 w 541440"/>
              <a:gd name="textAreaRight" fmla="*/ 541800 w 541440"/>
              <a:gd name="textAreaTop" fmla="*/ 0 h 319320"/>
              <a:gd name="textAreaBottom" fmla="*/ 319320 h 319320"/>
            </a:gdLst>
            <a:ahLst/>
            <a:rect l="textAreaLeft" t="textAreaTop" r="textAreaRight" b="textAreaBottom"/>
            <a:pathLst>
              <a:path w="359" h="218">
                <a:moveTo>
                  <a:pt x="86" y="0"/>
                </a:moveTo>
                <a:cubicBezTo>
                  <a:pt x="53" y="49"/>
                  <a:pt x="0" y="104"/>
                  <a:pt x="60" y="174"/>
                </a:cubicBezTo>
                <a:cubicBezTo>
                  <a:pt x="79" y="196"/>
                  <a:pt x="118" y="168"/>
                  <a:pt x="147" y="165"/>
                </a:cubicBezTo>
                <a:cubicBezTo>
                  <a:pt x="188" y="156"/>
                  <a:pt x="188" y="142"/>
                  <a:pt x="225" y="131"/>
                </a:cubicBezTo>
                <a:cubicBezTo>
                  <a:pt x="268" y="137"/>
                  <a:pt x="314" y="134"/>
                  <a:pt x="347" y="165"/>
                </a:cubicBezTo>
                <a:cubicBezTo>
                  <a:pt x="359" y="200"/>
                  <a:pt x="356" y="182"/>
                  <a:pt x="356" y="21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2" name="Freeform 47"/>
          <p:cNvSpPr/>
          <p:nvPr/>
        </p:nvSpPr>
        <p:spPr>
          <a:xfrm>
            <a:off x="4751280" y="3325680"/>
            <a:ext cx="235080" cy="509760"/>
          </a:xfrm>
          <a:custGeom>
            <a:avLst/>
            <a:gdLst>
              <a:gd name="textAreaLeft" fmla="*/ 0 w 235080"/>
              <a:gd name="textAreaRight" fmla="*/ 235440 w 23508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156" h="348">
                <a:moveTo>
                  <a:pt x="95" y="0"/>
                </a:moveTo>
                <a:cubicBezTo>
                  <a:pt x="80" y="5"/>
                  <a:pt x="20" y="23"/>
                  <a:pt x="17" y="26"/>
                </a:cubicBezTo>
                <a:cubicBezTo>
                  <a:pt x="0" y="46"/>
                  <a:pt x="8" y="79"/>
                  <a:pt x="0" y="104"/>
                </a:cubicBezTo>
                <a:cubicBezTo>
                  <a:pt x="3" y="116"/>
                  <a:pt x="0" y="130"/>
                  <a:pt x="8" y="139"/>
                </a:cubicBezTo>
                <a:cubicBezTo>
                  <a:pt x="16" y="148"/>
                  <a:pt x="31" y="147"/>
                  <a:pt x="43" y="148"/>
                </a:cubicBezTo>
                <a:cubicBezTo>
                  <a:pt x="78" y="152"/>
                  <a:pt x="113" y="153"/>
                  <a:pt x="148" y="156"/>
                </a:cubicBezTo>
                <a:cubicBezTo>
                  <a:pt x="151" y="165"/>
                  <a:pt x="156" y="173"/>
                  <a:pt x="156" y="182"/>
                </a:cubicBezTo>
                <a:cubicBezTo>
                  <a:pt x="156" y="266"/>
                  <a:pt x="125" y="239"/>
                  <a:pt x="61" y="261"/>
                </a:cubicBezTo>
                <a:cubicBezTo>
                  <a:pt x="47" y="274"/>
                  <a:pt x="34" y="281"/>
                  <a:pt x="34" y="304"/>
                </a:cubicBezTo>
                <a:cubicBezTo>
                  <a:pt x="34" y="313"/>
                  <a:pt x="38" y="322"/>
                  <a:pt x="43" y="330"/>
                </a:cubicBezTo>
                <a:cubicBezTo>
                  <a:pt x="47" y="337"/>
                  <a:pt x="61" y="348"/>
                  <a:pt x="61" y="3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Freeform 48"/>
          <p:cNvSpPr/>
          <p:nvPr/>
        </p:nvSpPr>
        <p:spPr>
          <a:xfrm>
            <a:off x="5483160" y="3232080"/>
            <a:ext cx="379440" cy="381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52" h="260">
                <a:moveTo>
                  <a:pt x="252" y="260"/>
                </a:moveTo>
                <a:cubicBezTo>
                  <a:pt x="225" y="252"/>
                  <a:pt x="208" y="238"/>
                  <a:pt x="182" y="226"/>
                </a:cubicBezTo>
                <a:cubicBezTo>
                  <a:pt x="159" y="215"/>
                  <a:pt x="113" y="191"/>
                  <a:pt x="113" y="191"/>
                </a:cubicBezTo>
                <a:cubicBezTo>
                  <a:pt x="109" y="156"/>
                  <a:pt x="108" y="87"/>
                  <a:pt x="87" y="52"/>
                </a:cubicBezTo>
                <a:cubicBezTo>
                  <a:pt x="69" y="21"/>
                  <a:pt x="29" y="14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04" name="Group 49"/>
          <p:cNvGrpSpPr/>
          <p:nvPr/>
        </p:nvGrpSpPr>
        <p:grpSpPr>
          <a:xfrm>
            <a:off x="4932000" y="4100040"/>
            <a:ext cx="495720" cy="470520"/>
            <a:chOff x="4932000" y="4100040"/>
            <a:chExt cx="495720" cy="470520"/>
          </a:xfrm>
        </p:grpSpPr>
        <p:sp>
          <p:nvSpPr>
            <p:cNvPr id="2105" name="Oval 50"/>
            <p:cNvSpPr/>
            <p:nvPr/>
          </p:nvSpPr>
          <p:spPr>
            <a:xfrm>
              <a:off x="5135760" y="4415400"/>
              <a:ext cx="88920" cy="26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6" name="Rectangle 51"/>
            <p:cNvSpPr/>
            <p:nvPr/>
          </p:nvSpPr>
          <p:spPr>
            <a:xfrm>
              <a:off x="5153400" y="4273920"/>
              <a:ext cx="5544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7" name="Oval 52"/>
            <p:cNvSpPr/>
            <p:nvPr/>
          </p:nvSpPr>
          <p:spPr>
            <a:xfrm>
              <a:off x="5146560" y="4266720"/>
              <a:ext cx="72360" cy="26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8" name="AutoShape 53"/>
            <p:cNvSpPr/>
            <p:nvPr/>
          </p:nvSpPr>
          <p:spPr>
            <a:xfrm rot="16200000">
              <a:off x="5090040" y="4095000"/>
              <a:ext cx="185400" cy="1951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09" name="Group 54"/>
            <p:cNvGrpSpPr/>
            <p:nvPr/>
          </p:nvGrpSpPr>
          <p:grpSpPr>
            <a:xfrm>
              <a:off x="5227560" y="4349880"/>
              <a:ext cx="85320" cy="92520"/>
              <a:chOff x="5227560" y="4349880"/>
              <a:chExt cx="85320" cy="92520"/>
            </a:xfrm>
          </p:grpSpPr>
          <p:sp>
            <p:nvSpPr>
              <p:cNvPr id="2110" name="Line 55"/>
              <p:cNvSpPr/>
              <p:nvPr/>
            </p:nvSpPr>
            <p:spPr>
              <a:xfrm flipV="1">
                <a:off x="5227560" y="4353480"/>
                <a:ext cx="55440" cy="7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1" name="Line 56"/>
              <p:cNvSpPr/>
              <p:nvPr/>
            </p:nvSpPr>
            <p:spPr>
              <a:xfrm>
                <a:off x="5285160" y="4349880"/>
                <a:ext cx="27720" cy="9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12" name="Line 57"/>
            <p:cNvSpPr/>
            <p:nvPr/>
          </p:nvSpPr>
          <p:spPr>
            <a:xfrm flipV="1">
              <a:off x="5226120" y="4408560"/>
              <a:ext cx="150840" cy="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3" name="Line 58"/>
            <p:cNvSpPr/>
            <p:nvPr/>
          </p:nvSpPr>
          <p:spPr>
            <a:xfrm>
              <a:off x="5366520" y="4408560"/>
              <a:ext cx="61200" cy="7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4" name="Line 59"/>
            <p:cNvSpPr/>
            <p:nvPr/>
          </p:nvSpPr>
          <p:spPr>
            <a:xfrm>
              <a:off x="5209920" y="4440960"/>
              <a:ext cx="55440" cy="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5" name="Line 60"/>
            <p:cNvSpPr/>
            <p:nvPr/>
          </p:nvSpPr>
          <p:spPr>
            <a:xfrm>
              <a:off x="5259600" y="4464000"/>
              <a:ext cx="3312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16" name="Group 61"/>
            <p:cNvGrpSpPr/>
            <p:nvPr/>
          </p:nvGrpSpPr>
          <p:grpSpPr>
            <a:xfrm>
              <a:off x="4932000" y="4348800"/>
              <a:ext cx="217800" cy="220320"/>
              <a:chOff x="4932000" y="4348800"/>
              <a:chExt cx="217800" cy="220320"/>
            </a:xfrm>
          </p:grpSpPr>
          <p:grpSp>
            <p:nvGrpSpPr>
              <p:cNvPr id="2117" name="Group 62"/>
              <p:cNvGrpSpPr/>
              <p:nvPr/>
            </p:nvGrpSpPr>
            <p:grpSpPr>
              <a:xfrm>
                <a:off x="5046840" y="4348800"/>
                <a:ext cx="85320" cy="92160"/>
                <a:chOff x="5046840" y="4348800"/>
                <a:chExt cx="85320" cy="92160"/>
              </a:xfrm>
            </p:grpSpPr>
            <p:sp>
              <p:nvSpPr>
                <p:cNvPr id="2118" name="Line 63"/>
                <p:cNvSpPr/>
                <p:nvPr/>
              </p:nvSpPr>
              <p:spPr>
                <a:xfrm flipH="1" flipV="1">
                  <a:off x="5076720" y="4352400"/>
                  <a:ext cx="55440" cy="7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19" name="Line 64"/>
                <p:cNvSpPr/>
                <p:nvPr/>
              </p:nvSpPr>
              <p:spPr>
                <a:xfrm flipH="1">
                  <a:off x="5046840" y="4348800"/>
                  <a:ext cx="27720" cy="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20" name="Line 65"/>
              <p:cNvSpPr/>
              <p:nvPr/>
            </p:nvSpPr>
            <p:spPr>
              <a:xfrm flipH="1" flipV="1">
                <a:off x="4982400" y="4406760"/>
                <a:ext cx="151200" cy="27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1" name="Line 66"/>
              <p:cNvSpPr/>
              <p:nvPr/>
            </p:nvSpPr>
            <p:spPr>
              <a:xfrm flipH="1">
                <a:off x="4932000" y="4407120"/>
                <a:ext cx="61200" cy="7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2" name="Line 67"/>
              <p:cNvSpPr/>
              <p:nvPr/>
            </p:nvSpPr>
            <p:spPr>
              <a:xfrm flipH="1">
                <a:off x="5094360" y="4439520"/>
                <a:ext cx="55440" cy="27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3" name="Line 68"/>
              <p:cNvSpPr/>
              <p:nvPr/>
            </p:nvSpPr>
            <p:spPr>
              <a:xfrm flipH="1">
                <a:off x="5067000" y="4462560"/>
                <a:ext cx="33120" cy="10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124" name="Group 69"/>
          <p:cNvGrpSpPr/>
          <p:nvPr/>
        </p:nvGrpSpPr>
        <p:grpSpPr>
          <a:xfrm>
            <a:off x="6821640" y="4158000"/>
            <a:ext cx="493560" cy="478440"/>
            <a:chOff x="6821640" y="4158000"/>
            <a:chExt cx="493560" cy="478440"/>
          </a:xfrm>
        </p:grpSpPr>
        <p:sp>
          <p:nvSpPr>
            <p:cNvPr id="2125" name="Oval 70"/>
            <p:cNvSpPr/>
            <p:nvPr/>
          </p:nvSpPr>
          <p:spPr>
            <a:xfrm rot="5538000">
              <a:off x="6929640" y="4386240"/>
              <a:ext cx="86040" cy="27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6" name="Rectangle 71"/>
            <p:cNvSpPr/>
            <p:nvPr/>
          </p:nvSpPr>
          <p:spPr>
            <a:xfrm rot="5538000">
              <a:off x="7026480" y="4325040"/>
              <a:ext cx="53640" cy="157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7" name="Oval 72"/>
            <p:cNvSpPr/>
            <p:nvPr/>
          </p:nvSpPr>
          <p:spPr>
            <a:xfrm rot="5538000">
              <a:off x="7090920" y="4395240"/>
              <a:ext cx="70200" cy="27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8" name="AutoShape 73"/>
            <p:cNvSpPr/>
            <p:nvPr/>
          </p:nvSpPr>
          <p:spPr>
            <a:xfrm rot="137400">
              <a:off x="7119720" y="4317840"/>
              <a:ext cx="191520" cy="188640"/>
            </a:xfrm>
            <a:prstGeom prst="hexagon">
              <a:avLst>
                <a:gd name="adj" fmla="val 25382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29" name="Group 74"/>
            <p:cNvGrpSpPr/>
            <p:nvPr/>
          </p:nvGrpSpPr>
          <p:grpSpPr>
            <a:xfrm>
              <a:off x="6953400" y="4445640"/>
              <a:ext cx="96480" cy="82080"/>
              <a:chOff x="6953400" y="4445640"/>
              <a:chExt cx="96480" cy="82080"/>
            </a:xfrm>
          </p:grpSpPr>
          <p:sp>
            <p:nvSpPr>
              <p:cNvPr id="2130" name="Line 75"/>
              <p:cNvSpPr/>
              <p:nvPr/>
            </p:nvSpPr>
            <p:spPr>
              <a:xfrm>
                <a:off x="6971760" y="4445640"/>
                <a:ext cx="74160" cy="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1" name="Line 76"/>
              <p:cNvSpPr/>
              <p:nvPr/>
            </p:nvSpPr>
            <p:spPr>
              <a:xfrm flipH="1">
                <a:off x="6953400" y="4504680"/>
                <a:ext cx="96480" cy="23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32" name="Line 77"/>
            <p:cNvSpPr/>
            <p:nvPr/>
          </p:nvSpPr>
          <p:spPr>
            <a:xfrm>
              <a:off x="6963120" y="4444200"/>
              <a:ext cx="2268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3" name="Line 78"/>
            <p:cNvSpPr/>
            <p:nvPr/>
          </p:nvSpPr>
          <p:spPr>
            <a:xfrm flipH="1">
              <a:off x="6902280" y="4580640"/>
              <a:ext cx="83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4" name="Line 79"/>
            <p:cNvSpPr/>
            <p:nvPr/>
          </p:nvSpPr>
          <p:spPr>
            <a:xfrm flipH="1">
              <a:off x="6928200" y="4428360"/>
              <a:ext cx="30600" cy="5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5" name="Line 80"/>
            <p:cNvSpPr/>
            <p:nvPr/>
          </p:nvSpPr>
          <p:spPr>
            <a:xfrm flipH="1">
              <a:off x="6821640" y="4475160"/>
              <a:ext cx="111600" cy="2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36" name="Group 81"/>
            <p:cNvGrpSpPr/>
            <p:nvPr/>
          </p:nvGrpSpPr>
          <p:grpSpPr>
            <a:xfrm>
              <a:off x="6832440" y="4158000"/>
              <a:ext cx="226440" cy="212040"/>
              <a:chOff x="6832440" y="4158000"/>
              <a:chExt cx="226440" cy="212040"/>
            </a:xfrm>
          </p:grpSpPr>
          <p:grpSp>
            <p:nvGrpSpPr>
              <p:cNvPr id="2137" name="Group 82"/>
              <p:cNvGrpSpPr/>
              <p:nvPr/>
            </p:nvGrpSpPr>
            <p:grpSpPr>
              <a:xfrm>
                <a:off x="6964920" y="4270320"/>
                <a:ext cx="93960" cy="83520"/>
                <a:chOff x="6964920" y="4270320"/>
                <a:chExt cx="93960" cy="83520"/>
              </a:xfrm>
            </p:grpSpPr>
            <p:sp>
              <p:nvSpPr>
                <p:cNvPr id="2138" name="Line 83"/>
                <p:cNvSpPr/>
                <p:nvPr/>
              </p:nvSpPr>
              <p:spPr>
                <a:xfrm flipV="1">
                  <a:off x="6976440" y="4303080"/>
                  <a:ext cx="78480" cy="50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39" name="Line 84"/>
                <p:cNvSpPr/>
                <p:nvPr/>
              </p:nvSpPr>
              <p:spPr>
                <a:xfrm flipH="1" flipV="1">
                  <a:off x="6964920" y="4270320"/>
                  <a:ext cx="93960" cy="30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40" name="Line 85"/>
              <p:cNvSpPr/>
              <p:nvPr/>
            </p:nvSpPr>
            <p:spPr>
              <a:xfrm flipV="1">
                <a:off x="6968160" y="4209840"/>
                <a:ext cx="34200" cy="145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1" name="Line 86"/>
              <p:cNvSpPr/>
              <p:nvPr/>
            </p:nvSpPr>
            <p:spPr>
              <a:xfrm flipH="1" flipV="1">
                <a:off x="6922800" y="4158000"/>
                <a:ext cx="78840" cy="6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2" name="Line 87"/>
              <p:cNvSpPr/>
              <p:nvPr/>
            </p:nvSpPr>
            <p:spPr>
              <a:xfrm flipH="1" flipV="1">
                <a:off x="6936120" y="4315320"/>
                <a:ext cx="26280" cy="5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3" name="Line 88"/>
              <p:cNvSpPr/>
              <p:nvPr/>
            </p:nvSpPr>
            <p:spPr>
              <a:xfrm flipH="1" flipV="1">
                <a:off x="6832440" y="4284720"/>
                <a:ext cx="108360" cy="3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144" name="Group 89"/>
          <p:cNvGrpSpPr/>
          <p:nvPr/>
        </p:nvGrpSpPr>
        <p:grpSpPr>
          <a:xfrm>
            <a:off x="4325400" y="2706480"/>
            <a:ext cx="495720" cy="470160"/>
            <a:chOff x="4325400" y="2706480"/>
            <a:chExt cx="495720" cy="470160"/>
          </a:xfrm>
        </p:grpSpPr>
        <p:sp>
          <p:nvSpPr>
            <p:cNvPr id="2145" name="Oval 90"/>
            <p:cNvSpPr/>
            <p:nvPr/>
          </p:nvSpPr>
          <p:spPr>
            <a:xfrm>
              <a:off x="4529160" y="3021840"/>
              <a:ext cx="88920" cy="26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6" name="Rectangle 91"/>
            <p:cNvSpPr/>
            <p:nvPr/>
          </p:nvSpPr>
          <p:spPr>
            <a:xfrm>
              <a:off x="4546800" y="2880360"/>
              <a:ext cx="5544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7" name="Oval 92"/>
            <p:cNvSpPr/>
            <p:nvPr/>
          </p:nvSpPr>
          <p:spPr>
            <a:xfrm>
              <a:off x="4539960" y="2872800"/>
              <a:ext cx="72360" cy="26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8" name="AutoShape 93"/>
            <p:cNvSpPr/>
            <p:nvPr/>
          </p:nvSpPr>
          <p:spPr>
            <a:xfrm rot="16200000">
              <a:off x="4483440" y="2701440"/>
              <a:ext cx="185400" cy="1951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49" name="Group 94"/>
            <p:cNvGrpSpPr/>
            <p:nvPr/>
          </p:nvGrpSpPr>
          <p:grpSpPr>
            <a:xfrm>
              <a:off x="4620960" y="2956320"/>
              <a:ext cx="85320" cy="92520"/>
              <a:chOff x="4620960" y="2956320"/>
              <a:chExt cx="85320" cy="92520"/>
            </a:xfrm>
          </p:grpSpPr>
          <p:sp>
            <p:nvSpPr>
              <p:cNvPr id="2150" name="Line 95"/>
              <p:cNvSpPr/>
              <p:nvPr/>
            </p:nvSpPr>
            <p:spPr>
              <a:xfrm flipV="1">
                <a:off x="4620960" y="2959920"/>
                <a:ext cx="55440" cy="7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1" name="Line 96"/>
              <p:cNvSpPr/>
              <p:nvPr/>
            </p:nvSpPr>
            <p:spPr>
              <a:xfrm>
                <a:off x="4678560" y="2956320"/>
                <a:ext cx="27720" cy="9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52" name="Line 97"/>
            <p:cNvSpPr/>
            <p:nvPr/>
          </p:nvSpPr>
          <p:spPr>
            <a:xfrm flipV="1">
              <a:off x="4619520" y="3015000"/>
              <a:ext cx="150840" cy="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3" name="Line 98"/>
            <p:cNvSpPr/>
            <p:nvPr/>
          </p:nvSpPr>
          <p:spPr>
            <a:xfrm>
              <a:off x="4759920" y="3015000"/>
              <a:ext cx="61200" cy="7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4" name="Line 99"/>
            <p:cNvSpPr/>
            <p:nvPr/>
          </p:nvSpPr>
          <p:spPr>
            <a:xfrm>
              <a:off x="4603320" y="3047040"/>
              <a:ext cx="55440" cy="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5" name="Line 100"/>
            <p:cNvSpPr/>
            <p:nvPr/>
          </p:nvSpPr>
          <p:spPr>
            <a:xfrm>
              <a:off x="4653000" y="3070080"/>
              <a:ext cx="3312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56" name="Group 101"/>
            <p:cNvGrpSpPr/>
            <p:nvPr/>
          </p:nvGrpSpPr>
          <p:grpSpPr>
            <a:xfrm>
              <a:off x="4325400" y="2955240"/>
              <a:ext cx="217800" cy="219960"/>
              <a:chOff x="4325400" y="2955240"/>
              <a:chExt cx="217800" cy="219960"/>
            </a:xfrm>
          </p:grpSpPr>
          <p:grpSp>
            <p:nvGrpSpPr>
              <p:cNvPr id="2157" name="Group 102"/>
              <p:cNvGrpSpPr/>
              <p:nvPr/>
            </p:nvGrpSpPr>
            <p:grpSpPr>
              <a:xfrm>
                <a:off x="4440240" y="2955240"/>
                <a:ext cx="85320" cy="92160"/>
                <a:chOff x="4440240" y="2955240"/>
                <a:chExt cx="85320" cy="92160"/>
              </a:xfrm>
            </p:grpSpPr>
            <p:sp>
              <p:nvSpPr>
                <p:cNvPr id="2158" name="Line 103"/>
                <p:cNvSpPr/>
                <p:nvPr/>
              </p:nvSpPr>
              <p:spPr>
                <a:xfrm flipH="1" flipV="1">
                  <a:off x="4470120" y="2958840"/>
                  <a:ext cx="55440" cy="7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59" name="Line 104"/>
                <p:cNvSpPr/>
                <p:nvPr/>
              </p:nvSpPr>
              <p:spPr>
                <a:xfrm flipH="1">
                  <a:off x="4440240" y="2955240"/>
                  <a:ext cx="27720" cy="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60" name="Line 105"/>
              <p:cNvSpPr/>
              <p:nvPr/>
            </p:nvSpPr>
            <p:spPr>
              <a:xfrm flipH="1" flipV="1">
                <a:off x="4375800" y="3013560"/>
                <a:ext cx="151200" cy="27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1" name="Line 106"/>
              <p:cNvSpPr/>
              <p:nvPr/>
            </p:nvSpPr>
            <p:spPr>
              <a:xfrm flipH="1">
                <a:off x="4325400" y="3013560"/>
                <a:ext cx="61200" cy="7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2" name="Line 107"/>
              <p:cNvSpPr/>
              <p:nvPr/>
            </p:nvSpPr>
            <p:spPr>
              <a:xfrm flipH="1">
                <a:off x="4487760" y="3045600"/>
                <a:ext cx="55440" cy="27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3" name="Line 108"/>
              <p:cNvSpPr/>
              <p:nvPr/>
            </p:nvSpPr>
            <p:spPr>
              <a:xfrm flipH="1">
                <a:off x="4460400" y="3069000"/>
                <a:ext cx="33120" cy="10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164" name="Group 109"/>
          <p:cNvGrpSpPr/>
          <p:nvPr/>
        </p:nvGrpSpPr>
        <p:grpSpPr>
          <a:xfrm>
            <a:off x="5805360" y="2993400"/>
            <a:ext cx="514440" cy="527400"/>
            <a:chOff x="5805360" y="2993400"/>
            <a:chExt cx="514440" cy="527400"/>
          </a:xfrm>
        </p:grpSpPr>
        <p:sp>
          <p:nvSpPr>
            <p:cNvPr id="2165" name="Oval 110"/>
            <p:cNvSpPr/>
            <p:nvPr/>
          </p:nvSpPr>
          <p:spPr>
            <a:xfrm rot="19200000">
              <a:off x="6055560" y="3306960"/>
              <a:ext cx="85320" cy="27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6" name="Rectangle 111"/>
            <p:cNvSpPr/>
            <p:nvPr/>
          </p:nvSpPr>
          <p:spPr>
            <a:xfrm rot="19200000">
              <a:off x="6018840" y="3175920"/>
              <a:ext cx="53280" cy="161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7" name="Oval 112"/>
            <p:cNvSpPr/>
            <p:nvPr/>
          </p:nvSpPr>
          <p:spPr>
            <a:xfrm rot="19200000">
              <a:off x="5964120" y="3184560"/>
              <a:ext cx="69480" cy="27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8" name="AutoShape 113"/>
            <p:cNvSpPr/>
            <p:nvPr/>
          </p:nvSpPr>
          <p:spPr>
            <a:xfrm rot="13800000">
              <a:off x="5842080" y="3034800"/>
              <a:ext cx="195840" cy="187200"/>
            </a:xfrm>
            <a:prstGeom prst="hexagon">
              <a:avLst>
                <a:gd name="adj" fmla="val 26154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69" name="Group 114"/>
            <p:cNvGrpSpPr/>
            <p:nvPr/>
          </p:nvGrpSpPr>
          <p:grpSpPr>
            <a:xfrm>
              <a:off x="6122160" y="3192480"/>
              <a:ext cx="83160" cy="98280"/>
              <a:chOff x="6122160" y="3192480"/>
              <a:chExt cx="83160" cy="98280"/>
            </a:xfrm>
          </p:grpSpPr>
          <p:sp>
            <p:nvSpPr>
              <p:cNvPr id="2170" name="Line 115"/>
              <p:cNvSpPr/>
              <p:nvPr/>
            </p:nvSpPr>
            <p:spPr>
              <a:xfrm flipH="1" flipV="1">
                <a:off x="6122880" y="3196800"/>
                <a:ext cx="9360" cy="93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1" name="Line 116"/>
              <p:cNvSpPr/>
              <p:nvPr/>
            </p:nvSpPr>
            <p:spPr>
              <a:xfrm>
                <a:off x="6122160" y="3192480"/>
                <a:ext cx="83160" cy="5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72" name="Line 117"/>
            <p:cNvSpPr/>
            <p:nvPr/>
          </p:nvSpPr>
          <p:spPr>
            <a:xfrm flipV="1">
              <a:off x="6137280" y="3183120"/>
              <a:ext cx="91800" cy="11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3" name="Line 118"/>
            <p:cNvSpPr/>
            <p:nvPr/>
          </p:nvSpPr>
          <p:spPr>
            <a:xfrm>
              <a:off x="6221520" y="3189960"/>
              <a:ext cx="98280" cy="2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4" name="Line 119"/>
            <p:cNvSpPr/>
            <p:nvPr/>
          </p:nvSpPr>
          <p:spPr>
            <a:xfrm flipV="1">
              <a:off x="6128280" y="3300480"/>
              <a:ext cx="59400" cy="1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5" name="Line 120"/>
            <p:cNvSpPr/>
            <p:nvPr/>
          </p:nvSpPr>
          <p:spPr>
            <a:xfrm>
              <a:off x="6180480" y="3300840"/>
              <a:ext cx="96480" cy="6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76" name="Group 121"/>
            <p:cNvGrpSpPr/>
            <p:nvPr/>
          </p:nvGrpSpPr>
          <p:grpSpPr>
            <a:xfrm>
              <a:off x="5938920" y="3321720"/>
              <a:ext cx="172080" cy="199080"/>
              <a:chOff x="5938920" y="3321720"/>
              <a:chExt cx="172080" cy="199080"/>
            </a:xfrm>
          </p:grpSpPr>
          <p:grpSp>
            <p:nvGrpSpPr>
              <p:cNvPr id="2177" name="Group 122"/>
              <p:cNvGrpSpPr/>
              <p:nvPr/>
            </p:nvGrpSpPr>
            <p:grpSpPr>
              <a:xfrm>
                <a:off x="5966640" y="3321720"/>
                <a:ext cx="95040" cy="91800"/>
                <a:chOff x="5966640" y="3321720"/>
                <a:chExt cx="95040" cy="91800"/>
              </a:xfrm>
            </p:grpSpPr>
            <p:sp>
              <p:nvSpPr>
                <p:cNvPr id="2178" name="Line 123"/>
                <p:cNvSpPr/>
                <p:nvPr/>
              </p:nvSpPr>
              <p:spPr>
                <a:xfrm flipH="1" flipV="1">
                  <a:off x="5970600" y="3322800"/>
                  <a:ext cx="91080" cy="25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9" name="Line 124"/>
                <p:cNvSpPr/>
                <p:nvPr/>
              </p:nvSpPr>
              <p:spPr>
                <a:xfrm>
                  <a:off x="5966640" y="3321720"/>
                  <a:ext cx="42480" cy="9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80" name="Line 125"/>
              <p:cNvSpPr/>
              <p:nvPr/>
            </p:nvSpPr>
            <p:spPr>
              <a:xfrm flipH="1">
                <a:off x="5938920" y="3354480"/>
                <a:ext cx="129600" cy="7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1" name="Line 126"/>
              <p:cNvSpPr/>
              <p:nvPr/>
            </p:nvSpPr>
            <p:spPr>
              <a:xfrm>
                <a:off x="5946840" y="3418920"/>
                <a:ext cx="9000" cy="101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2" name="Line 127"/>
              <p:cNvSpPr/>
              <p:nvPr/>
            </p:nvSpPr>
            <p:spPr>
              <a:xfrm flipH="1">
                <a:off x="6061680" y="3348360"/>
                <a:ext cx="21960" cy="56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3" name="Line 128"/>
              <p:cNvSpPr/>
              <p:nvPr/>
            </p:nvSpPr>
            <p:spPr>
              <a:xfrm>
                <a:off x="6063120" y="3397680"/>
                <a:ext cx="47880" cy="10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184" name="Group 129"/>
          <p:cNvGrpSpPr/>
          <p:nvPr/>
        </p:nvGrpSpPr>
        <p:grpSpPr>
          <a:xfrm>
            <a:off x="6906960" y="2955600"/>
            <a:ext cx="495720" cy="470160"/>
            <a:chOff x="6906960" y="2955600"/>
            <a:chExt cx="495720" cy="470160"/>
          </a:xfrm>
        </p:grpSpPr>
        <p:sp>
          <p:nvSpPr>
            <p:cNvPr id="2185" name="Oval 130"/>
            <p:cNvSpPr/>
            <p:nvPr/>
          </p:nvSpPr>
          <p:spPr>
            <a:xfrm>
              <a:off x="7110720" y="3270960"/>
              <a:ext cx="88920" cy="26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6" name="Rectangle 131"/>
            <p:cNvSpPr/>
            <p:nvPr/>
          </p:nvSpPr>
          <p:spPr>
            <a:xfrm>
              <a:off x="7128360" y="3129480"/>
              <a:ext cx="5544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7" name="Oval 132"/>
            <p:cNvSpPr/>
            <p:nvPr/>
          </p:nvSpPr>
          <p:spPr>
            <a:xfrm>
              <a:off x="7121520" y="3121920"/>
              <a:ext cx="72360" cy="26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8" name="AutoShape 133"/>
            <p:cNvSpPr/>
            <p:nvPr/>
          </p:nvSpPr>
          <p:spPr>
            <a:xfrm rot="16200000">
              <a:off x="7065000" y="2950560"/>
              <a:ext cx="185400" cy="1951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89" name="Group 134"/>
            <p:cNvGrpSpPr/>
            <p:nvPr/>
          </p:nvGrpSpPr>
          <p:grpSpPr>
            <a:xfrm>
              <a:off x="7202520" y="3205440"/>
              <a:ext cx="85320" cy="92520"/>
              <a:chOff x="7202520" y="3205440"/>
              <a:chExt cx="85320" cy="92520"/>
            </a:xfrm>
          </p:grpSpPr>
          <p:sp>
            <p:nvSpPr>
              <p:cNvPr id="2190" name="Line 135"/>
              <p:cNvSpPr/>
              <p:nvPr/>
            </p:nvSpPr>
            <p:spPr>
              <a:xfrm flipV="1">
                <a:off x="7202520" y="3209040"/>
                <a:ext cx="55440" cy="7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1" name="Line 136"/>
              <p:cNvSpPr/>
              <p:nvPr/>
            </p:nvSpPr>
            <p:spPr>
              <a:xfrm>
                <a:off x="7260120" y="3205440"/>
                <a:ext cx="27720" cy="9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92" name="Line 137"/>
            <p:cNvSpPr/>
            <p:nvPr/>
          </p:nvSpPr>
          <p:spPr>
            <a:xfrm flipV="1">
              <a:off x="7201080" y="3264120"/>
              <a:ext cx="150840" cy="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3" name="Line 138"/>
            <p:cNvSpPr/>
            <p:nvPr/>
          </p:nvSpPr>
          <p:spPr>
            <a:xfrm>
              <a:off x="7341480" y="3264120"/>
              <a:ext cx="61200" cy="7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4" name="Line 139"/>
            <p:cNvSpPr/>
            <p:nvPr/>
          </p:nvSpPr>
          <p:spPr>
            <a:xfrm>
              <a:off x="7184880" y="3296160"/>
              <a:ext cx="55440" cy="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5" name="Line 140"/>
            <p:cNvSpPr/>
            <p:nvPr/>
          </p:nvSpPr>
          <p:spPr>
            <a:xfrm>
              <a:off x="7234560" y="3319200"/>
              <a:ext cx="3312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96" name="Group 141"/>
            <p:cNvGrpSpPr/>
            <p:nvPr/>
          </p:nvGrpSpPr>
          <p:grpSpPr>
            <a:xfrm>
              <a:off x="6906960" y="3204360"/>
              <a:ext cx="217800" cy="219960"/>
              <a:chOff x="6906960" y="3204360"/>
              <a:chExt cx="217800" cy="219960"/>
            </a:xfrm>
          </p:grpSpPr>
          <p:grpSp>
            <p:nvGrpSpPr>
              <p:cNvPr id="2197" name="Group 142"/>
              <p:cNvGrpSpPr/>
              <p:nvPr/>
            </p:nvGrpSpPr>
            <p:grpSpPr>
              <a:xfrm>
                <a:off x="7021800" y="3204360"/>
                <a:ext cx="85320" cy="92160"/>
                <a:chOff x="7021800" y="3204360"/>
                <a:chExt cx="85320" cy="92160"/>
              </a:xfrm>
            </p:grpSpPr>
            <p:sp>
              <p:nvSpPr>
                <p:cNvPr id="2198" name="Line 143"/>
                <p:cNvSpPr/>
                <p:nvPr/>
              </p:nvSpPr>
              <p:spPr>
                <a:xfrm flipH="1" flipV="1">
                  <a:off x="7051680" y="3207960"/>
                  <a:ext cx="55440" cy="7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9" name="Line 144"/>
                <p:cNvSpPr/>
                <p:nvPr/>
              </p:nvSpPr>
              <p:spPr>
                <a:xfrm flipH="1">
                  <a:off x="7021800" y="3204360"/>
                  <a:ext cx="27720" cy="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00" name="Line 145"/>
              <p:cNvSpPr/>
              <p:nvPr/>
            </p:nvSpPr>
            <p:spPr>
              <a:xfrm flipH="1" flipV="1">
                <a:off x="6957360" y="3262680"/>
                <a:ext cx="151200" cy="27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1" name="Line 146"/>
              <p:cNvSpPr/>
              <p:nvPr/>
            </p:nvSpPr>
            <p:spPr>
              <a:xfrm flipH="1">
                <a:off x="6906960" y="3262680"/>
                <a:ext cx="61200" cy="7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2" name="Line 147"/>
              <p:cNvSpPr/>
              <p:nvPr/>
            </p:nvSpPr>
            <p:spPr>
              <a:xfrm flipH="1">
                <a:off x="7069320" y="3294720"/>
                <a:ext cx="55440" cy="27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3" name="Line 148"/>
              <p:cNvSpPr/>
              <p:nvPr/>
            </p:nvSpPr>
            <p:spPr>
              <a:xfrm flipH="1">
                <a:off x="7041960" y="3318120"/>
                <a:ext cx="33120" cy="10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04" name="Group 7"/>
          <p:cNvGrpSpPr/>
          <p:nvPr/>
        </p:nvGrpSpPr>
        <p:grpSpPr>
          <a:xfrm>
            <a:off x="6781320" y="1628280"/>
            <a:ext cx="495720" cy="470520"/>
            <a:chOff x="6781320" y="1628280"/>
            <a:chExt cx="495720" cy="470520"/>
          </a:xfrm>
        </p:grpSpPr>
        <p:sp>
          <p:nvSpPr>
            <p:cNvPr id="2205" name="Oval 8"/>
            <p:cNvSpPr/>
            <p:nvPr/>
          </p:nvSpPr>
          <p:spPr>
            <a:xfrm>
              <a:off x="6985080" y="1943640"/>
              <a:ext cx="88920" cy="26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6" name="Rectangle 9"/>
            <p:cNvSpPr/>
            <p:nvPr/>
          </p:nvSpPr>
          <p:spPr>
            <a:xfrm>
              <a:off x="7002720" y="1802160"/>
              <a:ext cx="5544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7" name="Oval 10"/>
            <p:cNvSpPr/>
            <p:nvPr/>
          </p:nvSpPr>
          <p:spPr>
            <a:xfrm>
              <a:off x="6995880" y="1794960"/>
              <a:ext cx="72360" cy="26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8" name="AutoShape 11"/>
            <p:cNvSpPr/>
            <p:nvPr/>
          </p:nvSpPr>
          <p:spPr>
            <a:xfrm rot="16200000">
              <a:off x="6939360" y="1623240"/>
              <a:ext cx="185400" cy="1951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09" name="Group 12"/>
            <p:cNvGrpSpPr/>
            <p:nvPr/>
          </p:nvGrpSpPr>
          <p:grpSpPr>
            <a:xfrm>
              <a:off x="7076880" y="1878120"/>
              <a:ext cx="85320" cy="92520"/>
              <a:chOff x="7076880" y="1878120"/>
              <a:chExt cx="85320" cy="92520"/>
            </a:xfrm>
          </p:grpSpPr>
          <p:sp>
            <p:nvSpPr>
              <p:cNvPr id="2210" name="Line 13"/>
              <p:cNvSpPr/>
              <p:nvPr/>
            </p:nvSpPr>
            <p:spPr>
              <a:xfrm flipV="1">
                <a:off x="7076880" y="1881720"/>
                <a:ext cx="55440" cy="7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1" name="Line 14"/>
              <p:cNvSpPr/>
              <p:nvPr/>
            </p:nvSpPr>
            <p:spPr>
              <a:xfrm>
                <a:off x="7134480" y="1878120"/>
                <a:ext cx="27720" cy="9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12" name="Line 15"/>
            <p:cNvSpPr/>
            <p:nvPr/>
          </p:nvSpPr>
          <p:spPr>
            <a:xfrm flipV="1">
              <a:off x="7075440" y="1936800"/>
              <a:ext cx="150840" cy="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3" name="Line 16"/>
            <p:cNvSpPr/>
            <p:nvPr/>
          </p:nvSpPr>
          <p:spPr>
            <a:xfrm>
              <a:off x="7215840" y="1936800"/>
              <a:ext cx="61200" cy="7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4" name="Line 17"/>
            <p:cNvSpPr/>
            <p:nvPr/>
          </p:nvSpPr>
          <p:spPr>
            <a:xfrm>
              <a:off x="7059240" y="1969200"/>
              <a:ext cx="55440" cy="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5" name="Line 18"/>
            <p:cNvSpPr/>
            <p:nvPr/>
          </p:nvSpPr>
          <p:spPr>
            <a:xfrm>
              <a:off x="7108920" y="1992240"/>
              <a:ext cx="3312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16" name="Group 19"/>
            <p:cNvGrpSpPr/>
            <p:nvPr/>
          </p:nvGrpSpPr>
          <p:grpSpPr>
            <a:xfrm>
              <a:off x="6781320" y="1877040"/>
              <a:ext cx="217800" cy="220320"/>
              <a:chOff x="6781320" y="1877040"/>
              <a:chExt cx="217800" cy="220320"/>
            </a:xfrm>
          </p:grpSpPr>
          <p:grpSp>
            <p:nvGrpSpPr>
              <p:cNvPr id="2217" name="Group 20"/>
              <p:cNvGrpSpPr/>
              <p:nvPr/>
            </p:nvGrpSpPr>
            <p:grpSpPr>
              <a:xfrm>
                <a:off x="6896160" y="1877040"/>
                <a:ext cx="85320" cy="92160"/>
                <a:chOff x="6896160" y="1877040"/>
                <a:chExt cx="85320" cy="92160"/>
              </a:xfrm>
            </p:grpSpPr>
            <p:sp>
              <p:nvSpPr>
                <p:cNvPr id="2218" name="Line 21"/>
                <p:cNvSpPr/>
                <p:nvPr/>
              </p:nvSpPr>
              <p:spPr>
                <a:xfrm flipH="1" flipV="1">
                  <a:off x="6926040" y="1880640"/>
                  <a:ext cx="55440" cy="7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9" name="Line 22"/>
                <p:cNvSpPr/>
                <p:nvPr/>
              </p:nvSpPr>
              <p:spPr>
                <a:xfrm flipH="1">
                  <a:off x="6896160" y="1877040"/>
                  <a:ext cx="27720" cy="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20" name="Line 23"/>
              <p:cNvSpPr/>
              <p:nvPr/>
            </p:nvSpPr>
            <p:spPr>
              <a:xfrm flipH="1" flipV="1">
                <a:off x="6831720" y="1935000"/>
                <a:ext cx="151200" cy="27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1" name="Line 24"/>
              <p:cNvSpPr/>
              <p:nvPr/>
            </p:nvSpPr>
            <p:spPr>
              <a:xfrm flipH="1">
                <a:off x="6781320" y="1935360"/>
                <a:ext cx="61200" cy="7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2" name="Line 25"/>
              <p:cNvSpPr/>
              <p:nvPr/>
            </p:nvSpPr>
            <p:spPr>
              <a:xfrm flipH="1">
                <a:off x="6943680" y="1967760"/>
                <a:ext cx="55440" cy="27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3" name="Line 26"/>
              <p:cNvSpPr/>
              <p:nvPr/>
            </p:nvSpPr>
            <p:spPr>
              <a:xfrm flipH="1">
                <a:off x="6916320" y="1990800"/>
                <a:ext cx="33120" cy="10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24" name="Group 149"/>
          <p:cNvGrpSpPr/>
          <p:nvPr/>
        </p:nvGrpSpPr>
        <p:grpSpPr>
          <a:xfrm>
            <a:off x="3319200" y="4146840"/>
            <a:ext cx="537480" cy="499680"/>
            <a:chOff x="3319200" y="4146840"/>
            <a:chExt cx="537480" cy="499680"/>
          </a:xfrm>
        </p:grpSpPr>
        <p:sp>
          <p:nvSpPr>
            <p:cNvPr id="2225" name="Oval 150"/>
            <p:cNvSpPr/>
            <p:nvPr/>
          </p:nvSpPr>
          <p:spPr>
            <a:xfrm rot="7251000">
              <a:off x="3463200" y="4367520"/>
              <a:ext cx="8496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6" name="Rectangle 151"/>
            <p:cNvSpPr/>
            <p:nvPr/>
          </p:nvSpPr>
          <p:spPr>
            <a:xfrm rot="7251000">
              <a:off x="3551400" y="4343400"/>
              <a:ext cx="52920" cy="164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7" name="Oval 152"/>
            <p:cNvSpPr/>
            <p:nvPr/>
          </p:nvSpPr>
          <p:spPr>
            <a:xfrm rot="7251000">
              <a:off x="3607560" y="4452120"/>
              <a:ext cx="6912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8" name="AutoShape 153"/>
            <p:cNvSpPr/>
            <p:nvPr/>
          </p:nvSpPr>
          <p:spPr>
            <a:xfrm rot="1851000">
              <a:off x="3622680" y="4421520"/>
              <a:ext cx="200160" cy="186480"/>
            </a:xfrm>
            <a:prstGeom prst="hexagon">
              <a:avLst>
                <a:gd name="adj" fmla="val 26834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29" name="Group 154"/>
            <p:cNvGrpSpPr/>
            <p:nvPr/>
          </p:nvGrpSpPr>
          <p:grpSpPr>
            <a:xfrm>
              <a:off x="3427920" y="4421880"/>
              <a:ext cx="99360" cy="90000"/>
              <a:chOff x="3427920" y="4421880"/>
              <a:chExt cx="99360" cy="90000"/>
            </a:xfrm>
          </p:grpSpPr>
          <p:sp>
            <p:nvSpPr>
              <p:cNvPr id="2230" name="Line 155"/>
              <p:cNvSpPr/>
              <p:nvPr/>
            </p:nvSpPr>
            <p:spPr>
              <a:xfrm>
                <a:off x="3484080" y="4421880"/>
                <a:ext cx="41400" cy="8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1" name="Line 156"/>
              <p:cNvSpPr/>
              <p:nvPr/>
            </p:nvSpPr>
            <p:spPr>
              <a:xfrm flipH="1" flipV="1">
                <a:off x="3427920" y="4483440"/>
                <a:ext cx="99360" cy="28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32" name="Line 157"/>
            <p:cNvSpPr/>
            <p:nvPr/>
          </p:nvSpPr>
          <p:spPr>
            <a:xfrm flipH="1">
              <a:off x="3427920" y="4416120"/>
              <a:ext cx="48600" cy="13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3" name="Line 158"/>
            <p:cNvSpPr/>
            <p:nvPr/>
          </p:nvSpPr>
          <p:spPr>
            <a:xfrm flipH="1">
              <a:off x="3330360" y="4546080"/>
              <a:ext cx="1026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4" name="Line 159"/>
            <p:cNvSpPr/>
            <p:nvPr/>
          </p:nvSpPr>
          <p:spPr>
            <a:xfrm flipH="1">
              <a:off x="3427560" y="4399560"/>
              <a:ext cx="5220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5" name="Line 160"/>
            <p:cNvSpPr/>
            <p:nvPr/>
          </p:nvSpPr>
          <p:spPr>
            <a:xfrm flipH="1" flipV="1">
              <a:off x="3319200" y="4395960"/>
              <a:ext cx="11484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36" name="Group 161"/>
            <p:cNvGrpSpPr/>
            <p:nvPr/>
          </p:nvGrpSpPr>
          <p:grpSpPr>
            <a:xfrm>
              <a:off x="3431160" y="4146840"/>
              <a:ext cx="200520" cy="204120"/>
              <a:chOff x="3431160" y="4146840"/>
              <a:chExt cx="200520" cy="204120"/>
            </a:xfrm>
          </p:grpSpPr>
          <p:grpSp>
            <p:nvGrpSpPr>
              <p:cNvPr id="2237" name="Group 162"/>
              <p:cNvGrpSpPr/>
              <p:nvPr/>
            </p:nvGrpSpPr>
            <p:grpSpPr>
              <a:xfrm>
                <a:off x="3531960" y="4265280"/>
                <a:ext cx="99720" cy="78840"/>
                <a:chOff x="3531960" y="4265280"/>
                <a:chExt cx="99720" cy="78840"/>
              </a:xfrm>
            </p:grpSpPr>
            <p:sp>
              <p:nvSpPr>
                <p:cNvPr id="2238" name="Line 163"/>
                <p:cNvSpPr/>
                <p:nvPr/>
              </p:nvSpPr>
              <p:spPr>
                <a:xfrm flipV="1">
                  <a:off x="3531960" y="4339440"/>
                  <a:ext cx="95400" cy="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9" name="Line 164"/>
                <p:cNvSpPr/>
                <p:nvPr/>
              </p:nvSpPr>
              <p:spPr>
                <a:xfrm flipH="1" flipV="1">
                  <a:off x="3559680" y="4265280"/>
                  <a:ext cx="72000" cy="74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40" name="Line 165"/>
              <p:cNvSpPr/>
              <p:nvPr/>
            </p:nvSpPr>
            <p:spPr>
              <a:xfrm flipV="1">
                <a:off x="3523320" y="4232160"/>
                <a:ext cx="99360" cy="10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1" name="Line 166"/>
              <p:cNvSpPr/>
              <p:nvPr/>
            </p:nvSpPr>
            <p:spPr>
              <a:xfrm flipH="1" flipV="1">
                <a:off x="3574080" y="4146840"/>
                <a:ext cx="43200" cy="93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2" name="Line 167"/>
              <p:cNvSpPr/>
              <p:nvPr/>
            </p:nvSpPr>
            <p:spPr>
              <a:xfrm flipV="1">
                <a:off x="3510720" y="4290480"/>
                <a:ext cx="18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3" name="Line 168"/>
              <p:cNvSpPr/>
              <p:nvPr/>
            </p:nvSpPr>
            <p:spPr>
              <a:xfrm flipH="1" flipV="1">
                <a:off x="3431160" y="4211640"/>
                <a:ext cx="82440" cy="8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44" name="Group 169"/>
          <p:cNvGrpSpPr/>
          <p:nvPr/>
        </p:nvGrpSpPr>
        <p:grpSpPr>
          <a:xfrm>
            <a:off x="3087360" y="1534680"/>
            <a:ext cx="515160" cy="470160"/>
            <a:chOff x="3087360" y="1534680"/>
            <a:chExt cx="515160" cy="470160"/>
          </a:xfrm>
        </p:grpSpPr>
        <p:sp>
          <p:nvSpPr>
            <p:cNvPr id="2245" name="Oval 170"/>
            <p:cNvSpPr/>
            <p:nvPr/>
          </p:nvSpPr>
          <p:spPr>
            <a:xfrm rot="16723200">
              <a:off x="3396960" y="1746720"/>
              <a:ext cx="85680" cy="2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6" name="Rectangle 171"/>
            <p:cNvSpPr/>
            <p:nvPr/>
          </p:nvSpPr>
          <p:spPr>
            <a:xfrm rot="16723200">
              <a:off x="3332520" y="1667520"/>
              <a:ext cx="53280" cy="1591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7" name="Oval 172"/>
            <p:cNvSpPr/>
            <p:nvPr/>
          </p:nvSpPr>
          <p:spPr>
            <a:xfrm rot="16723200">
              <a:off x="3251880" y="1720440"/>
              <a:ext cx="69840" cy="2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8" name="AutoShape 173"/>
            <p:cNvSpPr/>
            <p:nvPr/>
          </p:nvSpPr>
          <p:spPr>
            <a:xfrm rot="11323200">
              <a:off x="3100320" y="1626480"/>
              <a:ext cx="193320" cy="187560"/>
            </a:xfrm>
            <a:prstGeom prst="hexagon">
              <a:avLst>
                <a:gd name="adj" fmla="val 25768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49" name="Group 174"/>
            <p:cNvGrpSpPr/>
            <p:nvPr/>
          </p:nvGrpSpPr>
          <p:grpSpPr>
            <a:xfrm>
              <a:off x="3374280" y="1636560"/>
              <a:ext cx="99360" cy="78840"/>
              <a:chOff x="3374280" y="1636560"/>
              <a:chExt cx="99360" cy="78840"/>
            </a:xfrm>
          </p:grpSpPr>
          <p:sp>
            <p:nvSpPr>
              <p:cNvPr id="2250" name="Line 175"/>
              <p:cNvSpPr/>
              <p:nvPr/>
            </p:nvSpPr>
            <p:spPr>
              <a:xfrm flipH="1" flipV="1">
                <a:off x="3377880" y="1650600"/>
                <a:ext cx="68040" cy="64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1" name="Line 176"/>
              <p:cNvSpPr/>
              <p:nvPr/>
            </p:nvSpPr>
            <p:spPr>
              <a:xfrm flipV="1">
                <a:off x="3374280" y="1636560"/>
                <a:ext cx="99360" cy="11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52" name="Line 177"/>
            <p:cNvSpPr/>
            <p:nvPr/>
          </p:nvSpPr>
          <p:spPr>
            <a:xfrm flipH="1" flipV="1">
              <a:off x="3448080" y="1569960"/>
              <a:ext cx="6480" cy="14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3" name="Line 178"/>
            <p:cNvSpPr/>
            <p:nvPr/>
          </p:nvSpPr>
          <p:spPr>
            <a:xfrm flipV="1">
              <a:off x="3446640" y="1534680"/>
              <a:ext cx="90000" cy="4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4" name="Line 179"/>
            <p:cNvSpPr/>
            <p:nvPr/>
          </p:nvSpPr>
          <p:spPr>
            <a:xfrm flipV="1">
              <a:off x="3457080" y="1685880"/>
              <a:ext cx="36360" cy="4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5" name="Line 180"/>
            <p:cNvSpPr/>
            <p:nvPr/>
          </p:nvSpPr>
          <p:spPr>
            <a:xfrm flipV="1">
              <a:off x="3488040" y="1675800"/>
              <a:ext cx="114480" cy="1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56" name="Group 181"/>
            <p:cNvGrpSpPr/>
            <p:nvPr/>
          </p:nvGrpSpPr>
          <p:grpSpPr>
            <a:xfrm>
              <a:off x="3342600" y="1791360"/>
              <a:ext cx="225720" cy="213480"/>
              <a:chOff x="3342600" y="1791360"/>
              <a:chExt cx="225720" cy="213480"/>
            </a:xfrm>
          </p:grpSpPr>
          <p:grpSp>
            <p:nvGrpSpPr>
              <p:cNvPr id="2257" name="Group 182"/>
              <p:cNvGrpSpPr/>
              <p:nvPr/>
            </p:nvGrpSpPr>
            <p:grpSpPr>
              <a:xfrm>
                <a:off x="3342600" y="1805760"/>
                <a:ext cx="90720" cy="83520"/>
                <a:chOff x="3342600" y="1805760"/>
                <a:chExt cx="90720" cy="83520"/>
              </a:xfrm>
            </p:grpSpPr>
            <p:sp>
              <p:nvSpPr>
                <p:cNvPr id="2258" name="Line 183"/>
                <p:cNvSpPr/>
                <p:nvPr/>
              </p:nvSpPr>
              <p:spPr>
                <a:xfrm flipH="1">
                  <a:off x="3346560" y="1805760"/>
                  <a:ext cx="8388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59" name="Line 184"/>
                <p:cNvSpPr/>
                <p:nvPr/>
              </p:nvSpPr>
              <p:spPr>
                <a:xfrm>
                  <a:off x="3342600" y="1848600"/>
                  <a:ext cx="90720" cy="40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60" name="Line 185"/>
              <p:cNvSpPr/>
              <p:nvPr/>
            </p:nvSpPr>
            <p:spPr>
              <a:xfrm flipH="1">
                <a:off x="3389400" y="1805760"/>
                <a:ext cx="50400" cy="138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1" name="Line 186"/>
              <p:cNvSpPr/>
              <p:nvPr/>
            </p:nvSpPr>
            <p:spPr>
              <a:xfrm>
                <a:off x="3390840" y="1934640"/>
                <a:ext cx="72360" cy="7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2" name="Line 187"/>
              <p:cNvSpPr/>
              <p:nvPr/>
            </p:nvSpPr>
            <p:spPr>
              <a:xfrm>
                <a:off x="3447000" y="1791360"/>
                <a:ext cx="20520" cy="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3" name="Line 188"/>
              <p:cNvSpPr/>
              <p:nvPr/>
            </p:nvSpPr>
            <p:spPr>
              <a:xfrm>
                <a:off x="3463560" y="1841760"/>
                <a:ext cx="10476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64" name="Group 189"/>
          <p:cNvGrpSpPr/>
          <p:nvPr/>
        </p:nvGrpSpPr>
        <p:grpSpPr>
          <a:xfrm>
            <a:off x="2629080" y="3631680"/>
            <a:ext cx="495000" cy="470520"/>
            <a:chOff x="2629080" y="3631680"/>
            <a:chExt cx="495000" cy="470520"/>
          </a:xfrm>
        </p:grpSpPr>
        <p:sp>
          <p:nvSpPr>
            <p:cNvPr id="2265" name="Oval 190"/>
            <p:cNvSpPr/>
            <p:nvPr/>
          </p:nvSpPr>
          <p:spPr>
            <a:xfrm>
              <a:off x="2832120" y="3947040"/>
              <a:ext cx="88920" cy="26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6" name="Rectangle 191"/>
            <p:cNvSpPr/>
            <p:nvPr/>
          </p:nvSpPr>
          <p:spPr>
            <a:xfrm>
              <a:off x="2850120" y="3805560"/>
              <a:ext cx="5544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7" name="Oval 192"/>
            <p:cNvSpPr/>
            <p:nvPr/>
          </p:nvSpPr>
          <p:spPr>
            <a:xfrm>
              <a:off x="2843280" y="3798360"/>
              <a:ext cx="72360" cy="26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8" name="AutoShape 193"/>
            <p:cNvSpPr/>
            <p:nvPr/>
          </p:nvSpPr>
          <p:spPr>
            <a:xfrm rot="16200000">
              <a:off x="2786760" y="3626640"/>
              <a:ext cx="185400" cy="1951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69" name="Group 194"/>
            <p:cNvGrpSpPr/>
            <p:nvPr/>
          </p:nvGrpSpPr>
          <p:grpSpPr>
            <a:xfrm>
              <a:off x="2923920" y="3881520"/>
              <a:ext cx="85320" cy="92520"/>
              <a:chOff x="2923920" y="3881520"/>
              <a:chExt cx="85320" cy="92520"/>
            </a:xfrm>
          </p:grpSpPr>
          <p:sp>
            <p:nvSpPr>
              <p:cNvPr id="2270" name="Line 195"/>
              <p:cNvSpPr/>
              <p:nvPr/>
            </p:nvSpPr>
            <p:spPr>
              <a:xfrm flipV="1">
                <a:off x="2923920" y="3885120"/>
                <a:ext cx="55440" cy="7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1" name="Line 196"/>
              <p:cNvSpPr/>
              <p:nvPr/>
            </p:nvSpPr>
            <p:spPr>
              <a:xfrm>
                <a:off x="2981520" y="3881520"/>
                <a:ext cx="27720" cy="9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72" name="Line 197"/>
            <p:cNvSpPr/>
            <p:nvPr/>
          </p:nvSpPr>
          <p:spPr>
            <a:xfrm flipV="1">
              <a:off x="2922840" y="3940200"/>
              <a:ext cx="150840" cy="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3" name="Line 198"/>
            <p:cNvSpPr/>
            <p:nvPr/>
          </p:nvSpPr>
          <p:spPr>
            <a:xfrm>
              <a:off x="3062880" y="3940200"/>
              <a:ext cx="61200" cy="7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4" name="Line 199"/>
            <p:cNvSpPr/>
            <p:nvPr/>
          </p:nvSpPr>
          <p:spPr>
            <a:xfrm>
              <a:off x="2906280" y="3972600"/>
              <a:ext cx="55440" cy="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5" name="Line 200"/>
            <p:cNvSpPr/>
            <p:nvPr/>
          </p:nvSpPr>
          <p:spPr>
            <a:xfrm>
              <a:off x="2955960" y="3995640"/>
              <a:ext cx="3312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76" name="Group 201"/>
            <p:cNvGrpSpPr/>
            <p:nvPr/>
          </p:nvGrpSpPr>
          <p:grpSpPr>
            <a:xfrm>
              <a:off x="2629080" y="3880440"/>
              <a:ext cx="217440" cy="220320"/>
              <a:chOff x="2629080" y="3880440"/>
              <a:chExt cx="217440" cy="220320"/>
            </a:xfrm>
          </p:grpSpPr>
          <p:grpSp>
            <p:nvGrpSpPr>
              <p:cNvPr id="2277" name="Group 202"/>
              <p:cNvGrpSpPr/>
              <p:nvPr/>
            </p:nvGrpSpPr>
            <p:grpSpPr>
              <a:xfrm>
                <a:off x="2743560" y="3880440"/>
                <a:ext cx="85320" cy="92160"/>
                <a:chOff x="2743560" y="3880440"/>
                <a:chExt cx="85320" cy="92160"/>
              </a:xfrm>
            </p:grpSpPr>
            <p:sp>
              <p:nvSpPr>
                <p:cNvPr id="2278" name="Line 203"/>
                <p:cNvSpPr/>
                <p:nvPr/>
              </p:nvSpPr>
              <p:spPr>
                <a:xfrm flipH="1" flipV="1">
                  <a:off x="2773440" y="3884040"/>
                  <a:ext cx="55440" cy="7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9" name="Line 204"/>
                <p:cNvSpPr/>
                <p:nvPr/>
              </p:nvSpPr>
              <p:spPr>
                <a:xfrm flipH="1">
                  <a:off x="2743560" y="3880440"/>
                  <a:ext cx="27720" cy="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80" name="Line 205"/>
              <p:cNvSpPr/>
              <p:nvPr/>
            </p:nvSpPr>
            <p:spPr>
              <a:xfrm flipH="1" flipV="1">
                <a:off x="2679480" y="3938400"/>
                <a:ext cx="150840" cy="27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1" name="Line 206"/>
              <p:cNvSpPr/>
              <p:nvPr/>
            </p:nvSpPr>
            <p:spPr>
              <a:xfrm flipH="1">
                <a:off x="2629080" y="3938760"/>
                <a:ext cx="61200" cy="7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2" name="Line 207"/>
              <p:cNvSpPr/>
              <p:nvPr/>
            </p:nvSpPr>
            <p:spPr>
              <a:xfrm flipH="1">
                <a:off x="2791080" y="3971160"/>
                <a:ext cx="55440" cy="27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3" name="Line 208"/>
              <p:cNvSpPr/>
              <p:nvPr/>
            </p:nvSpPr>
            <p:spPr>
              <a:xfrm flipH="1">
                <a:off x="2764080" y="3994200"/>
                <a:ext cx="33120" cy="10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84" name="Group 209"/>
          <p:cNvGrpSpPr/>
          <p:nvPr/>
        </p:nvGrpSpPr>
        <p:grpSpPr>
          <a:xfrm>
            <a:off x="1640160" y="2099880"/>
            <a:ext cx="510120" cy="513360"/>
            <a:chOff x="1640160" y="2099880"/>
            <a:chExt cx="510120" cy="513360"/>
          </a:xfrm>
        </p:grpSpPr>
        <p:sp>
          <p:nvSpPr>
            <p:cNvPr id="2285" name="Oval 210"/>
            <p:cNvSpPr/>
            <p:nvPr/>
          </p:nvSpPr>
          <p:spPr>
            <a:xfrm rot="1898400">
              <a:off x="1843920" y="2414520"/>
              <a:ext cx="93240" cy="25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6" name="Rectangle 211"/>
            <p:cNvSpPr/>
            <p:nvPr/>
          </p:nvSpPr>
          <p:spPr>
            <a:xfrm rot="1898400">
              <a:off x="1902960" y="2287080"/>
              <a:ext cx="58320" cy="1504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7" name="Oval 212"/>
            <p:cNvSpPr/>
            <p:nvPr/>
          </p:nvSpPr>
          <p:spPr>
            <a:xfrm rot="1898400">
              <a:off x="1932120" y="2291040"/>
              <a:ext cx="75960" cy="25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8" name="AutoShape 213"/>
            <p:cNvSpPr/>
            <p:nvPr/>
          </p:nvSpPr>
          <p:spPr>
            <a:xfrm rot="18098400">
              <a:off x="1923840" y="2129040"/>
              <a:ext cx="182520" cy="2044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89" name="Group 214"/>
            <p:cNvGrpSpPr/>
            <p:nvPr/>
          </p:nvGrpSpPr>
          <p:grpSpPr>
            <a:xfrm>
              <a:off x="1933560" y="2419560"/>
              <a:ext cx="91800" cy="92520"/>
              <a:chOff x="1933560" y="2419560"/>
              <a:chExt cx="91800" cy="92520"/>
            </a:xfrm>
          </p:grpSpPr>
          <p:sp>
            <p:nvSpPr>
              <p:cNvPr id="2290" name="Line 215"/>
              <p:cNvSpPr/>
              <p:nvPr/>
            </p:nvSpPr>
            <p:spPr>
              <a:xfrm flipV="1">
                <a:off x="1933560" y="2421360"/>
                <a:ext cx="87840" cy="3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1" name="Line 216"/>
              <p:cNvSpPr/>
              <p:nvPr/>
            </p:nvSpPr>
            <p:spPr>
              <a:xfrm flipH="1">
                <a:off x="2002320" y="2419560"/>
                <a:ext cx="23040" cy="9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92" name="Line 217"/>
            <p:cNvSpPr/>
            <p:nvPr/>
          </p:nvSpPr>
          <p:spPr>
            <a:xfrm>
              <a:off x="1928520" y="2459160"/>
              <a:ext cx="148680" cy="5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3" name="Line 218"/>
            <p:cNvSpPr/>
            <p:nvPr/>
          </p:nvSpPr>
          <p:spPr>
            <a:xfrm>
              <a:off x="2067480" y="2513520"/>
              <a:ext cx="13680" cy="9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4" name="Line 219"/>
            <p:cNvSpPr/>
            <p:nvPr/>
          </p:nvSpPr>
          <p:spPr>
            <a:xfrm>
              <a:off x="1910880" y="2454480"/>
              <a:ext cx="35640" cy="5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5" name="Line 220"/>
            <p:cNvSpPr/>
            <p:nvPr/>
          </p:nvSpPr>
          <p:spPr>
            <a:xfrm flipH="1">
              <a:off x="1918440" y="2500920"/>
              <a:ext cx="252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96" name="Group 221"/>
            <p:cNvGrpSpPr/>
            <p:nvPr/>
          </p:nvGrpSpPr>
          <p:grpSpPr>
            <a:xfrm>
              <a:off x="1640160" y="2301120"/>
              <a:ext cx="218160" cy="182160"/>
              <a:chOff x="1640160" y="2301120"/>
              <a:chExt cx="218160" cy="182160"/>
            </a:xfrm>
          </p:grpSpPr>
          <p:grpSp>
            <p:nvGrpSpPr>
              <p:cNvPr id="2297" name="Group 222"/>
              <p:cNvGrpSpPr/>
              <p:nvPr/>
            </p:nvGrpSpPr>
            <p:grpSpPr>
              <a:xfrm>
                <a:off x="1765440" y="2302920"/>
                <a:ext cx="84240" cy="96840"/>
                <a:chOff x="1765440" y="2302920"/>
                <a:chExt cx="84240" cy="96840"/>
              </a:xfrm>
            </p:grpSpPr>
            <p:sp>
              <p:nvSpPr>
                <p:cNvPr id="2298" name="Line 223"/>
                <p:cNvSpPr/>
                <p:nvPr/>
              </p:nvSpPr>
              <p:spPr>
                <a:xfrm flipH="1" flipV="1">
                  <a:off x="1838160" y="2307240"/>
                  <a:ext cx="1152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9" name="Line 224"/>
                <p:cNvSpPr/>
                <p:nvPr/>
              </p:nvSpPr>
              <p:spPr>
                <a:xfrm flipH="1">
                  <a:off x="1765440" y="2302920"/>
                  <a:ext cx="72720" cy="6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00" name="Line 225"/>
              <p:cNvSpPr/>
              <p:nvPr/>
            </p:nvSpPr>
            <p:spPr>
              <a:xfrm flipH="1" flipV="1">
                <a:off x="1726200" y="2301120"/>
                <a:ext cx="120600" cy="10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1" name="Line 226"/>
              <p:cNvSpPr/>
              <p:nvPr/>
            </p:nvSpPr>
            <p:spPr>
              <a:xfrm flipH="1">
                <a:off x="1640160" y="2307240"/>
                <a:ext cx="9504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2" name="Line 227"/>
              <p:cNvSpPr/>
              <p:nvPr/>
            </p:nvSpPr>
            <p:spPr>
              <a:xfrm flipH="1" flipV="1">
                <a:off x="1794600" y="2412720"/>
                <a:ext cx="63720" cy="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3" name="Line 228"/>
              <p:cNvSpPr/>
              <p:nvPr/>
            </p:nvSpPr>
            <p:spPr>
              <a:xfrm flipH="1">
                <a:off x="1717920" y="2412360"/>
                <a:ext cx="84600" cy="7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04" name="Text Box 229"/>
          <p:cNvSpPr/>
          <p:nvPr/>
        </p:nvSpPr>
        <p:spPr>
          <a:xfrm>
            <a:off x="569880" y="5452920"/>
            <a:ext cx="798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fagi capaci di dare trasduzione generalizzata devono possedere un meccanismo di impacchettamento del DNA che permetta il riconoscimento accidentale del DNA dell’osp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5" name="Text Box 230"/>
          <p:cNvSpPr/>
          <p:nvPr/>
        </p:nvSpPr>
        <p:spPr>
          <a:xfrm>
            <a:off x="2486160" y="222120"/>
            <a:ext cx="41767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rasduzione generalizz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AutoShape 2"/>
          <p:cNvSpPr/>
          <p:nvPr/>
        </p:nvSpPr>
        <p:spPr>
          <a:xfrm>
            <a:off x="2124000" y="338040"/>
            <a:ext cx="4998960" cy="2394000"/>
          </a:xfrm>
          <a:prstGeom prst="roundRect">
            <a:avLst>
              <a:gd name="adj" fmla="val 4285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7" name="AutoShape 3"/>
          <p:cNvSpPr/>
          <p:nvPr/>
        </p:nvSpPr>
        <p:spPr>
          <a:xfrm>
            <a:off x="2259000" y="471600"/>
            <a:ext cx="4711680" cy="2125440"/>
          </a:xfrm>
          <a:prstGeom prst="roundRect">
            <a:avLst>
              <a:gd name="adj" fmla="val 4192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8" name="AutoShape 4"/>
          <p:cNvSpPr/>
          <p:nvPr/>
        </p:nvSpPr>
        <p:spPr>
          <a:xfrm>
            <a:off x="2317680" y="519120"/>
            <a:ext cx="4605480" cy="2030400"/>
          </a:xfrm>
          <a:prstGeom prst="roundRect">
            <a:avLst>
              <a:gd name="adj" fmla="val 41926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09" name="Group 226"/>
          <p:cNvGrpSpPr/>
          <p:nvPr/>
        </p:nvGrpSpPr>
        <p:grpSpPr>
          <a:xfrm>
            <a:off x="2719440" y="1523880"/>
            <a:ext cx="520200" cy="509400"/>
            <a:chOff x="2719440" y="1523880"/>
            <a:chExt cx="520200" cy="509400"/>
          </a:xfrm>
        </p:grpSpPr>
        <p:sp>
          <p:nvSpPr>
            <p:cNvPr id="2310" name="Oval 184"/>
            <p:cNvSpPr/>
            <p:nvPr/>
          </p:nvSpPr>
          <p:spPr>
            <a:xfrm>
              <a:off x="2933280" y="186516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1" name="Rectangle 185"/>
            <p:cNvSpPr/>
            <p:nvPr/>
          </p:nvSpPr>
          <p:spPr>
            <a:xfrm>
              <a:off x="2950920" y="171252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2" name="Oval 186"/>
            <p:cNvSpPr/>
            <p:nvPr/>
          </p:nvSpPr>
          <p:spPr>
            <a:xfrm>
              <a:off x="2944440" y="170460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3" name="AutoShape 187"/>
            <p:cNvSpPr/>
            <p:nvPr/>
          </p:nvSpPr>
          <p:spPr>
            <a:xfrm rot="16200000">
              <a:off x="2881800" y="152172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14" name="Group 188"/>
            <p:cNvGrpSpPr/>
            <p:nvPr/>
          </p:nvGrpSpPr>
          <p:grpSpPr>
            <a:xfrm>
              <a:off x="3030120" y="1795320"/>
              <a:ext cx="88560" cy="100080"/>
              <a:chOff x="3030120" y="1795320"/>
              <a:chExt cx="88560" cy="100080"/>
            </a:xfrm>
          </p:grpSpPr>
          <p:sp>
            <p:nvSpPr>
              <p:cNvPr id="2315" name="Line 189"/>
              <p:cNvSpPr/>
              <p:nvPr/>
            </p:nvSpPr>
            <p:spPr>
              <a:xfrm flipV="1">
                <a:off x="3030120" y="1799280"/>
                <a:ext cx="57600" cy="7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6" name="Line 190"/>
              <p:cNvSpPr/>
              <p:nvPr/>
            </p:nvSpPr>
            <p:spPr>
              <a:xfrm>
                <a:off x="3089880" y="1795320"/>
                <a:ext cx="28800" cy="1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17" name="Line 191"/>
            <p:cNvSpPr/>
            <p:nvPr/>
          </p:nvSpPr>
          <p:spPr>
            <a:xfrm flipV="1">
              <a:off x="3028680" y="1858680"/>
              <a:ext cx="1584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8" name="Line 192"/>
            <p:cNvSpPr/>
            <p:nvPr/>
          </p:nvSpPr>
          <p:spPr>
            <a:xfrm>
              <a:off x="3174840" y="1858680"/>
              <a:ext cx="6480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9" name="Line 193"/>
            <p:cNvSpPr/>
            <p:nvPr/>
          </p:nvSpPr>
          <p:spPr>
            <a:xfrm>
              <a:off x="3011400" y="1892160"/>
              <a:ext cx="58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0" name="Line 194"/>
            <p:cNvSpPr/>
            <p:nvPr/>
          </p:nvSpPr>
          <p:spPr>
            <a:xfrm>
              <a:off x="3063600" y="1917360"/>
              <a:ext cx="3456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21" name="Group 195"/>
            <p:cNvGrpSpPr/>
            <p:nvPr/>
          </p:nvGrpSpPr>
          <p:grpSpPr>
            <a:xfrm>
              <a:off x="2719440" y="1793520"/>
              <a:ext cx="228240" cy="238320"/>
              <a:chOff x="2719440" y="1793520"/>
              <a:chExt cx="228240" cy="238320"/>
            </a:xfrm>
          </p:grpSpPr>
          <p:grpSp>
            <p:nvGrpSpPr>
              <p:cNvPr id="2322" name="Group 196"/>
              <p:cNvGrpSpPr/>
              <p:nvPr/>
            </p:nvGrpSpPr>
            <p:grpSpPr>
              <a:xfrm>
                <a:off x="2839680" y="1793520"/>
                <a:ext cx="89640" cy="99720"/>
                <a:chOff x="2839680" y="1793520"/>
                <a:chExt cx="89640" cy="99720"/>
              </a:xfrm>
            </p:grpSpPr>
            <p:sp>
              <p:nvSpPr>
                <p:cNvPr id="2323" name="Line 197"/>
                <p:cNvSpPr/>
                <p:nvPr/>
              </p:nvSpPr>
              <p:spPr>
                <a:xfrm flipH="1" flipV="1">
                  <a:off x="2871000" y="1797120"/>
                  <a:ext cx="58320" cy="79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4" name="Line 198"/>
                <p:cNvSpPr/>
                <p:nvPr/>
              </p:nvSpPr>
              <p:spPr>
                <a:xfrm flipH="1">
                  <a:off x="2839680" y="1793520"/>
                  <a:ext cx="29160" cy="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25" name="Line 199"/>
              <p:cNvSpPr/>
              <p:nvPr/>
            </p:nvSpPr>
            <p:spPr>
              <a:xfrm flipH="1" flipV="1">
                <a:off x="2772360" y="1856520"/>
                <a:ext cx="15840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6" name="Line 200"/>
              <p:cNvSpPr/>
              <p:nvPr/>
            </p:nvSpPr>
            <p:spPr>
              <a:xfrm flipH="1">
                <a:off x="2719440" y="1856880"/>
                <a:ext cx="64080" cy="8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7" name="Line 201"/>
              <p:cNvSpPr/>
              <p:nvPr/>
            </p:nvSpPr>
            <p:spPr>
              <a:xfrm flipH="1">
                <a:off x="2889360" y="1891440"/>
                <a:ext cx="5832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8" name="Line 202"/>
              <p:cNvSpPr/>
              <p:nvPr/>
            </p:nvSpPr>
            <p:spPr>
              <a:xfrm flipH="1">
                <a:off x="2860920" y="1916640"/>
                <a:ext cx="34920" cy="11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29" name="Freeform 224"/>
          <p:cNvSpPr/>
          <p:nvPr/>
        </p:nvSpPr>
        <p:spPr>
          <a:xfrm>
            <a:off x="2665440" y="2095560"/>
            <a:ext cx="4454640" cy="1920960"/>
          </a:xfrm>
          <a:custGeom>
            <a:avLst/>
            <a:gdLst>
              <a:gd name="textAreaLeft" fmla="*/ 0 w 4454640"/>
              <a:gd name="textAreaRight" fmla="*/ 4454640 w 445464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w="2806" h="1210">
                <a:moveTo>
                  <a:pt x="165" y="193"/>
                </a:moveTo>
                <a:cubicBezTo>
                  <a:pt x="192" y="246"/>
                  <a:pt x="205" y="287"/>
                  <a:pt x="261" y="306"/>
                </a:cubicBezTo>
                <a:cubicBezTo>
                  <a:pt x="272" y="341"/>
                  <a:pt x="285" y="375"/>
                  <a:pt x="295" y="410"/>
                </a:cubicBezTo>
                <a:cubicBezTo>
                  <a:pt x="305" y="445"/>
                  <a:pt x="322" y="515"/>
                  <a:pt x="322" y="515"/>
                </a:cubicBezTo>
                <a:cubicBezTo>
                  <a:pt x="305" y="565"/>
                  <a:pt x="326" y="519"/>
                  <a:pt x="278" y="567"/>
                </a:cubicBezTo>
                <a:cubicBezTo>
                  <a:pt x="214" y="631"/>
                  <a:pt x="287" y="579"/>
                  <a:pt x="226" y="619"/>
                </a:cubicBezTo>
                <a:cubicBezTo>
                  <a:pt x="193" y="665"/>
                  <a:pt x="162" y="711"/>
                  <a:pt x="130" y="758"/>
                </a:cubicBezTo>
                <a:cubicBezTo>
                  <a:pt x="118" y="775"/>
                  <a:pt x="107" y="793"/>
                  <a:pt x="95" y="810"/>
                </a:cubicBezTo>
                <a:cubicBezTo>
                  <a:pt x="89" y="819"/>
                  <a:pt x="78" y="836"/>
                  <a:pt x="78" y="836"/>
                </a:cubicBezTo>
                <a:cubicBezTo>
                  <a:pt x="68" y="885"/>
                  <a:pt x="62" y="933"/>
                  <a:pt x="35" y="975"/>
                </a:cubicBezTo>
                <a:cubicBezTo>
                  <a:pt x="48" y="1020"/>
                  <a:pt x="29" y="1023"/>
                  <a:pt x="0" y="1054"/>
                </a:cubicBezTo>
                <a:cubicBezTo>
                  <a:pt x="17" y="1108"/>
                  <a:pt x="53" y="1073"/>
                  <a:pt x="95" y="1062"/>
                </a:cubicBezTo>
                <a:cubicBezTo>
                  <a:pt x="156" y="1023"/>
                  <a:pt x="128" y="1035"/>
                  <a:pt x="174" y="1019"/>
                </a:cubicBezTo>
                <a:cubicBezTo>
                  <a:pt x="242" y="1034"/>
                  <a:pt x="308" y="1049"/>
                  <a:pt x="374" y="1071"/>
                </a:cubicBezTo>
                <a:cubicBezTo>
                  <a:pt x="436" y="1058"/>
                  <a:pt x="494" y="1038"/>
                  <a:pt x="556" y="1028"/>
                </a:cubicBezTo>
                <a:cubicBezTo>
                  <a:pt x="626" y="1004"/>
                  <a:pt x="702" y="1001"/>
                  <a:pt x="774" y="1019"/>
                </a:cubicBezTo>
                <a:cubicBezTo>
                  <a:pt x="894" y="1119"/>
                  <a:pt x="964" y="1184"/>
                  <a:pt x="1122" y="1210"/>
                </a:cubicBezTo>
                <a:cubicBezTo>
                  <a:pt x="1140" y="1196"/>
                  <a:pt x="1164" y="1187"/>
                  <a:pt x="1174" y="1167"/>
                </a:cubicBezTo>
                <a:cubicBezTo>
                  <a:pt x="1185" y="1145"/>
                  <a:pt x="1233" y="999"/>
                  <a:pt x="1235" y="993"/>
                </a:cubicBezTo>
                <a:cubicBezTo>
                  <a:pt x="1241" y="976"/>
                  <a:pt x="1270" y="981"/>
                  <a:pt x="1287" y="975"/>
                </a:cubicBezTo>
                <a:cubicBezTo>
                  <a:pt x="1305" y="957"/>
                  <a:pt x="1336" y="919"/>
                  <a:pt x="1365" y="906"/>
                </a:cubicBezTo>
                <a:cubicBezTo>
                  <a:pt x="1382" y="898"/>
                  <a:pt x="1417" y="888"/>
                  <a:pt x="1417" y="888"/>
                </a:cubicBezTo>
                <a:cubicBezTo>
                  <a:pt x="1476" y="890"/>
                  <a:pt x="1657" y="891"/>
                  <a:pt x="1748" y="906"/>
                </a:cubicBezTo>
                <a:cubicBezTo>
                  <a:pt x="1799" y="914"/>
                  <a:pt x="1854" y="947"/>
                  <a:pt x="1904" y="958"/>
                </a:cubicBezTo>
                <a:cubicBezTo>
                  <a:pt x="1974" y="973"/>
                  <a:pt x="2026" y="977"/>
                  <a:pt x="2096" y="984"/>
                </a:cubicBezTo>
                <a:cubicBezTo>
                  <a:pt x="2132" y="961"/>
                  <a:pt x="2150" y="910"/>
                  <a:pt x="2191" y="897"/>
                </a:cubicBezTo>
                <a:cubicBezTo>
                  <a:pt x="2208" y="891"/>
                  <a:pt x="2226" y="886"/>
                  <a:pt x="2243" y="880"/>
                </a:cubicBezTo>
                <a:cubicBezTo>
                  <a:pt x="2279" y="844"/>
                  <a:pt x="2343" y="853"/>
                  <a:pt x="2391" y="836"/>
                </a:cubicBezTo>
                <a:cubicBezTo>
                  <a:pt x="2437" y="839"/>
                  <a:pt x="2484" y="845"/>
                  <a:pt x="2530" y="845"/>
                </a:cubicBezTo>
                <a:cubicBezTo>
                  <a:pt x="2633" y="845"/>
                  <a:pt x="2637" y="818"/>
                  <a:pt x="2704" y="862"/>
                </a:cubicBezTo>
                <a:cubicBezTo>
                  <a:pt x="2768" y="847"/>
                  <a:pt x="2763" y="828"/>
                  <a:pt x="2774" y="767"/>
                </a:cubicBezTo>
                <a:cubicBezTo>
                  <a:pt x="2778" y="714"/>
                  <a:pt x="2806" y="487"/>
                  <a:pt x="2757" y="462"/>
                </a:cubicBezTo>
                <a:cubicBezTo>
                  <a:pt x="2729" y="448"/>
                  <a:pt x="2647" y="440"/>
                  <a:pt x="2617" y="436"/>
                </a:cubicBezTo>
                <a:cubicBezTo>
                  <a:pt x="2547" y="413"/>
                  <a:pt x="2481" y="394"/>
                  <a:pt x="2409" y="375"/>
                </a:cubicBezTo>
                <a:cubicBezTo>
                  <a:pt x="2389" y="355"/>
                  <a:pt x="2360" y="334"/>
                  <a:pt x="2348" y="306"/>
                </a:cubicBezTo>
                <a:cubicBezTo>
                  <a:pt x="2330" y="266"/>
                  <a:pt x="2310" y="201"/>
                  <a:pt x="2261" y="184"/>
                </a:cubicBezTo>
                <a:cubicBezTo>
                  <a:pt x="2188" y="160"/>
                  <a:pt x="2157" y="158"/>
                  <a:pt x="2087" y="149"/>
                </a:cubicBezTo>
                <a:cubicBezTo>
                  <a:pt x="1955" y="108"/>
                  <a:pt x="1729" y="125"/>
                  <a:pt x="1635" y="123"/>
                </a:cubicBezTo>
                <a:cubicBezTo>
                  <a:pt x="1316" y="105"/>
                  <a:pt x="996" y="57"/>
                  <a:pt x="678" y="28"/>
                </a:cubicBezTo>
                <a:cubicBezTo>
                  <a:pt x="570" y="0"/>
                  <a:pt x="434" y="30"/>
                  <a:pt x="322" y="36"/>
                </a:cubicBezTo>
                <a:cubicBezTo>
                  <a:pt x="255" y="45"/>
                  <a:pt x="234" y="43"/>
                  <a:pt x="191" y="89"/>
                </a:cubicBezTo>
                <a:cubicBezTo>
                  <a:pt x="176" y="146"/>
                  <a:pt x="185" y="112"/>
                  <a:pt x="165" y="193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30" name="Group 227"/>
          <p:cNvGrpSpPr/>
          <p:nvPr/>
        </p:nvGrpSpPr>
        <p:grpSpPr>
          <a:xfrm>
            <a:off x="3363840" y="934920"/>
            <a:ext cx="555480" cy="543960"/>
            <a:chOff x="3363840" y="934920"/>
            <a:chExt cx="555480" cy="543960"/>
          </a:xfrm>
        </p:grpSpPr>
        <p:sp>
          <p:nvSpPr>
            <p:cNvPr id="2331" name="Oval 228"/>
            <p:cNvSpPr/>
            <p:nvPr/>
          </p:nvSpPr>
          <p:spPr>
            <a:xfrm rot="3058800">
              <a:off x="3530160" y="122292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2" name="Rectangle 229"/>
            <p:cNvSpPr/>
            <p:nvPr/>
          </p:nvSpPr>
          <p:spPr>
            <a:xfrm rot="3058800">
              <a:off x="3612960" y="110124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3" name="Oval 230"/>
            <p:cNvSpPr/>
            <p:nvPr/>
          </p:nvSpPr>
          <p:spPr>
            <a:xfrm rot="3058800">
              <a:off x="3664800" y="112356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4" name="AutoShape 231"/>
            <p:cNvSpPr/>
            <p:nvPr/>
          </p:nvSpPr>
          <p:spPr>
            <a:xfrm rot="19258800">
              <a:off x="3675240" y="97524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35" name="Group 232"/>
            <p:cNvGrpSpPr/>
            <p:nvPr/>
          </p:nvGrpSpPr>
          <p:grpSpPr>
            <a:xfrm>
              <a:off x="3608640" y="1269360"/>
              <a:ext cx="102600" cy="85680"/>
              <a:chOff x="3608640" y="1269360"/>
              <a:chExt cx="102600" cy="85680"/>
            </a:xfrm>
          </p:grpSpPr>
          <p:sp>
            <p:nvSpPr>
              <p:cNvPr id="2336" name="Line 233"/>
              <p:cNvSpPr/>
              <p:nvPr/>
            </p:nvSpPr>
            <p:spPr>
              <a:xfrm flipV="1">
                <a:off x="3608640" y="1270440"/>
                <a:ext cx="98280" cy="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7" name="Line 234"/>
              <p:cNvSpPr/>
              <p:nvPr/>
            </p:nvSpPr>
            <p:spPr>
              <a:xfrm flipH="1">
                <a:off x="3651840" y="1269360"/>
                <a:ext cx="59400" cy="85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38" name="Line 235"/>
            <p:cNvSpPr/>
            <p:nvPr/>
          </p:nvSpPr>
          <p:spPr>
            <a:xfrm>
              <a:off x="3601080" y="1279800"/>
              <a:ext cx="122040" cy="1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9" name="Line 236"/>
            <p:cNvSpPr/>
            <p:nvPr/>
          </p:nvSpPr>
          <p:spPr>
            <a:xfrm flipH="1">
              <a:off x="3691080" y="1375200"/>
              <a:ext cx="24480" cy="10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0" name="Line 237"/>
            <p:cNvSpPr/>
            <p:nvPr/>
          </p:nvSpPr>
          <p:spPr>
            <a:xfrm>
              <a:off x="3586680" y="1269360"/>
              <a:ext cx="13320" cy="6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1" name="Line 238"/>
            <p:cNvSpPr/>
            <p:nvPr/>
          </p:nvSpPr>
          <p:spPr>
            <a:xfrm flipH="1">
              <a:off x="3531600" y="1325880"/>
              <a:ext cx="68400" cy="9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42" name="Group 239"/>
            <p:cNvGrpSpPr/>
            <p:nvPr/>
          </p:nvGrpSpPr>
          <p:grpSpPr>
            <a:xfrm>
              <a:off x="3363840" y="1061280"/>
              <a:ext cx="209520" cy="179280"/>
              <a:chOff x="3363840" y="1061280"/>
              <a:chExt cx="209520" cy="179280"/>
            </a:xfrm>
          </p:grpSpPr>
          <p:grpSp>
            <p:nvGrpSpPr>
              <p:cNvPr id="2343" name="Group 240"/>
              <p:cNvGrpSpPr/>
              <p:nvPr/>
            </p:nvGrpSpPr>
            <p:grpSpPr>
              <a:xfrm>
                <a:off x="3477600" y="1096560"/>
                <a:ext cx="95760" cy="99360"/>
                <a:chOff x="3477600" y="1096560"/>
                <a:chExt cx="95760" cy="99360"/>
              </a:xfrm>
            </p:grpSpPr>
            <p:sp>
              <p:nvSpPr>
                <p:cNvPr id="2344" name="Line 241"/>
                <p:cNvSpPr/>
                <p:nvPr/>
              </p:nvSpPr>
              <p:spPr>
                <a:xfrm flipV="1">
                  <a:off x="3547080" y="1100520"/>
                  <a:ext cx="24840" cy="95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45" name="Line 242"/>
                <p:cNvSpPr/>
                <p:nvPr/>
              </p:nvSpPr>
              <p:spPr>
                <a:xfrm flipH="1">
                  <a:off x="3477600" y="1096560"/>
                  <a:ext cx="95760" cy="40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46" name="Line 243"/>
              <p:cNvSpPr/>
              <p:nvPr/>
            </p:nvSpPr>
            <p:spPr>
              <a:xfrm flipH="1" flipV="1">
                <a:off x="3463920" y="1061280"/>
                <a:ext cx="76320" cy="14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7" name="Line 244"/>
              <p:cNvSpPr/>
              <p:nvPr/>
            </p:nvSpPr>
            <p:spPr>
              <a:xfrm flipH="1">
                <a:off x="3363840" y="1070280"/>
                <a:ext cx="106560" cy="3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8" name="Line 245"/>
              <p:cNvSpPr/>
              <p:nvPr/>
            </p:nvSpPr>
            <p:spPr>
              <a:xfrm flipH="1" flipV="1">
                <a:off x="3487320" y="1193040"/>
                <a:ext cx="59760" cy="26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9" name="Line 246"/>
              <p:cNvSpPr/>
              <p:nvPr/>
            </p:nvSpPr>
            <p:spPr>
              <a:xfrm flipH="1">
                <a:off x="3383280" y="1195200"/>
                <a:ext cx="11160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350" name="Group 247"/>
          <p:cNvGrpSpPr/>
          <p:nvPr/>
        </p:nvGrpSpPr>
        <p:grpSpPr>
          <a:xfrm>
            <a:off x="3094200" y="1843200"/>
            <a:ext cx="520200" cy="509400"/>
            <a:chOff x="3094200" y="1843200"/>
            <a:chExt cx="520200" cy="509400"/>
          </a:xfrm>
        </p:grpSpPr>
        <p:sp>
          <p:nvSpPr>
            <p:cNvPr id="2351" name="Oval 248"/>
            <p:cNvSpPr/>
            <p:nvPr/>
          </p:nvSpPr>
          <p:spPr>
            <a:xfrm>
              <a:off x="3308040" y="218448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2" name="Rectangle 249"/>
            <p:cNvSpPr/>
            <p:nvPr/>
          </p:nvSpPr>
          <p:spPr>
            <a:xfrm>
              <a:off x="3325680" y="203184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3" name="Oval 250"/>
            <p:cNvSpPr/>
            <p:nvPr/>
          </p:nvSpPr>
          <p:spPr>
            <a:xfrm>
              <a:off x="3319200" y="202392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4" name="AutoShape 251"/>
            <p:cNvSpPr/>
            <p:nvPr/>
          </p:nvSpPr>
          <p:spPr>
            <a:xfrm rot="16200000">
              <a:off x="3256560" y="184104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55" name="Group 252"/>
            <p:cNvGrpSpPr/>
            <p:nvPr/>
          </p:nvGrpSpPr>
          <p:grpSpPr>
            <a:xfrm>
              <a:off x="3404880" y="2114640"/>
              <a:ext cx="88560" cy="100080"/>
              <a:chOff x="3404880" y="2114640"/>
              <a:chExt cx="88560" cy="100080"/>
            </a:xfrm>
          </p:grpSpPr>
          <p:sp>
            <p:nvSpPr>
              <p:cNvPr id="2356" name="Line 253"/>
              <p:cNvSpPr/>
              <p:nvPr/>
            </p:nvSpPr>
            <p:spPr>
              <a:xfrm flipV="1">
                <a:off x="3404880" y="2118600"/>
                <a:ext cx="57600" cy="7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7" name="Line 254"/>
              <p:cNvSpPr/>
              <p:nvPr/>
            </p:nvSpPr>
            <p:spPr>
              <a:xfrm>
                <a:off x="3464640" y="2114640"/>
                <a:ext cx="28800" cy="1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58" name="Line 255"/>
            <p:cNvSpPr/>
            <p:nvPr/>
          </p:nvSpPr>
          <p:spPr>
            <a:xfrm flipV="1">
              <a:off x="3403440" y="2178000"/>
              <a:ext cx="1584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9" name="Line 256"/>
            <p:cNvSpPr/>
            <p:nvPr/>
          </p:nvSpPr>
          <p:spPr>
            <a:xfrm>
              <a:off x="3549600" y="2178000"/>
              <a:ext cx="6480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0" name="Line 257"/>
            <p:cNvSpPr/>
            <p:nvPr/>
          </p:nvSpPr>
          <p:spPr>
            <a:xfrm>
              <a:off x="3386160" y="2211480"/>
              <a:ext cx="58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1" name="Line 258"/>
            <p:cNvSpPr/>
            <p:nvPr/>
          </p:nvSpPr>
          <p:spPr>
            <a:xfrm>
              <a:off x="3438360" y="2236680"/>
              <a:ext cx="3456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62" name="Group 259"/>
            <p:cNvGrpSpPr/>
            <p:nvPr/>
          </p:nvGrpSpPr>
          <p:grpSpPr>
            <a:xfrm>
              <a:off x="3094200" y="2112840"/>
              <a:ext cx="228240" cy="238320"/>
              <a:chOff x="3094200" y="2112840"/>
              <a:chExt cx="228240" cy="238320"/>
            </a:xfrm>
          </p:grpSpPr>
          <p:grpSp>
            <p:nvGrpSpPr>
              <p:cNvPr id="2363" name="Group 260"/>
              <p:cNvGrpSpPr/>
              <p:nvPr/>
            </p:nvGrpSpPr>
            <p:grpSpPr>
              <a:xfrm>
                <a:off x="3214440" y="2112840"/>
                <a:ext cx="89640" cy="99720"/>
                <a:chOff x="3214440" y="2112840"/>
                <a:chExt cx="89640" cy="99720"/>
              </a:xfrm>
            </p:grpSpPr>
            <p:sp>
              <p:nvSpPr>
                <p:cNvPr id="2364" name="Line 261"/>
                <p:cNvSpPr/>
                <p:nvPr/>
              </p:nvSpPr>
              <p:spPr>
                <a:xfrm flipH="1" flipV="1">
                  <a:off x="3245760" y="2116440"/>
                  <a:ext cx="58320" cy="79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65" name="Line 262"/>
                <p:cNvSpPr/>
                <p:nvPr/>
              </p:nvSpPr>
              <p:spPr>
                <a:xfrm flipH="1">
                  <a:off x="3214440" y="2112840"/>
                  <a:ext cx="29160" cy="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66" name="Line 263"/>
              <p:cNvSpPr/>
              <p:nvPr/>
            </p:nvSpPr>
            <p:spPr>
              <a:xfrm flipH="1" flipV="1">
                <a:off x="3147120" y="2175840"/>
                <a:ext cx="15840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7" name="Line 264"/>
              <p:cNvSpPr/>
              <p:nvPr/>
            </p:nvSpPr>
            <p:spPr>
              <a:xfrm flipH="1">
                <a:off x="3094200" y="2176200"/>
                <a:ext cx="64080" cy="8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8" name="Line 265"/>
              <p:cNvSpPr/>
              <p:nvPr/>
            </p:nvSpPr>
            <p:spPr>
              <a:xfrm flipH="1">
                <a:off x="3264120" y="2210760"/>
                <a:ext cx="5832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9" name="Line 266"/>
              <p:cNvSpPr/>
              <p:nvPr/>
            </p:nvSpPr>
            <p:spPr>
              <a:xfrm flipH="1">
                <a:off x="3235680" y="2235960"/>
                <a:ext cx="34920" cy="11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370" name="Group 267"/>
          <p:cNvGrpSpPr/>
          <p:nvPr/>
        </p:nvGrpSpPr>
        <p:grpSpPr>
          <a:xfrm>
            <a:off x="3438360" y="2325600"/>
            <a:ext cx="520920" cy="509400"/>
            <a:chOff x="3438360" y="2325600"/>
            <a:chExt cx="520920" cy="509400"/>
          </a:xfrm>
        </p:grpSpPr>
        <p:sp>
          <p:nvSpPr>
            <p:cNvPr id="2371" name="Oval 268"/>
            <p:cNvSpPr/>
            <p:nvPr/>
          </p:nvSpPr>
          <p:spPr>
            <a:xfrm>
              <a:off x="3652560" y="2666880"/>
              <a:ext cx="9396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2" name="Rectangle 269"/>
            <p:cNvSpPr/>
            <p:nvPr/>
          </p:nvSpPr>
          <p:spPr>
            <a:xfrm>
              <a:off x="3670200" y="2514240"/>
              <a:ext cx="5868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3" name="Oval 270"/>
            <p:cNvSpPr/>
            <p:nvPr/>
          </p:nvSpPr>
          <p:spPr>
            <a:xfrm>
              <a:off x="3663720" y="2506320"/>
              <a:ext cx="7632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4" name="AutoShape 271"/>
            <p:cNvSpPr/>
            <p:nvPr/>
          </p:nvSpPr>
          <p:spPr>
            <a:xfrm rot="16200000">
              <a:off x="3601080" y="2323080"/>
              <a:ext cx="201600" cy="2062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75" name="Group 272"/>
            <p:cNvGrpSpPr/>
            <p:nvPr/>
          </p:nvGrpSpPr>
          <p:grpSpPr>
            <a:xfrm>
              <a:off x="3749400" y="2597040"/>
              <a:ext cx="88560" cy="100080"/>
              <a:chOff x="3749400" y="2597040"/>
              <a:chExt cx="88560" cy="100080"/>
            </a:xfrm>
          </p:grpSpPr>
          <p:sp>
            <p:nvSpPr>
              <p:cNvPr id="2376" name="Line 273"/>
              <p:cNvSpPr/>
              <p:nvPr/>
            </p:nvSpPr>
            <p:spPr>
              <a:xfrm flipV="1">
                <a:off x="3749400" y="2601000"/>
                <a:ext cx="57600" cy="7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7" name="Line 274"/>
              <p:cNvSpPr/>
              <p:nvPr/>
            </p:nvSpPr>
            <p:spPr>
              <a:xfrm>
                <a:off x="3809160" y="2597040"/>
                <a:ext cx="28800" cy="1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78" name="Line 275"/>
            <p:cNvSpPr/>
            <p:nvPr/>
          </p:nvSpPr>
          <p:spPr>
            <a:xfrm flipV="1">
              <a:off x="3747960" y="2660400"/>
              <a:ext cx="15876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9" name="Line 276"/>
            <p:cNvSpPr/>
            <p:nvPr/>
          </p:nvSpPr>
          <p:spPr>
            <a:xfrm>
              <a:off x="3894120" y="2660400"/>
              <a:ext cx="6516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0" name="Line 277"/>
            <p:cNvSpPr/>
            <p:nvPr/>
          </p:nvSpPr>
          <p:spPr>
            <a:xfrm>
              <a:off x="3730680" y="2693880"/>
              <a:ext cx="586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1" name="Line 278"/>
            <p:cNvSpPr/>
            <p:nvPr/>
          </p:nvSpPr>
          <p:spPr>
            <a:xfrm>
              <a:off x="3782880" y="2719080"/>
              <a:ext cx="3492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82" name="Group 279"/>
            <p:cNvGrpSpPr/>
            <p:nvPr/>
          </p:nvGrpSpPr>
          <p:grpSpPr>
            <a:xfrm>
              <a:off x="3438360" y="2595240"/>
              <a:ext cx="228240" cy="238320"/>
              <a:chOff x="3438360" y="2595240"/>
              <a:chExt cx="228240" cy="238320"/>
            </a:xfrm>
          </p:grpSpPr>
          <p:grpSp>
            <p:nvGrpSpPr>
              <p:cNvPr id="2383" name="Group 280"/>
              <p:cNvGrpSpPr/>
              <p:nvPr/>
            </p:nvGrpSpPr>
            <p:grpSpPr>
              <a:xfrm>
                <a:off x="3558600" y="2595240"/>
                <a:ext cx="89640" cy="99720"/>
                <a:chOff x="3558600" y="2595240"/>
                <a:chExt cx="89640" cy="99720"/>
              </a:xfrm>
            </p:grpSpPr>
            <p:sp>
              <p:nvSpPr>
                <p:cNvPr id="2384" name="Line 281"/>
                <p:cNvSpPr/>
                <p:nvPr/>
              </p:nvSpPr>
              <p:spPr>
                <a:xfrm flipH="1" flipV="1">
                  <a:off x="3589920" y="2598840"/>
                  <a:ext cx="58320" cy="79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85" name="Line 282"/>
                <p:cNvSpPr/>
                <p:nvPr/>
              </p:nvSpPr>
              <p:spPr>
                <a:xfrm flipH="1">
                  <a:off x="3558600" y="2595240"/>
                  <a:ext cx="29160" cy="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86" name="Line 283"/>
              <p:cNvSpPr/>
              <p:nvPr/>
            </p:nvSpPr>
            <p:spPr>
              <a:xfrm flipH="1" flipV="1">
                <a:off x="3491280" y="2658240"/>
                <a:ext cx="15840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7" name="Line 284"/>
              <p:cNvSpPr/>
              <p:nvPr/>
            </p:nvSpPr>
            <p:spPr>
              <a:xfrm flipH="1">
                <a:off x="3438360" y="2658600"/>
                <a:ext cx="64080" cy="8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8" name="Line 285"/>
              <p:cNvSpPr/>
              <p:nvPr/>
            </p:nvSpPr>
            <p:spPr>
              <a:xfrm flipH="1">
                <a:off x="3608280" y="2693160"/>
                <a:ext cx="5832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9" name="Line 286"/>
              <p:cNvSpPr/>
              <p:nvPr/>
            </p:nvSpPr>
            <p:spPr>
              <a:xfrm flipH="1">
                <a:off x="3579480" y="2718360"/>
                <a:ext cx="34920" cy="11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390" name="Group 287"/>
          <p:cNvGrpSpPr/>
          <p:nvPr/>
        </p:nvGrpSpPr>
        <p:grpSpPr>
          <a:xfrm>
            <a:off x="4046400" y="892080"/>
            <a:ext cx="520920" cy="509400"/>
            <a:chOff x="4046400" y="892080"/>
            <a:chExt cx="520920" cy="509400"/>
          </a:xfrm>
        </p:grpSpPr>
        <p:sp>
          <p:nvSpPr>
            <p:cNvPr id="2391" name="Oval 288"/>
            <p:cNvSpPr/>
            <p:nvPr/>
          </p:nvSpPr>
          <p:spPr>
            <a:xfrm>
              <a:off x="4260600" y="1233360"/>
              <a:ext cx="9396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2" name="Rectangle 289"/>
            <p:cNvSpPr/>
            <p:nvPr/>
          </p:nvSpPr>
          <p:spPr>
            <a:xfrm>
              <a:off x="4278240" y="1080720"/>
              <a:ext cx="5868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3" name="Oval 290"/>
            <p:cNvSpPr/>
            <p:nvPr/>
          </p:nvSpPr>
          <p:spPr>
            <a:xfrm>
              <a:off x="4271760" y="1072800"/>
              <a:ext cx="7632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4" name="AutoShape 291"/>
            <p:cNvSpPr/>
            <p:nvPr/>
          </p:nvSpPr>
          <p:spPr>
            <a:xfrm rot="16200000">
              <a:off x="4209120" y="889560"/>
              <a:ext cx="201600" cy="2062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95" name="Group 292"/>
            <p:cNvGrpSpPr/>
            <p:nvPr/>
          </p:nvGrpSpPr>
          <p:grpSpPr>
            <a:xfrm>
              <a:off x="4357440" y="1163520"/>
              <a:ext cx="88560" cy="100080"/>
              <a:chOff x="4357440" y="1163520"/>
              <a:chExt cx="88560" cy="100080"/>
            </a:xfrm>
          </p:grpSpPr>
          <p:sp>
            <p:nvSpPr>
              <p:cNvPr id="2396" name="Line 293"/>
              <p:cNvSpPr/>
              <p:nvPr/>
            </p:nvSpPr>
            <p:spPr>
              <a:xfrm flipV="1">
                <a:off x="4357440" y="1167480"/>
                <a:ext cx="57600" cy="7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7" name="Line 294"/>
              <p:cNvSpPr/>
              <p:nvPr/>
            </p:nvSpPr>
            <p:spPr>
              <a:xfrm>
                <a:off x="4417200" y="1163520"/>
                <a:ext cx="28800" cy="1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98" name="Line 295"/>
            <p:cNvSpPr/>
            <p:nvPr/>
          </p:nvSpPr>
          <p:spPr>
            <a:xfrm flipV="1">
              <a:off x="4356000" y="1226880"/>
              <a:ext cx="15876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9" name="Line 296"/>
            <p:cNvSpPr/>
            <p:nvPr/>
          </p:nvSpPr>
          <p:spPr>
            <a:xfrm>
              <a:off x="4502160" y="1226880"/>
              <a:ext cx="6516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0" name="Line 297"/>
            <p:cNvSpPr/>
            <p:nvPr/>
          </p:nvSpPr>
          <p:spPr>
            <a:xfrm>
              <a:off x="4338720" y="1260360"/>
              <a:ext cx="586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1" name="Line 298"/>
            <p:cNvSpPr/>
            <p:nvPr/>
          </p:nvSpPr>
          <p:spPr>
            <a:xfrm>
              <a:off x="4390920" y="1285560"/>
              <a:ext cx="3492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02" name="Group 299"/>
            <p:cNvGrpSpPr/>
            <p:nvPr/>
          </p:nvGrpSpPr>
          <p:grpSpPr>
            <a:xfrm>
              <a:off x="4046400" y="1161720"/>
              <a:ext cx="228240" cy="238320"/>
              <a:chOff x="4046400" y="1161720"/>
              <a:chExt cx="228240" cy="238320"/>
            </a:xfrm>
          </p:grpSpPr>
          <p:grpSp>
            <p:nvGrpSpPr>
              <p:cNvPr id="2403" name="Group 300"/>
              <p:cNvGrpSpPr/>
              <p:nvPr/>
            </p:nvGrpSpPr>
            <p:grpSpPr>
              <a:xfrm>
                <a:off x="4166640" y="1161720"/>
                <a:ext cx="89640" cy="99720"/>
                <a:chOff x="4166640" y="1161720"/>
                <a:chExt cx="89640" cy="99720"/>
              </a:xfrm>
            </p:grpSpPr>
            <p:sp>
              <p:nvSpPr>
                <p:cNvPr id="2404" name="Line 301"/>
                <p:cNvSpPr/>
                <p:nvPr/>
              </p:nvSpPr>
              <p:spPr>
                <a:xfrm flipH="1" flipV="1">
                  <a:off x="4197960" y="1165320"/>
                  <a:ext cx="58320" cy="79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05" name="Line 302"/>
                <p:cNvSpPr/>
                <p:nvPr/>
              </p:nvSpPr>
              <p:spPr>
                <a:xfrm flipH="1">
                  <a:off x="4166640" y="1161720"/>
                  <a:ext cx="29160" cy="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406" name="Line 303"/>
              <p:cNvSpPr/>
              <p:nvPr/>
            </p:nvSpPr>
            <p:spPr>
              <a:xfrm flipH="1" flipV="1">
                <a:off x="4099320" y="1224720"/>
                <a:ext cx="15840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7" name="Line 304"/>
              <p:cNvSpPr/>
              <p:nvPr/>
            </p:nvSpPr>
            <p:spPr>
              <a:xfrm flipH="1">
                <a:off x="4046400" y="1225080"/>
                <a:ext cx="64080" cy="8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8" name="Line 305"/>
              <p:cNvSpPr/>
              <p:nvPr/>
            </p:nvSpPr>
            <p:spPr>
              <a:xfrm flipH="1">
                <a:off x="4216320" y="1259640"/>
                <a:ext cx="5832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9" name="Line 306"/>
              <p:cNvSpPr/>
              <p:nvPr/>
            </p:nvSpPr>
            <p:spPr>
              <a:xfrm flipH="1">
                <a:off x="4187520" y="1284840"/>
                <a:ext cx="34920" cy="11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10" name="Group 307"/>
          <p:cNvGrpSpPr/>
          <p:nvPr/>
        </p:nvGrpSpPr>
        <p:grpSpPr>
          <a:xfrm>
            <a:off x="5086800" y="692280"/>
            <a:ext cx="506880" cy="554760"/>
            <a:chOff x="5086800" y="692280"/>
            <a:chExt cx="506880" cy="554760"/>
          </a:xfrm>
        </p:grpSpPr>
        <p:sp>
          <p:nvSpPr>
            <p:cNvPr id="2411" name="Oval 308"/>
            <p:cNvSpPr/>
            <p:nvPr/>
          </p:nvSpPr>
          <p:spPr>
            <a:xfrm rot="20040000">
              <a:off x="5285880" y="104364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2" name="Rectangle 309"/>
            <p:cNvSpPr/>
            <p:nvPr/>
          </p:nvSpPr>
          <p:spPr>
            <a:xfrm rot="20040000">
              <a:off x="5266440" y="89964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3" name="Oval 310"/>
            <p:cNvSpPr/>
            <p:nvPr/>
          </p:nvSpPr>
          <p:spPr>
            <a:xfrm rot="20040000">
              <a:off x="5226120" y="89820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4" name="AutoShape 311"/>
            <p:cNvSpPr/>
            <p:nvPr/>
          </p:nvSpPr>
          <p:spPr>
            <a:xfrm rot="14640000">
              <a:off x="5122440" y="72468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15" name="Group 312"/>
            <p:cNvGrpSpPr/>
            <p:nvPr/>
          </p:nvGrpSpPr>
          <p:grpSpPr>
            <a:xfrm>
              <a:off x="5377680" y="934200"/>
              <a:ext cx="86400" cy="101520"/>
              <a:chOff x="5377680" y="934200"/>
              <a:chExt cx="86400" cy="101520"/>
            </a:xfrm>
          </p:grpSpPr>
          <p:sp>
            <p:nvSpPr>
              <p:cNvPr id="2416" name="Line 313"/>
              <p:cNvSpPr/>
              <p:nvPr/>
            </p:nvSpPr>
            <p:spPr>
              <a:xfrm flipV="1">
                <a:off x="5377680" y="938880"/>
                <a:ext cx="16560" cy="9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7" name="Line 314"/>
              <p:cNvSpPr/>
              <p:nvPr/>
            </p:nvSpPr>
            <p:spPr>
              <a:xfrm>
                <a:off x="5394600" y="934200"/>
                <a:ext cx="69480" cy="77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18" name="Line 315"/>
            <p:cNvSpPr/>
            <p:nvPr/>
          </p:nvSpPr>
          <p:spPr>
            <a:xfrm flipV="1">
              <a:off x="5379840" y="948600"/>
              <a:ext cx="129600" cy="9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9" name="Line 316"/>
            <p:cNvSpPr/>
            <p:nvPr/>
          </p:nvSpPr>
          <p:spPr>
            <a:xfrm>
              <a:off x="5498640" y="954000"/>
              <a:ext cx="95040" cy="4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0" name="Line 317"/>
            <p:cNvSpPr/>
            <p:nvPr/>
          </p:nvSpPr>
          <p:spPr>
            <a:xfrm>
              <a:off x="5366520" y="1055520"/>
              <a:ext cx="65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1" name="Line 318"/>
            <p:cNvSpPr/>
            <p:nvPr/>
          </p:nvSpPr>
          <p:spPr>
            <a:xfrm>
              <a:off x="5424480" y="1055520"/>
              <a:ext cx="81720" cy="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22" name="Group 319"/>
            <p:cNvGrpSpPr/>
            <p:nvPr/>
          </p:nvGrpSpPr>
          <p:grpSpPr>
            <a:xfrm>
              <a:off x="5126040" y="1029600"/>
              <a:ext cx="182880" cy="217440"/>
              <a:chOff x="5126040" y="1029600"/>
              <a:chExt cx="182880" cy="217440"/>
            </a:xfrm>
          </p:grpSpPr>
          <p:grpSp>
            <p:nvGrpSpPr>
              <p:cNvPr id="2423" name="Group 320"/>
              <p:cNvGrpSpPr/>
              <p:nvPr/>
            </p:nvGrpSpPr>
            <p:grpSpPr>
              <a:xfrm>
                <a:off x="5195160" y="1029600"/>
                <a:ext cx="90720" cy="102240"/>
                <a:chOff x="5195160" y="1029600"/>
                <a:chExt cx="90720" cy="102240"/>
              </a:xfrm>
            </p:grpSpPr>
            <p:sp>
              <p:nvSpPr>
                <p:cNvPr id="2424" name="Line 321"/>
                <p:cNvSpPr/>
                <p:nvPr/>
              </p:nvSpPr>
              <p:spPr>
                <a:xfrm flipH="1" flipV="1">
                  <a:off x="5198400" y="1031760"/>
                  <a:ext cx="87480" cy="46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25" name="Line 322"/>
                <p:cNvSpPr/>
                <p:nvPr/>
              </p:nvSpPr>
              <p:spPr>
                <a:xfrm>
                  <a:off x="5195160" y="1029600"/>
                  <a:ext cx="17280" cy="102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426" name="Line 323"/>
              <p:cNvSpPr/>
              <p:nvPr/>
            </p:nvSpPr>
            <p:spPr>
              <a:xfrm flipH="1">
                <a:off x="5135760" y="1085760"/>
                <a:ext cx="15552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7" name="Line 324"/>
              <p:cNvSpPr/>
              <p:nvPr/>
            </p:nvSpPr>
            <p:spPr>
              <a:xfrm flipH="1">
                <a:off x="5126040" y="1123920"/>
                <a:ext cx="20160" cy="10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8" name="Line 325"/>
              <p:cNvSpPr/>
              <p:nvPr/>
            </p:nvSpPr>
            <p:spPr>
              <a:xfrm flipH="1">
                <a:off x="5269320" y="1082880"/>
                <a:ext cx="3960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9" name="Line 326"/>
              <p:cNvSpPr/>
              <p:nvPr/>
            </p:nvSpPr>
            <p:spPr>
              <a:xfrm>
                <a:off x="5273280" y="1128240"/>
                <a:ext cx="19080" cy="11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30" name="Group 327"/>
          <p:cNvGrpSpPr/>
          <p:nvPr/>
        </p:nvGrpSpPr>
        <p:grpSpPr>
          <a:xfrm>
            <a:off x="5691240" y="852480"/>
            <a:ext cx="520200" cy="509400"/>
            <a:chOff x="5691240" y="852480"/>
            <a:chExt cx="520200" cy="509400"/>
          </a:xfrm>
        </p:grpSpPr>
        <p:sp>
          <p:nvSpPr>
            <p:cNvPr id="2431" name="Oval 328"/>
            <p:cNvSpPr/>
            <p:nvPr/>
          </p:nvSpPr>
          <p:spPr>
            <a:xfrm>
              <a:off x="5905080" y="119376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2" name="Rectangle 329"/>
            <p:cNvSpPr/>
            <p:nvPr/>
          </p:nvSpPr>
          <p:spPr>
            <a:xfrm>
              <a:off x="5922720" y="104112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3" name="Oval 330"/>
            <p:cNvSpPr/>
            <p:nvPr/>
          </p:nvSpPr>
          <p:spPr>
            <a:xfrm>
              <a:off x="5916240" y="103320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4" name="AutoShape 331"/>
            <p:cNvSpPr/>
            <p:nvPr/>
          </p:nvSpPr>
          <p:spPr>
            <a:xfrm rot="16200000">
              <a:off x="5853600" y="85032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35" name="Group 332"/>
            <p:cNvGrpSpPr/>
            <p:nvPr/>
          </p:nvGrpSpPr>
          <p:grpSpPr>
            <a:xfrm>
              <a:off x="6001920" y="1123920"/>
              <a:ext cx="88560" cy="100080"/>
              <a:chOff x="6001920" y="1123920"/>
              <a:chExt cx="88560" cy="100080"/>
            </a:xfrm>
          </p:grpSpPr>
          <p:sp>
            <p:nvSpPr>
              <p:cNvPr id="2436" name="Line 333"/>
              <p:cNvSpPr/>
              <p:nvPr/>
            </p:nvSpPr>
            <p:spPr>
              <a:xfrm flipV="1">
                <a:off x="6001920" y="1127880"/>
                <a:ext cx="57600" cy="7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7" name="Line 334"/>
              <p:cNvSpPr/>
              <p:nvPr/>
            </p:nvSpPr>
            <p:spPr>
              <a:xfrm>
                <a:off x="6061680" y="1123920"/>
                <a:ext cx="28800" cy="1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38" name="Line 335"/>
            <p:cNvSpPr/>
            <p:nvPr/>
          </p:nvSpPr>
          <p:spPr>
            <a:xfrm flipV="1">
              <a:off x="6000480" y="1187280"/>
              <a:ext cx="1584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9" name="Line 336"/>
            <p:cNvSpPr/>
            <p:nvPr/>
          </p:nvSpPr>
          <p:spPr>
            <a:xfrm>
              <a:off x="6146640" y="1187280"/>
              <a:ext cx="6480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0" name="Line 337"/>
            <p:cNvSpPr/>
            <p:nvPr/>
          </p:nvSpPr>
          <p:spPr>
            <a:xfrm>
              <a:off x="5983200" y="1220760"/>
              <a:ext cx="58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1" name="Line 338"/>
            <p:cNvSpPr/>
            <p:nvPr/>
          </p:nvSpPr>
          <p:spPr>
            <a:xfrm>
              <a:off x="6035400" y="1245960"/>
              <a:ext cx="3456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42" name="Group 339"/>
            <p:cNvGrpSpPr/>
            <p:nvPr/>
          </p:nvGrpSpPr>
          <p:grpSpPr>
            <a:xfrm>
              <a:off x="5691240" y="1122120"/>
              <a:ext cx="228240" cy="238320"/>
              <a:chOff x="5691240" y="1122120"/>
              <a:chExt cx="228240" cy="238320"/>
            </a:xfrm>
          </p:grpSpPr>
          <p:grpSp>
            <p:nvGrpSpPr>
              <p:cNvPr id="2443" name="Group 340"/>
              <p:cNvGrpSpPr/>
              <p:nvPr/>
            </p:nvGrpSpPr>
            <p:grpSpPr>
              <a:xfrm>
                <a:off x="5811480" y="1122120"/>
                <a:ext cx="89640" cy="99720"/>
                <a:chOff x="5811480" y="1122120"/>
                <a:chExt cx="89640" cy="99720"/>
              </a:xfrm>
            </p:grpSpPr>
            <p:sp>
              <p:nvSpPr>
                <p:cNvPr id="2444" name="Line 341"/>
                <p:cNvSpPr/>
                <p:nvPr/>
              </p:nvSpPr>
              <p:spPr>
                <a:xfrm flipH="1" flipV="1">
                  <a:off x="5842800" y="1125720"/>
                  <a:ext cx="58320" cy="79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45" name="Line 342"/>
                <p:cNvSpPr/>
                <p:nvPr/>
              </p:nvSpPr>
              <p:spPr>
                <a:xfrm flipH="1">
                  <a:off x="5811480" y="1122120"/>
                  <a:ext cx="29160" cy="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446" name="Line 343"/>
              <p:cNvSpPr/>
              <p:nvPr/>
            </p:nvSpPr>
            <p:spPr>
              <a:xfrm flipH="1" flipV="1">
                <a:off x="5744160" y="1185120"/>
                <a:ext cx="15840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7" name="Line 344"/>
              <p:cNvSpPr/>
              <p:nvPr/>
            </p:nvSpPr>
            <p:spPr>
              <a:xfrm flipH="1">
                <a:off x="5691240" y="1185480"/>
                <a:ext cx="64080" cy="8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8" name="Line 345"/>
              <p:cNvSpPr/>
              <p:nvPr/>
            </p:nvSpPr>
            <p:spPr>
              <a:xfrm flipH="1">
                <a:off x="5861160" y="1220040"/>
                <a:ext cx="5832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9" name="Line 346"/>
              <p:cNvSpPr/>
              <p:nvPr/>
            </p:nvSpPr>
            <p:spPr>
              <a:xfrm flipH="1">
                <a:off x="5832720" y="1245240"/>
                <a:ext cx="34920" cy="11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50" name="Group 347"/>
          <p:cNvGrpSpPr/>
          <p:nvPr/>
        </p:nvGrpSpPr>
        <p:grpSpPr>
          <a:xfrm>
            <a:off x="3855960" y="1650960"/>
            <a:ext cx="520920" cy="509400"/>
            <a:chOff x="3855960" y="1650960"/>
            <a:chExt cx="520920" cy="509400"/>
          </a:xfrm>
        </p:grpSpPr>
        <p:sp>
          <p:nvSpPr>
            <p:cNvPr id="2451" name="Oval 348"/>
            <p:cNvSpPr/>
            <p:nvPr/>
          </p:nvSpPr>
          <p:spPr>
            <a:xfrm>
              <a:off x="4070160" y="1992240"/>
              <a:ext cx="9396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2" name="Rectangle 349"/>
            <p:cNvSpPr/>
            <p:nvPr/>
          </p:nvSpPr>
          <p:spPr>
            <a:xfrm>
              <a:off x="4087800" y="1839600"/>
              <a:ext cx="5868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3" name="Oval 350"/>
            <p:cNvSpPr/>
            <p:nvPr/>
          </p:nvSpPr>
          <p:spPr>
            <a:xfrm>
              <a:off x="4081320" y="1831680"/>
              <a:ext cx="7632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4" name="AutoShape 351"/>
            <p:cNvSpPr/>
            <p:nvPr/>
          </p:nvSpPr>
          <p:spPr>
            <a:xfrm rot="16200000">
              <a:off x="4018680" y="1648440"/>
              <a:ext cx="201600" cy="2062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55" name="Group 352"/>
            <p:cNvGrpSpPr/>
            <p:nvPr/>
          </p:nvGrpSpPr>
          <p:grpSpPr>
            <a:xfrm>
              <a:off x="4167000" y="1922400"/>
              <a:ext cx="88560" cy="100080"/>
              <a:chOff x="4167000" y="1922400"/>
              <a:chExt cx="88560" cy="100080"/>
            </a:xfrm>
          </p:grpSpPr>
          <p:sp>
            <p:nvSpPr>
              <p:cNvPr id="2456" name="Line 353"/>
              <p:cNvSpPr/>
              <p:nvPr/>
            </p:nvSpPr>
            <p:spPr>
              <a:xfrm flipV="1">
                <a:off x="4167000" y="1926360"/>
                <a:ext cx="57600" cy="7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7" name="Line 354"/>
              <p:cNvSpPr/>
              <p:nvPr/>
            </p:nvSpPr>
            <p:spPr>
              <a:xfrm>
                <a:off x="4226760" y="1922400"/>
                <a:ext cx="28800" cy="1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58" name="Line 355"/>
            <p:cNvSpPr/>
            <p:nvPr/>
          </p:nvSpPr>
          <p:spPr>
            <a:xfrm flipV="1">
              <a:off x="4165560" y="1985760"/>
              <a:ext cx="15876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9" name="Line 356"/>
            <p:cNvSpPr/>
            <p:nvPr/>
          </p:nvSpPr>
          <p:spPr>
            <a:xfrm>
              <a:off x="4311720" y="1985760"/>
              <a:ext cx="6516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0" name="Line 357"/>
            <p:cNvSpPr/>
            <p:nvPr/>
          </p:nvSpPr>
          <p:spPr>
            <a:xfrm>
              <a:off x="4148280" y="2019240"/>
              <a:ext cx="586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1" name="Line 358"/>
            <p:cNvSpPr/>
            <p:nvPr/>
          </p:nvSpPr>
          <p:spPr>
            <a:xfrm>
              <a:off x="4200480" y="2044440"/>
              <a:ext cx="3492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62" name="Group 359"/>
            <p:cNvGrpSpPr/>
            <p:nvPr/>
          </p:nvGrpSpPr>
          <p:grpSpPr>
            <a:xfrm>
              <a:off x="3855960" y="1920600"/>
              <a:ext cx="228240" cy="238320"/>
              <a:chOff x="3855960" y="1920600"/>
              <a:chExt cx="228240" cy="238320"/>
            </a:xfrm>
          </p:grpSpPr>
          <p:grpSp>
            <p:nvGrpSpPr>
              <p:cNvPr id="2463" name="Group 360"/>
              <p:cNvGrpSpPr/>
              <p:nvPr/>
            </p:nvGrpSpPr>
            <p:grpSpPr>
              <a:xfrm>
                <a:off x="3976200" y="1920600"/>
                <a:ext cx="89640" cy="99720"/>
                <a:chOff x="3976200" y="1920600"/>
                <a:chExt cx="89640" cy="99720"/>
              </a:xfrm>
            </p:grpSpPr>
            <p:sp>
              <p:nvSpPr>
                <p:cNvPr id="2464" name="Line 361"/>
                <p:cNvSpPr/>
                <p:nvPr/>
              </p:nvSpPr>
              <p:spPr>
                <a:xfrm flipH="1" flipV="1">
                  <a:off x="4007520" y="1924200"/>
                  <a:ext cx="58320" cy="79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65" name="Line 362"/>
                <p:cNvSpPr/>
                <p:nvPr/>
              </p:nvSpPr>
              <p:spPr>
                <a:xfrm flipH="1">
                  <a:off x="3976200" y="1920600"/>
                  <a:ext cx="29160" cy="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466" name="Line 363"/>
              <p:cNvSpPr/>
              <p:nvPr/>
            </p:nvSpPr>
            <p:spPr>
              <a:xfrm flipH="1" flipV="1">
                <a:off x="3908880" y="1983600"/>
                <a:ext cx="15840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7" name="Line 364"/>
              <p:cNvSpPr/>
              <p:nvPr/>
            </p:nvSpPr>
            <p:spPr>
              <a:xfrm flipH="1">
                <a:off x="3855960" y="1983960"/>
                <a:ext cx="64080" cy="8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8" name="Line 365"/>
              <p:cNvSpPr/>
              <p:nvPr/>
            </p:nvSpPr>
            <p:spPr>
              <a:xfrm flipH="1">
                <a:off x="4025880" y="2018520"/>
                <a:ext cx="5832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9" name="Line 366"/>
              <p:cNvSpPr/>
              <p:nvPr/>
            </p:nvSpPr>
            <p:spPr>
              <a:xfrm flipH="1">
                <a:off x="3997080" y="2043720"/>
                <a:ext cx="34920" cy="11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70" name="Group 367"/>
          <p:cNvGrpSpPr/>
          <p:nvPr/>
        </p:nvGrpSpPr>
        <p:grpSpPr>
          <a:xfrm>
            <a:off x="4838040" y="1584360"/>
            <a:ext cx="538560" cy="513000"/>
            <a:chOff x="4838040" y="1584360"/>
            <a:chExt cx="538560" cy="513000"/>
          </a:xfrm>
        </p:grpSpPr>
        <p:sp>
          <p:nvSpPr>
            <p:cNvPr id="2471" name="Oval 368"/>
            <p:cNvSpPr/>
            <p:nvPr/>
          </p:nvSpPr>
          <p:spPr>
            <a:xfrm rot="5976600">
              <a:off x="4962600" y="183780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2" name="Rectangle 369"/>
            <p:cNvSpPr/>
            <p:nvPr/>
          </p:nvSpPr>
          <p:spPr>
            <a:xfrm rot="5976600">
              <a:off x="5063400" y="178344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3" name="Oval 370"/>
            <p:cNvSpPr/>
            <p:nvPr/>
          </p:nvSpPr>
          <p:spPr>
            <a:xfrm rot="5976600">
              <a:off x="5128920" y="186660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4" name="AutoShape 371"/>
            <p:cNvSpPr/>
            <p:nvPr/>
          </p:nvSpPr>
          <p:spPr>
            <a:xfrm rot="576000">
              <a:off x="5159160" y="179352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75" name="Group 372"/>
            <p:cNvGrpSpPr/>
            <p:nvPr/>
          </p:nvGrpSpPr>
          <p:grpSpPr>
            <a:xfrm>
              <a:off x="4970520" y="1901160"/>
              <a:ext cx="103680" cy="84600"/>
              <a:chOff x="4970520" y="1901160"/>
              <a:chExt cx="103680" cy="84600"/>
            </a:xfrm>
          </p:grpSpPr>
          <p:sp>
            <p:nvSpPr>
              <p:cNvPr id="2476" name="Line 373"/>
              <p:cNvSpPr/>
              <p:nvPr/>
            </p:nvSpPr>
            <p:spPr>
              <a:xfrm>
                <a:off x="5001480" y="1901160"/>
                <a:ext cx="69120" cy="7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7" name="Line 374"/>
              <p:cNvSpPr/>
              <p:nvPr/>
            </p:nvSpPr>
            <p:spPr>
              <a:xfrm flipH="1">
                <a:off x="4970520" y="1974240"/>
                <a:ext cx="103680" cy="1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8" name="Line 375"/>
            <p:cNvSpPr/>
            <p:nvPr/>
          </p:nvSpPr>
          <p:spPr>
            <a:xfrm>
              <a:off x="4993560" y="1898640"/>
              <a:ext cx="1800" cy="16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9" name="Line 376"/>
            <p:cNvSpPr/>
            <p:nvPr/>
          </p:nvSpPr>
          <p:spPr>
            <a:xfrm flipH="1">
              <a:off x="4903560" y="2047320"/>
              <a:ext cx="93960" cy="5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0" name="Line 377"/>
            <p:cNvSpPr/>
            <p:nvPr/>
          </p:nvSpPr>
          <p:spPr>
            <a:xfrm flipH="1">
              <a:off x="4952160" y="1880640"/>
              <a:ext cx="39600" cy="5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1" name="Line 378"/>
            <p:cNvSpPr/>
            <p:nvPr/>
          </p:nvSpPr>
          <p:spPr>
            <a:xfrm flipH="1">
              <a:off x="4838040" y="1927800"/>
              <a:ext cx="120240" cy="1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82" name="Group 379"/>
            <p:cNvGrpSpPr/>
            <p:nvPr/>
          </p:nvGrpSpPr>
          <p:grpSpPr>
            <a:xfrm>
              <a:off x="4879080" y="1584360"/>
              <a:ext cx="233640" cy="233640"/>
              <a:chOff x="4879080" y="1584360"/>
              <a:chExt cx="233640" cy="233640"/>
            </a:xfrm>
          </p:grpSpPr>
          <p:grpSp>
            <p:nvGrpSpPr>
              <p:cNvPr id="2483" name="Group 380"/>
              <p:cNvGrpSpPr/>
              <p:nvPr/>
            </p:nvGrpSpPr>
            <p:grpSpPr>
              <a:xfrm>
                <a:off x="5019120" y="1711080"/>
                <a:ext cx="93600" cy="91080"/>
                <a:chOff x="5019120" y="1711080"/>
                <a:chExt cx="93600" cy="91080"/>
              </a:xfrm>
            </p:grpSpPr>
            <p:sp>
              <p:nvSpPr>
                <p:cNvPr id="2484" name="Line 381"/>
                <p:cNvSpPr/>
                <p:nvPr/>
              </p:nvSpPr>
              <p:spPr>
                <a:xfrm flipV="1">
                  <a:off x="5020560" y="1758240"/>
                  <a:ext cx="88200" cy="43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85" name="Line 382"/>
                <p:cNvSpPr/>
                <p:nvPr/>
              </p:nvSpPr>
              <p:spPr>
                <a:xfrm flipH="1" flipV="1">
                  <a:off x="5019120" y="1711080"/>
                  <a:ext cx="9360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486" name="Line 383"/>
              <p:cNvSpPr/>
              <p:nvPr/>
            </p:nvSpPr>
            <p:spPr>
              <a:xfrm flipV="1">
                <a:off x="5010840" y="1650960"/>
                <a:ext cx="55800" cy="15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7" name="Line 384"/>
              <p:cNvSpPr/>
              <p:nvPr/>
            </p:nvSpPr>
            <p:spPr>
              <a:xfrm flipH="1" flipV="1">
                <a:off x="4991040" y="1584360"/>
                <a:ext cx="73440" cy="77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8" name="Line 385"/>
              <p:cNvSpPr/>
              <p:nvPr/>
            </p:nvSpPr>
            <p:spPr>
              <a:xfrm flipH="1" flipV="1">
                <a:off x="4983120" y="1755360"/>
                <a:ext cx="19800" cy="6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9" name="Line 386"/>
              <p:cNvSpPr/>
              <p:nvPr/>
            </p:nvSpPr>
            <p:spPr>
              <a:xfrm flipH="1" flipV="1">
                <a:off x="4879080" y="1708920"/>
                <a:ext cx="107640" cy="5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90" name="Group 387"/>
          <p:cNvGrpSpPr/>
          <p:nvPr/>
        </p:nvGrpSpPr>
        <p:grpSpPr>
          <a:xfrm>
            <a:off x="3890520" y="3233520"/>
            <a:ext cx="486360" cy="554400"/>
            <a:chOff x="3890520" y="3233520"/>
            <a:chExt cx="486360" cy="554400"/>
          </a:xfrm>
        </p:grpSpPr>
        <p:sp>
          <p:nvSpPr>
            <p:cNvPr id="2491" name="Oval 388"/>
            <p:cNvSpPr/>
            <p:nvPr/>
          </p:nvSpPr>
          <p:spPr>
            <a:xfrm rot="20344800">
              <a:off x="4064760" y="358848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2" name="Rectangle 389"/>
            <p:cNvSpPr/>
            <p:nvPr/>
          </p:nvSpPr>
          <p:spPr>
            <a:xfrm rot="20344800">
              <a:off x="4052160" y="344160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3" name="Oval 390"/>
            <p:cNvSpPr/>
            <p:nvPr/>
          </p:nvSpPr>
          <p:spPr>
            <a:xfrm rot="20344800">
              <a:off x="4018320" y="343800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4" name="AutoShape 391"/>
            <p:cNvSpPr/>
            <p:nvPr/>
          </p:nvSpPr>
          <p:spPr>
            <a:xfrm rot="14944800">
              <a:off x="3922200" y="326124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95" name="Group 392"/>
            <p:cNvGrpSpPr/>
            <p:nvPr/>
          </p:nvGrpSpPr>
          <p:grpSpPr>
            <a:xfrm>
              <a:off x="4158360" y="3485520"/>
              <a:ext cx="88560" cy="99720"/>
              <a:chOff x="4158360" y="3485520"/>
              <a:chExt cx="88560" cy="99720"/>
            </a:xfrm>
          </p:grpSpPr>
          <p:sp>
            <p:nvSpPr>
              <p:cNvPr id="2496" name="Line 393"/>
              <p:cNvSpPr/>
              <p:nvPr/>
            </p:nvSpPr>
            <p:spPr>
              <a:xfrm flipV="1">
                <a:off x="4158360" y="3489840"/>
                <a:ext cx="25200" cy="9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7" name="Line 394"/>
              <p:cNvSpPr/>
              <p:nvPr/>
            </p:nvSpPr>
            <p:spPr>
              <a:xfrm>
                <a:off x="4184280" y="3485520"/>
                <a:ext cx="62640" cy="83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98" name="Line 395"/>
            <p:cNvSpPr/>
            <p:nvPr/>
          </p:nvSpPr>
          <p:spPr>
            <a:xfrm flipV="1">
              <a:off x="4159800" y="3510000"/>
              <a:ext cx="137880" cy="8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9" name="Line 396"/>
            <p:cNvSpPr/>
            <p:nvPr/>
          </p:nvSpPr>
          <p:spPr>
            <a:xfrm>
              <a:off x="4286160" y="3514320"/>
              <a:ext cx="90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0" name="Line 397"/>
            <p:cNvSpPr/>
            <p:nvPr/>
          </p:nvSpPr>
          <p:spPr>
            <a:xfrm>
              <a:off x="4145400" y="3603960"/>
              <a:ext cx="6516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1" name="Line 398"/>
            <p:cNvSpPr/>
            <p:nvPr/>
          </p:nvSpPr>
          <p:spPr>
            <a:xfrm>
              <a:off x="4203000" y="3608640"/>
              <a:ext cx="73800" cy="9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02" name="Group 399"/>
            <p:cNvGrpSpPr/>
            <p:nvPr/>
          </p:nvGrpSpPr>
          <p:grpSpPr>
            <a:xfrm>
              <a:off x="3890520" y="3562560"/>
              <a:ext cx="195120" cy="225360"/>
              <a:chOff x="3890520" y="3562560"/>
              <a:chExt cx="195120" cy="225360"/>
            </a:xfrm>
          </p:grpSpPr>
          <p:grpSp>
            <p:nvGrpSpPr>
              <p:cNvPr id="2503" name="Group 400"/>
              <p:cNvGrpSpPr/>
              <p:nvPr/>
            </p:nvGrpSpPr>
            <p:grpSpPr>
              <a:xfrm>
                <a:off x="3976920" y="3562560"/>
                <a:ext cx="86400" cy="103680"/>
                <a:chOff x="3976920" y="3562560"/>
                <a:chExt cx="86400" cy="103680"/>
              </a:xfrm>
            </p:grpSpPr>
            <p:sp>
              <p:nvSpPr>
                <p:cNvPr id="2504" name="Line 401"/>
                <p:cNvSpPr/>
                <p:nvPr/>
              </p:nvSpPr>
              <p:spPr>
                <a:xfrm flipH="1" flipV="1">
                  <a:off x="3980160" y="3565080"/>
                  <a:ext cx="83160" cy="5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05" name="Line 402"/>
                <p:cNvSpPr/>
                <p:nvPr/>
              </p:nvSpPr>
              <p:spPr>
                <a:xfrm>
                  <a:off x="3976920" y="3562560"/>
                  <a:ext cx="8640" cy="103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06" name="Line 403"/>
              <p:cNvSpPr/>
              <p:nvPr/>
            </p:nvSpPr>
            <p:spPr>
              <a:xfrm flipH="1">
                <a:off x="3909240" y="3627360"/>
                <a:ext cx="158760" cy="28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7" name="Line 404"/>
              <p:cNvSpPr/>
              <p:nvPr/>
            </p:nvSpPr>
            <p:spPr>
              <a:xfrm flipH="1">
                <a:off x="3890520" y="3652200"/>
                <a:ext cx="29520" cy="10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8" name="Line 405"/>
              <p:cNvSpPr/>
              <p:nvPr/>
            </p:nvSpPr>
            <p:spPr>
              <a:xfrm flipH="1">
                <a:off x="4041720" y="3625920"/>
                <a:ext cx="4392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9" name="Line 406"/>
              <p:cNvSpPr/>
              <p:nvPr/>
            </p:nvSpPr>
            <p:spPr>
              <a:xfrm>
                <a:off x="4046040" y="3668040"/>
                <a:ext cx="8640" cy="11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510" name="Group 407"/>
          <p:cNvGrpSpPr/>
          <p:nvPr/>
        </p:nvGrpSpPr>
        <p:grpSpPr>
          <a:xfrm>
            <a:off x="5918760" y="1656000"/>
            <a:ext cx="547200" cy="534240"/>
            <a:chOff x="5918760" y="1656000"/>
            <a:chExt cx="547200" cy="534240"/>
          </a:xfrm>
        </p:grpSpPr>
        <p:sp>
          <p:nvSpPr>
            <p:cNvPr id="2511" name="Oval 408"/>
            <p:cNvSpPr/>
            <p:nvPr/>
          </p:nvSpPr>
          <p:spPr>
            <a:xfrm rot="18163200">
              <a:off x="6225120" y="192240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2" name="Rectangle 409"/>
            <p:cNvSpPr/>
            <p:nvPr/>
          </p:nvSpPr>
          <p:spPr>
            <a:xfrm rot="18163200">
              <a:off x="6171840" y="180864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3" name="Oval 410"/>
            <p:cNvSpPr/>
            <p:nvPr/>
          </p:nvSpPr>
          <p:spPr>
            <a:xfrm rot="18163200">
              <a:off x="6100560" y="183348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4" name="AutoShape 411"/>
            <p:cNvSpPr/>
            <p:nvPr/>
          </p:nvSpPr>
          <p:spPr>
            <a:xfrm rot="12763200">
              <a:off x="5958360" y="169416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5" name="Group 412"/>
            <p:cNvGrpSpPr/>
            <p:nvPr/>
          </p:nvGrpSpPr>
          <p:grpSpPr>
            <a:xfrm>
              <a:off x="6260760" y="1798920"/>
              <a:ext cx="99720" cy="95760"/>
              <a:chOff x="6260760" y="1798920"/>
              <a:chExt cx="99720" cy="95760"/>
            </a:xfrm>
          </p:grpSpPr>
          <p:sp>
            <p:nvSpPr>
              <p:cNvPr id="2516" name="Line 413"/>
              <p:cNvSpPr/>
              <p:nvPr/>
            </p:nvSpPr>
            <p:spPr>
              <a:xfrm flipH="1" flipV="1">
                <a:off x="6262920" y="1802880"/>
                <a:ext cx="36000" cy="9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7" name="Line 414"/>
              <p:cNvSpPr/>
              <p:nvPr/>
            </p:nvSpPr>
            <p:spPr>
              <a:xfrm>
                <a:off x="6260760" y="1798920"/>
                <a:ext cx="9972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18" name="Line 415"/>
            <p:cNvSpPr/>
            <p:nvPr/>
          </p:nvSpPr>
          <p:spPr>
            <a:xfrm flipV="1">
              <a:off x="6305400" y="1751400"/>
              <a:ext cx="6120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9" name="Line 416"/>
            <p:cNvSpPr/>
            <p:nvPr/>
          </p:nvSpPr>
          <p:spPr>
            <a:xfrm flipV="1">
              <a:off x="6360120" y="1752840"/>
              <a:ext cx="105840" cy="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0" name="Line 417"/>
            <p:cNvSpPr/>
            <p:nvPr/>
          </p:nvSpPr>
          <p:spPr>
            <a:xfrm flipV="1">
              <a:off x="6300000" y="1884600"/>
              <a:ext cx="56880" cy="32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1" name="Line 418"/>
            <p:cNvSpPr/>
            <p:nvPr/>
          </p:nvSpPr>
          <p:spPr>
            <a:xfrm>
              <a:off x="6349320" y="1887120"/>
              <a:ext cx="116280" cy="3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22" name="Group 419"/>
            <p:cNvGrpSpPr/>
            <p:nvPr/>
          </p:nvGrpSpPr>
          <p:grpSpPr>
            <a:xfrm>
              <a:off x="6139800" y="1970640"/>
              <a:ext cx="196200" cy="219600"/>
              <a:chOff x="6139800" y="1970640"/>
              <a:chExt cx="196200" cy="219600"/>
            </a:xfrm>
          </p:grpSpPr>
          <p:grpSp>
            <p:nvGrpSpPr>
              <p:cNvPr id="2523" name="Group 420"/>
              <p:cNvGrpSpPr/>
              <p:nvPr/>
            </p:nvGrpSpPr>
            <p:grpSpPr>
              <a:xfrm>
                <a:off x="6139800" y="1978200"/>
                <a:ext cx="102600" cy="84240"/>
                <a:chOff x="6139800" y="1978200"/>
                <a:chExt cx="102600" cy="84240"/>
              </a:xfrm>
            </p:grpSpPr>
            <p:sp>
              <p:nvSpPr>
                <p:cNvPr id="2524" name="Line 421"/>
                <p:cNvSpPr/>
                <p:nvPr/>
              </p:nvSpPr>
              <p:spPr>
                <a:xfrm flipH="1">
                  <a:off x="6144120" y="1978200"/>
                  <a:ext cx="98280" cy="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25" name="Line 422"/>
                <p:cNvSpPr/>
                <p:nvPr/>
              </p:nvSpPr>
              <p:spPr>
                <a:xfrm>
                  <a:off x="6139800" y="1983960"/>
                  <a:ext cx="68040" cy="78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26" name="Line 423"/>
              <p:cNvSpPr/>
              <p:nvPr/>
            </p:nvSpPr>
            <p:spPr>
              <a:xfrm flipH="1">
                <a:off x="6140520" y="1982160"/>
                <a:ext cx="110880" cy="11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7" name="Line 424"/>
              <p:cNvSpPr/>
              <p:nvPr/>
            </p:nvSpPr>
            <p:spPr>
              <a:xfrm>
                <a:off x="6147000" y="2090160"/>
                <a:ext cx="37080" cy="1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8" name="Line 425"/>
              <p:cNvSpPr/>
              <p:nvPr/>
            </p:nvSpPr>
            <p:spPr>
              <a:xfrm flipH="1">
                <a:off x="6258240" y="1970640"/>
                <a:ext cx="6480" cy="65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9" name="Line 426"/>
              <p:cNvSpPr/>
              <p:nvPr/>
            </p:nvSpPr>
            <p:spPr>
              <a:xfrm>
                <a:off x="6257880" y="2027880"/>
                <a:ext cx="78120" cy="9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30" name="Oval 428"/>
          <p:cNvSpPr/>
          <p:nvPr/>
        </p:nvSpPr>
        <p:spPr>
          <a:xfrm>
            <a:off x="4525920" y="3314880"/>
            <a:ext cx="93600" cy="2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1" name="Rectangle 429"/>
          <p:cNvSpPr/>
          <p:nvPr/>
        </p:nvSpPr>
        <p:spPr>
          <a:xfrm>
            <a:off x="4543560" y="3162240"/>
            <a:ext cx="58680" cy="165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2" name="Oval 430"/>
          <p:cNvSpPr/>
          <p:nvPr/>
        </p:nvSpPr>
        <p:spPr>
          <a:xfrm>
            <a:off x="4537080" y="3154320"/>
            <a:ext cx="76320" cy="2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3" name="AutoShape 431"/>
          <p:cNvSpPr/>
          <p:nvPr/>
        </p:nvSpPr>
        <p:spPr>
          <a:xfrm rot="16200000">
            <a:off x="4474080" y="2970720"/>
            <a:ext cx="201600" cy="2062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4" name="Group 432"/>
          <p:cNvGrpSpPr/>
          <p:nvPr/>
        </p:nvGrpSpPr>
        <p:grpSpPr>
          <a:xfrm>
            <a:off x="4622760" y="3244680"/>
            <a:ext cx="88560" cy="100080"/>
            <a:chOff x="4622760" y="3244680"/>
            <a:chExt cx="88560" cy="100080"/>
          </a:xfrm>
        </p:grpSpPr>
        <p:sp>
          <p:nvSpPr>
            <p:cNvPr id="2535" name="Line 433"/>
            <p:cNvSpPr/>
            <p:nvPr/>
          </p:nvSpPr>
          <p:spPr>
            <a:xfrm flipV="1">
              <a:off x="4622760" y="3248640"/>
              <a:ext cx="57600" cy="79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6" name="Line 434"/>
            <p:cNvSpPr/>
            <p:nvPr/>
          </p:nvSpPr>
          <p:spPr>
            <a:xfrm>
              <a:off x="4682520" y="3244680"/>
              <a:ext cx="28800" cy="10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37" name="Line 435"/>
          <p:cNvSpPr/>
          <p:nvPr/>
        </p:nvSpPr>
        <p:spPr>
          <a:xfrm flipV="1">
            <a:off x="4621320" y="3308040"/>
            <a:ext cx="15876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8" name="Line 436"/>
          <p:cNvSpPr/>
          <p:nvPr/>
        </p:nvSpPr>
        <p:spPr>
          <a:xfrm>
            <a:off x="4767120" y="3308400"/>
            <a:ext cx="65160" cy="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9" name="Line 437"/>
          <p:cNvSpPr/>
          <p:nvPr/>
        </p:nvSpPr>
        <p:spPr>
          <a:xfrm>
            <a:off x="4603680" y="3341520"/>
            <a:ext cx="5868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0" name="Line 438"/>
          <p:cNvSpPr/>
          <p:nvPr/>
        </p:nvSpPr>
        <p:spPr>
          <a:xfrm>
            <a:off x="4656240" y="3367080"/>
            <a:ext cx="3492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41" name="Group 439"/>
          <p:cNvGrpSpPr/>
          <p:nvPr/>
        </p:nvGrpSpPr>
        <p:grpSpPr>
          <a:xfrm>
            <a:off x="4311720" y="3243240"/>
            <a:ext cx="228240" cy="238320"/>
            <a:chOff x="4311720" y="3243240"/>
            <a:chExt cx="228240" cy="238320"/>
          </a:xfrm>
        </p:grpSpPr>
        <p:grpSp>
          <p:nvGrpSpPr>
            <p:cNvPr id="2542" name="Group 440"/>
            <p:cNvGrpSpPr/>
            <p:nvPr/>
          </p:nvGrpSpPr>
          <p:grpSpPr>
            <a:xfrm>
              <a:off x="4431960" y="3243240"/>
              <a:ext cx="89640" cy="99720"/>
              <a:chOff x="4431960" y="3243240"/>
              <a:chExt cx="89640" cy="99720"/>
            </a:xfrm>
          </p:grpSpPr>
          <p:sp>
            <p:nvSpPr>
              <p:cNvPr id="2543" name="Line 441"/>
              <p:cNvSpPr/>
              <p:nvPr/>
            </p:nvSpPr>
            <p:spPr>
              <a:xfrm flipH="1" flipV="1">
                <a:off x="4463280" y="3246840"/>
                <a:ext cx="5832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4" name="Line 442"/>
              <p:cNvSpPr/>
              <p:nvPr/>
            </p:nvSpPr>
            <p:spPr>
              <a:xfrm flipH="1">
                <a:off x="4431960" y="3243240"/>
                <a:ext cx="29160" cy="9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45" name="Line 443"/>
            <p:cNvSpPr/>
            <p:nvPr/>
          </p:nvSpPr>
          <p:spPr>
            <a:xfrm flipH="1" flipV="1">
              <a:off x="4364640" y="3306240"/>
              <a:ext cx="158400" cy="2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6" name="Line 444"/>
            <p:cNvSpPr/>
            <p:nvPr/>
          </p:nvSpPr>
          <p:spPr>
            <a:xfrm flipH="1">
              <a:off x="4311720" y="3306600"/>
              <a:ext cx="64080" cy="8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7" name="Line 445"/>
            <p:cNvSpPr/>
            <p:nvPr/>
          </p:nvSpPr>
          <p:spPr>
            <a:xfrm flipH="1">
              <a:off x="4481640" y="3341160"/>
              <a:ext cx="58320" cy="2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8" name="Line 446"/>
            <p:cNvSpPr/>
            <p:nvPr/>
          </p:nvSpPr>
          <p:spPr>
            <a:xfrm flipH="1">
              <a:off x="4452840" y="3366360"/>
              <a:ext cx="34920" cy="11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49" name="Group 447"/>
          <p:cNvGrpSpPr/>
          <p:nvPr/>
        </p:nvGrpSpPr>
        <p:grpSpPr>
          <a:xfrm>
            <a:off x="5280120" y="2994120"/>
            <a:ext cx="520200" cy="509400"/>
            <a:chOff x="5280120" y="2994120"/>
            <a:chExt cx="520200" cy="509400"/>
          </a:xfrm>
        </p:grpSpPr>
        <p:sp>
          <p:nvSpPr>
            <p:cNvPr id="2550" name="Oval 448"/>
            <p:cNvSpPr/>
            <p:nvPr/>
          </p:nvSpPr>
          <p:spPr>
            <a:xfrm>
              <a:off x="5493960" y="333540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1" name="Rectangle 449"/>
            <p:cNvSpPr/>
            <p:nvPr/>
          </p:nvSpPr>
          <p:spPr>
            <a:xfrm>
              <a:off x="5511600" y="318276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2" name="Oval 450"/>
            <p:cNvSpPr/>
            <p:nvPr/>
          </p:nvSpPr>
          <p:spPr>
            <a:xfrm>
              <a:off x="5505120" y="317484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3" name="AutoShape 451"/>
            <p:cNvSpPr/>
            <p:nvPr/>
          </p:nvSpPr>
          <p:spPr>
            <a:xfrm rot="16200000">
              <a:off x="5442480" y="299196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54" name="Group 452"/>
            <p:cNvGrpSpPr/>
            <p:nvPr/>
          </p:nvGrpSpPr>
          <p:grpSpPr>
            <a:xfrm>
              <a:off x="5590800" y="3265560"/>
              <a:ext cx="88560" cy="100080"/>
              <a:chOff x="5590800" y="3265560"/>
              <a:chExt cx="88560" cy="100080"/>
            </a:xfrm>
          </p:grpSpPr>
          <p:sp>
            <p:nvSpPr>
              <p:cNvPr id="2555" name="Line 453"/>
              <p:cNvSpPr/>
              <p:nvPr/>
            </p:nvSpPr>
            <p:spPr>
              <a:xfrm flipV="1">
                <a:off x="5590800" y="3269520"/>
                <a:ext cx="57600" cy="7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6" name="Line 454"/>
              <p:cNvSpPr/>
              <p:nvPr/>
            </p:nvSpPr>
            <p:spPr>
              <a:xfrm>
                <a:off x="5650560" y="3265560"/>
                <a:ext cx="28800" cy="1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57" name="Line 455"/>
            <p:cNvSpPr/>
            <p:nvPr/>
          </p:nvSpPr>
          <p:spPr>
            <a:xfrm flipV="1">
              <a:off x="5589360" y="3328920"/>
              <a:ext cx="1584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8" name="Line 456"/>
            <p:cNvSpPr/>
            <p:nvPr/>
          </p:nvSpPr>
          <p:spPr>
            <a:xfrm>
              <a:off x="5735520" y="3328920"/>
              <a:ext cx="6480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9" name="Line 457"/>
            <p:cNvSpPr/>
            <p:nvPr/>
          </p:nvSpPr>
          <p:spPr>
            <a:xfrm>
              <a:off x="5572080" y="3362400"/>
              <a:ext cx="58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0" name="Line 458"/>
            <p:cNvSpPr/>
            <p:nvPr/>
          </p:nvSpPr>
          <p:spPr>
            <a:xfrm>
              <a:off x="5624280" y="3387600"/>
              <a:ext cx="3456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61" name="Group 459"/>
            <p:cNvGrpSpPr/>
            <p:nvPr/>
          </p:nvGrpSpPr>
          <p:grpSpPr>
            <a:xfrm>
              <a:off x="5280120" y="3263760"/>
              <a:ext cx="228240" cy="238320"/>
              <a:chOff x="5280120" y="3263760"/>
              <a:chExt cx="228240" cy="238320"/>
            </a:xfrm>
          </p:grpSpPr>
          <p:grpSp>
            <p:nvGrpSpPr>
              <p:cNvPr id="2562" name="Group 460"/>
              <p:cNvGrpSpPr/>
              <p:nvPr/>
            </p:nvGrpSpPr>
            <p:grpSpPr>
              <a:xfrm>
                <a:off x="5400360" y="3263760"/>
                <a:ext cx="89640" cy="99720"/>
                <a:chOff x="5400360" y="3263760"/>
                <a:chExt cx="89640" cy="99720"/>
              </a:xfrm>
            </p:grpSpPr>
            <p:sp>
              <p:nvSpPr>
                <p:cNvPr id="2563" name="Line 461"/>
                <p:cNvSpPr/>
                <p:nvPr/>
              </p:nvSpPr>
              <p:spPr>
                <a:xfrm flipH="1" flipV="1">
                  <a:off x="5431680" y="3267360"/>
                  <a:ext cx="58320" cy="79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4" name="Line 462"/>
                <p:cNvSpPr/>
                <p:nvPr/>
              </p:nvSpPr>
              <p:spPr>
                <a:xfrm flipH="1">
                  <a:off x="5400360" y="3263760"/>
                  <a:ext cx="29160" cy="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5" name="Line 463"/>
              <p:cNvSpPr/>
              <p:nvPr/>
            </p:nvSpPr>
            <p:spPr>
              <a:xfrm flipH="1" flipV="1">
                <a:off x="5333040" y="3326760"/>
                <a:ext cx="15840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6" name="Line 464"/>
              <p:cNvSpPr/>
              <p:nvPr/>
            </p:nvSpPr>
            <p:spPr>
              <a:xfrm flipH="1">
                <a:off x="5280120" y="3327120"/>
                <a:ext cx="64080" cy="8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7" name="Line 465"/>
              <p:cNvSpPr/>
              <p:nvPr/>
            </p:nvSpPr>
            <p:spPr>
              <a:xfrm flipH="1">
                <a:off x="5450040" y="3361680"/>
                <a:ext cx="5832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8" name="Line 466"/>
              <p:cNvSpPr/>
              <p:nvPr/>
            </p:nvSpPr>
            <p:spPr>
              <a:xfrm flipH="1">
                <a:off x="5421600" y="3386880"/>
                <a:ext cx="34920" cy="11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569" name="Group 467"/>
          <p:cNvGrpSpPr/>
          <p:nvPr/>
        </p:nvGrpSpPr>
        <p:grpSpPr>
          <a:xfrm>
            <a:off x="4636440" y="2310120"/>
            <a:ext cx="546120" cy="555840"/>
            <a:chOff x="4636440" y="2310120"/>
            <a:chExt cx="546120" cy="555840"/>
          </a:xfrm>
        </p:grpSpPr>
        <p:sp>
          <p:nvSpPr>
            <p:cNvPr id="2570" name="Oval 468"/>
            <p:cNvSpPr/>
            <p:nvPr/>
          </p:nvSpPr>
          <p:spPr>
            <a:xfrm rot="19170000">
              <a:off x="4897080" y="263448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1" name="Rectangle 469"/>
            <p:cNvSpPr/>
            <p:nvPr/>
          </p:nvSpPr>
          <p:spPr>
            <a:xfrm rot="19170000">
              <a:off x="4860000" y="250200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2" name="Oval 470"/>
            <p:cNvSpPr/>
            <p:nvPr/>
          </p:nvSpPr>
          <p:spPr>
            <a:xfrm rot="19170000">
              <a:off x="4803480" y="251064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3" name="AutoShape 471"/>
            <p:cNvSpPr/>
            <p:nvPr/>
          </p:nvSpPr>
          <p:spPr>
            <a:xfrm rot="13770000">
              <a:off x="4679280" y="235044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74" name="Group 472"/>
            <p:cNvGrpSpPr/>
            <p:nvPr/>
          </p:nvGrpSpPr>
          <p:grpSpPr>
            <a:xfrm>
              <a:off x="4973040" y="2513520"/>
              <a:ext cx="86760" cy="102600"/>
              <a:chOff x="4973040" y="2513520"/>
              <a:chExt cx="86760" cy="102600"/>
            </a:xfrm>
          </p:grpSpPr>
          <p:sp>
            <p:nvSpPr>
              <p:cNvPr id="2575" name="Line 473"/>
              <p:cNvSpPr/>
              <p:nvPr/>
            </p:nvSpPr>
            <p:spPr>
              <a:xfrm flipH="1" flipV="1">
                <a:off x="4973760" y="2518200"/>
                <a:ext cx="8280" cy="9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6" name="Line 474"/>
              <p:cNvSpPr/>
              <p:nvPr/>
            </p:nvSpPr>
            <p:spPr>
              <a:xfrm>
                <a:off x="4973040" y="2513520"/>
                <a:ext cx="86760" cy="5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77" name="Line 475"/>
            <p:cNvSpPr/>
            <p:nvPr/>
          </p:nvSpPr>
          <p:spPr>
            <a:xfrm flipV="1">
              <a:off x="4986360" y="2498760"/>
              <a:ext cx="101520" cy="12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8" name="Line 476"/>
            <p:cNvSpPr/>
            <p:nvPr/>
          </p:nvSpPr>
          <p:spPr>
            <a:xfrm>
              <a:off x="5078520" y="2506680"/>
              <a:ext cx="104040" cy="2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9" name="Line 477"/>
            <p:cNvSpPr/>
            <p:nvPr/>
          </p:nvSpPr>
          <p:spPr>
            <a:xfrm flipV="1">
              <a:off x="4975920" y="2623320"/>
              <a:ext cx="64080" cy="1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0" name="Line 478"/>
            <p:cNvSpPr/>
            <p:nvPr/>
          </p:nvSpPr>
          <p:spPr>
            <a:xfrm>
              <a:off x="5032080" y="2623320"/>
              <a:ext cx="101520" cy="6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81" name="Group 479"/>
            <p:cNvGrpSpPr/>
            <p:nvPr/>
          </p:nvGrpSpPr>
          <p:grpSpPr>
            <a:xfrm>
              <a:off x="4771080" y="2655720"/>
              <a:ext cx="181440" cy="210240"/>
              <a:chOff x="4771080" y="2655720"/>
              <a:chExt cx="181440" cy="210240"/>
            </a:xfrm>
          </p:grpSpPr>
          <p:grpSp>
            <p:nvGrpSpPr>
              <p:cNvPr id="2582" name="Group 480"/>
              <p:cNvGrpSpPr/>
              <p:nvPr/>
            </p:nvGrpSpPr>
            <p:grpSpPr>
              <a:xfrm>
                <a:off x="4803480" y="2655720"/>
                <a:ext cx="100080" cy="94680"/>
                <a:chOff x="4803480" y="2655720"/>
                <a:chExt cx="100080" cy="94680"/>
              </a:xfrm>
            </p:grpSpPr>
            <p:sp>
              <p:nvSpPr>
                <p:cNvPr id="2583" name="Line 481"/>
                <p:cNvSpPr/>
                <p:nvPr/>
              </p:nvSpPr>
              <p:spPr>
                <a:xfrm flipH="1" flipV="1">
                  <a:off x="4807440" y="2657160"/>
                  <a:ext cx="96120" cy="22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4" name="Line 482"/>
                <p:cNvSpPr/>
                <p:nvPr/>
              </p:nvSpPr>
              <p:spPr>
                <a:xfrm>
                  <a:off x="4803480" y="2655720"/>
                  <a:ext cx="42840" cy="9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85" name="Line 483"/>
              <p:cNvSpPr/>
              <p:nvPr/>
            </p:nvSpPr>
            <p:spPr>
              <a:xfrm flipH="1">
                <a:off x="4771080" y="2686320"/>
                <a:ext cx="140040" cy="7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6" name="Line 484"/>
              <p:cNvSpPr/>
              <p:nvPr/>
            </p:nvSpPr>
            <p:spPr>
              <a:xfrm>
                <a:off x="4780080" y="2759400"/>
                <a:ext cx="6480" cy="10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7" name="Line 485"/>
              <p:cNvSpPr/>
              <p:nvPr/>
            </p:nvSpPr>
            <p:spPr>
              <a:xfrm flipH="1">
                <a:off x="4902120" y="2679120"/>
                <a:ext cx="252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8" name="Line 486"/>
              <p:cNvSpPr/>
              <p:nvPr/>
            </p:nvSpPr>
            <p:spPr>
              <a:xfrm>
                <a:off x="4904280" y="2732040"/>
                <a:ext cx="48240" cy="11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589" name="Group 487"/>
          <p:cNvGrpSpPr/>
          <p:nvPr/>
        </p:nvGrpSpPr>
        <p:grpSpPr>
          <a:xfrm>
            <a:off x="6136200" y="2916720"/>
            <a:ext cx="552240" cy="493200"/>
            <a:chOff x="6136200" y="2916720"/>
            <a:chExt cx="552240" cy="493200"/>
          </a:xfrm>
        </p:grpSpPr>
        <p:sp>
          <p:nvSpPr>
            <p:cNvPr id="2590" name="Oval 488"/>
            <p:cNvSpPr/>
            <p:nvPr/>
          </p:nvSpPr>
          <p:spPr>
            <a:xfrm rot="17304600">
              <a:off x="6458040" y="312840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1" name="Rectangle 489"/>
            <p:cNvSpPr/>
            <p:nvPr/>
          </p:nvSpPr>
          <p:spPr>
            <a:xfrm rot="17304600">
              <a:off x="6395760" y="303372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2" name="Oval 490"/>
            <p:cNvSpPr/>
            <p:nvPr/>
          </p:nvSpPr>
          <p:spPr>
            <a:xfrm rot="17304600">
              <a:off x="6315480" y="307548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3" name="AutoShape 491"/>
            <p:cNvSpPr/>
            <p:nvPr/>
          </p:nvSpPr>
          <p:spPr>
            <a:xfrm rot="11904000">
              <a:off x="6163200" y="295704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94" name="Group 492"/>
            <p:cNvGrpSpPr/>
            <p:nvPr/>
          </p:nvGrpSpPr>
          <p:grpSpPr>
            <a:xfrm>
              <a:off x="6459840" y="3012120"/>
              <a:ext cx="104040" cy="83160"/>
              <a:chOff x="6459840" y="3012120"/>
              <a:chExt cx="104040" cy="83160"/>
            </a:xfrm>
          </p:grpSpPr>
          <p:sp>
            <p:nvSpPr>
              <p:cNvPr id="2595" name="Line 493"/>
              <p:cNvSpPr/>
              <p:nvPr/>
            </p:nvSpPr>
            <p:spPr>
              <a:xfrm flipH="1" flipV="1">
                <a:off x="6463080" y="3015360"/>
                <a:ext cx="57600" cy="7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6" name="Line 494"/>
              <p:cNvSpPr/>
              <p:nvPr/>
            </p:nvSpPr>
            <p:spPr>
              <a:xfrm>
                <a:off x="6459840" y="3012120"/>
                <a:ext cx="104040" cy="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97" name="Line 495"/>
            <p:cNvSpPr/>
            <p:nvPr/>
          </p:nvSpPr>
          <p:spPr>
            <a:xfrm flipV="1">
              <a:off x="6527880" y="2940120"/>
              <a:ext cx="22680" cy="15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8" name="Line 496"/>
            <p:cNvSpPr/>
            <p:nvPr/>
          </p:nvSpPr>
          <p:spPr>
            <a:xfrm flipV="1">
              <a:off x="6546960" y="2916720"/>
              <a:ext cx="1004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9" name="Line 497"/>
            <p:cNvSpPr/>
            <p:nvPr/>
          </p:nvSpPr>
          <p:spPr>
            <a:xfrm flipV="1">
              <a:off x="6527160" y="3071520"/>
              <a:ext cx="47160" cy="4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0" name="Line 498"/>
            <p:cNvSpPr/>
            <p:nvPr/>
          </p:nvSpPr>
          <p:spPr>
            <a:xfrm>
              <a:off x="6567480" y="3075480"/>
              <a:ext cx="12096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01" name="Group 499"/>
            <p:cNvGrpSpPr/>
            <p:nvPr/>
          </p:nvGrpSpPr>
          <p:grpSpPr>
            <a:xfrm>
              <a:off x="6388560" y="3177360"/>
              <a:ext cx="223560" cy="232560"/>
              <a:chOff x="6388560" y="3177360"/>
              <a:chExt cx="223560" cy="232560"/>
            </a:xfrm>
          </p:grpSpPr>
          <p:grpSp>
            <p:nvGrpSpPr>
              <p:cNvPr id="2602" name="Group 500"/>
              <p:cNvGrpSpPr/>
              <p:nvPr/>
            </p:nvGrpSpPr>
            <p:grpSpPr>
              <a:xfrm>
                <a:off x="6388560" y="3190320"/>
                <a:ext cx="97920" cy="90000"/>
                <a:chOff x="6388560" y="3190320"/>
                <a:chExt cx="97920" cy="90000"/>
              </a:xfrm>
            </p:grpSpPr>
            <p:sp>
              <p:nvSpPr>
                <p:cNvPr id="2603" name="Line 501"/>
                <p:cNvSpPr/>
                <p:nvPr/>
              </p:nvSpPr>
              <p:spPr>
                <a:xfrm flipH="1">
                  <a:off x="6392520" y="3190320"/>
                  <a:ext cx="93960" cy="3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4" name="Line 502"/>
                <p:cNvSpPr/>
                <p:nvPr/>
              </p:nvSpPr>
              <p:spPr>
                <a:xfrm>
                  <a:off x="6388560" y="3221280"/>
                  <a:ext cx="85320" cy="5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05" name="Line 503"/>
              <p:cNvSpPr/>
              <p:nvPr/>
            </p:nvSpPr>
            <p:spPr>
              <a:xfrm flipH="1">
                <a:off x="6417720" y="3191760"/>
                <a:ext cx="78480" cy="14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6" name="Line 504"/>
              <p:cNvSpPr/>
              <p:nvPr/>
            </p:nvSpPr>
            <p:spPr>
              <a:xfrm>
                <a:off x="6421680" y="3322440"/>
                <a:ext cx="60840" cy="8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7" name="Line 505"/>
              <p:cNvSpPr/>
              <p:nvPr/>
            </p:nvSpPr>
            <p:spPr>
              <a:xfrm>
                <a:off x="6506280" y="3177360"/>
                <a:ext cx="10080" cy="64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8" name="Line 506"/>
              <p:cNvSpPr/>
              <p:nvPr/>
            </p:nvSpPr>
            <p:spPr>
              <a:xfrm>
                <a:off x="6513840" y="3234600"/>
                <a:ext cx="98280" cy="6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09" name="Group 507"/>
          <p:cNvGrpSpPr/>
          <p:nvPr/>
        </p:nvGrpSpPr>
        <p:grpSpPr>
          <a:xfrm>
            <a:off x="5353560" y="2366640"/>
            <a:ext cx="555120" cy="550080"/>
            <a:chOff x="5353560" y="2366640"/>
            <a:chExt cx="555120" cy="550080"/>
          </a:xfrm>
        </p:grpSpPr>
        <p:sp>
          <p:nvSpPr>
            <p:cNvPr id="2610" name="Oval 508"/>
            <p:cNvSpPr/>
            <p:nvPr/>
          </p:nvSpPr>
          <p:spPr>
            <a:xfrm rot="2743800">
              <a:off x="5533560" y="267228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1" name="Rectangle 509"/>
            <p:cNvSpPr/>
            <p:nvPr/>
          </p:nvSpPr>
          <p:spPr>
            <a:xfrm rot="2743800">
              <a:off x="5611680" y="254484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2" name="Oval 510"/>
            <p:cNvSpPr/>
            <p:nvPr/>
          </p:nvSpPr>
          <p:spPr>
            <a:xfrm rot="2743800">
              <a:off x="5658840" y="256176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3" name="AutoShape 511"/>
            <p:cNvSpPr/>
            <p:nvPr/>
          </p:nvSpPr>
          <p:spPr>
            <a:xfrm rot="18943800">
              <a:off x="5663880" y="240768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14" name="Group 512"/>
            <p:cNvGrpSpPr/>
            <p:nvPr/>
          </p:nvGrpSpPr>
          <p:grpSpPr>
            <a:xfrm>
              <a:off x="5615640" y="2706480"/>
              <a:ext cx="101880" cy="90720"/>
              <a:chOff x="5615640" y="2706480"/>
              <a:chExt cx="101880" cy="90720"/>
            </a:xfrm>
          </p:grpSpPr>
          <p:sp>
            <p:nvSpPr>
              <p:cNvPr id="2615" name="Line 513"/>
              <p:cNvSpPr/>
              <p:nvPr/>
            </p:nvSpPr>
            <p:spPr>
              <a:xfrm flipV="1">
                <a:off x="5615640" y="2707920"/>
                <a:ext cx="9756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6" name="Line 514"/>
              <p:cNvSpPr/>
              <p:nvPr/>
            </p:nvSpPr>
            <p:spPr>
              <a:xfrm flipH="1">
                <a:off x="5666040" y="2706480"/>
                <a:ext cx="51480" cy="9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17" name="Line 515"/>
            <p:cNvSpPr/>
            <p:nvPr/>
          </p:nvSpPr>
          <p:spPr>
            <a:xfrm>
              <a:off x="5608800" y="2727000"/>
              <a:ext cx="131040" cy="9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8" name="Line 516"/>
            <p:cNvSpPr/>
            <p:nvPr/>
          </p:nvSpPr>
          <p:spPr>
            <a:xfrm flipH="1">
              <a:off x="5716440" y="2811600"/>
              <a:ext cx="14760" cy="1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9" name="Line 517"/>
            <p:cNvSpPr/>
            <p:nvPr/>
          </p:nvSpPr>
          <p:spPr>
            <a:xfrm>
              <a:off x="5593320" y="2718000"/>
              <a:ext cx="19080" cy="6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0" name="Line 518"/>
            <p:cNvSpPr/>
            <p:nvPr/>
          </p:nvSpPr>
          <p:spPr>
            <a:xfrm flipH="1">
              <a:off x="5553000" y="2773080"/>
              <a:ext cx="58680" cy="10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21" name="Group 519"/>
            <p:cNvGrpSpPr/>
            <p:nvPr/>
          </p:nvGrpSpPr>
          <p:grpSpPr>
            <a:xfrm>
              <a:off x="5353560" y="2521800"/>
              <a:ext cx="210960" cy="186120"/>
              <a:chOff x="5353560" y="2521800"/>
              <a:chExt cx="210960" cy="186120"/>
            </a:xfrm>
          </p:grpSpPr>
          <p:grpSp>
            <p:nvGrpSpPr>
              <p:cNvPr id="2622" name="Group 520"/>
              <p:cNvGrpSpPr/>
              <p:nvPr/>
            </p:nvGrpSpPr>
            <p:grpSpPr>
              <a:xfrm>
                <a:off x="5472720" y="2547000"/>
                <a:ext cx="91800" cy="101520"/>
                <a:chOff x="5472720" y="2547000"/>
                <a:chExt cx="91800" cy="101520"/>
              </a:xfrm>
            </p:grpSpPr>
            <p:sp>
              <p:nvSpPr>
                <p:cNvPr id="2623" name="Line 521"/>
                <p:cNvSpPr/>
                <p:nvPr/>
              </p:nvSpPr>
              <p:spPr>
                <a:xfrm flipV="1">
                  <a:off x="5547240" y="2550960"/>
                  <a:ext cx="16200" cy="9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4" name="Line 522"/>
                <p:cNvSpPr/>
                <p:nvPr/>
              </p:nvSpPr>
              <p:spPr>
                <a:xfrm flipH="1">
                  <a:off x="5472720" y="2547000"/>
                  <a:ext cx="91800" cy="4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25" name="Line 523"/>
              <p:cNvSpPr/>
              <p:nvPr/>
            </p:nvSpPr>
            <p:spPr>
              <a:xfrm flipH="1" flipV="1">
                <a:off x="5451840" y="2521800"/>
                <a:ext cx="89280" cy="13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6" name="Line 524"/>
              <p:cNvSpPr/>
              <p:nvPr/>
            </p:nvSpPr>
            <p:spPr>
              <a:xfrm flipH="1">
                <a:off x="5353560" y="2530080"/>
                <a:ext cx="105840" cy="13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7" name="Line 525"/>
              <p:cNvSpPr/>
              <p:nvPr/>
            </p:nvSpPr>
            <p:spPr>
              <a:xfrm flipH="1" flipV="1">
                <a:off x="5487120" y="2651040"/>
                <a:ext cx="62280" cy="2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8" name="Line 526"/>
              <p:cNvSpPr/>
              <p:nvPr/>
            </p:nvSpPr>
            <p:spPr>
              <a:xfrm flipH="1">
                <a:off x="5388120" y="2652480"/>
                <a:ext cx="106920" cy="5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29" name="Group 527"/>
          <p:cNvGrpSpPr/>
          <p:nvPr/>
        </p:nvGrpSpPr>
        <p:grpSpPr>
          <a:xfrm>
            <a:off x="3101760" y="3060720"/>
            <a:ext cx="554040" cy="538560"/>
            <a:chOff x="3101760" y="3060720"/>
            <a:chExt cx="554040" cy="538560"/>
          </a:xfrm>
        </p:grpSpPr>
        <p:sp>
          <p:nvSpPr>
            <p:cNvPr id="2630" name="Oval 528"/>
            <p:cNvSpPr/>
            <p:nvPr/>
          </p:nvSpPr>
          <p:spPr>
            <a:xfrm rot="3211200">
              <a:off x="3260520" y="333864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1" name="Rectangle 529"/>
            <p:cNvSpPr/>
            <p:nvPr/>
          </p:nvSpPr>
          <p:spPr>
            <a:xfrm rot="3211200">
              <a:off x="3345840" y="322020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2" name="Oval 530"/>
            <p:cNvSpPr/>
            <p:nvPr/>
          </p:nvSpPr>
          <p:spPr>
            <a:xfrm rot="3211200">
              <a:off x="3399840" y="324468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3" name="AutoShape 531"/>
            <p:cNvSpPr/>
            <p:nvPr/>
          </p:nvSpPr>
          <p:spPr>
            <a:xfrm rot="19411200">
              <a:off x="3412800" y="310032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34" name="Group 532"/>
            <p:cNvGrpSpPr/>
            <p:nvPr/>
          </p:nvGrpSpPr>
          <p:grpSpPr>
            <a:xfrm>
              <a:off x="3337200" y="3391200"/>
              <a:ext cx="102960" cy="82800"/>
              <a:chOff x="3337200" y="3391200"/>
              <a:chExt cx="102960" cy="82800"/>
            </a:xfrm>
          </p:grpSpPr>
          <p:sp>
            <p:nvSpPr>
              <p:cNvPr id="2635" name="Line 533"/>
              <p:cNvSpPr/>
              <p:nvPr/>
            </p:nvSpPr>
            <p:spPr>
              <a:xfrm flipV="1">
                <a:off x="3337200" y="3391920"/>
                <a:ext cx="986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6" name="Line 534"/>
              <p:cNvSpPr/>
              <p:nvPr/>
            </p:nvSpPr>
            <p:spPr>
              <a:xfrm flipH="1">
                <a:off x="3376800" y="3391200"/>
                <a:ext cx="63360" cy="82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37" name="Line 535"/>
            <p:cNvSpPr/>
            <p:nvPr/>
          </p:nvSpPr>
          <p:spPr>
            <a:xfrm>
              <a:off x="3329640" y="3396600"/>
              <a:ext cx="117360" cy="11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8" name="Line 536"/>
            <p:cNvSpPr/>
            <p:nvPr/>
          </p:nvSpPr>
          <p:spPr>
            <a:xfrm flipH="1">
              <a:off x="3410640" y="3497040"/>
              <a:ext cx="29160" cy="10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9" name="Line 537"/>
            <p:cNvSpPr/>
            <p:nvPr/>
          </p:nvSpPr>
          <p:spPr>
            <a:xfrm>
              <a:off x="3315600" y="3385800"/>
              <a:ext cx="104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0" name="Line 538"/>
            <p:cNvSpPr/>
            <p:nvPr/>
          </p:nvSpPr>
          <p:spPr>
            <a:xfrm flipH="1">
              <a:off x="3253680" y="3442680"/>
              <a:ext cx="72720" cy="9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41" name="Group 539"/>
            <p:cNvGrpSpPr/>
            <p:nvPr/>
          </p:nvGrpSpPr>
          <p:grpSpPr>
            <a:xfrm>
              <a:off x="3101760" y="3172320"/>
              <a:ext cx="208440" cy="175320"/>
              <a:chOff x="3101760" y="3172320"/>
              <a:chExt cx="208440" cy="175320"/>
            </a:xfrm>
          </p:grpSpPr>
          <p:grpSp>
            <p:nvGrpSpPr>
              <p:cNvPr id="2642" name="Group 540"/>
              <p:cNvGrpSpPr/>
              <p:nvPr/>
            </p:nvGrpSpPr>
            <p:grpSpPr>
              <a:xfrm>
                <a:off x="3212640" y="3212280"/>
                <a:ext cx="97560" cy="98280"/>
                <a:chOff x="3212640" y="3212280"/>
                <a:chExt cx="97560" cy="98280"/>
              </a:xfrm>
            </p:grpSpPr>
            <p:sp>
              <p:nvSpPr>
                <p:cNvPr id="2643" name="Line 541"/>
                <p:cNvSpPr/>
                <p:nvPr/>
              </p:nvSpPr>
              <p:spPr>
                <a:xfrm flipV="1">
                  <a:off x="3279240" y="3216240"/>
                  <a:ext cx="29520" cy="9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4" name="Line 542"/>
                <p:cNvSpPr/>
                <p:nvPr/>
              </p:nvSpPr>
              <p:spPr>
                <a:xfrm flipH="1">
                  <a:off x="3212640" y="3212280"/>
                  <a:ext cx="975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45" name="Line 543"/>
              <p:cNvSpPr/>
              <p:nvPr/>
            </p:nvSpPr>
            <p:spPr>
              <a:xfrm flipH="1" flipV="1">
                <a:off x="3202200" y="3172320"/>
                <a:ext cx="70200" cy="145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6" name="Line 544"/>
              <p:cNvSpPr/>
              <p:nvPr/>
            </p:nvSpPr>
            <p:spPr>
              <a:xfrm flipH="1" flipV="1">
                <a:off x="3101760" y="3180600"/>
                <a:ext cx="10692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7" name="Line 545"/>
              <p:cNvSpPr/>
              <p:nvPr/>
            </p:nvSpPr>
            <p:spPr>
              <a:xfrm flipH="1" flipV="1">
                <a:off x="3219840" y="3304800"/>
                <a:ext cx="58680" cy="2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8" name="Line 546"/>
              <p:cNvSpPr/>
              <p:nvPr/>
            </p:nvSpPr>
            <p:spPr>
              <a:xfrm flipH="1">
                <a:off x="3114000" y="3307320"/>
                <a:ext cx="11340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49" name="Group 547"/>
          <p:cNvGrpSpPr/>
          <p:nvPr/>
        </p:nvGrpSpPr>
        <p:grpSpPr>
          <a:xfrm>
            <a:off x="2728800" y="665280"/>
            <a:ext cx="520920" cy="509400"/>
            <a:chOff x="2728800" y="665280"/>
            <a:chExt cx="520920" cy="509400"/>
          </a:xfrm>
        </p:grpSpPr>
        <p:sp>
          <p:nvSpPr>
            <p:cNvPr id="2650" name="Oval 548"/>
            <p:cNvSpPr/>
            <p:nvPr/>
          </p:nvSpPr>
          <p:spPr>
            <a:xfrm>
              <a:off x="2943000" y="1006560"/>
              <a:ext cx="9396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1" name="Rectangle 549"/>
            <p:cNvSpPr/>
            <p:nvPr/>
          </p:nvSpPr>
          <p:spPr>
            <a:xfrm>
              <a:off x="2960640" y="853920"/>
              <a:ext cx="5868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2" name="Oval 550"/>
            <p:cNvSpPr/>
            <p:nvPr/>
          </p:nvSpPr>
          <p:spPr>
            <a:xfrm>
              <a:off x="2954160" y="846000"/>
              <a:ext cx="7632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3" name="AutoShape 551"/>
            <p:cNvSpPr/>
            <p:nvPr/>
          </p:nvSpPr>
          <p:spPr>
            <a:xfrm rot="16200000">
              <a:off x="2891520" y="662760"/>
              <a:ext cx="201600" cy="2062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54" name="Group 552"/>
            <p:cNvGrpSpPr/>
            <p:nvPr/>
          </p:nvGrpSpPr>
          <p:grpSpPr>
            <a:xfrm>
              <a:off x="3039840" y="936720"/>
              <a:ext cx="88560" cy="100080"/>
              <a:chOff x="3039840" y="936720"/>
              <a:chExt cx="88560" cy="100080"/>
            </a:xfrm>
          </p:grpSpPr>
          <p:sp>
            <p:nvSpPr>
              <p:cNvPr id="2655" name="Line 553"/>
              <p:cNvSpPr/>
              <p:nvPr/>
            </p:nvSpPr>
            <p:spPr>
              <a:xfrm flipV="1">
                <a:off x="3039840" y="940680"/>
                <a:ext cx="57600" cy="7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6" name="Line 554"/>
              <p:cNvSpPr/>
              <p:nvPr/>
            </p:nvSpPr>
            <p:spPr>
              <a:xfrm>
                <a:off x="3099600" y="936720"/>
                <a:ext cx="28800" cy="1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57" name="Line 555"/>
            <p:cNvSpPr/>
            <p:nvPr/>
          </p:nvSpPr>
          <p:spPr>
            <a:xfrm flipV="1">
              <a:off x="3038400" y="1000080"/>
              <a:ext cx="15876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8" name="Line 556"/>
            <p:cNvSpPr/>
            <p:nvPr/>
          </p:nvSpPr>
          <p:spPr>
            <a:xfrm>
              <a:off x="3184560" y="1000080"/>
              <a:ext cx="6516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9" name="Line 557"/>
            <p:cNvSpPr/>
            <p:nvPr/>
          </p:nvSpPr>
          <p:spPr>
            <a:xfrm>
              <a:off x="3021120" y="1033560"/>
              <a:ext cx="586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0" name="Line 558"/>
            <p:cNvSpPr/>
            <p:nvPr/>
          </p:nvSpPr>
          <p:spPr>
            <a:xfrm>
              <a:off x="3073320" y="1058760"/>
              <a:ext cx="3492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61" name="Group 559"/>
            <p:cNvGrpSpPr/>
            <p:nvPr/>
          </p:nvGrpSpPr>
          <p:grpSpPr>
            <a:xfrm>
              <a:off x="2728800" y="934920"/>
              <a:ext cx="228240" cy="238320"/>
              <a:chOff x="2728800" y="934920"/>
              <a:chExt cx="228240" cy="238320"/>
            </a:xfrm>
          </p:grpSpPr>
          <p:grpSp>
            <p:nvGrpSpPr>
              <p:cNvPr id="2662" name="Group 560"/>
              <p:cNvGrpSpPr/>
              <p:nvPr/>
            </p:nvGrpSpPr>
            <p:grpSpPr>
              <a:xfrm>
                <a:off x="2849040" y="934920"/>
                <a:ext cx="89640" cy="99720"/>
                <a:chOff x="2849040" y="934920"/>
                <a:chExt cx="89640" cy="99720"/>
              </a:xfrm>
            </p:grpSpPr>
            <p:sp>
              <p:nvSpPr>
                <p:cNvPr id="2663" name="Line 561"/>
                <p:cNvSpPr/>
                <p:nvPr/>
              </p:nvSpPr>
              <p:spPr>
                <a:xfrm flipH="1" flipV="1">
                  <a:off x="2880360" y="938520"/>
                  <a:ext cx="58320" cy="79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4" name="Line 562"/>
                <p:cNvSpPr/>
                <p:nvPr/>
              </p:nvSpPr>
              <p:spPr>
                <a:xfrm flipH="1">
                  <a:off x="2849040" y="934920"/>
                  <a:ext cx="29160" cy="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65" name="Line 563"/>
              <p:cNvSpPr/>
              <p:nvPr/>
            </p:nvSpPr>
            <p:spPr>
              <a:xfrm flipH="1" flipV="1">
                <a:off x="2781720" y="997920"/>
                <a:ext cx="15840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6" name="Line 564"/>
              <p:cNvSpPr/>
              <p:nvPr/>
            </p:nvSpPr>
            <p:spPr>
              <a:xfrm flipH="1">
                <a:off x="2728800" y="998280"/>
                <a:ext cx="64080" cy="8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7" name="Line 565"/>
              <p:cNvSpPr/>
              <p:nvPr/>
            </p:nvSpPr>
            <p:spPr>
              <a:xfrm flipH="1">
                <a:off x="2898720" y="1032840"/>
                <a:ext cx="5832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8" name="Line 566"/>
              <p:cNvSpPr/>
              <p:nvPr/>
            </p:nvSpPr>
            <p:spPr>
              <a:xfrm flipH="1">
                <a:off x="2869920" y="1058040"/>
                <a:ext cx="34920" cy="11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69" name="Line 567"/>
          <p:cNvSpPr/>
          <p:nvPr/>
        </p:nvSpPr>
        <p:spPr>
          <a:xfrm>
            <a:off x="4572000" y="3429000"/>
            <a:ext cx="1876320" cy="254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0" name="Line 568"/>
          <p:cNvSpPr/>
          <p:nvPr/>
        </p:nvSpPr>
        <p:spPr>
          <a:xfrm>
            <a:off x="4724280" y="3360600"/>
            <a:ext cx="2938680" cy="40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1" name="Oval 569"/>
          <p:cNvSpPr/>
          <p:nvPr/>
        </p:nvSpPr>
        <p:spPr>
          <a:xfrm>
            <a:off x="6127920" y="3767040"/>
            <a:ext cx="2665080" cy="266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72" name="Group 570"/>
          <p:cNvGrpSpPr/>
          <p:nvPr/>
        </p:nvGrpSpPr>
        <p:grpSpPr>
          <a:xfrm>
            <a:off x="6558120" y="4043160"/>
            <a:ext cx="1857960" cy="2039400"/>
            <a:chOff x="6558120" y="4043160"/>
            <a:chExt cx="1857960" cy="2039400"/>
          </a:xfrm>
        </p:grpSpPr>
        <p:sp>
          <p:nvSpPr>
            <p:cNvPr id="2673" name="Oval 571"/>
            <p:cNvSpPr/>
            <p:nvPr/>
          </p:nvSpPr>
          <p:spPr>
            <a:xfrm>
              <a:off x="7320960" y="5410080"/>
              <a:ext cx="334440" cy="114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4" name="Rectangle 572"/>
            <p:cNvSpPr/>
            <p:nvPr/>
          </p:nvSpPr>
          <p:spPr>
            <a:xfrm>
              <a:off x="7387560" y="4796280"/>
              <a:ext cx="208800" cy="662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5" name="Oval 573"/>
            <p:cNvSpPr/>
            <p:nvPr/>
          </p:nvSpPr>
          <p:spPr>
            <a:xfrm>
              <a:off x="7362000" y="4764960"/>
              <a:ext cx="272520" cy="114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6" name="AutoShape 574"/>
            <p:cNvSpPr/>
            <p:nvPr/>
          </p:nvSpPr>
          <p:spPr>
            <a:xfrm rot="16200000">
              <a:off x="7095960" y="4079160"/>
              <a:ext cx="804600" cy="732240"/>
            </a:xfrm>
            <a:prstGeom prst="hexagon">
              <a:avLst>
                <a:gd name="adj" fmla="val 27471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77" name="Group 575"/>
            <p:cNvGrpSpPr/>
            <p:nvPr/>
          </p:nvGrpSpPr>
          <p:grpSpPr>
            <a:xfrm>
              <a:off x="7665480" y="5126400"/>
              <a:ext cx="321120" cy="401040"/>
              <a:chOff x="7665480" y="5126400"/>
              <a:chExt cx="321120" cy="401040"/>
            </a:xfrm>
          </p:grpSpPr>
          <p:sp>
            <p:nvSpPr>
              <p:cNvPr id="2678" name="Line 576"/>
              <p:cNvSpPr/>
              <p:nvPr/>
            </p:nvSpPr>
            <p:spPr>
              <a:xfrm flipV="1">
                <a:off x="7665480" y="5143320"/>
                <a:ext cx="208800" cy="32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9" name="Line 577"/>
              <p:cNvSpPr/>
              <p:nvPr/>
            </p:nvSpPr>
            <p:spPr>
              <a:xfrm>
                <a:off x="7882200" y="5126400"/>
                <a:ext cx="104400" cy="40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80" name="Line 578"/>
            <p:cNvSpPr/>
            <p:nvPr/>
          </p:nvSpPr>
          <p:spPr>
            <a:xfrm flipV="1">
              <a:off x="7660800" y="5380920"/>
              <a:ext cx="565920" cy="119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1" name="Line 579"/>
            <p:cNvSpPr/>
            <p:nvPr/>
          </p:nvSpPr>
          <p:spPr>
            <a:xfrm>
              <a:off x="8186400" y="5380920"/>
              <a:ext cx="229680" cy="34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2" name="Line 580"/>
            <p:cNvSpPr/>
            <p:nvPr/>
          </p:nvSpPr>
          <p:spPr>
            <a:xfrm>
              <a:off x="7599600" y="5519880"/>
              <a:ext cx="208800" cy="119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3" name="Line 581"/>
            <p:cNvSpPr/>
            <p:nvPr/>
          </p:nvSpPr>
          <p:spPr>
            <a:xfrm>
              <a:off x="7786080" y="5620320"/>
              <a:ext cx="124920" cy="46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84" name="Group 582"/>
            <p:cNvGrpSpPr/>
            <p:nvPr/>
          </p:nvGrpSpPr>
          <p:grpSpPr>
            <a:xfrm>
              <a:off x="6558120" y="5122080"/>
              <a:ext cx="816480" cy="955080"/>
              <a:chOff x="6558120" y="5122080"/>
              <a:chExt cx="816480" cy="955080"/>
            </a:xfrm>
          </p:grpSpPr>
          <p:grpSp>
            <p:nvGrpSpPr>
              <p:cNvPr id="2685" name="Group 583"/>
              <p:cNvGrpSpPr/>
              <p:nvPr/>
            </p:nvGrpSpPr>
            <p:grpSpPr>
              <a:xfrm>
                <a:off x="6987600" y="5122080"/>
                <a:ext cx="320760" cy="400320"/>
                <a:chOff x="6987600" y="5122080"/>
                <a:chExt cx="320760" cy="400320"/>
              </a:xfrm>
            </p:grpSpPr>
            <p:sp>
              <p:nvSpPr>
                <p:cNvPr id="2686" name="Line 584"/>
                <p:cNvSpPr/>
                <p:nvPr/>
              </p:nvSpPr>
              <p:spPr>
                <a:xfrm flipH="1" flipV="1">
                  <a:off x="7100280" y="5138640"/>
                  <a:ext cx="208080" cy="320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87" name="Line 585"/>
                <p:cNvSpPr/>
                <p:nvPr/>
              </p:nvSpPr>
              <p:spPr>
                <a:xfrm flipH="1">
                  <a:off x="6987600" y="5122080"/>
                  <a:ext cx="104400" cy="400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88" name="Line 586"/>
              <p:cNvSpPr/>
              <p:nvPr/>
            </p:nvSpPr>
            <p:spPr>
              <a:xfrm flipH="1" flipV="1">
                <a:off x="6747120" y="5375880"/>
                <a:ext cx="566280" cy="12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9" name="Line 587"/>
              <p:cNvSpPr/>
              <p:nvPr/>
            </p:nvSpPr>
            <p:spPr>
              <a:xfrm flipH="1">
                <a:off x="6558120" y="5375880"/>
                <a:ext cx="229680" cy="34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0" name="Line 588"/>
              <p:cNvSpPr/>
              <p:nvPr/>
            </p:nvSpPr>
            <p:spPr>
              <a:xfrm flipH="1">
                <a:off x="7165800" y="5515560"/>
                <a:ext cx="208800" cy="11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1" name="Line 589"/>
              <p:cNvSpPr/>
              <p:nvPr/>
            </p:nvSpPr>
            <p:spPr>
              <a:xfrm flipH="1">
                <a:off x="7063560" y="5615640"/>
                <a:ext cx="124920" cy="46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92" name="Freeform 590"/>
          <p:cNvSpPr/>
          <p:nvPr/>
        </p:nvSpPr>
        <p:spPr>
          <a:xfrm>
            <a:off x="7272360" y="4176720"/>
            <a:ext cx="431640" cy="573120"/>
          </a:xfrm>
          <a:custGeom>
            <a:avLst/>
            <a:gdLst>
              <a:gd name="textAreaLeft" fmla="*/ 0 w 431640"/>
              <a:gd name="textAreaRight" fmla="*/ 432000 w 4316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272" h="361">
                <a:moveTo>
                  <a:pt x="238" y="39"/>
                </a:moveTo>
                <a:cubicBezTo>
                  <a:pt x="179" y="0"/>
                  <a:pt x="126" y="16"/>
                  <a:pt x="55" y="22"/>
                </a:cubicBezTo>
                <a:cubicBezTo>
                  <a:pt x="31" y="102"/>
                  <a:pt x="119" y="106"/>
                  <a:pt x="177" y="117"/>
                </a:cubicBezTo>
                <a:cubicBezTo>
                  <a:pt x="191" y="114"/>
                  <a:pt x="208" y="117"/>
                  <a:pt x="220" y="109"/>
                </a:cubicBezTo>
                <a:cubicBezTo>
                  <a:pt x="236" y="98"/>
                  <a:pt x="227" y="57"/>
                  <a:pt x="220" y="48"/>
                </a:cubicBezTo>
                <a:cubicBezTo>
                  <a:pt x="214" y="41"/>
                  <a:pt x="203" y="42"/>
                  <a:pt x="194" y="39"/>
                </a:cubicBezTo>
                <a:cubicBezTo>
                  <a:pt x="134" y="52"/>
                  <a:pt x="72" y="67"/>
                  <a:pt x="20" y="100"/>
                </a:cubicBezTo>
                <a:cubicBezTo>
                  <a:pt x="14" y="120"/>
                  <a:pt x="0" y="149"/>
                  <a:pt x="20" y="169"/>
                </a:cubicBezTo>
                <a:cubicBezTo>
                  <a:pt x="37" y="186"/>
                  <a:pt x="110" y="197"/>
                  <a:pt x="134" y="204"/>
                </a:cubicBezTo>
                <a:cubicBezTo>
                  <a:pt x="182" y="198"/>
                  <a:pt x="213" y="207"/>
                  <a:pt x="229" y="161"/>
                </a:cubicBezTo>
                <a:cubicBezTo>
                  <a:pt x="200" y="131"/>
                  <a:pt x="184" y="126"/>
                  <a:pt x="142" y="117"/>
                </a:cubicBezTo>
                <a:cubicBezTo>
                  <a:pt x="87" y="123"/>
                  <a:pt x="38" y="108"/>
                  <a:pt x="20" y="161"/>
                </a:cubicBezTo>
                <a:cubicBezTo>
                  <a:pt x="34" y="202"/>
                  <a:pt x="61" y="220"/>
                  <a:pt x="99" y="239"/>
                </a:cubicBezTo>
                <a:cubicBezTo>
                  <a:pt x="144" y="284"/>
                  <a:pt x="152" y="274"/>
                  <a:pt x="220" y="265"/>
                </a:cubicBezTo>
                <a:cubicBezTo>
                  <a:pt x="226" y="259"/>
                  <a:pt x="238" y="256"/>
                  <a:pt x="238" y="248"/>
                </a:cubicBezTo>
                <a:cubicBezTo>
                  <a:pt x="238" y="223"/>
                  <a:pt x="144" y="215"/>
                  <a:pt x="134" y="213"/>
                </a:cubicBezTo>
                <a:cubicBezTo>
                  <a:pt x="92" y="220"/>
                  <a:pt x="66" y="218"/>
                  <a:pt x="38" y="248"/>
                </a:cubicBezTo>
                <a:cubicBezTo>
                  <a:pt x="28" y="277"/>
                  <a:pt x="23" y="316"/>
                  <a:pt x="55" y="335"/>
                </a:cubicBezTo>
                <a:cubicBezTo>
                  <a:pt x="79" y="349"/>
                  <a:pt x="134" y="361"/>
                  <a:pt x="134" y="361"/>
                </a:cubicBezTo>
                <a:cubicBezTo>
                  <a:pt x="229" y="341"/>
                  <a:pt x="192" y="351"/>
                  <a:pt x="247" y="335"/>
                </a:cubicBezTo>
                <a:cubicBezTo>
                  <a:pt x="257" y="303"/>
                  <a:pt x="272" y="282"/>
                  <a:pt x="255" y="248"/>
                </a:cubicBezTo>
                <a:cubicBezTo>
                  <a:pt x="248" y="233"/>
                  <a:pt x="212" y="222"/>
                  <a:pt x="212" y="22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3" name="Text Box 591"/>
          <p:cNvSpPr/>
          <p:nvPr/>
        </p:nvSpPr>
        <p:spPr>
          <a:xfrm>
            <a:off x="58680" y="4665600"/>
            <a:ext cx="55404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fago trasducente (1/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lla popolazione virale) può infettare un altro batterio ma non iniziare un normale ciclo di infezione in quanto il DNA virale è assente (particella difettiv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4" name="Group 74"/>
          <p:cNvGrpSpPr/>
          <p:nvPr/>
        </p:nvGrpSpPr>
        <p:grpSpPr>
          <a:xfrm>
            <a:off x="4307040" y="3940200"/>
            <a:ext cx="4460760" cy="2332080"/>
            <a:chOff x="4307040" y="3940200"/>
            <a:chExt cx="4460760" cy="2332080"/>
          </a:xfrm>
        </p:grpSpPr>
        <p:sp>
          <p:nvSpPr>
            <p:cNvPr id="2695" name="AutoShape 70"/>
            <p:cNvSpPr/>
            <p:nvPr/>
          </p:nvSpPr>
          <p:spPr>
            <a:xfrm>
              <a:off x="4307040" y="3940200"/>
              <a:ext cx="4460760" cy="233208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6" name="AutoShape 71"/>
            <p:cNvSpPr/>
            <p:nvPr/>
          </p:nvSpPr>
          <p:spPr>
            <a:xfrm>
              <a:off x="4427640" y="4070520"/>
              <a:ext cx="4203720" cy="207000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7" name="AutoShape 72"/>
            <p:cNvSpPr/>
            <p:nvPr/>
          </p:nvSpPr>
          <p:spPr>
            <a:xfrm>
              <a:off x="4470480" y="4108680"/>
              <a:ext cx="4108320" cy="197784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98" name="Group 2"/>
          <p:cNvGrpSpPr/>
          <p:nvPr/>
        </p:nvGrpSpPr>
        <p:grpSpPr>
          <a:xfrm>
            <a:off x="3010320" y="200160"/>
            <a:ext cx="1051560" cy="1167840"/>
            <a:chOff x="3010320" y="200160"/>
            <a:chExt cx="1051560" cy="1167840"/>
          </a:xfrm>
        </p:grpSpPr>
        <p:sp>
          <p:nvSpPr>
            <p:cNvPr id="2699" name="Oval 3"/>
            <p:cNvSpPr/>
            <p:nvPr/>
          </p:nvSpPr>
          <p:spPr>
            <a:xfrm>
              <a:off x="3441960" y="982800"/>
              <a:ext cx="189360" cy="65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0" name="Rectangle 4"/>
            <p:cNvSpPr/>
            <p:nvPr/>
          </p:nvSpPr>
          <p:spPr>
            <a:xfrm>
              <a:off x="3479400" y="631440"/>
              <a:ext cx="118080" cy="3794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1" name="Oval 5"/>
            <p:cNvSpPr/>
            <p:nvPr/>
          </p:nvSpPr>
          <p:spPr>
            <a:xfrm>
              <a:off x="3465000" y="613080"/>
              <a:ext cx="154080" cy="65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2" name="AutoShape 6"/>
            <p:cNvSpPr/>
            <p:nvPr/>
          </p:nvSpPr>
          <p:spPr>
            <a:xfrm rot="16200000">
              <a:off x="3311640" y="223200"/>
              <a:ext cx="460800" cy="414360"/>
            </a:xfrm>
            <a:prstGeom prst="hexagon">
              <a:avLst>
                <a:gd name="adj" fmla="val 27802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03" name="Group 7"/>
            <p:cNvGrpSpPr/>
            <p:nvPr/>
          </p:nvGrpSpPr>
          <p:grpSpPr>
            <a:xfrm>
              <a:off x="3637080" y="820440"/>
              <a:ext cx="181800" cy="229680"/>
              <a:chOff x="3637080" y="820440"/>
              <a:chExt cx="181800" cy="229680"/>
            </a:xfrm>
          </p:grpSpPr>
          <p:sp>
            <p:nvSpPr>
              <p:cNvPr id="2704" name="Line 8"/>
              <p:cNvSpPr/>
              <p:nvPr/>
            </p:nvSpPr>
            <p:spPr>
              <a:xfrm flipV="1">
                <a:off x="3637080" y="830160"/>
                <a:ext cx="118080" cy="183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5" name="Line 9"/>
              <p:cNvSpPr/>
              <p:nvPr/>
            </p:nvSpPr>
            <p:spPr>
              <a:xfrm>
                <a:off x="3759840" y="820440"/>
                <a:ext cx="59040" cy="22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06" name="Line 10"/>
            <p:cNvSpPr/>
            <p:nvPr/>
          </p:nvSpPr>
          <p:spPr>
            <a:xfrm flipV="1">
              <a:off x="3634200" y="966240"/>
              <a:ext cx="32040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7" name="Line 11"/>
            <p:cNvSpPr/>
            <p:nvPr/>
          </p:nvSpPr>
          <p:spPr>
            <a:xfrm>
              <a:off x="3931920" y="966240"/>
              <a:ext cx="129960" cy="19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8" name="Line 12"/>
            <p:cNvSpPr/>
            <p:nvPr/>
          </p:nvSpPr>
          <p:spPr>
            <a:xfrm>
              <a:off x="3599640" y="1045800"/>
              <a:ext cx="11808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9" name="Line 13"/>
            <p:cNvSpPr/>
            <p:nvPr/>
          </p:nvSpPr>
          <p:spPr>
            <a:xfrm>
              <a:off x="3705120" y="1103400"/>
              <a:ext cx="70560" cy="26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10" name="Group 14"/>
            <p:cNvGrpSpPr/>
            <p:nvPr/>
          </p:nvGrpSpPr>
          <p:grpSpPr>
            <a:xfrm>
              <a:off x="3010320" y="817920"/>
              <a:ext cx="461880" cy="547200"/>
              <a:chOff x="3010320" y="817920"/>
              <a:chExt cx="461880" cy="547200"/>
            </a:xfrm>
          </p:grpSpPr>
          <p:grpSp>
            <p:nvGrpSpPr>
              <p:cNvPr id="2711" name="Group 15"/>
              <p:cNvGrpSpPr/>
              <p:nvPr/>
            </p:nvGrpSpPr>
            <p:grpSpPr>
              <a:xfrm>
                <a:off x="3253320" y="817920"/>
                <a:ext cx="181440" cy="229320"/>
                <a:chOff x="3253320" y="817920"/>
                <a:chExt cx="181440" cy="229320"/>
              </a:xfrm>
            </p:grpSpPr>
            <p:sp>
              <p:nvSpPr>
                <p:cNvPr id="2712" name="Line 16"/>
                <p:cNvSpPr/>
                <p:nvPr/>
              </p:nvSpPr>
              <p:spPr>
                <a:xfrm flipH="1" flipV="1">
                  <a:off x="3317040" y="827280"/>
                  <a:ext cx="117720" cy="18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13" name="Line 17"/>
                <p:cNvSpPr/>
                <p:nvPr/>
              </p:nvSpPr>
              <p:spPr>
                <a:xfrm flipH="1">
                  <a:off x="3253320" y="817920"/>
                  <a:ext cx="59040" cy="229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714" name="Line 18"/>
              <p:cNvSpPr/>
              <p:nvPr/>
            </p:nvSpPr>
            <p:spPr>
              <a:xfrm flipH="1" flipV="1">
                <a:off x="3117240" y="963000"/>
                <a:ext cx="320400" cy="6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5" name="Line 19"/>
              <p:cNvSpPr/>
              <p:nvPr/>
            </p:nvSpPr>
            <p:spPr>
              <a:xfrm flipH="1">
                <a:off x="3010320" y="963360"/>
                <a:ext cx="129960" cy="19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6" name="Line 20"/>
              <p:cNvSpPr/>
              <p:nvPr/>
            </p:nvSpPr>
            <p:spPr>
              <a:xfrm flipH="1">
                <a:off x="3354120" y="1043280"/>
                <a:ext cx="118080" cy="68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7" name="Line 21"/>
              <p:cNvSpPr/>
              <p:nvPr/>
            </p:nvSpPr>
            <p:spPr>
              <a:xfrm flipH="1">
                <a:off x="3296160" y="1100880"/>
                <a:ext cx="70560" cy="26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18" name="AutoShape 23"/>
          <p:cNvSpPr/>
          <p:nvPr/>
        </p:nvSpPr>
        <p:spPr>
          <a:xfrm>
            <a:off x="538200" y="1096920"/>
            <a:ext cx="4460760" cy="2332080"/>
          </a:xfrm>
          <a:prstGeom prst="roundRect">
            <a:avLst>
              <a:gd name="adj" fmla="val 4285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9" name="AutoShape 24"/>
          <p:cNvSpPr/>
          <p:nvPr/>
        </p:nvSpPr>
        <p:spPr>
          <a:xfrm>
            <a:off x="658800" y="1227240"/>
            <a:ext cx="4203720" cy="2070000"/>
          </a:xfrm>
          <a:prstGeom prst="roundRect">
            <a:avLst>
              <a:gd name="adj" fmla="val 4192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0" name="AutoShape 25"/>
          <p:cNvSpPr/>
          <p:nvPr/>
        </p:nvSpPr>
        <p:spPr>
          <a:xfrm>
            <a:off x="701640" y="1265400"/>
            <a:ext cx="4108320" cy="1977840"/>
          </a:xfrm>
          <a:prstGeom prst="roundRect">
            <a:avLst>
              <a:gd name="adj" fmla="val 41926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1" name="Freeform 26"/>
          <p:cNvSpPr/>
          <p:nvPr/>
        </p:nvSpPr>
        <p:spPr>
          <a:xfrm>
            <a:off x="1521000" y="2058840"/>
            <a:ext cx="2782800" cy="809640"/>
          </a:xfrm>
          <a:custGeom>
            <a:avLst/>
            <a:gdLst>
              <a:gd name="textAreaLeft" fmla="*/ 0 w 2782800"/>
              <a:gd name="textAreaRight" fmla="*/ 2782800 w 278280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927" h="578">
                <a:moveTo>
                  <a:pt x="996" y="195"/>
                </a:moveTo>
                <a:cubicBezTo>
                  <a:pt x="973" y="201"/>
                  <a:pt x="948" y="201"/>
                  <a:pt x="927" y="213"/>
                </a:cubicBezTo>
                <a:cubicBezTo>
                  <a:pt x="906" y="225"/>
                  <a:pt x="894" y="249"/>
                  <a:pt x="875" y="265"/>
                </a:cubicBezTo>
                <a:cubicBezTo>
                  <a:pt x="825" y="308"/>
                  <a:pt x="803" y="313"/>
                  <a:pt x="770" y="361"/>
                </a:cubicBezTo>
                <a:cubicBezTo>
                  <a:pt x="756" y="471"/>
                  <a:pt x="779" y="499"/>
                  <a:pt x="883" y="526"/>
                </a:cubicBezTo>
                <a:cubicBezTo>
                  <a:pt x="1054" y="519"/>
                  <a:pt x="1094" y="518"/>
                  <a:pt x="1231" y="482"/>
                </a:cubicBezTo>
                <a:cubicBezTo>
                  <a:pt x="1265" y="449"/>
                  <a:pt x="1260" y="388"/>
                  <a:pt x="1266" y="343"/>
                </a:cubicBezTo>
                <a:cubicBezTo>
                  <a:pt x="1251" y="255"/>
                  <a:pt x="1235" y="152"/>
                  <a:pt x="1136" y="126"/>
                </a:cubicBezTo>
                <a:cubicBezTo>
                  <a:pt x="1008" y="135"/>
                  <a:pt x="1006" y="111"/>
                  <a:pt x="962" y="213"/>
                </a:cubicBezTo>
                <a:cubicBezTo>
                  <a:pt x="958" y="240"/>
                  <a:pt x="940" y="337"/>
                  <a:pt x="962" y="361"/>
                </a:cubicBezTo>
                <a:cubicBezTo>
                  <a:pt x="982" y="383"/>
                  <a:pt x="1019" y="382"/>
                  <a:pt x="1049" y="387"/>
                </a:cubicBezTo>
                <a:cubicBezTo>
                  <a:pt x="1112" y="397"/>
                  <a:pt x="1176" y="398"/>
                  <a:pt x="1240" y="404"/>
                </a:cubicBezTo>
                <a:cubicBezTo>
                  <a:pt x="1275" y="407"/>
                  <a:pt x="1344" y="413"/>
                  <a:pt x="1344" y="413"/>
                </a:cubicBezTo>
                <a:cubicBezTo>
                  <a:pt x="1367" y="410"/>
                  <a:pt x="1396" y="420"/>
                  <a:pt x="1414" y="404"/>
                </a:cubicBezTo>
                <a:cubicBezTo>
                  <a:pt x="1432" y="388"/>
                  <a:pt x="1430" y="359"/>
                  <a:pt x="1431" y="335"/>
                </a:cubicBezTo>
                <a:cubicBezTo>
                  <a:pt x="1433" y="257"/>
                  <a:pt x="1426" y="178"/>
                  <a:pt x="1423" y="100"/>
                </a:cubicBezTo>
                <a:cubicBezTo>
                  <a:pt x="1403" y="106"/>
                  <a:pt x="1380" y="105"/>
                  <a:pt x="1362" y="117"/>
                </a:cubicBezTo>
                <a:cubicBezTo>
                  <a:pt x="1345" y="129"/>
                  <a:pt x="1318" y="161"/>
                  <a:pt x="1318" y="161"/>
                </a:cubicBezTo>
                <a:cubicBezTo>
                  <a:pt x="1304" y="220"/>
                  <a:pt x="1266" y="319"/>
                  <a:pt x="1344" y="343"/>
                </a:cubicBezTo>
                <a:cubicBezTo>
                  <a:pt x="1384" y="371"/>
                  <a:pt x="1437" y="391"/>
                  <a:pt x="1484" y="404"/>
                </a:cubicBezTo>
                <a:cubicBezTo>
                  <a:pt x="1530" y="416"/>
                  <a:pt x="1623" y="439"/>
                  <a:pt x="1623" y="439"/>
                </a:cubicBezTo>
                <a:cubicBezTo>
                  <a:pt x="1634" y="422"/>
                  <a:pt x="1647" y="405"/>
                  <a:pt x="1657" y="387"/>
                </a:cubicBezTo>
                <a:cubicBezTo>
                  <a:pt x="1670" y="364"/>
                  <a:pt x="1692" y="317"/>
                  <a:pt x="1692" y="317"/>
                </a:cubicBezTo>
                <a:cubicBezTo>
                  <a:pt x="1672" y="194"/>
                  <a:pt x="1692" y="210"/>
                  <a:pt x="1588" y="195"/>
                </a:cubicBezTo>
                <a:cubicBezTo>
                  <a:pt x="1554" y="184"/>
                  <a:pt x="1536" y="195"/>
                  <a:pt x="1501" y="204"/>
                </a:cubicBezTo>
                <a:cubicBezTo>
                  <a:pt x="1485" y="237"/>
                  <a:pt x="1475" y="265"/>
                  <a:pt x="1466" y="300"/>
                </a:cubicBezTo>
                <a:cubicBezTo>
                  <a:pt x="1469" y="323"/>
                  <a:pt x="1468" y="347"/>
                  <a:pt x="1475" y="369"/>
                </a:cubicBezTo>
                <a:cubicBezTo>
                  <a:pt x="1491" y="424"/>
                  <a:pt x="1589" y="432"/>
                  <a:pt x="1631" y="439"/>
                </a:cubicBezTo>
                <a:cubicBezTo>
                  <a:pt x="1693" y="434"/>
                  <a:pt x="1826" y="444"/>
                  <a:pt x="1875" y="395"/>
                </a:cubicBezTo>
                <a:cubicBezTo>
                  <a:pt x="1902" y="324"/>
                  <a:pt x="1927" y="290"/>
                  <a:pt x="1884" y="204"/>
                </a:cubicBezTo>
                <a:cubicBezTo>
                  <a:pt x="1871" y="178"/>
                  <a:pt x="1836" y="172"/>
                  <a:pt x="1814" y="152"/>
                </a:cubicBezTo>
                <a:cubicBezTo>
                  <a:pt x="1655" y="8"/>
                  <a:pt x="1758" y="36"/>
                  <a:pt x="1605" y="22"/>
                </a:cubicBezTo>
                <a:cubicBezTo>
                  <a:pt x="1565" y="25"/>
                  <a:pt x="1522" y="17"/>
                  <a:pt x="1484" y="30"/>
                </a:cubicBezTo>
                <a:cubicBezTo>
                  <a:pt x="1461" y="38"/>
                  <a:pt x="1431" y="82"/>
                  <a:pt x="1431" y="82"/>
                </a:cubicBezTo>
                <a:cubicBezTo>
                  <a:pt x="1410" y="148"/>
                  <a:pt x="1401" y="217"/>
                  <a:pt x="1379" y="282"/>
                </a:cubicBezTo>
                <a:cubicBezTo>
                  <a:pt x="1393" y="337"/>
                  <a:pt x="1402" y="324"/>
                  <a:pt x="1457" y="335"/>
                </a:cubicBezTo>
                <a:cubicBezTo>
                  <a:pt x="1505" y="319"/>
                  <a:pt x="1546" y="315"/>
                  <a:pt x="1475" y="213"/>
                </a:cubicBezTo>
                <a:cubicBezTo>
                  <a:pt x="1458" y="188"/>
                  <a:pt x="1418" y="194"/>
                  <a:pt x="1388" y="187"/>
                </a:cubicBezTo>
                <a:cubicBezTo>
                  <a:pt x="1356" y="180"/>
                  <a:pt x="1234" y="171"/>
                  <a:pt x="1214" y="169"/>
                </a:cubicBezTo>
                <a:cubicBezTo>
                  <a:pt x="1136" y="175"/>
                  <a:pt x="1054" y="162"/>
                  <a:pt x="979" y="187"/>
                </a:cubicBezTo>
                <a:cubicBezTo>
                  <a:pt x="956" y="195"/>
                  <a:pt x="957" y="232"/>
                  <a:pt x="953" y="256"/>
                </a:cubicBezTo>
                <a:cubicBezTo>
                  <a:pt x="946" y="296"/>
                  <a:pt x="947" y="337"/>
                  <a:pt x="944" y="378"/>
                </a:cubicBezTo>
                <a:cubicBezTo>
                  <a:pt x="1015" y="445"/>
                  <a:pt x="1010" y="372"/>
                  <a:pt x="1031" y="335"/>
                </a:cubicBezTo>
                <a:cubicBezTo>
                  <a:pt x="1045" y="310"/>
                  <a:pt x="1066" y="288"/>
                  <a:pt x="1083" y="265"/>
                </a:cubicBezTo>
                <a:cubicBezTo>
                  <a:pt x="1092" y="220"/>
                  <a:pt x="1131" y="71"/>
                  <a:pt x="1092" y="39"/>
                </a:cubicBezTo>
                <a:cubicBezTo>
                  <a:pt x="1045" y="0"/>
                  <a:pt x="910" y="22"/>
                  <a:pt x="910" y="22"/>
                </a:cubicBezTo>
                <a:cubicBezTo>
                  <a:pt x="838" y="30"/>
                  <a:pt x="802" y="22"/>
                  <a:pt x="753" y="74"/>
                </a:cubicBezTo>
                <a:cubicBezTo>
                  <a:pt x="746" y="102"/>
                  <a:pt x="710" y="207"/>
                  <a:pt x="753" y="230"/>
                </a:cubicBezTo>
                <a:cubicBezTo>
                  <a:pt x="787" y="248"/>
                  <a:pt x="828" y="219"/>
                  <a:pt x="866" y="213"/>
                </a:cubicBezTo>
                <a:cubicBezTo>
                  <a:pt x="852" y="40"/>
                  <a:pt x="872" y="80"/>
                  <a:pt x="675" y="91"/>
                </a:cubicBezTo>
                <a:cubicBezTo>
                  <a:pt x="624" y="140"/>
                  <a:pt x="623" y="196"/>
                  <a:pt x="614" y="265"/>
                </a:cubicBezTo>
                <a:cubicBezTo>
                  <a:pt x="625" y="331"/>
                  <a:pt x="619" y="334"/>
                  <a:pt x="683" y="317"/>
                </a:cubicBezTo>
                <a:cubicBezTo>
                  <a:pt x="686" y="288"/>
                  <a:pt x="694" y="259"/>
                  <a:pt x="692" y="230"/>
                </a:cubicBezTo>
                <a:cubicBezTo>
                  <a:pt x="686" y="132"/>
                  <a:pt x="550" y="126"/>
                  <a:pt x="483" y="117"/>
                </a:cubicBezTo>
                <a:cubicBezTo>
                  <a:pt x="459" y="119"/>
                  <a:pt x="352" y="123"/>
                  <a:pt x="336" y="143"/>
                </a:cubicBezTo>
                <a:cubicBezTo>
                  <a:pt x="321" y="162"/>
                  <a:pt x="324" y="190"/>
                  <a:pt x="318" y="213"/>
                </a:cubicBezTo>
                <a:cubicBezTo>
                  <a:pt x="321" y="256"/>
                  <a:pt x="310" y="303"/>
                  <a:pt x="327" y="343"/>
                </a:cubicBezTo>
                <a:cubicBezTo>
                  <a:pt x="333" y="356"/>
                  <a:pt x="360" y="345"/>
                  <a:pt x="370" y="335"/>
                </a:cubicBezTo>
                <a:cubicBezTo>
                  <a:pt x="383" y="322"/>
                  <a:pt x="382" y="300"/>
                  <a:pt x="388" y="282"/>
                </a:cubicBezTo>
                <a:cubicBezTo>
                  <a:pt x="396" y="213"/>
                  <a:pt x="431" y="65"/>
                  <a:pt x="370" y="4"/>
                </a:cubicBezTo>
                <a:cubicBezTo>
                  <a:pt x="337" y="54"/>
                  <a:pt x="319" y="70"/>
                  <a:pt x="301" y="126"/>
                </a:cubicBezTo>
                <a:cubicBezTo>
                  <a:pt x="301" y="126"/>
                  <a:pt x="281" y="268"/>
                  <a:pt x="301" y="300"/>
                </a:cubicBezTo>
                <a:cubicBezTo>
                  <a:pt x="308" y="311"/>
                  <a:pt x="324" y="311"/>
                  <a:pt x="336" y="317"/>
                </a:cubicBezTo>
                <a:cubicBezTo>
                  <a:pt x="375" y="309"/>
                  <a:pt x="427" y="313"/>
                  <a:pt x="362" y="239"/>
                </a:cubicBezTo>
                <a:cubicBezTo>
                  <a:pt x="303" y="172"/>
                  <a:pt x="187" y="119"/>
                  <a:pt x="101" y="108"/>
                </a:cubicBezTo>
                <a:cubicBezTo>
                  <a:pt x="53" y="93"/>
                  <a:pt x="51" y="108"/>
                  <a:pt x="40" y="152"/>
                </a:cubicBezTo>
                <a:cubicBezTo>
                  <a:pt x="47" y="255"/>
                  <a:pt x="27" y="324"/>
                  <a:pt x="136" y="352"/>
                </a:cubicBezTo>
                <a:cubicBezTo>
                  <a:pt x="188" y="349"/>
                  <a:pt x="240" y="349"/>
                  <a:pt x="292" y="343"/>
                </a:cubicBezTo>
                <a:cubicBezTo>
                  <a:pt x="310" y="341"/>
                  <a:pt x="333" y="341"/>
                  <a:pt x="344" y="326"/>
                </a:cubicBezTo>
                <a:cubicBezTo>
                  <a:pt x="365" y="296"/>
                  <a:pt x="379" y="222"/>
                  <a:pt x="379" y="222"/>
                </a:cubicBezTo>
                <a:cubicBezTo>
                  <a:pt x="376" y="213"/>
                  <a:pt x="379" y="196"/>
                  <a:pt x="370" y="195"/>
                </a:cubicBezTo>
                <a:cubicBezTo>
                  <a:pt x="357" y="194"/>
                  <a:pt x="267" y="224"/>
                  <a:pt x="249" y="230"/>
                </a:cubicBezTo>
                <a:cubicBezTo>
                  <a:pt x="244" y="245"/>
                  <a:pt x="205" y="324"/>
                  <a:pt x="231" y="343"/>
                </a:cubicBezTo>
                <a:cubicBezTo>
                  <a:pt x="249" y="356"/>
                  <a:pt x="339" y="373"/>
                  <a:pt x="353" y="378"/>
                </a:cubicBezTo>
                <a:cubicBezTo>
                  <a:pt x="545" y="447"/>
                  <a:pt x="401" y="424"/>
                  <a:pt x="579" y="439"/>
                </a:cubicBezTo>
                <a:cubicBezTo>
                  <a:pt x="608" y="436"/>
                  <a:pt x="638" y="437"/>
                  <a:pt x="666" y="430"/>
                </a:cubicBezTo>
                <a:cubicBezTo>
                  <a:pt x="702" y="422"/>
                  <a:pt x="770" y="395"/>
                  <a:pt x="770" y="395"/>
                </a:cubicBezTo>
                <a:cubicBezTo>
                  <a:pt x="787" y="329"/>
                  <a:pt x="811" y="250"/>
                  <a:pt x="744" y="204"/>
                </a:cubicBezTo>
                <a:cubicBezTo>
                  <a:pt x="712" y="210"/>
                  <a:pt x="676" y="205"/>
                  <a:pt x="649" y="222"/>
                </a:cubicBezTo>
                <a:cubicBezTo>
                  <a:pt x="641" y="227"/>
                  <a:pt x="619" y="324"/>
                  <a:pt x="614" y="343"/>
                </a:cubicBezTo>
                <a:cubicBezTo>
                  <a:pt x="627" y="379"/>
                  <a:pt x="618" y="379"/>
                  <a:pt x="675" y="378"/>
                </a:cubicBezTo>
                <a:cubicBezTo>
                  <a:pt x="785" y="376"/>
                  <a:pt x="895" y="367"/>
                  <a:pt x="1005" y="361"/>
                </a:cubicBezTo>
                <a:cubicBezTo>
                  <a:pt x="1088" y="278"/>
                  <a:pt x="1041" y="179"/>
                  <a:pt x="979" y="100"/>
                </a:cubicBezTo>
                <a:cubicBezTo>
                  <a:pt x="974" y="94"/>
                  <a:pt x="970" y="84"/>
                  <a:pt x="962" y="82"/>
                </a:cubicBezTo>
                <a:cubicBezTo>
                  <a:pt x="939" y="75"/>
                  <a:pt x="915" y="77"/>
                  <a:pt x="892" y="74"/>
                </a:cubicBezTo>
                <a:cubicBezTo>
                  <a:pt x="689" y="83"/>
                  <a:pt x="690" y="34"/>
                  <a:pt x="675" y="195"/>
                </a:cubicBezTo>
                <a:cubicBezTo>
                  <a:pt x="681" y="224"/>
                  <a:pt x="676" y="257"/>
                  <a:pt x="692" y="282"/>
                </a:cubicBezTo>
                <a:cubicBezTo>
                  <a:pt x="737" y="354"/>
                  <a:pt x="860" y="388"/>
                  <a:pt x="936" y="395"/>
                </a:cubicBezTo>
                <a:cubicBezTo>
                  <a:pt x="1244" y="381"/>
                  <a:pt x="1325" y="449"/>
                  <a:pt x="1492" y="239"/>
                </a:cubicBezTo>
                <a:cubicBezTo>
                  <a:pt x="1501" y="188"/>
                  <a:pt x="1517" y="170"/>
                  <a:pt x="1466" y="152"/>
                </a:cubicBezTo>
                <a:cubicBezTo>
                  <a:pt x="1457" y="155"/>
                  <a:pt x="1445" y="153"/>
                  <a:pt x="1440" y="161"/>
                </a:cubicBezTo>
                <a:cubicBezTo>
                  <a:pt x="1431" y="176"/>
                  <a:pt x="1431" y="195"/>
                  <a:pt x="1431" y="213"/>
                </a:cubicBezTo>
                <a:cubicBezTo>
                  <a:pt x="1431" y="259"/>
                  <a:pt x="1421" y="310"/>
                  <a:pt x="1440" y="352"/>
                </a:cubicBezTo>
                <a:cubicBezTo>
                  <a:pt x="1451" y="376"/>
                  <a:pt x="1485" y="378"/>
                  <a:pt x="1510" y="387"/>
                </a:cubicBezTo>
                <a:cubicBezTo>
                  <a:pt x="1573" y="409"/>
                  <a:pt x="1652" y="413"/>
                  <a:pt x="1718" y="422"/>
                </a:cubicBezTo>
                <a:cubicBezTo>
                  <a:pt x="1727" y="416"/>
                  <a:pt x="1741" y="414"/>
                  <a:pt x="1744" y="404"/>
                </a:cubicBezTo>
                <a:cubicBezTo>
                  <a:pt x="1760" y="355"/>
                  <a:pt x="1751" y="229"/>
                  <a:pt x="1736" y="178"/>
                </a:cubicBezTo>
                <a:cubicBezTo>
                  <a:pt x="1731" y="162"/>
                  <a:pt x="1712" y="155"/>
                  <a:pt x="1701" y="143"/>
                </a:cubicBezTo>
                <a:cubicBezTo>
                  <a:pt x="1564" y="153"/>
                  <a:pt x="1522" y="151"/>
                  <a:pt x="1405" y="222"/>
                </a:cubicBezTo>
                <a:cubicBezTo>
                  <a:pt x="1381" y="258"/>
                  <a:pt x="1359" y="284"/>
                  <a:pt x="1344" y="326"/>
                </a:cubicBezTo>
                <a:cubicBezTo>
                  <a:pt x="1364" y="473"/>
                  <a:pt x="1328" y="476"/>
                  <a:pt x="1457" y="491"/>
                </a:cubicBezTo>
                <a:cubicBezTo>
                  <a:pt x="1546" y="473"/>
                  <a:pt x="1538" y="405"/>
                  <a:pt x="1553" y="326"/>
                </a:cubicBezTo>
                <a:cubicBezTo>
                  <a:pt x="1550" y="253"/>
                  <a:pt x="1557" y="180"/>
                  <a:pt x="1544" y="108"/>
                </a:cubicBezTo>
                <a:cubicBezTo>
                  <a:pt x="1542" y="94"/>
                  <a:pt x="1523" y="88"/>
                  <a:pt x="1510" y="82"/>
                </a:cubicBezTo>
                <a:cubicBezTo>
                  <a:pt x="1453" y="54"/>
                  <a:pt x="1380" y="55"/>
                  <a:pt x="1318" y="48"/>
                </a:cubicBezTo>
                <a:cubicBezTo>
                  <a:pt x="1209" y="20"/>
                  <a:pt x="1164" y="36"/>
                  <a:pt x="1092" y="108"/>
                </a:cubicBezTo>
                <a:cubicBezTo>
                  <a:pt x="1064" y="194"/>
                  <a:pt x="1043" y="280"/>
                  <a:pt x="1031" y="369"/>
                </a:cubicBezTo>
                <a:cubicBezTo>
                  <a:pt x="1034" y="387"/>
                  <a:pt x="1027" y="409"/>
                  <a:pt x="1040" y="422"/>
                </a:cubicBezTo>
                <a:cubicBezTo>
                  <a:pt x="1057" y="439"/>
                  <a:pt x="1085" y="403"/>
                  <a:pt x="1092" y="395"/>
                </a:cubicBezTo>
                <a:cubicBezTo>
                  <a:pt x="1099" y="341"/>
                  <a:pt x="1115" y="251"/>
                  <a:pt x="1092" y="204"/>
                </a:cubicBezTo>
                <a:cubicBezTo>
                  <a:pt x="1081" y="181"/>
                  <a:pt x="1045" y="183"/>
                  <a:pt x="1023" y="169"/>
                </a:cubicBezTo>
                <a:cubicBezTo>
                  <a:pt x="951" y="124"/>
                  <a:pt x="901" y="71"/>
                  <a:pt x="814" y="56"/>
                </a:cubicBezTo>
                <a:cubicBezTo>
                  <a:pt x="674" y="74"/>
                  <a:pt x="597" y="87"/>
                  <a:pt x="483" y="195"/>
                </a:cubicBezTo>
                <a:cubicBezTo>
                  <a:pt x="477" y="213"/>
                  <a:pt x="471" y="230"/>
                  <a:pt x="466" y="248"/>
                </a:cubicBezTo>
                <a:cubicBezTo>
                  <a:pt x="454" y="294"/>
                  <a:pt x="431" y="387"/>
                  <a:pt x="431" y="387"/>
                </a:cubicBezTo>
                <a:cubicBezTo>
                  <a:pt x="419" y="490"/>
                  <a:pt x="419" y="482"/>
                  <a:pt x="518" y="456"/>
                </a:cubicBezTo>
                <a:cubicBezTo>
                  <a:pt x="535" y="439"/>
                  <a:pt x="550" y="417"/>
                  <a:pt x="570" y="404"/>
                </a:cubicBezTo>
                <a:cubicBezTo>
                  <a:pt x="586" y="394"/>
                  <a:pt x="612" y="402"/>
                  <a:pt x="623" y="387"/>
                </a:cubicBezTo>
                <a:cubicBezTo>
                  <a:pt x="636" y="369"/>
                  <a:pt x="666" y="247"/>
                  <a:pt x="675" y="213"/>
                </a:cubicBezTo>
                <a:cubicBezTo>
                  <a:pt x="678" y="190"/>
                  <a:pt x="683" y="166"/>
                  <a:pt x="683" y="143"/>
                </a:cubicBezTo>
                <a:cubicBezTo>
                  <a:pt x="683" y="71"/>
                  <a:pt x="586" y="69"/>
                  <a:pt x="536" y="56"/>
                </a:cubicBezTo>
                <a:cubicBezTo>
                  <a:pt x="455" y="59"/>
                  <a:pt x="373" y="60"/>
                  <a:pt x="292" y="65"/>
                </a:cubicBezTo>
                <a:cubicBezTo>
                  <a:pt x="238" y="68"/>
                  <a:pt x="136" y="108"/>
                  <a:pt x="136" y="108"/>
                </a:cubicBezTo>
                <a:cubicBezTo>
                  <a:pt x="115" y="170"/>
                  <a:pt x="91" y="235"/>
                  <a:pt x="127" y="300"/>
                </a:cubicBezTo>
                <a:cubicBezTo>
                  <a:pt x="143" y="328"/>
                  <a:pt x="169" y="351"/>
                  <a:pt x="196" y="369"/>
                </a:cubicBezTo>
                <a:cubicBezTo>
                  <a:pt x="219" y="384"/>
                  <a:pt x="275" y="395"/>
                  <a:pt x="275" y="395"/>
                </a:cubicBezTo>
                <a:cubicBezTo>
                  <a:pt x="326" y="369"/>
                  <a:pt x="325" y="367"/>
                  <a:pt x="344" y="308"/>
                </a:cubicBezTo>
                <a:cubicBezTo>
                  <a:pt x="351" y="253"/>
                  <a:pt x="369" y="188"/>
                  <a:pt x="327" y="143"/>
                </a:cubicBezTo>
                <a:cubicBezTo>
                  <a:pt x="238" y="147"/>
                  <a:pt x="113" y="105"/>
                  <a:pt x="57" y="187"/>
                </a:cubicBezTo>
                <a:cubicBezTo>
                  <a:pt x="45" y="278"/>
                  <a:pt x="0" y="422"/>
                  <a:pt x="109" y="456"/>
                </a:cubicBezTo>
                <a:cubicBezTo>
                  <a:pt x="218" y="450"/>
                  <a:pt x="348" y="461"/>
                  <a:pt x="431" y="378"/>
                </a:cubicBezTo>
                <a:cubicBezTo>
                  <a:pt x="442" y="314"/>
                  <a:pt x="445" y="181"/>
                  <a:pt x="396" y="135"/>
                </a:cubicBezTo>
                <a:cubicBezTo>
                  <a:pt x="347" y="184"/>
                  <a:pt x="322" y="269"/>
                  <a:pt x="362" y="335"/>
                </a:cubicBezTo>
                <a:cubicBezTo>
                  <a:pt x="383" y="370"/>
                  <a:pt x="420" y="393"/>
                  <a:pt x="449" y="422"/>
                </a:cubicBezTo>
                <a:cubicBezTo>
                  <a:pt x="489" y="462"/>
                  <a:pt x="560" y="446"/>
                  <a:pt x="614" y="465"/>
                </a:cubicBezTo>
                <a:cubicBezTo>
                  <a:pt x="767" y="448"/>
                  <a:pt x="751" y="480"/>
                  <a:pt x="814" y="395"/>
                </a:cubicBezTo>
                <a:cubicBezTo>
                  <a:pt x="826" y="324"/>
                  <a:pt x="845" y="249"/>
                  <a:pt x="823" y="178"/>
                </a:cubicBezTo>
                <a:cubicBezTo>
                  <a:pt x="743" y="185"/>
                  <a:pt x="671" y="187"/>
                  <a:pt x="596" y="213"/>
                </a:cubicBezTo>
                <a:cubicBezTo>
                  <a:pt x="590" y="236"/>
                  <a:pt x="580" y="258"/>
                  <a:pt x="579" y="282"/>
                </a:cubicBezTo>
                <a:cubicBezTo>
                  <a:pt x="578" y="311"/>
                  <a:pt x="552" y="482"/>
                  <a:pt x="640" y="500"/>
                </a:cubicBezTo>
                <a:cubicBezTo>
                  <a:pt x="674" y="507"/>
                  <a:pt x="709" y="505"/>
                  <a:pt x="744" y="508"/>
                </a:cubicBezTo>
                <a:cubicBezTo>
                  <a:pt x="877" y="504"/>
                  <a:pt x="985" y="503"/>
                  <a:pt x="1110" y="482"/>
                </a:cubicBezTo>
                <a:cubicBezTo>
                  <a:pt x="1165" y="440"/>
                  <a:pt x="1153" y="404"/>
                  <a:pt x="1170" y="335"/>
                </a:cubicBezTo>
                <a:cubicBezTo>
                  <a:pt x="1164" y="306"/>
                  <a:pt x="1167" y="274"/>
                  <a:pt x="1153" y="248"/>
                </a:cubicBezTo>
                <a:cubicBezTo>
                  <a:pt x="1149" y="240"/>
                  <a:pt x="1134" y="250"/>
                  <a:pt x="1127" y="256"/>
                </a:cubicBezTo>
                <a:cubicBezTo>
                  <a:pt x="1109" y="270"/>
                  <a:pt x="1097" y="322"/>
                  <a:pt x="1092" y="335"/>
                </a:cubicBezTo>
                <a:cubicBezTo>
                  <a:pt x="1098" y="396"/>
                  <a:pt x="1095" y="458"/>
                  <a:pt x="1110" y="517"/>
                </a:cubicBezTo>
                <a:cubicBezTo>
                  <a:pt x="1113" y="529"/>
                  <a:pt x="1132" y="532"/>
                  <a:pt x="1144" y="535"/>
                </a:cubicBezTo>
                <a:cubicBezTo>
                  <a:pt x="1178" y="544"/>
                  <a:pt x="1214" y="547"/>
                  <a:pt x="1249" y="552"/>
                </a:cubicBezTo>
                <a:cubicBezTo>
                  <a:pt x="1337" y="564"/>
                  <a:pt x="1391" y="569"/>
                  <a:pt x="1475" y="578"/>
                </a:cubicBezTo>
                <a:cubicBezTo>
                  <a:pt x="1568" y="555"/>
                  <a:pt x="1553" y="555"/>
                  <a:pt x="1614" y="474"/>
                </a:cubicBezTo>
                <a:cubicBezTo>
                  <a:pt x="1628" y="366"/>
                  <a:pt x="1632" y="315"/>
                  <a:pt x="1614" y="195"/>
                </a:cubicBezTo>
                <a:cubicBezTo>
                  <a:pt x="1610" y="172"/>
                  <a:pt x="1612" y="144"/>
                  <a:pt x="1597" y="126"/>
                </a:cubicBezTo>
                <a:cubicBezTo>
                  <a:pt x="1585" y="111"/>
                  <a:pt x="1562" y="114"/>
                  <a:pt x="1544" y="108"/>
                </a:cubicBezTo>
                <a:cubicBezTo>
                  <a:pt x="1533" y="114"/>
                  <a:pt x="1522" y="121"/>
                  <a:pt x="1510" y="126"/>
                </a:cubicBezTo>
                <a:cubicBezTo>
                  <a:pt x="1493" y="133"/>
                  <a:pt x="1469" y="129"/>
                  <a:pt x="1457" y="143"/>
                </a:cubicBezTo>
                <a:cubicBezTo>
                  <a:pt x="1445" y="156"/>
                  <a:pt x="1452" y="178"/>
                  <a:pt x="1449" y="195"/>
                </a:cubicBezTo>
                <a:cubicBezTo>
                  <a:pt x="1452" y="218"/>
                  <a:pt x="1450" y="242"/>
                  <a:pt x="1457" y="265"/>
                </a:cubicBezTo>
                <a:cubicBezTo>
                  <a:pt x="1472" y="316"/>
                  <a:pt x="1625" y="321"/>
                  <a:pt x="1666" y="326"/>
                </a:cubicBezTo>
                <a:cubicBezTo>
                  <a:pt x="1693" y="352"/>
                  <a:pt x="1770" y="369"/>
                  <a:pt x="1770" y="369"/>
                </a:cubicBezTo>
                <a:cubicBezTo>
                  <a:pt x="1812" y="307"/>
                  <a:pt x="1800" y="337"/>
                  <a:pt x="1814" y="282"/>
                </a:cubicBezTo>
                <a:cubicBezTo>
                  <a:pt x="1793" y="203"/>
                  <a:pt x="1741" y="223"/>
                  <a:pt x="1666" y="213"/>
                </a:cubicBezTo>
                <a:cubicBezTo>
                  <a:pt x="1657" y="210"/>
                  <a:pt x="1649" y="204"/>
                  <a:pt x="1640" y="204"/>
                </a:cubicBezTo>
                <a:cubicBezTo>
                  <a:pt x="1625" y="204"/>
                  <a:pt x="1597" y="213"/>
                  <a:pt x="1597" y="213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2" name="Freeform 27"/>
          <p:cNvSpPr/>
          <p:nvPr/>
        </p:nvSpPr>
        <p:spPr>
          <a:xfrm>
            <a:off x="3162240" y="311040"/>
            <a:ext cx="527040" cy="1692360"/>
          </a:xfrm>
          <a:custGeom>
            <a:avLst/>
            <a:gdLst>
              <a:gd name="textAreaLeft" fmla="*/ 0 w 527040"/>
              <a:gd name="textAreaRight" fmla="*/ 527040 w 527040"/>
              <a:gd name="textAreaTop" fmla="*/ 0 h 1692360"/>
              <a:gd name="textAreaBottom" fmla="*/ 1692720 h 1692360"/>
            </a:gdLst>
            <a:ahLst/>
            <a:rect l="textAreaLeft" t="textAreaTop" r="textAreaRight" b="textAreaBottom"/>
            <a:pathLst>
              <a:path w="365" h="1208">
                <a:moveTo>
                  <a:pt x="0" y="1208"/>
                </a:moveTo>
                <a:cubicBezTo>
                  <a:pt x="23" y="1205"/>
                  <a:pt x="47" y="1206"/>
                  <a:pt x="69" y="1200"/>
                </a:cubicBezTo>
                <a:cubicBezTo>
                  <a:pt x="91" y="1194"/>
                  <a:pt x="155" y="1118"/>
                  <a:pt x="165" y="1095"/>
                </a:cubicBezTo>
                <a:cubicBezTo>
                  <a:pt x="196" y="1025"/>
                  <a:pt x="164" y="1060"/>
                  <a:pt x="200" y="1026"/>
                </a:cubicBezTo>
                <a:cubicBezTo>
                  <a:pt x="218" y="975"/>
                  <a:pt x="208" y="920"/>
                  <a:pt x="226" y="869"/>
                </a:cubicBezTo>
                <a:cubicBezTo>
                  <a:pt x="234" y="804"/>
                  <a:pt x="250" y="749"/>
                  <a:pt x="269" y="687"/>
                </a:cubicBezTo>
                <a:cubicBezTo>
                  <a:pt x="263" y="548"/>
                  <a:pt x="232" y="368"/>
                  <a:pt x="278" y="234"/>
                </a:cubicBezTo>
                <a:cubicBezTo>
                  <a:pt x="285" y="215"/>
                  <a:pt x="325" y="197"/>
                  <a:pt x="339" y="182"/>
                </a:cubicBezTo>
                <a:cubicBezTo>
                  <a:pt x="365" y="107"/>
                  <a:pt x="311" y="128"/>
                  <a:pt x="235" y="121"/>
                </a:cubicBezTo>
                <a:cubicBezTo>
                  <a:pt x="212" y="124"/>
                  <a:pt x="185" y="117"/>
                  <a:pt x="165" y="130"/>
                </a:cubicBezTo>
                <a:cubicBezTo>
                  <a:pt x="156" y="136"/>
                  <a:pt x="172" y="154"/>
                  <a:pt x="182" y="156"/>
                </a:cubicBezTo>
                <a:cubicBezTo>
                  <a:pt x="205" y="161"/>
                  <a:pt x="229" y="150"/>
                  <a:pt x="252" y="147"/>
                </a:cubicBezTo>
                <a:cubicBezTo>
                  <a:pt x="291" y="135"/>
                  <a:pt x="311" y="125"/>
                  <a:pt x="339" y="95"/>
                </a:cubicBezTo>
                <a:cubicBezTo>
                  <a:pt x="365" y="19"/>
                  <a:pt x="282" y="13"/>
                  <a:pt x="226" y="0"/>
                </a:cubicBezTo>
                <a:cubicBezTo>
                  <a:pt x="175" y="12"/>
                  <a:pt x="170" y="8"/>
                  <a:pt x="182" y="60"/>
                </a:cubicBezTo>
                <a:cubicBezTo>
                  <a:pt x="208" y="57"/>
                  <a:pt x="235" y="56"/>
                  <a:pt x="261" y="52"/>
                </a:cubicBezTo>
                <a:cubicBezTo>
                  <a:pt x="264" y="51"/>
                  <a:pt x="332" y="17"/>
                  <a:pt x="296" y="17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3" name="Freeform 33"/>
          <p:cNvSpPr/>
          <p:nvPr/>
        </p:nvSpPr>
        <p:spPr>
          <a:xfrm>
            <a:off x="4883040" y="4981680"/>
            <a:ext cx="474840" cy="649080"/>
          </a:xfrm>
          <a:custGeom>
            <a:avLst/>
            <a:gdLst>
              <a:gd name="textAreaLeft" fmla="*/ 0 w 474840"/>
              <a:gd name="textAreaRight" fmla="*/ 475200 w 4748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89" h="390">
                <a:moveTo>
                  <a:pt x="98" y="390"/>
                </a:moveTo>
                <a:cubicBezTo>
                  <a:pt x="94" y="378"/>
                  <a:pt x="70" y="320"/>
                  <a:pt x="63" y="312"/>
                </a:cubicBezTo>
                <a:cubicBezTo>
                  <a:pt x="51" y="298"/>
                  <a:pt x="33" y="290"/>
                  <a:pt x="20" y="277"/>
                </a:cubicBezTo>
                <a:cubicBezTo>
                  <a:pt x="14" y="260"/>
                  <a:pt x="8" y="242"/>
                  <a:pt x="2" y="225"/>
                </a:cubicBezTo>
                <a:cubicBezTo>
                  <a:pt x="0" y="219"/>
                  <a:pt x="17" y="173"/>
                  <a:pt x="20" y="164"/>
                </a:cubicBezTo>
                <a:cubicBezTo>
                  <a:pt x="38" y="109"/>
                  <a:pt x="60" y="84"/>
                  <a:pt x="107" y="60"/>
                </a:cubicBezTo>
                <a:cubicBezTo>
                  <a:pt x="202" y="12"/>
                  <a:pt x="76" y="71"/>
                  <a:pt x="150" y="25"/>
                </a:cubicBezTo>
                <a:cubicBezTo>
                  <a:pt x="189" y="0"/>
                  <a:pt x="244" y="8"/>
                  <a:pt x="289" y="8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4" name="Freeform 34"/>
          <p:cNvSpPr/>
          <p:nvPr/>
        </p:nvSpPr>
        <p:spPr>
          <a:xfrm>
            <a:off x="7440480" y="4992840"/>
            <a:ext cx="723960" cy="664920"/>
          </a:xfrm>
          <a:custGeom>
            <a:avLst/>
            <a:gdLst>
              <a:gd name="textAreaLeft" fmla="*/ 0 w 723960"/>
              <a:gd name="textAreaRight" fmla="*/ 724320 w 723960"/>
              <a:gd name="textAreaTop" fmla="*/ 0 h 664920"/>
              <a:gd name="textAreaBottom" fmla="*/ 665280 h 664920"/>
            </a:gdLst>
            <a:ahLst/>
            <a:rect l="textAreaLeft" t="textAreaTop" r="textAreaRight" b="textAreaBottom"/>
            <a:pathLst>
              <a:path w="441" h="400">
                <a:moveTo>
                  <a:pt x="0" y="0"/>
                </a:moveTo>
                <a:cubicBezTo>
                  <a:pt x="90" y="3"/>
                  <a:pt x="180" y="4"/>
                  <a:pt x="270" y="9"/>
                </a:cubicBezTo>
                <a:cubicBezTo>
                  <a:pt x="299" y="11"/>
                  <a:pt x="318" y="17"/>
                  <a:pt x="339" y="35"/>
                </a:cubicBezTo>
                <a:cubicBezTo>
                  <a:pt x="355" y="49"/>
                  <a:pt x="383" y="79"/>
                  <a:pt x="383" y="79"/>
                </a:cubicBezTo>
                <a:cubicBezTo>
                  <a:pt x="398" y="109"/>
                  <a:pt x="416" y="126"/>
                  <a:pt x="426" y="157"/>
                </a:cubicBezTo>
                <a:cubicBezTo>
                  <a:pt x="420" y="239"/>
                  <a:pt x="441" y="266"/>
                  <a:pt x="374" y="287"/>
                </a:cubicBezTo>
                <a:cubicBezTo>
                  <a:pt x="344" y="319"/>
                  <a:pt x="306" y="311"/>
                  <a:pt x="270" y="331"/>
                </a:cubicBezTo>
                <a:cubicBezTo>
                  <a:pt x="243" y="346"/>
                  <a:pt x="218" y="366"/>
                  <a:pt x="192" y="383"/>
                </a:cubicBezTo>
                <a:cubicBezTo>
                  <a:pt x="179" y="392"/>
                  <a:pt x="162" y="393"/>
                  <a:pt x="148" y="40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5" name="Line 36"/>
          <p:cNvSpPr/>
          <p:nvPr/>
        </p:nvSpPr>
        <p:spPr>
          <a:xfrm>
            <a:off x="5356080" y="4994280"/>
            <a:ext cx="212580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6" name="Line 37"/>
          <p:cNvSpPr/>
          <p:nvPr/>
        </p:nvSpPr>
        <p:spPr>
          <a:xfrm>
            <a:off x="5356080" y="4749840"/>
            <a:ext cx="212580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7" name="Text Box 38"/>
          <p:cNvSpPr/>
          <p:nvPr/>
        </p:nvSpPr>
        <p:spPr>
          <a:xfrm>
            <a:off x="5499000" y="4494240"/>
            <a:ext cx="3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Narrow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8" name="Text Box 39"/>
          <p:cNvSpPr/>
          <p:nvPr/>
        </p:nvSpPr>
        <p:spPr>
          <a:xfrm>
            <a:off x="6951600" y="4494240"/>
            <a:ext cx="3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Narrow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9" name="Text Box 41"/>
          <p:cNvSpPr/>
          <p:nvPr/>
        </p:nvSpPr>
        <p:spPr>
          <a:xfrm>
            <a:off x="6211080" y="4340160"/>
            <a:ext cx="4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0" name="Text Box 68"/>
          <p:cNvSpPr/>
          <p:nvPr/>
        </p:nvSpPr>
        <p:spPr>
          <a:xfrm>
            <a:off x="6245640" y="492588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1" name="Text Box 75"/>
          <p:cNvSpPr/>
          <p:nvPr/>
        </p:nvSpPr>
        <p:spPr>
          <a:xfrm>
            <a:off x="194760" y="217440"/>
            <a:ext cx="26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go trasduc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2" name="Text Box 76"/>
          <p:cNvSpPr/>
          <p:nvPr/>
        </p:nvSpPr>
        <p:spPr>
          <a:xfrm>
            <a:off x="5154480" y="1109520"/>
            <a:ext cx="3521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quantità di DNA batterico trasportata dipende dalle dimensioni del capside. Il fago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i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 col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rasporta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99 K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2% del cromosoma batteric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3" name="Line 77"/>
          <p:cNvSpPr/>
          <p:nvPr/>
        </p:nvSpPr>
        <p:spPr>
          <a:xfrm>
            <a:off x="2881440" y="46836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4" name="Text Box 78"/>
          <p:cNvSpPr/>
          <p:nvPr/>
        </p:nvSpPr>
        <p:spPr>
          <a:xfrm>
            <a:off x="198360" y="3963960"/>
            <a:ext cx="4184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ovi alleli, o anche nuovi geni, possono essere integrati nel cromosoma ospite. Dal 70 al 90% del DNA trasdotto non viene integrato, ma può esprimersi per un numero limitato di generazioni, dando dei diploidi parziali (trasduzione abortiv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5" name="Picture 2" descr=""/>
          <p:cNvPicPr/>
          <p:nvPr/>
        </p:nvPicPr>
        <p:blipFill>
          <a:blip r:embed="rId1"/>
          <a:stretch/>
        </p:blipFill>
        <p:spPr>
          <a:xfrm>
            <a:off x="1346040" y="1157400"/>
            <a:ext cx="6769440" cy="5659200"/>
          </a:xfrm>
          <a:prstGeom prst="rect">
            <a:avLst/>
          </a:prstGeom>
          <a:ln w="0">
            <a:noFill/>
          </a:ln>
        </p:spPr>
      </p:pic>
      <p:sp>
        <p:nvSpPr>
          <p:cNvPr id="2736" name="Text Box 3"/>
          <p:cNvSpPr/>
          <p:nvPr/>
        </p:nvSpPr>
        <p:spPr>
          <a:xfrm>
            <a:off x="3911760" y="2513160"/>
            <a:ext cx="6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7" name="Text Box 4"/>
          <p:cNvSpPr/>
          <p:nvPr/>
        </p:nvSpPr>
        <p:spPr>
          <a:xfrm>
            <a:off x="3887640" y="37339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t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8" name="Text Box 5"/>
          <p:cNvSpPr/>
          <p:nvPr/>
        </p:nvSpPr>
        <p:spPr>
          <a:xfrm>
            <a:off x="2547000" y="503280"/>
            <a:ext cx="40593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rasduzione specializz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9" name="Group 29"/>
          <p:cNvGrpSpPr/>
          <p:nvPr/>
        </p:nvGrpSpPr>
        <p:grpSpPr>
          <a:xfrm>
            <a:off x="-5964120" y="417600"/>
            <a:ext cx="18099000" cy="6033600"/>
            <a:chOff x="-5964120" y="417600"/>
            <a:chExt cx="18099000" cy="6033600"/>
          </a:xfrm>
        </p:grpSpPr>
        <p:pic>
          <p:nvPicPr>
            <p:cNvPr id="2740" name="Picture 2" descr=""/>
            <p:cNvPicPr/>
            <p:nvPr/>
          </p:nvPicPr>
          <p:blipFill>
            <a:blip r:embed="rId1"/>
            <a:stretch/>
          </p:blipFill>
          <p:spPr>
            <a:xfrm>
              <a:off x="262080" y="506160"/>
              <a:ext cx="11493360" cy="24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1" name="Picture 3" descr=""/>
            <p:cNvPicPr/>
            <p:nvPr/>
          </p:nvPicPr>
          <p:blipFill>
            <a:blip r:embed="rId2"/>
            <a:stretch/>
          </p:blipFill>
          <p:spPr>
            <a:xfrm>
              <a:off x="-5499000" y="3838320"/>
              <a:ext cx="11344320" cy="24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2" name="Rectangle 4"/>
            <p:cNvSpPr/>
            <p:nvPr/>
          </p:nvSpPr>
          <p:spPr>
            <a:xfrm>
              <a:off x="6170760" y="417600"/>
              <a:ext cx="5964120" cy="280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3" name="Rectangle 5"/>
            <p:cNvSpPr/>
            <p:nvPr/>
          </p:nvSpPr>
          <p:spPr>
            <a:xfrm>
              <a:off x="2128680" y="1604880"/>
              <a:ext cx="146556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4" name="Rectangle 6"/>
            <p:cNvSpPr/>
            <p:nvPr/>
          </p:nvSpPr>
          <p:spPr>
            <a:xfrm>
              <a:off x="5800680" y="1122120"/>
              <a:ext cx="2692440" cy="49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Escissione corrett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5" name="Line 8"/>
            <p:cNvSpPr/>
            <p:nvPr/>
          </p:nvSpPr>
          <p:spPr>
            <a:xfrm>
              <a:off x="2389320" y="1618920"/>
              <a:ext cx="102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6" name="Line 9"/>
            <p:cNvSpPr/>
            <p:nvPr/>
          </p:nvSpPr>
          <p:spPr>
            <a:xfrm>
              <a:off x="1333440" y="1942920"/>
              <a:ext cx="127080" cy="1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7" name="Line 10"/>
            <p:cNvSpPr/>
            <p:nvPr/>
          </p:nvSpPr>
          <p:spPr>
            <a:xfrm flipH="1">
              <a:off x="1333440" y="1930320"/>
              <a:ext cx="11448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8" name="Rectangle 11"/>
            <p:cNvSpPr/>
            <p:nvPr/>
          </p:nvSpPr>
          <p:spPr>
            <a:xfrm>
              <a:off x="287280" y="525240"/>
              <a:ext cx="6634080" cy="57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9" name="Rectangle 13"/>
            <p:cNvSpPr/>
            <p:nvPr/>
          </p:nvSpPr>
          <p:spPr>
            <a:xfrm>
              <a:off x="-5964120" y="3643200"/>
              <a:ext cx="5964120" cy="280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0" name="Rectangle 14"/>
            <p:cNvSpPr/>
            <p:nvPr/>
          </p:nvSpPr>
          <p:spPr>
            <a:xfrm>
              <a:off x="-246240" y="3776400"/>
              <a:ext cx="6634440" cy="57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1" name="Rectangle 15"/>
            <p:cNvSpPr/>
            <p:nvPr/>
          </p:nvSpPr>
          <p:spPr>
            <a:xfrm>
              <a:off x="-216000" y="4178160"/>
              <a:ext cx="978120" cy="39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52" name="Group 20"/>
            <p:cNvGrpSpPr/>
            <p:nvPr/>
          </p:nvGrpSpPr>
          <p:grpSpPr>
            <a:xfrm>
              <a:off x="1422000" y="5168880"/>
              <a:ext cx="127080" cy="170640"/>
              <a:chOff x="1422000" y="5168880"/>
              <a:chExt cx="127080" cy="170640"/>
            </a:xfrm>
          </p:grpSpPr>
          <p:sp>
            <p:nvSpPr>
              <p:cNvPr id="2753" name="Line 18"/>
              <p:cNvSpPr/>
              <p:nvPr/>
            </p:nvSpPr>
            <p:spPr>
              <a:xfrm>
                <a:off x="1422360" y="5181120"/>
                <a:ext cx="12672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4" name="Line 19"/>
              <p:cNvSpPr/>
              <p:nvPr/>
            </p:nvSpPr>
            <p:spPr>
              <a:xfrm flipH="1">
                <a:off x="1422000" y="5168880"/>
                <a:ext cx="1141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55" name="Rectangle 21"/>
            <p:cNvSpPr/>
            <p:nvPr/>
          </p:nvSpPr>
          <p:spPr>
            <a:xfrm>
              <a:off x="5156280" y="1079280"/>
              <a:ext cx="36828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6" name="Rectangle 24"/>
            <p:cNvSpPr/>
            <p:nvPr/>
          </p:nvSpPr>
          <p:spPr>
            <a:xfrm>
              <a:off x="4407840" y="57924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7" name="Rectangle 25"/>
            <p:cNvSpPr/>
            <p:nvPr/>
          </p:nvSpPr>
          <p:spPr>
            <a:xfrm>
              <a:off x="393840" y="2514240"/>
              <a:ext cx="3009600" cy="54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8" name="Text Box 26"/>
            <p:cNvSpPr/>
            <p:nvPr/>
          </p:nvSpPr>
          <p:spPr>
            <a:xfrm>
              <a:off x="5800680" y="3713040"/>
              <a:ext cx="305136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Escissione errata (evento raro).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i genera una particella trasducente per il gene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gal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l fago è difettiv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9" name="Rectangle 22"/>
            <p:cNvSpPr/>
            <p:nvPr/>
          </p:nvSpPr>
          <p:spPr>
            <a:xfrm>
              <a:off x="4013280" y="3746160"/>
              <a:ext cx="107928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gal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0" name="Rectangle 27"/>
            <p:cNvSpPr/>
            <p:nvPr/>
          </p:nvSpPr>
          <p:spPr>
            <a:xfrm>
              <a:off x="4965840" y="4317840"/>
              <a:ext cx="78732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1" name="Rectangle 28"/>
            <p:cNvSpPr/>
            <p:nvPr/>
          </p:nvSpPr>
          <p:spPr>
            <a:xfrm>
              <a:off x="444600" y="5854680"/>
              <a:ext cx="3771720" cy="41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62" name="Text Box 30"/>
          <p:cNvSpPr/>
          <p:nvPr/>
        </p:nvSpPr>
        <p:spPr>
          <a:xfrm>
            <a:off x="1583280" y="6215040"/>
            <a:ext cx="623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ato a bassa frequenza di trasduzione (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isato LF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3" name="Group 6"/>
          <p:cNvGrpSpPr/>
          <p:nvPr/>
        </p:nvGrpSpPr>
        <p:grpSpPr>
          <a:xfrm>
            <a:off x="76320" y="127080"/>
            <a:ext cx="8889840" cy="5586480"/>
            <a:chOff x="76320" y="127080"/>
            <a:chExt cx="8889840" cy="5586480"/>
          </a:xfrm>
        </p:grpSpPr>
        <p:pic>
          <p:nvPicPr>
            <p:cNvPr id="2764" name="Picture 2" descr=""/>
            <p:cNvPicPr/>
            <p:nvPr/>
          </p:nvPicPr>
          <p:blipFill>
            <a:blip r:embed="rId1"/>
            <a:stretch/>
          </p:blipFill>
          <p:spPr>
            <a:xfrm>
              <a:off x="201600" y="165240"/>
              <a:ext cx="8764560" cy="55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5" name="Rectangle 4"/>
            <p:cNvSpPr/>
            <p:nvPr/>
          </p:nvSpPr>
          <p:spPr>
            <a:xfrm>
              <a:off x="76320" y="127080"/>
              <a:ext cx="8712000" cy="382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66" name="Text Box 7"/>
          <p:cNvSpPr/>
          <p:nvPr/>
        </p:nvSpPr>
        <p:spPr>
          <a:xfrm>
            <a:off x="2157480" y="363600"/>
            <a:ext cx="50637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rasduzione per ricombin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7" name="Text Box 8"/>
          <p:cNvSpPr/>
          <p:nvPr/>
        </p:nvSpPr>
        <p:spPr>
          <a:xfrm>
            <a:off x="746280" y="1973160"/>
            <a:ext cx="81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no un sito di integrazione ibrido, non funzion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8" name="Text Box 9"/>
          <p:cNvSpPr/>
          <p:nvPr/>
        </p:nvSpPr>
        <p:spPr>
          <a:xfrm>
            <a:off x="746280" y="1135080"/>
            <a:ext cx="819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 particelle trasducenti difettive possono aver perso alcuni geni essenziali per la propria riprodu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9" name="Text Box 10"/>
          <p:cNvSpPr/>
          <p:nvPr/>
        </p:nvSpPr>
        <p:spPr>
          <a:xfrm>
            <a:off x="746280" y="2620800"/>
            <a:ext cx="819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sduttanti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tabil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ossono derivare dalla ricombinazione tra il cromosoma del fago e quello del batterio in seguito a due crossing-over su entrambi i lati del sito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g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0" name="AutoShape 12"/>
          <p:cNvSpPr/>
          <p:nvPr/>
        </p:nvSpPr>
        <p:spPr>
          <a:xfrm>
            <a:off x="190440" y="2108160"/>
            <a:ext cx="355680" cy="127080"/>
          </a:xfrm>
          <a:custGeom>
            <a:avLst/>
            <a:gdLst>
              <a:gd name="textAreaLeft" fmla="*/ 0 w 355680"/>
              <a:gd name="textAreaRight" fmla="*/ 356040 w 35568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1" name="AutoShape 13"/>
          <p:cNvSpPr/>
          <p:nvPr/>
        </p:nvSpPr>
        <p:spPr>
          <a:xfrm>
            <a:off x="190440" y="2743200"/>
            <a:ext cx="355680" cy="127080"/>
          </a:xfrm>
          <a:custGeom>
            <a:avLst/>
            <a:gdLst>
              <a:gd name="textAreaLeft" fmla="*/ 0 w 355680"/>
              <a:gd name="textAreaRight" fmla="*/ 356040 w 35568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2" name="AutoShape 19"/>
          <p:cNvSpPr/>
          <p:nvPr/>
        </p:nvSpPr>
        <p:spPr>
          <a:xfrm>
            <a:off x="165240" y="1282680"/>
            <a:ext cx="355320" cy="127080"/>
          </a:xfrm>
          <a:custGeom>
            <a:avLst/>
            <a:gdLst>
              <a:gd name="textAreaLeft" fmla="*/ 0 w 355320"/>
              <a:gd name="textAreaRight" fmla="*/ 355680 w 3553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3" name="Group 14"/>
          <p:cNvGrpSpPr/>
          <p:nvPr/>
        </p:nvGrpSpPr>
        <p:grpSpPr>
          <a:xfrm>
            <a:off x="330120" y="0"/>
            <a:ext cx="8991720" cy="6858000"/>
            <a:chOff x="330120" y="0"/>
            <a:chExt cx="8991720" cy="6858000"/>
          </a:xfrm>
        </p:grpSpPr>
        <p:pic>
          <p:nvPicPr>
            <p:cNvPr id="2774" name="Picture 3" descr=""/>
            <p:cNvPicPr/>
            <p:nvPr/>
          </p:nvPicPr>
          <p:blipFill>
            <a:blip r:embed="rId1"/>
            <a:stretch/>
          </p:blipFill>
          <p:spPr>
            <a:xfrm>
              <a:off x="557280" y="38160"/>
              <a:ext cx="8764560" cy="55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5" name="Rectangle 4"/>
            <p:cNvSpPr/>
            <p:nvPr/>
          </p:nvSpPr>
          <p:spPr>
            <a:xfrm>
              <a:off x="431640" y="3035160"/>
              <a:ext cx="8877600" cy="382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6" name="Rectangle 12"/>
            <p:cNvSpPr/>
            <p:nvPr/>
          </p:nvSpPr>
          <p:spPr>
            <a:xfrm>
              <a:off x="330120" y="0"/>
              <a:ext cx="740412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77" name="Text Box 5"/>
          <p:cNvSpPr/>
          <p:nvPr/>
        </p:nvSpPr>
        <p:spPr>
          <a:xfrm>
            <a:off x="1976400" y="274680"/>
            <a:ext cx="557568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rasduzione in un batterio lisoge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8" name="Text Box 15"/>
          <p:cNvSpPr/>
          <p:nvPr/>
        </p:nvSpPr>
        <p:spPr>
          <a:xfrm>
            <a:off x="682560" y="3162240"/>
            <a:ext cx="819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fag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g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ossono integrarsi in un batterio lisogeno in quanto il sito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t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brido è identico a quelli generati dal profag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9" name="AutoShape 16"/>
          <p:cNvSpPr/>
          <p:nvPr/>
        </p:nvSpPr>
        <p:spPr>
          <a:xfrm>
            <a:off x="152280" y="3322800"/>
            <a:ext cx="355680" cy="126720"/>
          </a:xfrm>
          <a:custGeom>
            <a:avLst/>
            <a:gdLst>
              <a:gd name="textAreaLeft" fmla="*/ 0 w 355680"/>
              <a:gd name="textAreaRight" fmla="*/ 356040 w 35568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0" name="Text Box 17"/>
          <p:cNvSpPr/>
          <p:nvPr/>
        </p:nvSpPr>
        <p:spPr>
          <a:xfrm>
            <a:off x="682560" y="4044960"/>
            <a:ext cx="819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fago normale fornisce anche i geni persi dal fago difettivo e viene chiamato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ago help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erché aiuta il fago difettivo a integrarsi e riprodurs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1" name="Text Box 18"/>
          <p:cNvSpPr/>
          <p:nvPr/>
        </p:nvSpPr>
        <p:spPr>
          <a:xfrm>
            <a:off x="682560" y="5232240"/>
            <a:ext cx="819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trasduttanti sono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stabil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erché il profago può essere indotto all’esciss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2" name="AutoShape 19"/>
          <p:cNvSpPr/>
          <p:nvPr/>
        </p:nvSpPr>
        <p:spPr>
          <a:xfrm>
            <a:off x="152280" y="4160880"/>
            <a:ext cx="355680" cy="127080"/>
          </a:xfrm>
          <a:custGeom>
            <a:avLst/>
            <a:gdLst>
              <a:gd name="textAreaLeft" fmla="*/ 0 w 355680"/>
              <a:gd name="textAreaRight" fmla="*/ 356040 w 35568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3" name="AutoShape 20"/>
          <p:cNvSpPr/>
          <p:nvPr/>
        </p:nvSpPr>
        <p:spPr>
          <a:xfrm>
            <a:off x="152280" y="5354640"/>
            <a:ext cx="355680" cy="127080"/>
          </a:xfrm>
          <a:custGeom>
            <a:avLst/>
            <a:gdLst>
              <a:gd name="textAreaLeft" fmla="*/ 0 w 355680"/>
              <a:gd name="textAreaRight" fmla="*/ 356040 w 35568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4" name="Text Box 21"/>
          <p:cNvSpPr/>
          <p:nvPr/>
        </p:nvSpPr>
        <p:spPr>
          <a:xfrm>
            <a:off x="1469880" y="6176880"/>
            <a:ext cx="619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ato ad alta frequenza di trasduzione (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isato HF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62908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quenza di mutazione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4720" y="563400"/>
            <a:ext cx="834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frequenza con cui avvengono i diversi tipi di mutazioni è estremamente variabile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rrori nella replicazione del DNA ricorrono con una frequenza di 10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10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per coppia di basi per singolo ciclo di replicazione. Per un gene di 1000 basi la frequenza è dell’ordine di 10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8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per generazione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209680" y="205596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tromutazione e Soppressione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03000" y="3240000"/>
            <a:ext cx="518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versione vera (</a:t>
            </a:r>
            <a:r>
              <a:rPr b="0" lang="it-IT" sz="2000" spc="-1" strike="noStrike">
                <a:solidFill>
                  <a:srgbClr val="ff6600"/>
                </a:solidFill>
                <a:latin typeface="Comic Sans MS"/>
              </a:rPr>
              <a:t>retromutazion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versione di secondo sito (</a:t>
            </a:r>
            <a:r>
              <a:rPr b="0" lang="it-IT" sz="2000" spc="-1" strike="noStrike">
                <a:solidFill>
                  <a:srgbClr val="ff6600"/>
                </a:solidFill>
                <a:latin typeface="Comic Sans MS"/>
              </a:rPr>
              <a:t>soppression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utazion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frameshif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utazione in un secondo ge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Reversione di </a:t>
            </a:r>
            <a:r>
              <a:rPr b="0" lang="it-IT" sz="1600" spc="-1" strike="noStrike">
                <a:solidFill>
                  <a:srgbClr val="22228a"/>
                </a:solidFill>
                <a:latin typeface="Comic Sans MS"/>
              </a:rPr>
              <a:t>mutazione </a:t>
            </a:r>
            <a:r>
              <a:rPr b="0" i="1" lang="it-IT" sz="1600" spc="-1" strike="noStrike">
                <a:solidFill>
                  <a:srgbClr val="22228a"/>
                </a:solidFill>
                <a:latin typeface="Comic Sans MS"/>
              </a:rPr>
              <a:t>nonsens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676440" y="2703600"/>
            <a:ext cx="75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n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revertant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è un ceppo in cui viene ripristinato il fenotipo selvati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326880" y="3375000"/>
            <a:ext cx="273240" cy="127080"/>
          </a:xfrm>
          <a:prstGeom prst="rightArrow">
            <a:avLst>
              <a:gd name="adj1" fmla="val 50000"/>
              <a:gd name="adj2" fmla="val 537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26880" y="3692520"/>
            <a:ext cx="273240" cy="127080"/>
          </a:xfrm>
          <a:prstGeom prst="rightArrow">
            <a:avLst>
              <a:gd name="adj1" fmla="val 50000"/>
              <a:gd name="adj2" fmla="val 537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999440" y="507204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Reversione di delezioni e inserzi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509760" y="5627520"/>
            <a:ext cx="820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rosse delezioni possono revertere solo mediante processi che coinvolgono la ricombinazione genetic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cune inserzioni (elementi trasponibili) possono revertere per escissi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Text Box 2"/>
          <p:cNvSpPr/>
          <p:nvPr/>
        </p:nvSpPr>
        <p:spPr>
          <a:xfrm>
            <a:off x="329040" y="219240"/>
            <a:ext cx="84970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Caratteristiche comuni ai tre meccanismi di trasferimento gen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6" name="Text Box 3"/>
          <p:cNvSpPr/>
          <p:nvPr/>
        </p:nvSpPr>
        <p:spPr>
          <a:xfrm>
            <a:off x="380880" y="914400"/>
            <a:ext cx="853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. Solo una porzione del cromosoma è trasferi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2. Il trasferimento è sempre polarizzato  DONATORE    RICEV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3. Il prodotto del trasferimento non è un vero zigote: per questo viene chiamato MERIZIG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4. Il DNA trasferito (ESOGENOTE) può essere trasmesso alla progenie solo se  viene incorporato nel genoma della cellula ricevente (ENDOGENO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ASO PARTICOLARE: trasferimento di un replicone (PLASMID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Comic Sans MS"/>
              </a:rPr>
              <a:t>I processi di trasferimento genico hanno un ruolo importante nella variabilità genetica delle popolazioni batteriche in quanto assicurano la diffusione di materiale genetico e quindi l’acquisizione di nuovi caratter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7" name="AutoShape 5"/>
          <p:cNvSpPr/>
          <p:nvPr/>
        </p:nvSpPr>
        <p:spPr>
          <a:xfrm>
            <a:off x="6921360" y="1638360"/>
            <a:ext cx="241560" cy="152280"/>
          </a:xfrm>
          <a:prstGeom prst="rightArrow">
            <a:avLst>
              <a:gd name="adj1" fmla="val 50000"/>
              <a:gd name="adj2" fmla="val 396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400200" y="30492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La Mutagenes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251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732760" y="1371600"/>
            <a:ext cx="39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e mutazioni possono esser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69280" y="236232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Comic Sans MS"/>
              </a:rPr>
              <a:t>Spontan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109920" y="2362320"/>
            <a:ext cx="28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99"/>
                </a:solidFill>
                <a:latin typeface="Comic Sans MS"/>
              </a:rPr>
              <a:t>Indotte da mutagen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3047760" y="1828800"/>
            <a:ext cx="10666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952880" y="1828800"/>
            <a:ext cx="10670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1739160" y="39625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Mutageni chimic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5067360" y="396252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Mutageni fisic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3885840" y="2743200"/>
            <a:ext cx="29718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12"/>
          <p:cNvSpPr/>
          <p:nvPr/>
        </p:nvSpPr>
        <p:spPr>
          <a:xfrm flipH="1">
            <a:off x="6248520" y="2819520"/>
            <a:ext cx="8380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545120" y="4724280"/>
            <a:ext cx="258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Analoghi delle bas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Agenti alchilan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Agenti intercalan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5025960" y="4724280"/>
            <a:ext cx="378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Radiazioni non ionizzanti:U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Radiazioni ionizzanti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raggi gam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raggi 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raggi cosmic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1133640" y="275436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frequenza molto bass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304920" y="1720800"/>
            <a:ext cx="3833640" cy="4191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3018600" y="23328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Analoghi delle bas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8827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mili nella struttuta a purine e pirimidine del DNA ma difettosi nell’appaiamento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351320" y="168912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più delle volte la replicazione avviene normalmente ma occasionalmente può verificarsi un errore che verrà fissato come mutazione nel successivo ciclo di replicazione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124680" y="30830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 :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900400" y="371484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 :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5900400" y="433080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 :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5052600" y="531180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 :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7052040" y="53085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1"/>
          <p:cNvSpPr/>
          <p:nvPr/>
        </p:nvSpPr>
        <p:spPr>
          <a:xfrm flipH="1">
            <a:off x="5880240" y="4824360"/>
            <a:ext cx="568080" cy="39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6603840" y="4818240"/>
            <a:ext cx="568440" cy="393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0:02:53Z</dcterms:created>
  <dc:creator>Di Lallo</dc:creator>
  <dc:description/>
  <dc:language>en-US</dc:language>
  <cp:lastModifiedBy>G.Paolo</cp:lastModifiedBy>
  <dcterms:modified xsi:type="dcterms:W3CDTF">2010-01-08T15:53:48Z</dcterms:modified>
  <cp:revision>409</cp:revision>
  <dc:subject/>
  <dc:title>Presentazione di PowerPoint</dc:title>
</cp:coreProperties>
</file>