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21.gif" ContentType="image/gif"/>
  <Override PartName="/ppt/media/Nocturne%20Improvisio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E11A-3348-46F5-9323-5587B7BDBA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293-28B7-45E9-8CFC-74927B40A07C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CA8-6632-4E01-B300-5B4588951188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B666-69C7-4AB1-8830-99AC8FA92B50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7BB4-DF90-4FCE-BB3B-E6E7F4655E71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EFE4-33A2-4A7C-AA72-8D523A452A50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28C8-DA1B-48E7-A084-656DE3DD8AA0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B139-23D6-402D-AE3F-6EFB18EC6D25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8490-FDA1-4ADE-A45F-667E2F299135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D4D6-68A5-4D70-80F5-D6B4061AD879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A14B-CFB6-4514-B75F-8A41BFC86E0F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E2C-1B5A-43E8-B4EE-E672BFA2625C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E060-F19D-48D0-946F-BFF372E6BB3D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44AE-C780-47BD-92E8-84995A8C09BB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C4B3-8FD3-463F-B5EE-CFE207E791D9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89F9-2488-4A31-844C-79DB25572886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2AB-8A40-4462-8E81-5D392CBDD141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CE98-0022-4FCA-AB27-F5B9A08680B0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6E1-63CB-428C-8279-A3609979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33D-AC6F-4937-A975-B3153713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BD5-DB1C-496A-828F-2706182C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406-3D7B-4201-A5BB-BDC0807E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8F1F-D2C5-4718-AF27-D518E05A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D3C5-C957-4E2E-A96C-0E23BD8D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5BC2-3645-4D57-8B2B-41CA7A50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85B-EDC9-4C9F-850F-FD96F8FF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208A-D1C0-45E3-AF7D-11020AA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EC20-C106-452E-A858-229CB252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1B8C-D19B-46CF-BCEB-5F0B5093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4B7-5AE3-45CA-9945-6D38DE15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FB0D-4EF4-4CCF-A806-8C24AA49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2826-5A7D-4C9B-ABD6-A2507925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550C-5DE3-4D8D-8833-0BCF37B1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AA49-286C-4DA6-9F13-0A3238A4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F458-1238-4C72-8241-A2A21580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044-0D76-42FC-8FC1-24E78764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4C4-FB7A-4D01-8583-9E6B542C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50C-9CD3-4160-8ECC-BC80A70C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EC3-86D0-4268-9D00-E8AC08B9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A9F-A250-4DAF-9151-4509BC55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333-F4E2-4AA9-9736-D24BD556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0AB-0AFF-44A9-B84F-3F2B35EF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3E6C-01B5-4B4E-AAB5-F06F5DCD2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5B62-4549-47C2-81B1-600AF15C0ED7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Nocturne%20Improvis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6960" y="2214360"/>
            <a:ext cx="81770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cc"/>
                </a:solidFill>
                <a:latin typeface="Bradley Hand ITC"/>
              </a:rPr>
              <a:t>La Farmacia di Dio</a:t>
            </a:r>
            <a:r>
              <a:rPr b="0" lang="en-CA" sz="60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slow">
    <p:zoom dir="out"/>
    <p:sndAc>
      <p:stSnd>
        <p:snd r:embed="rId2" name="Nocturne%20Improvis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7064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-1706400" y="2989440"/>
            <a:ext cx="95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78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Berlin Sans FB Demi"/>
                <a:ea typeface="Times New Roman"/>
              </a:rPr>
              <a:t>I fichi sono pieni di grani e si sospendono a due a due quando crescono. 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Berlin Sans FB Demi"/>
                <a:ea typeface="Times New Roman"/>
              </a:rPr>
              <a:t>I fichi aumentano la mobilità degli spermatozoi, ne favoriscono il numero e combattono anche la sterilità maschile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0" y="2832120"/>
            <a:ext cx="9525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82040" y="375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erlin Sans FB Demi"/>
                <a:ea typeface="Times New Roman"/>
              </a:rPr>
              <a:t>Le patate assomigliano ai pancreas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erlin Sans FB Demi"/>
                <a:ea typeface="Times New Roman"/>
              </a:rPr>
              <a:t>e in realtà  riequilibrano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erlin Sans FB Demi"/>
                <a:ea typeface="Times New Roman"/>
              </a:rPr>
              <a:t>l’ indice glicemico dei diabetici</a:t>
            </a:r>
            <a:r>
              <a:rPr b="1" lang="en-US" sz="2400" spc="-1" strike="noStrike">
                <a:solidFill>
                  <a:srgbClr val="ffc000"/>
                </a:solidFill>
                <a:latin typeface="Bradley Hand ITC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c000"/>
                </a:solidFill>
                <a:latin typeface="Bradley Hand ITC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553400" y="2289240"/>
            <a:ext cx="559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Berlin Sans FB Demi"/>
              </a:rPr>
              <a:t>Le olive autano la salute e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Berlin Sans FB Demi"/>
              </a:rPr>
              <a:t>il funzionamento  delle ovaie. 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-182736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-1827360" y="2965320"/>
            <a:ext cx="95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85840" y="366480"/>
            <a:ext cx="857232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Berlin Sans FB Demi"/>
                <a:ea typeface="Times New Roman"/>
              </a:rPr>
              <a:t>L’arancia, il pompelmo e gli altri frutti citrici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Berlin Sans FB Demi"/>
                <a:ea typeface="Times New Roman"/>
              </a:rPr>
              <a:t>assomigliano alle ghiandole dei seni delle donne… 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6600"/>
                </a:solidFill>
                <a:latin typeface="Berlin Sans FB Demi"/>
                <a:ea typeface="Times New Roman"/>
              </a:rPr>
              <a:t>Stimolano la salute  de seni  e il movimento interno e esterno delle linfe, nei seni.</a:t>
            </a:r>
            <a:r>
              <a:rPr b="1" lang="en-US" sz="2400" spc="-1" strike="noStrike">
                <a:solidFill>
                  <a:srgbClr val="cc6600"/>
                </a:solidFill>
                <a:latin typeface="Berlin Sans FB Demi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13840" y="213840"/>
            <a:ext cx="83185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Berlin Sans FB Demi"/>
              </a:rPr>
              <a:t>Le cipolle assomigliano alle cellule del corp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Le ricerche di oggi dimostrano che le cipol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Aiutano a pulire i rifiuti su tutte le cellule corporali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Produ cono anche le lacrime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che lavano lo strato epiteliale degli occhi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Un altro collaboratore, l’ aglio,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aiuta anche a eliminare liberament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I rifiuti materiali radicalmente pericolosi del corpo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429080"/>
            <a:ext cx="8267760" cy="19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Bradley Hand ITC"/>
              </a:rPr>
              <a:t>PER FAVORE, non rompete la catena,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Bradley Hand ITC"/>
              </a:rPr>
              <a:t>Inviate queste note ai vostri corrispondenti  affinchè ne possano beneficiare.  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Picture 4" descr="image013(2)"/>
          <p:cNvPicPr/>
          <p:nvPr/>
        </p:nvPicPr>
        <p:blipFill>
          <a:blip r:embed="rId1"/>
          <a:stretch/>
        </p:blipFill>
        <p:spPr>
          <a:xfrm>
            <a:off x="3348000" y="836640"/>
            <a:ext cx="244800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1493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Bradley Hand ITC"/>
              </a:rPr>
              <a:t>Questa candela è stata accesa il 15 settembre</a:t>
            </a:r>
            <a:r>
              <a:rPr b="1" lang="th-TH" sz="2800" spc="-1" strike="noStrike">
                <a:solidFill>
                  <a:srgbClr val="ccecff"/>
                </a:solidFill>
                <a:latin typeface="Bradley Hand ITC"/>
              </a:rPr>
              <a:t> 1998.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Qualcuno che Vi ama ha tradotto queste note in italiano </a:t>
            </a:r>
            <a:r>
              <a:rPr b="1" lang="it-IT" sz="2800" spc="-1" strike="noStrike">
                <a:solidFill>
                  <a:srgbClr val="ccecff"/>
                </a:solidFill>
                <a:latin typeface="Bradley Hand ITC"/>
              </a:rPr>
              <a:t>e le ha fatto rivivere inviandovele</a:t>
            </a:r>
            <a:r>
              <a:rPr b="1" lang="th-TH" sz="2800" spc="-1" strike="noStrike">
                <a:solidFill>
                  <a:srgbClr val="ccecff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perchè ne possiate approfittare</a:t>
            </a:r>
            <a:r>
              <a:rPr b="1" lang="th-TH" sz="2800" spc="-1" strike="noStrike">
                <a:solidFill>
                  <a:srgbClr val="ccecff"/>
                </a:solidFill>
                <a:latin typeface="Bradley Hand ITC"/>
              </a:rPr>
              <a:t>.</a:t>
            </a:r>
            <a:r>
              <a:rPr b="1" lang="th-TH" sz="2800" spc="-1" strike="noStrike">
                <a:solidFill>
                  <a:srgbClr val="ff9900"/>
                </a:solidFill>
                <a:latin typeface="Bradley Hand IT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9" name="Picture 5" descr="image014"/>
          <p:cNvPicPr/>
          <p:nvPr/>
        </p:nvPicPr>
        <p:blipFill>
          <a:blip r:embed="rId1"/>
          <a:stretch/>
        </p:blipFill>
        <p:spPr>
          <a:xfrm>
            <a:off x="3059280" y="260280"/>
            <a:ext cx="352872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28526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Bradley Hand ITC"/>
              </a:rPr>
              <a:t>Non fare spegnere la candela dell’amore, della speranza e dell’amicizia</a:t>
            </a:r>
            <a:r>
              <a:rPr b="1" lang="th-TH" sz="3200" spc="-1" strike="noStrike">
                <a:solidFill>
                  <a:srgbClr val="ff9900"/>
                </a:solidFill>
                <a:latin typeface="Bradley Hand ITC"/>
              </a:rPr>
              <a:t>!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Bradley Hand ITC"/>
              </a:rPr>
              <a:t>Passa queste note ai tuoi amici e a tutti coiloro che ami!  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Bradley Hand ITC"/>
              </a:rPr>
              <a:t>L’ho ricevuta oggi per la prima volta e spero che mi ritornerà.  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Bradley Hand ITC"/>
              </a:rPr>
              <a:t>PER FAVORE, mantieni questa candela accesa !</a:t>
            </a:r>
            <a:r>
              <a:rPr b="1" lang="th-TH" sz="3200" spc="-1" strike="noStrike">
                <a:solidFill>
                  <a:srgbClr val="ff9900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1" name="Picture 4" descr="image014(2)"/>
          <p:cNvPicPr/>
          <p:nvPr/>
        </p:nvPicPr>
        <p:blipFill>
          <a:blip r:embed="rId1"/>
          <a:stretch/>
        </p:blipFill>
        <p:spPr>
          <a:xfrm>
            <a:off x="3419640" y="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0" y="201600"/>
            <a:ext cx="9240840" cy="6046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5840" y="248760"/>
            <a:ext cx="8713800" cy="7346160"/>
          </a:xfrm>
          <a:prstGeom prst="rect">
            <a:avLst/>
          </a:prstGeom>
          <a:solidFill>
            <a:srgbClr val="cc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Una carota assomigli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All’occhio umano, la pupilla, l’iride..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erlin Sans FB Demi"/>
              </a:rPr>
              <a:t>Le linee radiali assomiglian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erlin Sans FB Demi"/>
              </a:rPr>
              <a:t>all’ organo oculare...</a:t>
            </a:r>
            <a:r>
              <a:rPr b="1" lang="en-US" sz="2800" spc="-1" strike="noStrike">
                <a:solidFill>
                  <a:srgbClr val="0066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E infine, la scienza dimostra attualment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che le carote migliorano molto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la circulazione sanguigna e la vista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3" name="Picture 3" descr="image001"/>
          <p:cNvPicPr/>
          <p:nvPr/>
        </p:nvPicPr>
        <p:blipFill>
          <a:blip r:embed="rId2"/>
          <a:stretch/>
        </p:blipFill>
        <p:spPr>
          <a:xfrm>
            <a:off x="3995640" y="1197000"/>
            <a:ext cx="1513080" cy="1452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14200" y="229680"/>
            <a:ext cx="8642520" cy="7590960"/>
          </a:xfrm>
          <a:prstGeom prst="rect">
            <a:avLst/>
          </a:prstGeom>
          <a:solidFill>
            <a:srgbClr val="ff99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erlin Sans FB Demi"/>
                <a:ea typeface="PMingLiU"/>
              </a:rPr>
              <a:t>Un  pomodoro è rosso ed è fatto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erlin Sans FB Demi"/>
                <a:ea typeface="PMingLiU"/>
              </a:rPr>
              <a:t>di quattro camere…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erlin Sans FB Demi"/>
                <a:ea typeface="PMingLiU"/>
              </a:rPr>
              <a:t>Il Cuore ha quattro camere ed è di colore rosso.</a:t>
            </a:r>
            <a:r>
              <a:rPr b="1" lang="en-US" sz="2400" spc="-1" strike="noStrike">
                <a:solidFill>
                  <a:srgbClr val="ff0000"/>
                </a:solidFill>
                <a:latin typeface="Berlin Sans FB Demi"/>
                <a:ea typeface="PMingLiU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lin Sans FB Demi"/>
                <a:ea typeface="PMingLiU"/>
              </a:rPr>
              <a:t>Tutte le ricerche scientifiche dimostrano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lin Sans FB Demi"/>
                <a:ea typeface="PMingLiU"/>
              </a:rPr>
              <a:t>che I pomodori sono pieni di licopina 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lin Sans FB Demi"/>
                <a:ea typeface="PMingLiU"/>
              </a:rPr>
              <a:t>Sono veramente alimenti puri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erlin Sans FB Demi"/>
                <a:ea typeface="PMingLiU"/>
              </a:rPr>
              <a:t>Del Cuore e del sangue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5" name="Picture 3" descr="image002(2)"/>
          <p:cNvPicPr/>
          <p:nvPr/>
        </p:nvPicPr>
        <p:blipFill>
          <a:blip r:embed="rId2"/>
          <a:stretch/>
        </p:blipFill>
        <p:spPr>
          <a:xfrm>
            <a:off x="142920" y="2858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382760" y="-1800"/>
            <a:ext cx="7118280" cy="6066360"/>
          </a:xfrm>
          <a:prstGeom prst="rect">
            <a:avLst/>
          </a:prstGeom>
          <a:solidFill>
            <a:srgbClr val="ffff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L’uva è sospesa in grappol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a forma di cuore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E ogni acino assomiglia a un globulo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Le ricerche di oggi dimostrano che gli acini sono alimenti nutritiv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e rivitalizzano cuore e sangue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456480"/>
            <a:ext cx="8532720" cy="6006960"/>
          </a:xfrm>
          <a:prstGeom prst="rect">
            <a:avLst/>
          </a:prstGeom>
          <a:solidFill>
            <a:srgbClr val="c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radley Hand ITC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Berlin Sans FB Demi"/>
                <a:ea typeface="PMingLiU"/>
              </a:rPr>
              <a:t>   </a:t>
            </a:r>
            <a:r>
              <a:rPr b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Una noce assomiglia a un cervello, con un emisfero sinistro e derstro,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La corteccia cerebrale </a:t>
            </a:r>
            <a:r>
              <a:rPr b="1" i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upper cerebrums</a:t>
            </a:r>
            <a:br>
              <a:rPr sz="2400"/>
            </a:br>
            <a:r>
              <a:rPr b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e il cerveletto </a:t>
            </a:r>
            <a:r>
              <a:rPr b="1" i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lower cerebellums</a:t>
            </a:r>
            <a:r>
              <a:rPr b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. 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4f8"/>
                </a:solidFill>
                <a:latin typeface="Berlin Sans FB Demi"/>
              </a:rPr>
              <a:t>Anche le rughe o le pieghe sulla noce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4f8"/>
                </a:solidFill>
                <a:latin typeface="Berlin Sans FB Demi"/>
              </a:rPr>
              <a:t>assomigliano a neo-cortecce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4f8"/>
                </a:solidFill>
                <a:latin typeface="Berlin Sans FB Demi"/>
              </a:rPr>
              <a:t>Sappiamo che la noce aiuta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Berlin Sans FB Demi"/>
              </a:rPr>
              <a:t>A sviluppare oltre tre (3) dozzine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Berlin Sans FB Demi"/>
              </a:rPr>
              <a:t>di neuroni-trasmettitori per la funzione cerebrale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8" name="Picture 3" descr="image004"/>
          <p:cNvPicPr/>
          <p:nvPr/>
        </p:nvPicPr>
        <p:blipFill>
          <a:blip r:embed="rId2"/>
          <a:stretch/>
        </p:blipFill>
        <p:spPr>
          <a:xfrm>
            <a:off x="71280" y="71280"/>
            <a:ext cx="230364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274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rlin Sans FB Demi"/>
              </a:rPr>
              <a:t>Il fagiolo ha la forma del rene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f9"/>
                </a:solidFill>
                <a:latin typeface="Berlin Sans FB Demi"/>
              </a:rPr>
              <a:t>Cura 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f9"/>
                </a:solidFill>
                <a:latin typeface="Berlin Sans FB Demi"/>
              </a:rPr>
              <a:t>salvaguarda infatti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f9"/>
                </a:solidFill>
                <a:latin typeface="Berlin Sans FB Demi"/>
              </a:rPr>
              <a:t>la funzione  renale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rlin Sans FB Demi"/>
              </a:rPr>
              <a:t>E assomigliano, con precisione, al rene.</a:t>
            </a:r>
            <a:r>
              <a:rPr b="1" lang="en-US" sz="2800" spc="-1" strike="noStrike">
                <a:solidFill>
                  <a:srgbClr val="0000cc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62280"/>
            <a:ext cx="9144000" cy="64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Berlin Sans FB Demi"/>
              </a:rPr>
              <a:t>Il sedano, il Bok Choy, il rabarbaro assomigliano a ossa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e ossa sono costituite al 23% di sodio e questi alimenti sono costituiti al 23% di sodio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Berlin Sans FB Demi"/>
              </a:rPr>
              <a:t>Se non hai sufficiente sodio nel tuo regime alimentare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Berlin Sans FB Demi"/>
              </a:rPr>
              <a:t>il corpo si “riduce” prelevandolo dalle tue ossa, per conseguenza le indebolisce. 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Berlin Sans FB Demi"/>
              </a:rPr>
              <a:t>Questi alimenti ricostituiscono i bisogni ossei dei corpi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42920" y="1963440"/>
            <a:ext cx="90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L’ avocado, la melanzana e le pere “riguardano” la salute e la funzion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dell’ utero e la cervice della donna – assomigliano all’ organo femminile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Le ricerche di oggi dimostrano ch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quando una donna mangia un avocado alla settimana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riequlibra i propri ormones, evita l’eccesso di peso della nascita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e impedisce il cancro cervicale.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Ci vogliono esattamente nove (9) mesi perchè un avocado arrivi a maturità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dalla fioritura alla maturazione del frutto ;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Ci sono oltre 14.000 costituenti fotolitic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chimici  della nutrizione ; ciascuno corrisponde a questi frutt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( La scienza moderna ne ha unicamente studiati e nominati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circa 141)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2" name="Picture 3" descr="avocado"/>
          <p:cNvPicPr/>
          <p:nvPr/>
        </p:nvPicPr>
        <p:blipFill>
          <a:blip r:embed="rId1"/>
          <a:stretch/>
        </p:blipFill>
        <p:spPr>
          <a:xfrm>
            <a:off x="0" y="0"/>
            <a:ext cx="3095640" cy="24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eggplant"/>
          <p:cNvPicPr/>
          <p:nvPr/>
        </p:nvPicPr>
        <p:blipFill>
          <a:blip r:embed="rId2"/>
          <a:stretch/>
        </p:blipFill>
        <p:spPr>
          <a:xfrm>
            <a:off x="3203640" y="0"/>
            <a:ext cx="2881080" cy="249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pear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8:49Z</dcterms:created>
  <dc:creator>謝財福</dc:creator>
  <dc:description/>
  <dc:language>en-US</dc:language>
  <cp:lastModifiedBy>U650170</cp:lastModifiedBy>
  <dcterms:modified xsi:type="dcterms:W3CDTF">2010-09-07T10:00:15Z</dcterms:modified>
  <cp:revision>102</cp:revision>
  <dc:subject/>
  <dc:title>PowerPoint 簡報</dc:title>
</cp:coreProperties>
</file>