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png" ContentType="image/png"/>
  <Override PartName="/ppt/media/image21.gif" ContentType="image/gif"/>
  <Override PartName="/ppt/media/Nocturne%20Improvis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3613-B807-454B-853C-88E75D7299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D0F9E-7E8C-4E5C-BEB0-0277C86DD35D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A1D-9A6B-45F8-88BC-E5205E3F001C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B270-A147-44CA-A290-D7D0580C103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B111-D5DE-45C6-84CE-FAB47E4D36FA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386C-D21D-4065-8121-8833C4B78BF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0672-6A9F-4D16-B6B8-15B58661C2F0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546C-8388-4F79-A352-2B75BCC78288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4CE6-EE14-44F1-80F8-4720C9DF453E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4CE6-D035-43DE-AB05-9F11CDFCA307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CBDF-9C6D-47DA-834A-BD95A3104174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A5F9-5571-46FF-BCF4-5F18EFE40206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B735-8031-4429-854D-42F7307753E3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F019-D8D8-4312-A37F-E437CC3D836E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B7F9-28DF-4A24-8799-A419FC710774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DEDA-4942-4F28-B788-6AC6A9AF8487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A865-B019-4D08-BC5D-B252B40C5144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9C05-2EFD-4350-A891-46934925114E}" type="slidenum">
              <a:rPr b="0" lang="fr-FR" sz="12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B49A-C12D-42DA-9FFC-187370F1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8F0-6215-4470-BCB6-7FC43090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7EA2-D20E-4CF3-A42E-3C6D4239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6CD-600C-4545-840F-ECCDE534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8C9E-EDD2-464D-A211-8E3FEC4F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5171-EE34-4EA8-8A65-21D71C6C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D287-53D7-4DF5-91E5-0D7B8E5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CDDD-EFC6-405C-8374-263F48E4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543D-D253-446C-9F60-E951BF23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D57B-560F-4630-A6FA-18312A40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EB9F-023A-4024-899F-6162B358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160-15BF-45D6-8F37-678AF761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77F4-7D10-46C1-A32F-B9AE6244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C9DC-3C16-4A5A-9E14-080484E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334C-CEDD-40A6-9F2D-B0B557C0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62C8-D284-4A74-8B2D-0055E138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870F-F27A-444D-B928-C79642E80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4F9-59BE-4CD0-AB49-8A27E02F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211-2572-4323-AD6E-E8C1C0CE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82B-8852-4328-AEC5-BC795515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F706-0441-4C1A-85E8-2672416F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D5E-E3DA-4748-A0CD-CEDD2218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D41-E9CF-4F00-891A-C3B64EB8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B4E-9AC5-4AA4-95F3-7BD6D6B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040-C48E-400E-902A-7E7EB85C6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B73D-6976-40F1-B4ED-3B8BDA339AFD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Nocturne%20Improvis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6960" y="2214360"/>
            <a:ext cx="81770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6000" spc="-1" strike="noStrike">
                <a:solidFill>
                  <a:srgbClr val="0000cc"/>
                </a:solidFill>
                <a:latin typeface="Bradley Hand ITC"/>
              </a:rPr>
              <a:t>La Farmacia di Dio</a:t>
            </a:r>
            <a:r>
              <a:rPr b="0" lang="en-CA" sz="60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</p:spTree>
  </p:cSld>
  <p:transition spd="slow">
    <p:zoom dir="out"/>
    <p:sndAc>
      <p:stSnd>
        <p:snd r:embed="rId2" name="Nocturne%20Improvision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-1706400" y="29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-1706400" y="2989440"/>
            <a:ext cx="9522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78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Berlin Sans FB Demi"/>
                <a:ea typeface="Times New Roman"/>
              </a:rPr>
              <a:t>I fichi sono pieni di grani e si sospendono a due a due quando crescono. 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Berlin Sans FB Demi"/>
                <a:ea typeface="Times New Roman"/>
              </a:rPr>
              <a:t>I fichi aumentano la mobilità degli spermatozoi, ne favoriscono il numero e combattono anche la sterilità maschile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0" y="2832120"/>
            <a:ext cx="9525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382040" y="375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erlin Sans FB Demi"/>
                <a:ea typeface="Times New Roman"/>
              </a:rPr>
              <a:t>Le patate assomigliano ai pancreas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erlin Sans FB Demi"/>
                <a:ea typeface="Times New Roman"/>
              </a:rPr>
              <a:t>e in realtà  riequilibrano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Berlin Sans FB Demi"/>
                <a:ea typeface="Times New Roman"/>
              </a:rPr>
              <a:t>l’ indice glicemico dei diabetici</a:t>
            </a:r>
            <a:r>
              <a:rPr b="1" lang="en-US" sz="2400" spc="-1" strike="noStrike">
                <a:solidFill>
                  <a:srgbClr val="ffc000"/>
                </a:solidFill>
                <a:latin typeface="Bradley Hand ITC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ffc000"/>
                </a:solidFill>
                <a:latin typeface="Bradley Hand ITC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553400" y="2289240"/>
            <a:ext cx="559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erlin Sans FB Demi"/>
              </a:rPr>
              <a:t>Le olive autano la salute e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Berlin Sans FB Demi"/>
              </a:rPr>
              <a:t>il funzionamento  delle ovaie. 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-1827360" y="29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-1827360" y="2965320"/>
            <a:ext cx="9525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285840" y="366480"/>
            <a:ext cx="8572320" cy="62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Berlin Sans FB Demi"/>
                <a:ea typeface="Times New Roman"/>
              </a:rPr>
              <a:t>L’arancia, il pompelmo e gli altri frutti citrici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00"/>
                </a:solidFill>
                <a:latin typeface="Berlin Sans FB Demi"/>
                <a:ea typeface="Times New Roman"/>
              </a:rPr>
              <a:t>assomigliano alle ghiandole dei seni delle donne… </a:t>
            </a: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6600"/>
                </a:solidFill>
                <a:latin typeface="Berlin Sans FB Demi"/>
                <a:ea typeface="Times New Roman"/>
              </a:rPr>
              <a:t>Stimolano la salute  de seni  e il movimento interno e esterno delle linfe, nei seni.</a:t>
            </a:r>
            <a:r>
              <a:rPr b="1" lang="en-US" sz="2400" spc="-1" strike="noStrike">
                <a:solidFill>
                  <a:srgbClr val="cc6600"/>
                </a:solidFill>
                <a:latin typeface="Berlin Sans FB Demi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13840" y="213840"/>
            <a:ext cx="83185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Berlin Sans FB Demi"/>
              </a:rPr>
              <a:t>Le cipolle assomigliano alle cellule del corpo.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Le ricerche di oggi dimostrano che le cipoll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Aiutano a pulire i rifiuti su tutte le cellule corporali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Produ cono anche le lacrime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che lavano lo strato epiteliale degli occhi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Un altro collaboratore, l’ aglio,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aiuta anche a eliminare liberamente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Berlin Sans FB Demi"/>
              </a:rPr>
              <a:t>I rifiuti materiali radicalmente pericolosi del corpo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429080"/>
            <a:ext cx="8267760" cy="19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Bradley Hand ITC"/>
              </a:rPr>
              <a:t>PER FAVORE, non rompete la catena,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Bradley Hand ITC"/>
              </a:rPr>
              <a:t>Inviate queste note ai vostri corrispondenti  affinchè ne possano beneficiare.  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7" name="Picture 4" descr="image013(2)"/>
          <p:cNvPicPr/>
          <p:nvPr/>
        </p:nvPicPr>
        <p:blipFill>
          <a:blip r:embed="rId1"/>
          <a:stretch/>
        </p:blipFill>
        <p:spPr>
          <a:xfrm>
            <a:off x="3348000" y="836640"/>
            <a:ext cx="2448000" cy="3305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11280" y="414936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ecff"/>
                </a:solidFill>
                <a:latin typeface="Bradley Hand ITC"/>
              </a:rPr>
              <a:t>Questa candela è stata accesa il 15 settembre</a:t>
            </a:r>
            <a:r>
              <a:rPr b="1" lang="th-TH" sz="2800" spc="-1" strike="noStrike">
                <a:solidFill>
                  <a:srgbClr val="ccecff"/>
                </a:solidFill>
                <a:latin typeface="Bradley Hand ITC"/>
              </a:rPr>
              <a:t> 1998.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Qualcuno che Vi ama ha tradotto queste note in italiano </a:t>
            </a:r>
            <a:r>
              <a:rPr b="1" lang="it-IT" sz="2800" spc="-1" strike="noStrike">
                <a:solidFill>
                  <a:srgbClr val="ccecff"/>
                </a:solidFill>
                <a:latin typeface="Bradley Hand ITC"/>
              </a:rPr>
              <a:t>e le ha fatto rivivere inviandovele</a:t>
            </a:r>
            <a:r>
              <a:rPr b="1" lang="th-TH" sz="2800" spc="-1" strike="noStrike">
                <a:solidFill>
                  <a:srgbClr val="ccecff"/>
                </a:solidFill>
                <a:latin typeface="Bradley Hand ITC"/>
              </a:rPr>
              <a:t> </a:t>
            </a:r>
            <a:r>
              <a:rPr b="1" lang="en-US" sz="2800" spc="-1" strike="noStrike">
                <a:solidFill>
                  <a:srgbClr val="ccecff"/>
                </a:solidFill>
                <a:latin typeface="Bradley Hand ITC"/>
              </a:rPr>
              <a:t>perchè ne possiate approfittare</a:t>
            </a:r>
            <a:r>
              <a:rPr b="1" lang="th-TH" sz="2800" spc="-1" strike="noStrike">
                <a:solidFill>
                  <a:srgbClr val="ccecff"/>
                </a:solidFill>
                <a:latin typeface="Bradley Hand ITC"/>
              </a:rPr>
              <a:t>.</a:t>
            </a:r>
            <a:r>
              <a:rPr b="1" lang="th-TH" sz="2800" spc="-1" strike="noStrike">
                <a:solidFill>
                  <a:srgbClr val="ff9900"/>
                </a:solidFill>
                <a:latin typeface="Bradley Hand ITC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9" name="Picture 5" descr="image014"/>
          <p:cNvPicPr/>
          <p:nvPr/>
        </p:nvPicPr>
        <p:blipFill>
          <a:blip r:embed="rId1"/>
          <a:stretch/>
        </p:blipFill>
        <p:spPr>
          <a:xfrm>
            <a:off x="3059280" y="260280"/>
            <a:ext cx="352872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68360" y="285264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Non fare spegnere la candela dell’amore, della speranza e dell’amicizia</a:t>
            </a:r>
            <a:r>
              <a:rPr b="1" lang="th-TH" sz="3200" spc="-1" strike="noStrike">
                <a:solidFill>
                  <a:srgbClr val="ff9900"/>
                </a:solidFill>
                <a:latin typeface="Bradley Hand ITC"/>
              </a:rPr>
              <a:t>!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Passa queste note ai tuoi amici e a tutti coiloro che ami!  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L’ho ricevuta oggi per la prima volta e spero che mi ritornerà.   </a:t>
            </a:r>
            <a:br>
              <a:rPr sz="3200"/>
            </a:br>
            <a:r>
              <a:rPr b="1" lang="en-US" sz="3200" spc="-1" strike="noStrike">
                <a:solidFill>
                  <a:srgbClr val="ff9900"/>
                </a:solidFill>
                <a:latin typeface="Bradley Hand ITC"/>
              </a:rPr>
              <a:t>PER FAVORE, mantieni questa candela accesa !</a:t>
            </a:r>
            <a:r>
              <a:rPr b="1" lang="th-TH" sz="3200" spc="-1" strike="noStrike">
                <a:solidFill>
                  <a:srgbClr val="ff9900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1" name="Picture 4" descr="image014(2)"/>
          <p:cNvPicPr/>
          <p:nvPr/>
        </p:nvPicPr>
        <p:blipFill>
          <a:blip r:embed="rId1"/>
          <a:stretch/>
        </p:blipFill>
        <p:spPr>
          <a:xfrm>
            <a:off x="3419640" y="0"/>
            <a:ext cx="244944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2" descr=""/>
          <p:cNvPicPr/>
          <p:nvPr/>
        </p:nvPicPr>
        <p:blipFill>
          <a:blip r:embed="rId1"/>
          <a:stretch/>
        </p:blipFill>
        <p:spPr>
          <a:xfrm>
            <a:off x="0" y="201600"/>
            <a:ext cx="9240840" cy="6046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5840" y="248760"/>
            <a:ext cx="8713800" cy="7346160"/>
          </a:xfrm>
          <a:prstGeom prst="rect">
            <a:avLst/>
          </a:prstGeom>
          <a:solidFill>
            <a:srgbClr val="ccffff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Una carota assomigli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All’occhio umano, la pupilla, l’iride..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erlin Sans FB Demi"/>
              </a:rPr>
              <a:t>Le linee radiali assomigliano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Berlin Sans FB Demi"/>
              </a:rPr>
              <a:t>all’ organo oculare...</a:t>
            </a:r>
            <a:r>
              <a:rPr b="1" lang="en-US" sz="2800" spc="-1" strike="noStrike">
                <a:solidFill>
                  <a:srgbClr val="006600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E infine, la scienza dimostra attualment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che le carote migliorano molto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la circulazione sanguigna e la vista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3" name="Picture 3" descr="image001"/>
          <p:cNvPicPr/>
          <p:nvPr/>
        </p:nvPicPr>
        <p:blipFill>
          <a:blip r:embed="rId2"/>
          <a:stretch/>
        </p:blipFill>
        <p:spPr>
          <a:xfrm>
            <a:off x="3995640" y="1197000"/>
            <a:ext cx="1513080" cy="1452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14200" y="229680"/>
            <a:ext cx="8642520" cy="7590960"/>
          </a:xfrm>
          <a:prstGeom prst="rect">
            <a:avLst/>
          </a:prstGeom>
          <a:solidFill>
            <a:srgbClr val="ff99cc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Un  pomodoro è rosso ed è fatto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di quattro camere… 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Il Cuore ha quattro camere ed è di colore rosso.</a:t>
            </a:r>
            <a:r>
              <a:rPr b="1" lang="en-US" sz="2400" spc="-1" strike="noStrike">
                <a:solidFill>
                  <a:srgbClr val="ff0000"/>
                </a:solidFill>
                <a:latin typeface="Berlin Sans FB Demi"/>
                <a:ea typeface="PMingLiU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lin Sans FB Demi"/>
                <a:ea typeface="PMingLiU"/>
              </a:rPr>
              <a:t>Tutte le ricerche scientifiche dimostrano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lin Sans FB Demi"/>
                <a:ea typeface="PMingLiU"/>
              </a:rPr>
              <a:t>che I pomodori sono pieni di licopina 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lin Sans FB Demi"/>
                <a:ea typeface="PMingLiU"/>
              </a:rPr>
              <a:t>Sono veramente alimenti puri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Berlin Sans FB Demi"/>
                <a:ea typeface="PMingLiU"/>
              </a:rPr>
              <a:t>Del Cuore e del sangue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5" name="Picture 3" descr="image002(2)"/>
          <p:cNvPicPr/>
          <p:nvPr/>
        </p:nvPicPr>
        <p:blipFill>
          <a:blip r:embed="rId2"/>
          <a:stretch/>
        </p:blipFill>
        <p:spPr>
          <a:xfrm>
            <a:off x="142920" y="2858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382760" y="-1800"/>
            <a:ext cx="7118280" cy="6066360"/>
          </a:xfrm>
          <a:prstGeom prst="rect">
            <a:avLst/>
          </a:prstGeom>
          <a:solidFill>
            <a:srgbClr val="ffff00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L’uva è sospesa in grappol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a forma di cuore.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E ogni acino assomiglia a un globulo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Le ricerche di oggi dimostrano che gli acini sono alimenti nutritivi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f4f8"/>
                </a:solidFill>
                <a:latin typeface="Berlin Sans FB Demi"/>
              </a:rPr>
              <a:t>e rivitalizzano cuore e sangu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radley Hand ITC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68360" y="456480"/>
            <a:ext cx="8532720" cy="6006960"/>
          </a:xfrm>
          <a:prstGeom prst="rect">
            <a:avLst/>
          </a:prstGeom>
          <a:solidFill>
            <a:srgbClr val="c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Bradley Hand ITC"/>
                <a:ea typeface="PMingLiU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Berlin Sans FB Demi"/>
                <a:ea typeface="PMingLiU"/>
              </a:rPr>
              <a:t>   </a:t>
            </a: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Una noce assomiglia a un cervello, con un emisfero sinistro e derstro,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La corteccia cerebrale </a:t>
            </a:r>
            <a:r>
              <a:rPr b="1" i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upper cerebrums</a:t>
            </a:r>
            <a:br>
              <a:rPr sz="2400"/>
            </a:b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e il cerveletto </a:t>
            </a:r>
            <a:r>
              <a:rPr b="1" i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lower cerebellums</a:t>
            </a:r>
            <a:r>
              <a:rPr b="1" lang="en-US" sz="2400" spc="-1" strike="noStrike">
                <a:solidFill>
                  <a:srgbClr val="eff4f8"/>
                </a:solidFill>
                <a:latin typeface="Berlin Sans FB Demi"/>
                <a:ea typeface="PMingLiU"/>
              </a:rPr>
              <a:t>. 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</a:rPr>
              <a:t>Anche le rughe o le pieghe sulla noce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</a:rPr>
              <a:t>assomigliano a neo-cortecce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f4f8"/>
                </a:solidFill>
                <a:latin typeface="Berlin Sans FB Demi"/>
              </a:rPr>
              <a:t>Sappiamo che la noce aiuta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Berlin Sans FB Demi"/>
              </a:rPr>
              <a:t>A sviluppare oltre tre (3) dozzine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Berlin Sans FB Demi"/>
              </a:rPr>
              <a:t>di neuroni-trasmettitori per la funzione cerebrale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98" name="Picture 3" descr="image004"/>
          <p:cNvPicPr/>
          <p:nvPr/>
        </p:nvPicPr>
        <p:blipFill>
          <a:blip r:embed="rId2"/>
          <a:stretch/>
        </p:blipFill>
        <p:spPr>
          <a:xfrm>
            <a:off x="71280" y="71280"/>
            <a:ext cx="2303640" cy="1336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5274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rlin Sans FB Demi"/>
              </a:rPr>
              <a:t>Il fagiolo ha la forma del ren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f9"/>
                </a:solidFill>
                <a:latin typeface="Berlin Sans FB Demi"/>
              </a:rPr>
              <a:t>Cura 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f9"/>
                </a:solidFill>
                <a:latin typeface="Berlin Sans FB Demi"/>
              </a:rPr>
              <a:t>salvaguarda infatti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ef9"/>
                </a:solidFill>
                <a:latin typeface="Berlin Sans FB Demi"/>
              </a:rPr>
              <a:t>la funzione  renale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Berlin Sans FB Demi"/>
              </a:rPr>
              <a:t>E assomigliano, con precisione, al rene.</a:t>
            </a:r>
            <a:r>
              <a:rPr b="1" lang="en-US" sz="2800" spc="-1" strike="noStrike">
                <a:solidFill>
                  <a:srgbClr val="0000cc"/>
                </a:solidFill>
                <a:latin typeface="Berlin Sans FB Demi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62280"/>
            <a:ext cx="914400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Berlin Sans FB Demi"/>
              </a:rPr>
              <a:t>Il sedano, il Bok Choy, il rabarbaro assomigliano a ossa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Le ossa sono costituite al 23% di sodio e questi alimenti sono costituiti al 23% di sodio.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erlin Sans FB Demi"/>
              </a:rPr>
              <a:t>Se non hai sufficiente sodio nel tuo regime alimentare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erlin Sans FB Demi"/>
              </a:rPr>
              <a:t>il corpo si “riduce” prelevandolo dalle tue ossa, per conseguenza le indebolisce. 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Berlin Sans FB Demi"/>
              </a:rPr>
              <a:t>Questi alimenti ricostituiscono i bisogni ossei dei corpi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142920" y="1963440"/>
            <a:ext cx="90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L’ avocado, la melanzana e le pere “riguardano” la salute e la funzione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dell’ utero e la cervice della donna – assomigliano all’ organo femminile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Le ricerche di oggi dimostrano ch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quando una donna mangia un avocado alla settimana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riequlibra i propri ormones, evita l’eccesso di peso della nascita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eeef9"/>
                </a:solidFill>
                <a:latin typeface="Berlin Sans FB Demi"/>
                <a:ea typeface="Tahoma"/>
              </a:rPr>
              <a:t>e impedisce il cancro cervicale. 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i vogliono esattamente nove (9) mesi perchè un avocado arrivi a maturità,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dalla fioritura alla maturazione del frutto ;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i sono oltre 14.000 costituenti fotolitic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himici  della nutrizione ; ciascuno corrisponde a questi frutti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( La scienza moderna ne ha unicamente studiati e nominati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d050"/>
                </a:solidFill>
                <a:latin typeface="Berlin Sans FB Demi"/>
                <a:ea typeface="Tahoma"/>
              </a:rPr>
              <a:t>circa 141)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02" name="Picture 3" descr="avocado"/>
          <p:cNvPicPr/>
          <p:nvPr/>
        </p:nvPicPr>
        <p:blipFill>
          <a:blip r:embed="rId1"/>
          <a:stretch/>
        </p:blipFill>
        <p:spPr>
          <a:xfrm>
            <a:off x="0" y="0"/>
            <a:ext cx="3095640" cy="2492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eggplant"/>
          <p:cNvPicPr/>
          <p:nvPr/>
        </p:nvPicPr>
        <p:blipFill>
          <a:blip r:embed="rId2"/>
          <a:stretch/>
        </p:blipFill>
        <p:spPr>
          <a:xfrm>
            <a:off x="3203640" y="0"/>
            <a:ext cx="2881080" cy="249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pear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2438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1:18:49Z</dcterms:created>
  <dc:creator>謝財福</dc:creator>
  <dc:description/>
  <dc:language>en-US</dc:language>
  <cp:lastModifiedBy>U650170</cp:lastModifiedBy>
  <dcterms:modified xsi:type="dcterms:W3CDTF">2010-09-07T10:00:15Z</dcterms:modified>
  <cp:revision>102</cp:revision>
  <dc:subject/>
  <dc:title>PowerPoint 簡報</dc:title>
</cp:coreProperties>
</file>