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C901-40D1-43CD-B13F-D47EF38B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BEF-D5AB-4746-A659-4DCDF9D3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81A-E7D1-49E3-80B0-B1CBA207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DFBB-9545-4533-8A8C-C29E26CA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23F-5CF2-4854-88B3-178CB3A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C54-B460-4003-9DDF-FE087164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5D3-629E-425E-A983-15CE37C6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0BA9-477B-46E5-A5BA-F9F7A9CB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09C-E68C-442C-8CFD-09288942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005-C44D-443D-9A1B-15CDBA5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4BF-D07E-4121-AF99-058EF13C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0B03-B0D9-4DD3-8139-3D55A44B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C4E2-1744-466A-BC82-D5C15E7A6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L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AN-IPO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NFATICO GRAS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50000">
                <a:srgbClr val="ffff00">
                  <a:alpha val="70196"/>
                </a:srgbClr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RBON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27640" y="350028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486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362320"/>
            <a:ext cx="7921800" cy="228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ff0000"/>
                </a:solidFill>
                <a:uFillTx/>
                <a:latin typeface="Arial"/>
              </a:rPr>
              <a:t>OLIGOELEMEN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MAGNES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"/>
              </a:rPr>
              <a:t>RAM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ICLOOSSIGENASI,              SINTETASI,TRANSFER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BO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143000"/>
            <a:ext cx="4038480" cy="327672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DIFETTO MESO-ECTOBLASTICO”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DOBLASTA NON COMPENS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876920"/>
            <a:ext cx="4114800" cy="15969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5^- 2^- 3^- 4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219320"/>
            <a:ext cx="4038480" cy="304776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ENDOCRINISMO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ICOLOENDOTELIOSI, IDROFILIA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CIRCOLATORIE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BOLISMO RALLENTAT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DEL S.R.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952880"/>
            <a:ext cx="3487680" cy="144468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U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2852640"/>
            <a:ext cx="7921440" cy="16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DE, DISCRETE VELOCITA’ E DESTRE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869000"/>
            <a:ext cx="792144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REALIZZAT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557360"/>
            <a:ext cx="7921440" cy="165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DEROSO DI AGIRE E DI IMPORSI; IMPULSI COMBA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3645000"/>
            <a:ext cx="7921440" cy="26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ERCORTICO-SURRENALE; IPERGENITALE (ALTI TASSI DI TESTOSTERONE E FOLLICOLINA); IPERPITUITARICO ANTERI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2133720"/>
            <a:ext cx="8075520" cy="270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ZA A NEVROSI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CLOTIM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295280"/>
            <a:ext cx="8229600" cy="53341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Taraxacum Offic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Fega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Hieracium Pilos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Re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Arctium Lappa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Mesenchima/p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enna : intest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llium Cepa : vie respirato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Berberis : vie urina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areira Brava : parenchima ormon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ULFURICO - MES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752480"/>
            <a:ext cx="8229600" cy="33530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OLIGOELEMENTI  PER 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Zolf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Disfunzioni epato-bi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Manganese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OD, Catala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balt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stema Simpa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Litio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atecolamine Centr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609588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LFU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2120"/>
            <a:ext cx="4038480" cy="32763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CCESSIVI CATABOLITI ACIDI E INSUFFICIENTE DETOSSINAZIONE EPA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0"/>
            <a:ext cx="3505320" cy="19782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1^- 3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914400"/>
            <a:ext cx="3962520" cy="37339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STINALI, CUTANEI,MUSCOLARI, DEFICIT EMUNTORIALI, DISEPAT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CARDIOVASCOLARI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LLERANZ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METABOLISMI E LORO COMPLICA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5181480"/>
            <a:ext cx="3635640" cy="13399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EGGERA) SERO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2852640"/>
            <a:ext cx="7921440" cy="1656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FFICIENTE , PIU’ RESPIRATORIA CHE  MUSCOL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4869000"/>
            <a:ext cx="830592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STICITA’ MNEMONICO-REL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1557360"/>
            <a:ext cx="7921440" cy="1655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STEREOTIPIA POS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3645000"/>
            <a:ext cx="7921440" cy="26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ERCORTICO-SURRENALE; IPERGENITALE (ALTI TASSI DI TESTOSTERONE E FOLLICOLINA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VIG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OENDOCRINO REL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NFATICO MAG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0000ff">
                  <a:alpha val="70196"/>
                </a:srgbClr>
              </a:gs>
              <a:gs pos="50000">
                <a:srgbClr val="ccffff"/>
              </a:gs>
              <a:gs pos="100000">
                <a:srgbClr val="0000ff">
                  <a:alpha val="70196"/>
                </a:srgbClr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SFO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342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515772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09680"/>
            <a:ext cx="7923240" cy="232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33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NESTESI  PERFETTA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IA  REAT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523880"/>
            <a:ext cx="8077320" cy="495324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Passiflora Inc.:</a:t>
            </a:r>
            <a:r>
              <a:rPr b="1" i="1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Rumex Crispus:tonico gener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Ficus Car.:catecolammine cent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Juglans Regia : dismetabolis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ilosella : dren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leteurococus sent.: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eattivita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cc3300"/>
            </a:gs>
            <a:gs pos="100000">
              <a:srgbClr val="ff99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MURIATICO-COR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8076960" cy="426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cc3300"/>
                </a:solidFill>
                <a:uFillTx/>
                <a:latin typeface="Arial"/>
              </a:rPr>
              <a:t>OLIGOELEMEN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erossid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tal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Zn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i="1" lang="it-IT" sz="4000" spc="-1" strike="noStrike" u="sng">
                <a:solidFill>
                  <a:srgbClr val="000000"/>
                </a:solidFill>
                <a:uFillTx/>
                <a:latin typeface="Arial"/>
              </a:rPr>
              <a:t>T.R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icloossigen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RIA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914400"/>
            <a:ext cx="4343400" cy="396252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CESSIVI CATABOLITI ACIDI E INSUFFICIENTE CONTROLLO RADICALILIBERI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OMINANZA PINEALE E/O TIRO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5029200"/>
            <a:ext cx="3276720" cy="159696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1^- 3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00600" y="990720"/>
            <a:ext cx="3809880" cy="342900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INFATISMO ERETISTICO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ROPATIE CRONICHE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EPATISMO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AGENOPATIE DA RADICALI LIB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4800600"/>
            <a:ext cx="4016160" cy="17971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it-IT" sz="3000" spc="-1" strike="noStrike">
                <a:solidFill>
                  <a:srgbClr val="000000"/>
                </a:solidFill>
                <a:latin typeface="Arial"/>
              </a:rPr>
              <a:t>Zn/FeSeM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11280" y="3789360"/>
            <a:ext cx="7993080" cy="26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OTIVO; IPERSENSIBILITA’ IMMAGINATIVA E AFFETTIVA; SCARSA VOLONTA’; PAUROSO, PESSIMISTA; COMPLESSO DI INFERIOR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413000"/>
            <a:ext cx="799308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ASTRATTA, IDEALISTA, SOGNATORE, NON REALIZZA, NON CONCRET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341360"/>
            <a:ext cx="8207280" cy="5183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SEGNI NEUROENDOCR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PERSIMPATICOTONICO (CON IPERTIROIDISMO SECONDARIO), IPERPINEALICO, IPOPARATIROIDEO, IPERMEDULLOSURRENALICO (CON MAGGIORE PRODUZIONE DI ADRENALINA E NORADRENALINA), IPOCORTICOSURRENALICO, IPERPITUITARICO POSTERIORE, IPOPITUITARICO ANTERIORE, IPOGONADALE, IPOMENORRE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81080"/>
            <a:ext cx="8142120" cy="307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ff"/>
                </a:solidFill>
                <a:uFillTx/>
                <a:latin typeface="Arial"/>
              </a:rPr>
              <a:t>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ONIE NEUROVEGETATIV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IEZIONE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RESSION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447920"/>
            <a:ext cx="8065800" cy="4952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ff"/>
                </a:solidFill>
                <a:uFillTx/>
                <a:latin typeface="Arial"/>
              </a:rPr>
              <a:t>FITODERIVA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Equisetum Arv.:mineralizz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Rosa can.:immunostimola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Trigonella foen.:tono-trof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ibes Nigrum:antiinfiammat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bies Pectinata:ricostitu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Echinacea Ang.:anti-infet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FORICO - ECT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752480"/>
            <a:ext cx="8066160" cy="426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00ff"/>
                </a:solidFill>
                <a:uFillTx/>
                <a:latin typeface="Arial"/>
              </a:rPr>
              <a:t>OLIGOELEMEN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n-Cu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T.R.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TP;SN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enzimi digestiv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it-IT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FO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066680"/>
            <a:ext cx="4267440" cy="41148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SIMPATICOTON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PINAL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MIDOLLO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ALISMO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ERPITUITARISMO POST., IPOPITUITARISMO ANT., IPOCORTICO-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ENALISMO, IPOGONADISMO, IPOPARATIROD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5410080"/>
            <a:ext cx="3505320" cy="12924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2^-4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81480" y="5181480"/>
            <a:ext cx="3434040" cy="149220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143000"/>
            <a:ext cx="4114800" cy="380988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BE IRRORATIVE, STATI CATARRALI CRONICI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FUNZIONE EPATO-INTESTINA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TESI REUMATICA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FUNZIONE S.R.E., DIMAGRIMENTO E DEMINER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CONFU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O-DIS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EUCO FLEMMATICO DISCONTINU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00cc00"/>
              </a:gs>
              <a:gs pos="50000">
                <a:srgbClr val="ccff99">
                  <a:alpha val="50196"/>
                </a:srgbClr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LUO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27640" y="335772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450864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00cc00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3860640"/>
            <a:ext cx="8280360" cy="2592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BILITA’, SEMPRE IN MOVIMENTO, PARADOSSO, INDECISIONE, VERSATILITA’, DISORDINE, AGITAZIONE; CAPRICCIOSO, IRRISOL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1413000"/>
            <a:ext cx="828036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APACE DI PENSARE A LUNGO;  REALIZZATORE IMMEDIATO “SENZA RIFLETTE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341360"/>
            <a:ext cx="8064720" cy="518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00"/>
                </a:solidFill>
                <a:uFillTx/>
                <a:latin typeface="Arial"/>
              </a:rPr>
              <a:t>SEGNI NEUROENDOCR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ONIA NEURO-VEGETATIVA CON RISPOSTE VARIABILI, PARADOSSE E IMPREVEDIBILI, “STATO TIREO-SIMPATICO”, CON SIMPATICOTONIA E AUMENTO DEL METABOLISMO DI BASE; IPOSURRENALISMO DI FONDO, IPERGENITALISMO PRECOCE, TURBE IPOFISO-PANCREATICHE, DISMENORREA, DISFUNZIONI IPOFISARIE, PANCREATICHE, E SURRENAL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828800"/>
            <a:ext cx="8064360" cy="39164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cc00"/>
                </a:solidFill>
                <a:uFillTx/>
                <a:latin typeface="Arial"/>
              </a:rPr>
              <a:t>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TIMIE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ILE PERVERSIONE MENTALE (E SESSUA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ABILITA’ (FISICA)- MENTALE, TENDENZA ALLE PSICO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914400"/>
            <a:ext cx="8064720" cy="5791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cc00"/>
                </a:solidFill>
                <a:uFillTx/>
                <a:latin typeface="Arial"/>
              </a:rPr>
              <a:t>FITODERIVA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Salix Alba:app.osteo-legamento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la Acum.:</a:t>
            </a:r>
            <a:r>
              <a:rPr b="1" i="1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cortex cerbr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Hamamelis : sistema circol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ecoma curialis</a:t>
            </a:r>
            <a:r>
              <a:rPr b="1" i="1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:immunoreattiv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rataegus Ox.: app.cardi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elissa Off.:S.N.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Artemisia Abs.:psico-emozio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Gingko Bil.:ossigenazione centr./peri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cc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UORICO - DIS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371600"/>
            <a:ext cx="798840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00cc00"/>
                </a:solidFill>
                <a:uFillTx/>
                <a:latin typeface="Arial"/>
              </a:rPr>
              <a:t>OLIGOELEMENTI PER COSTITU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.C.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onnettivo;os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TPa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tiroide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metabol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it-IT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sistema epatointest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ccecff"/>
            </a:gs>
            <a:gs pos="100000">
              <a:srgbClr val="5e9e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838080"/>
            <a:ext cx="4114800" cy="342900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CAUSA “COSTITUZIONALE”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DIFETTO FIBROBLASTICO”;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GLIETTI EMBRIONALI NON SINERGIC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52880"/>
            <a:ext cx="3962520" cy="1673280"/>
          </a:xfrm>
          <a:prstGeom prst="rect">
            <a:avLst/>
          </a:prstGeom>
          <a:solidFill>
            <a:srgbClr val="feec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SOGGETTO REATTIV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ATESI 5^- 4^-2^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990720"/>
            <a:ext cx="3962160" cy="327636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ff0000"/>
                </a:solidFill>
                <a:uFillTx/>
                <a:latin typeface="Arial"/>
              </a:rPr>
              <a:t>SINTOMI: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LASSITA’ LEGAMENTI, MUSCOLI,VASI,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TESSUTI DI SOSTEGNO;</a:t>
            </a:r>
            <a:br>
              <a:rPr sz="3000"/>
            </a:b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ASIMMET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029200"/>
            <a:ext cx="3558960" cy="1568520"/>
          </a:xfrm>
          <a:prstGeom prst="rect">
            <a:avLst/>
          </a:prstGeom>
          <a:solidFill>
            <a:srgbClr val="feec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RIMEDIO DI FONDO:</a:t>
            </a:r>
            <a:br>
              <a:rPr sz="3000"/>
            </a:b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1196640"/>
            <a:ext cx="655308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llegamento tra diatesi oligoelementiche, miasmi omeopatici e nutriziona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-15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igmatizzazioni dei miasmi omeopatic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05264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OR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867280" y="685800"/>
            <a:ext cx="2952720" cy="192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be del ricambio ,centrifugazione allergica e centripetazione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251460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OTISMO (o sico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666880"/>
            <a:ext cx="295272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enomeni di iper-patologia, spesso definita come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971800"/>
            <a:ext cx="58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pereattività esagerata, reticolo-endoteliosi cronica, idrogenoi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557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to-etero-intossicazione c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867280" y="3962520"/>
            <a:ext cx="295272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lerosi,necr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5105520"/>
            <a:ext cx="2952720" cy="155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tologie croniche app. respiratorio , gastrointestinale, osteoarticol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96252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UET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5300640"/>
            <a:ext cx="36734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441972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zione progressiva, distribuzione che parte dalla circolazione e invade tutto l’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57340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idratazione, demineralizzazione e ossigenoidismo progr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67280" y="134136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281952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4149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5589720"/>
            <a:ext cx="165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304920"/>
            <a:ext cx="3733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A REATTI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1^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40464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Muriatici e Sulfurici a predominanza muscolare (hanno bisogno di esercizio fisico per eliminare le tos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276720"/>
            <a:ext cx="8496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e  – Stenica, di azione “centrifuga” (gli emuntori eliminano ciò che può andare a nocum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12193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86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ta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627280" y="4941720"/>
            <a:ext cx="6192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nza di fenomeni patologici, ricorrenze e/o alternanze di malattie in vari distretti organici; centrifugazione verso la pelle e il tubo gastro-intestinale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llera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0880" y="304920"/>
            <a:ext cx="4038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ORA AREATTIVA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4^CuAu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 Sulfurici e Carbonici  hanno bisogno di esercizio fisico per eliminare le tos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2590920"/>
            <a:ext cx="85914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A – Defaillance degli emun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B – “Centripeta” o di scompenso (anergia funzionale conclamata, lesioni a livello dei sistemi osteo-articolare, arterioso e dei visce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12193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869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tterizzata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941720"/>
            <a:ext cx="6192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ernanza di fenomeni patologici, ricorrenze e/o alternanze di malattie in vari distretti organici; insufficienza progressiva emuntor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ico tossi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VIV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PER-DIS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IMMUNOREAT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50000">
                <a:srgbClr val="ff9900"/>
              </a:gs>
              <a:gs pos="100000">
                <a:srgbClr val="cc3300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LFU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42900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27640" y="4797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28600" y="304920"/>
            <a:ext cx="3886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ICO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3^ M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52880" y="22860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iotipi Muriatici e Sulfurici (specie disepatic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metabolici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gra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9144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2209680"/>
            <a:ext cx="468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tero-intossicazione amplificata da infezioni e vaccinazioni ripe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3733920"/>
            <a:ext cx="7417080" cy="26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agerate imbibizioni tissutali con eccesso di liquidi interstizi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denza all’idrogenoi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cili proliferazioni cellulari anor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ntativi di coli mucopurolenti acuti e subac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rbe PNEI : dismetabolismo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sendocri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5228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UE - DIATESI 5^ ZnCu/Zn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57600" y="53352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tipi misti e FLUORICI e/o CARBON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83808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19700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508720" y="1341360"/>
            <a:ext cx="33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ggetti sulfo-fluorici Soggetti carbo-fluorici Soggetti fosfo-fluo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43280" y="234936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43280" y="198900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1628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1295280"/>
            <a:ext cx="4191120" cy="54352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dalità di reazione povera agli stimoli micro e macro ambient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abili fattori etiologi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ssina sifilit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.Autoimmu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ttori igienico-dietetici che alterano la normale cresc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o ciò che inficia la normale fisiologia dell’individuo (alcol, malattie ripetitive, malnutr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2971800"/>
            <a:ext cx="403236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intomi diatesici fondamentali sono: la tendenza ai processi distruttivi dei tessuti di sostegno con una reazione di sclerosi e un disquilibrio nervoso, con un aggravamento soprattutto notturno di tutti i sinto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5280" y="836640"/>
            <a:ext cx="3240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pacità di risposta del soggetto dipende dalla sua effici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476280"/>
            <a:ext cx="410364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gior capacità di avere il corredo enzimatico completo e attivo, disposto a meglio recepire l’informazione terapeu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5128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51280" y="155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4437000"/>
            <a:ext cx="1728720" cy="11527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vid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3141720"/>
            <a:ext cx="237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zione oligoeleme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3352680"/>
            <a:ext cx="3527640" cy="312444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ganis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attività enzimat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e migliore 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trà elaborare me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inform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la corre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ape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86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767640" y="3733920"/>
            <a:ext cx="2376360" cy="26668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rr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apeu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rà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tto migli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 dura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84720" y="4869000"/>
            <a:ext cx="36036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42920" y="400536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GGETTI PSORICI REATTIV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TESI 1^ M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1600200"/>
            <a:ext cx="70578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ase 1. Stenica centrifuga,intolleranze, ipertrasmissioni nervose perifer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3200400"/>
            <a:ext cx="849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sposta dell’organismo a correzioni relative a questa fase  migliorerà la predisposizione genetica all’iper-reattività iniziale potenzialmente direzionabile in una insufficienza degli emuntori per la presenza degli oligoelementi propri della 1^ diatesi Menetrer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28600" y="228600"/>
            <a:ext cx="193680" cy="4665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PSORICI ANERGIC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4^ CuAu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371600"/>
            <a:ext cx="7058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Fase 2. Astenica centripeta, fase di defaillance,inficiamento progressivo delle attività emuntor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429000"/>
            <a:ext cx="8496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isposta dell’organismo a correzioni relative a questa fase migliorerà la predisposizione genetica al mutismo biologico degli organi emuntoriali, con aumento di radicali liberi, rallentamento delle funzioni centrali di controllo, rischio eteropla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TUBERCOLINICI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TESI 2^ Mn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58920" y="1341360"/>
            <a:ext cx="65516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usilio degli oligoelementi correttivi della 2^ diatesi di Menetrier ipostenica, manganese-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743200"/>
            <a:ext cx="6551640" cy="37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zzo di Oligoelementi propri dele COSTITUZIONI LINFATICHE per correggere la difficoltà assimilativa, la demineralizzazione, la scarsa biodisponibilità degli oligoelementi,la scarsa capacità immuno-compet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nella fase relativamente più reattiva simpaticotonica-fosfo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nella fase ipoergica, rallentata parasimpaticotonica-carbo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SICOTICI-DIATESI 3^ M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990720"/>
            <a:ext cx="7111800" cy="17474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3^ diatesi di Menetrier si avvicina a una reticolo-endoteliosi-cronica, in cui vi è una iperattività che diventa facilmente disreattivi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antaggioso l’utilizzo di manganese-cob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2971800"/>
            <a:ext cx="73911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rimedi di fondo devono migliorare e prevenire le disfunzioni PNEI e il dismetabolismo gener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8080" y="4038480"/>
            <a:ext cx="74170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 soggetti con difficoltà costituzionali (SULFURICI-CARBONICI) per alterazioni del mesenchima da abnorme presenza di cataboliti acidi e scarso controllo sulle iperpatologie locali,in una fase più passiva parasimpaticotonica, i rimedi di fondo sono OLIGOELEMENTI  S e M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GGETTI LUESINICI-DIATESI 5^ ZnCu/Zn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1143000"/>
            <a:ext cx="79246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questi soggetti dove prevale disarmonia per difetto di controllo dell’A.C.H., vi è una correzione con oligoelementi della 5^ diatesi di Menetr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362320"/>
            <a:ext cx="828036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 gli oligoelementi propri della Costituzione FLUORICA nella fase di reattività simpaticotonica , con poliartralgie, lassità capsulari e legamentose, lassità muscolari, turbe vascolari periferi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4221000"/>
            <a:ext cx="86421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tili gli oligoelementi propri della Costituzione CARBONICA nella fase slatentizzata parasimpaticotonica, con turbe dell’asse cortico-ipofisario, dell’asse ipofisi-endocrinia periferica, con malattie autoimmuni, turbe vascolari non solo periferiche ma anche centr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ASSUM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55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sora in fase ste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076720" y="155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514600"/>
            <a:ext cx="338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sora in fase astenic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8862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38862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-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1280" y="479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co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76720" y="479736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ganese-cobal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5715000"/>
            <a:ext cx="33829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uet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76720" y="5516640"/>
            <a:ext cx="3382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nco-nichel-cobalto Zinco-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11640" y="170028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191120" y="2895480"/>
            <a:ext cx="647640" cy="114480"/>
          </a:xfrm>
          <a:prstGeom prst="leftRightArrow">
            <a:avLst>
              <a:gd name="adj1" fmla="val 50000"/>
              <a:gd name="adj2" fmla="val 112621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91120" y="4038480"/>
            <a:ext cx="647640" cy="144720"/>
          </a:xfrm>
          <a:prstGeom prst="leftRightArrow">
            <a:avLst>
              <a:gd name="adj1" fmla="val 50000"/>
              <a:gd name="adj2" fmla="val 890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11640" y="4941720"/>
            <a:ext cx="647640" cy="144720"/>
          </a:xfrm>
          <a:prstGeom prst="leftRightArrow">
            <a:avLst>
              <a:gd name="adj1" fmla="val 50000"/>
              <a:gd name="adj2" fmla="val 89088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211640" y="5877000"/>
            <a:ext cx="647640" cy="144360"/>
          </a:xfrm>
          <a:prstGeom prst="leftRightArrow">
            <a:avLst>
              <a:gd name="adj1" fmla="val 50000"/>
              <a:gd name="adj2" fmla="val 89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2590920"/>
            <a:ext cx="3429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meOroArg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990000"/>
                </a:solidFill>
                <a:latin typeface="Roman"/>
              </a:rPr>
              <a:t>P.N.E.I.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03280" y="691920"/>
            <a:ext cx="64008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EREBRALE SINTE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RMO-ENDOCR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NORMO-IMMUNO COMPET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1916280"/>
            <a:ext cx="3384360" cy="136836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50000">
                <a:srgbClr val="ccccff">
                  <a:alpha val="70196"/>
                </a:srgbClr>
              </a:gs>
              <a:gs pos="100000">
                <a:srgbClr val="cc66ff"/>
              </a:gs>
            </a:gsLst>
            <a:lin ang="5400000"/>
          </a:gra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URIA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7640" y="134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3357720"/>
            <a:ext cx="215640" cy="502920"/>
          </a:xfrm>
          <a:prstGeom prst="downArrow">
            <a:avLst>
              <a:gd name="adj1" fmla="val 50000"/>
              <a:gd name="adj2" fmla="val 58306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458136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cc66ff"/>
          </a:solidFill>
          <a:ln w="93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Turbe psicosomati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587700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chema semplificato illustrante le vie neurofisiologiche che portano dall’emozione alla les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340000" y="1268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TECCIA CEREB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40000" y="2060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LIMB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78000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219640" y="1700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84360" y="263700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484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2924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OTALA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076720" y="292428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RETI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3500280"/>
            <a:ext cx="324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78936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 IPOFISO-CORTICO-SURRE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789360"/>
            <a:ext cx="36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NEUROVEGET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494172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S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48000" y="49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SI SANGUI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8472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48360" y="3645000"/>
            <a:ext cx="39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IONE MUSCO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4360" y="335772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5" name=""/>
          <p:cNvGraphicFramePr/>
          <p:nvPr/>
        </p:nvGraphicFramePr>
        <p:xfrm>
          <a:off x="0" y="765000"/>
          <a:ext cx="9144000" cy="6092640"/>
        </p:xfrm>
        <a:graphic>
          <a:graphicData uri="http://schemas.openxmlformats.org/drawingml/2006/table">
            <a:tbl>
              <a:tblPr/>
              <a:tblGrid>
                <a:gridCol w="1403280"/>
                <a:gridCol w="1440000"/>
                <a:gridCol w="1728720"/>
                <a:gridCol w="2521080"/>
                <a:gridCol w="205092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o di v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presentan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stenza di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uni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ncipio nell’uomo: corp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itua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è l’unica realt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materia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è l’unica realt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idealisti del XIX secolo; Hegel Hobbes, de La Mettrie, Cabanis Moleshhott, Haeck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A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stenza di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divers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incipi nell’uomo: corp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omorf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azion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lis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lellismo psico-fis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costituiscon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’unica sost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son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e sostanze dotate di influenza recipro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anima son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e sostanze agenti in maniera indipend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 e spirito sono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ue aspetti diversi dell’uo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stotele, Tomaso d’Aquino, neoscolasti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ar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ibn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u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1692360" y="260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IL PROBLEMA CORPO-SPI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148360" y="54936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148360" y="191628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867280" y="3141720"/>
            <a:ext cx="1729080" cy="165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093080" y="54936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93080" y="1916280"/>
            <a:ext cx="122400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867280" y="4941720"/>
            <a:ext cx="172908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por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734080"/>
            <a:ext cx="172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33336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NTERAZION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sono diversi e separati, ma esercitano un’influenza recipr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16720" y="112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6443280" y="112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877080" y="2133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62864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ARALLELL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sono distinti e separati, non esercitano influenza reciproca, ma, le attività corporee e mentali sono in perfetta correl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64500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ILOMORFIS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po e spirito costituiscono una sostanza compl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94028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EORIE DEL DUPLICE ASP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L’essere umano è un organismo che si manifesta sotto due diversi aspetti: corporeo e ment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248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Storia e dott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755640" y="1557360"/>
            <a:ext cx="76327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zione schematica del concetto di specificità nell’eziologia delle turbe delle funzioni viscerali. Questo diagramma mostra due generi di risposta viscerale agli stati emozionali. A destra, si vedono le turbe che possono svilupparsi quando l’espressione delle tendenze ostili aggressive (lotta o fuga) è bloccata e non si traduce in comportamento manifesto; a sinistra, le turbe che si sviluppano quando le tendenze alla dipendenza e alla ricerca di appoggio sono bloc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427640" y="907920"/>
            <a:ext cx="431640" cy="3384720"/>
          </a:xfrm>
          <a:custGeom>
            <a:avLst/>
            <a:gdLst>
              <a:gd name="textAreaLeft" fmla="*/ 0 w 431640"/>
              <a:gd name="textAreaRight" fmla="*/ 155880 w 43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28800" y="1676520"/>
            <a:ext cx="5006880" cy="441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ssuto connettivo (istioci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gato (cellule di Kupff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lmone (macrofagi alveola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fonoidi (macrofagi sessili e cellule interdigit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lza e midollo (macrofaci stanzi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sso (osteocla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te (istiociti e cellule di Langerh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novia (cellule di tipo 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 tessuti (macrofagi tissut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43200" y="380880"/>
            <a:ext cx="3352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.R.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990000"/>
                </a:solidFill>
                <a:latin typeface="Arial"/>
              </a:rPr>
              <a:t>Basi anatomo-funzionali della immunoendocrinolog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528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ppresentazione schematica delle tappe differenziative delle cellule della linea monocitario-macrofa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5280" y="90792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 stami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162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 staminale orien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5280" y="234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bla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5280" y="306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-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378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5280" y="450864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5280" y="5229360"/>
            <a:ext cx="3887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7640" y="907920"/>
            <a:ext cx="431640" cy="3384720"/>
          </a:xfrm>
          <a:custGeom>
            <a:avLst/>
            <a:gdLst>
              <a:gd name="textAreaLeft" fmla="*/ 0 w 431640"/>
              <a:gd name="textAreaRight" fmla="*/ 155880 w 43164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48360" y="234936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ollo os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148360" y="450864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gue perife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148360" y="5229360"/>
            <a:ext cx="316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s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0000" y="1413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40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4000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501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34000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 u="sng">
                <a:solidFill>
                  <a:srgbClr val="990000"/>
                </a:solidFill>
                <a:uFillTx/>
                <a:latin typeface="Arial"/>
              </a:rPr>
              <a:t>Differenziazione delle cellule staminali linfomieloidi pluripot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785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93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00"/>
                </a:solidFill>
                <a:uFillTx/>
                <a:latin typeface="Arial"/>
              </a:rPr>
              <a:t>Sviluppo, interazioni e cellule effettrici del sistema im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Principali malattie associate </a:t>
            </a:r>
            <a:br>
              <a:rPr sz="2400"/>
            </a:br>
            <a:r>
              <a:rPr b="1" lang="it-IT" sz="2400" spc="-1" strike="noStrike">
                <a:solidFill>
                  <a:srgbClr val="990000"/>
                </a:solidFill>
                <a:latin typeface="Arial"/>
              </a:rPr>
              <a:t>alla candidosi muco-cutanea cro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765000"/>
          <a:ext cx="9144000" cy="60930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t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ntuale dei cas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crinopa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surrenal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paratiroid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za ovar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potiroid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bete melli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endocrinopatie autoimmun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ttie cutan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pecia tot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ilig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re malatt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ratite cron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drome da malassorb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atite cronic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11280" y="1484280"/>
            <a:ext cx="7921440" cy="100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TE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2852640"/>
            <a:ext cx="7921440" cy="12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RESISTENZA ALLO SFORZO FI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R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4437000"/>
            <a:ext cx="7923240" cy="1811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PETTO INTELLE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LIGENZA ANALITICA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TEZZA APPREND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3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16000" y="1773360"/>
            <a:ext cx="6912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omitanza dei sinto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268280"/>
            <a:ext cx="1979640" cy="1873440"/>
          </a:xfrm>
          <a:prstGeom prst="diamond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164360" y="1268280"/>
            <a:ext cx="1979640" cy="18734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979640" y="1557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907640" y="278136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7164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172360" y="314172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3429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psich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422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psico-neurolog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58920" y="5013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neuro-metabol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5892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neuro-endoc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609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92720" y="3789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tomi endocr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11640" y="4653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disfunz. d’org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0720" y="5445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ntomi patol. d’org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7811640" y="57340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7811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81164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50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71640" y="530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37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413000"/>
            <a:ext cx="3457440" cy="187308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1. Regolazio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diencefal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859280" y="1844640"/>
            <a:ext cx="3456000" cy="187020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rv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no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4005360"/>
            <a:ext cx="3456000" cy="18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r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0" y="4508640"/>
            <a:ext cx="3456000" cy="187164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4. Siste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immunocompe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583800">
            <a:off x="3850920" y="2349360"/>
            <a:ext cx="936720" cy="432000"/>
          </a:xfrm>
          <a:prstGeom prst="rightArrow">
            <a:avLst>
              <a:gd name="adj1" fmla="val 50000"/>
              <a:gd name="adj2" fmla="val 5420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583800">
            <a:off x="4355640" y="5013360"/>
            <a:ext cx="936720" cy="431640"/>
          </a:xfrm>
          <a:prstGeom prst="rightArrow">
            <a:avLst>
              <a:gd name="adj1" fmla="val 50000"/>
              <a:gd name="adj2" fmla="val 542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rot="9152400">
            <a:off x="4066920" y="3789000"/>
            <a:ext cx="1296720" cy="431640"/>
          </a:xfrm>
          <a:prstGeom prst="rightArrow">
            <a:avLst>
              <a:gd name="adj1" fmla="val 50000"/>
              <a:gd name="adj2" fmla="val 751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2637000"/>
            <a:ext cx="2484360" cy="158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ATTAME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T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59280" y="40464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zione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arme, acu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tato di shock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 shoc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059280" y="256536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Reazione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ttamento (f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 difesa 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nsazion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059280" y="4724280"/>
            <a:ext cx="273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3. Fa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i esaurimen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(decompensazio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dei meccanismi d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dattamen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692280"/>
            <a:ext cx="298764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Lungo l’as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drenerg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56360" y="2276640"/>
            <a:ext cx="2987640" cy="115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sse anteipofise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CTH glucocortico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3573360"/>
            <a:ext cx="298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Ormone somatotrop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STH mineralcorticoid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56360" y="5084640"/>
            <a:ext cx="2987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mpenso S.R.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627280" y="328464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96000" y="112536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96000" y="5589720"/>
            <a:ext cx="287280" cy="288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000" y="285264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796000" y="3860640"/>
            <a:ext cx="28728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2316600">
            <a:off x="2195280" y="4436640"/>
            <a:ext cx="934920" cy="360360"/>
          </a:xfrm>
          <a:prstGeom prst="rightArrow">
            <a:avLst>
              <a:gd name="adj1" fmla="val 50000"/>
              <a:gd name="adj2" fmla="val 648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rot="19149000">
            <a:off x="2123640" y="1988640"/>
            <a:ext cx="935280" cy="360360"/>
          </a:xfrm>
          <a:prstGeom prst="rightArrow">
            <a:avLst>
              <a:gd name="adj1" fmla="val 50000"/>
              <a:gd name="adj2" fmla="val 648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4284720" y="220500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284720" y="4365720"/>
            <a:ext cx="287280" cy="287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SCHERL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0920" y="1413000"/>
            <a:ext cx="3313080" cy="1295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MOZIONE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O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50920" y="4653000"/>
            <a:ext cx="3313080" cy="12952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er soddisfa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opri bisogni libid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508720" y="4653000"/>
            <a:ext cx="3313080" cy="129708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soddisfare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ri bisog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 pun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916360" y="3141720"/>
            <a:ext cx="3313080" cy="1295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MAT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rot="19210800">
            <a:off x="2994120" y="2556000"/>
            <a:ext cx="557280" cy="733320"/>
          </a:xfrm>
          <a:prstGeom prst="downArrow">
            <a:avLst>
              <a:gd name="adj1" fmla="val 50000"/>
              <a:gd name="adj2" fmla="val 3289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508640"/>
            <a:ext cx="1655640" cy="108108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156360" y="378936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prurito a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651640" y="6004080"/>
            <a:ext cx="349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dol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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 di autopuni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6004080"/>
            <a:ext cx="30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empio: prur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 di piac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08360" y="1413000"/>
            <a:ext cx="1727280" cy="7189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492360" y="2492280"/>
            <a:ext cx="2087640" cy="72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700360" y="3573360"/>
            <a:ext cx="3743280" cy="72072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ZIONI CORPO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124000" y="479736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700360" y="5877000"/>
            <a:ext cx="3743280" cy="720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ORGANO BERSAG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788000" y="479736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912000" y="407664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076640"/>
            <a:ext cx="2232000" cy="64764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T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213372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27640" y="3213000"/>
            <a:ext cx="36036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rot="20871600">
            <a:off x="6312960" y="3555720"/>
            <a:ext cx="1211400" cy="792000"/>
          </a:xfrm>
          <a:custGeom>
            <a:avLst/>
            <a:gdLst>
              <a:gd name="textAreaLeft" fmla="*/ 0 w 1211400"/>
              <a:gd name="textAreaRight" fmla="*/ 1211760 w 12114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4914" y="11328"/>
                </a:moveTo>
                <a:arcTo wR="-5910" hR="-5910" stAng="10492494" swAng="-7975151"/>
                <a:lnTo>
                  <a:pt x="2768" y="3580"/>
                </a:lnTo>
                <a:arcTo wR="10800" hR="10800" stAng="-8282658" swAng="7975151"/>
                <a:lnTo>
                  <a:pt x="24246" y="9594"/>
                </a:lnTo>
                <a:lnTo>
                  <a:pt x="19581" y="15178"/>
                </a:lnTo>
                <a:lnTo>
                  <a:pt x="13997" y="1051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rot="2532000">
            <a:off x="6659280" y="4005360"/>
            <a:ext cx="1152360" cy="2520720"/>
          </a:xfrm>
          <a:custGeom>
            <a:avLst/>
            <a:gdLst>
              <a:gd name="textAreaLeft" fmla="*/ 0 w 1152360"/>
              <a:gd name="textAreaRight" fmla="*/ 1152360 w 115236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5778" y="4156"/>
                </a:moveTo>
                <a:arcTo wR="-8329" hR="-8329" stAng="-7625154" swAng="-5938794"/>
                <a:lnTo>
                  <a:pt x="18293" y="3023"/>
                </a:lnTo>
                <a:arcTo wR="10800" hR="10800" stAng="-2763948" swAng="5938794"/>
                <a:lnTo>
                  <a:pt x="18941" y="21569"/>
                </a:lnTo>
                <a:lnTo>
                  <a:pt x="13428" y="20803"/>
                </a:lnTo>
                <a:lnTo>
                  <a:pt x="14194" y="152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9896600">
            <a:off x="5363640" y="4292280"/>
            <a:ext cx="360360" cy="426960"/>
          </a:xfrm>
          <a:prstGeom prst="downArrow">
            <a:avLst>
              <a:gd name="adj1" fmla="val 50000"/>
              <a:gd name="adj2" fmla="val 2962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rot="1741200">
            <a:off x="3435480" y="4305240"/>
            <a:ext cx="345960" cy="419040"/>
          </a:xfrm>
          <a:prstGeom prst="downArrow">
            <a:avLst>
              <a:gd name="adj1" fmla="val 50000"/>
              <a:gd name="adj2" fmla="val 3028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51640" y="544500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059280" y="5445000"/>
            <a:ext cx="358560" cy="433440"/>
          </a:xfrm>
          <a:prstGeom prst="downArrow">
            <a:avLst>
              <a:gd name="adj1" fmla="val 50000"/>
              <a:gd name="adj2" fmla="val 3022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 rot="524400">
            <a:off x="1763280" y="3500280"/>
            <a:ext cx="1150920" cy="81144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811440"/>
              <a:gd name="textAreaBottom" fmla="*/ 811800 h 811440"/>
            </a:gdLst>
            <a:ahLst/>
            <a:rect l="textAreaLeft" t="textAreaTop" r="textAreaRight" b="textAreaBottom"/>
            <a:pathLst>
              <a:path w="21600" h="21600">
                <a:moveTo>
                  <a:pt x="4914" y="11328"/>
                </a:moveTo>
                <a:arcTo wR="-5910" hR="-5910" stAng="10492494" swAng="-7975151"/>
                <a:lnTo>
                  <a:pt x="2768" y="3580"/>
                </a:lnTo>
                <a:arcTo wR="10800" hR="10800" stAng="-8282658" swAng="7975151"/>
                <a:lnTo>
                  <a:pt x="24246" y="9594"/>
                </a:lnTo>
                <a:lnTo>
                  <a:pt x="19581" y="15178"/>
                </a:lnTo>
                <a:lnTo>
                  <a:pt x="13997" y="10513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 rot="19049400">
            <a:off x="1197000" y="4029120"/>
            <a:ext cx="1368360" cy="2521080"/>
          </a:xfrm>
          <a:custGeom>
            <a:avLst/>
            <a:gdLst>
              <a:gd name="textAreaLeft" fmla="*/ -360 w 1368360"/>
              <a:gd name="textAreaRight" fmla="*/ 1368360 w 13683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1600" h="21600">
                <a:moveTo>
                  <a:pt x="5778" y="4156"/>
                </a:moveTo>
                <a:arcTo wR="-8329" hR="-8329" stAng="-7625154" swAng="-6437490"/>
                <a:lnTo>
                  <a:pt x="17090" y="2021"/>
                </a:lnTo>
                <a:arcTo wR="10800" hR="10800" stAng="-3262644" swAng="6437490"/>
                <a:lnTo>
                  <a:pt x="18941" y="21569"/>
                </a:lnTo>
                <a:lnTo>
                  <a:pt x="13428" y="20803"/>
                </a:lnTo>
                <a:lnTo>
                  <a:pt x="14194" y="1529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43640" y="148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80000" y="1773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516720" y="155736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tori non spec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443640" y="256536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51640" y="2852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16720" y="263700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tori specif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64360" y="602136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d perso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 IPOFISI-TIROIDE DOSE DIPEND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71640" y="2492280"/>
            <a:ext cx="1584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S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4869000"/>
            <a:ext cx="158436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3 - T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80000" y="4724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cremen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produzione di Ig indotta da attivatori policl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56000" y="5157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80000" y="1484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tenzi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in modo indipendente) risposte anticorpali verso antigeni T-dip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2997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imol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infocit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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ecrezione di molecole immuno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556000" y="213336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56000" y="278136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.T.H., CALCITONINA, VITAMINA D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68360" y="1989000"/>
            <a:ext cx="2951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T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39640" y="5516640"/>
            <a:ext cx="29527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TAMINA 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11640" y="55897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bis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zioni di IL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5805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211640" y="191628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men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posta immune ad antigeni es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211640" y="3716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inuis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posta immune ad antigeni es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68360" y="3789360"/>
            <a:ext cx="2951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ON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19640" y="4076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419640" y="2276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MONI SESS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1557360"/>
            <a:ext cx="24480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S.H., L.H., H.C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11640" y="1700280"/>
            <a:ext cx="46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luenza diretta su sistema imm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19640" y="1844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3141720"/>
            <a:ext cx="309708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trog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gesti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5229360"/>
            <a:ext cx="3097080" cy="13683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ANDROGE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95640" y="5589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ppressione di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2920" y="5373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O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622920" y="616572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6443640" y="566064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443640" y="6021360"/>
            <a:ext cx="576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492360" y="59500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2781360"/>
            <a:ext cx="50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- regolazione secrezione IgA secreto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27640" y="364500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 amplificazione risposte di tipo um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356000" y="4508640"/>
            <a:ext cx="47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 inibizione di funzioni effettrici mediate da cell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492360" y="393372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306864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140360" y="306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14036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ECOLAMINE E ACETILCO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413000"/>
            <a:ext cx="2376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FOCITI GRANULOCITI E MAST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2924280"/>
            <a:ext cx="237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AST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564000" y="371628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- recircolazione e distribuzione linfociti in orga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64000" y="4437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- incremento attività citossica-linfociti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564000" y="486900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- risposta proliferativa ai fitomitoge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64000" y="5300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 sintesi di componenti del complemento da parte dei 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564000" y="603576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-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releaseabi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mediatori chimici da mast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9640" y="4508640"/>
            <a:ext cx="2303640" cy="122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916360" y="5157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03640" y="4005360"/>
            <a:ext cx="0" cy="23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0364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20364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03640" y="5589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630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924360" y="292428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cettor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1844640"/>
            <a:ext cx="2376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cettori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98764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87640" y="31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588000" y="184464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tecol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588000" y="2924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catecol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468360" y="249228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68360" y="573408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R.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492360" y="55897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ffetto immunostimolatorio (specie sintesi di Ig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7280" y="602136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419640" y="191628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. Sviluppo e mantenimento di “competenza immunologic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32000" y="436572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zione 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8360" y="4365720"/>
            <a:ext cx="21589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27280" y="4653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627280" y="234936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.H., P.R.L., INSULINA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UENZANO IL SISTEMA IMMUNITARIO IN MANIERA INDIRETTA (CONDIZIONANDONE IL METABOL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627280" y="278136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19640" y="299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timola risp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16720" y="278136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tipo sier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516720" y="3284640"/>
            <a:ext cx="26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tipo 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6156360" y="306864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56360" y="328464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56360" y="3933720"/>
            <a:ext cx="273672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ten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 corretto funzion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to del siste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51280" y="3645000"/>
            <a:ext cx="24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ttori di linfociti T e B attiva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067280" y="479736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2 recettori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≠ dai monoci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4360" y="4797360"/>
            <a:ext cx="36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3924360" y="40762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867280" y="501300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40360" y="4076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413000"/>
            <a:ext cx="7921440" cy="21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ASPETTO CARATTERIOLO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MO, SONNOLENTO; APATICO, SEDENTARIO, RINUNCIATARIO, METOD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3860640"/>
            <a:ext cx="7921440" cy="26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GNI NEUROENDOCR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OGONADALE, IPOTIROIDEO, SECONDARIO IPERTIMICO, IPERPARATIROIDEO, VAGOTONICO, IPERTER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SE IPOTALAMO-IPOFISI-SURR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403280" y="1628640"/>
            <a:ext cx="1584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C.T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03280" y="2852640"/>
            <a:ext cx="15829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r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900000" y="4076640"/>
            <a:ext cx="252108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golazione glucocortico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5734080"/>
            <a:ext cx="38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unosoppress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012000" y="1628640"/>
            <a:ext cx="143964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R.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32360" y="2852640"/>
            <a:ext cx="3672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munostimol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348000" y="162864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298764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8000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19564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95640" y="5084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9564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32720" y="2205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716360" y="260280"/>
            <a:ext cx="442764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a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ndonucleasi timociti </a:t>
            </a:r>
            <a:r>
              <a:rPr b="0" lang="it-IT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si cell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ibis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IL-1 di 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nibis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IL-2 di linfociti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velli serici di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linfociti B in milza e linfon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chemiota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fagocit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funzione citos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capacità di presentare anti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idu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risposta a linfo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920" y="2565360"/>
            <a:ext cx="1944720" cy="18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ec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56000" y="292428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u linea monociti macrofa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9564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00720" y="549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211640" y="357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00720" y="3068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00720" y="549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0072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0072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00720" y="148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00720" y="508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500720" y="566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500720" y="652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5007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00720" y="45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 IPOTALAMO-IPOFISI-SURRENE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50920" y="1557360"/>
            <a:ext cx="1655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rtisolo (norm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1557360"/>
            <a:ext cx="2879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 migrazione di polimorfonucle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900000" y="3141720"/>
            <a:ext cx="17272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r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4360" y="5373720"/>
            <a:ext cx="2160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-endorf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219640" y="3068640"/>
            <a:ext cx="28796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timola migrazione di polimorfonucle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5229360"/>
            <a:ext cx="34560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o dell’attività citotossica di cellule 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84360" y="3645000"/>
            <a:ext cx="215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golate a feedback da glucocortico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1700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noci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780000" y="17002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u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0800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9236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651640" y="1989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16360" y="342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87640" y="5589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195640" y="1341360"/>
            <a:ext cx="4824360" cy="4464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340000" y="1413000"/>
            <a:ext cx="4537080" cy="3960720"/>
          </a:xfrm>
          <a:prstGeom prst="star5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rot="10800000">
            <a:off x="3779640" y="2924280"/>
            <a:ext cx="1655640" cy="1512720"/>
          </a:xfrm>
          <a:prstGeom prst="pentag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5128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4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19520" y="6094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oco (Diatesi 3^Mn-Co-Sico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164360" y="2637000"/>
            <a:ext cx="19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°-6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01200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5°-7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68360" y="2637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3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619280" y="544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1° chak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164360" y="3068640"/>
            <a:ext cx="16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a (Diatesi 5^ Zn-Cu;Zn-Ni-Co---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4000" y="314172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gno (Diatesi 1^ Mn- Ps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59500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qua (Diatesi 4^Mn-Zn-Se;Cu- Au-Ag--Ps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148360" y="5950080"/>
            <a:ext cx="36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lo (Diatesi 2^Mn-Cu-Tubercolinism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endCxn id="531" idx="0"/>
          </p:cNvCxnSpPr>
          <p:nvPr/>
        </p:nvCxnSpPr>
        <p:spPr>
          <a:xfrm>
            <a:off x="1523520" y="4419720"/>
            <a:ext cx="888120" cy="102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areattiva = Loggia Acqua = PSOR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ereattiva = Loggia Legno = PSORA CENTRI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isreattiva = Loggia Fuoco = SIC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a disadattamento = Loggia Terr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oreattiva = Loggia Metallo =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areattiva = Loggia Acqua = PSORA ANER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ereattiva = Loggia Legno = PSORA CENTRIF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isreattiva = Loggia Fuoco = SIC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da disadattamento = Loggia Terra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atesi iporeattiva = Loggia Metallo =Tubercolin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743200"/>
            <a:ext cx="7921800" cy="216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NDENZA ALLA PSICOSI MANIACO-DEPRESS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ffff00"/>
            </a:gs>
            <a:gs pos="100000">
              <a:srgbClr val="ff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BONICO - ENDOBLAST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1523880"/>
            <a:ext cx="8074080" cy="4648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TODERIVATI PER COSTITU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BES NIGR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CORTEX SURREN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BIES PECTIN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:T.R.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DERA HEL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METABOL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LIDONIUM:FEG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IRA BRAVA:RE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ASTIS:APP.DIG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NA:PANC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AL SERR.:PRO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3T10:17:44Z</dcterms:created>
  <dc:creator>.</dc:creator>
  <dc:description/>
  <dc:language>en-US</dc:language>
  <cp:lastModifiedBy>ermanno</cp:lastModifiedBy>
  <dcterms:modified xsi:type="dcterms:W3CDTF">2012-01-29T19:41:32Z</dcterms:modified>
  <cp:revision>173</cp:revision>
  <dc:subject/>
  <dc:title>Diapositiva 1</dc:title>
</cp:coreProperties>
</file>