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9DD-3325-47CB-BBAE-39FFAE78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C27-9820-467D-82D3-2BED536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212-8A22-4DE8-9233-4F0D7246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783-30D6-4538-AA62-23CF8BC5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04E-9FD7-45C0-902F-7530AE97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599-386B-415F-8400-1CF70033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3DB-3554-4001-A167-0AFFA346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802-37F1-4295-BBA0-E20AC8C3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AEA-9CD7-40FB-9BAD-61E4E69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5F6-F785-4B33-83CE-368C45A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2ED-A750-43A9-9ABF-9183ED7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1A9-7EB9-42DC-84F9-E73AB68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78B-E1DE-41D9-99D2-1545C40A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L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N-IPO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NFATICO GRA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00">
                  <a:alpha val="7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BO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500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86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362320"/>
            <a:ext cx="79218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OLIGOELEMEN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MAGNES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RAM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CLOOSSIGENASI,              SINTETASI,TRANSFER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143000"/>
            <a:ext cx="4038480" cy="327672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DIFETTO MESO-ECTOBLASTICO”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BLASTA NON COMPENS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876920"/>
            <a:ext cx="4114800" cy="15969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5^- 2^- 3^- 4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219320"/>
            <a:ext cx="4038480" cy="304776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ENDOCRINISMO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COLOENDOTELIOSI, IDROFILI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CIRCOLATOR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SMO RALLENTAT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DEL S.R.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952880"/>
            <a:ext cx="3487680" cy="144468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U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852640"/>
            <a:ext cx="7921440" cy="16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, DISCRETE VELOCITA’ E DEST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869000"/>
            <a:ext cx="792144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REALIZZ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557360"/>
            <a:ext cx="7921440" cy="165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DEROSO DI AGIRE E DI IMPORSI; IMPULSI COMBA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7921440" cy="26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ERCORTICO-SURRENALE; IPERGENITALE (ALTI TASSI DI TESTOSTERONE E FOLLICOLINA); IPERPITUITARICO ANTER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133720"/>
            <a:ext cx="8075520" cy="270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ZA A NEVROSI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CLO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295280"/>
            <a:ext cx="8229600" cy="533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Taraxacum Offic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Fega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Hieracium Pilos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Re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Arctium Lappa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Mesenchima/p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nna : intest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lium Cepa : vie respirato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erberis : vie urin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areira Brava : parenchima orm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752480"/>
            <a:ext cx="8229600" cy="335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OLIGOELEMENTI  PER 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Zolf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isfunzioni epato-bi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Manganese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OD, Catala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balt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stema Simpa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Liti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atecolamine Centr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0958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2120"/>
            <a:ext cx="4038480" cy="32763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CESSIVI CATABOLITI ACIDI E INSUFFICIENTE DETOSSINAZIONE EPA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3505320" cy="19782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1^- 3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914400"/>
            <a:ext cx="3962520" cy="37339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I, CUTANEI,MUSCOLARI, DEFICIT EMUNTORIALI, DISEPAT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CARDIOVASCOLARI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LLERANZ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ETABOLISMI E LORO COMPLICA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5181480"/>
            <a:ext cx="3635640" cy="13399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GGERA) SER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852640"/>
            <a:ext cx="7921440" cy="16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FFICIENTE , PIU’ RESPIRATORIA CHE  MUS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869000"/>
            <a:ext cx="830592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STICITA’ MNEMONICO-REL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557360"/>
            <a:ext cx="7921440" cy="165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TEREOTIPIA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645000"/>
            <a:ext cx="7921440" cy="26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ERCORTICO-SURRENALE; IPERGENITALE (ALTI TASSI DI TESTOSTERONE E FOLLICOLIN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VIG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OENDOCRINO REL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NFATICO MAG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ccffff"/>
              </a:gs>
              <a:gs pos="100000">
                <a:srgbClr val="0000ff">
                  <a:alpha val="70196"/>
                </a:srgbClr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SFO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342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515772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7923240" cy="23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STESI  PERFETTA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IA  REAT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523880"/>
            <a:ext cx="8077320" cy="495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Passiflora Inc.:</a:t>
            </a:r>
            <a:r>
              <a:rPr b="1" i="1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Rumex Crispus:tonico gene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Ficus Car.:catecolammine cen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Juglans Regia : dismetabolis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ilosella : dren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leteurococus sent.: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eattivita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8076960" cy="426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OLIGOELEMEN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ossid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tal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Zn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T.R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icloossigen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IA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14400"/>
            <a:ext cx="4343400" cy="396252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SSIVI CATABOLITI ACIDI E INSUFFICIENTE CONTROLLO RADICALILIBER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OMINANZA PINEALE E/O 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029200"/>
            <a:ext cx="3276720" cy="15969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1^- 3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990720"/>
            <a:ext cx="3809880" cy="342900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FATISMO ERETISTICO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ROPATIE CRONICH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PATISMO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GENOPATIE DA RADICALI LI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4800600"/>
            <a:ext cx="4016160" cy="17971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Zn/FeSeM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789360"/>
            <a:ext cx="7993080" cy="26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VO; IPERSENSIBILITA’ IMMAGINATIVA E AFFETTIVA; SCARSA VOLONTA’; PAUROSO, PESSIMISTA; COMPLESSO DI INFERIOR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413000"/>
            <a:ext cx="799308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ASTRATTA, IDEALISTA, SOGNATORE, NON REALIZZA, NON CONCRET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07280" cy="518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SEGNI NEUROENDOCR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ERSIMPATICOTONICO (CON IPERTIROIDISMO SECONDARIO), IPERPINEALICO, IPOPARATIROIDEO, IPERMEDULLOSURRENALICO (CON MAGGIORE PRODUZIONE DI ADRENALINA E NORADRENALINA), IPOCORTICOSURRENALICO, IPERPITUITARICO POSTERIORE, IPOPITUITARICO ANTERIORE, IPOGONADALE, IPOMENOR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142120" cy="307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ONIE NEUROVEGETATIV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IEZION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I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8065800" cy="495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ff"/>
                </a:solidFill>
                <a:uFillTx/>
                <a:latin typeface="Arial"/>
              </a:rPr>
              <a:t>FITODERIVA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Equisetum Arv.:mineralizz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Rosa can.:immunostimo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Trigonella foen.:tono-trof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ibes Nigrum:antiinfiammat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bies Pectinata:ricostitu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chinacea Ang.:anti-infet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752480"/>
            <a:ext cx="8066160" cy="426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ff"/>
                </a:solidFill>
                <a:uFillTx/>
                <a:latin typeface="Arial"/>
              </a:rPr>
              <a:t>OLIGOELEMEN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n-Cu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.R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TP;S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enzimi diges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FO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4267440" cy="41148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SIMPATICOTON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PINAL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MIDOLLO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AL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PITUITARISMO POST., IPOPITUITARISMO ANT., IPOCORTICO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ALISMO, IPOGONADISMO, IPOPARATIROD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410080"/>
            <a:ext cx="3505320" cy="12924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2^-4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181480"/>
            <a:ext cx="3434040" cy="149220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143000"/>
            <a:ext cx="4114800" cy="380988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IRRORATIVE, STATI CATARRALI CRONICI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FUNZIONE EPATO-INTESTINA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TESI REUMATIC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FUNZIONE S.R.E., DIMAGRIMENTO E DEMINER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CONFU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O-DIS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UCO FLEMMATICO DIS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50000">
                <a:srgbClr val="ccff99">
                  <a:alpha val="50196"/>
                </a:srgbClr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O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335772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450864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860640"/>
            <a:ext cx="8280360" cy="25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BILITA’, SEMPRE IN MOVIMENTO, PARADOSSO, INDECISIONE, VERSATILITA’, DISORDINE, AGITAZIONE; CAPRICCIOSO, IRRI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8036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PACE DI PENSARE A LUNGO;  REALIZZATORE IMMEDIATO “SENZA RIFLETTE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341360"/>
            <a:ext cx="8064720" cy="518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00"/>
                </a:solidFill>
                <a:uFillTx/>
                <a:latin typeface="Arial"/>
              </a:rPr>
              <a:t>SEGNI NEUROENDOCR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ONIA NEURO-VEGETATIVA CON RISPOSTE VARIABILI, PARADOSSE E IMPREVEDIBILI, “STATO TIREO-SIMPATICO”, CON SIMPATICOTONIA E AUMENTO DEL METABOLISMO DI BASE; IPOSURRENALISMO DI FONDO, IPERGENITALISMO PRECOCE, TURBE IPOFISO-PANCREATICHE, DISMENORREA, DISFUNZIONI IPOFISARIE, PANCREATICHE, E SURRENAL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828800"/>
            <a:ext cx="8064360" cy="391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00"/>
                </a:solidFill>
                <a:uFillTx/>
                <a:latin typeface="Arial"/>
              </a:rPr>
              <a:t>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IMI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ILE PERVERSIONE MENTALE (E SESSUA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BILITA’ (FISICA)- MENTALE, TENDENZA ALLE PSICO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914400"/>
            <a:ext cx="8064720" cy="579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cc00"/>
                </a:solidFill>
                <a:uFillTx/>
                <a:latin typeface="Arial"/>
              </a:rPr>
              <a:t>FITODERIVA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Salix Alba:app.osteo-legament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la Acum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rtex cerbr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Hamamelis : sistema circol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ecoma curialis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immunoreattiv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rataegus Ox.: app.cardi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elissa Off.:S.N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rtemisia Abs.:psico-emo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ingko Bil.:ossigenazione centr./peri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79884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cc00"/>
                </a:solidFill>
                <a:uFillTx/>
                <a:latin typeface="Arial"/>
              </a:rPr>
              <a:t>OLIGOELEMEN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nettivo;o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iroide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stema epatointes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838080"/>
            <a:ext cx="4114800" cy="34290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DIFETTO FIBROBLASTICO”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GLIETTI EMBRIONALI NON SINERGIC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52880"/>
            <a:ext cx="3962520" cy="167328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5^- 4^-2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990720"/>
            <a:ext cx="3962160" cy="327636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SSITA’ LEGAMENTI, MUSCOLI,VASI,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SSUTI DI SOSTEGNO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SIMMET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029200"/>
            <a:ext cx="3558960" cy="15685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5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llegamento tra diatesi oligoelementiche, miasmi omeopatici e nutri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igmatizzazioni dei miasmi omeopa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05264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685800"/>
            <a:ext cx="295272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be del ricambio ,centrifugazione allergica e centripetazione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51460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OTISMO (o sico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666880"/>
            <a:ext cx="2952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enomeni di iper-patologia, spesso definita co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971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eattività esagerata, reticolo-endoteliosi cronica, idrogenoi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557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to-etero-intossicazione c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962520"/>
            <a:ext cx="295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erosi,necr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105520"/>
            <a:ext cx="295272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tologie croniche app. respiratorio , gastrointestinale, osteoartico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96252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T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530064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97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zione progressiva, distribuzione che parte dalla circolazione e invade tutto l’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7340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idratazione, demineralizzazione e ossigenoidismo progr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134136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8195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4149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5589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304920"/>
            <a:ext cx="3733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A REATTI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1^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04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Muriatici e Sulfurici a predominanza muscolare (hanno bisogno di esercizio fisico per eliminare le tos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276720"/>
            <a:ext cx="8496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 – Stenica, di azione “centrifuga” (gli emuntori eliminano ciò che può andare a nocu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12193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ta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4941720"/>
            <a:ext cx="6192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nza di fenomeni patologici, ricorrenze e/o alternanze di malattie in vari distretti organici; centrifugazione verso la pelle e il tubo gastro-intestina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ller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304920"/>
            <a:ext cx="4038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A AREATTI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4^CuAu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 Sulfurici e Carbonici  hanno bisogno di esercizio fisico per eliminare le tos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590920"/>
            <a:ext cx="85914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A – Defaillance degli emun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B – “Centripeta” o di scompenso (anergia funzionale conclamata, lesioni a livello dei sistemi osteo-articolare, arterioso e dei visce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1219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86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ta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941720"/>
            <a:ext cx="6192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ernanza di fenomeni patologici, ricorrenze e/o alternanze di malattie in vari distretti organici; insufficienza progressiva emuntor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ico tossi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VIV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ER-DIS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MUNOREAT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ff99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LFU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42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797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3049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C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3^ M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2860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Muriatici e Sulfurici (specie disepatic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metabolic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gra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9144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0968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tero-intossicazione amplificata da infezioni e vaccinazioni ripe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733920"/>
            <a:ext cx="741708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agerate imbibizioni tissutali con eccesso di liquidi interstizi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nza all’idrogenoi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cili proliferazioni cellulari an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tativi di coli mucopurolenti acuti e subac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be PNEI : dismetabolismo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sendocr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52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UE - DIATESI 5^ ZnCu/Zn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53352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ipi misti e FLUORICI e/o CARBO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8380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19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ggetti sulfo-fluorici Soggetti carbo-fluorici Soggetti fosfo-fluo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2349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198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1628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295280"/>
            <a:ext cx="4191120" cy="54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alità di reazione povera agli stimoli micro e macro ambient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abili fattori etiolog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ssina sifilit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.Autoimm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ttori igienico-dietetici che alterano la normale cres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o ciò che inficia la normale fisiologia dell’individuo (alcol, malattie ripetitive, malnutr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971800"/>
            <a:ext cx="403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intomi diatesici fondamentali sono: la tendenza ai processi distruttivi dei tessuti di sostegno con una reazione di sclerosi e un disquilibrio nervoso, con un aggravamento soprattutto notturno di tutti i sinto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5280" y="836640"/>
            <a:ext cx="324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acità di risposta del soggetto dipende dalla sua effi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76280"/>
            <a:ext cx="41036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or capacità di avere il corredo enzimatico completo e attivo, disposto a meglio recepire l’informazione terapeu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155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437000"/>
            <a:ext cx="1728720" cy="11527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4172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zione oligoeleme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352680"/>
            <a:ext cx="3527640" cy="31244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attività enzima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e migliore 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rà elaborare me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la corre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ape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86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7640" y="3733920"/>
            <a:ext cx="2376360" cy="26668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rr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ape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rà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tto migl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dura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486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400536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GGETTI PSORICI REATTIV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1^ 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600200"/>
            <a:ext cx="705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1. Stenica centrifuga,intolleranze, ipertrasmissioni nervose perife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200400"/>
            <a:ext cx="849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sposta dell’organismo a correzioni relative a questa fase  migliorerà la predisposizione genetica all’iper-reattività iniziale potenzialmente direzionabile in una insufficienza degli emuntori per la presenza degli oligoelementi propri della 1^ diatesi Menetrer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600" y="228600"/>
            <a:ext cx="19368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PSORICI ANERGIC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4^ CuAu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37160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Fase 2. Astenica centripeta, fase di defaillance,inficiamento progressivo delle attività emunto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429000"/>
            <a:ext cx="849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sposta dell’organismo a correzioni relative a questa fase migliorerà la predisposizione genetica al mutismo biologico degli organi emuntoriali, con aumento di radicali liberi, rallentamento delle funzioni centrali di controllo, rischio eteropla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TUBERCOLINIC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2^ Mn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1341360"/>
            <a:ext cx="65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silio degli oligoelementi correttivi della 2^ diatesi di Menetrier ipostenica, manganese-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743200"/>
            <a:ext cx="6551640" cy="37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i Oligoelementi propri dele COSTITUZIONI LINFATICHE per correggere la difficoltà assimilativa, la demineralizzazione, la scarsa biodisponibilità degli oligoelementi,la scarsa capacità immuno-compe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nella fase relativamente più reattiva simpaticotonica-fosfo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nella fase ipoergica, rallentata parasimpaticotonica-carbo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SICOTICI-DIATESI 3^ M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990720"/>
            <a:ext cx="71118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3^ diatesi di Menetrier si avvicina a una reticolo-endoteliosi-cronica, in cui vi è una iperattività che diventa facilmente disreattiv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ntaggioso l’utilizzo di manganese-cob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971800"/>
            <a:ext cx="73911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imedi di fondo devono migliorare e prevenire le disfunzioni PNEI e il dismetabolismo gene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4038480"/>
            <a:ext cx="74170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 soggetti con difficoltà costituzionali (SULFURICI-CARBONICI) per alterazioni del mesenchima da abnorme presenza di cataboliti acidi e scarso controllo sulle iperpatologie locali,in una fase più passiva parasimpaticotonica, i rimedi di fondo sono OLIGOELEMENTI  S e 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LUESINICI-DIATESI 5^ ZnCu/Zn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143000"/>
            <a:ext cx="7924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i soggetti dove prevale disarmonia per difetto di controllo dell’A.C.H., vi è una correzione con oligoelementi della 5^ diatesi di Menet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362320"/>
            <a:ext cx="82803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 gli oligoelementi propri della Costituzione FLUORICA nella fase di reattività simpaticotonica , con poliartralgie, lassità capsulari e legamentose, lassità muscolari, turbe vascolari perifer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221000"/>
            <a:ext cx="8642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 gli oligoelementi propri della Costituzione CARBONICA nella fase slatentizzata parasimpaticotonica, con turbe dell’asse cortico-ipofisario, dell’asse ipofisi-endocrinia periferica, con malattie autoimmuni, turbe vascolari non solo periferiche ma anche centr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ASSUM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55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sora in fase st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155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514600"/>
            <a:ext cx="338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sora in fase astenic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8862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8862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-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479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o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479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-cob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57150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5516640"/>
            <a:ext cx="338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nco-nichel-cobalto Zinco-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170028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191120" y="2895480"/>
            <a:ext cx="647640" cy="114480"/>
          </a:xfrm>
          <a:prstGeom prst="leftRightArrow">
            <a:avLst>
              <a:gd name="adj1" fmla="val 50000"/>
              <a:gd name="adj2" fmla="val 11262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038480"/>
            <a:ext cx="647640" cy="144720"/>
          </a:xfrm>
          <a:prstGeom prst="leftRightArrow">
            <a:avLst>
              <a:gd name="adj1" fmla="val 50000"/>
              <a:gd name="adj2" fmla="val 890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4941720"/>
            <a:ext cx="647640" cy="144720"/>
          </a:xfrm>
          <a:prstGeom prst="leftRightArrow">
            <a:avLst>
              <a:gd name="adj1" fmla="val 50000"/>
              <a:gd name="adj2" fmla="val 890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587700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590920"/>
            <a:ext cx="342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meOro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990000"/>
                </a:solidFill>
                <a:latin typeface="Roman"/>
              </a:rPr>
              <a:t>P.N.E.I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SINTE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RMO-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RMO-IMMUNO COMPE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50000">
                <a:srgbClr val="ccccff">
                  <a:alpha val="70196"/>
                </a:srgbClr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RIA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335772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458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Turbe psicosoma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5877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ma semplificato illustrante le vie neurofisiologiche che portano dall’emozione alla le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1268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CCIA CEREB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206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LIM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4360" y="2637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2924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TAL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2924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RETI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500280"/>
            <a:ext cx="32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789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 IPOFISO-CORTICO-SURRE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78936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NEUROVEGE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94172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S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48000" y="49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I SANGUI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8360" y="364500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E MUS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3357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765000"/>
          <a:ext cx="9144000" cy="6092640"/>
        </p:xfrm>
        <a:graphic>
          <a:graphicData uri="http://schemas.openxmlformats.org/drawingml/2006/table">
            <a:tbl>
              <a:tblPr/>
              <a:tblGrid>
                <a:gridCol w="1403280"/>
                <a:gridCol w="1440000"/>
                <a:gridCol w="1728720"/>
                <a:gridCol w="2521080"/>
                <a:gridCol w="205092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 di 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present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stenza di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uni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ncipio nell’uomo: corp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itua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è l’unica realt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materia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è l’unica real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idealisti del XIX secolo; Hegel Hobbes, de La Mettrie, Cabanis Moleshhott, Hae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stenza di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ivers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ncipi nell’uomo: corp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morf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zio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lismo psico-fi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costituiscon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’unica sost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son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sostanze dotate di influenza recip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son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e sostanze agenti in maniera indipen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spirito son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e aspetti diversi dell’uo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stotele, Tomaso d’Aquino, neo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bn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692360" y="26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L PROBLEMA CORPO-SPI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148360" y="54936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48360" y="191628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3141720"/>
            <a:ext cx="1729080" cy="165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93080" y="54936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93080" y="191628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941720"/>
            <a:ext cx="172908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734080"/>
            <a:ext cx="172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336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TERAZION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sono diversi e separati, ma esercitano un’influenza recipr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44328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7708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ARALLEL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sono distinti e separati, non esercitano influenza reciproca, ma, le attività corporee e mentali sono in perfetta correl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64500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OMORF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costituiscono una sostanza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94028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EORIE DEL DUPLICE ASP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’essere umano è un organismo che si manifesta sotto due diversi aspetti: corporeo e m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48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Storia e dott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55640" y="1557360"/>
            <a:ext cx="7632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zione schematica del concetto di specificità nell’eziologia delle turbe delle funzioni viscerali. Questo diagramma mostra due generi di risposta viscerale agli stati emozionali. A destra, si vedono le turbe che possono svilupparsi quando l’espressione delle tendenze ostili aggressive (lotta o fuga) è bloccata e non si traduce in comportamento manifesto; a sinistra, le turbe che si sviluppano quando le tendenze alla dipendenza e alla ricerca di appoggio sono bloc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427640" y="907920"/>
            <a:ext cx="431640" cy="3384720"/>
          </a:xfrm>
          <a:custGeom>
            <a:avLst/>
            <a:gdLst>
              <a:gd name="textAreaLeft" fmla="*/ 0 w 431640"/>
              <a:gd name="textAreaRight" fmla="*/ 155880 w 43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676520"/>
            <a:ext cx="5006880" cy="44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ssuto connettivo (istioc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gato (cellule di Kupff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lmone (macrofagi alveol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fonoidi (macrofagi sessili e cellule interdigi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lza e midollo (macrofaci stanzi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sso (osteocla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te (istiociti e cellule di Langerh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novia (cellule di tipo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 tessuti (macrofagi tissu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380880"/>
            <a:ext cx="3352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.R.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990000"/>
                </a:solidFill>
                <a:latin typeface="Arial"/>
              </a:rPr>
              <a:t>Basi anatomo-funzionali della immunoendocrinolo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resentazione schematica delle tappe differenziative delle cellule della linea monocitario-macrofa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90792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 sta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162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 staminale orien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34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-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378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450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522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907920"/>
            <a:ext cx="431640" cy="3384720"/>
          </a:xfrm>
          <a:custGeom>
            <a:avLst/>
            <a:gdLst>
              <a:gd name="textAreaLeft" fmla="*/ 0 w 431640"/>
              <a:gd name="textAreaRight" fmla="*/ 155880 w 43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234936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ollo os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450864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gue perife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522936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s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0000" y="141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501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990000"/>
                </a:solidFill>
                <a:uFillTx/>
                <a:latin typeface="Arial"/>
              </a:rPr>
              <a:t>Differenziazione delle cellule staminali linfomieloidi pluripo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Sviluppo, interazioni e cellule effettrici del sistema im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Principali malattie associate </a:t>
            </a:r>
            <a:br>
              <a:rPr sz="24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alla candidosi muco-cutanea c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765000"/>
          <a:ext cx="9144000" cy="6093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t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e dei cas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surrenal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paratiroid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za ova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tiroid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 mell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endocrinopatie autoimmun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tie cutan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pecia tot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ilig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e malat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ratite cron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drome da malassorb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tite cron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852640"/>
            <a:ext cx="792144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437000"/>
            <a:ext cx="7923240" cy="181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ANALITICA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TEZZA APPREND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1773360"/>
            <a:ext cx="6912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omitanza dei sinto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268280"/>
            <a:ext cx="1979640" cy="187344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4360" y="1268280"/>
            <a:ext cx="1979640" cy="1873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79640" y="1557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907640" y="2781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164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2360" y="31417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psich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psico-neur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501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neuro-metabo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neuro-endoc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92720" y="378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endoc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4653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disfunz. d’org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5445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patol. d’org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811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811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81164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413000"/>
            <a:ext cx="3457440" cy="18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. Regolaz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encefa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59280" y="1844640"/>
            <a:ext cx="3456000" cy="187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v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4005360"/>
            <a:ext cx="3456000" cy="18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4508640"/>
            <a:ext cx="3456000" cy="18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4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muno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83800">
            <a:off x="3850920" y="2349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83800">
            <a:off x="4355640" y="501336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9152400">
            <a:off x="4066920" y="3789000"/>
            <a:ext cx="1296720" cy="431640"/>
          </a:xfrm>
          <a:prstGeom prst="rightArrow">
            <a:avLst>
              <a:gd name="adj1" fmla="val 50000"/>
              <a:gd name="adj2" fmla="val 751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2637000"/>
            <a:ext cx="2484360" cy="158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ATTAME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59280" y="40464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zione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arme, acu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tato di shock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 sh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256536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Reazione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ttamento (f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difesa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nsazio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59280" y="472428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3. F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 esaur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decompensa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meccanismi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dattamen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692280"/>
            <a:ext cx="298764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ungo l’as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drener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6360" y="2276640"/>
            <a:ext cx="298764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sse anteipofis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TH glucocortico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3573360"/>
            <a:ext cx="298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rmone somatotro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H mineralcortico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6360" y="5084640"/>
            <a:ext cx="298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mpenso S.R.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3284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6000" y="11253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96000" y="558972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0" y="285264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96000" y="386064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2316600">
            <a:off x="2195280" y="443664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149000">
            <a:off x="2123640" y="198864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4284720" y="220500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284720" y="436572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SCHE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1413000"/>
            <a:ext cx="3313080" cy="1295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MOZION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653000"/>
            <a:ext cx="3313080" cy="1295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 soddisfa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pri bisogni libi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08720" y="4653000"/>
            <a:ext cx="3313080" cy="12970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soddisfa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ri bisog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 pu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141720"/>
            <a:ext cx="3313080" cy="1295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MAT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210800">
            <a:off x="2994120" y="2556000"/>
            <a:ext cx="557280" cy="733320"/>
          </a:xfrm>
          <a:prstGeom prst="downArrow">
            <a:avLst>
              <a:gd name="adj1" fmla="val 50000"/>
              <a:gd name="adj2" fmla="val 328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508640"/>
            <a:ext cx="1655640" cy="10810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6360" y="37893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prurito 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51640" y="6004080"/>
            <a:ext cx="34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dol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 di autopun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6004080"/>
            <a:ext cx="30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pru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 di pi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413000"/>
            <a:ext cx="1727280" cy="71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2492280"/>
            <a:ext cx="2087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3573360"/>
            <a:ext cx="3743280" cy="720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ZIONI CORPO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24000" y="479736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0360" y="5877000"/>
            <a:ext cx="3743280" cy="720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RGANO BERS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479736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12000" y="407664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07664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T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2133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3213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871600">
            <a:off x="6312960" y="3555720"/>
            <a:ext cx="1211400" cy="7920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4914" y="11328"/>
                </a:moveTo>
                <a:arcTo wR="-5910" hR="-5910" stAng="10492494" swAng="-7975151"/>
                <a:lnTo>
                  <a:pt x="2768" y="3580"/>
                </a:lnTo>
                <a:arcTo wR="10800" hR="10800" stAng="-8282658" swAng="7975151"/>
                <a:lnTo>
                  <a:pt x="24246" y="9594"/>
                </a:lnTo>
                <a:lnTo>
                  <a:pt x="19581" y="15178"/>
                </a:lnTo>
                <a:lnTo>
                  <a:pt x="13997" y="1051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532000">
            <a:off x="6659280" y="4005360"/>
            <a:ext cx="1152360" cy="252072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5778" y="4156"/>
                </a:moveTo>
                <a:arcTo wR="-8329" hR="-8329" stAng="-7625154" swAng="-5938794"/>
                <a:lnTo>
                  <a:pt x="18293" y="3023"/>
                </a:lnTo>
                <a:arcTo wR="10800" hR="10800" stAng="-2763948" swAng="5938794"/>
                <a:lnTo>
                  <a:pt x="18941" y="21569"/>
                </a:lnTo>
                <a:lnTo>
                  <a:pt x="13428" y="20803"/>
                </a:lnTo>
                <a:lnTo>
                  <a:pt x="14194" y="152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9896600">
            <a:off x="5363640" y="4292280"/>
            <a:ext cx="360360" cy="426960"/>
          </a:xfrm>
          <a:prstGeom prst="downArrow">
            <a:avLst>
              <a:gd name="adj1" fmla="val 50000"/>
              <a:gd name="adj2" fmla="val 296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741200">
            <a:off x="3435480" y="4305240"/>
            <a:ext cx="345960" cy="419040"/>
          </a:xfrm>
          <a:prstGeom prst="downArrow">
            <a:avLst>
              <a:gd name="adj1" fmla="val 50000"/>
              <a:gd name="adj2" fmla="val 302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44500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4500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rot="524400">
            <a:off x="1763280" y="3500280"/>
            <a:ext cx="1150920" cy="81144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21600" h="21600">
                <a:moveTo>
                  <a:pt x="4914" y="11328"/>
                </a:moveTo>
                <a:arcTo wR="-5910" hR="-5910" stAng="10492494" swAng="-7975151"/>
                <a:lnTo>
                  <a:pt x="2768" y="3580"/>
                </a:lnTo>
                <a:arcTo wR="10800" hR="10800" stAng="-8282658" swAng="7975151"/>
                <a:lnTo>
                  <a:pt x="24246" y="9594"/>
                </a:lnTo>
                <a:lnTo>
                  <a:pt x="19581" y="15178"/>
                </a:lnTo>
                <a:lnTo>
                  <a:pt x="13997" y="1051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rot="19049400">
            <a:off x="1197000" y="4029120"/>
            <a:ext cx="1368360" cy="252108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1600" h="21600">
                <a:moveTo>
                  <a:pt x="5778" y="4156"/>
                </a:moveTo>
                <a:arcTo wR="-8329" hR="-8329" stAng="-7625154" swAng="-6437490"/>
                <a:lnTo>
                  <a:pt x="17090" y="2021"/>
                </a:lnTo>
                <a:arcTo wR="10800" hR="10800" stAng="-3262644" swAng="6437490"/>
                <a:lnTo>
                  <a:pt x="18941" y="21569"/>
                </a:lnTo>
                <a:lnTo>
                  <a:pt x="13428" y="20803"/>
                </a:lnTo>
                <a:lnTo>
                  <a:pt x="14194" y="152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4364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80000" y="17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16720" y="155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tori non spec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4364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51640" y="2852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16720" y="26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tori spec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602136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d perso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 IPOFISI-TIROIDE DOSE DIPEN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71640" y="2492280"/>
            <a:ext cx="1584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S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4869000"/>
            <a:ext cx="1584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3 - 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4724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produzione di Ig indotta da attivatori policl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56000" y="5157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0000" y="1484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tenz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in modo indipendente) risposte anticorpali verso antigeni T-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2997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imol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nfocit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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crezione di molecole immuno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556000" y="213336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56000" y="278136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T.H., CALCITONINA, VITAMINA D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1989000"/>
            <a:ext cx="2951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T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5516640"/>
            <a:ext cx="2952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A 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1640" y="5589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bis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zioni di 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58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11640" y="191628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posta immune ad antigeni es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3716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inuis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posta immune ad antigeni es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3789360"/>
            <a:ext cx="2951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19640" y="4076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2276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MONI SESS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1557360"/>
            <a:ext cx="24480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S.H., L.H., H.C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11640" y="1700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luenza diretta su sistema im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19640" y="184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3141720"/>
            <a:ext cx="3097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rog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sti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5229360"/>
            <a:ext cx="3097080" cy="1368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DROG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95640" y="5589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pressione d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2920" y="537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2920" y="6165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443640" y="56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43640" y="6021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92360" y="5950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278136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- regolazione secrezione IgA secre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7640" y="364500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amplificazione risposte di tipo um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56000" y="4508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inibizione di funzioni effettrici mediate d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2360" y="3933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036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ECOLAMINE E ACETILCO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413000"/>
            <a:ext cx="2376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FOCITI GRANULOCITI E MAST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2924280"/>
            <a:ext cx="23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ST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371628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- recircolazione e distribuzione linfociti in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64000" y="4437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- incremento attività citossica-linfociti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64000" y="4869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- risposta proliferativa ai fitomit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5300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sintesi di componenti del complemento da parte dei 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64000" y="603576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eleaseabi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mediatori chimici da mast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4508640"/>
            <a:ext cx="2303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1636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0364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558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630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24360" y="292428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cettor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18446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cettor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8764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87640" y="31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88000" y="1844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tecol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88000" y="292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tecol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68360" y="249228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573408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.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92360" y="55897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ffetto immunostimolatorio (specie sintesi di 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602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9640" y="191628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Sviluppo e mantenimento di “competenza immunolo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one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436572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27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627280" y="2349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H., P.R.L., INSULIN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NO IL SISTEMA IMMUNITARIO IN MANIERA INDIRETTA (CONDIZIONANDONE IL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27280" y="278136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299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imola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16720" y="2781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tipo sier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6720" y="328464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tipo 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156360" y="3068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56360" y="3284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56360" y="3933720"/>
            <a:ext cx="273672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en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corretto funzi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o del sist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51280" y="364500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ttori di linfociti T e B attiv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67280" y="4797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2 recettor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≠ dai monoc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4360" y="47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24360" y="407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867280" y="501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4076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413000"/>
            <a:ext cx="792144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MO, SONNOLENTO; APATICO, SEDENTARIO, RINUNCIATARIO, METO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860640"/>
            <a:ext cx="7921440" cy="26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GONADALE, IPOTIROIDEO, SECONDARIO IPERTIMICO, IPERPARATIROIDEO, VAGOTONICO, IPERTER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 IPOTALAMO-IPOFISI-SURR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03280" y="1628640"/>
            <a:ext cx="158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C.T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2852640"/>
            <a:ext cx="1582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00000" y="4076640"/>
            <a:ext cx="2521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golazione glucocortico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5734080"/>
            <a:ext cx="38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unosoppr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12000" y="1628640"/>
            <a:ext cx="1439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R.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32360" y="2852640"/>
            <a:ext cx="36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unostimol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48000" y="1628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987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9564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95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3272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716360" y="260280"/>
            <a:ext cx="44276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donucleasi timociti </a:t>
            </a:r>
            <a:r>
              <a:rPr b="0" lang="it-IT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si 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ibis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IL-1 di 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ibis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IL-2 di linfociti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velli serici di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nfociti B in milza e linfo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hemiot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fagoci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funzione cito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capacità di presentare anti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risposta a linfo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2565360"/>
            <a:ext cx="1944720" cy="18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ec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924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 linea monociti 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9564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1164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0072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00720" y="54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0072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0072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148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0720" y="566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00720" y="652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0072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 IPOTALAMO-IPOFISI-SURREN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0920" y="1557360"/>
            <a:ext cx="1655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tisolo (nor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1557360"/>
            <a:ext cx="2879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 migrazione di polimorfonucle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3141720"/>
            <a:ext cx="172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4360" y="537372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endorf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19640" y="3068640"/>
            <a:ext cx="2879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 migrazione di polimorfonucle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229360"/>
            <a:ext cx="345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o dell’attività citotossica di cellule 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3645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te a feedback da glucocortico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17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17002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u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9236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5164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342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87640" y="5589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195640" y="1341360"/>
            <a:ext cx="4824360" cy="4464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0000" y="1413000"/>
            <a:ext cx="4537080" cy="3960720"/>
          </a:xfrm>
          <a:prstGeom prst="star5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3779640" y="2924280"/>
            <a:ext cx="1655640" cy="1512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128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19520" y="6094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oco (Diatesi 3^Mn-Co-Sico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2637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°-6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1200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°-7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360" y="26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1928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3068640"/>
            <a:ext cx="16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a (Diatesi 5^ Zn-Cu;Zn-Ni-Co---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314172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gno (Diatesi 1^ Mn- Ps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59500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a (Diatesi 4^Mn-Zn-Se;Cu- Au-Ag--Ps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48360" y="59500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lo (Diatesi 2^Mn-Cu-Tubercoli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endCxn id="531" idx="0"/>
          </p:cNvCxnSpPr>
          <p:nvPr/>
        </p:nvCxnSpPr>
        <p:spPr>
          <a:xfrm>
            <a:off x="1523520" y="4419720"/>
            <a:ext cx="888120" cy="10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areattiva = Loggia Acqua = PSOR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ereattiva = Loggia Legno = PSORA CENTRI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isreattiva = Loggia Fuoco = SIC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a disadattamento = Loggia Terr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oreattiva = Loggia Metallo =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areattiva = Loggia Acqua = PSOR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ereattiva = Loggia Legno = PSORA CENTRI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isreattiva = Loggia Fuoco = SIC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a disadattamento = Loggia Terr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oreattiva = Loggia Metallo =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743200"/>
            <a:ext cx="7921800" cy="216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ZA ALLA PSICOSI MANIACO-DEPRES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8074080" cy="4648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BES NIG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CORTEX SURREN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IES PECTIN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T.R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DERA HEL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IDONIUM:FE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IRA BRAVA:R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STIS:APP.DI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NA: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L SERR.:PRO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0:17:44Z</dcterms:created>
  <dc:creator>.</dc:creator>
  <dc:description/>
  <dc:language>en-US</dc:language>
  <cp:lastModifiedBy>ermanno</cp:lastModifiedBy>
  <dcterms:modified xsi:type="dcterms:W3CDTF">2012-01-29T19:41:32Z</dcterms:modified>
  <cp:revision>173</cp:revision>
  <dc:subject/>
  <dc:title>Diapositiva 1</dc:title>
</cp:coreProperties>
</file>