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CFA-8D51-471C-A7D5-C3A6A446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41D-45AF-47AF-A097-D19DB915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FCE-B1DF-4C37-977F-B7AA3DB9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ED9-3EFD-4D3D-B09B-2BD7F332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CC09-2588-4919-8987-02D171AA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01C4-760B-433B-B246-528D3097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D095-AB07-4552-99E3-BD8183B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93CF-23E8-471A-B21B-F4851EB0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98C8-0742-4322-82EE-A9DDCE7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355F-12F6-4005-B731-AF6030BD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944-FC25-4E9F-B315-DF41937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FDA-CC64-41A8-B5B4-0834063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2D46-2E8E-49EC-A3E5-5C590FE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7D6-76D1-42F8-ACB6-E428E34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72A4-E1B4-45A0-BDB4-0FF39E93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87BC-AC1E-476B-96F9-F7C0E271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A6B-ACC3-4EA0-A914-35F1255D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0DC-3A98-4B39-A93C-8DF47B1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4D4-D842-4272-9017-C903F851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BB3-BBF1-452E-B578-AC596E2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534-A285-412C-88D5-F909FF0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1F0-EEDB-4AD8-B23C-F34753F8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3D2-0C97-405A-BD0A-40A8A8E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E4E-7228-408F-B1E2-F47D746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A7E5-3A2E-49E1-BBA0-DB7B69988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3DE1-D0A9-4783-8AB0-5749D11D1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introduz_mednat.htm" TargetMode="External"/><Relationship Id="rId2" Type="http://schemas.openxmlformats.org/officeDocument/2006/relationships/hyperlink" Target="file:///tesina1net.htm" TargetMode="External"/><Relationship Id="rId3" Type="http://schemas.openxmlformats.org/officeDocument/2006/relationships/hyperlink" Target="file:///../cure_natur/protocollo2.htm" TargetMode="External"/><Relationship Id="rId4" Type="http://schemas.openxmlformats.org/officeDocument/2006/relationships/hyperlink" Target="file:///../vaccini/vaccini_base.htm" TargetMode="External"/><Relationship Id="rId5" Type="http://schemas.openxmlformats.org/officeDocument/2006/relationships/hyperlink" Target="file:///../pericolo_farmaci.htm" TargetMode="Externa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nat.org/cure_natur/matrice.htm" TargetMode="External"/><Relationship Id="rId2" Type="http://schemas.openxmlformats.org/officeDocument/2006/relationships/hyperlink" Target="mailto:lelael@yahoo.i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dnat.org/cancro/microcristalli.htm" TargetMode="External"/><Relationship Id="rId2" Type="http://schemas.openxmlformats.org/officeDocument/2006/relationships/hyperlink" Target="http://www.mednat.org/cancro/microcristalli.htm" TargetMode="External"/><Relationship Id="rId3" Type="http://schemas.openxmlformats.org/officeDocument/2006/relationships/hyperlink" Target="http://www.mednat.org/cancro/microcristalli.htm" TargetMode="External"/><Relationship Id="rId4" Type="http://schemas.openxmlformats.org/officeDocument/2006/relationships/hyperlink" Target="http://www.mednat.org/bioelettr/bioelettr_base.htm" TargetMode="External"/><Relationship Id="rId5" Type="http://schemas.openxmlformats.org/officeDocument/2006/relationships/hyperlink" Target="http://www.mednat.org/bioelettr/bioelettr_base.htm" TargetMode="External"/><Relationship Id="rId6" Type="http://schemas.openxmlformats.org/officeDocument/2006/relationships/hyperlink" Target="http://www.mednat.org/bioelettr/bioelettr_base.htm" TargetMode="External"/><Relationship Id="rId7" Type="http://schemas.openxmlformats.org/officeDocument/2006/relationships/hyperlink" Target="http://www.mednat.org/bioelettr/bioelettr_base.htm" TargetMode="External"/><Relationship Id="rId8" Type="http://schemas.openxmlformats.org/officeDocument/2006/relationships/hyperlink" Target="http://www.mednat.org/bioelettr/bioelettr_base.htm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dnat.org/pericolo_farmaci.htm" TargetMode="External"/><Relationship Id="rId2" Type="http://schemas.openxmlformats.org/officeDocument/2006/relationships/hyperlink" Target="http://www.mednat.org/vaccini/vaccini_base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ednat.org/spirito/conflitti_spirituali.htm" TargetMode="External"/><Relationship Id="rId2" Type="http://schemas.openxmlformats.org/officeDocument/2006/relationships/hyperlink" Target="http://www.mednat.org/spirito/spirito_base.htm" TargetMode="External"/><Relationship Id="rId3" Type="http://schemas.openxmlformats.org/officeDocument/2006/relationships/hyperlink" Target="http://www.mednat.org/cure_natur/matrice.htm" TargetMode="External"/><Relationship Id="rId4" Type="http://schemas.openxmlformats.org/officeDocument/2006/relationships/hyperlink" Target="http://www.mednat.org/cure_natur/nozioni_terreno.htm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ednat.org/religione/confessione.html" TargetMode="External"/><Relationship Id="rId2" Type="http://schemas.openxmlformats.org/officeDocument/2006/relationships/hyperlink" Target="http://www.mednat.org/cure_nat/protocollo2.htm" TargetMode="External"/><Relationship Id="rId3" Type="http://schemas.openxmlformats.org/officeDocument/2006/relationships/hyperlink" Target="http://www.mednat.org/cure_nat/protocollo2.htm" TargetMode="External"/><Relationship Id="rId4" Type="http://schemas.openxmlformats.org/officeDocument/2006/relationships/hyperlink" Target="http://www.mednat.org/cure_nat/protocollo2.htm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dnat.org/Cap3/nozione_terreno.htm" TargetMode="External"/><Relationship Id="rId2" Type="http://schemas.openxmlformats.org/officeDocument/2006/relationships/hyperlink" Target="http://www.mednat.org/vaccini/vaccini_base2.htm" TargetMode="External"/><Relationship Id="rId3" Type="http://schemas.openxmlformats.org/officeDocument/2006/relationships/hyperlink" Target="http://www.mednat.org/vaccini/vaccini_base2.htm" TargetMode="External"/><Relationship Id="rId4" Type="http://schemas.openxmlformats.org/officeDocument/2006/relationships/hyperlink" Target="http://www.mednat.org/pericolo_farmaci.htm" TargetMode="External"/><Relationship Id="rId5" Type="http://schemas.openxmlformats.org/officeDocument/2006/relationships/hyperlink" Target="http://www.mednat.org/cure_natur/acidosi.htm" TargetMode="External"/><Relationship Id="rId6" Type="http://schemas.openxmlformats.org/officeDocument/2006/relationships/hyperlink" Target="http://www.mednat.org/cure_natur/acidosi.htm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ednat.org/filosofia/morte_cosasei.htm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ednat.org/sesso/sesso_base.htm" TargetMode="External"/><Relationship Id="rId2" Type="http://schemas.openxmlformats.org/officeDocument/2006/relationships/hyperlink" Target="http://www.mednat.org/bioetica/etica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urenaturalicancro.org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hyperlink" Target="mailto:info@mednat.org" TargetMode="External"/><Relationship Id="rId3" Type="http://schemas.openxmlformats.org/officeDocument/2006/relationships/hyperlink" Target="http://www.curenaturalicancro.org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nat.org/introduz_mednat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nat.org/alimentazione/alimentaz_naturale.htm" TargetMode="External"/><Relationship Id="rId2" Type="http://schemas.openxmlformats.org/officeDocument/2006/relationships/hyperlink" Target="http://www.mednat.org/alimentazione/nutrizione_cellulare.htm" TargetMode="External"/><Relationship Id="rId3" Type="http://schemas.openxmlformats.org/officeDocument/2006/relationships/hyperlink" Target="http://www.mednat.org/cure_nat/cure_nat_base.htm" TargetMode="External"/><Relationship Id="rId4" Type="http://schemas.openxmlformats.org/officeDocument/2006/relationships/hyperlink" Target="http://www.mednat.org/cure_nat/cure_nat_base.htm" TargetMode="External"/><Relationship Id="rId5" Type="http://schemas.openxmlformats.org/officeDocument/2006/relationships/hyperlink" Target="http://www.mednat.org/cure_nat/disintossicazione.htm" TargetMode="External"/><Relationship Id="rId6" Type="http://schemas.openxmlformats.org/officeDocument/2006/relationships/hyperlink" Target="http://www.mednat.org/cure_nat/infiammazioni.htm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Respirazione_cellulare" TargetMode="External"/><Relationship Id="rId2" Type="http://schemas.openxmlformats.org/officeDocument/2006/relationships/hyperlink" Target="http://www.mednat.org/bioelettr/acidi_basi.htm" TargetMode="External"/><Relationship Id="rId3" Type="http://schemas.openxmlformats.org/officeDocument/2006/relationships/hyperlink" Target="http://www.mednat.org/bioelettr/acidi_basi.htm" TargetMode="External"/><Relationship Id="rId4" Type="http://schemas.openxmlformats.org/officeDocument/2006/relationships/hyperlink" Target="http://www.mednat.org/bioelettr/bioelettr_base.htm" TargetMode="External"/><Relationship Id="rId5" Type="http://schemas.openxmlformats.org/officeDocument/2006/relationships/hyperlink" Target="http://www.mednat.org/bioelettr/bioelettr_base.htm" TargetMode="External"/><Relationship Id="rId6" Type="http://schemas.openxmlformats.org/officeDocument/2006/relationships/hyperlink" Target="http://www.mednat.org/cure_natur/pompa_sodio-potassio.htm" TargetMode="External"/><Relationship Id="rId7" Type="http://schemas.openxmlformats.org/officeDocument/2006/relationships/hyperlink" Target="file:///../cure_natur/perche_nasce.htm" TargetMode="External"/><Relationship Id="rId8" Type="http://schemas.openxmlformats.org/officeDocument/2006/relationships/hyperlink" Target="file:///../cure_natur/perche_nasce.htm" TargetMode="External"/><Relationship Id="rId9" Type="http://schemas.openxmlformats.org/officeDocument/2006/relationships/hyperlink" Target="file:///../bioelettr/bioElettronica.htm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dnat.org/alimentazione/basica.htm" TargetMode="External"/><Relationship Id="rId2" Type="http://schemas.openxmlformats.org/officeDocument/2006/relationships/hyperlink" Target="http://www.mednat.org/alimentazione/basica.htm" TargetMode="External"/><Relationship Id="rId3" Type="http://schemas.openxmlformats.org/officeDocument/2006/relationships/hyperlink" Target="http://www.mednat.org/alimentazione/basica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dnat.org/alimentazione/alimentaz_naturale.htm" TargetMode="External"/><Relationship Id="rId2" Type="http://schemas.openxmlformats.org/officeDocument/2006/relationships/hyperlink" Target="http://www.mednat.org/spirito/conflitti_spiritual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1800" y="260280"/>
            <a:ext cx="7340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Curriculum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del dr.</a:t>
            </a: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 G. Paolo Vanoli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Giovanni Paolo Vano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(nato il 13/03/41 in Francia)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NON MED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Naturista, laureato in Scienza della Nutrizione e Medicine biologico Naturali negli USA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Giornalist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pubblicista, direttore responsabile di diverse testate (elettroniche e non), editore per 39 anni, conferenziere, ecologista, biblista, filosofo, si occupa da 38 anni di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Medicine Alternative Natura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che attualmente pratica ed insegna in Italia ed all’estero a medici, paramedici e cittadini, con appositi corsi e/o conferenze. 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a 30 anni circa ha messo a punto, attraverso la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Medicina Natur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a Cura per il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Cancr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non solo, ben esposta nel suo studio aggiornato e pubblicato nel 1998, nel Web su: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2"/>
              </a:rPr>
              <a:t>Cancro e Medicina Natur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Oggi anche agente esclusivo di aziende est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o-fondatore di varie associazioni, fra le quali quella per la “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Liberta’ di Vaccin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”, ha pubblicato migliaia di articoli sui temi delle Medicine dolci dette erroneamente complementari, di fatto alternative, inglobando le varie tecniche delle tradizioni piu’ antiche in un'unica Medicina Naturale con un preciso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3"/>
              </a:rPr>
              <a:t>Protocoll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della Salu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che funziona in ogni malattia anche grave, sempre se l’organismo riesce a reagire naturalmente e non e’ stato troppo intossicato, debilitato ed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immunodepress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4"/>
              </a:rPr>
              <a:t>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5"/>
              </a:rPr>
              <a:t>Farmaci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e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Arial"/>
              </a:rPr>
              <a:t> comportamenti inadatt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all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Arial"/>
              </a:rPr>
              <a:t> Perfetta Salu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Conflitti Spirituali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onflitt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  <a:ea typeface="Arial"/>
              </a:rPr>
              <a:t>opposizione, contesa, urto, cozzare combattere, guerra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In Psicologi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  <a:ea typeface="Arial"/>
              </a:rPr>
              <a:t>la situazione in cui viene a trovarsi l'individuo quando e' sottoposto alla pressione di tendenze, bisogni e motivazioni fra loro contrastant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"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Arial"/>
                <a:ea typeface="Arial"/>
              </a:rPr>
              <a:t>Spiritu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appartenente alla realta' immateriale del pensier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a parola deriva dalla parola latina: 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Spiritu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Spirito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realta' immateriale come il pensiero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a radice della parola Spirito = SPI = anagrammata fornisce la radice della parola </a:t>
            </a:r>
            <a:r>
              <a:rPr b="0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PSIcolog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dal greco</a:t>
            </a:r>
            <a:r>
              <a:rPr b="0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 PS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= Pensiero = Spirito + Logia = studio; quindi il significato e' studio della mente, del pensiero, ovvero studio dell'insieme del pensato della Personalita'.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Conflittu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condizionato dall'esistenza  di un Conflitto, pertinente ad un Conflitto esistente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Cause Spirituali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della</a:t>
            </a: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 malatt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Arial"/>
                <a:ea typeface="Arial"/>
              </a:rPr>
              <a:t>Conflitti di Incoeren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errori Comportamentali - consci od inconsci - cioe' comportamenti sbagliati rispetto alle Leggi che regolano le strutture viventi e/o non accettazione delle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prove della vit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per mancanza di dati su di Essa...=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Ignoran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generano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stress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eccitatorio continu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che si localizza inizialmente e sopra tutto nei cervelli di sopra e di sotto cioe’ nel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sistema nervoso enter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-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tubo digeren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- quindi nell'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intestin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 da questo luogo di si "dirama" dove può andare....cioè dove trova il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Times New Roman"/>
                <a:hlinkClick r:id="rId1"/>
              </a:rPr>
              <a:t>Terren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datto: liquidi, cellule, tessuti, organi, sistemi, bersagli del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flitto irrisolto e vissuto in solitudi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iché la maggior parte delle disfunzioni fisiologiche sono causate da un blocco emozionale-energetico, a sua volta derivante dalla somatizzazione di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flitti irrisol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i incoerenza, e' stata sviluppata una tecnica chiamata "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Times New Roman"/>
                <a:hlinkClick r:id="rId2"/>
              </a:rPr>
              <a:t>Lavaggio energet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", che consiste nello stimolare con le mani determinati punti sul corpo della persona, per scaricare gli eventuali blocchi energetici e ricaricarla., (resettaggio)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sa è lo</a:t>
            </a: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 Stress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(Definizione)</a:t>
            </a:r>
            <a:br>
              <a:rPr sz="2000"/>
            </a:b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Arial"/>
                <a:ea typeface="Arial"/>
              </a:rPr>
              <a:t>Stres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dal Dizionario: (in medicina) "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ogni causa psichica o fisica capace di esercitare sull'organismo con la sua azione prolungata nel tempo, uno stimol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provocando una reazione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 (benefica o malefica) 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e' detto anche tensione nervosa, sforzo, forza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(In genere e’ considerato dannoso, ma esiste anche lo stress benefico = quello che porta verso la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soluzione dei problem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ell'esistenza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Esistono molti indizi sugli effetti negativi dello stress cronico, che  indebolisce il nostro sistema immunitario e influenza numerosi aspetti  della salu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- spiega il dermatologo Francisco Tausk, direttore dello  studio pubblicato sul Journal of the American  Academy of Dermatolog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Arial"/>
                <a:ea typeface="Arial"/>
              </a:rPr>
              <a:t>Ansi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dal Dizionario: "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Stato emotivo spiacevole, accompagnato da senso di oppressione, eccitazione e timore di un male futuro, la cui caratteristica principale è la scomparsa o la notevole diminuzione del controllo volontario e razionale della personal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1800" y="0"/>
            <a:ext cx="7340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66"/>
                </a:solidFill>
                <a:latin typeface="Verdana"/>
              </a:rPr>
              <a:t>Eventi Stressanti</a:t>
            </a:r>
            <a:br>
              <a:rPr sz="4000"/>
            </a:br>
            <a:r>
              <a:rPr b="0" lang="it-IT" sz="1200" spc="-1" strike="noStrike">
                <a:solidFill>
                  <a:srgbClr val="ffcc66"/>
                </a:solidFill>
                <a:latin typeface="Arial"/>
                <a:ea typeface="Arial"/>
              </a:rPr>
              <a:t>Scala dei Valori STRESSANTI</a:t>
            </a:r>
            <a:r>
              <a:rPr b="0" lang="it-IT" sz="14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0" lang="it-IT" sz="1000" spc="-1" strike="noStrike">
                <a:solidFill>
                  <a:srgbClr val="ffcc66"/>
                </a:solidFill>
                <a:latin typeface="Arial"/>
                <a:ea typeface="Arial"/>
              </a:rPr>
              <a:t>(messa a punto dal Prof. T.H. Holmes e R.H. Rahe dell’Università di Washington)</a:t>
            </a:r>
            <a:endParaRPr b="0" lang="en-US" sz="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rte del Coniug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Divorzi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Separazione fra Coniug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arcerazion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rte di un famigliare strett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alattia o ferita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atrimonio 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Licenziament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Riconciliazione coniugale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Pensionament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alattia di un famigliare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Gravidanz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Difficoltà sessual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Acquisizione di un nuovo membro della famigli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Riassesto negli affari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utamento delle condizioni finanzi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rte di un amico strett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ambiamento di lavor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Aumento di conflittualità con coniuge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reazione di mutuo oltre i 25.000 Euri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Preclusione di mutuo o di un prestit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utamento di responsabilità sul lavor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Abbandono della casa di un figli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Disaccordo con i parent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Rilevante successo personal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glie inizia o cessa un lavor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Inizio fine scuol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ambiamenti nelle condizioni di vit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orrezioni delle prime abitudini di vit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Fastidi con un superior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utamenti di orario e condizioni di lavo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7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5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7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4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6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8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La Medicina Natura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è pertanto in primis una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Medicina Educativ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perché richiede l'applicazione personale della propria volontà in ogni situazione di malEssere (essere nel male) per ricercare, trovare e risolvere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Vere Caus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cioè 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i problem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piritual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son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INCOERENZ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quindi di </a:t>
            </a:r>
            <a:r>
              <a:rPr b="1" lang="it-IT" sz="2000" spc="-1" strike="noStrike">
                <a:solidFill>
                  <a:srgbClr val="ff0066"/>
                </a:solidFill>
                <a:latin typeface="Verdana"/>
                <a:ea typeface="Times New Roman"/>
              </a:rPr>
              <a:t>Trasgressio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rispetto alle Leggi che regolano le strutture Viventi, con 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ipofunzion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Ipofisar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alterazione degli ormoni da essa prodot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l Cancro e’ quindi una malattia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PsicoSoma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segue la linea:</a:t>
            </a:r>
            <a:br>
              <a:rPr sz="2000"/>
            </a:b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sicoNeuroEndocrinoImmunoGastroIntestinalOrganicaTissut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veniente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 sempre anche da: depression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Immunitar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ntrollo Stato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di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Salute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n semplice emocromo e’ in grado di indicare lo stato del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Sistema Immunitar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 es.. (Quantita’ dei Linfociti = Globuli Bianchi)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Verifica con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vetri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Gocci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di Sangue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3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l Paziente, per mezzo di un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microscop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per riscontrare la presenza o meno dei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microcristall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ll’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lber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l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Cancr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Verifica (in alcuni casi) del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Livell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 dell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 stat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i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 Liquidi Corpore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con BTA (BEV) –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4"/>
              </a:rPr>
              <a:t>pH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5"/>
              </a:rPr>
              <a:t>,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6"/>
              </a:rPr>
              <a:t>rH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7"/>
              </a:rPr>
              <a:t>,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8"/>
              </a:rPr>
              <a:t>rò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Tac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(Tomografia Assiale Computerizzata, del cervello di sopra) per controllare ed evidenziare le macchie (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sed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el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Conflitto Spiritu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) dovute all’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Infiammazion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ocal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Neuron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e l’alterazione del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Liquor Cerebro-Rachidi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per l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Intossicaz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che li raggiungono (in genere lipidi-grassi)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Verifica dell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Stato Gener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el Paziente, con apposite apparecchiatur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od altri esam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test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uti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Cause </a:t>
            </a:r>
            <a:r>
              <a:rPr b="1" lang="it-IT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e</a:t>
            </a: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ConCause </a:t>
            </a:r>
            <a:r>
              <a:rPr b="1" lang="it-IT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del</a:t>
            </a: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  <a:ea typeface="Times New Roman"/>
              </a:rPr>
              <a:t>CANCRO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,</a:t>
            </a: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e non solo, in MedNat</a:t>
            </a:r>
            <a:br>
              <a:rPr sz="24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3407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infiammano zone particolari del cervello di sopra e di sotto, le quali controllano degli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orga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 sistem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divengono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bersagli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el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Intossicazio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xtra ed endo cellulari, </a:t>
            </a: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Infiammazio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tessutali, organiche e sistemiche, con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errata Alimentazione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industriale),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Amalgami denta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uso di </a:t>
            </a:r>
            <a:r>
              <a:rPr b="0" lang="it-IT" sz="16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Farmac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sintesi e </a:t>
            </a:r>
            <a:r>
              <a:rPr b="0" lang="it-IT" sz="16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Vacci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,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Radioterapi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e/o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Drogh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Flora Batteric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autoctona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alterat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(disbiosi cronica);</a:t>
            </a:r>
            <a:br>
              <a:rPr sz="1600"/>
            </a:b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pH, rH, rò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ei liquidi del corpo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lterati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endo ed extra cellulari) verso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l’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Acido - Ossidato a bassa resistività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Colonizzazion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egli organi bersaglio, di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Batter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Funghi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specie candida Albicans), deputati alla disintossicazione delle zone interessate, ma per mancanza di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Flora antagonist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essi proliferano a dismisura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colonizzando i tessut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Nascita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del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Cancro</a:t>
            </a:r>
            <a:br>
              <a:rPr sz="4000"/>
            </a:b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(dalla Psiche al Fisico, nell’Organo bersaglio)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Le malattie, sono quindi la conseguenza dei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1"/>
              </a:rPr>
              <a:t>Conflitti Spiritual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che "scendono" dal "cielo dello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2"/>
              </a:rPr>
              <a:t>Spiri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-Pensiero" nella “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3"/>
              </a:rPr>
              <a:t>Terra fisiolog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, il fisico" e quando trovano il "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4"/>
              </a:rPr>
              <a:t>Terre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"  adatto, prolificano generando il 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Arial"/>
              </a:rPr>
              <a:t>corpo del Conflit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, la malattia, ovvero l’azione del male, cioè dell’ignoranz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Come si cre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un  Tum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tossic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orporea e cellulare +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Acidos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orporea e cellulare +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Infiamm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tissutale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’organo bersagl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che richiama liquidi nei tessuti interessati  + aggregazione-agglomeramento di cellule e tessuti, per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mezzo di fungh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/o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batte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con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solamento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delle cellule del tessuti interessa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dal contesto delle informazioni da e per il sistema psicofisiologico totale che e’ un sistem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Cibernet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=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Massa Tumor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massa tumorale viene quindi “alimentata” e cresce a dismisura se non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bloccata e/o ridott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con le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tecniche opportune, NON invasive, né Intossica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Terapie 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Spiritual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Risolvere il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onflitto Spiritu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ambiando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E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cioe’ comportamenti, ve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Tecn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Confessione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d agire sul fisico con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tecniche opportu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ar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onoscer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percorrer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arallelamente, al Paziente, il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percors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Psico-Fisico)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inverso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a quello attuat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gener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il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Cancr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per mezzo delle vari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tecniche adat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secondo il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Protocollo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3"/>
              </a:rPr>
              <a:t>della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4"/>
              </a:rPr>
              <a:t> Salu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presente nel ns. Portale WEB: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http://www.mednat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Terapie Fisiologich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Verdana"/>
              </a:rPr>
              <a:t>Alimentazione Vegetarian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meglio se cruda e frullata per almeno 3 mes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Utilizzar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ibi Biolo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meglio s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iodinam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Ripristino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ella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Flora Batter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intestinale, assumend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ntegrator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multi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atter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Mineral-Vitamin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di derivazione naturale, cioe’ micro-Diet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Immunostimolan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Verdana"/>
              </a:rPr>
              <a:t>CANCRO e MEDICINA NATURALE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2800" spc="-1" strike="noStrike">
                <a:solidFill>
                  <a:srgbClr val="ff0033"/>
                </a:solidFill>
                <a:latin typeface="Verdana"/>
              </a:rPr>
              <a:t> Medicina Natural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è la</a:t>
            </a:r>
            <a:r>
              <a:rPr b="1" lang="it-IT" sz="2800" spc="-1" strike="noStrike">
                <a:solidFill>
                  <a:srgbClr val="ff0033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Madr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 Tutt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ssa è l’unica Medicina a misura d’uomo,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NON invasiva e risolutiva per ogni malattia,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…..dal Raffreddore ……al Cancro 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ssa e’ esaurientemente presentata nel ns Portale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www.mednat.org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(By dr. G. Paolo Vanoli – Giornalista Pubblicista, Consulente in “Scienza della Nutrizione e Medicine Biologico Naturali” – Ph.D. US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Disintossicare, Disinfiammare, Immunostimol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1800" y="1052640"/>
            <a:ext cx="7340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Disintossic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Disinfiammar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l’organismo iniziando dall’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ntestin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er mezzo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dro Colon Terap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(bisettimanale e/o settimanale, con acqua a min. pH 7 e particolar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nfusi di erb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)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Diminui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Temperatura intestin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con cataplasmi freddi (notturni)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ssumere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Fior di Zolf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/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Glutatio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er un certo periodo di tempo, come indicato nel ns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Protocollo della Salu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) e di altri </a:t>
            </a:r>
            <a:r>
              <a:rPr b="1" lang="it-IT" sz="2000" spc="-1" strike="noStrike">
                <a:solidFill>
                  <a:srgbClr val="ff0066"/>
                </a:solidFill>
                <a:latin typeface="Verdana"/>
              </a:rPr>
              <a:t>Sali tampone adat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Utilizzo di prodotti Fitoterapic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mmunostimolan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(Ortica, Curcuma, Equiseto, Micro diete di Frutta e Verdura, Aglio, Fermenti Lattici, Enzimi, ecc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Utilizzo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di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Acqua Bas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Far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Bere almeno 1,5 litri di acqua Basica 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pH 10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 ogni gior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per un certo periodo, controllando che l’inversion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cido-bas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avvenga senza portare il paziente in alcalosi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Verdana"/>
              </a:rPr>
              <a:t>Aliment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il paziente in modo da favorire il piu’ possibile il riordino celer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cido-basic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ntegrando l’alimentazione adatta con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appositi Sali tamp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che Le sperimentazioni dell'ISS (Istituto Sup. di Sanita' - Italy) partono dall'evidenza che l'ambiente (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 in cui si sviluppa un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umor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malig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nch'ess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ci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  e le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Vaccinazioni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cert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roducono facilmente l'alterazione del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erso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l'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acido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..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Drenare le zone colpite dal Tumo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con “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acqua” in soluzion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l 5 % di Bicarbona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Sod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per mezzo di: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endovene, cateteri, iniezioni e/o infus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hirurgia  -  Metastas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In certi casi puo’ essere uti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l’intervento Chirurgico per asport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mass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quando essa è stata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en circoscrit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definita ed isolata, con le Terapie Naturali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Metastas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ebbono essere considerat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NUOVI TUMOR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he si insediano in zon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ub-Bersagli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se il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ersaglio primario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e’ stato eliminato oppure e’ ormai “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INTASATO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”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In-Formazione Spiritua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iutare il Paziente a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onoscere il Senso della Vi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d i perché della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propria Esistenz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fornendogli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pportun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Giuste In-Form-Azion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ul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enso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cop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r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della Vi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di quella dell’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UniVers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efinire con il Paziente le parole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Mor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Sofferenz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Vi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e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m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ar assumere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Prodotti Fitoterapic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datti a ripristinare la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giusta Nutrizione NeuroCellul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Pappa reale, Biancospino, Minerali e Vitamine ecc.), affinche’ l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Spirit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ne tragga giovamento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Ovviamente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occor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he: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terapeuti, psicologi, medici, paramedici,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cc.,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siano essi stessi ben informat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coerenti su queste tematich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altrimenti non sono buoni consiglieri, perche’ danno un cattivo esempio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Vivere con Gioia e Piace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iutare il Paziente a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Godere di più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la propria esistenza, consigliandogli anche di fare più spesso all’amore (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Sess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) con il proprio Partner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onsigliargli di cambiare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E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ompagno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/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Lavor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/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as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se questi sono legati ai suoi Conflitti irrisol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ornire al soggetto le indicazioni per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dare un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ens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la propria Vita inserendola nel senso degl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Scop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Finalita’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della Creazione dell’UniVer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DIRITTI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e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 DOVERI </a:t>
            </a:r>
            <a:br>
              <a:rPr sz="36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dello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STATO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e de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CITTADIN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1800" y="1980720"/>
            <a:ext cx="7340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a parte del singolo Cittadino vi deve essere il </a:t>
            </a:r>
            <a:r>
              <a:rPr b="1" lang="en-US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DIRITT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DOVE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d impara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cioè ad educarsi in materia di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alute e Prevenzion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ella stessa e da parte delle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trutture Pubbliche  Sanitari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 Scolastich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Sta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il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DOVE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garantirne l'insegnamen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i risultati su Pazienti malati e curati con parte di queste Tecniche: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www.curenaturalicancro.org</a:t>
            </a:r>
            <a:br>
              <a:rPr sz="2000"/>
            </a:br>
            <a:r>
              <a:rPr b="1" lang="en-US" sz="20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CONCLUSION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TUTTI i particolari delle varie Tecniche consigliate e non so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o indicate nel ns. Portale WEB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www.mednat.org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.mail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info@mednat.org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br>
              <a:rPr sz="2000"/>
            </a:b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(By dr. G. Paolo Vanoli – Giornalista, Pubblicista, Consulente in “Scienza della Nutrizione e Medicine Biologico Naturali” – Ph.D.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l dr. Tullio Simoncini (medico di Roma - Italy) ha trattato i pazient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 par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quest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rotocol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Medicina Natur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ottenendo i risultati molto positivi,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vengono illustrati in questo sito web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3"/>
              </a:rPr>
              <a:t>www.curenaturalicancro.org</a:t>
            </a:r>
            <a:br>
              <a:rPr sz="2000"/>
            </a:br>
            <a:br>
              <a:rPr sz="2000"/>
            </a:br>
            <a:r>
              <a:rPr b="1" lang="it-IT" sz="20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Introduzion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a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MEDICINA Biologico, NATURA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1800" y="1844640"/>
            <a:ext cx="734040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segna ad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applicare correttamente le Regole Fondamental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(Leggi naturali ed Universali) per mantenere la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erfetta Salu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nel suo insieme; questa metodologia implica una corrispettiva impostazion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tic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comportamenti di Vita personale e sociale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empre più Perfett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in tutti i Campi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ssa è la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Scienz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procede indagando sull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Vere cau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provocano le malattie, cercando di risolverle nel miglior ed unico modo possibile e cioè,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Rimuovendo tutte le Cause ri-trova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senza ricorrere, se possibile, ad interventi cruenti o tossico/nocivi per gli stati fisiologici e psichici generali, seguendo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rocedure che siano in Sintoni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 le "</a:t>
            </a:r>
            <a:r>
              <a:rPr b="1" lang="en-US" sz="2000" spc="-1" strike="noStrike">
                <a:solidFill>
                  <a:srgbClr val="ff0066"/>
                </a:solidFill>
                <a:latin typeface="Verdana"/>
                <a:ea typeface="Times New Roman"/>
              </a:rPr>
              <a:t>Leggi Cosmiche Natural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Educazion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a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 Salute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iment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sicologic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: studiando ed imparando 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ratic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le vari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Legg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regolano le Strutture Viventi (Uomo), per evitare di generare e mantenere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 quindi vivere gl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Stress cronic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che sono 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immonudepresso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Fisici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: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Aliment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Natural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(Biologica e/o Biodinamica)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e supplementazione per avere una buona 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Nutri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cellul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questo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il mantenimento della 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ressione osmot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della cellula ai valori ottima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mpiego di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3"/>
              </a:rPr>
              <a:t>Sostanze Naturali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4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d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atossich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(fitoterapici, mineral-vitaminici, multibatterici ed enzimatici), atte a mantenere lo stato d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Buona Salu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(P.S.) e/o ripristinare le "alterazioni" Psico-fisiche, 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eliminand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e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5"/>
              </a:rPr>
              <a:t>Intossicaz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 quindi le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6"/>
              </a:rPr>
              <a:t>Infiammaz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+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Acidos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intervenute nello stato di malatt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sa FAR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per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Stare Bene</a:t>
            </a:r>
            <a:br>
              <a:rPr sz="4000"/>
            </a:b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e come nasce la malattia - 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orpo Um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cosi come tutti gli esseri Viventi)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e' ben no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e' un'insieme di cellule e quindi esso segue e sopravvive con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rincip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g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chem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funzionamento della Cellu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la quale come e' ben evidenziato in questa pagina funziona per mezzo de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iusti Rappor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ra l'ambiente esterno il liquido extracellulare e quello interno (liquido intracellulare), i quali sono determinati in primis dai rispettiv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pH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- regolati nei loro giusti rapporti dai process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acidi-ba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tra ed intra cellulare, cioe' dalla loro carica ionica - bio elettronica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d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Bio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 Elettronic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Pompa Sodio-Potass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indi il corpo umano s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mma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olamente quando quest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Giusti Rappor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alter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vedi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Com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Perche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7"/>
              </a:rPr>
              <a:t>'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8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asce la malattia) e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uarig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VE segui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ssolutamente ed in primis il riordino di questi. La malattia e' una sola (non esistono malattie) essa e' l'alterazione della funzionalita' cellulare e corporea per l'alterazione dei Giusti Rapporti del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pH + rH + ro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9"/>
              </a:rPr>
              <a:t>'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tra ed intracellulare.  - vedi Bio Elettro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IDOSI nel CANC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sperimentazioni dell'ISS (Istituto Sup. di Sanita' - Italy) partono dall'evidenza che l'ambiente (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in cui si sviluppa un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umor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malig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nch'ess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ci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  e l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ert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roducono facilmente l'alterazione del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erso l'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cido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H and Chemotherapy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- A., Raghunand N. B., Gillies RJ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University of Arizona Health Sciences Center, Cancer Center Division, Tucson 85724-5024, USA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vivo pH measurements by magnetic resonance spectroscopy reveal the presence of </a:t>
            </a:r>
            <a:r>
              <a:rPr b="1" lang="it-IT" sz="1800" spc="-1" strike="noStrike">
                <a:solidFill>
                  <a:srgbClr val="ff0066"/>
                </a:solidFill>
                <a:latin typeface="Arial"/>
              </a:rPr>
              <a:t>large regions of acidic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extracellular pH in tumour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he intracellular pH being maintained in the neutral-to-alkaline range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s acid-outside plasmalemmal pH gradient acts to exclude weak base drugs such as the anthracyclines and vinca alkaloids, a behaviour that is predicted by the decrease in octanol-water partition coefficients of mitoxantrone and doxorubicin with decreasing solution pH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s pH gradient can be reduced or eliminated in mouse models of breast cancer by systemic treatment with sodium bicarbonate..... PMID: 11727930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sa FAR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per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Stare Bene</a:t>
            </a:r>
            <a:br>
              <a:rPr sz="4000"/>
            </a:b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e come nasce la malattia -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mantenere la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Perfetta Salu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occorre rispettare dell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Regole Fondamental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si possono sintetizzare nel saper controllare e gestire il proprio corp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Fi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 suoi liquidi) in modo che sia mantenuto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il più possibile con un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pH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 fisiologico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3"/>
              </a:rPr>
              <a:t> verso il Neutro o leggermente Ba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 l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Spiri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affinchè l’Essere gestisca al meglio i suo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roblemi Spirituali,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i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derivanti dall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Ignoranz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incoerenz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, sulle propri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trasgress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alle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Legg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regolano gl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Esseri Vive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 l’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UniVers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Gl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Stress cronici, (consci ed inconsci) deriva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a quelle trasgressioni e dalle prove della Vita, forniscon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l’input Spirituale anche al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Cancr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Conoscere tutto ciò, e’ indispensabile per vivere il più possibile nel BenEssere (essere nel Bene)…….e/o per guarire dalle malattie (azione del ma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Far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'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Amore spesso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ben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con il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proprio Partn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1800" y="1980720"/>
            <a:ext cx="7340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Fare 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’Amore, meditare, riflettere, studiare, pregare, ascoltare o fare musica melodiosa, ballare con musiche rilassanti o gioiose, giocare, passeggiare, fare sport in mezzo alla Natur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…. anche assieme ad altri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erdona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il perdono deve essere inteso come rinuncia al diritto di provare, esasperazione, rancore, irritazione o desiderio di vendetta; un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arattere clemen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, facilita anche 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l’amore ed i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rapporti int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Queste sono le </a:t>
            </a:r>
            <a:r>
              <a:rPr b="1" lang="en-US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Medicine Gratui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vanno utilizzate il più possibile per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mantenersi in Perfetta Sal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…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Per rimanere in quei limiti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occorre che….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1800" y="1980720"/>
            <a:ext cx="7340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..ci si alimenti con diete idriche di acque adatte e con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Cibi Biologici Integrali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(o semi integrali), meglio se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Biodinamic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;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raticando ginnastich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Movimen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ll'aria aperta e se possibile, con la pelle in contatto con il sole e l'aria,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Riposando adeguatamen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respirando bene e profondamente, cercando di non crearsi degli inutili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Conflitti Spiritual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oltre a quelli che la vita stessa propone e che vanno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Risolt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arrivando a pensare in positivo il più possibile in modo da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Digerire ben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nche tutte le asperità della vi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a che genera il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ancr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’ il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o Spirituale </a:t>
            </a:r>
            <a:r>
              <a:rPr b="1" lang="en-US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IRRISOL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8:59:58Z</dcterms:created>
  <dc:creator>vanoli</dc:creator>
  <dc:description/>
  <dc:language>en-US</dc:language>
  <cp:lastModifiedBy>Vanoli</cp:lastModifiedBy>
  <dcterms:modified xsi:type="dcterms:W3CDTF">2007-10-13T10:35:12Z</dcterms:modified>
  <cp:revision>187</cp:revision>
  <dc:subject/>
  <dc:title>MEDICINA NATURALE</dc:title>
</cp:coreProperties>
</file>