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8067-8D5E-4ECB-A092-80649E4C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9BA-4D56-4387-AF41-E0C214CC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6C92-7BA4-4FB6-9A41-FB0C1DE5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85B-ECC5-4915-A569-81842CB1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2F5E-0CD0-4ED9-9A83-308CEF69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B556-A7B2-4B1D-AAF9-D0DE5115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5EBD-BACB-477E-AEF7-C7A04DDF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E8D7-B623-4532-8613-E5CE38E6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1212-6B0B-42F5-B17F-91512A56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E9CCD-AF87-4E9F-AB81-A4980DB5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E254-388E-4F7D-9FAF-324A4557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9C3-C5AC-43E4-A0B9-84B8A75D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8FA3-FC6E-4868-8D5F-5BF12F9B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7D2D-C552-4726-993F-DD7E6A7E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ECA8A-2E72-4D98-BAE5-E3DBA262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66E6-4BB3-4671-BB3D-FA72EC8B3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3429-2FE3-46EE-91AF-730C0CF8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B24-C1A1-469A-9754-1F6CFDC7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23EB-3051-496C-B53F-C20F0BC0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B3F-3E03-4D77-BEED-C9156112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42E1-5096-4EAE-A595-2EC21346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3140-DECD-4683-BCCD-57376B9E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F697-9317-483A-AC1C-76E539FD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166-03DA-469E-A7D6-775B6AB3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7EE3-13FC-4DE3-B334-4E7846337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0A34-1315-4763-AF53-58387F9658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introduz_mednat.htm" TargetMode="External"/><Relationship Id="rId2" Type="http://schemas.openxmlformats.org/officeDocument/2006/relationships/hyperlink" Target="file:///tesina1net.htm" TargetMode="External"/><Relationship Id="rId3" Type="http://schemas.openxmlformats.org/officeDocument/2006/relationships/hyperlink" Target="file:///../cure_natur/protocollo2.htm" TargetMode="External"/><Relationship Id="rId4" Type="http://schemas.openxmlformats.org/officeDocument/2006/relationships/hyperlink" Target="file:///../vaccini/vaccini_base.htm" TargetMode="External"/><Relationship Id="rId5" Type="http://schemas.openxmlformats.org/officeDocument/2006/relationships/hyperlink" Target="file:///../pericolo_farmaci.htm" TargetMode="External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dnat.org/cure_natur/matrice.htm" TargetMode="External"/><Relationship Id="rId2" Type="http://schemas.openxmlformats.org/officeDocument/2006/relationships/hyperlink" Target="mailto:lelael@yahoo.it" TargetMode="Externa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ednat.org/cancro/microcristalli.htm" TargetMode="External"/><Relationship Id="rId2" Type="http://schemas.openxmlformats.org/officeDocument/2006/relationships/hyperlink" Target="http://www.mednat.org/cancro/microcristalli.htm" TargetMode="External"/><Relationship Id="rId3" Type="http://schemas.openxmlformats.org/officeDocument/2006/relationships/hyperlink" Target="http://www.mednat.org/cancro/microcristalli.htm" TargetMode="External"/><Relationship Id="rId4" Type="http://schemas.openxmlformats.org/officeDocument/2006/relationships/hyperlink" Target="http://www.mednat.org/bioelettr/bioelettr_base.htm" TargetMode="External"/><Relationship Id="rId5" Type="http://schemas.openxmlformats.org/officeDocument/2006/relationships/hyperlink" Target="http://www.mednat.org/bioelettr/bioelettr_base.htm" TargetMode="External"/><Relationship Id="rId6" Type="http://schemas.openxmlformats.org/officeDocument/2006/relationships/hyperlink" Target="http://www.mednat.org/bioelettr/bioelettr_base.htm" TargetMode="External"/><Relationship Id="rId7" Type="http://schemas.openxmlformats.org/officeDocument/2006/relationships/hyperlink" Target="http://www.mednat.org/bioelettr/bioelettr_base.htm" TargetMode="External"/><Relationship Id="rId8" Type="http://schemas.openxmlformats.org/officeDocument/2006/relationships/hyperlink" Target="http://www.mednat.org/bioelettr/bioelettr_base.htm" TargetMode="External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ednat.org/pericolo_farmaci.htm" TargetMode="External"/><Relationship Id="rId2" Type="http://schemas.openxmlformats.org/officeDocument/2006/relationships/hyperlink" Target="http://www.mednat.org/vaccini/vaccini_base.htm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ednat.org/spirito/conflitti_spirituali.htm" TargetMode="External"/><Relationship Id="rId2" Type="http://schemas.openxmlformats.org/officeDocument/2006/relationships/hyperlink" Target="http://www.mednat.org/spirito/spirito_base.htm" TargetMode="External"/><Relationship Id="rId3" Type="http://schemas.openxmlformats.org/officeDocument/2006/relationships/hyperlink" Target="http://www.mednat.org/cure_natur/matrice.htm" TargetMode="External"/><Relationship Id="rId4" Type="http://schemas.openxmlformats.org/officeDocument/2006/relationships/hyperlink" Target="http://www.mednat.org/cure_natur/nozioni_terreno.htm" TargetMode="External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ednat.org/religione/confessione.html" TargetMode="External"/><Relationship Id="rId2" Type="http://schemas.openxmlformats.org/officeDocument/2006/relationships/hyperlink" Target="http://www.mednat.org/cure_nat/protocollo2.htm" TargetMode="External"/><Relationship Id="rId3" Type="http://schemas.openxmlformats.org/officeDocument/2006/relationships/hyperlink" Target="http://www.mednat.org/cure_nat/protocollo2.htm" TargetMode="External"/><Relationship Id="rId4" Type="http://schemas.openxmlformats.org/officeDocument/2006/relationships/hyperlink" Target="http://www.mednat.org/cure_nat/protocollo2.htm" TargetMode="External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dnat.org/" TargetMode="Externa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ednat.org/Cap3/nozione_terreno.htm" TargetMode="External"/><Relationship Id="rId2" Type="http://schemas.openxmlformats.org/officeDocument/2006/relationships/hyperlink" Target="http://www.mednat.org/vaccini/vaccini_base2.htm" TargetMode="External"/><Relationship Id="rId3" Type="http://schemas.openxmlformats.org/officeDocument/2006/relationships/hyperlink" Target="http://www.mednat.org/vaccini/vaccini_base2.htm" TargetMode="External"/><Relationship Id="rId4" Type="http://schemas.openxmlformats.org/officeDocument/2006/relationships/hyperlink" Target="http://www.mednat.org/pericolo_farmaci.htm" TargetMode="External"/><Relationship Id="rId5" Type="http://schemas.openxmlformats.org/officeDocument/2006/relationships/hyperlink" Target="http://www.mednat.org/cure_natur/acidosi.htm" TargetMode="External"/><Relationship Id="rId6" Type="http://schemas.openxmlformats.org/officeDocument/2006/relationships/hyperlink" Target="http://www.mednat.org/cure_natur/acidosi.htm" TargetMode="External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mednat.org/filosofia/morte_cosasei.htm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ednat.org/sesso/sesso_base.htm" TargetMode="External"/><Relationship Id="rId2" Type="http://schemas.openxmlformats.org/officeDocument/2006/relationships/hyperlink" Target="http://www.mednat.org/bioetica/etica.html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urenaturalicancro.org/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mednat.org/" TargetMode="External"/><Relationship Id="rId2" Type="http://schemas.openxmlformats.org/officeDocument/2006/relationships/hyperlink" Target="mailto:info@mednat.org" TargetMode="External"/><Relationship Id="rId3" Type="http://schemas.openxmlformats.org/officeDocument/2006/relationships/hyperlink" Target="http://www.curenaturalicancro.org/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dnat.org/introduz_mednat.ht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dnat.org/alimentazione/alimentaz_naturale.htm" TargetMode="External"/><Relationship Id="rId2" Type="http://schemas.openxmlformats.org/officeDocument/2006/relationships/hyperlink" Target="http://www.mednat.org/alimentazione/nutrizione_cellulare.htm" TargetMode="External"/><Relationship Id="rId3" Type="http://schemas.openxmlformats.org/officeDocument/2006/relationships/hyperlink" Target="http://www.mednat.org/cure_nat/cure_nat_base.htm" TargetMode="External"/><Relationship Id="rId4" Type="http://schemas.openxmlformats.org/officeDocument/2006/relationships/hyperlink" Target="http://www.mednat.org/cure_nat/cure_nat_base.htm" TargetMode="External"/><Relationship Id="rId5" Type="http://schemas.openxmlformats.org/officeDocument/2006/relationships/hyperlink" Target="http://www.mednat.org/cure_nat/disintossicazione.htm" TargetMode="External"/><Relationship Id="rId6" Type="http://schemas.openxmlformats.org/officeDocument/2006/relationships/hyperlink" Target="http://www.mednat.org/cure_nat/infiammazioni.htm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t.wikipedia.org/wiki/Respirazione_cellulare" TargetMode="External"/><Relationship Id="rId2" Type="http://schemas.openxmlformats.org/officeDocument/2006/relationships/hyperlink" Target="http://www.mednat.org/bioelettr/acidi_basi.htm" TargetMode="External"/><Relationship Id="rId3" Type="http://schemas.openxmlformats.org/officeDocument/2006/relationships/hyperlink" Target="http://www.mednat.org/bioelettr/acidi_basi.htm" TargetMode="External"/><Relationship Id="rId4" Type="http://schemas.openxmlformats.org/officeDocument/2006/relationships/hyperlink" Target="http://www.mednat.org/bioelettr/bioelettr_base.htm" TargetMode="External"/><Relationship Id="rId5" Type="http://schemas.openxmlformats.org/officeDocument/2006/relationships/hyperlink" Target="http://www.mednat.org/bioelettr/bioelettr_base.htm" TargetMode="External"/><Relationship Id="rId6" Type="http://schemas.openxmlformats.org/officeDocument/2006/relationships/hyperlink" Target="http://www.mednat.org/cure_natur/pompa_sodio-potassio.htm" TargetMode="External"/><Relationship Id="rId7" Type="http://schemas.openxmlformats.org/officeDocument/2006/relationships/hyperlink" Target="file:///../cure_natur/perche_nasce.htm" TargetMode="External"/><Relationship Id="rId8" Type="http://schemas.openxmlformats.org/officeDocument/2006/relationships/hyperlink" Target="file:///../cure_natur/perche_nasce.htm" TargetMode="External"/><Relationship Id="rId9" Type="http://schemas.openxmlformats.org/officeDocument/2006/relationships/hyperlink" Target="file:///../bioelettr/bioElettronica.htm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ednat.org/alimentazione/basica.htm" TargetMode="External"/><Relationship Id="rId2" Type="http://schemas.openxmlformats.org/officeDocument/2006/relationships/hyperlink" Target="http://www.mednat.org/alimentazione/basica.htm" TargetMode="External"/><Relationship Id="rId3" Type="http://schemas.openxmlformats.org/officeDocument/2006/relationships/hyperlink" Target="http://www.mednat.org/alimentazione/basica.htm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dnat.org/alimentazione/alimentaz_naturale.htm" TargetMode="External"/><Relationship Id="rId2" Type="http://schemas.openxmlformats.org/officeDocument/2006/relationships/hyperlink" Target="http://www.mednat.org/spirito/conflitti_spirituali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1800" y="260280"/>
            <a:ext cx="73404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66"/>
                </a:solidFill>
                <a:latin typeface="Verdana"/>
              </a:rPr>
              <a:t>Curriculum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del dr.</a:t>
            </a:r>
            <a:r>
              <a:rPr b="1" lang="it-IT" sz="2400" spc="-1" strike="noStrike">
                <a:solidFill>
                  <a:srgbClr val="ffcc66"/>
                </a:solidFill>
                <a:latin typeface="Verdana"/>
              </a:rPr>
              <a:t> G. Paolo Vanoli</a:t>
            </a:r>
            <a:br>
              <a:rPr sz="2400"/>
            </a:b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Giovanni Paolo Vanol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(nato il 13/03/41 in Francia)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NON MEDIC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Naturista, laureato in Scienza della Nutrizione e Medicine biologico Naturali negli USA, 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Giornalist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pubblicista, direttore responsabile di diverse testate (elettroniche e non), editore per 39 anni, conferenziere, ecologista, biblista, filosofo, si occupa da 38 anni di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1"/>
              </a:rPr>
              <a:t>Medicine Alternative Natural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che attualmente pratica ed insegna in Italia ed all’estero a medici, paramedici e cittadini, con appositi corsi e/o conferenze. 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Da 30 anni circa ha messo a punto, attraverso la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Medicina Natural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la Cura per il </a:t>
            </a:r>
            <a:r>
              <a:rPr b="0" lang="it-IT" sz="1800" spc="-1" strike="noStrike">
                <a:solidFill>
                  <a:srgbClr val="ffff00"/>
                </a:solidFill>
                <a:latin typeface="Arial"/>
                <a:ea typeface="Arial"/>
              </a:rPr>
              <a:t>Cancr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e non solo, ben esposta nel suo studio aggiornato e pubblicato nel 1998, nel Web su: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2"/>
              </a:rPr>
              <a:t>Cancro e Medicina Natural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Oggi anche agente esclusivo di aziende este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Co-fondatore di varie associazioni, fra le quali quella per la “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Liberta’ di Vaccinazion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”, ha pubblicato migliaia di articoli sui temi delle Medicine dolci dette erroneamente complementari, di fatto alternative, inglobando le varie tecniche delle tradizioni piu’ antiche in un'unica Medicina Naturale con un preciso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3"/>
              </a:rPr>
              <a:t>Protocoll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della Salut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che funziona in ogni malattia anche grave, sempre se l’organismo riesce a reagire naturalmente e non e’ stato troppo intossicato, debilitato ed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immunodepress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da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4"/>
              </a:rPr>
              <a:t>Vaccin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e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Arial"/>
                <a:ea typeface="Arial"/>
                <a:hlinkClick r:id="rId5"/>
              </a:rPr>
              <a:t>Farmaci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Arial"/>
              </a:rPr>
              <a:t>e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  <a:ea typeface="Arial"/>
              </a:rPr>
              <a:t> comportamenti inadatti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Arial"/>
              </a:rPr>
              <a:t>alla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  <a:ea typeface="Arial"/>
              </a:rPr>
              <a:t> Perfetta Salu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Conflitti Spirituali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Conflitt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Arial"/>
              </a:rPr>
              <a:t>dal Dizionario: "</a:t>
            </a:r>
            <a:r>
              <a:rPr b="0" i="1" lang="it-IT" sz="2000" spc="-1" strike="noStrike">
                <a:solidFill>
                  <a:srgbClr val="ffcc66"/>
                </a:solidFill>
                <a:latin typeface="Verdana"/>
                <a:ea typeface="Arial"/>
              </a:rPr>
              <a:t>opposizione, contesa, urto, cozzare combattere, guerra. 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Arial"/>
              </a:rPr>
              <a:t>In Psicologia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  <a:ea typeface="Arial"/>
              </a:rPr>
              <a:t>: </a:t>
            </a:r>
            <a:r>
              <a:rPr b="0" i="1" lang="it-IT" sz="2000" spc="-1" strike="noStrike">
                <a:solidFill>
                  <a:srgbClr val="ffcc66"/>
                </a:solidFill>
                <a:latin typeface="Verdana"/>
                <a:ea typeface="Arial"/>
              </a:rPr>
              <a:t>la situazione in cui viene a trovarsi l'individuo quando e' sottoposto alla pressione di tendenze, bisogni e motivazioni fra loro contrastanti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  <a:ea typeface="Arial"/>
              </a:rPr>
              <a:t>"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33"/>
                </a:solidFill>
                <a:latin typeface="Arial"/>
                <a:ea typeface="Arial"/>
              </a:rPr>
              <a:t>Spiritua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dal Dizionario: "</a:t>
            </a:r>
            <a:r>
              <a:rPr b="0" i="1" lang="it-IT" sz="2000" spc="-1" strike="noStrike">
                <a:solidFill>
                  <a:srgbClr val="ffcc66"/>
                </a:solidFill>
                <a:latin typeface="Arial"/>
                <a:ea typeface="Arial"/>
              </a:rPr>
              <a:t>appartenente alla realta' immateriale del pensier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". 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Questa parola deriva dalla parola latina: </a:t>
            </a:r>
            <a:r>
              <a:rPr b="0" i="1" lang="it-IT" sz="2000" spc="-1" strike="noStrike">
                <a:solidFill>
                  <a:srgbClr val="ffcc66"/>
                </a:solidFill>
                <a:latin typeface="Arial"/>
                <a:ea typeface="Arial"/>
              </a:rPr>
              <a:t>Spiritus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br>
              <a:rPr sz="2000"/>
            </a:br>
            <a:r>
              <a:rPr b="1" lang="it-IT" sz="2000" spc="-1" strike="noStrike">
                <a:solidFill>
                  <a:srgbClr val="ffcc66"/>
                </a:solidFill>
                <a:latin typeface="Arial"/>
                <a:ea typeface="Arial"/>
              </a:rPr>
              <a:t>Spirito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al Dizionario: "</a:t>
            </a:r>
            <a:r>
              <a:rPr b="0" i="1" lang="it-IT" sz="2000" spc="-1" strike="noStrike">
                <a:solidFill>
                  <a:srgbClr val="ffcc66"/>
                </a:solidFill>
                <a:latin typeface="Arial"/>
                <a:ea typeface="Arial"/>
              </a:rPr>
              <a:t>realta' immateriale come il pensiero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 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La radice della parola Spirito = SPI = anagrammata fornisce la radice della parola </a:t>
            </a:r>
            <a:r>
              <a:rPr b="0" lang="it-IT" sz="2000" spc="-1" strike="noStrike">
                <a:solidFill>
                  <a:srgbClr val="ffcc66"/>
                </a:solidFill>
                <a:latin typeface="Arial"/>
                <a:ea typeface="Arial"/>
              </a:rPr>
              <a:t>PSIcologi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(dal greco</a:t>
            </a:r>
            <a:r>
              <a:rPr b="0" lang="it-IT" sz="2000" spc="-1" strike="noStrike">
                <a:solidFill>
                  <a:srgbClr val="ffcc66"/>
                </a:solidFill>
                <a:latin typeface="Arial"/>
                <a:ea typeface="Arial"/>
              </a:rPr>
              <a:t> PSIch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 = Pensiero = Spirito + Logia = studio; quindi il significato e' studio della mente, del pensiero, ovvero studio dell'insieme del pensato della Personalita'.</a:t>
            </a:r>
            <a:br>
              <a:rPr sz="2000"/>
            </a:br>
            <a:r>
              <a:rPr b="1" lang="it-IT" sz="2000" spc="-1" strike="noStrike">
                <a:solidFill>
                  <a:srgbClr val="ffcc66"/>
                </a:solidFill>
                <a:latin typeface="Arial"/>
                <a:ea typeface="Arial"/>
              </a:rPr>
              <a:t>Conflittual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r>
              <a:rPr b="0" i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dal Dizionario: "</a:t>
            </a:r>
            <a:r>
              <a:rPr b="0" i="1" lang="it-IT" sz="2000" spc="-1" strike="noStrike">
                <a:solidFill>
                  <a:srgbClr val="ffcc66"/>
                </a:solidFill>
                <a:latin typeface="Arial"/>
                <a:ea typeface="Arial"/>
              </a:rPr>
              <a:t>condizionato dall'esistenza  di un Conflitto, pertinente ad un Conflitto esistente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Cause Spirituali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Arial"/>
              </a:rPr>
              <a:t>della</a:t>
            </a:r>
            <a:r>
              <a:rPr b="1" lang="en-US" sz="4400" spc="-1" strike="noStrike">
                <a:solidFill>
                  <a:srgbClr val="ffcc66"/>
                </a:solidFill>
                <a:latin typeface="Verdana"/>
                <a:ea typeface="Arial"/>
              </a:rPr>
              <a:t> malatti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33"/>
                </a:solidFill>
                <a:latin typeface="Arial"/>
                <a:ea typeface="Arial"/>
              </a:rPr>
              <a:t>Conflitti di Incoerenz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(errori Comportamentali - consci od inconsci - cioe' comportamenti sbagliati rispetto alle Leggi che regolano le strutture viventi e/o non accettazione delle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prove della vit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per mancanza di dati su di Essa...=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Ignoranz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) generano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stress</a:t>
            </a:r>
            <a:r>
              <a:rPr b="1" lang="it-IT" sz="18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eccitatorio continu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, che si localizza inizialmente e sopra tutto nei cervelli di sopra e di sotto cioe’ nel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sistema nervoso enteric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-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tubo digerent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- quindi nell'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intestin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e da questo luogo di si "dirama" dove può andare....cioè dove trova il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Arial"/>
                <a:ea typeface="Times New Roman"/>
                <a:hlinkClick r:id="rId1"/>
              </a:rPr>
              <a:t>Terren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adatto: liquidi, cellule, tessuti, organi, sistemi, bersagli del </a:t>
            </a:r>
            <a:r>
              <a:rPr b="1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Conflitto irrisolto e vissuto in solitudin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oiché la maggior parte delle disfunzioni fisiologiche sono causate da un blocco emozionale-energetico, a sua volta derivante dalla somatizzazione di </a:t>
            </a:r>
            <a:r>
              <a:rPr b="0" lang="it-IT" sz="1800" spc="-1" strike="noStrike">
                <a:solidFill>
                  <a:srgbClr val="ffcc66"/>
                </a:solidFill>
                <a:latin typeface="Arial"/>
                <a:ea typeface="Times New Roman"/>
              </a:rPr>
              <a:t>Conflitti irrisolt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di incoerenza, e' stata sviluppata una tecnica chiamata "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Arial"/>
                <a:ea typeface="Times New Roman"/>
                <a:hlinkClick r:id="rId2"/>
              </a:rPr>
              <a:t>Lavaggio energetic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", che consiste nello stimolare con le mani determinati punti sul corpo della persona, per scaricare gli eventuali blocchi energetici e ricaricarla., (resettaggio)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Cosa è lo</a:t>
            </a: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 Stress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(Definizione)</a:t>
            </a:r>
            <a:br>
              <a:rPr sz="2000"/>
            </a:b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33"/>
                </a:solidFill>
                <a:latin typeface="Arial"/>
                <a:ea typeface="Arial"/>
              </a:rPr>
              <a:t>Stres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dal Dizionario: (in medicina) "</a:t>
            </a:r>
            <a:r>
              <a:rPr b="0" i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ogni causa psichica o fisica capace di esercitare sull'organismo con la sua azione prolungata nel tempo, uno stimolo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provocando una reazione</a:t>
            </a:r>
            <a:r>
              <a:rPr b="0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 (benefica o malefica) </a:t>
            </a:r>
            <a:r>
              <a:rPr b="0" i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e' detto anche tensione nervosa, sforzo, forza</a:t>
            </a:r>
            <a:r>
              <a:rPr b="0" i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(In genere e’ considerato dannoso, ma esiste anche lo stress benefico = quello che porta verso la </a:t>
            </a:r>
            <a:r>
              <a:rPr b="0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soluzione dei problemi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dell'esistenza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r>
              <a:rPr b="0" i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Esistono molti indizi sugli effetti negativi dello stress cronico, che  indebolisce il nostro sistema immunitario e influenza numerosi aspetti  della salute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 - spiega il dermatologo Francisco Tausk, direttore dello  studio pubblicato sul Journal of the American  Academy of Dermatology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33"/>
                </a:solidFill>
                <a:latin typeface="Arial"/>
                <a:ea typeface="Arial"/>
              </a:rPr>
              <a:t>Ansia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, dal Dizionario: "</a:t>
            </a:r>
            <a:r>
              <a:rPr b="0" i="1" lang="it-IT" sz="1800" spc="-1" strike="noStrike">
                <a:solidFill>
                  <a:srgbClr val="ffcc66"/>
                </a:solidFill>
                <a:latin typeface="Arial"/>
                <a:ea typeface="Arial"/>
              </a:rPr>
              <a:t>Stato emotivo spiacevole, accompagnato da senso di oppressione, eccitazione e timore di un male futuro, la cui caratteristica principale è la scomparsa o la notevole diminuzione del controllo volontario e razionale della personalità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"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1800" y="0"/>
            <a:ext cx="7340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cc66"/>
                </a:solidFill>
                <a:latin typeface="Verdana"/>
              </a:rPr>
              <a:t>Eventi Stressanti</a:t>
            </a:r>
            <a:br>
              <a:rPr sz="4000"/>
            </a:br>
            <a:r>
              <a:rPr b="0" lang="it-IT" sz="1200" spc="-1" strike="noStrike">
                <a:solidFill>
                  <a:srgbClr val="ffcc66"/>
                </a:solidFill>
                <a:latin typeface="Arial"/>
                <a:ea typeface="Arial"/>
              </a:rPr>
              <a:t>Scala dei Valori STRESSANTI</a:t>
            </a:r>
            <a:r>
              <a:rPr b="0" lang="it-IT" sz="1400" spc="-1" strike="noStrike">
                <a:solidFill>
                  <a:srgbClr val="ffcc66"/>
                </a:solidFill>
                <a:latin typeface="Arial"/>
                <a:ea typeface="Arial"/>
              </a:rPr>
              <a:t>  </a:t>
            </a:r>
            <a:r>
              <a:rPr b="0" lang="it-IT" sz="1000" spc="-1" strike="noStrike">
                <a:solidFill>
                  <a:srgbClr val="ffcc66"/>
                </a:solidFill>
                <a:latin typeface="Arial"/>
                <a:ea typeface="Arial"/>
              </a:rPr>
              <a:t>(messa a punto dal Prof. T.H. Holmes e R.H. Rahe dell’Università di Washington)</a:t>
            </a:r>
            <a:endParaRPr b="0" lang="en-US" sz="1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orte del Coniuge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Divorzio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Separazione fra Coniugi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Carcerazione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orte di un famigliare stretto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alattia o ferita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atrimonio 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Licenziamento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Riconciliazione coniugale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Pensionamento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alattia di un famigliare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Gravidanza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Difficoltà sessuali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Acquisizione di un nuovo membro della famiglia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Riassesto negli affari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utamento delle condizioni finanzia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orte di un amico stretto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Cambiamento di lavoro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Aumento di conflittualità con coniuge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Creazione di mutuo oltre i 25.000 Euri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Preclusione di mutuo o di un prestito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utamento di responsabilità sul lavoro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Abbandono della casa di un figlio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Disaccordo con i parenti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Rilevante successo personale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oglie inizia o cessa un lavoro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Inizio fine scuola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Cambiamenti nelle condizioni di vita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Correzioni delle prime abitudini di vita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Fastidi con un superiore</a:t>
            </a: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br>
              <a:rPr sz="1200"/>
            </a:br>
            <a:r>
              <a:rPr b="0" lang="it-IT" sz="1200" spc="-1" strike="noStrike">
                <a:solidFill>
                  <a:srgbClr val="ffffff"/>
                </a:solidFill>
                <a:latin typeface="Arial"/>
                <a:ea typeface="Arial"/>
              </a:rPr>
              <a:t>Mutamenti di orario e condizioni di lavo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7960" y="11430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3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7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65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6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6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5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47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45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45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44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9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9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9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8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7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6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5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1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30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9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9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9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8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6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6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4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3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  <a:ea typeface="Times New Roman"/>
              </a:rPr>
              <a:t>La Medicina Natural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…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è pertanto in primis una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  <a:ea typeface="Times New Roman"/>
              </a:rPr>
              <a:t>Medicina Educativ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perché richiede l'applicazione personale della propria volontà in ogni situazione di malEssere (essere nel male) per ricercare, trovare e risolvere l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Vere Caus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cioè 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Conflitti Spiritual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Questi problem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Spiritual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sono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Conflitt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d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INCOERENZ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e quindi di </a:t>
            </a:r>
            <a:r>
              <a:rPr b="1" lang="it-IT" sz="2000" spc="-1" strike="noStrike">
                <a:solidFill>
                  <a:srgbClr val="ff0066"/>
                </a:solidFill>
                <a:latin typeface="Verdana"/>
                <a:ea typeface="Times New Roman"/>
              </a:rPr>
              <a:t>Trasgression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rispetto alle Leggi che regolano le strutture Viventi, con </a:t>
            </a:r>
            <a:r>
              <a:rPr b="0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ipofunzion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Ipofisari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e </a:t>
            </a:r>
            <a:r>
              <a:rPr b="0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alterazione degli ormoni da essa prodott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l Cancro e’ quindi una malattia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  <a:ea typeface="Times New Roman"/>
              </a:rPr>
              <a:t>PsicoSomatic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segue la linea:</a:t>
            </a:r>
            <a:br>
              <a:rPr sz="2000"/>
            </a:br>
            <a:r>
              <a:rPr b="0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PsicoNeuroEndocrinoImmunoGastroIntestinalOrganicaTissutal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veniente</a:t>
            </a:r>
            <a:r>
              <a:rPr b="0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 sempre anche da: depressione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  <a:ea typeface="Times New Roman"/>
              </a:rPr>
              <a:t>Immunitari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Controllo Stato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di</a:t>
            </a: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 Salute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836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Un semplice emocromo e’ in grado di indicare lo stato del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</a:rPr>
              <a:t>Sistema Immunitari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: es.. (Quantita’ dei Linfociti = Globuli Bianchi)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Verifica con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vetri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della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Goccia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hlinkClick r:id="rId2"/>
              </a:rPr>
              <a:t>di Sangue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hlinkClick r:id="rId3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el Paziente, per mezzo di un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microscopi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, per riscontrare la presenza o meno dei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 microcristalli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ell’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albero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el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 Cancr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Verifica (in alcuni casi) del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</a:rPr>
              <a:t>Livello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e dello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</a:rPr>
              <a:t> stato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dei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</a:rPr>
              <a:t> Liquidi Corpore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con BTA (BEV) –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hlinkClick r:id="rId4"/>
              </a:rPr>
              <a:t>pH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hlinkClick r:id="rId5"/>
              </a:rPr>
              <a:t>,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hlinkClick r:id="rId6"/>
              </a:rPr>
              <a:t>rH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hlinkClick r:id="rId7"/>
              </a:rPr>
              <a:t>,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hlinkClick r:id="rId8"/>
              </a:rPr>
              <a:t>rò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Tac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(Tomografia Assiale Computerizzata, del cervello di sopra) per controllare ed evidenziare le macchie (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sed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del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Conflitto Spiritu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) dovute all’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Infiammazione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local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Neuronic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e l’alterazione del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Liquor Cerebro-Rachidia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, per l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Intossicazion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 che li raggiungono (in genere lipidi-grassi)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Verifica dello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Stato Gener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del Paziente, con apposite apparecchiatur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od altri esam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test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, util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Cause </a:t>
            </a:r>
            <a:r>
              <a:rPr b="1" lang="it-IT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e</a:t>
            </a:r>
            <a:r>
              <a:rPr b="1" lang="it-IT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 ConCause </a:t>
            </a:r>
            <a:r>
              <a:rPr b="1" lang="it-IT" sz="2400" spc="-1" strike="noStrike">
                <a:solidFill>
                  <a:srgbClr val="ffcc66"/>
                </a:solidFill>
                <a:latin typeface="Verdana"/>
                <a:ea typeface="Times New Roman"/>
              </a:rPr>
              <a:t>del</a:t>
            </a:r>
            <a:r>
              <a:rPr b="1" lang="it-IT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it-IT" sz="3200" spc="-1" strike="noStrike">
                <a:solidFill>
                  <a:srgbClr val="ffcc66"/>
                </a:solidFill>
                <a:latin typeface="Verdana"/>
                <a:ea typeface="Times New Roman"/>
              </a:rPr>
              <a:t>CANCRO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  <a:ea typeface="Times New Roman"/>
              </a:rPr>
              <a:t>,</a:t>
            </a:r>
            <a:r>
              <a:rPr b="1" lang="it-IT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e non solo, in MedNat</a:t>
            </a:r>
            <a:br>
              <a:rPr sz="2400"/>
            </a:b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3407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33"/>
                </a:solidFill>
                <a:latin typeface="Verdana"/>
                <a:ea typeface="Times New Roman"/>
              </a:rPr>
              <a:t>Conflitti Spiritual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infiammano zone particolari del cervello di sopra e di sotto, le quali controllano degli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organ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e sistem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divengono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bersaglio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del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Conflitto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33"/>
                </a:solidFill>
                <a:latin typeface="Verdana"/>
                <a:ea typeface="Times New Roman"/>
              </a:rPr>
              <a:t>Intossicazion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extra ed endo cellulari, </a:t>
            </a:r>
            <a:r>
              <a:rPr b="1" lang="it-IT" sz="1600" spc="-1" strike="noStrike">
                <a:solidFill>
                  <a:srgbClr val="ff0033"/>
                </a:solidFill>
                <a:latin typeface="Verdana"/>
                <a:ea typeface="Times New Roman"/>
              </a:rPr>
              <a:t>Infiammazion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tessutali, organiche e sistemiche, con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errata Alimentazione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(industriale),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Amalgami dental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, uso di </a:t>
            </a:r>
            <a:r>
              <a:rPr b="0" lang="it-IT" sz="16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1"/>
              </a:rPr>
              <a:t>Farmac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di sintesi e </a:t>
            </a:r>
            <a:r>
              <a:rPr b="0" lang="it-IT" sz="16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2"/>
              </a:rPr>
              <a:t>Vaccin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,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Radioterapie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, e/o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Droghe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33"/>
                </a:solidFill>
                <a:latin typeface="Verdana"/>
                <a:ea typeface="Times New Roman"/>
              </a:rPr>
              <a:t>Flora Batterica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autoctona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alterata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(disbiosi cronica);</a:t>
            </a:r>
            <a:br>
              <a:rPr sz="1600"/>
            </a:br>
            <a:r>
              <a:rPr b="1" lang="it-IT" sz="1600" spc="-1" strike="noStrike">
                <a:solidFill>
                  <a:srgbClr val="ff0033"/>
                </a:solidFill>
                <a:latin typeface="Verdana"/>
                <a:ea typeface="Times New Roman"/>
              </a:rPr>
              <a:t>pH, rH, rò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dei liquidi del corpo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alterati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(endo ed extra cellulari) verso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l’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Acido - Ossidato a bassa resistività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33"/>
                </a:solidFill>
                <a:latin typeface="Verdana"/>
                <a:ea typeface="Times New Roman"/>
              </a:rPr>
              <a:t>Colonizzazione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degli organi bersaglio, di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Batter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 e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Funghi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(specie candida Albicans), deputati alla disintossicazione delle zone interessate, ma per mancanza di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Flora antagonista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, essi proliferano a dismisura </a:t>
            </a:r>
            <a:r>
              <a:rPr b="1" lang="it-IT" sz="1600" spc="-1" strike="noStrike">
                <a:solidFill>
                  <a:srgbClr val="ffcc66"/>
                </a:solidFill>
                <a:latin typeface="Verdana"/>
                <a:ea typeface="Times New Roman"/>
              </a:rPr>
              <a:t>colonizzando i tessuti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Nascita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del</a:t>
            </a: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 Cancro</a:t>
            </a:r>
            <a:br>
              <a:rPr sz="4000"/>
            </a:b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(dalla Psiche al Fisico, nell’Organo bersaglio)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Arial"/>
              </a:rPr>
              <a:t>Le malattie, sono quindi la conseguenza dei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Arial"/>
                <a:hlinkClick r:id="rId1"/>
              </a:rPr>
              <a:t>Conflitti Spirituali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Arial"/>
              </a:rPr>
              <a:t>che "scendono" dal "cielo dello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Arial"/>
                <a:hlinkClick r:id="rId2"/>
              </a:rPr>
              <a:t>Spirit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Arial"/>
              </a:rPr>
              <a:t>-Pensiero" nella “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Arial"/>
                <a:hlinkClick r:id="rId3"/>
              </a:rPr>
              <a:t>Terra fisiologic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Arial"/>
              </a:rPr>
              <a:t>, il fisico" e quando trovano il "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Arial"/>
                <a:hlinkClick r:id="rId4"/>
              </a:rPr>
              <a:t>Terre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Arial"/>
              </a:rPr>
              <a:t>"  adatto, prolificano generando il 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  <a:ea typeface="Arial"/>
              </a:rPr>
              <a:t>corpo del Conflitt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Arial"/>
              </a:rPr>
              <a:t>, la malattia, ovvero l’azione del male, cioè dell’ignoranz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Come si cre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un  Tumor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ntossicazi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corporea e cellulare + </a:t>
            </a:r>
            <a:r>
              <a:rPr b="1" lang="it-IT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Acidos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corporea e cellulare +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Infiammazi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tissutale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nell’organo bersagli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 che richiama liquidi nei tessuti interessati  + aggregazione-agglomeramento di cellule e tessuti, per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mezzo di funghi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e/o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 batter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 con </a:t>
            </a:r>
            <a:r>
              <a:rPr b="1" lang="it-IT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isolamento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 delle cellule del tessuti interessat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 dal contesto delle informazioni da e per il sistema psicofisiologico totale che e’ un sistema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Cibernetic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 =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Massa Tumor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La massa tumorale viene quindi “alimentata” e cresce a dismisura se non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bloccata e/o ridotta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con le</a:t>
            </a:r>
            <a:r>
              <a:rPr b="0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tecniche opportune, NON invasive, né Intossicant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Verdana"/>
              </a:rPr>
              <a:t>Terapie </a:t>
            </a: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Spiritual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Risolvere il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Conflitto Spiritual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cambiando</a:t>
            </a: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Etic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cioe’ comportamenti, ved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Tecnic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della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Confessione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d agire sul fisico con l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tecniche opportun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Far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Conoscer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percorrer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parallelamente, al Paziente, il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percorso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Psico-Fisico)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inverso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a quello attuato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er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generare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il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Cancr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per mezzo delle vari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tecniche adatt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secondo il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hlinkClick r:id="rId2"/>
              </a:rPr>
              <a:t>Protocollo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hlinkClick r:id="rId3"/>
              </a:rPr>
              <a:t>della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hlinkClick r:id="rId4"/>
              </a:rPr>
              <a:t> Salut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presente nel ns. Portale WEB: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 http://www.mednat.or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Terapie Fisiologich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Verdana"/>
              </a:rPr>
              <a:t>Alimentazione Vegetarian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meglio se cruda e frullata per almeno 3 mesi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Utilizzare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cibi Biolog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meglio s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Biodinam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Ripristino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della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 Flora Batteric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intestinale, assumendo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Integrator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 multi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Batter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Mineral-Vitamin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di derivazione naturale, cioe’ micro-Diete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Immunostimolant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3840" y="762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Verdana"/>
              </a:rPr>
              <a:t>CANCRO e MEDICINA NATURALE</a:t>
            </a: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440" y="34290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a</a:t>
            </a:r>
            <a:r>
              <a:rPr b="1" lang="it-IT" sz="2800" spc="-1" strike="noStrike">
                <a:solidFill>
                  <a:srgbClr val="ff0033"/>
                </a:solidFill>
                <a:latin typeface="Verdana"/>
              </a:rPr>
              <a:t> Medicina Natural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è la</a:t>
            </a:r>
            <a:r>
              <a:rPr b="1" lang="it-IT" sz="2800" spc="-1" strike="noStrike">
                <a:solidFill>
                  <a:srgbClr val="ff0033"/>
                </a:solidFill>
                <a:latin typeface="Verdana"/>
              </a:rPr>
              <a:t> 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Madr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di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 Tutte </a:t>
            </a:r>
            <a:r>
              <a:rPr b="0" lang="it-IT" sz="2800" spc="-1" strike="noStrike">
                <a:solidFill>
                  <a:srgbClr val="ffffff"/>
                </a:solidFill>
                <a:latin typeface="Verdana"/>
              </a:rPr>
              <a:t>le</a:t>
            </a:r>
            <a:r>
              <a:rPr b="1" lang="it-IT" sz="2800" spc="-1" strike="noStrike">
                <a:solidFill>
                  <a:srgbClr val="ffcc66"/>
                </a:solidFill>
                <a:latin typeface="Verdana"/>
              </a:rPr>
              <a:t> Medic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ssa è l’unica Medicina a misura d’uomo,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NON invasiva e risolutiva per ogni malattia,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…..dal Raffreddore ……al Cancro !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ssa e’ esaurientemente presentata nel ns Portale: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www.mednat.org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0"/>
            </a:br>
            <a:r>
              <a:rPr b="0" lang="it-IT" sz="1400" spc="-1" strike="noStrike">
                <a:solidFill>
                  <a:srgbClr val="ffffff"/>
                </a:solidFill>
                <a:latin typeface="Verdana"/>
              </a:rPr>
              <a:t>(By dr. G. Paolo Vanoli – Giornalista Pubblicista, Consulente in “Scienza della Nutrizione e Medicine Biologico Naturali” – Ph.D. US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66"/>
                </a:solidFill>
                <a:latin typeface="Verdana"/>
              </a:rPr>
              <a:t>Disintossicare, Disinfiammare, Immunostimolare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1800" y="1052640"/>
            <a:ext cx="7340400" cy="50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Disintossicare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 Disinfiammar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l’organismo iniziando dall’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Intestin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per mezzo d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Idro Colon Terapi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(bisettimanale e/o settimanale, con acqua a min. pH 7 e particolar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infusi di erb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)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Diminuire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la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Temperatura intestinal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con cataplasmi freddi (notturni)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Assumere d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Fior di Zolf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/o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Glutation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(per un certo periodo di tempo, come indicato nel ns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Protocollo della Salut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) e di altri </a:t>
            </a:r>
            <a:r>
              <a:rPr b="1" lang="it-IT" sz="2000" spc="-1" strike="noStrike">
                <a:solidFill>
                  <a:srgbClr val="ff0066"/>
                </a:solidFill>
                <a:latin typeface="Verdana"/>
              </a:rPr>
              <a:t>Sali tampone adatt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. 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Utilizzo di prodotti Fitoterapic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Immunostimolant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(Ortica, Curcuma, Equiseto, Micro diete di Frutta e Verdura, Aglio, Fermenti Lattici, Enzimi, ecc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Utilizzo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di</a:t>
            </a: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 Acqua Basica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Far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</a:rPr>
              <a:t>Bere almeno 1,5 litri di acqua Basica a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pH 10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</a:rPr>
              <a:t> ogni gior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per un certo periodo, controllando che l’inversion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acido-basic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avvenga senza portare il paziente in alcalosi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66"/>
                </a:solidFill>
                <a:latin typeface="Verdana"/>
              </a:rPr>
              <a:t>Alimenta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il paziente in modo da favorire il piu’ possibile il riordino celer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acido-basico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integrando l’alimentazione adatta con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 appositi Sali tamp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18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che Le sperimentazioni dell'ISS (Istituto Sup. di Sanita' - Italy) partono dall'evidenza che l'ambiente (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Terre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  in cui si sviluppa un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tumore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malig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è anch'esso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acid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  e le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Vaccinazioni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3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 certi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4"/>
              </a:rPr>
              <a:t>farma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producono facilmente l'alterazione del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verso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5"/>
              </a:rPr>
              <a:t>l'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6"/>
              </a:rPr>
              <a:t>acidos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...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33"/>
                </a:solidFill>
                <a:latin typeface="Verdana"/>
              </a:rPr>
              <a:t>Drenare le zone colpite dal Tumo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con “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acqua” in soluzion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al 5 % di Bicarbonat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di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Sodi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per mezzo di: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</a:rPr>
              <a:t>endovene, cateteri, iniezioni e/o infusion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Chirurgia  -  Metastasi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In certi casi puo’ essere util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l’intervento Chirurgico per asportare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la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mass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quando essa è stata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ben circoscritt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definita ed isolata, con le Terapie Naturali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Le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Metastas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debbono essere considerat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NUOVI TUMOR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che si insediano in zone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sub-Bersagli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se il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Bersaglio primario</a:t>
            </a: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e’ stato eliminato oppure e’ ormai “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INTASATO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”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In-Formazione Spiritual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Aiutare il Paziente a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conoscere il Senso della Vit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d i perché della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propria Esistenz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fornendogli l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opportune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Giuste In-Form-Azioni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sul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Senso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Scopi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propri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della Vit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di quella dell’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UniVers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.</a:t>
            </a:r>
            <a:br>
              <a:rPr sz="2000"/>
            </a:b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Definire con il Paziente le parole: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Mort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Sofferenz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Vit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Ben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mal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</a:t>
            </a:r>
            <a:br>
              <a:rPr sz="2000"/>
            </a:b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Far assumere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Prodotti Fitoterapic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adatti a ripristinare la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giusta Nutrizione NeuroCellulare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(Pappa reale, Biancospino, Minerali e Vitamine ecc.), affinche’ lo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Spirit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ne tragga giovamento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Ovviamente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occorre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che: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terapeuti, psicologi, medici, paramedici,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cc.,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siano essi stessi ben informati 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 coerenti su queste tematich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altrimenti non sono buoni consiglieri, perche’ danno un cattivo esempio 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Vivere con Gioia e Piacere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Aiutare il Paziente a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Godere di più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la propria esistenza, consigliandogli anche di fare più spesso all’amore (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hlinkClick r:id="rId1"/>
              </a:rPr>
              <a:t>Sess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) con il proprio Partner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Consigliargli di cambiare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hlinkClick r:id="rId2"/>
              </a:rPr>
              <a:t>Etic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Compagno</a:t>
            </a:r>
            <a:r>
              <a:rPr b="0" lang="it-IT" sz="2000" spc="-1" strike="noStrike">
                <a:solidFill>
                  <a:srgbClr val="ffcc66"/>
                </a:solidFill>
                <a:latin typeface="Verdana"/>
              </a:rPr>
              <a:t>/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Lavor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/o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Cas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, se questi sono legati ai suoi Conflitti irrisol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Fornire al soggetto le indicazioni per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dare un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</a:rPr>
              <a:t>Sens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alla propria Vita inserendola nel senso degl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Scop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e le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</a:rPr>
              <a:t>Finalita’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della Creazione dell’UniVer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DIRITTI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e</a:t>
            </a: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 DOVERI </a:t>
            </a:r>
            <a:br>
              <a:rPr sz="3600"/>
            </a:b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dello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0033"/>
                </a:solidFill>
                <a:latin typeface="Verdana"/>
              </a:rPr>
              <a:t>STATO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ffcc66"/>
                </a:solidFill>
                <a:latin typeface="Verdana"/>
              </a:rPr>
              <a:t>e dei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ff0033"/>
                </a:solidFill>
                <a:latin typeface="Verdana"/>
              </a:rPr>
              <a:t>CITTADINI</a:t>
            </a:r>
            <a:r>
              <a:rPr b="1" lang="en-US" sz="3200" spc="-1" strike="noStrike">
                <a:solidFill>
                  <a:srgbClr val="ffcc66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01800" y="1980720"/>
            <a:ext cx="7340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Da parte del singolo Cittadino vi deve essere il </a:t>
            </a:r>
            <a:r>
              <a:rPr b="1" lang="en-US" sz="2000" spc="-1" strike="noStrike">
                <a:solidFill>
                  <a:srgbClr val="ff0033"/>
                </a:solidFill>
                <a:latin typeface="Verdana"/>
                <a:ea typeface="Times New Roman"/>
              </a:rPr>
              <a:t>DIRITTO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-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DOVER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ad imparar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cioè ad educarsi in materia di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Salute e Prevenzion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della stessa e da parte delle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Strutture Pubbliche  Sanitarie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 Scolastich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(</a:t>
            </a:r>
            <a:r>
              <a:rPr b="1" lang="en-US" sz="2000" spc="-1" strike="noStrike">
                <a:solidFill>
                  <a:srgbClr val="ff0033"/>
                </a:solidFill>
                <a:latin typeface="Verdana"/>
                <a:ea typeface="Times New Roman"/>
              </a:rPr>
              <a:t>Stat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il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DOVER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di garantirne l'insegnament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er i risultati su Pazienti malati e curati con parte di queste Tecniche: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1"/>
              </a:rPr>
              <a:t>www.curenaturalicancro.org</a:t>
            </a:r>
            <a:br>
              <a:rPr sz="2000"/>
            </a:br>
            <a:r>
              <a:rPr b="1" lang="en-US" sz="2000" spc="-1" strike="noStrike" u="sng">
                <a:solidFill>
                  <a:srgbClr val="ffcc66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</a:rPr>
              <a:t>CONCLUSIONI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TUTTI i particolari delle varie Tecniche consigliate e non so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sono indicate nel ns. Portale WEB: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1"/>
              </a:rPr>
              <a:t>www.mednat.org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.mail: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2"/>
              </a:rPr>
              <a:t>info@mednat.org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</a:t>
            </a:r>
            <a:br>
              <a:rPr sz="2000"/>
            </a:br>
            <a:r>
              <a:rPr b="0" lang="it-IT" sz="1600" spc="-1" strike="noStrike">
                <a:solidFill>
                  <a:srgbClr val="ffffff"/>
                </a:solidFill>
                <a:latin typeface="Verdana"/>
              </a:rPr>
              <a:t>(By dr. G. Paolo Vanoli – Giornalista, Pubblicista, Consulente in “Scienza della Nutrizione e Medicine Biologico Naturali” – Ph.D.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l dr. Tullio Simoncini (medico di Roma - Italy) ha trattato i pazient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con part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di questo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Protocoll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di </a:t>
            </a:r>
            <a:r>
              <a:rPr b="1" lang="it-IT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Medicina Natural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ottenendo i risultati molto positivi,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he vengono illustrati in questo sito web: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3"/>
              </a:rPr>
              <a:t>www.curenaturalicancro.org</a:t>
            </a:r>
            <a:br>
              <a:rPr sz="2000"/>
            </a:br>
            <a:br>
              <a:rPr sz="2000"/>
            </a:br>
            <a:r>
              <a:rPr b="1" lang="it-IT" sz="2000" spc="-1" strike="noStrike" u="sng">
                <a:solidFill>
                  <a:srgbClr val="ffcc66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Introduzione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Times New Roman"/>
              </a:rPr>
              <a:t>alla</a:t>
            </a:r>
            <a:r>
              <a:rPr b="1" lang="en-US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 MEDICINA Biologico, NATURAL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01800" y="1844640"/>
            <a:ext cx="7340400" cy="42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Insegna ad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applicare correttamente le Regole Fondamentali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(Leggi naturali ed Universali) per mantenere la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Perfetta Salut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nel suo insieme; questa metodologia implica una corrispettiva impostazion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tic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comportamenti di Vita personale e sociale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sempre più Perfetti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in tutti i Campi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Essa è la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1"/>
              </a:rPr>
              <a:t>Scienz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procede indagando sulle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Vere caus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provocano le malattie, cercando di risolverle nel miglior ed unico modo possibile e cioè,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Rimuovendo tutte le Cause ri-trovat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senza ricorrere, se possibile, ad interventi cruenti o tossico/nocivi per gli stati fisiologici e psichici generali, seguendo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procedure che siano in Sintonia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con le "</a:t>
            </a:r>
            <a:r>
              <a:rPr b="1" lang="en-US" sz="2000" spc="-1" strike="noStrike">
                <a:solidFill>
                  <a:srgbClr val="ff0066"/>
                </a:solidFill>
                <a:latin typeface="Verdana"/>
                <a:ea typeface="Times New Roman"/>
              </a:rPr>
              <a:t>Leggi Cosmiche Naturali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”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  <a:ea typeface="Times New Roman"/>
              </a:rPr>
              <a:t>Educazione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Times New Roman"/>
              </a:rPr>
              <a:t>alla</a:t>
            </a:r>
            <a:r>
              <a:rPr b="1" lang="en-US" sz="4000" spc="-1" strike="noStrike">
                <a:solidFill>
                  <a:srgbClr val="ffcc66"/>
                </a:solidFill>
                <a:latin typeface="Verdana"/>
                <a:ea typeface="Times New Roman"/>
              </a:rPr>
              <a:t> Salute</a:t>
            </a:r>
            <a:r>
              <a:rPr b="0" lang="en-US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cedimenti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Psicologic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: studiando ed imparando a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pratica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le vari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Legg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regolano le Strutture Viventi (Uomo), per evitare di generare e mantenere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Conflitti Spiritual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e quindi vivere gli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Stress cronic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 che sono 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immonudepressor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Fisici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: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1"/>
              </a:rPr>
              <a:t>Alimentazi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Naturale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(Biologica e/o Biodinamica)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 e supplementazione per avere una buona 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2"/>
              </a:rPr>
              <a:t>Nutrizi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cellula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 questo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 il mantenimento della 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pressione osmotic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della cellula ai valori ottimal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Impiego di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3"/>
              </a:rPr>
              <a:t>Sostanze Naturali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4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ed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atossiche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(fitoterapici, mineral-vitaminici, multibatterici ed enzimatici), atte a mantenere lo stato di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Buona Salut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(P.S.) e/o ripristinare le "alterazioni" Psico-fisiche, 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eliminando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le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5"/>
              </a:rPr>
              <a:t>Intossicazion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e quindi le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6"/>
              </a:rPr>
              <a:t>Infiammazion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+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Acidos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intervenute nello stato di malatti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Cosa FARE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per</a:t>
            </a: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 Stare Bene</a:t>
            </a:r>
            <a:br>
              <a:rPr sz="4000"/>
            </a:b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e come nasce la malattia - 1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l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Corpo Uma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cosi come tutti gli esseri Viventi)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e' ben not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e' un'insieme di cellule e quindi esso segue e sopravvive con 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Princip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gli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Schem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del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funzionamento della Cellul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la quale come e' ben evidenziato in questa pagina funziona per mezzo dei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Giusti Rappor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fra l'ambiente esterno il liquido extracellulare e quello interno (liquido intracellulare), i quali sono determinati in primis dai rispettivi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2"/>
              </a:rPr>
              <a:t>pH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- regolati nei loro giusti rapporti dai processi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3"/>
              </a:rPr>
              <a:t>acidi-bas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xtra ed intra cellulare, cioe' dalla loro carica ionica - bio elettronica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vedi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4"/>
              </a:rPr>
              <a:t>Bio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5"/>
              </a:rPr>
              <a:t> Elettronica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 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6"/>
              </a:rPr>
              <a:t>Pompa Sodio-Potass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Quindi il corpo umano si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mmala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olamente quando questi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Giusti Rapport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i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altera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(vedi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Com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Perche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7"/>
              </a:rPr>
              <a:t>'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8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nasce la malattia) e la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guarig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Arial"/>
              </a:rPr>
              <a:t>DEVE segui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assolutamente ed in primis il riordino di questi. La malattia e' una sola (non esistono malattie) essa e' l'alterazione della funzionalita' cellulare e corporea per l'alterazione dei Giusti Rapporti del </a:t>
            </a:r>
            <a:r>
              <a:rPr b="0" lang="it-IT" sz="2000" spc="-1" strike="noStrike" u="sng">
                <a:solidFill>
                  <a:srgbClr val="ffffff"/>
                </a:solidFill>
                <a:uFillTx/>
                <a:latin typeface="Arial"/>
              </a:rPr>
              <a:t>pH + rH + ro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Arial"/>
                <a:hlinkClick r:id="rId9"/>
              </a:rPr>
              <a:t>'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xtra ed intracellulare.  - vedi Bio Elettro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ACIDOSI nel CANC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e sperimentazioni dell'ISS (Istituto Sup. di Sanita' - Italy) partono dall'evidenza che l'ambiente (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) in cui si sviluppa un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tumore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malig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è anch'esso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acid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!  e le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vaccinazion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certi 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farmac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, producono facilmente l'alterazione del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terreno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verso l'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acidosi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...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pH and Chemotherapy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- A., Raghunand N. B., Gillies RJ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University of Arizona Health Sciences Center, Cancer Center Division, Tucson 85724-5024, USA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n vivo pH measurements by magnetic resonance spectroscopy reveal the presence of </a:t>
            </a:r>
            <a:r>
              <a:rPr b="1" lang="it-IT" sz="1800" spc="-1" strike="noStrike">
                <a:solidFill>
                  <a:srgbClr val="ff0066"/>
                </a:solidFill>
                <a:latin typeface="Arial"/>
              </a:rPr>
              <a:t>large regions of acidic</a:t>
            </a: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 extracellular pH in tumours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, with the intracellular pH being maintained in the neutral-to-alkaline range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s acid-outside plasmalemmal pH gradient acts to exclude weak base drugs such as the anthracyclines and vinca alkaloids, a behaviour that is predicted by the decrease in octanol-water partition coefficients of mitoxantrone and doxorubicin with decreasing solution pH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s pH gradient can be reduced or eliminated in mouse models of breast cancer by systemic treatment with sodium bicarbonate..... PMID: 11727930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Cosa FARE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</a:rPr>
              <a:t>per</a:t>
            </a:r>
            <a:r>
              <a:rPr b="1" lang="en-US" sz="4000" spc="-1" strike="noStrike">
                <a:solidFill>
                  <a:srgbClr val="ffcc66"/>
                </a:solidFill>
                <a:latin typeface="Verdana"/>
              </a:rPr>
              <a:t> Stare Bene</a:t>
            </a:r>
            <a:br>
              <a:rPr sz="4000"/>
            </a:br>
            <a:r>
              <a:rPr b="1" lang="en-US" sz="2000" spc="-1" strike="noStrike">
                <a:solidFill>
                  <a:srgbClr val="ffcc66"/>
                </a:solidFill>
                <a:latin typeface="Verdana"/>
              </a:rPr>
              <a:t>e come nasce la malattia - 2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Per mantenere la </a:t>
            </a:r>
            <a:r>
              <a:rPr b="1" lang="it-IT" sz="1800" spc="-1" strike="noStrike">
                <a:solidFill>
                  <a:srgbClr val="ff0066"/>
                </a:solidFill>
                <a:latin typeface="Verdana"/>
                <a:ea typeface="Times New Roman"/>
              </a:rPr>
              <a:t>Perfetta Salut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occorre rispettare dell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Regole Fondamental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si possono sintetizzare nel saper controllare e gestire il proprio corpo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Fisic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 suoi liquidi) in modo che sia mantenuto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il più possibile con un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1"/>
              </a:rPr>
              <a:t>pH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2"/>
              </a:rPr>
              <a:t> fisiologico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3"/>
              </a:rPr>
              <a:t> verso il Neutro o leggermente Basic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e lo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Spirit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affinchè l’Essere gestisca al meglio i suoi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problemi Spirituali,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i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Conflitt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derivanti dalla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Ignoranz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incoerenz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,, sulle proprie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trasgression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alle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Legg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regolano gli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Esseri Vivent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e l’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UniVers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Gli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Stress cronici, (consci ed inconsci) derivant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da quelle trasgressioni e dalle prove della Vita, forniscono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l’input Spirituale anche al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Cancr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Conoscere tutto ciò, e’ indispensabile per vivere il più possibile nel BenEssere (essere nel Bene)…….e/o per guarire dalle malattie (azione del mal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Fare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Times New Roman"/>
              </a:rPr>
              <a:t>all'</a:t>
            </a:r>
            <a:r>
              <a:rPr b="1" lang="en-US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Amore spesso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Times New Roman"/>
              </a:rPr>
              <a:t>e</a:t>
            </a:r>
            <a:r>
              <a:rPr b="1" lang="en-US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 bene </a:t>
            </a:r>
            <a:r>
              <a:rPr b="1" lang="en-US" sz="2800" spc="-1" strike="noStrike">
                <a:solidFill>
                  <a:srgbClr val="ffcc66"/>
                </a:solidFill>
                <a:latin typeface="Verdana"/>
                <a:ea typeface="Times New Roman"/>
              </a:rPr>
              <a:t>con il</a:t>
            </a:r>
            <a:r>
              <a:rPr b="1" lang="en-US" sz="3600" spc="-1" strike="noStrike">
                <a:solidFill>
                  <a:srgbClr val="ffcc66"/>
                </a:solidFill>
                <a:latin typeface="Verdana"/>
                <a:ea typeface="Times New Roman"/>
              </a:rPr>
              <a:t> proprio Partne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1800" y="1980720"/>
            <a:ext cx="73404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Fare </a:t>
            </a: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all’Amore, meditare, riflettere, studiare, pregare, ascoltare o fare musica melodiosa, ballare con musiche rilassanti o gioiose, giocare, passeggiare, fare sport in mezzo alla Natura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…. anche assieme ad altri…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Perdonar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il perdono deve essere inteso come rinuncia al diritto di provare, esasperazione, rancore, irritazione o desiderio di vendetta; un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carattere clement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, facilita anche </a:t>
            </a:r>
            <a:r>
              <a:rPr b="0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l’amore ed i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  <a:ea typeface="Arial"/>
              </a:rPr>
              <a:t>rapporti intimi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…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.Queste sono le </a:t>
            </a:r>
            <a:r>
              <a:rPr b="1" lang="en-US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Medicine Gratuit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 che vanno utilizzate il più possibile per </a:t>
            </a:r>
            <a:r>
              <a:rPr b="1" lang="en-US" sz="1800" spc="-1" strike="noStrike">
                <a:solidFill>
                  <a:srgbClr val="ffcc66"/>
                </a:solidFill>
                <a:latin typeface="Verdana"/>
                <a:ea typeface="Times New Roman"/>
              </a:rPr>
              <a:t>mantenersi in Perfetta Salu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Times New Roman"/>
              </a:rPr>
              <a:t>e…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Verdana"/>
                <a:ea typeface="Times New Roman"/>
              </a:rPr>
              <a:t>Per rimanere in quei limiti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Verdana"/>
                <a:ea typeface="Times New Roman"/>
              </a:rPr>
              <a:t>occorre che…..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1800" y="1980720"/>
            <a:ext cx="7340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...ci si alimenti con diete idriche di acque adatte e con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1"/>
              </a:rPr>
              <a:t>Cibi Biologici Integrali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(o semi integrali), meglio se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Biodinamici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;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praticando ginnastich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Moviment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all'aria aperta e se possibile, con la pelle in contatto con il sole e l'aria,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Riposando adeguatament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respirando bene e profondamente, cercando di non crearsi degli inutili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Verdana"/>
                <a:ea typeface="Times New Roman"/>
                <a:hlinkClick r:id="rId2"/>
              </a:rPr>
              <a:t>Conflitti Spirituali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oltre a quelli che la vita stessa propone e che vanno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Risolti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, arrivando a pensare in positivo il più possibile in modo da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Digerire ben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anche tutte le asperità della vit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a che genera il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Cancr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e’ il </a:t>
            </a:r>
            <a:r>
              <a:rPr b="1" lang="en-US" sz="2000" spc="-1" strike="noStrike">
                <a:solidFill>
                  <a:srgbClr val="ffcc66"/>
                </a:solidFill>
                <a:latin typeface="Verdana"/>
                <a:ea typeface="Times New Roman"/>
              </a:rPr>
              <a:t>Conflitto Spirituale </a:t>
            </a:r>
            <a:r>
              <a:rPr b="1" lang="en-US" sz="2000" spc="-1" strike="noStrike">
                <a:solidFill>
                  <a:srgbClr val="ff0033"/>
                </a:solidFill>
                <a:latin typeface="Verdana"/>
                <a:ea typeface="Times New Roman"/>
              </a:rPr>
              <a:t>IRRISOL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3T18:59:58Z</dcterms:created>
  <dc:creator>vanoli</dc:creator>
  <dc:description/>
  <dc:language>en-US</dc:language>
  <cp:lastModifiedBy>Vanoli</cp:lastModifiedBy>
  <dcterms:modified xsi:type="dcterms:W3CDTF">2007-10-13T10:35:12Z</dcterms:modified>
  <cp:revision>187</cp:revision>
  <dc:subject/>
  <dc:title>MEDICINA NATURALE</dc:title>
</cp:coreProperties>
</file>