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whoosh.wav" ContentType="audio/x-wav"/>
  <Override PartName="/ppt/media/image28.jpeg" ContentType="image/jpeg"/>
  <Override PartName="/ppt/media/image7.jpeg" ContentType="image/jpeg"/>
  <Override PartName="/ppt/media/image9.png" ContentType="image/png"/>
  <Override PartName="/ppt/media/image18.png" ContentType="image/png"/>
  <Override PartName="/ppt/media/image6.jpeg" ContentType="image/jpeg"/>
  <Override PartName="/ppt/media/image30.jpeg" ContentType="image/jpeg"/>
  <Override PartName="/ppt/media/image31.jpeg" ContentType="image/jpeg"/>
  <Override PartName="/ppt/media/image32.png" ContentType="image/png"/>
  <Override PartName="/ppt/media/image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21.png" ContentType="image/pn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074B-BB26-454C-8477-4613C277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198-D505-49E0-AB58-0CED07C9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01DF-F722-4FC0-B667-121AFD6E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1EA0-EAF4-4647-AD01-14D72B74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A135-F2BA-4AB4-A594-C4E23B47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59E-CE80-48A5-B1E8-6704F723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83E-920F-42B3-885A-E759DFC4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8276-0264-4F55-AA60-8B73C431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8733-C6ED-4F64-AED5-C2120928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009F-EE44-4221-881F-FBECEEC7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0D7-BE0F-480F-9592-6F9CCE6B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59B-7FBB-4455-A6DD-5FC6A863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2350-0C78-4B05-A218-37B5B377056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the1phoenix.net/x-files/chip.htm#microchip4" TargetMode="External"/><Relationship Id="rId2" Type="http://schemas.openxmlformats.org/officeDocument/2006/relationships/hyperlink" Target="http://www.apocalypsesoon.org/I/i-hitech2.htm" TargetMode="External"/><Relationship Id="rId3" Type="http://schemas.openxmlformats.org/officeDocument/2006/relationships/hyperlink" Target="http://www.apocalypsesoon.org/I/i-hitech.html" TargetMode="External"/><Relationship Id="rId4" Type="http://schemas.openxmlformats.org/officeDocument/2006/relationships/hyperlink" Target="http://www.liberamenteservo.it/modules.php?name=News&amp;file=article&amp;sid=489&amp;mode=flat&amp;order=0&amp;thold=2" TargetMode="External"/><Relationship Id="rId5" Type="http://schemas.openxmlformats.org/officeDocument/2006/relationships/hyperlink" Target="http://www.liberamenteservo.it/modules.php?name=News&amp;file=article&amp;sid=489&amp;mode=flat&amp;order=0&amp;thold=2" TargetMode="External"/><Relationship Id="rId6" Type="http://schemas.openxmlformats.org/officeDocument/2006/relationships/hyperlink" Target="http://www.liberamenteservo.it/modules.php?name=News&amp;file=article&amp;sid=489&amp;mode=flat&amp;order=0&amp;thold=2" TargetMode="External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572320" cy="3756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71600" y="533520"/>
            <a:ext cx="63244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Quello che state per vedere 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5791320"/>
            <a:ext cx="6381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E' l'ultima notizia del momento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7520" y="304920"/>
            <a:ext cx="9096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 Black"/>
              </a:rPr>
              <a:t>Più di 250 società in 20 nazioni fanno parte di MONDEX e molti nazioni sono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 Black"/>
              </a:rPr>
              <a:t>gia in procinto di usarlo: Gran Bretagna, Canada, Stati Uniti, Australia,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990720"/>
            <a:ext cx="9153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 Black"/>
              </a:rPr>
              <a:t>Nuova Zelanda, Israele, Hong Kong, China, Indonesia, Macau, Malaysia,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 Black"/>
              </a:rPr>
              <a:t>Filippine, Singapore, Tailandia, India, Taiwan, Sri Lanka, Costa Rica, Gautemala,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7520" y="1628640"/>
            <a:ext cx="909648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 Black"/>
              </a:rPr>
              <a:t>Nicaragua, Panama, Honduras, El Salvador e Brasile.  I Paesi dall'Union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 Black"/>
              </a:rPr>
              <a:t>Europea progettano di adottare il sistema MONDEX come semplificazion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 Black"/>
              </a:rPr>
              <a:t>della unificazione monetaria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 Black"/>
              <a:ea typeface="Arial Blac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861192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28600" y="304920"/>
            <a:ext cx="84772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Britannic Bold"/>
              </a:rPr>
              <a:t>Altri sistemi SMARTCARD verranno messi presto a disposizion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Britannic Bold"/>
              </a:rPr>
              <a:t>di MONDEX. Si tenga conto che MASTERCARD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Britannic Bold"/>
              </a:rPr>
              <a:t>ha acquistato il 51% del pacchetto azionario di quella società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Britannic Bold"/>
              <a:ea typeface="Britannic Bold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76720" y="3962520"/>
            <a:ext cx="2114280" cy="2114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2846520" cy="2388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334120" y="1523880"/>
            <a:ext cx="32922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686800" cy="4952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324000" y="333360"/>
            <a:ext cx="457200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ritannic Bold"/>
              </a:rPr>
              <a:t>A questo punto vi chiederete.....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ritannic Bold"/>
              <a:ea typeface="Britannic Bold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87640" y="6165720"/>
            <a:ext cx="596268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ritannic Bold"/>
              </a:rPr>
              <a:t>ma che cosa ha a che fare con me?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2f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4360" y="549360"/>
            <a:ext cx="774360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nno speso più di 1,5 milioni di dollari nell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icerca solo per scoprire qual'è il posto miglior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er inserire il "bio-chip" nel corpo umano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0920" y="2276640"/>
            <a:ext cx="8591400" cy="39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nno trovato solo due posti soddisfacenti ed efficaci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348000" y="3213000"/>
            <a:ext cx="21812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 FRONT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4221000"/>
            <a:ext cx="83916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otto lo scalpo e sotto la parte posteriore della mano,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ecificatamente..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771640" y="5589720"/>
            <a:ext cx="3629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ritannic Bold"/>
              </a:rPr>
              <a:t>LA MANO DESTRA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457200"/>
            <a:ext cx="817236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 Black"/>
              </a:rPr>
              <a:t>Inoltre obbligò tutti, piccoli e grandi, ricchi e poveri,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 Black"/>
              </a:rPr>
              <a:t>liberi e schiavi, a farsi mettere un marchio sulla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 Black"/>
              </a:rPr>
              <a:t>mano destra o sulla fronte. Nessuno poteva comprare o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752480"/>
            <a:ext cx="842004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 Black"/>
              </a:rPr>
              <a:t>vendere se non portava il marchio, cioè il nome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 Black"/>
              </a:rPr>
              <a:t>della bestia o il numero che corrisponde al suo nome.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 Black"/>
              <a:ea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4664160" cy="3240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5410080" y="2666880"/>
            <a:ext cx="324828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 Black"/>
              </a:rPr>
              <a:t>Apocalisse 13:16-17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838080" y="304920"/>
            <a:ext cx="7591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 Black"/>
              </a:rPr>
              <a:t>Un miliardo di "bio-chips" viene prodotto d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 Black"/>
              </a:rPr>
              <a:t>MONDEX ogni anno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42920" y="1484280"/>
            <a:ext cx="70200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È già in produzione da almeno un anno.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2349360"/>
            <a:ext cx="88866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 Black"/>
              </a:rPr>
              <a:t>Hanno scoperto che se il chip si trovasse inserito in una smartcard,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 Black"/>
              </a:rPr>
              <a:t>incontrerebbe problemi gravi: potrebbe essere estratto e le informazioni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 Black"/>
              </a:rPr>
              <a:t>cambiate o contrafatte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9280" y="4076640"/>
            <a:ext cx="879156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 Black"/>
              </a:rPr>
              <a:t>Il valore potrebbe essere manipolato, rubato o cancellato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 Black"/>
              </a:rPr>
              <a:t>La carta, una volta attivata, scadrebbe entro uno o due anni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32000" y="5734080"/>
            <a:ext cx="6429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 Black"/>
              </a:rPr>
              <a:t>Alla fine, il denaro reale diventerà poco sicuro nell' ambito del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 Black"/>
              </a:rPr>
              <a:t>mercato generale.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447920" y="152280"/>
            <a:ext cx="64292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'è solo una soluzione a questo problema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posta da MOTOROLA....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990720"/>
            <a:ext cx="88869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fissare il "bio-chip" nella mano destra o nella fronte,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447920"/>
            <a:ext cx="8458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ve non potrà essere rimosso,  perche se venisse asportato chirurgicamente,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piccola capsula scoppierebbe e l'individuo sarebbe contaminat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alle sostanze chimiche contenut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52280" y="3048120"/>
            <a:ext cx="87537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l sistema di posizionamento globale (Inglese: GPS) rileverebb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sua rimozione e avvertirebbe le autorità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3154320" cy="2857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2280" y="441972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362320" y="4495680"/>
            <a:ext cx="358920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28600" y="380880"/>
            <a:ext cx="86868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Notate che MONDEX vuole dire "il denaro sulla vostra mano"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920" y="1066680"/>
            <a:ext cx="85248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292929"/>
                </a:solidFill>
                <a:latin typeface="Arial Black"/>
              </a:rPr>
              <a:t>MON-DEX è una parola composta da MONETARY &amp; DEXTER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292929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26920" y="4797360"/>
            <a:ext cx="76489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292929"/>
                </a:solidFill>
                <a:latin typeface="Arial Black"/>
              </a:rPr>
              <a:t>Il Dizionario e l'Enciclopedia Webster definiscono cosi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29292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292929"/>
                </a:solidFill>
                <a:latin typeface="Arial Black"/>
              </a:rPr>
              <a:t>queste parole: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292929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5562720"/>
            <a:ext cx="5181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ONETARY - appartenente al denar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6095880"/>
            <a:ext cx="79437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DEXTER - appartenente alla o posizionato sulla mano destra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4956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0880" y="1295280"/>
            <a:ext cx="82868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o considerate un fatto grave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514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52280" y="2666880"/>
            <a:ext cx="8886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nard MT Condensed"/>
              </a:rPr>
              <a:t>SIETE SORPRESI?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nard MT Condensed"/>
              <a:ea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52280" y="1143000"/>
            <a:ext cx="886788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Ha la dimensione di un chicco di riso.....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42865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2b2b3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90720" y="838080"/>
            <a:ext cx="69246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 trovate interessante questo messaggio,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19320" y="1905120"/>
            <a:ext cx="667692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SSATE PAROLA!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5280" y="3357720"/>
            <a:ext cx="83534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mmaginate i vostri figli, i vostri genitori i vostri fratelli, e amici 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419640" y="3860640"/>
            <a:ext cx="24192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hi conoscete.....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572000"/>
            <a:ext cx="72392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ntrassegnato con questo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132000" y="5589720"/>
            <a:ext cx="25336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ARCHIO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380880"/>
            <a:ext cx="8381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ra che siete stati informati, se dubitate anco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i queste informazioni,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76360" y="1557360"/>
            <a:ext cx="6381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ndate sui motori di ricerca e digitate la parola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08360" y="2492280"/>
            <a:ext cx="17431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RICHI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3581280"/>
            <a:ext cx="81532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ate la stessa cosa con le parole MONDEX SMARTCARD 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CHIO DELLA BESTIA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19320" y="4648320"/>
            <a:ext cx="66294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n potete piu nascondervi dietro l'ignoranza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5867280"/>
            <a:ext cx="737244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RA SIETE RESPONSABILI!!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0000"/>
            </a:gs>
            <a:gs pos="50000">
              <a:srgbClr val="860000"/>
            </a:gs>
            <a:gs pos="100000">
              <a:srgbClr val="4b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81080" y="4724280"/>
            <a:ext cx="554364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INFORMAZIONE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95480" y="685800"/>
            <a:ext cx="352440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QUALCHE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42"/>
            </a:gs>
            <a:gs pos="50000">
              <a:srgbClr val="6b6bff"/>
            </a:gs>
            <a:gs pos="100000">
              <a:srgbClr val="1c1c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066680" y="228600"/>
            <a:ext cx="69534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Il logo di MONDEX contiene 3 anelli concatenati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9880" y="609480"/>
            <a:ext cx="1206720" cy="749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50920" y="1484280"/>
            <a:ext cx="86011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un simbolo che si trova solo nel mondo dell'occultismo MASSONICO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9640" y="2060640"/>
            <a:ext cx="8229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neralmente il suo significato ha a che fare con tre dei o la trinità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gana egizia, particolarmente nel Tempio Magico Enochiano, nei rituali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ll'Ordine Hermetico dei Golden Dawn, e cioè con Isis,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3068640"/>
            <a:ext cx="8610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siris, Horus, che originariamente nella Bibbia vengono chiamati Ashtoreth,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imrod, Tammuz/Baal.  La trinità Pagana consiste di tre dei manifestati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5400" y="3933720"/>
            <a:ext cx="90486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 un solo modo; mentre la trinità Cristiana è un Dio manifestato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 tre modi. Questo simobolo dei 3 anelli concatenati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4797360"/>
            <a:ext cx="8458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ra anche usato da Grand Logde of England e l'Ordine dei Odd Fellows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ndato da NERONE nel 55 a. C.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809880" y="5638680"/>
            <a:ext cx="1505160" cy="1116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7238880" y="5181480"/>
            <a:ext cx="1292400" cy="1595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914400" y="5181480"/>
            <a:ext cx="141444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0e"/>
            </a:gs>
            <a:gs pos="50000">
              <a:srgbClr val="ffff13"/>
            </a:gs>
            <a:gs pos="100000">
              <a:srgbClr val="c1c1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90720" y="152280"/>
            <a:ext cx="73533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n altro simbolo utilizzato da MONDEX é la farfalla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057400"/>
            <a:ext cx="8201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uesto simbolo ha numerosi significati mistici, ma il piu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mportante é quello della cattura dell' anima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2819520"/>
            <a:ext cx="76960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a parola Greca per farfalla e anima è 'psyche'.  Puoi,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icevendo il "marchio della bestia", fare un patto c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l Diavolo, e provocare la perdizione dell' anima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52280" y="4267080"/>
            <a:ext cx="882036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"... chiunque adora la bestia e la sua immagine, e ne prende il marchio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sulla fronte o sulla mano, egli pure berrà il vino dell'ira di Dio versato puro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2280" y="4952880"/>
            <a:ext cx="877248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nel calice della sua ira; e sarà tormentato con fuoco e zolfo davanti ai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santi angeli e davanti all'Agnello. Il fumo del loro tormento sale nei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5638680"/>
            <a:ext cx="826776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secoli dei secoli.  Chiunque adora la bestia e la sua immagine 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prende il marchio del suo nome, non ha riposo né giorno né notte.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00800" y="6400800"/>
            <a:ext cx="23716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Apocalisse 14:9-11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657600" y="685800"/>
            <a:ext cx="176040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73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62120" y="228600"/>
            <a:ext cx="75056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l Dott. Sanders, che ha progettato il chip, era contrario all' uso del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tteria al litio poiché è risaputo che se si rompesse il contenitore, il liti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990720"/>
            <a:ext cx="77630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vocerebbe la comparsa di una GRAVE VESCICA accompagnata da un dolo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opportabile con non poche complicazioni per il portatore del chip stesso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2280" y="2057400"/>
            <a:ext cx="86299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"Il primo andò e versò la sua coppa sulla terra; e un'ulcera maligna 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olorosa colpi gli uomini che avevano il marchio della bestia e c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2819520"/>
            <a:ext cx="36288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doravano la sua immagine.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267080" y="2819520"/>
            <a:ext cx="19908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pocalisse 16: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52280" y="4267080"/>
            <a:ext cx="876312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 seguito il Dott. Sanders lasciò il progetto e si interessò alle profez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lla Bibbia concernenti il marchio della bestia. Si convertì in segui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320" y="5029200"/>
            <a:ext cx="90676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la fede Cristiana e adesso conduce seminari su questo argomento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anders brevettò medicinali, apparecchiature di sorveglianza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5791320"/>
            <a:ext cx="84294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 di sicurezza per FBI, CIA, IRS, IBM, GE, Honeywell e Teledyne. Ha anc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icevuto il titolo di Presidente e Governatore per l'eccellenza del suo progetto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85080" cy="3822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228600" y="5562720"/>
            <a:ext cx="8686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 prima famiglia Americana, i Jacobs, che si è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atta inserire il chip nella mano destra!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fc7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4135680" cy="2728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477120" y="838080"/>
            <a:ext cx="1766880" cy="2729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219320" y="838080"/>
            <a:ext cx="2286000" cy="25146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4876920" y="5029200"/>
            <a:ext cx="41050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à fanno publicità....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304920"/>
            <a:ext cx="45720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ttore del chip tascabile..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324480" y="228600"/>
            <a:ext cx="22766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hip-scann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763120" cy="4543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1143000" y="304920"/>
            <a:ext cx="720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 chi collabora "Mondex"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ORA SIAMO CONSAPEVO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OICOTTIAM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OTOROL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TUTTE LE MARCHE CHE HANNO A CHE FARE CON QUESTO PROGETTO DI CONTROLLO GLOB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VULGHIAMO IL + POSSIBILE QUESTO ALLEG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FORMIAMO E TENIAMOCI SEMPRE INFORMATI E QUANDO FIUTIAMO NUOVI SVILUPPI DIRAMIAMO E NON STANCHIAMOCI MAI DI DIVULGARE QUESTE INFORM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4851360" cy="3222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533520" y="4952880"/>
            <a:ext cx="8229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Una nuova invenzione che elimina la necessità di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usare la carta moneta o la carta di credito!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RICORDIAMOCI CHE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tilizziamo internet e divulgheremo alla massima velocità questa conoscenz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148428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LA CONOSCENZA E LA VERITA’ CI RENDERANNO LIBE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149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SEGUITO ALCUNI SITI INTERNET CHE TRATTANO  L’ARGO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609120"/>
            <a:ext cx="77025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the1phoenix.net/x-files/chip.htm#microchip4</a:t>
            </a:r>
            <a:br>
              <a:rPr sz="2400"/>
            </a:b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it-IT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apocalypsesoon.org/I/i-hitech2.htm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it-IT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apocalypsesoon.org/I/i-hitech.html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it-IT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liberamenteservo.it/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odules.php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?name=News&amp;file=article&amp;sid=489&amp;mode=flat&amp;order=0&amp;thold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Siamo già ultracontrollati ma ancora un minimo di libertà ce l’abbiamo ancora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274320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VEGLIAMO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0000"/>
                </a:solidFill>
                <a:latin typeface="Copperplate Gothic Bold"/>
              </a:rPr>
              <a:t>BUONA LIBERT</a:t>
            </a:r>
            <a:r>
              <a:rPr b="0" lang="en-US" sz="6000" spc="-1" strike="noStrike">
                <a:solidFill>
                  <a:srgbClr val="ff0000"/>
                </a:solidFill>
                <a:latin typeface="Copperplate Gothic Bold"/>
                <a:ea typeface="Times New Roman"/>
              </a:rPr>
              <a:t>Á A TUTT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457200"/>
            <a:ext cx="877248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Viene già usato dai ricchi come uno strument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per evitare i sequestri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5257800"/>
            <a:ext cx="8020080" cy="1009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Voi lo potrete usare per i suoi vantaggi e 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impedire il furto d'identità e la frode....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47920" y="2438280"/>
            <a:ext cx="6430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8000" y="1773360"/>
            <a:ext cx="849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FUGGITE DA TUTTO CIÒ!!!!!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332000" y="5084640"/>
            <a:ext cx="7696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SCOPRITE IL PERCHÈ.....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cc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50920" y="333360"/>
            <a:ext cx="860112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TOROLA, che produce i microchips per la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NDEX SMARTCARD, ha sviluppato diversi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io-chips innestabili nel corpo umano.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52280" y="4869000"/>
            <a:ext cx="899172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l chip BT952000 fu progettato dal Dott. Carl Sander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he è stato presente in diciasette conferenze del New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orld Order per sviluppare un sistema mondiale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920" y="6237360"/>
            <a:ext cx="87343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er l'economia e l'identificazione degli esseri umani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50000">
              <a:srgbClr val="e37979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79280" y="260280"/>
            <a:ext cx="87346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l Bio-chip misura 7 mm di lunghezza e 0.075 mm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 larghezza, circa le dimensioni di un chicco di riso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851440" cy="3086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4724280"/>
            <a:ext cx="8124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tiene un 'transponder' e una batteria al litio ricaricabil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5300640"/>
            <a:ext cx="8343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sta batteria è caricata da un circuito "thermo"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he produce tensione elettrica sfruttand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 fluttuazione della temperatura corporea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7d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838080" y="228600"/>
            <a:ext cx="740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292929"/>
                </a:solidFill>
                <a:latin typeface="Arial Black"/>
              </a:rPr>
              <a:t>Transponder è un sistema di immagazzinamento e lettura di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29292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292929"/>
                </a:solidFill>
                <a:latin typeface="Arial Black"/>
              </a:rPr>
              <a:t>informazioni in microcircuiti integrati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292929"/>
              </a:solidFill>
              <a:latin typeface="Arial Black"/>
              <a:ea typeface="Arial Blac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6350040" cy="1435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838080" y="2743200"/>
            <a:ext cx="7506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292929"/>
                </a:solidFill>
                <a:latin typeface="Arial Black"/>
              </a:rPr>
              <a:t>La lettura si realiza tramite onde come in un controllo a distanza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292929"/>
              </a:solidFill>
              <a:latin typeface="Arial Black"/>
              <a:ea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45720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440080" cy="1816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867280" y="4800600"/>
            <a:ext cx="2943360" cy="1827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895480" y="1981080"/>
            <a:ext cx="2868840" cy="2882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3276720" y="914400"/>
            <a:ext cx="5029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icordatevi questo nome e ..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443640" y="3141720"/>
            <a:ext cx="250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sto logo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21:46:10Z</dcterms:created>
  <dc:creator/>
  <dc:description/>
  <dc:language>en-US</dc:language>
  <cp:lastModifiedBy>AMalorgio</cp:lastModifiedBy>
  <dcterms:modified xsi:type="dcterms:W3CDTF">2007-11-13T13:59:49Z</dcterms:modified>
  <cp:revision>34</cp:revision>
  <dc:subject/>
  <dc:title>PowerPoint-presentatie</dc:title>
</cp:coreProperties>
</file>