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whoosh.wav" ContentType="audio/x-wav"/>
  <Override PartName="/ppt/media/image28.jpeg" ContentType="image/jpeg"/>
  <Override PartName="/ppt/media/image7.jpeg" ContentType="image/jpeg"/>
  <Override PartName="/ppt/media/image9.png" ContentType="image/png"/>
  <Override PartName="/ppt/media/image18.png" ContentType="image/png"/>
  <Override PartName="/ppt/media/image6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1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9BF8-A2D3-4F57-99AF-CCE63CE9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1BE-FDED-44A0-AF65-5EF4080C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F45-93CA-47A1-85DF-8697C173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57F4-C953-45EE-8566-EFF0FF3B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904-6FF0-4FE3-9106-2B4DB690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804-AEB8-4940-B51E-117C2351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18E8-B635-473F-B702-39C9E9B6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8AC-E6C4-4C63-9EF8-27E936A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6923-3F02-48AD-8269-B4B13D7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F10-336C-4DB6-9DA0-6B85BEE0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772-49BA-4DE9-AC39-F0780FAE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DB0-9BB7-4910-B1CB-54C4897D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EB7B-94F2-4755-8BA4-BDB71668234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the1phoenix.net/x-files/chip.htm#microchip4" TargetMode="External"/><Relationship Id="rId2" Type="http://schemas.openxmlformats.org/officeDocument/2006/relationships/hyperlink" Target="http://www.apocalypsesoon.org/I/i-hitech2.htm" TargetMode="External"/><Relationship Id="rId3" Type="http://schemas.openxmlformats.org/officeDocument/2006/relationships/hyperlink" Target="http://www.apocalypsesoon.org/I/i-hitech.html" TargetMode="External"/><Relationship Id="rId4" Type="http://schemas.openxmlformats.org/officeDocument/2006/relationships/hyperlink" Target="http://www.liberamenteservo.it/modules.php?name=News&amp;file=article&amp;sid=489&amp;mode=flat&amp;order=0&amp;thold=2" TargetMode="External"/><Relationship Id="rId5" Type="http://schemas.openxmlformats.org/officeDocument/2006/relationships/hyperlink" Target="http://www.liberamenteservo.it/modules.php?name=News&amp;file=article&amp;sid=489&amp;mode=flat&amp;order=0&amp;thold=2" TargetMode="External"/><Relationship Id="rId6" Type="http://schemas.openxmlformats.org/officeDocument/2006/relationships/hyperlink" Target="http://www.liberamenteservo.it/modules.php?name=News&amp;file=article&amp;sid=489&amp;mode=flat&amp;order=0&amp;thold=2" TargetMode="External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572320" cy="3756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371600" y="533520"/>
            <a:ext cx="63244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Quello che state per vedere 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5791320"/>
            <a:ext cx="6381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E' l'ultima notizia del momento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7520" y="304920"/>
            <a:ext cx="9096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Più di 250 società in 20 nazioni fanno parte di MONDEX e molti nazioni son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gia in procinto di usarlo: Gran Bretagna, Canada, Stati Uniti, Australi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990720"/>
            <a:ext cx="915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Nuova Zelanda, Israele, Hong Kong, China, Indonesia, Macau, Malaysi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Filippine, Singapore, Tailandia, India, Taiwan, Sri Lanka, Costa Rica, Gautemala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7520" y="1628640"/>
            <a:ext cx="909648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Nicaragua, Panama, Honduras, El Salvador e Brasile.  I Paesi dall'Un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Europea progettano di adottare il sistema MONDEX come semplificazion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 Black"/>
              </a:rPr>
              <a:t>della unificazione monetaria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8611920" cy="40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228600" y="304920"/>
            <a:ext cx="84772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Altri sistemi SMARTCARD verranno messi presto a disposizion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di MONDEX. Si tenga conto che MASTERCARD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Britannic Bold"/>
              </a:rPr>
              <a:t>ha acquistato il 51% del pacchetto azionario di quella società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Britannic Bold"/>
              <a:ea typeface="Britannic Bold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76720" y="3962520"/>
            <a:ext cx="2114280" cy="2114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2846520" cy="23889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329220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24000" y="333360"/>
            <a:ext cx="457200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itannic Bold"/>
              </a:rPr>
              <a:t>A questo punto vi chiederete....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itannic Bold"/>
              <a:ea typeface="Britannic Bold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987640" y="6165720"/>
            <a:ext cx="59626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ritannic Bold"/>
              </a:rPr>
              <a:t>ma che cosa ha a che fare con me?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2f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4360" y="549360"/>
            <a:ext cx="774360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no speso più di 1,5 milioni di dollari nell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ricerca solo per scoprire qual'è il posto miglior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er inserire il "bio-chip" nel corpo uman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0920" y="2276640"/>
            <a:ext cx="859140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Hanno trovato solo due posti soddisfacenti ed efficaci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348000" y="3213000"/>
            <a:ext cx="21812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FRONT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5280" y="4221000"/>
            <a:ext cx="839160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tto lo scalpo e sotto la parte posteriore della mano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pecificatamente..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71640" y="5589720"/>
            <a:ext cx="36291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ritannic Bold"/>
              </a:rPr>
              <a:t>LA MANO DESTR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ritannic Bold"/>
              <a:ea typeface="Britann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cc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457200"/>
            <a:ext cx="817236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Inoltre obbligò tutti, piccoli e grandi, ricchi e poveri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liberi e schiavi, a farsi mettere un marchio sulla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mano destra o sulla fronte. Nessuno poteva comprare o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752480"/>
            <a:ext cx="8420040" cy="7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vendere se non portava il marchio, cioè il nome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della bestia o il numero che corrisponde al suo nome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57400" y="3276720"/>
            <a:ext cx="4664160" cy="324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5410080" y="2666880"/>
            <a:ext cx="3248280" cy="3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Apocalisse 13:16-17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38080" y="304920"/>
            <a:ext cx="7591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Un miliardo di "bio-chips" viene prodotto d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MONDEX ogni ann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42920" y="1484280"/>
            <a:ext cx="70200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È già in produzione da almeno un anno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2349360"/>
            <a:ext cx="88866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Hanno scoperto che se il chip si trovasse inserito in una smartcard,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incontrerebbe problemi gravi: potrebbe essere estratto e le informazioni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cambiate o contrafatte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9280" y="4076640"/>
            <a:ext cx="879156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Il valore potrebbe essere manipolato, rubato o cancellato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La carta, una volta attivata, scadrebbe entro uno o due anni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332000" y="5734080"/>
            <a:ext cx="6429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Alla fine, il denaro reale diventerà poco sicuro nell' ambito del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c1c1c"/>
                </a:solidFill>
                <a:latin typeface="Arial Black"/>
              </a:rPr>
              <a:t>mercato generale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1c1c1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447920" y="152280"/>
            <a:ext cx="642924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'è solo una soluzione a questo problem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posta da MOTOROLA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2280" y="990720"/>
            <a:ext cx="88869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issare il "bio-chip" nella mano destra o nella fronte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447920"/>
            <a:ext cx="84582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ove non potrà essere rimosso,  perche se venisse asportato chirurgicamente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piccola capsula scoppierebbe e l'individuo sarebbe contamina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alle sostanze chimiche contenut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2280" y="3048120"/>
            <a:ext cx="87537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l sistema di posizionamento globale (Inglese: GPS) rileverebb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a sua rimozione e avvertirebbe le autorità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3886200"/>
            <a:ext cx="3154320" cy="285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58920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28600" y="380880"/>
            <a:ext cx="8686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Notate che MONDEX vuole dire "il denaro sulla vostra mano"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4920" y="1066680"/>
            <a:ext cx="85248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MON-DEX è una parola composta da MONETARY &amp; DEXTER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4797360"/>
            <a:ext cx="76489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Il Dizionario e l'Enciclopedia Webster definiscono cos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queste parole: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5562720"/>
            <a:ext cx="518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ONETARY - appartenente al denar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6095880"/>
            <a:ext cx="79437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EXTER - appartenente alla o posizionato sulla mano destra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4956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1295280"/>
            <a:ext cx="82868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o considerate un fatto grave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514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52280" y="2666880"/>
            <a:ext cx="8886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nard MT Condensed"/>
              </a:rPr>
              <a:t>SIETE SORPRESI?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nard MT Condensed"/>
              <a:ea typeface="Bernard MT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52280" y="1143000"/>
            <a:ext cx="886788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a la dimensione di un chicco di riso.....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2865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2b2b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990720" y="838080"/>
            <a:ext cx="692460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 trovate interessante questo messaggio,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19320" y="1905120"/>
            <a:ext cx="66769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PASSATE PAROLA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5280" y="3357720"/>
            <a:ext cx="83534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maginate i vostri figli, i vostri genitori i vostri fratelli, e amici 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19640" y="3860640"/>
            <a:ext cx="241920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 conoscete....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572000"/>
            <a:ext cx="72392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ontrassegnato con questo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132000" y="5589720"/>
            <a:ext cx="25336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RCHIO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380880"/>
            <a:ext cx="83818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ra che siete stati informati, se dubitate ancor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 queste informazioni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476360" y="1557360"/>
            <a:ext cx="6381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andate sui motori di ricerca e digitate la parola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708360" y="2492280"/>
            <a:ext cx="17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VERICHI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3581280"/>
            <a:ext cx="81532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ate la stessa cosa con le parole MONDEX SMARTCARD 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RCHIO DELLA BESTI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219320" y="4648320"/>
            <a:ext cx="66294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on potete piu nascondervi dietro l'ignoranza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5867280"/>
            <a:ext cx="737244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A SIETE RESPONSABILI!!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b0000"/>
            </a:gs>
            <a:gs pos="50000">
              <a:srgbClr val="860000"/>
            </a:gs>
            <a:gs pos="100000">
              <a:srgbClr val="4b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81080" y="4724280"/>
            <a:ext cx="554364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INFORMAZION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95480" y="685800"/>
            <a:ext cx="352440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QUALCHE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c42"/>
            </a:gs>
            <a:gs pos="50000">
              <a:srgbClr val="6b6bff"/>
            </a:gs>
            <a:gs pos="100000">
              <a:srgbClr val="1c1c4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66680" y="228600"/>
            <a:ext cx="69534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Il logo di MONDEX contiene 3 anelli concatenati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9880" y="609480"/>
            <a:ext cx="1206720" cy="749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50920" y="1484280"/>
            <a:ext cx="86011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un simbolo che si trova solo nel mondo dell'occultismo MASSONIC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206064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neralmente il suo significato ha a che fare con tre dei o la trinità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gana egizia, particolarmente nel Tempio Magico Enochiano, nei ritual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l'Ordine Hermetico dei Golden Dawn, e cioè con Isis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3068640"/>
            <a:ext cx="8610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siris, Horus, che originariamente nella Bibbia vengono chiamati Ashtoreth,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imrod, Tammuz/Baal.  La trinità Pagana consiste di tre dei manifestat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95400" y="3933720"/>
            <a:ext cx="904860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un solo modo; mentre la trinità Cristiana è un Dio manifestat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tre modi. Questo simobolo dei 3 anelli concatenati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479736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ra anche usato da Grand Logde of England e l'Ordine dei Odd Fellows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ndato da NERONE nel 55 a. C.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09880" y="5638680"/>
            <a:ext cx="1505160" cy="1116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238880" y="5181480"/>
            <a:ext cx="1292400" cy="15955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914400" y="5181480"/>
            <a:ext cx="141444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c10e"/>
            </a:gs>
            <a:gs pos="50000">
              <a:srgbClr val="ffff13"/>
            </a:gs>
            <a:gs pos="100000">
              <a:srgbClr val="c1c10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90720" y="152280"/>
            <a:ext cx="73533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Un altro simbolo utilizzato da MONDEX é la farfall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057400"/>
            <a:ext cx="820116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Questo simbolo ha numerosi significati mistici, ma il piu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mportante é quello della cattura dell' anim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2819520"/>
            <a:ext cx="769608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a parola Greca per farfalla e anima è 'psyche'.  Puoi,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icevendo il "marchio della bestia", fare un patto con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il Diavolo, e provocare la perdizione dell' anima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52280" y="4267080"/>
            <a:ext cx="88203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"... chiunque adora la bestia e la sua immagine, e ne prende il marchi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ulla fronte o sulla mano, egli pure berrà il vino dell'ira di Dio versato puro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2280" y="4952880"/>
            <a:ext cx="877248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nel calice della sua ira; e sarà tormentato con fuoco e zolfo davanti ai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anti angeli e davanti all'Agnello. Il fumo del loro tormento sale nei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5638680"/>
            <a:ext cx="826776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secoli dei secoli.  Chiunque adora la bestia e la sua immagine 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prende il marchio del suo nome, non ha riposo né giorno né notte.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6400800"/>
            <a:ext cx="237168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 Black"/>
              </a:rPr>
              <a:t>Apocalisse 14:9-11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 Black"/>
              <a:ea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657600" y="685800"/>
            <a:ext cx="176040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4573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62120" y="228600"/>
            <a:ext cx="75056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Dott. Sanders, che ha progettato il chip, era contrario all' uso dell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tteria al litio poiché è risaputo che se si rompesse il contenitore, il lit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990720"/>
            <a:ext cx="776304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ovocerebbe la comparsa di una GRAVE VESCICA accompagnata da un dol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opportabile con non poche complicazioni per il portatore del chip stess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2057400"/>
            <a:ext cx="86299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Il primo andò e versò la sua coppa sulla terra; e un'ulcera maligna 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olorosa colpi gli uomini che avevano il marchio della bestia e 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2819520"/>
            <a:ext cx="3628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oravano la sua immagine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67080" y="2819520"/>
            <a:ext cx="19908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pocalisse 16: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52280" y="4267080"/>
            <a:ext cx="8763120" cy="62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 seguito il Dott. Sanders lasciò il progetto e si interessò alle profezi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ella Bibbia concernenti il marchio della bestia. Si convertì in segui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320" y="5029200"/>
            <a:ext cx="906768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lla fede Cristiana e adesso conduce seminari su questo argoment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anders brevettò medicinali, apparecchiature di sorveglianza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5791320"/>
            <a:ext cx="842940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 di sicurezza per FBI, CIA, IRS, IBM, GE, Honeywell e Teledyne. Ha anch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evuto il titolo di Presidente e Governatore per l'eccellenza del suo progetto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85080" cy="38228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228600" y="5562720"/>
            <a:ext cx="8686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prima famiglia Americana, i Jacobs, che si è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atta inserire il chip nella mano destra!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fc7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135680" cy="2728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477120" y="838080"/>
            <a:ext cx="1766880" cy="27291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838080"/>
            <a:ext cx="2286000" cy="2514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4876920" y="5029200"/>
            <a:ext cx="41050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ià fanno publicità...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457200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ttore del chip tascabile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324480" y="228600"/>
            <a:ext cx="22766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ip-scann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8763120" cy="4543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1143000" y="304920"/>
            <a:ext cx="720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on chi collabora "Mondex"?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ORA SIAMO CONSAPEVO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OICOTTIAM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OTOROL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 TUTTE LE MARCHE CHE HANNO A CHE FARE CON QUESTO PROGETTO DI CONTROLLO GLO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ULGHIAMO IL + POSSIBILE QUESTO ALLEG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ORMIAMO E TENIAMOCI SEMPRE INFORMATI E QUANDO FIUTIAMO NUOVI SVILUPPI DIRAMIAMO E NON STANCHIAMOCI MAI DI DIVULGARE QUESTE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7517"/>
            </a:gs>
            <a:gs pos="50000">
              <a:srgbClr val="99ff33"/>
            </a:gs>
            <a:gs pos="100000">
              <a:srgbClr val="4675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4851360" cy="3222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533520" y="4952880"/>
            <a:ext cx="8229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a nuova invenzione che elimina la necessità di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sare la carta moneta o la carta di credito!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RICORDIAMOCI CHE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tilizziamo internet e divulgheremo alla massima velocità questa conoscenz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148428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Times New Roman"/>
              </a:rPr>
              <a:t>LA CONOSCENZA E LA VERITA’ CI RENDERANNO LIBE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149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SEGUITO ALCUNI SITI INTERNET CHE TRATTANO  L’ARGO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55640" y="609120"/>
            <a:ext cx="77025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the1phoenix.net/x-files/chip.htm#microchip4</a:t>
            </a:r>
            <a:br>
              <a:rPr sz="2400"/>
            </a:b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apocalypsesoon.org/I/i-hitech2.htm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apocalypsesoon.org/I/i-hitech.htm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liberamenteservo.it/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odules.php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?name=News&amp;file=article&amp;sid=489&amp;mode=flat&amp;order=0&amp;thold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Siamo già ultracontrollati ma ancora un minimo di libertà ce l’abbiamo ancora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83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VEGLIAM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0000"/>
                </a:solidFill>
                <a:latin typeface="Copperplate Gothic Bold"/>
              </a:rPr>
              <a:t>BUONA LIBERT</a:t>
            </a:r>
            <a:r>
              <a:rPr b="0" lang="en-US" sz="6000" spc="-1" strike="noStrike">
                <a:solidFill>
                  <a:srgbClr val="ff0000"/>
                </a:solidFill>
                <a:latin typeface="Copperplate Gothic Bold"/>
                <a:ea typeface="Times New Roman"/>
              </a:rPr>
              <a:t>Á A TUTT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28600" y="457200"/>
            <a:ext cx="877248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Viene già usato dai ricchi come uno strument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per evitare i sequestri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5257800"/>
            <a:ext cx="8020080" cy="100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Voi lo potrete usare per i suoi vantaggi e 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impedire il furto d'identità e la frode....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7920" y="2438280"/>
            <a:ext cx="643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08000" y="1773360"/>
            <a:ext cx="8496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FUGGITE DA TUTTO CIÒ!!!!!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332000" y="5084640"/>
            <a:ext cx="7696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SCOPRITE IL PERCHÈ.....</a:t>
            </a:r>
            <a:endParaRPr b="0" lang="en-US" sz="44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cccc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333360"/>
            <a:ext cx="86011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TOROLA, che produce i microchips per la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DEX SMARTCARD, ha sviluppato diversi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io-chips innestabili nel corpo umano.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42900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152280" y="4869000"/>
            <a:ext cx="8991720" cy="128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chip BT952000 fu progettato dal Dott. Carl Sander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 è stato presente in diciasette conferenze del New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orld Order per sviluppare un sistema mondiale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6237360"/>
            <a:ext cx="8734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er l'economia e l'identificazione degli esseri umani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50000">
              <a:srgbClr val="e37979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79280" y="260280"/>
            <a:ext cx="87346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l Bio-chip misura 7 mm di lunghezza e 0.075 mm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 larghezza, circa le dimensioni di un chicco di riso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851440" cy="308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4724280"/>
            <a:ext cx="8124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iene un 'transponder' e una batteria al litio ricaricabil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5300640"/>
            <a:ext cx="8343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a batteria è caricata da un circuito "thermo"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he produce tensione elettrica sfruttand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a fluttuazione della temperatura corpore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d7d7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838080" y="228600"/>
            <a:ext cx="7400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Transponder è un sistema di immagazzinamento e lettura di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informazioni in microcircuiti integrati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1066680"/>
            <a:ext cx="6350040" cy="1435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838080" y="2743200"/>
            <a:ext cx="75060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292929"/>
                </a:solidFill>
                <a:latin typeface="Arial Black"/>
              </a:rPr>
              <a:t>La lettura si realiza tramite onde come in un controllo a distanza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292929"/>
              </a:solidFill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457200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440080" cy="1816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867280" y="4800600"/>
            <a:ext cx="2943360" cy="18273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2868840" cy="2882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3276720" y="914400"/>
            <a:ext cx="5029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icordatevi questo nome e ....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43640" y="3141720"/>
            <a:ext cx="2505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questo logo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21:46:10Z</dcterms:created>
  <dc:creator/>
  <dc:description/>
  <dc:language>en-US</dc:language>
  <cp:lastModifiedBy>AMalorgio</cp:lastModifiedBy>
  <dcterms:modified xsi:type="dcterms:W3CDTF">2007-11-13T13:59:49Z</dcterms:modified>
  <cp:revision>34</cp:revision>
  <dc:subject/>
  <dc:title>PowerPoint-presentatie</dc:title>
</cp:coreProperties>
</file>