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bomb.wav" ContentType="audio/x-wav"/>
  <Override PartName="/ppt/media/camera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178920" y="5373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400" spc="-1" strike="noStrike">
                <a:solidFill>
                  <a:srgbClr val="ffff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50560" y="6093000"/>
            <a:ext cx="28954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600" spc="-1" strike="noStrike">
                <a:solidFill>
                  <a:srgbClr val="cc3300"/>
                </a:solidFill>
                <a:latin typeface="Monotype Corsiv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c3300"/>
                </a:solidFill>
                <a:latin typeface="Monotype Corsiva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11280" y="1268280"/>
            <a:ext cx="7772400" cy="1470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Arial"/>
              </a:rPr>
              <a:t>Guardate come si può</a:t>
            </a:r>
            <a:br>
              <a:rPr sz="4000"/>
            </a:br>
            <a:r>
              <a:rPr b="0" lang="pt-BR" sz="4000" spc="-1" strike="noStrike">
                <a:solidFill>
                  <a:srgbClr val="ffff00"/>
                </a:solidFill>
                <a:latin typeface="Arial"/>
              </a:rPr>
              <a:t>fabbricare una vera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pt-BR" sz="4800" spc="-1" strike="noStrike">
                <a:solidFill>
                  <a:srgbClr val="cc3300"/>
                </a:solidFill>
                <a:latin typeface="Arial"/>
              </a:rPr>
              <a:t>BOMBA!!!!!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590400"/>
            <a:ext cx="7619760" cy="56772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19320" y="3048120"/>
            <a:ext cx="720720" cy="2160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40040" y="3138480"/>
            <a:ext cx="2133360" cy="604800"/>
          </a:xfrm>
          <a:custGeom>
            <a:avLst/>
            <a:gdLst/>
            <a:ahLst/>
            <a:rect l="l" t="t" r="r" b="b"/>
            <a:pathLst>
              <a:path w="1344" h="381">
                <a:moveTo>
                  <a:pt x="0" y="381"/>
                </a:moveTo>
                <a:lnTo>
                  <a:pt x="1344" y="0"/>
                </a:lnTo>
              </a:path>
            </a:pathLst>
          </a:custGeom>
          <a:noFill/>
          <a:ln w="7632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435640" y="719280"/>
            <a:ext cx="338436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In aprile dello scorso anno, un bambino di 10 anni, alunno della scuola</a:t>
            </a:r>
            <a:br>
              <a:rPr sz="1800"/>
            </a:b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Dante Alighieri di São Paulo/Brasile, senza problemi di salute, sviene in clas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Viene portato in ospedale, ma vi arriva già decedu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Cau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3300"/>
                </a:solidFill>
                <a:latin typeface="Arial"/>
              </a:rPr>
              <a:t>Stomaco gonfio e morte per asfi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696680"/>
            <a:ext cx="39243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Le indagini condotte stabiliranno che lo stomaco è stato distrutto perché il bambino aveva consumato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 </a:t>
            </a: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Una lattina di </a:t>
            </a:r>
            <a:r>
              <a:rPr b="1" lang="pt-BR" sz="3200" spc="-1" strike="noStrike">
                <a:solidFill>
                  <a:srgbClr val="cc3300"/>
                </a:solidFill>
                <a:latin typeface="Arial"/>
              </a:rPr>
              <a:t>Coca Cola</a:t>
            </a: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 Light  e subito dopo, un confetto delle famose caramelle alla menta </a:t>
            </a:r>
            <a:r>
              <a:rPr b="1" lang="pt-BR" sz="2800" spc="-1" strike="noStrike">
                <a:solidFill>
                  <a:srgbClr val="333399"/>
                </a:solidFill>
                <a:latin typeface="Arial"/>
              </a:rPr>
              <a:t>Mentos</a:t>
            </a:r>
            <a:br>
              <a:rPr sz="2800"/>
            </a:br>
            <a:br>
              <a:rPr sz="2800"/>
            </a:b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La morte del bambino fu causata da una vera BOMBA derivata dalla miscela di sostanze presenti in questi due prodot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5676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085760" y="3934440"/>
            <a:ext cx="7381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Secondo Alexandre B. Mergenthal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Arial"/>
              </a:rPr>
              <a:t>Dott. Prof. dell'Istituto di Chimica dell'USP</a:t>
            </a: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Alcune componenti esistenti nei prodotti</a:t>
            </a:r>
            <a:br>
              <a:rPr sz="1800"/>
            </a:b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"light", come l’Acesulfame K INS930 mescolati all’aroma artificiale</a:t>
            </a:r>
            <a:br>
              <a:rPr sz="1800"/>
            </a:b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contenuto nel confetto Mentos, creano una sostanza leta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la Ta9V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**. Tale sostanza genera degli alti livelli di gas fino</a:t>
            </a:r>
            <a:br>
              <a:rPr sz="1800"/>
            </a:br>
            <a:r>
              <a:rPr b="1" lang="pt-BR" sz="1800" spc="-1" strike="noStrike">
                <a:solidFill>
                  <a:srgbClr val="ffff00"/>
                </a:solidFill>
                <a:latin typeface="Arial"/>
              </a:rPr>
              <a:t> all’esplosione!!!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87640" y="260280"/>
            <a:ext cx="5676840" cy="6264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1122840"/>
            <a:ext cx="373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 Black"/>
              </a:rPr>
              <a:t>Dopo i fatt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 Black"/>
              </a:rPr>
              <a:t>Coca-Cola e Men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 Black"/>
              </a:rPr>
              <a:t>non hanno rilasciato alcuna dichiarazione in merito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3500280"/>
            <a:ext cx="244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3300"/>
                </a:solidFill>
                <a:latin typeface="Arial"/>
              </a:rPr>
              <a:t>Fate gira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ora Brasilia  PPS-®Redoma-c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9D4C64-51E2-4EEF-A1C6-EBE6C26BB56C}" type="datetime8">
              <a:rPr lang="en-US"/>
              <a:t>07/28/26 10:01 AM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23:57:10Z</dcterms:created>
  <dc:creator>Ashere</dc:creator>
  <dc:description/>
  <dc:language>en-US</dc:language>
  <cp:lastModifiedBy>nowar</cp:lastModifiedBy>
  <dcterms:modified xsi:type="dcterms:W3CDTF">2007-01-09T16:58:20Z</dcterms:modified>
  <cp:revision>11</cp:revision>
  <dc:subject/>
  <dc:title>Vean como se puede hacer una verdadera   BOMBA!!!!!! </dc:title>
</cp:coreProperties>
</file>