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amer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8920" y="5373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5056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cc33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3300"/>
                </a:solidFill>
                <a:latin typeface="Monotype Corsiv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Guardate come si può</a:t>
            </a:r>
            <a:br>
              <a:rPr sz="4000"/>
            </a:b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fabbricare una ver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800" spc="-1" strike="noStrike">
                <a:solidFill>
                  <a:srgbClr val="cc3300"/>
                </a:solidFill>
                <a:latin typeface="Arial"/>
              </a:rPr>
              <a:t>BOMBA!!!!!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90400"/>
            <a:ext cx="7619760" cy="5677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20720" cy="216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40040" y="3138480"/>
            <a:ext cx="2133360" cy="604800"/>
          </a:xfrm>
          <a:custGeom>
            <a:avLst/>
            <a:gdLst/>
            <a:ahLst/>
            <a:rect l="l" t="t" r="r" b="b"/>
            <a:pathLst>
              <a:path w="1344" h="381">
                <a:moveTo>
                  <a:pt x="0" y="381"/>
                </a:moveTo>
                <a:lnTo>
                  <a:pt x="1344" y="0"/>
                </a:lnTo>
              </a:path>
            </a:pathLst>
          </a:custGeom>
          <a:noFill/>
          <a:ln w="7632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719280"/>
            <a:ext cx="3384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In aprile dello scorso anno, un bambino di 10 anni, alunno della scuola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Dante Alighieri di São Paulo/Brasile, senza problemi di salute, sviene in cl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Viene portato in ospedale, ma vi arriva già deced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tomaco gonfio e morte per asfi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696680"/>
            <a:ext cx="3924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e indagini condotte stabiliranno che lo stomaco è stato distrutto perché il bambino aveva consuma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Una lattina di </a:t>
            </a: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Coca Cola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Light  e subito dopo, un confetto delle famose caramelle alla menta </a:t>
            </a: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Mentos</a:t>
            </a:r>
            <a:br>
              <a:rPr sz="2800"/>
            </a:br>
            <a:br>
              <a:rPr sz="2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a morte del bambino fu causata da una vera BOMBA derivata dalla miscela di sostanze presenti in questi due prodo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676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5760" y="3934440"/>
            <a:ext cx="73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condo Alexandre B. Mergentha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ott. Prof. dell'Istituto di Chimica dell'USP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lcune componenti esistenti nei prodotti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"light", come l’Acesulfame K INS930 mescolati all’aroma artificiale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ontenuto nel confetto Mentos, creano una sostanza leta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a Ta9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**. Tale sostanza genera degli alti livelli di gas fino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all’esplosione!!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5676840" cy="626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22840"/>
            <a:ext cx="373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Dopo i fa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Coca-Cola e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non hanno rilasciato alcuna dichiarazione in merit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50028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Fate gir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ra Brasilia  PPS-®Redoma-c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75035-BFB9-47D5-85DE-AD770794FFDF}" type="datetime8">
              <a:rPr lang="en-US"/>
              <a:t>07/31/26 12:33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23:57:10Z</dcterms:created>
  <dc:creator>Ashere</dc:creator>
  <dc:description/>
  <dc:language>en-US</dc:language>
  <cp:lastModifiedBy>nowar</cp:lastModifiedBy>
  <dcterms:modified xsi:type="dcterms:W3CDTF">2007-01-09T16:58:20Z</dcterms:modified>
  <cp:revision>11</cp:revision>
  <dc:subject/>
  <dc:title>Vean como se puede hacer una verdadera   BOMBA!!!!!! </dc:title>
</cp:coreProperties>
</file>