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gif" ContentType="image/gif"/>
  <Override PartName="/ppt/media/image12.jpeg" ContentType="image/jpeg"/>
  <Override PartName="/ppt/media/image13.png" ContentType="image/png"/>
  <Override PartName="/ppt/media/image18.gif" ContentType="image/gif"/>
  <Override PartName="/ppt/media/image17.jpeg" ContentType="image/jpeg"/>
  <Override PartName="/ppt/media/image16.jpeg" ContentType="image/jpeg"/>
  <Override PartName="/ppt/media/Poema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media/image15.gif" ContentType="image/gif"/>
  <Override PartName="/ppt/media/image4.jpeg" ContentType="image/jpeg"/>
  <Override PartName="/ppt/media/image5.gif" ContentType="image/gif"/>
  <Override PartName="/ppt/media/image14.jpeg" ContentType="image/jpe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4AE3-352F-44A5-A837-24118816C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5E9E-B206-4140-977C-18B0A457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B1A8-5B62-4B22-85B2-B17B98D89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1608-85EB-4316-B837-45225E3DF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8513-1F5B-4D76-B354-23B14443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6C1A-8524-4DDB-91C7-2E69AF89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5FCA-0E05-4E07-8740-9316FF5E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5149-F50E-4852-83BC-B6B1E540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CE5C-D6D8-4C27-8DC8-E18C88B2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B637-DB1B-4B90-ACD1-45FF832E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8C4D-8F48-43A2-AC56-446C6788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4576-0AD3-44F8-BD02-E6391140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37EB6E6-DDD3-4EAE-9C6B-0718E0CE49C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oem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hyperlink" Target="http://images.google.pt/imgres?imgurl=http://bp2.blogger.com/_HCxovlRgCjc/R-k6r8oQ-gI/AAAAAAAAA2w/1EHYTEpgGSM/s400/fruta3.jpg&amp;imgrefurl=http://culinariareceitas.blogspot.com/2008_03_01_archive.html&amp;h=338&amp;w=400&amp;sz=18&amp;hl=pt-PT&amp;start=1&amp;um=1&amp;tbnid=1VvrWvHfGcHXHM:&amp;tbnh=105&amp;tbnw=124&amp;prev=/images%3Fq%3Dfruta%2Be%2Barte%26um%3D1%26hl%3Dpt-PT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lucasouzaglamour.files.wordpress.com/2007/04/cha-verde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0099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312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arare a mangiare la frutta è molto importante!</a:t>
            </a:r>
            <a:br>
              <a:rPr sz="2400"/>
            </a:br>
            <a:br>
              <a:rPr sz="2400"/>
            </a:b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La frutta é un alimento perfett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spende una quantità minima di energia per essere digerita e dona al tuo corpo il massimo ritor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987640" y="2276640"/>
            <a:ext cx="3019320" cy="4221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227640" y="5445000"/>
            <a:ext cx="122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Accendi le ca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mb dir="horz"/>
    <p:sndAc>
      <p:stSnd>
        <p:snd r:embed="rId2" name="Poem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4360" y="620640"/>
            <a:ext cx="761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iquidi freddi durante e dopo i pasti solidificano i componenti oleosi del cibo, rallentando la digestione. Reagiscono con gli acidi digestivi e vengono assorbiti a livello intestinale più veloce rispetto al cibo solido, indurendo i grassi nell'intestino, che lì rimangono più a lun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356000" y="3284640"/>
            <a:ext cx="2371680" cy="3162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187280" y="3716280"/>
            <a:ext cx="2716560" cy="21416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50000">
              <a:srgbClr val="ffff00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26920" y="3897000"/>
            <a:ext cx="74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cco il valore di un tè caldo dopo un pasto. Facilita la digestione e ammorbidisce il grasso per essere espulso più rapidamente, </a:t>
            </a:r>
            <a:r>
              <a:rPr b="1" lang="it-IT" sz="2400" spc="-1" strike="noStrike">
                <a:solidFill>
                  <a:srgbClr val="cc3300"/>
                </a:solidFill>
                <a:latin typeface="Times New Roman"/>
              </a:rPr>
              <a:t>il che aiuta anche a perdere pes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651640" y="1989000"/>
            <a:ext cx="1609560" cy="1371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0" t="11823" r="0" b="7868"/>
          <a:stretch/>
        </p:blipFill>
        <p:spPr>
          <a:xfrm>
            <a:off x="1476360" y="981000"/>
            <a:ext cx="3797280" cy="24480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e61802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39640" y="3970080"/>
            <a:ext cx="817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n cardiologo ha detto che se tutti quelli che ricevono questa mail la inviano a 10 persone possono essere sicuri di salvare almeno una vita. Ho fatto la mia par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8696" t="0" r="8978" b="15791"/>
          <a:stretch/>
        </p:blipFill>
        <p:spPr>
          <a:xfrm>
            <a:off x="3132000" y="620640"/>
            <a:ext cx="2737080" cy="2879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211640" y="5516640"/>
            <a:ext cx="1152360" cy="10461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1802"/>
            </a:gs>
            <a:gs pos="50000">
              <a:srgbClr val="ccff33"/>
            </a:gs>
            <a:gs pos="100000">
              <a:srgbClr val="e618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4118760"/>
            <a:ext cx="849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unico alimento che fa lavorare il tuo cervello è il glucos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frutta è principalmente fruttosio (che può essere trasformato facilmente in glucosio), e nella maggior parte delle volte 90-95% d’acqua. Questo significa che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pulisci e aliment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nello stesso modo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24000" y="260280"/>
            <a:ext cx="4444920" cy="31496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8081" t="15854" r="9367" b="17495"/>
          <a:stretch/>
        </p:blipFill>
        <p:spPr>
          <a:xfrm>
            <a:off x="3276720" y="3500280"/>
            <a:ext cx="2950920" cy="3024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689400"/>
            <a:ext cx="88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L’unico problema è che la maggior parte delle persone non sanno come mangiarla, o meglio, in maniera corretta che permetta al corpo di usare il suoi nutrien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Perchè la frutta deve essere mangiata con lo </a:t>
            </a:r>
            <a:r>
              <a:rPr b="1" lang="pt-PT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OMACO VUOTO</a:t>
            </a: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?  La ragione fondamentale è perchè la frutta, in principio non è digerita nello stomaco ma bensì nel piccolo intestino.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6600"/>
            </a:gs>
            <a:gs pos="100000">
              <a:srgbClr val="cc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4617360"/>
            <a:ext cx="864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frutti passano rapidamente attraverso lo stomaco, da lì vanno nell'intestino, dove vengono rilasciati i suoi zuccheri. Ma se c'è carne, patate o amidi nello stomaco, i frutti rimangono intrappolati e cominciano a ferment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87640" y="765000"/>
            <a:ext cx="2851200" cy="36720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ff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5472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Hai mangiato la frutta come dessert dopo un pasto abbondante, e trascorso il resto della serata con bruciori e quel retrogusto orribile? E’ perché non la mangi correttamente. Dovresti mangiare la frutta sempre a stomaco vuoto.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42920" y="2708280"/>
            <a:ext cx="1028880" cy="1728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76360" y="4724280"/>
            <a:ext cx="1797120" cy="1522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995640" y="2565360"/>
            <a:ext cx="381024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1802"/>
            </a:gs>
            <a:gs pos="50000">
              <a:srgbClr val="ffff00"/>
            </a:gs>
            <a:gs pos="100000">
              <a:srgbClr val="e618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95280" y="4149720"/>
            <a:ext cx="856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miglior tipo è la frutta fresca o il succo fatto al momento. Non si deve bere lattine di succo di frutta o in contenitori di vetro. Perché no? Poiché la maggior parte del tempo il succo è stato riscaldato nel processo attraverso il quale viene sigillato il contenitore e la sua struttura è diventata ac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484360" y="765000"/>
            <a:ext cx="3165480" cy="324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0099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61668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uoi fare l'acquisto più prezioso possibile? Acquista una centrifuga. Si può bere il succo estratto dalla centrifuga come la frutta fresca, sempre a stomaco vuoto. E il succo è digerito così rapidamente che si può mangiare un pasto quindici o venti minuti do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948360" y="4221000"/>
            <a:ext cx="1214640" cy="1214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195640" y="2781360"/>
            <a:ext cx="4392360" cy="3546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0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79280" y="1150920"/>
            <a:ext cx="374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dr. William Castillo, direttore di cardiologia della clinica Framington, di 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Massachusetts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ha detto che la frutta è il miglior cibo che possiamo mangiare per proteggere dalle malattie cardiac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4795200"/>
            <a:ext cx="89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frutti contengono bioflavonoidi (vitamina P), che impediscono al sangue di diventare spesso e l’ostruzione delle arterie. Inoltre rafforzano i capillari, e capillari deboli sono spesso causa di emorragie interne e attacchi di cu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716360" y="549360"/>
            <a:ext cx="301968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1802"/>
            </a:gs>
            <a:gs pos="50000">
              <a:srgbClr val="ffff00"/>
            </a:gs>
            <a:gs pos="100000">
              <a:srgbClr val="e618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456552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cinesi e giapponesi bevono il tè caldo (preferibilmente tè verde) con i pasti. Non usare mai acqua ghiacciata o bevande fredde. Si dovrebbe adottare questa abitudine!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71640" y="836640"/>
            <a:ext cx="3551400" cy="27748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átima Maria</dc:creator>
  <dc:description/>
  <dc:language>en-US</dc:language>
  <cp:lastModifiedBy>cassa</cp:lastModifiedBy>
  <dcterms:modified xsi:type="dcterms:W3CDTF">2010-11-29T07:29:15Z</dcterms:modified>
  <cp:revision>2</cp:revision>
  <dc:subject/>
  <dc:title>Diapositivo 1</dc:title>
</cp:coreProperties>
</file>