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C4DF-42D0-49BD-B0A4-0A9690F8D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C36-634F-455D-9363-B2B28077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C975-E5A2-40D0-A3C2-B6EE30BCF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FA25-BDE2-4D3D-8D96-50935410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7C96-918D-4DA1-A9D6-3DB12E1F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807-3483-42C4-9376-DC9E5080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7B5-6067-4E1C-B2AE-4242E78E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6B0-3327-4892-A9F7-A21EEAB9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319F-B737-488A-86E1-030F69B0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7748-EA8E-4DE2-9955-F0BDC4A1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90E6-6D24-4B9E-AC3F-7FCC0AE2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F1AF-6D1B-4C86-9FDB-621A1020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207D-3E34-4DFB-A38F-9EB348CB3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93800" y="-1914480"/>
            <a:ext cx="7558200" cy="1068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27280" y="981000"/>
            <a:ext cx="43322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43322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43322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56000" y="1268280"/>
            <a:ext cx="4097160" cy="57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409572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460548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4452840" cy="62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409572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700360" y="1052640"/>
            <a:ext cx="43322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771640" y="1136520"/>
            <a:ext cx="404496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4605480" cy="65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700360" y="1281240"/>
            <a:ext cx="394344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43280" y="1268280"/>
            <a:ext cx="379080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700360" y="1281240"/>
            <a:ext cx="394344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700360" y="1413000"/>
            <a:ext cx="43322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5116680" cy="72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757760" cy="67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53708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27280" y="1413000"/>
            <a:ext cx="455472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4452840" cy="62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771640" y="981000"/>
            <a:ext cx="43326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4655880" cy="65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4503960" cy="63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3322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627280" y="920880"/>
            <a:ext cx="419904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320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458784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450360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556000" y="1197000"/>
            <a:ext cx="43322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700360" y="1052640"/>
            <a:ext cx="455436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700360" y="907920"/>
            <a:ext cx="43322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445284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40000" y="1484280"/>
            <a:ext cx="470844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843280" y="992160"/>
            <a:ext cx="414648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4503960" cy="63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700360" y="1052640"/>
            <a:ext cx="43322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463860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771640" y="1052640"/>
            <a:ext cx="4637160" cy="65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503600" cy="63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55436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627280" y="1341360"/>
            <a:ext cx="480852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27280" y="1484280"/>
            <a:ext cx="4554720" cy="64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1539720"/>
            <a:ext cx="752148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2:28:44Z</dcterms:created>
  <dc:creator>z940349</dc:creator>
  <dc:description/>
  <dc:language>en-US</dc:language>
  <cp:lastModifiedBy>Vanoli</cp:lastModifiedBy>
  <dcterms:modified xsi:type="dcterms:W3CDTF">2006-10-03T10:37:21Z</dcterms:modified>
  <cp:revision>14</cp:revision>
  <dc:subject/>
  <dc:title>Diapositiva 1</dc:title>
</cp:coreProperties>
</file>