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12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37.png" ContentType="image/png"/>
  <Override PartName="/ppt/media/image7.png" ContentType="image/png"/>
  <Override PartName="/ppt/media/image2.png" ContentType="image/png"/>
  <Override PartName="/ppt/media/image32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D7CB2-CDC0-4339-8A6F-8399E1D30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39F18-79CF-473E-A2E9-C9E8463CB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FC5EE-B25F-4A45-8791-72B75175C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1C43A-FD86-4CB5-83D1-56380B56C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4AB31-2FC5-402F-ABB0-A0DAF33D8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83C00-D420-41DA-ABF3-11AB7DFEC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585EA-5976-4265-8D64-87AE7F955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F206A-D737-46CE-AE08-A2064F23B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0B788-9448-4E7B-B0E9-A0288FCE4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7C7D6-8D0E-4D93-A6E3-A5FDDE6D2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3BBA0-34FD-4189-A704-FF8A4C9B6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66299-2401-432E-B5C2-45DA03771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CE345-14DC-4B9F-BE5A-29D34836BA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793800" y="-1914480"/>
            <a:ext cx="7558200" cy="1068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627280" y="981000"/>
            <a:ext cx="4332240" cy="612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627280" y="1341360"/>
            <a:ext cx="4332240" cy="612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700360" y="1413000"/>
            <a:ext cx="4332240" cy="612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556000" y="1268280"/>
            <a:ext cx="4097160" cy="579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843280" y="1484280"/>
            <a:ext cx="4095720" cy="579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627280" y="1413000"/>
            <a:ext cx="4605480" cy="651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2484360" y="765000"/>
            <a:ext cx="4452840" cy="629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2771640" y="1413000"/>
            <a:ext cx="4095720" cy="579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2700360" y="1052640"/>
            <a:ext cx="4332240" cy="612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2771640" y="1136520"/>
            <a:ext cx="4044960" cy="572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411280" y="1773360"/>
            <a:ext cx="4605480" cy="651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2700360" y="1281240"/>
            <a:ext cx="3943440" cy="557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2843280" y="1268280"/>
            <a:ext cx="3790800" cy="536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2700360" y="1281240"/>
            <a:ext cx="3943440" cy="557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2700360" y="1413000"/>
            <a:ext cx="4332240" cy="612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2484360" y="1268280"/>
            <a:ext cx="5116680" cy="723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484360" y="476280"/>
            <a:ext cx="4757760" cy="672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2556000" y="1341360"/>
            <a:ext cx="4537080" cy="64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2627280" y="1413000"/>
            <a:ext cx="4554720" cy="644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2627280" y="1341360"/>
            <a:ext cx="4452840" cy="629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2771640" y="981000"/>
            <a:ext cx="4332600" cy="612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556000" y="1773360"/>
            <a:ext cx="4655880" cy="658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2771640" y="1413000"/>
            <a:ext cx="4503960" cy="63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2556000" y="1413000"/>
            <a:ext cx="4332240" cy="612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627280" y="920880"/>
            <a:ext cx="4199040" cy="59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971800" y="1600200"/>
            <a:ext cx="32004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2627280" y="1341360"/>
            <a:ext cx="4587840" cy="648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2556000" y="765000"/>
            <a:ext cx="4503600" cy="63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2556000" y="1197000"/>
            <a:ext cx="4332240" cy="612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700360" y="1052640"/>
            <a:ext cx="4554360" cy="644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700360" y="907920"/>
            <a:ext cx="4332240" cy="612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2843280" y="1484280"/>
            <a:ext cx="4452840" cy="629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340000" y="1484280"/>
            <a:ext cx="4708440" cy="66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2843280" y="992160"/>
            <a:ext cx="4146480" cy="586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2771640" y="1413000"/>
            <a:ext cx="4503960" cy="63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700360" y="1052640"/>
            <a:ext cx="4332240" cy="612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2627280" y="1557360"/>
            <a:ext cx="4638600" cy="655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771640" y="1052640"/>
            <a:ext cx="4637160" cy="65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556000" y="1413000"/>
            <a:ext cx="4503600" cy="63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340000" y="1413000"/>
            <a:ext cx="4554360" cy="644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627280" y="1341360"/>
            <a:ext cx="4808520" cy="68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627280" y="1484280"/>
            <a:ext cx="4554720" cy="644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11280" y="1539720"/>
            <a:ext cx="7521480" cy="531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8T12:28:44Z</dcterms:created>
  <dc:creator>z940349</dc:creator>
  <dc:description/>
  <dc:language>en-US</dc:language>
  <cp:lastModifiedBy>Vanoli</cp:lastModifiedBy>
  <dcterms:modified xsi:type="dcterms:W3CDTF">2006-10-03T10:37:21Z</dcterms:modified>
  <cp:revision>14</cp:revision>
  <dc:subject/>
  <dc:title>Diapositiva 1</dc:title>
</cp:coreProperties>
</file>