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F1B1-7EA5-4869-A3FE-B952270D7E7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8E16-92F2-4282-BAE0-8242F699646B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6EAD-CADE-468E-8818-B0A526577DD0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FDFB-3195-412E-BBEB-F708CC8772FE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B367-7DE5-4FDC-A35A-5AFFC9198608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652E-AB4E-4A68-8703-93AF5FEEC87F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32F2-30DA-4539-BD65-05D574E72130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1E1A-C415-4908-A0DE-4009A1DD1267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2440-8D54-463D-9D4C-E8C90B5F811E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A1B1-47FB-4E56-AE83-777398AF10FE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FC21-CD4F-4525-9251-05EC7EFA6456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4DA9-47FD-4630-BF95-6A6488903B58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3032-EAAF-440A-A446-A3454E86A23B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87EE-5057-43DE-8748-46F69F158CC4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E4744-EAB4-4D8D-B981-D06D8D7E203F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084-3372-4D37-A13B-5CE31693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CAE2-FDF4-4912-8D48-9E7D95FC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EBF-C0F0-4CCB-905A-60ED8411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318A-56FA-4EB0-A5B9-D70C4E74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19DC-F342-4395-8745-60973938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E184-08F6-446C-936B-51540B9F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BD63-8A4A-435F-9759-1F306F9A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6864-1F56-47D1-B67A-696C424E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F7E-1174-430F-9070-0FAEB2A0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AFC1-1644-41D9-B755-2086E685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93DB-4958-4A01-954F-3396D8FD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709-3A9E-45F6-8537-49716A21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330-29DD-4E5B-B85E-010352BB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EF71-7EBB-4A24-92E8-87E1D05B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AF42-DFAB-46B3-B4AC-88B39B54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5476-ECA2-45E6-AE98-23AD1093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D5A0-A597-4438-85DE-42FCF2213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843-6FEC-4B31-A1F4-D79519B9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F90-1ACF-4B25-9B0E-8E115E96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307F-AF80-4585-80D7-2A663E6A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B4F2-95D0-4027-ACF8-4719F135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93D9-985F-4FEE-A67E-4DAA45A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E1E-1B4E-4607-8D9B-775DAAA1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C41-42A6-44B7-8B6F-3CB98DE8B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pic>
        <p:nvPicPr>
          <p:cNvPr id="8" name="Picture 12" descr="Facbanna"/>
          <p:cNvPicPr/>
          <p:nvPr/>
        </p:nvPicPr>
        <p:blipFill>
          <a:blip r:embed="rId3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7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899E-50CF-45C4-A520-9D93A57EDD6D}" type="slidenum">
              <a:rPr b="0" lang="it-IT" sz="1400" spc="-1" strike="noStrike">
                <a:solidFill>
                  <a:srgbClr val="0000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8" name="Freeform 12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pic>
        <p:nvPicPr>
          <p:cNvPr id="59" name="Picture 13" descr="Facbanna"/>
          <p:cNvPicPr/>
          <p:nvPr/>
        </p:nvPicPr>
        <p:blipFill>
          <a:blip r:embed="rId3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7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3F40-978A-4A0E-B2AD-0A0655E463D7}" type="slidenum">
              <a:rPr b="0" lang="it-IT" sz="1400" spc="-1" strike="noStrike">
                <a:solidFill>
                  <a:srgbClr val="0000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MOLECOLE e SOSTANZE  BUONE da PENSARE e da MANGIARE….</a:t>
            </a:r>
            <a:br>
              <a:rPr sz="3600"/>
            </a:b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….quindi cio’ determina la</a:t>
            </a:r>
            <a:br>
              <a:rPr sz="3600"/>
            </a:b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</a:t>
            </a: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Biodinamica</a:t>
            </a: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 </a:t>
            </a: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CRUDA</a:t>
            </a:r>
            <a:endParaRPr b="0" lang="en-US" sz="36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31640" y="4928760"/>
            <a:ext cx="72025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r. G. Paolo Vanoli - Giornalista, Consulente in Scienza della Nutrizione e Medicine Biologico Naturali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webmaster di: </a:t>
            </a:r>
            <a:r>
              <a:rPr b="0" lang="it-IT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ednat.org</a:t>
            </a: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00080" y="1447920"/>
            <a:ext cx="77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nutrienti, sono le sostanze fondamentali che milioni di cellule del nostro organismo necessitano continuamente per vivere e funzionare in modo ottimale, essi si dividono in:</a:t>
            </a:r>
            <a:br>
              <a:rPr sz="2400"/>
            </a:b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acronutrienti (proteine, grassi, carboidrati) che rappresentano i mattoni del metabolismo cellu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icronutrienti (enzimi, vitamine, minerali, aminoacidi, elementi traccia) che sono l’accensione del metabolismo cellu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0080" y="178596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l nostro corpo non necessita tanto di singole vitamine o micronutrienti assunti in abbondanti dosi, ma piuttosto di combinazioni di nutrienti che agiscono in maniera sinergica e che con una quantità minima consentano di ottenere il massimo vantaggio per il network biologico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Tutto cio’ si ottien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SOLO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alimentandosi con cibi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CRUDI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(frutta e verdure e prodotti dell’orto)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’ENERGIA corporea ottimale, si ottiene solo sommando tutti questi cofattor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447920"/>
            <a:ext cx="822960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tabella ci fa notare come la DEFICIENZA di VITAMINE e MINERALI e di altri NUTRIENTI ESSENZIALI, portatori di energia,  GENERANO SEGNALI di ALLARME nell’ORGANISMO, 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in modo NON facilmente riconoscibil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19280" y="3571920"/>
          <a:ext cx="7000920" cy="3143160"/>
        </p:xfrm>
        <a:graphic>
          <a:graphicData uri="http://schemas.openxmlformats.org/drawingml/2006/table">
            <a:tbl>
              <a:tblPr/>
              <a:tblGrid>
                <a:gridCol w="2333520"/>
                <a:gridCol w="2333880"/>
                <a:gridCol w="233352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LEMENTI VITALI CARENT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GNALI DI ALLARM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EMPI DI DECESS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Ossigen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ffocament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Minut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cqua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te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Giorn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limenti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Fam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ttiman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renza o Assenza di vitamin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Nessuno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Mesi (es. scorbuto)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renza di Enzim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Nessuno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ni (es. infarto)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785960"/>
            <a:ext cx="7696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maggior parte di noi soffre di una </a:t>
            </a:r>
            <a:r>
              <a:rPr b="1" lang="it-IT" sz="2000" spc="-1" strike="noStrike">
                <a:solidFill>
                  <a:srgbClr val="000054"/>
                </a:solidFill>
                <a:latin typeface="Arial"/>
              </a:rPr>
              <a:t>deficienza cronica </a:t>
            </a: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i vitamine, minerali, ed altri nutrienti essenziali senza immediati segnali di avvertimento. Perché questa deficienza cronica ?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tress emozionale per conflitti Spirituali irrisol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tress da Intossicazione, da Traumi fisici ed Infiammazioni conseguen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iminuzione dell’ossigeno disponibile nell’atmosfera e nell’organismo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Alimentazione scorretta, priva di prodotti nobili crudi (frutta e verdure, crude al 70% come minimo)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Terreni agricoli (privi di agricoltura biodinamica) impoveriti dei nutrienti essenziali con l’agricoltura chimica, producono prodotti scaden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Mancanza di esercizio fisico sufficiente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557000"/>
            <a:ext cx="7772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a quanti di noi percepiscono uno stato di non completo benessere ?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MOLTI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Questo e’ il segnale principale della perdita dei giusti rapporti nutrizionali delle cellule nel nostro corpo (sintomi: calo di energia, abbassamento del tono dell’umore, difficoltà a dormire, irritazione eccessiva, mancanza di concentrazione, perdita di memoria, dolorini che girano, stanchezza, stipsi, febbri, malesseri generalizzati, ecc., oltre alle malattie piu’ “pesanti” se si trascurano i primi segnali dei vari malesseri…mal di testa, mal di schiena, ecc.)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1360" y="1676160"/>
            <a:ext cx="778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erciò, dal momento che il nostro corpo facilmente e spesso non ci dà alcun segnale di allarme, il miglior modo in cui possiamo 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EVITARE DEFICIENZE dell’ENERGIA CELLULARE e’ una OTTIMALE ALIMENTAZIONE GIORNALIERA per mezzo di CIB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BIODINAMIC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, mangiat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CRUD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.</a:t>
            </a:r>
            <a:br>
              <a:rPr sz="2400"/>
            </a:b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erte volte l’integrazione anche con supplementi alimentari, diventa fondamentale per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Perdita del valore nutritivo degli aliment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atabolismo accelera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Fabbisogno elevato in: anziani, adulti, sportivi, donne in gravidanza, donne che allattano, malati, bambin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680" y="199980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Questo tipo di Alimentazion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CRUDISTA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diventa fondamentale perche’ vi e’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erdita del valore nutritivo degli alimenti coltivati su colture chimiche industrial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n particolar modo la perdita e/o mancanza di enzimi specializzati della frutta e prodotti dell’or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atabolismo accelera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Fabbisogno elevato in: anziani, adulti, sportivi, donne in gravidanza, donne che allattano, malati, bambini ecc.  - By dr. G. Paolo Vanoli - 1985</a:t>
            </a:r>
            <a:br>
              <a:rPr sz="2400"/>
            </a:br>
            <a:br>
              <a:rPr sz="2800"/>
            </a:b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42892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Quanto ci conosciamo per pensare che abbiamo bisogno di una integrazione nutrizionale con alimenti sufficientemente adatti allo scopo ?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Solo l’agricoltura </a:t>
            </a:r>
            <a:r>
              <a:rPr b="1" lang="it-IT" sz="2800" spc="-1" strike="noStrike">
                <a:solidFill>
                  <a:srgbClr val="000054"/>
                </a:solidFill>
                <a:latin typeface="Arial"/>
              </a:rPr>
              <a:t>Biodinamica</a:t>
            </a: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 e’ in grado di sopperire a queste carenze purche’ i cibi consumati, siano assunti </a:t>
            </a:r>
            <a:r>
              <a:rPr b="1" lang="it-IT" sz="2800" spc="-1" strike="noStrike">
                <a:solidFill>
                  <a:srgbClr val="000054"/>
                </a:solidFill>
                <a:latin typeface="Arial"/>
              </a:rPr>
              <a:t>CRUDI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288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TUTTI hanno l’esigenza di ottimizzare l’alimentazione quotidiana in modo da avere energia supplementare per la vita intensa che conduciamo nell’era “moderna”, come anche i nutrienti necessari quali enzimi, minerali, vitamine, per i processi di costruzione e riparazione dei corpo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’alimentazione per un miglior rendimento riguarda ciò che si mangia. Ogni giorno bisogna mangiare una varietà di alimenti che forniscano i nutrienti essenziali e l’energia necessaria per espletare le normali attività quotidiane.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urtroppo la tipica alimentazione occidentale comprende quantità eccessive di grassi saturi ed un’eccessiva percentuale di zuccheri semplici. Dobbiamo quindi cercare di aumentare l’assunzione di acidi grassi “buoni”, e diminuire al contempo il consumo di alimenti trattati industrialmente che risultano ricchi di zucchero e poveri di nutrienti essenzial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carboidrati, i grassi e le proteine ci forniscono energia per svolgere le nostre attività quotidiane e per le funzioni di conservazione e di ricostruzione del tessuto muscolare oltre che al nostro sistema osteoartico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3000" y="16002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hi siamo ?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l corpo umano è un insieme altamente organizzato di cellule (si stimano circa 200 tipologie di cellule diverse per un totale di circa   100 mila miliardi di cellule)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Ogni cellula è una piccola città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UNICIPIO = nucleo della cellula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URA di CINTA = membrana cellulare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FABBRICA = apparato di Golg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ENTRALE ELETTRICA = mitocondri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98108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iò che determina la forma del corpo non sono solo le cellule e le loro funzioni, ma è anche lo spazio extracellulare (su base liquida), di cui una larga parte è occupata da una intricata rete di macromolecole che costituisce la matrice extracellulare, Terreno base dei tessuti biologici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a matrice extracellulare gioca un ruolo attivo nella regolazione del comportamento biologico delle cellule e nella specifica specializzazione delle funzioni cellular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71720" y="1915920"/>
            <a:ext cx="78580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GLICOSAMINOGLICANI (GAGs), principali costituenti chimici della matrice sono lunghe catene polisaccaridiche poco flessibili e fortemente idrofiliche grazie all’alta densità di cariche negative; formano gel capaci di resistere a forti forze compressive che forniscono un supporto meccanico non solo per la migrazione di cellule, ma anche per la rapida diffusione di molecole solubili in acqua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noltre la matrice extracellulare è collegata al sistema ghiandolare endocrino tramite piccoli vasi e capillari e al sistema nervoso centrale per mezzo delle terminazioni periferiche nervose vegetativ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71360" y="1699920"/>
            <a:ext cx="7786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Noi siamo costituiti da un network informatico, perfettamente organizzato di cellule che comunicano tutte fra di loro e matrice extracellulare.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salute e la malattia dipendono dai giusti rapporti tra le sostante che nutrono e che preparano i milioni di cellule che compongono il nostro corpo e la matrice extracellulare.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iccome lo scopo dell’organismo è quello di mantenersi vivo, integro, sano ed energetico, occorre che sia le  cellule, sia la matrice extracellulare, siano nei giusti rapporti elettrobiochimici e per rispondere allo scopo l’alimentazione a base di CRUDITA’ e BIODINAMICA, diventa un fattore determinante. 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214720"/>
            <a:ext cx="8305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carburanti biologici degli esseri Viventi, sono ben conosciuti e sono: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OSSIGENO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 ed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ACQUA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oltre agli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ALIMENTI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:  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zuccheri, grassi, proteine, enzimi, minerali, vitamine, amminoacidi, alimenti traccia, che si trovano SOLO nei cibi crudi (frutta, verdure prodotti dell’orto) coltivati su colture agricol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Biodinamiche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onsumati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 CRUD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08:43:04Z</dcterms:created>
  <dc:creator>Archivio e internet</dc:creator>
  <dc:description/>
  <dc:language>en-US</dc:language>
  <cp:lastModifiedBy>G.Paolo</cp:lastModifiedBy>
  <dcterms:modified xsi:type="dcterms:W3CDTF">2012-01-10T15:53:10Z</dcterms:modified>
  <cp:revision>56</cp:revision>
  <dc:subject/>
  <dc:title>MOLECOLE  BUONE  DA PENSARE  E  DA MANGIARE</dc:title>
</cp:coreProperties>
</file>