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a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44EAF-3B01-4C4E-803A-93F3C3EBCC8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E7B28-CDDD-43BB-8483-EBFD9C9C4950}" type="slidenum">
              <a:rPr b="0" lang="it-IT" sz="1200" spc="-1" strike="noStrike">
                <a:solidFill>
                  <a:srgbClr val="00005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0D397-F31A-4CA4-855D-929AAC1567CB}" type="slidenum">
              <a:rPr b="0" lang="it-IT" sz="1200" spc="-1" strike="noStrike">
                <a:solidFill>
                  <a:srgbClr val="00005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4E07C-FB52-4264-B888-00C560BB86D0}" type="slidenum">
              <a:rPr b="0" lang="it-IT" sz="1200" spc="-1" strike="noStrike">
                <a:solidFill>
                  <a:srgbClr val="00005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8C542-E9FC-4C8C-B333-22ABF1ABAC3D}" type="slidenum">
              <a:rPr b="0" lang="it-IT" sz="1200" spc="-1" strike="noStrike">
                <a:solidFill>
                  <a:srgbClr val="00005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12869-7BC4-4CBC-9C04-D3B874BAD57C}" type="slidenum">
              <a:rPr b="0" lang="it-IT" sz="1200" spc="-1" strike="noStrike">
                <a:solidFill>
                  <a:srgbClr val="00005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58245-1D23-4F35-8C95-603DA6B4FE09}" type="slidenum">
              <a:rPr b="0" lang="it-IT" sz="1200" spc="-1" strike="noStrike">
                <a:solidFill>
                  <a:srgbClr val="00005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6E132-6023-439B-8DC1-1578B00184D9}" type="slidenum">
              <a:rPr b="0" lang="it-IT" sz="1200" spc="-1" strike="noStrike">
                <a:solidFill>
                  <a:srgbClr val="00005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CE12D-4547-457E-B9B3-DC617D27BDD5}" type="slidenum">
              <a:rPr b="0" lang="it-IT" sz="1200" spc="-1" strike="noStrike">
                <a:solidFill>
                  <a:srgbClr val="00005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7A406-7BC0-4848-9A27-4CB2662295D8}" type="slidenum">
              <a:rPr b="0" lang="it-IT" sz="1200" spc="-1" strike="noStrike">
                <a:solidFill>
                  <a:srgbClr val="00005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E0523-9D07-4CBD-B8CF-84CD33205BB6}" type="slidenum">
              <a:rPr b="0" lang="it-IT" sz="1200" spc="-1" strike="noStrike">
                <a:solidFill>
                  <a:srgbClr val="00005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619C8-EADA-412F-A7A2-78FEAA38649C}" type="slidenum">
              <a:rPr b="0" lang="it-IT" sz="1200" spc="-1" strike="noStrike">
                <a:solidFill>
                  <a:srgbClr val="00005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A9413-2BB3-4E3A-AF91-8A77B0DFF5D6}" type="slidenum">
              <a:rPr b="0" lang="it-IT" sz="1200" spc="-1" strike="noStrike">
                <a:solidFill>
                  <a:srgbClr val="00005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B687A-3742-439B-96BB-86735395A1F9}" type="slidenum">
              <a:rPr b="0" lang="it-IT" sz="1200" spc="-1" strike="noStrike">
                <a:solidFill>
                  <a:srgbClr val="00005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6D9EA-D246-41A2-8E66-B1BEF7F01607}" type="slidenum">
              <a:rPr b="0" lang="it-IT" sz="1200" spc="-1" strike="noStrike">
                <a:solidFill>
                  <a:srgbClr val="00005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F55A-2D7C-4152-BFBB-191FD0B86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BFAB-2758-44E1-B421-980C73CB5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0C6F-EE54-42FA-B7A9-411D6442F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3E8B-D07B-41F9-BEA4-9080F2F6E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31F33-78DA-4275-B7FA-FB5C56B66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4D5E0-25E6-4EBE-9DCF-D726A73D9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DB557-207D-440E-A673-EE3D87445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84E14-119C-4B9D-B2CE-422EA18B4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BFF0F-F67C-4C86-882A-267320BC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1ED8D-CE2D-4F5E-A8A0-0D4AD28D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9D82B-4612-4144-9A57-80F8FEB6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82AB-DB2F-4EF2-AABF-743DB8EDB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A2C1E-1539-418E-99E7-255C834F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28E00-2309-4F6E-8EFD-CEAE0B7F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2FEE7-E307-4C16-966B-2BECD52BE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6CE70-8B2E-47D0-90CC-4211C8306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72B51-2CCE-490F-B9B7-EA7CE5284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ED54-9691-47C4-8B88-6498884FC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4E7A-8049-4B53-AA60-FB11761C7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B376-C04C-4567-93C1-FAB2175DF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1727-6043-4AAC-8A01-C3F1EF95C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5ADB-762C-471E-B4D3-21C1388F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2141-0DDC-4F90-9A31-443C8AF5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4F0E-635B-408C-AE09-E1F5C60B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4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>
              <a:gd name="textAreaLeft" fmla="*/ 0 w 2268720"/>
              <a:gd name="textAreaRight" fmla="*/ 2269080 w 2268720"/>
              <a:gd name="textAreaTop" fmla="*/ 0 h 2709720"/>
              <a:gd name="textAreaBottom" fmla="*/ 2710080 h 2709720"/>
            </a:gdLst>
            <a:ahLst/>
            <a:rect l="textAreaLeft" t="textAreaTop" r="textAreaRight" b="textAreaBottom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eaeae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1" name="Freeform 5"/>
          <p:cNvSpPr/>
          <p:nvPr/>
        </p:nvSpPr>
        <p:spPr>
          <a:xfrm>
            <a:off x="108000" y="15840"/>
            <a:ext cx="838080" cy="787320"/>
          </a:xfrm>
          <a:custGeom>
            <a:avLst/>
            <a:gdLst>
              <a:gd name="textAreaLeft" fmla="*/ 0 w 838080"/>
              <a:gd name="textAreaRight" fmla="*/ 838440 w 838080"/>
              <a:gd name="textAreaTop" fmla="*/ 0 h 787320"/>
              <a:gd name="textAreaBottom" fmla="*/ 787680 h 787320"/>
            </a:gdLst>
            <a:ahLst/>
            <a:rect l="textAreaLeft" t="textAreaTop" r="textAreaRight" b="textAreaBottom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eaeae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2" name="Freeform 6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>
              <a:gd name="textAreaLeft" fmla="*/ 0 w 2266920"/>
              <a:gd name="textAreaRight" fmla="*/ 2267280 w 2266920"/>
              <a:gd name="textAreaTop" fmla="*/ 0 h 2270160"/>
              <a:gd name="textAreaBottom" fmla="*/ 2270520 h 227016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ebd189"/>
              </a:gs>
              <a:gs pos="100000">
                <a:srgbClr val="eaeae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3" name="Freeform 7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>
              <a:gd name="textAreaLeft" fmla="*/ 0 w 3670200"/>
              <a:gd name="textAreaRight" fmla="*/ 3670560 w 3670200"/>
              <a:gd name="textAreaTop" fmla="*/ 0 h 3671640"/>
              <a:gd name="textAreaBottom" fmla="*/ 3672000 h 36716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ebd18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4" name="Freeform 8"/>
          <p:cNvSpPr/>
          <p:nvPr/>
        </p:nvSpPr>
        <p:spPr>
          <a:xfrm>
            <a:off x="3240" y="4797360"/>
            <a:ext cx="3417840" cy="2097000"/>
          </a:xfrm>
          <a:custGeom>
            <a:avLst/>
            <a:gdLst>
              <a:gd name="textAreaLeft" fmla="*/ 0 w 3417840"/>
              <a:gd name="textAreaRight" fmla="*/ 3418200 w 341784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5" name="Freeform 9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>
              <a:gd name="textAreaLeft" fmla="*/ 0 w 2263680"/>
              <a:gd name="textAreaRight" fmla="*/ 2263680 w 2263680"/>
              <a:gd name="textAreaTop" fmla="*/ 0 h 2264040"/>
              <a:gd name="textAreaBottom" fmla="*/ 2264400 h 22640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ebd189"/>
              </a:gs>
              <a:gs pos="100000">
                <a:srgbClr val="eaeae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6" name="Freeform 10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>
              <a:gd name="textAreaLeft" fmla="*/ 0 w 2928960"/>
              <a:gd name="textAreaRight" fmla="*/ 2929320 w 2928960"/>
              <a:gd name="textAreaTop" fmla="*/ 0 h 2930400"/>
              <a:gd name="textAreaBottom" fmla="*/ 2930760 h 293040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ebd18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7" name="Freeform 11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3997080"/>
              <a:gd name="textAreaBottom" fmla="*/ 3997440 h 399708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54"/>
              </a:solidFill>
              <a:latin typeface="Arial Narrow"/>
            </a:endParaRPr>
          </a:p>
        </p:txBody>
      </p:sp>
      <p:pic>
        <p:nvPicPr>
          <p:cNvPr id="8" name="Picture 12" descr="Facbanna"/>
          <p:cNvPicPr/>
          <p:nvPr/>
        </p:nvPicPr>
        <p:blipFill>
          <a:blip r:embed="rId3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54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54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7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0D408-6BD3-4F5A-A605-50A298E34C17}" type="slidenum">
              <a:rPr b="0" lang="it-IT" sz="1400" spc="-1" strike="noStrike">
                <a:solidFill>
                  <a:srgbClr val="00007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4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>
              <a:gd name="textAreaLeft" fmla="*/ 0 w 2268720"/>
              <a:gd name="textAreaRight" fmla="*/ 2269080 w 2268720"/>
              <a:gd name="textAreaTop" fmla="*/ 0 h 2709720"/>
              <a:gd name="textAreaBottom" fmla="*/ 2710080 h 2709720"/>
            </a:gdLst>
            <a:ahLst/>
            <a:rect l="textAreaLeft" t="textAreaTop" r="textAreaRight" b="textAreaBottom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eaeae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51" name="Freeform 5"/>
          <p:cNvSpPr/>
          <p:nvPr/>
        </p:nvSpPr>
        <p:spPr>
          <a:xfrm>
            <a:off x="108000" y="15840"/>
            <a:ext cx="838080" cy="787320"/>
          </a:xfrm>
          <a:custGeom>
            <a:avLst/>
            <a:gdLst>
              <a:gd name="textAreaLeft" fmla="*/ 0 w 838080"/>
              <a:gd name="textAreaRight" fmla="*/ 838440 w 838080"/>
              <a:gd name="textAreaTop" fmla="*/ 0 h 787320"/>
              <a:gd name="textAreaBottom" fmla="*/ 787680 h 787320"/>
            </a:gdLst>
            <a:ahLst/>
            <a:rect l="textAreaLeft" t="textAreaTop" r="textAreaRight" b="textAreaBottom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fcab40"/>
              </a:gs>
              <a:gs pos="100000">
                <a:srgbClr val="eaeae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>
              <a:gd name="textAreaLeft" fmla="*/ 0 w 2266920"/>
              <a:gd name="textAreaRight" fmla="*/ 2267280 w 2266920"/>
              <a:gd name="textAreaTop" fmla="*/ 0 h 2270160"/>
              <a:gd name="textAreaBottom" fmla="*/ 2270520 h 227016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ebd189"/>
              </a:gs>
              <a:gs pos="100000">
                <a:srgbClr val="eaeae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>
              <a:gd name="textAreaLeft" fmla="*/ 0 w 3670200"/>
              <a:gd name="textAreaRight" fmla="*/ 3670560 w 3670200"/>
              <a:gd name="textAreaTop" fmla="*/ 0 h 3671640"/>
              <a:gd name="textAreaBottom" fmla="*/ 3672000 h 36716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ebd18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54" name="Freeform 8"/>
          <p:cNvSpPr/>
          <p:nvPr/>
        </p:nvSpPr>
        <p:spPr>
          <a:xfrm>
            <a:off x="3240" y="4797360"/>
            <a:ext cx="3417840" cy="2097000"/>
          </a:xfrm>
          <a:custGeom>
            <a:avLst/>
            <a:gdLst>
              <a:gd name="textAreaLeft" fmla="*/ 0 w 3417840"/>
              <a:gd name="textAreaRight" fmla="*/ 3418200 w 341784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55" name="Freeform 9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>
              <a:gd name="textAreaLeft" fmla="*/ 0 w 2263680"/>
              <a:gd name="textAreaRight" fmla="*/ 2263680 w 2263680"/>
              <a:gd name="textAreaTop" fmla="*/ 0 h 2264040"/>
              <a:gd name="textAreaBottom" fmla="*/ 2264400 h 226404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ebd189"/>
              </a:gs>
              <a:gs pos="100000">
                <a:srgbClr val="eaeae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56" name="Freeform 10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>
              <a:gd name="textAreaLeft" fmla="*/ 0 w 2928960"/>
              <a:gd name="textAreaRight" fmla="*/ 2929320 w 2928960"/>
              <a:gd name="textAreaTop" fmla="*/ 0 h 2930400"/>
              <a:gd name="textAreaBottom" fmla="*/ 2930760 h 2930400"/>
            </a:gdLst>
            <a:ahLst/>
            <a:rect l="textAreaLeft" t="textAreaTop" r="textAreaRight" b="textAreaBottom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ebd18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57" name="Freeform 11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3997080"/>
              <a:gd name="textAreaBottom" fmla="*/ 3997440 h 399708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58" name="Freeform 12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>
              <a:gd name="textAreaLeft" fmla="*/ 0 w 1722600"/>
              <a:gd name="textAreaRight" fmla="*/ 1722960 w 172260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555ba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54"/>
              </a:solidFill>
              <a:latin typeface="Arial Narrow"/>
            </a:endParaRPr>
          </a:p>
        </p:txBody>
      </p:sp>
      <p:pic>
        <p:nvPicPr>
          <p:cNvPr id="59" name="Picture 13" descr="Facbanna"/>
          <p:cNvPicPr/>
          <p:nvPr/>
        </p:nvPicPr>
        <p:blipFill>
          <a:blip r:embed="rId3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54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54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5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54"/>
              </a:solidFill>
              <a:latin typeface="Arial Narrow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7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8E668-E760-4859-BCE0-F62AD4C6FDDD}" type="slidenum">
              <a:rPr b="0" lang="it-IT" sz="1400" spc="-1" strike="noStrike">
                <a:solidFill>
                  <a:srgbClr val="00007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ednat.org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142920"/>
            <a:ext cx="7772400" cy="3857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7a"/>
                </a:solidFill>
                <a:latin typeface="Arial"/>
                <a:ea typeface="Arial"/>
              </a:rPr>
              <a:t>MOLECOLE e SOSTANZE  BUONE da PENSARE e da MANGIARE….</a:t>
            </a:r>
            <a:br>
              <a:rPr sz="3600"/>
            </a:br>
            <a:r>
              <a:rPr b="0" lang="it-IT" sz="3600" spc="-1" strike="noStrike">
                <a:solidFill>
                  <a:srgbClr val="00007a"/>
                </a:solidFill>
                <a:latin typeface="Arial"/>
                <a:ea typeface="Arial"/>
              </a:rPr>
              <a:t>….quindi cio’ determina la</a:t>
            </a:r>
            <a:br>
              <a:rPr sz="3600"/>
            </a:br>
            <a:r>
              <a:rPr b="0" lang="it-IT" sz="3600" spc="-1" strike="noStrike">
                <a:solidFill>
                  <a:srgbClr val="00007a"/>
                </a:solidFill>
                <a:latin typeface="Arial"/>
                <a:ea typeface="Arial"/>
              </a:rPr>
              <a:t>Necessità dell’Alimentazione Nutrizionale </a:t>
            </a:r>
            <a:r>
              <a:rPr b="1" lang="it-IT" sz="3600" spc="-1" strike="noStrike">
                <a:solidFill>
                  <a:srgbClr val="00007a"/>
                </a:solidFill>
                <a:latin typeface="Arial"/>
                <a:ea typeface="Arial"/>
              </a:rPr>
              <a:t>Biodinamica</a:t>
            </a:r>
            <a:r>
              <a:rPr b="0" lang="it-IT" sz="3600" spc="-1" strike="noStrike">
                <a:solidFill>
                  <a:srgbClr val="00007a"/>
                </a:solidFill>
                <a:latin typeface="Arial"/>
                <a:ea typeface="Arial"/>
              </a:rPr>
              <a:t> </a:t>
            </a:r>
            <a:r>
              <a:rPr b="1" lang="it-IT" sz="3600" spc="-1" strike="noStrike">
                <a:solidFill>
                  <a:srgbClr val="00007a"/>
                </a:solidFill>
                <a:latin typeface="Arial"/>
                <a:ea typeface="Arial"/>
              </a:rPr>
              <a:t>CRUDA</a:t>
            </a:r>
            <a:endParaRPr b="0" lang="en-US" sz="36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31640" y="4928760"/>
            <a:ext cx="720252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54"/>
                </a:solidFill>
                <a:latin typeface="Arial"/>
              </a:rPr>
              <a:t>Dr. G. Paolo Vanoli - Giornalista, Consulente in Scienza della Nutrizione e Medicine Biologico Naturali</a:t>
            </a:r>
            <a:br>
              <a:rPr sz="2000"/>
            </a:br>
            <a:r>
              <a:rPr b="0" lang="it-IT" sz="2000" spc="-1" strike="noStrike">
                <a:solidFill>
                  <a:srgbClr val="000054"/>
                </a:solidFill>
                <a:latin typeface="Arial"/>
              </a:rPr>
              <a:t>webmaster di: </a:t>
            </a:r>
            <a:r>
              <a:rPr b="0" lang="it-IT" sz="2000" spc="-1" strike="noStrike" u="sng">
                <a:solidFill>
                  <a:srgbClr val="b97c01"/>
                </a:solidFill>
                <a:uFillTx/>
                <a:latin typeface="Arial"/>
                <a:hlinkClick r:id="rId1"/>
              </a:rPr>
              <a:t>http://www.mednat.org</a:t>
            </a:r>
            <a:r>
              <a:rPr b="0" lang="it-IT" sz="2000" spc="-1" strike="noStrike">
                <a:solidFill>
                  <a:srgbClr val="00005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54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7a"/>
                </a:solidFill>
                <a:latin typeface="Arial"/>
                <a:ea typeface="Arial"/>
              </a:rPr>
              <a:t>Necessità dell’alimentazione nutrizionale biodinamica</a:t>
            </a:r>
            <a:endParaRPr b="0" lang="en-US" sz="40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000080" y="1447920"/>
            <a:ext cx="7786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5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I nutrienti, sono le sostanze fondamentali che milioni di cellule del nostro organismo necessitano continuamente per vivere e funzionare in modo ottimale, essi si dividono in:</a:t>
            </a:r>
            <a:br>
              <a:rPr sz="2400"/>
            </a:b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Macronutrienti (proteine, grassi, carboidrati) che rappresentano i mattoni del metabolismo cellulare.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Micronutrienti (enzimi, vitamine, minerali, aminoacidi, elementi traccia) che sono l’accensione del metabolismo cellulare.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7a"/>
                </a:solidFill>
                <a:latin typeface="Arial"/>
                <a:ea typeface="Arial"/>
              </a:rPr>
              <a:t>Necessità dell’alimentazione nutrizionale biodinamica</a:t>
            </a:r>
            <a:endParaRPr b="0" lang="en-US" sz="40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00080" y="1785960"/>
            <a:ext cx="7858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Il nostro corpo non necessita tanto di singole vitamine o micronutrienti assunti in abbondanti dosi, ma piuttosto di combinazioni di nutrienti che agiscono in maniera sinergica e che con una quantità minima consentano di ottenere il massimo vantaggio per il network biologico</a:t>
            </a:r>
            <a:br>
              <a:rPr sz="2400"/>
            </a:b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Tutto cio’ si ottiene </a:t>
            </a:r>
            <a:r>
              <a:rPr b="1" lang="it-IT" sz="2400" spc="-1" strike="noStrike">
                <a:solidFill>
                  <a:srgbClr val="000054"/>
                </a:solidFill>
                <a:latin typeface="Arial"/>
              </a:rPr>
              <a:t>SOLO</a:t>
            </a: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 alimentandosi con cibi </a:t>
            </a:r>
            <a:r>
              <a:rPr b="1" lang="it-IT" sz="2400" spc="-1" strike="noStrike">
                <a:solidFill>
                  <a:srgbClr val="000054"/>
                </a:solidFill>
                <a:latin typeface="Arial"/>
              </a:rPr>
              <a:t>CRUDI</a:t>
            </a: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 (frutta e verdure e prodotti dell’orto) </a:t>
            </a:r>
            <a:br>
              <a:rPr sz="2400"/>
            </a:br>
            <a:br>
              <a:rPr sz="2400"/>
            </a:b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L’ENERGIA corporea ottimale, si ottiene solo sommando tutti questi cofattori.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7a"/>
                </a:solidFill>
                <a:latin typeface="Arial"/>
                <a:ea typeface="Arial"/>
              </a:rPr>
              <a:t>Necessità dell’alimentazione nutrizionale biodinamica</a:t>
            </a:r>
            <a:endParaRPr b="0" lang="en-US" sz="40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914400" y="1447920"/>
            <a:ext cx="8229600" cy="51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it-IT" sz="2000" spc="-1" strike="noStrike">
                <a:solidFill>
                  <a:srgbClr val="000054"/>
                </a:solidFill>
                <a:latin typeface="Arial"/>
              </a:rPr>
              <a:t>La tabella ci fa notare come la DEFICIENZA di VITAMINE e MINERALI e di altri NUTRIENTI ESSENZIALI, portatori di energia,  GENERANO SEGNALI di ALLARME nell’ORGANISMO, </a:t>
            </a:r>
            <a:br>
              <a:rPr sz="2000"/>
            </a:br>
            <a:r>
              <a:rPr b="0" lang="it-IT" sz="2000" spc="-1" strike="noStrike">
                <a:solidFill>
                  <a:srgbClr val="000054"/>
                </a:solidFill>
                <a:latin typeface="Arial"/>
              </a:rPr>
              <a:t>in modo NON facilmente riconoscibili.</a:t>
            </a:r>
            <a:endParaRPr b="0" lang="en-US" sz="2000" spc="-1" strike="noStrike">
              <a:solidFill>
                <a:srgbClr val="000054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54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619280" y="3571920"/>
          <a:ext cx="7000920" cy="3143160"/>
        </p:xfrm>
        <a:graphic>
          <a:graphicData uri="http://schemas.openxmlformats.org/drawingml/2006/table">
            <a:tbl>
              <a:tblPr/>
              <a:tblGrid>
                <a:gridCol w="2333520"/>
                <a:gridCol w="2333880"/>
                <a:gridCol w="2333520"/>
              </a:tblGrid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ELEMENTI VITALI CARENTI</a:t>
                      </a:r>
                      <a:endParaRPr b="0" lang="en-US" sz="1800" spc="-1" strike="noStrike">
                        <a:solidFill>
                          <a:srgbClr val="000054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1368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SEGNALI DI ALLARME</a:t>
                      </a:r>
                      <a:endParaRPr b="0" lang="en-US" sz="1800" spc="-1" strike="noStrike">
                        <a:solidFill>
                          <a:srgbClr val="000054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1368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TEMPI DI DECESSO</a:t>
                      </a:r>
                      <a:endParaRPr b="0" lang="en-US" sz="1800" spc="-1" strike="noStrike">
                        <a:solidFill>
                          <a:srgbClr val="000054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13680">
                      <a:solidFill>
                        <a:srgbClr val="000054"/>
                      </a:solidFill>
                    </a:lnR>
                    <a:lnT w="1368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Ossigeno</a:t>
                      </a:r>
                      <a:endParaRPr b="0" lang="en-US" sz="1800" spc="-1" strike="noStrike">
                        <a:solidFill>
                          <a:srgbClr val="000054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Soffocamento</a:t>
                      </a:r>
                      <a:endParaRPr b="0" lang="en-US" sz="1800" spc="-1" strike="noStrike">
                        <a:solidFill>
                          <a:srgbClr val="000054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Minuti</a:t>
                      </a:r>
                      <a:endParaRPr b="0" lang="en-US" sz="1800" spc="-1" strike="noStrike">
                        <a:solidFill>
                          <a:srgbClr val="000054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1368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Acqua</a:t>
                      </a:r>
                      <a:endParaRPr b="0" lang="en-US" sz="1800" spc="-1" strike="noStrike">
                        <a:solidFill>
                          <a:srgbClr val="000054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Sete </a:t>
                      </a:r>
                      <a:endParaRPr b="0" lang="en-US" sz="1800" spc="-1" strike="noStrike">
                        <a:solidFill>
                          <a:srgbClr val="000054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Giorni</a:t>
                      </a:r>
                      <a:endParaRPr b="0" lang="en-US" sz="1800" spc="-1" strike="noStrike">
                        <a:solidFill>
                          <a:srgbClr val="000054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Alimenti </a:t>
                      </a:r>
                      <a:endParaRPr b="0" lang="en-US" sz="1800" spc="-1" strike="noStrike">
                        <a:solidFill>
                          <a:srgbClr val="000054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Fame</a:t>
                      </a:r>
                      <a:endParaRPr b="0" lang="en-US" sz="1800" spc="-1" strike="noStrike">
                        <a:solidFill>
                          <a:srgbClr val="000054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Settimane</a:t>
                      </a:r>
                      <a:endParaRPr b="0" lang="en-US" sz="1800" spc="-1" strike="noStrike">
                        <a:solidFill>
                          <a:srgbClr val="000054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1368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Carenza o Assenza di vitamine</a:t>
                      </a:r>
                      <a:endParaRPr b="0" lang="en-US" sz="1800" spc="-1" strike="noStrike">
                        <a:solidFill>
                          <a:srgbClr val="000054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Nessuno </a:t>
                      </a:r>
                      <a:endParaRPr b="0" lang="en-US" sz="1800" spc="-1" strike="noStrike">
                        <a:solidFill>
                          <a:srgbClr val="000054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Mesi (es. scorbuto)</a:t>
                      </a:r>
                      <a:endParaRPr b="0" lang="en-US" sz="1800" spc="-1" strike="noStrike">
                        <a:solidFill>
                          <a:srgbClr val="000054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1368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5760">
                      <a:solidFill>
                        <a:srgbClr val="000054"/>
                      </a:solidFill>
                    </a:lnB>
                    <a:noFill/>
                  </a:tcPr>
                </a:tc>
              </a:tr>
              <a:tr h="51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Carenza di Enzimi</a:t>
                      </a:r>
                      <a:endParaRPr b="0" lang="en-US" sz="1800" spc="-1" strike="noStrike">
                        <a:solidFill>
                          <a:srgbClr val="000054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13680">
                      <a:solidFill>
                        <a:srgbClr val="00005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Nessuno </a:t>
                      </a:r>
                      <a:endParaRPr b="0" lang="en-US" sz="1800" spc="-1" strike="noStrike">
                        <a:solidFill>
                          <a:srgbClr val="000054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576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13680">
                      <a:solidFill>
                        <a:srgbClr val="00005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54"/>
                          </a:solidFill>
                          <a:latin typeface="Arial"/>
                        </a:rPr>
                        <a:t>Anni (es. infarto)</a:t>
                      </a:r>
                      <a:endParaRPr b="0" lang="en-US" sz="1800" spc="-1" strike="noStrike">
                        <a:solidFill>
                          <a:srgbClr val="000054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54"/>
                      </a:solidFill>
                    </a:lnL>
                    <a:lnR w="13680">
                      <a:solidFill>
                        <a:srgbClr val="000054"/>
                      </a:solidFill>
                    </a:lnR>
                    <a:lnT w="5760">
                      <a:solidFill>
                        <a:srgbClr val="000054"/>
                      </a:solidFill>
                    </a:lnT>
                    <a:lnB w="13680">
                      <a:solidFill>
                        <a:srgbClr val="000054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7a"/>
                </a:solidFill>
                <a:latin typeface="Arial"/>
                <a:ea typeface="Arial"/>
              </a:rPr>
              <a:t>Necessità dell’alimentazione nutrizionale biodinamica</a:t>
            </a:r>
            <a:endParaRPr b="0" lang="en-US" sz="40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90720" y="1785960"/>
            <a:ext cx="769608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54"/>
                </a:solidFill>
                <a:latin typeface="Arial"/>
              </a:rPr>
              <a:t>La maggior parte di noi soffre di una </a:t>
            </a:r>
            <a:r>
              <a:rPr b="1" lang="it-IT" sz="2000" spc="-1" strike="noStrike">
                <a:solidFill>
                  <a:srgbClr val="000054"/>
                </a:solidFill>
                <a:latin typeface="Arial"/>
              </a:rPr>
              <a:t>deficienza cronica </a:t>
            </a:r>
            <a:r>
              <a:rPr b="0" lang="it-IT" sz="2000" spc="-1" strike="noStrike">
                <a:solidFill>
                  <a:srgbClr val="000054"/>
                </a:solidFill>
                <a:latin typeface="Arial"/>
              </a:rPr>
              <a:t>di vitamine, minerali, ed altri nutrienti essenziali senza immediati segnali di avvertimento. Perché questa deficienza cronica ?</a:t>
            </a:r>
            <a:endParaRPr b="0" lang="en-US" sz="2000" spc="-1" strike="noStrike">
              <a:solidFill>
                <a:srgbClr val="000054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54"/>
                </a:solidFill>
                <a:latin typeface="Arial"/>
              </a:rPr>
              <a:t>Stress emozionale per conflitti Spirituali irrisolti.</a:t>
            </a:r>
            <a:endParaRPr b="0" lang="en-US" sz="2000" spc="-1" strike="noStrike">
              <a:solidFill>
                <a:srgbClr val="000054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54"/>
                </a:solidFill>
                <a:latin typeface="Arial"/>
              </a:rPr>
              <a:t>Stress da Intossicazione, da Traumi fisici ed Infiammazioni conseguenti.</a:t>
            </a:r>
            <a:endParaRPr b="0" lang="en-US" sz="2000" spc="-1" strike="noStrike">
              <a:solidFill>
                <a:srgbClr val="000054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54"/>
                </a:solidFill>
                <a:latin typeface="Arial"/>
              </a:rPr>
              <a:t>Diminuzione dell’ossigeno disponibile nell’atmosfera e nell’organismo.</a:t>
            </a:r>
            <a:endParaRPr b="0" lang="en-US" sz="2000" spc="-1" strike="noStrike">
              <a:solidFill>
                <a:srgbClr val="000054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54"/>
                </a:solidFill>
                <a:latin typeface="Arial"/>
              </a:rPr>
              <a:t>Alimentazione scorretta, priva di prodotti nobili crudi (frutta e verdure, crude al 70% come minimo).</a:t>
            </a:r>
            <a:endParaRPr b="0" lang="en-US" sz="2000" spc="-1" strike="noStrike">
              <a:solidFill>
                <a:srgbClr val="000054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54"/>
                </a:solidFill>
                <a:latin typeface="Arial"/>
              </a:rPr>
              <a:t>Terreni agricoli (privi di agricoltura biodinamica) impoveriti dei nutrienti essenziali con l’agricoltura chimica, producono prodotti scadenti.</a:t>
            </a:r>
            <a:endParaRPr b="0" lang="en-US" sz="2000" spc="-1" strike="noStrike">
              <a:solidFill>
                <a:srgbClr val="000054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54"/>
                </a:solidFill>
                <a:latin typeface="Arial"/>
              </a:rPr>
              <a:t>Mancanza di esercizio fisico sufficiente.</a:t>
            </a:r>
            <a:endParaRPr b="0" lang="en-US" sz="2000" spc="-1" strike="noStrike">
              <a:solidFill>
                <a:srgbClr val="000054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7a"/>
                </a:solidFill>
                <a:latin typeface="Arial"/>
                <a:ea typeface="Arial"/>
              </a:rPr>
              <a:t>Necessità dell’alimentazione nutrizionale biodinamica</a:t>
            </a:r>
            <a:endParaRPr b="0" lang="en-US" sz="40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990720" y="1557000"/>
            <a:ext cx="777240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Ma quanti di noi percepiscono uno stato di non completo benessere ?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  <a:p>
            <a:pPr marL="305280" indent="-3052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54"/>
                </a:solidFill>
                <a:latin typeface="Arial"/>
              </a:rPr>
              <a:t>MOLTI</a:t>
            </a:r>
            <a:br>
              <a:rPr sz="2400"/>
            </a:b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Questo e’ il segnale principale della perdita dei giusti rapporti nutrizionali delle cellule nel nostro corpo (sintomi: calo di energia, abbassamento del tono dell’umore, difficoltà a dormire, irritazione eccessiva, mancanza di concentrazione, perdita di memoria, dolorini che girano, stanchezza, stipsi, febbri, malesseri generalizzati, ecc., oltre alle malattie piu’ “pesanti” se si trascurano i primi segnali dei vari malesseri…mal di testa, mal di schiena, ecc.)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7a"/>
                </a:solidFill>
                <a:latin typeface="Arial"/>
                <a:ea typeface="Arial"/>
              </a:rPr>
              <a:t>Necessità dell’alimentazione nutrizionale biodinamica</a:t>
            </a:r>
            <a:endParaRPr b="0" lang="en-US" sz="40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071360" y="1676160"/>
            <a:ext cx="7786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Perciò, dal momento che il nostro corpo facilmente e spesso non ci dà alcun segnale di allarme, il miglior modo in cui possiamo 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Arial"/>
              </a:rPr>
              <a:t>EVITARE DEFICIENZE dell’ENERGIA CELLULARE e’ una OTTIMALE ALIMENTAZIONE GIORNALIERA per mezzo di CIBI </a:t>
            </a:r>
            <a:r>
              <a:rPr b="1" lang="it-IT" sz="2400" spc="-1" strike="noStrike">
                <a:solidFill>
                  <a:srgbClr val="002060"/>
                </a:solidFill>
                <a:latin typeface="Arial"/>
              </a:rPr>
              <a:t>BIODINAMICI</a:t>
            </a:r>
            <a:r>
              <a:rPr b="0" lang="it-IT" sz="2400" spc="-1" strike="noStrike">
                <a:solidFill>
                  <a:srgbClr val="002060"/>
                </a:solidFill>
                <a:latin typeface="Arial"/>
              </a:rPr>
              <a:t>, mangiati </a:t>
            </a:r>
            <a:r>
              <a:rPr b="1" lang="it-IT" sz="2400" spc="-1" strike="noStrike">
                <a:solidFill>
                  <a:srgbClr val="002060"/>
                </a:solidFill>
                <a:latin typeface="Arial"/>
              </a:rPr>
              <a:t>CRUDI</a:t>
            </a:r>
            <a:r>
              <a:rPr b="0" lang="it-IT" sz="2400" spc="-1" strike="noStrike">
                <a:solidFill>
                  <a:srgbClr val="002060"/>
                </a:solidFill>
                <a:latin typeface="Arial"/>
              </a:rPr>
              <a:t>.</a:t>
            </a:r>
            <a:br>
              <a:rPr sz="2400"/>
            </a:br>
            <a:r>
              <a:rPr b="0" lang="it-IT" sz="2400" spc="-1" strike="noStrike">
                <a:solidFill>
                  <a:srgbClr val="002060"/>
                </a:solidFill>
                <a:latin typeface="Arial"/>
              </a:rPr>
              <a:t>Certe volte l’integrazione anche con supplementi alimentari, diventa fondamentale per: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Arial"/>
              </a:rPr>
              <a:t>Perdita del valore nutritivo degli alimenti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Arial"/>
              </a:rPr>
              <a:t>Catabolismo accelerato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Arial"/>
              </a:rPr>
              <a:t>Fabbisogno elevato in: anziani, adulti, sportivi, donne in gravidanza, donne che allattano, malati, bambini.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7a"/>
                </a:solidFill>
                <a:latin typeface="Arial"/>
              </a:rPr>
              <a:t>Necessità dell’alimentazione nutrizionale biodinamica</a:t>
            </a:r>
            <a:endParaRPr b="0" lang="en-US" sz="40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066680" y="1999800"/>
            <a:ext cx="77724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Questo tipo di Alimentazione </a:t>
            </a:r>
            <a:r>
              <a:rPr b="1" lang="it-IT" sz="2400" spc="-1" strike="noStrike">
                <a:solidFill>
                  <a:srgbClr val="000054"/>
                </a:solidFill>
                <a:latin typeface="Arial"/>
              </a:rPr>
              <a:t>CRUDISTA</a:t>
            </a: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 diventa fondamentale perche’ vi e’: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Perdita del valore nutritivo degli alimenti coltivati su colture chimiche industriali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In particolar modo la perdita e/o mancanza di enzimi specializzati della frutta e prodotti dell’orto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Catabolismo accelerato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Fabbisogno elevato in: anziani, adulti, sportivi, donne in gravidanza, donne che allattano, malati, bambini ecc.  - By dr. G. Paolo Vanoli - 1985</a:t>
            </a:r>
            <a:br>
              <a:rPr sz="2400"/>
            </a:br>
            <a:br>
              <a:rPr sz="2800"/>
            </a:br>
            <a:r>
              <a:rPr b="0" lang="it-IT" sz="2800" spc="-1" strike="noStrike">
                <a:solidFill>
                  <a:srgbClr val="00005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7a"/>
                </a:solidFill>
                <a:latin typeface="Arial"/>
                <a:ea typeface="Arial"/>
              </a:rPr>
              <a:t>Necessità dell’alimentazione nutrizionale biodinamica</a:t>
            </a:r>
            <a:endParaRPr b="0" lang="en-US" sz="40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2428920"/>
            <a:ext cx="777240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54"/>
                </a:solidFill>
                <a:latin typeface="Arial"/>
              </a:rPr>
              <a:t>Quanto ci conosciamo per pensare che abbiamo bisogno di una integrazione nutrizionale con alimenti sufficientemente adatti allo scopo ?</a:t>
            </a:r>
            <a:br>
              <a:rPr sz="2800"/>
            </a:br>
            <a:br>
              <a:rPr sz="2800"/>
            </a:br>
            <a:r>
              <a:rPr b="0" lang="it-IT" sz="2800" spc="-1" strike="noStrike">
                <a:solidFill>
                  <a:srgbClr val="000054"/>
                </a:solidFill>
                <a:latin typeface="Arial"/>
              </a:rPr>
              <a:t>Solo l’agricoltura </a:t>
            </a:r>
            <a:r>
              <a:rPr b="1" lang="it-IT" sz="2800" spc="-1" strike="noStrike">
                <a:solidFill>
                  <a:srgbClr val="000054"/>
                </a:solidFill>
                <a:latin typeface="Arial"/>
              </a:rPr>
              <a:t>Biodinamica</a:t>
            </a:r>
            <a:r>
              <a:rPr b="0" lang="it-IT" sz="2800" spc="-1" strike="noStrike">
                <a:solidFill>
                  <a:srgbClr val="000054"/>
                </a:solidFill>
                <a:latin typeface="Arial"/>
              </a:rPr>
              <a:t> e’ in grado di sopperire a queste carenze purche’ i cibi consumati, siano assunti </a:t>
            </a:r>
            <a:r>
              <a:rPr b="1" lang="it-IT" sz="2800" spc="-1" strike="noStrike">
                <a:solidFill>
                  <a:srgbClr val="000054"/>
                </a:solidFill>
                <a:latin typeface="Arial"/>
              </a:rPr>
              <a:t>CRUDI</a:t>
            </a: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7a"/>
                </a:solidFill>
                <a:latin typeface="Arial"/>
                <a:ea typeface="Arial"/>
              </a:rPr>
              <a:t>Necessità dell’alimentazione nutrizionale biodinamica</a:t>
            </a:r>
            <a:endParaRPr b="0" lang="en-US" sz="40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66680" y="1928880"/>
            <a:ext cx="77724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TUTTI hanno l’esigenza di ottimizzare l’alimentazione quotidiana in modo da avere energia supplementare per la vita intensa che conduciamo nell’era “moderna”, come anche i nutrienti necessari quali enzimi, minerali, vitamine, per i processi di costruzione e riparazione dei corpo.</a:t>
            </a:r>
            <a:br>
              <a:rPr sz="2400"/>
            </a:br>
            <a:br>
              <a:rPr sz="2400"/>
            </a:b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L’alimentazione per un miglior rendimento riguarda ciò che si mangia. Ogni giorno bisogna mangiare una varietà di alimenti che forniscano i nutrienti essenziali e l’energia necessaria per espletare le normali attività quotidiane.</a:t>
            </a:r>
            <a:br>
              <a:rPr sz="2400"/>
            </a:b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7a"/>
                </a:solidFill>
                <a:latin typeface="Arial"/>
                <a:ea typeface="Arial"/>
              </a:rPr>
              <a:t>Necessità dell’alimentazione nutrizionale biodinamica</a:t>
            </a:r>
            <a:endParaRPr b="0" lang="en-US" sz="40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Purtroppo la tipica alimentazione occidentale comprende quantità eccessive di grassi saturi ed un’eccessiva percentuale di zuccheri semplici. Dobbiamo quindi cercare di aumentare l’assunzione di acidi grassi “buoni”, e diminuire al contempo il consumo di alimenti trattati industrialmente che risultano ricchi di zucchero e poveri di nutrienti essenziali.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I carboidrati, i grassi e le proteine ci forniscono energia per svolgere le nostre attività quotidiane e per le funzioni di conservazione e di ricostruzione del tessuto muscolare oltre che al nostro sistema osteoarticolare.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7a"/>
                </a:solidFill>
                <a:latin typeface="Arial"/>
                <a:ea typeface="Arial"/>
              </a:rPr>
              <a:t>Necessità dell’alimentazione nutrizionale biodinamica</a:t>
            </a:r>
            <a:endParaRPr b="0" lang="en-US" sz="40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143000" y="1600200"/>
            <a:ext cx="77724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Chi siamo ?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Il corpo umano è un insieme altamente organizzato di cellule (si stimano circa 200 tipologie di cellule diverse per un totale di circa   100 mila miliardi di cellule)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Ogni cellula è una piccola città: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MUNICIPIO = nucleo della cellula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MURA di CINTA = membrana cellulare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FABBRICA = apparato di Golgi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CENTRALE ELETTRICA = mitocondrio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54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7a"/>
                </a:solidFill>
                <a:latin typeface="Arial"/>
                <a:ea typeface="Arial"/>
              </a:rPr>
              <a:t>Necessità dell’alimentazione nutrizionale biodinamica</a:t>
            </a:r>
            <a:endParaRPr b="0" lang="en-US" sz="40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90720" y="1981080"/>
            <a:ext cx="777240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Ciò che determina la forma del corpo non sono solo le cellule e le loro funzioni, ma è anche lo spazio extracellulare (su base liquida), di cui una larga parte è occupata da una intricata rete di macromolecole che costituisce la matrice extracellulare, Terreno base dei tessuti biologici.</a:t>
            </a:r>
            <a:br>
              <a:rPr sz="2400"/>
            </a:br>
            <a:br>
              <a:rPr sz="2400"/>
            </a:b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La matrice extracellulare gioca un ruolo attivo nella regolazione del comportamento biologico delle cellule e nella specifica specializzazione delle funzioni cellulari.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7a"/>
                </a:solidFill>
                <a:latin typeface="Arial"/>
                <a:ea typeface="Arial"/>
              </a:rPr>
              <a:t>Necessità dell’alimentazione nutrizionale biodinamica</a:t>
            </a:r>
            <a:endParaRPr b="0" lang="en-US" sz="40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71720" y="1915920"/>
            <a:ext cx="7858080" cy="429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I GLICOSAMINOGLICANI (GAGs), principali costituenti chimici della matrice sono lunghe catene polisaccaridiche poco flessibili e fortemente idrofiliche grazie all’alta densità di cariche negative; formano gel capaci di resistere a forti forze compressive che forniscono un supporto meccanico non solo per la migrazione di cellule, ma anche per la rapida diffusione di molecole solubili in acqua.</a:t>
            </a:r>
            <a:br>
              <a:rPr sz="2400"/>
            </a:br>
            <a:br>
              <a:rPr sz="2400"/>
            </a:b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Inoltre la matrice extracellulare è collegata al sistema ghiandolare endocrino tramite piccoli vasi e capillari e al sistema nervoso centrale per mezzo delle terminazioni periferiche nervose vegetative.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54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7a"/>
                </a:solidFill>
                <a:latin typeface="Arial"/>
                <a:ea typeface="Arial"/>
              </a:rPr>
              <a:t>Necessità dell’alimentazione nutrizionale biodinamica</a:t>
            </a:r>
            <a:endParaRPr b="0" lang="en-US" sz="40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71360" y="1699920"/>
            <a:ext cx="778644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54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54"/>
                </a:solidFill>
                <a:latin typeface="Arial"/>
              </a:rPr>
              <a:t>Noi siamo costituiti da un network informatico, perfettamente organizzato di cellule che comunicano tutte fra di loro e matrice extracellulare.</a:t>
            </a:r>
            <a:br>
              <a:rPr sz="2000"/>
            </a:br>
            <a:r>
              <a:rPr b="0" lang="it-IT" sz="2000" spc="-1" strike="noStrike">
                <a:solidFill>
                  <a:srgbClr val="000054"/>
                </a:solidFill>
                <a:latin typeface="Arial"/>
              </a:rPr>
              <a:t>La salute e la malattia dipendono dai giusti rapporti tra le sostante che nutrono e che preparano i milioni di cellule che compongono il nostro corpo e la matrice extracellulare.</a:t>
            </a:r>
            <a:br>
              <a:rPr sz="2000"/>
            </a:br>
            <a:r>
              <a:rPr b="0" lang="it-IT" sz="2000" spc="-1" strike="noStrike">
                <a:solidFill>
                  <a:srgbClr val="000054"/>
                </a:solidFill>
                <a:latin typeface="Arial"/>
              </a:rPr>
              <a:t>Siccome lo scopo dell’organismo è quello di mantenersi vivo, integro, sano ed energetico, occorre che sia le  cellule, sia la matrice extracellulare, siano nei giusti rapporti elettrobiochimici e per rispondere allo scopo l’alimentazione a base di CRUDITA’ e BIODINAMICA, diventa un fattore determinante. </a:t>
            </a:r>
            <a:endParaRPr b="0" lang="en-US" sz="2000" spc="-1" strike="noStrike">
              <a:solidFill>
                <a:srgbClr val="000054"/>
              </a:solidFill>
              <a:latin typeface="Arial"/>
            </a:endParaRPr>
          </a:p>
          <a:p>
            <a:pPr marL="298440" indent="-298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54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7a"/>
                </a:solidFill>
                <a:latin typeface="Arial"/>
                <a:ea typeface="Arial"/>
              </a:rPr>
              <a:t>Necessità dell’alimentazione nutrizionale biodinamica</a:t>
            </a:r>
            <a:endParaRPr b="0" lang="en-US" sz="4000" spc="-1" strike="noStrike">
              <a:solidFill>
                <a:srgbClr val="00007a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214720"/>
            <a:ext cx="83059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I carburanti biologici degli esseri Viventi, sono ben conosciuti e sono: 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000054"/>
                </a:solidFill>
                <a:latin typeface="Arial"/>
              </a:rPr>
              <a:t>OSSIGENO</a:t>
            </a: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  ed </a:t>
            </a:r>
            <a:r>
              <a:rPr b="1" lang="it-IT" sz="2400" spc="-1" strike="noStrike">
                <a:solidFill>
                  <a:srgbClr val="000054"/>
                </a:solidFill>
                <a:latin typeface="Arial"/>
              </a:rPr>
              <a:t>ACQUA</a:t>
            </a:r>
            <a:br>
              <a:rPr sz="2400"/>
            </a:br>
            <a:br>
              <a:rPr sz="2400"/>
            </a:b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oltre agli </a:t>
            </a:r>
            <a:r>
              <a:rPr b="1" lang="it-IT" sz="2400" spc="-1" strike="noStrike">
                <a:solidFill>
                  <a:srgbClr val="000054"/>
                </a:solidFill>
                <a:latin typeface="Arial"/>
              </a:rPr>
              <a:t>ALIMENTI</a:t>
            </a: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:  </a:t>
            </a:r>
            <a:br>
              <a:rPr sz="2400"/>
            </a:b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zuccheri, grassi, proteine, enzimi, minerali, vitamine, amminoacidi, alimenti traccia, che si trovano SOLO nei cibi crudi (frutta, verdure prodotti dell’orto) coltivati su colture agricole </a:t>
            </a:r>
            <a:r>
              <a:rPr b="1" lang="it-IT" sz="2400" spc="-1" strike="noStrike">
                <a:solidFill>
                  <a:srgbClr val="000054"/>
                </a:solidFill>
                <a:latin typeface="Arial"/>
              </a:rPr>
              <a:t>Biodinamiche</a:t>
            </a: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,</a:t>
            </a:r>
            <a:r>
              <a:rPr b="1" lang="it-IT" sz="2400" spc="-1" strike="noStrike">
                <a:solidFill>
                  <a:srgbClr val="000054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54"/>
                </a:solidFill>
                <a:latin typeface="Arial"/>
              </a:rPr>
              <a:t>consumati</a:t>
            </a:r>
            <a:r>
              <a:rPr b="1" lang="it-IT" sz="2400" spc="-1" strike="noStrike">
                <a:solidFill>
                  <a:srgbClr val="000054"/>
                </a:solidFill>
                <a:latin typeface="Arial"/>
              </a:rPr>
              <a:t> CRUDI</a:t>
            </a:r>
            <a:endParaRPr b="0" lang="en-US" sz="2400" spc="-1" strike="noStrike">
              <a:solidFill>
                <a:srgbClr val="000054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31T08:43:04Z</dcterms:created>
  <dc:creator>Archivio e internet</dc:creator>
  <dc:description/>
  <dc:language>en-US</dc:language>
  <cp:lastModifiedBy>G.Paolo</cp:lastModifiedBy>
  <dcterms:modified xsi:type="dcterms:W3CDTF">2012-01-10T15:53:10Z</dcterms:modified>
  <cp:revision>56</cp:revision>
  <dc:subject/>
  <dc:title>MOLECOLE  BUONE  DA PENSARE  E  DA MANGIARE</dc:title>
</cp:coreProperties>
</file>