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C839-8AC2-4576-89AF-2F6F1DA679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BE6-D2B5-4752-8F9F-9FF36C202EE9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9E8-76F1-401E-BC0A-B5FCD62EC1DA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893D-0C86-4D8A-AD4D-E17A24896AF4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68A-0B14-495B-8E07-E562E3F779FB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F3B-B911-4687-A7F8-0E83964A9C4D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2835-BC9E-4883-BFD0-6E4931FBF40E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A15-B6B4-42F2-A859-2D57EEF09A67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76EB-9454-4543-A7F0-C575218AA1C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FC73-6E93-4F56-A154-B5833703073A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87F-EECD-4905-B68C-ED776E375978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F6F-43A8-4024-8595-17F317DCEF16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A00-03A8-4F46-A32F-3672C974851D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DFD-6087-4F58-B997-32FF3D712808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912D-D0E1-40C9-A1FA-CF94DEFDCD39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FB9-57E0-45C0-9344-BD38A65E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610-F89E-43D1-BFF2-29B56C7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210-F3AD-478C-B4C1-1C57EE97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317-6BDF-4026-8BCD-2EA47203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28EF-D284-4015-BE16-94615BE2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79D-244D-44D1-8D07-48759EAD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7F0E-58B7-43CB-81B0-7D38746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F68-CC1A-4C5C-9B7F-ED173EEF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299D-3316-49C5-91B9-22567A5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20D1-F82D-443E-AAA3-C545298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C653-A6F5-4839-91C8-1B629F0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28B-D0E0-4BFB-BDAF-38D697C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A100-449C-49F1-A8F2-6DDF698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5B37-2EE9-4BE0-927B-BDD3789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695-609A-4E93-BFAB-8AF51AF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DEC-5769-45E4-B2BA-FD80EC02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1F9-850F-4CCD-BF9F-D93E9C8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756-4875-4F67-91C7-AD001E52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221-7EE5-4C33-8BE1-80B115B8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2B5-C10F-4960-9F44-65A3074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A34-D617-4AFE-86B1-8000E38C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87E-F86C-4ABF-AB76-2618ED6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67E-485B-4B92-A1FF-53C5FD0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5E2-D13E-4857-9421-06E625F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0EF-725C-41F0-ADBF-6CA369F1B351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F3C-BDA7-4E4E-B879-46B18B958795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MOLECOLE e SOSTANZE  BUONE da PENSARE e da MANGIARE….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….quindi cio’ determina la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Biodinamica</a:t>
            </a: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CRUDA</a:t>
            </a:r>
            <a:endParaRPr b="0" lang="en-US" sz="36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1640" y="4928760"/>
            <a:ext cx="7202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r. G. Paolo Vanoli - Giornalista, Consulente in Scienza della Nutrizione e Medicine Biologico Naturali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webmaster di: </a:t>
            </a:r>
            <a:r>
              <a:rPr b="0" lang="it-IT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ednat.org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00080" y="144792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nutrienti, sono le sostanze fondamentali che milioni di cellule del nostro organismo necessitano continuamente per vivere e funzionare in modo ottimale, essi si dividono in:</a:t>
            </a:r>
            <a:br>
              <a:rPr sz="2400"/>
            </a:b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cronutrienti (proteine, grassi, carboidrati) che rappresentano i mattoni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icronutrienti (enzimi, vitamine, minerali, aminoacidi, elementi traccia) che sono l’accensione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0080" y="17859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nostro corpo non necessita tanto di singole vitamine o micronutrienti assunti in abbondanti dosi, ma piuttosto di combinazioni di nutrienti che agiscono in maniera sinergica e che con una quantità minima consentano di ottenere il massimo vantaggio per il network biologico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o cio’ si ottie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SOL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alimentandosi con cib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(frutta e verdure e prodotti dell’orto)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ENERGIA corporea ottimale, si ottiene solo sommando tutti questi cofatto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447920"/>
            <a:ext cx="82296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tabella ci fa notare come la DEFICIENZA di VITAMINE e MINERALI e di altri NUTRIENTI ESSENZIALI, portatori di energia,  GENERANO SEGNALI di ALLARME nell’ORGANISMO, 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in modo NON facilmente riconoscibil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571920"/>
          <a:ext cx="7000920" cy="3143160"/>
        </p:xfrm>
        <a:graphic>
          <a:graphicData uri="http://schemas.openxmlformats.org/drawingml/2006/table">
            <a:tbl>
              <a:tblPr/>
              <a:tblGrid>
                <a:gridCol w="2333520"/>
                <a:gridCol w="2333880"/>
                <a:gridCol w="2333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LEMENTI VITALI CAREN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GNALI DI ALLAR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EMPI DI DECESS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Ossigen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ffocament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inu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e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Giorn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limenti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Fa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tima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o Assenza di vitami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esi (es. scorbu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di Enzim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ni (es. infar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85960"/>
            <a:ext cx="7696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maggior parte di noi soffre di una </a:t>
            </a:r>
            <a:r>
              <a:rPr b="1" lang="it-IT" sz="2000" spc="-1" strike="noStrike">
                <a:solidFill>
                  <a:srgbClr val="000054"/>
                </a:solidFill>
                <a:latin typeface="Arial"/>
              </a:rPr>
              <a:t>deficienza cronica 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 vitamine, minerali, ed altri nutrienti essenziali senza immediati segnali di avvertimento. Perché questa deficienza cronica ?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emozionale per conflitti Spirituali irrisol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da Intossicazione, da Traumi fisici ed Infiammazioni consegu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minuzione dell’ossigeno disponibile nell’atmosfera e nell’organismo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Alimentazione scorretta, priva di prodotti nobili crudi (frutta e verdure, crude al 70% come minimo)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Terreni agricoli (privi di agricoltura biodinamica) impoveriti dei nutrienti essenziali con l’agricoltura chimica, producono prodotti scad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Mancanza di esercizio fisico sufficiente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557000"/>
            <a:ext cx="7772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 quanti di noi percepiscono uno stato di non completo benessere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MOLTI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e’ il segnale principale della perdita dei giusti rapporti nutrizionali delle cellule nel nostro corpo (sintomi: calo di energia, abbassamento del tono dell’umore, difficoltà a dormire, irritazione eccessiva, mancanza di concentrazione, perdita di memoria, dolorini che girano, stanchezza, stipsi, febbri, malesseri generalizzati, ecc., oltre alle malattie piu’ “pesanti” se si trascurano i primi segnali dei vari malesseri…mal di testa, mal di schiena, ecc.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360" y="1676160"/>
            <a:ext cx="778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ciò, dal momento che il nostro corpo facilmente e spesso non ci dà alcun segnale di allarme, il miglior modo in cui possiamo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EVITARE DEFICIENZE dell’ENERGIA CELLULARE e’ una OTTIMALE ALIMENTAZIONE GIORNALIERA per mezzo di CIB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BIODINAMIC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, mangiat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erte volte l’integrazione anche con supplementi alimentari, diventa fondamentale per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Perdita del valore nutritivo degli aliment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Fabbisogno elevato in: anziani, adulti, sportivi, donne in gravidanza, donne che allattano, malati, bambin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9998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tipo di Alimentazio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STA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diventa fondamentale perche’ vi e’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dita del valore nutritivo degli alimenti coltivati su colture chimiche industrial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 particolar modo la perdita e/o mancanza di enzimi specializzati della frutta e prodotti dell’or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isogno elevato in: anziani, adulti, sportivi, donne in gravidanza, donne che allattano, malati, bambini ecc.  - By dr. G. Paolo Vanoli - 1985</a:t>
            </a:r>
            <a:br>
              <a:rPr sz="24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42892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Quanto ci conosciamo per pensare che abbiamo bisogno di una integrazione nutrizionale con alimenti sufficientemente adatti allo scopo ?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Solo l’agricoltura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Biodinamica</a:t>
            </a: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e’ in grado di sopperire a queste carenze purche’ i cibi consumati, siano assunti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CRUDI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28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I hanno l’esigenza di ottimizzare l’alimentazione quotidiana in modo da avere energia supplementare per la vita intensa che conduciamo nell’era “moderna”, come anche i nutrienti necessari quali enzimi, minerali, vitamine, per i processi di costruzione e riparazione dei corp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alimentazione per un miglior rendimento riguarda ciò che si mangia. Ogni giorno bisogna mangiare una varietà di alimenti che forniscano i nutrienti essenziali e l’energia necessaria per espletare le normali attività quotidiane.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urtroppo la tipica alimentazione occidentale comprende quantità eccessive di grassi saturi ed un’eccessiva percentuale di zuccheri semplici. Dobbiamo quindi cercare di aumentare l’assunzione di acidi grassi “buoni”, e diminuire al contempo il consumo di alimenti trattati industrialmente che risultano ricchi di zucchero e poveri di nutrienti essenzial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oidrati, i grassi e le proteine ci forniscono energia per svolgere le nostre attività quotidiane e per le funzioni di conservazione e di ricostruzione del tessuto muscolare oltre che al nostro sistema osteoartico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16002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hi siamo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corpo umano è un insieme altamente organizzato di cellule (si stimano circa 200 tipologie di cellule diverse per un totale di circa   100 mila miliardi di cellule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gni cellula è una piccola città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NICIPIO = nucleo della cellula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RA di CINTA = membrana cellula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RICA = apparato di Golg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ENTRALE ELETTRICA = mitocondri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iò che determina la forma del corpo non sono solo le cellule e le loro funzioni, ma è anche lo spazio extracellulare (su base liquida), di cui una larga parte è occupata da una intricata rete di macromolecole che costituisce la matrice extracellulare, Terreno base dei tessuti biologici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a matrice extracellulare gioca un ruolo attivo nella regolazione del comportamento biologico delle cellule e nella specifica specializzazione delle funzioni cellula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1720" y="191592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GLICOSAMINOGLICANI (GAGs), principali costituenti chimici della matrice sono lunghe catene polisaccaridiche poco flessibili e fortemente idrofiliche grazie all’alta densità di cariche negative; formano gel capaci di resistere a forti forze compressive che forniscono un supporto meccanico non solo per la migrazione di cellule, ma anche per la rapida diffusione di molecole solubili in acqu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oltre la matrice extracellulare è collegata al sistema ghiandolare endocrino tramite piccoli vasi e capillari e al sistema nervoso centrale per mezzo delle terminazioni periferiche nervose vegetativ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1699920"/>
            <a:ext cx="778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Noi siamo costituiti da un network informatico, perfettamente organizzato di cellule che comunicano tutte fra di loro e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salute e la malattia dipendono dai giusti rapporti tra le sostante che nutrono e che preparano i milioni di cellule che compongono il nostro corpo e la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iccome lo scopo dell’organismo è quello di mantenersi vivo, integro, sano ed energetico, occorre che sia le  cellule, sia la matrice extracellulare, siano nei giusti rapporti elettrobiochimici e per rispondere allo scopo l’alimentazione a base di CRUDITA’ e BIODINAMICA, diventa un fattore determinante.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214720"/>
            <a:ext cx="8305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uranti biologici degli esseri Viventi, sono ben conosciuti e sono: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OSSIGEN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 ed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CQUA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ltre agl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LIMENT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:  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zuccheri, grassi, proteine, enzimi, minerali, vitamine, amminoacidi, alimenti traccia, che si trovano SOLO nei cibi crudi (frutta, verdure prodotti dell’orto) coltivati su colture agricol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Biodinamiche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onsumati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CRUD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3:04Z</dcterms:created>
  <dc:creator>Archivio e internet</dc:creator>
  <dc:description/>
  <dc:language>en-US</dc:language>
  <cp:lastModifiedBy>G.Paolo</cp:lastModifiedBy>
  <dcterms:modified xsi:type="dcterms:W3CDTF">2012-01-10T15:53:10Z</dcterms:modified>
  <cp:revision>56</cp:revision>
  <dc:subject/>
  <dc:title>MOLECOLE  BUONE  DA PENSARE  E  DA MANGIARE</dc:title>
</cp:coreProperties>
</file>