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3.jpeg" ContentType="image/jpeg"/>
  <Override PartName="/ppt/media/Zamfir%20&amp;%20Dana%20Dragomir%20Everything%20I%20do%20Partial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1EB-4BB6-4534-BD98-989DF4D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859-3561-48D2-A4E5-1AAC24FB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0E0-95D9-4219-97BD-B0DB8969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DBB-D1E0-4BC2-B084-BE54C8CE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005-F9AA-443B-9FD5-965F3F2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55D-07A9-4454-972A-C84597FC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713-257A-4B44-BE2D-1B48C4B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18B-3A17-440A-96EA-5552283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1FB-E189-4B49-8318-AEE551B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497-1B40-4163-B840-3CB5C0C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DD9-A3C8-4433-879B-4AF87BB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5AD-F419-4267-9098-E5EB057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B15-CB73-422A-97D0-F8A058F59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mfir%20&amp;%20Dana%20Dragomir%20Everything%20I%20do%20Partia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907920"/>
            <a:ext cx="5334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Gli animali ci assomigliano molto a volte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  <p:sndAc>
      <p:stSnd>
        <p:snd r:embed="rId1" name="Zamfir%20&amp;%20Dana%20Dragomir%20Everything%20I%20do%20Parti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vete sorriso oggi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E’ facile.. Dovete solo alzare gli angoli della bocca verso l’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43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a ve lo mos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1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565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722840" cy="5904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682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Ora , non vi resta che proseguire e far   SORRIDERE qualcun altro.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E solo nel caso in cui nessuno vi abbia ancora fatto un sorriso ogg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9757"/>
            </a:gs>
            <a:gs pos="100000">
              <a:srgbClr val="3f69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151600" cy="594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98760" y="692280"/>
            <a:ext cx="437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ff99"/>
                </a:solidFill>
                <a:latin typeface="Gill Sans Ultra Bold"/>
              </a:rPr>
              <a:t>BUONA GIORNATA</a:t>
            </a:r>
            <a:r>
              <a:rPr b="0" i="1" lang="fr-CA" sz="4000" spc="-1" strike="noStrike">
                <a:solidFill>
                  <a:srgbClr val="ffff99"/>
                </a:solidFill>
                <a:latin typeface="Gill Sans Ultra Bold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3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6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9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-380880" y="0"/>
            <a:ext cx="9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Non hai capito che ti ho detto di chiudere la boc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Tutti hanno bisogno di sentirsi sicu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85400"/>
                </a:solidFill>
                <a:latin typeface="Times New Roman"/>
                <a:ea typeface="Arial Unicode MS"/>
              </a:rPr>
              <a:t>Non ho potuto fare altrimenti, Mamma, il primo passo non è facil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-1317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Eccoci, e ora come faccio???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11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E’ qui da qualche parte, ne sono sicur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sogna proprio che mi muova, ma non sono  moti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52280" y="0"/>
            <a:ext cx="937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Lo dicevo… sono talmente grosso che faccio fatica a grattarmi la schiena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914400"/>
            <a:ext cx="266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Queste maledette passegg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al mattino mi distrugg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9:05:24Z</dcterms:created>
  <dc:creator/>
  <dc:description/>
  <dc:language>en-US</dc:language>
  <cp:lastModifiedBy>xxx</cp:lastModifiedBy>
  <dcterms:modified xsi:type="dcterms:W3CDTF">2006-05-16T09:47:30Z</dcterms:modified>
  <cp:revision>40</cp:revision>
  <dc:subject/>
  <dc:title/>
</cp:coreProperties>
</file>