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gif" ContentType="image/gif"/>
  <Override PartName="/ppt/media/image13.jpeg" ContentType="image/jpeg"/>
  <Override PartName="/ppt/media/Zamfir%20&amp;%20Dana%20Dragomir%20Everything%20I%20do%20Partial.wav" ContentType="audio/x-wav"/>
  <Override PartName="/ppt/media/image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E8C2-FADE-4F52-BFEF-69B30432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D7E-D2E8-4750-986E-5A1CEFA9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475B-986D-416F-8C0B-4539D0817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3D1-F02D-4CF2-A4FD-E943D66F0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55E7-FD3A-4D30-A508-9AA1F898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5A84-25E0-4C8C-A8F0-0FB9699C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0170-6E01-4755-9603-46F26CEE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B1F-49C2-4F50-8EB1-870FDE42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9A3-8702-42B1-8F7D-D36293A6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033-0DA4-4361-BB78-68A8B42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7F1-B075-476F-A30A-1FD96D03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6FCB-6ACD-4697-89E0-A5A9A07C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61DB-F7B3-4B7C-9ED1-2ADD089A5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Zamfir%20&amp;%20Dana%20Dragomir%20Everything%20I%20do%20Partial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907920"/>
            <a:ext cx="53341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Gli animali ci assomigliano molto a volte..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  <p:sndAc>
      <p:stSnd>
        <p:snd r:embed="rId1" name="Zamfir%20&amp;%20Dana%20Dragomir%20Everything%20I%20do%20Partial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Avete sorriso oggi??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90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E’ facile.. Dovete solo alzare gli angoli della bocca verso l’al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343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Ora ve lo most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dissolv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1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565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722840" cy="590400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26828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Times New Roman"/>
                <a:ea typeface="Arial Unicode MS"/>
              </a:rPr>
              <a:t>Ora , non vi resta che proseguire e far   SORRIDERE qualcun altro.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99"/>
                </a:solidFill>
                <a:latin typeface="Times New Roman"/>
                <a:ea typeface="Arial Unicode MS"/>
              </a:rPr>
              <a:t>E solo nel caso in cui nessuno vi abbia ancora fatto un sorriso oggi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09757"/>
            </a:gs>
            <a:gs pos="100000">
              <a:srgbClr val="3f69a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5151600" cy="59436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98760" y="692280"/>
            <a:ext cx="437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4000" spc="-1" strike="noStrike">
                <a:solidFill>
                  <a:srgbClr val="ffff99"/>
                </a:solidFill>
                <a:latin typeface="Gill Sans Ultra Bold"/>
              </a:rPr>
              <a:t>BUONA GIORNATA</a:t>
            </a:r>
            <a:r>
              <a:rPr b="0" i="1" lang="fr-CA" sz="4000" spc="-1" strike="noStrike">
                <a:solidFill>
                  <a:srgbClr val="ffff99"/>
                </a:solidFill>
                <a:latin typeface="Gill Sans Ultra Bold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7000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0240" y="1447920"/>
            <a:ext cx="9144000" cy="3963600"/>
            <a:chOff x="30240" y="1447920"/>
            <a:chExt cx="9144000" cy="3963600"/>
          </a:xfrm>
        </p:grpSpPr>
        <p:sp>
          <p:nvSpPr>
            <p:cNvPr id="43" name=""/>
            <p:cNvSpPr/>
            <p:nvPr/>
          </p:nvSpPr>
          <p:spPr>
            <a:xfrm>
              <a:off x="30240" y="1447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240" y="1456920"/>
              <a:ext cx="336600" cy="39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0240" y="1447920"/>
            <a:ext cx="9144000" cy="3963600"/>
            <a:chOff x="30240" y="1447920"/>
            <a:chExt cx="9144000" cy="3963600"/>
          </a:xfrm>
        </p:grpSpPr>
        <p:sp>
          <p:nvSpPr>
            <p:cNvPr id="46" name=""/>
            <p:cNvSpPr/>
            <p:nvPr/>
          </p:nvSpPr>
          <p:spPr>
            <a:xfrm>
              <a:off x="30240" y="1447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240" y="1456920"/>
              <a:ext cx="336600" cy="39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30240" y="1447920"/>
            <a:ext cx="9144000" cy="3963600"/>
            <a:chOff x="30240" y="1447920"/>
            <a:chExt cx="9144000" cy="3963600"/>
          </a:xfrm>
        </p:grpSpPr>
        <p:sp>
          <p:nvSpPr>
            <p:cNvPr id="49" name=""/>
            <p:cNvSpPr/>
            <p:nvPr/>
          </p:nvSpPr>
          <p:spPr>
            <a:xfrm>
              <a:off x="30240" y="1447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240" y="1456920"/>
              <a:ext cx="336600" cy="395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-380880" y="0"/>
            <a:ext cx="98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7"/>
                </a:solidFill>
                <a:latin typeface="Times New Roman"/>
                <a:ea typeface="Arial Unicode MS"/>
              </a:rPr>
              <a:t>Non hai capito che ti ho detto di chiudere la boc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e7"/>
                </a:solidFill>
                <a:latin typeface="Times New Roman"/>
                <a:ea typeface="Arial Unicode MS"/>
              </a:rPr>
              <a:t>Tutti hanno bisogno di sentirsi sicur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85400"/>
                </a:solidFill>
                <a:latin typeface="Times New Roman"/>
                <a:ea typeface="Arial Unicode MS"/>
              </a:rPr>
              <a:t>Non ho potuto fare altrimenti, Mamma, il primo passo non è facil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7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-1317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99"/>
                </a:solidFill>
                <a:latin typeface="Times New Roman"/>
                <a:ea typeface="Arial Unicode MS"/>
              </a:rPr>
              <a:t>Eccoci, e ora come faccio???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75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111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e7"/>
                </a:solidFill>
                <a:latin typeface="Times New Roman"/>
                <a:ea typeface="Arial Unicode MS"/>
              </a:rPr>
              <a:t>E’ qui da qualche parte, ne sono sicuro!!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7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isogna proprio che mi muova, ma non sono  motiv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dissolv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7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52280" y="0"/>
            <a:ext cx="9372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e7"/>
                </a:solidFill>
                <a:latin typeface="Times New Roman"/>
                <a:ea typeface="Arial Unicode MS"/>
              </a:rPr>
              <a:t>Lo dicevo… sono talmente grosso che faccio fatica a grattarmi la schiena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8000">
    <p:dissolv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513396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252360" y="914400"/>
            <a:ext cx="26636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Queste maledette passegg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Arial Unicode MS"/>
              </a:rPr>
              <a:t>al mattino mi distrugg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1T19:05:24Z</dcterms:created>
  <dc:creator/>
  <dc:description/>
  <dc:language>en-US</dc:language>
  <cp:lastModifiedBy>xxx</cp:lastModifiedBy>
  <dcterms:modified xsi:type="dcterms:W3CDTF">2006-05-16T09:47:30Z</dcterms:modified>
  <cp:revision>40</cp:revision>
  <dc:subject/>
  <dc:title/>
</cp:coreProperties>
</file>