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547-5F27-4342-9DC5-2B691AB5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3F4-092B-4E7B-8062-1EF6A69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A27-3E01-46C1-840E-78110A4F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FD3-43FF-48D5-8D91-0B5F2C73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72E0-0990-4FEC-87B6-D55EEAAD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E4A-B201-41EB-A055-AA9965A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CA4-C02E-47F3-A6CC-D6126AFF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EB2-E47A-4E58-A004-371E597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4EA8-ADF4-48EE-AE99-15F98750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08B8-41E2-4563-8D69-2478144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AD7D-9D43-48B1-9BFC-AD38336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C14-C6C7-4322-859A-AC39D84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D3CA-CE65-424B-9FB8-18B0FB2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8FDA-1899-4427-82B1-46FBF9B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BB9E-0E04-4AC7-8F25-3823B77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097-FF8C-463B-BE4C-0A4847ED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FF3-E256-4ACB-8D8C-B0173767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8E4-A22C-4CC2-B448-45648C24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2B5-71DD-4928-B0DD-253258E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30A-FC9D-4DF3-A300-5FA7A641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FE8-6044-4A77-A46C-5557D7DA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3B7-25ED-4402-A1DB-4318859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FAF-D19B-441F-8F75-1798E5F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4C7-5245-4F35-BDCA-18746E0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471-639C-4669-931A-79F7D1FA72A0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3E50-0650-450A-B3C2-D8806158F593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17A-35CE-4F23-83C3-B5656DF73E9F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20E-B553-41BD-BD06-B9D4E0C50D0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nat.org/malattie_passato.htm" TargetMode="External"/><Relationship Id="rId2" Type="http://schemas.openxmlformats.org/officeDocument/2006/relationships/hyperlink" Target="http://www.mednat.org/filosofia/morte_cosasei.htm" TargetMode="External"/><Relationship Id="rId3" Type="http://schemas.openxmlformats.org/officeDocument/2006/relationships/hyperlink" Target="http://www.mednat.org/cure_natur/DNA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nat.org/medicina_allopatica.htm" TargetMode="External"/><Relationship Id="rId2" Type="http://schemas.openxmlformats.org/officeDocument/2006/relationships/hyperlink" Target="http://www.mednat.org/pericolo_farmaci.htm" TargetMode="External"/><Relationship Id="rId3" Type="http://schemas.openxmlformats.org/officeDocument/2006/relationships/hyperlink" Target="http://www.mednat.org/pericolo_farmaci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nat.org/cure_natur/nozione_terreno.htm" TargetMode="External"/><Relationship Id="rId2" Type="http://schemas.openxmlformats.org/officeDocument/2006/relationships/hyperlink" Target="http://www.mednat.org/ecologia/ecologia_base.htm" TargetMode="External"/><Relationship Id="rId3" Type="http://schemas.openxmlformats.org/officeDocument/2006/relationships/hyperlink" Target="http://www.mednat.org/alimentazione/alimentaz_base.htm" TargetMode="External"/><Relationship Id="rId4" Type="http://schemas.openxmlformats.org/officeDocument/2006/relationships/hyperlink" Target="http://www.mednat.org/medicinaturale2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nat.org/spirito/conflitti_spirituali.htm" TargetMode="External"/><Relationship Id="rId2" Type="http://schemas.openxmlformats.org/officeDocument/2006/relationships/hyperlink" Target="http://www.abc-transports.com/bamico.html" TargetMode="External"/><Relationship Id="rId3" Type="http://schemas.openxmlformats.org/officeDocument/2006/relationships/hyperlink" Target="http://www.mednat.org/spirito/spirito_base.htm" TargetMode="External"/><Relationship Id="rId4" Type="http://schemas.openxmlformats.org/officeDocument/2006/relationships/hyperlink" Target="http://www.abc-transports.com/bamico.html" TargetMode="External"/><Relationship Id="rId5" Type="http://schemas.openxmlformats.org/officeDocument/2006/relationships/hyperlink" Target="http://www.mednat.org/cure_natur/tecniche/naturismo.html" TargetMode="External"/><Relationship Id="rId6" Type="http://schemas.openxmlformats.org/officeDocument/2006/relationships/hyperlink" Target="http://www.mednat.org/cure_natur/cure_nat_base.htm" TargetMode="External"/><Relationship Id="rId7" Type="http://schemas.openxmlformats.org/officeDocument/2006/relationships/hyperlink" Target="http://www.mednat.org/medicina_allopatica.ht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6B69-94BE-4AB8-AB78-02D539F2F96B}" type="datetime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cc33"/>
                </a:solidFill>
                <a:latin typeface="Verdana"/>
              </a:rPr>
              <a:t>MEDICINA NATURALE</a:t>
            </a:r>
            <a:br>
              <a:rPr sz="4800"/>
            </a:br>
            <a:r>
              <a:rPr b="1" lang="it-IT" sz="4800" spc="-1" strike="noStrike">
                <a:solidFill>
                  <a:srgbClr val="33cc33"/>
                </a:solidFill>
                <a:latin typeface="Verdana"/>
              </a:rPr>
              <a:t>ALTERNATIVA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33"/>
                </a:solidFill>
                <a:latin typeface="Verdana"/>
              </a:rPr>
              <a:t>Madre di tutte le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è l’unica Medicina a misura d’uomo, NON invasiva e risolutiva per ogni malattia, dal raffreddore al Canc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esentazione del dr. G. Paolo Vanoli, Giornalista (Albo speciale), Consulente in Scienza della Nutrizione 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dicine Biologico Naturali (Ph.D. USA) 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ebmaster di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www.mednat.org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D440-F746-46BC-BFB8-122CE32A3D51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 Naturale, Alternativ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insegna ad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pplicar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correttamente le Regole Fondamentali per mantenere la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erfetta Salute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nel suo insieme; questa metodologia implica una corrispettiva impostazione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tic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comportamenti di Vita personali e sociali sempre più Perfet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è pertanto in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rimis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una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cina Educativ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perché richiede l'applicazione personale della propria volontà in ogni situazione di malEssere (essere nel male) per ricercare, trovare e risolvere le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er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Caus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cioè l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rasgression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alle Leggi del Cre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La DITTATURA SANITARIA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lla medicina uffici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"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Se non mettiamo la </a:t>
            </a:r>
            <a:r>
              <a:rPr b="1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Libertà delle Cure mediche</a:t>
            </a:r>
            <a:r>
              <a:rPr b="0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nella Costituzione,  verrà il tempo in cui la medicina si organizzerà, piano piano e  senza farsene accorgere, in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una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Dittatura </a:t>
            </a:r>
            <a:r>
              <a:rPr b="1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nascost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. E il tentativo di limitare l'arte della medicina solo ad una classe di persone, e la negazione di uguali privilegi alle altre “arti”, rappresenterà la Bastiglia della scienza med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". </a:t>
            </a:r>
            <a:br>
              <a:rPr sz="2000"/>
            </a:br>
            <a:r>
              <a:rPr b="0" lang="it-IT" sz="1600" spc="-1" strike="noStrike">
                <a:solidFill>
                  <a:srgbClr val="ffe0a3"/>
                </a:solidFill>
                <a:latin typeface="Verdana"/>
                <a:ea typeface="Verdana"/>
              </a:rPr>
              <a:t>(By Benjamin Rush, firmatario  della Dichiarazione  d'Indipendenza USA - 17 Sett 1787)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vedi: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Rapporto Flexner e Dichiarazione di Alma 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+ Sindacato Rockefeller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4D5-7CB8-4B69-94E6-6D745C05140C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La DITTATURA SANITARIA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lla medicina imperan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dittatori nascost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(clandestini) della medicina ufficiale, d’altra parte li conosciamo molto bene…..; che vestano gli abiti dei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ricercato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,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bar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o degli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scienzia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, che s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mimetizz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lle “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obbies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ccademiche” od operino nelle multinazionali del farmaci, sono loro quelli che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cont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e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govern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la medicina ufficiale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Alle menti aperte e liberali il compito di reagire a questa marea montante di intolleranza anti-scientifica, prima che questi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nuovi tiran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rrivino ad insegnarci perfino</a:t>
            </a: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cosa e’ giusto e non e’ giusto pens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…!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220 anni dop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questa situazione d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dittatura sanitaria si e' realizzata 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TU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caro lettore cosa fa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per contrastarla</a:t>
            </a: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131-5A45-426B-9895-E440C29044A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Codice Deontologico </a:t>
            </a:r>
            <a:br>
              <a:rPr sz="4400"/>
            </a:br>
            <a:r>
              <a:rPr b="1" lang="it-IT" sz="2800" spc="-1" strike="noStrike">
                <a:solidFill>
                  <a:srgbClr val="ff0066"/>
                </a:solidFill>
                <a:latin typeface="Verdana"/>
              </a:rPr>
              <a:t>della</a:t>
            </a: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 Medicina Naturale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</a:rPr>
              <a:t>- 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I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Princip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he regolano il codice deontologico del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Naturopa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sono basati su antichi ma mai superati principi pratici teorici :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1 - </a:t>
            </a:r>
            <a:r>
              <a:rPr b="1" i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Vis medicatrix natura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: La natura porta con sé il potere della guarigione. Il naturopata incentiva e sostiene la forza vitale che è racchiusa nell'uomo e nella natura: la guarigione deriva dalla rimozione delle cause che impediscono la guarigione, piuttosto che la soppressione dei sintomi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2 - </a:t>
            </a:r>
            <a:r>
              <a:rPr b="1" i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Tolle causam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: il compito primario del naturopata è l' identificazione ed il trattamento dell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caus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he portano ad u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squilibri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nelle condizioni di salute della pers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19D-1577-45E6-B20C-3C12115E092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ttangolo 5"/>
          <p:cNvSpPr/>
          <p:nvPr/>
        </p:nvSpPr>
        <p:spPr>
          <a:xfrm>
            <a:off x="1071720" y="207180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Codice Deontologico </a:t>
            </a:r>
            <a:br>
              <a:rPr sz="4400"/>
            </a:br>
            <a:r>
              <a:rPr b="1" lang="it-IT" sz="2800" spc="-1" strike="noStrike">
                <a:solidFill>
                  <a:srgbClr val="ff0066"/>
                </a:solidFill>
                <a:latin typeface="Verdana"/>
              </a:rPr>
              <a:t>della</a:t>
            </a: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 Medicina Naturale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</a:rPr>
              <a:t>- 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3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imum non noce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si utilizzano tecniche e metodi che annullano o minimizzano il rischio di effetti collaterali. Il principio è l'utilizzo della forza minima necessaria per trattare le disfunzioni di energetich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4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Autoresponsabilizz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i confronti dello stile di vita che il soggetto conduce. L'educazione alla salute è alla base del benessere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5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Terapie Olist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vengono presi in considerazione i fattori fisici, emozionali, spirituali, ereditari, igienici alimentari e lavorativi oltreché ambientali e sociali, impostando un intervento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glob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in senso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olist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6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even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il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Terreno costituzio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la struttura bioenergetica, la diatesi biologica sono prioritarie nell'accertamento de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7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Fattori di Risch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Intervenendo in modo tale insegnando al soggetto come prevenirli ed evitar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FE6C-3623-4726-946E-E2B7C2A12EA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77E-A21F-493F-8779-1613B85FCDF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IRITTI e DOVERI 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i CITTADINI….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a parte del singolo cittadino vi deve essere quindi il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IRITTO -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OVE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ad imparare, cioè ad educarsi in materia di Salute e Prevenzione della stessa per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gesti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la propria Salute e quelle dei propri famigli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a parte delle strutture dello Stato (Sanitarie e Scolastiche), il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OVE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di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garantirn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l'insegna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Tutto cio’ farebbe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risparmia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allo Stato: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miliardi di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uros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1CA7-0E92-4D97-8E1B-36C1C484B2C7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Corso di Alimentazione e Nutrizione, secondo i principi della Medicina Naturale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l Corso prevede 2 Sabati e Domeniche,  intervallati da 30 gior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alle ore 10 del mattino alle 13 e nel pomeriggio dalle 14.30 alle 17.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esso: (indicare luog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ezzo a studente (da stabilire in funzione della quantita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Verdana"/>
              </a:rPr>
              <a:t>Definizione della parola MALATT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Malat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’ una condizione in cui sono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altera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la 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s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quindi la sua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form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l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fi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la struttura o la funzione di un organismo o di una sua parte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Essa e' quindi una malatti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ULTIFUNZIONALE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=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ULTIFATTORI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malat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è anche un "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process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evolutiv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che porta SEMPRE 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Consapevolez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" che può giungere all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guarig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oppure cronicizzarsi o condurre 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mor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alattia quindi e’ UNA SOLA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con tendent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infini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sintom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diversi da soggetto a soggetto !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Essa segue il percorso: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sicoNeuroGastroIntestinalEndocrinoImmunolog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deprimendo quindi le difese di reazione immunitarie naturali.. Inoltre la malattia qualsiasi essa sia, si trasmette facilmente attraverso il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DN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lle future generazioni, divenendo sempre più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ecoc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ericolos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virulent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39F2-5922-49FD-A65F-11A4C04A12C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6A0-6313-4C90-9E2E-31603B7B06E0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Introduzione alla </a:t>
            </a:r>
            <a:r>
              <a:rPr b="1" lang="it-IT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MEDICINA BIOLOGICO, NATURALE, ALTERNATIVA</a:t>
            </a: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 è la Scienza che procede indagando sulle Vere cause che provocano le malattie, cercando di risolverle nel miglior ed unico modo possibile e cioè, rimuovendo tutte le cause ri-trovate,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senza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ricorrere se possibile ad interventi cruenti o tossico/nociv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per gli stati fisiologici e psichici generali, seguendo procedure che siano in sintonia con le "Leggi Cosmiche Naturali”.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La medicina occidentale (detta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allopa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) al contrario con un approccio riduzionista isola le parti malate e cura il </a:t>
            </a:r>
            <a:r>
              <a:rPr b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sintom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on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ontenenti principi attivi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sinte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(cioe’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toss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Mentre l'approccio con le Medicine  Naturali Tradizionali e' olistico, la diagnosi e' totale e grande attenzione e' riservata all'ambiente (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corpore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d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ester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), all'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aliment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d all'utilizzo di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rimed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on di sintesi chimica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4"/>
              </a:rPr>
              <a:t>Medicina Natu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tende a rimuovere il od i sintomi eliminandone le cause prime, con varie terapie basate su tecniche appropriate, le sole che si basano sulla concezione della Salute come lo stato di ordine, e cura ogni disordine patologico con “medicine-rimedi” di tre categorie (vegetale, animale, minerale) per determinare l’ordine e l’equilibrio con il temperamento individuale, ma e soprattutto con l’Alimentazione appropriata (crudista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72C-135D-413B-BF3E-F2270D0D1C3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3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cura della propria guarigione consiste fondamentalmente in una trasmutazione-trasformazion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psico/ment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raggiunta con l’opportuna informazione fornita dalle Leggi della Medicina Naturale. Essa e' quindi tutta impostata per ottenere e mantenere il massim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Benesse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P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–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4"/>
              </a:rPr>
              <a:t>fisic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Salute la si riprende solo con la liberazione psichica e la Medicina Naturale tende, infatti, attraverso il sacrificio dell’applicazione della volonta’, a restituire l'individuo alla primordiale identita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5"/>
              </a:rPr>
              <a:t>Naturopa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le cosiddette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6"/>
              </a:rPr>
              <a:t>Tecniche Naturopat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" sono oggi qualificate come Medicine Complementari nel rispetto del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7"/>
              </a:rPr>
              <a:t>Medicina Allopat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A5C-57D6-4A0C-A1DE-CE3044BFFC68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4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'interesse per questa antichissima disciplina, si sta diffondendo sempre di più in tutta Europa e nel Mondo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aesi come la Germania la Spagna e Portogallo la Grecia e la Svezia già da decenni considerano il 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Naturopat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professionista il cui fine primario è prevenire l'insorgenza di forme patologiche ed è specializzato nel mantenere lo stato di benessere dell'uomo, insegnando al malato le Leggi della Natura e consigliandolo nel suo divenire verso la Salute Perfetta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er l’individuo divenire consapevole sul come mantenere la propria salute e’ ormai divenuta una soluzione IMPORTANTE anche per limitare le spese sanitarie dello St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19F-6174-42C1-82EA-88B0637328A5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C8B-37D9-4F26-9F26-9D6899A3BFC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Si tratta dell'applicazione, attraverso……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ducazione alla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Times New Roman"/>
              </a:rPr>
              <a:t>Salute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(Alimentare e Nutrizional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ocedimenti fisici e psicologic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Times New Roman"/>
              </a:rPr>
              <a:t>Alimentazione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Biodinamica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ed impiego di sostanze naturali ed atossiche, atte a ripristinare le "alterazioni" PsicoFisiche e 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intossicazioni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intervenute nello stato di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alatt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Utilizzo di particolari Tecniche della Medicina Natu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er mantenere la Perfetta Salute occorre rispettare delle rego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Fondamentali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che si possono sintetizzare nel saper controllare il corpo in modo che sia mantenuto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il più possibile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ulit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, non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ntossicat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, con un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H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fisiologico verso il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neutr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o leggermente Basico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, ciò per star bene e vivere il più possibile nel benEssere (essere nel Bene).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67D-8AAA-4991-881F-F3E7788E4E8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Per rimanere in quei limiti 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occorre che….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120" y="221472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…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i si alimenti con diete idriche di acque adatte a pH &gt; 7,3 e con pasti preparati con cibi integrali biodinamici il piu’ possibile CRUDI (dieta Crudista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- praticando ginnastiche o movimento all'aria aperta e con la pelle in contatto con il sole e l'aria, riposando adeguatamente, respirando bene e profondamente, cercando di non crearsi degli inutili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 oltre a quelli che la vita stessa propone, arrivando a pensare in positivo il più possibile in modo da digerire bene anche tutte le asperità della vita…….e…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9FD-C984-460A-8DBA-D692345A13FA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Fare all'Amore spesso e bene con il proprio partn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……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tare, riflettere, pregare, ascoltare o fare musica melodiosa, ballare con musiche rilassanti o gioiose, giocare e passeggiare in mezzo alla Natura… e fare all’Amore spesso con il proprio part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…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.sono l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cine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gratuit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che vanno utilizzate il più possibile per mantenersi in Perfetta Salute.</a:t>
            </a:r>
            <a:br>
              <a:rPr sz="2400"/>
            </a:br>
            <a:r>
              <a:rPr b="0" lang="it-IT" sz="2400" spc="-1" strike="noStrike">
                <a:solidFill>
                  <a:srgbClr val="ff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8:59:58Z</dcterms:created>
  <dc:creator>vanoli</dc:creator>
  <dc:description/>
  <dc:language>en-US</dc:language>
  <cp:lastModifiedBy>G.Paolo</cp:lastModifiedBy>
  <dcterms:modified xsi:type="dcterms:W3CDTF">2012-05-16T10:09:31Z</dcterms:modified>
  <cp:revision>53</cp:revision>
  <dc:subject/>
  <dc:title>MEDICINA NATURALE</dc:title>
</cp:coreProperties>
</file>