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C28-36F1-4860-ACAE-2A99641D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2D3D-B5D6-4AC6-AE67-E889CDAF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D7B-2106-4813-A0F9-1B7EBB76F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74A-9C22-4EA9-A179-EE4DED52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23E0-E0F6-48DE-810C-CE214570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EDF69-09A0-4263-8003-B3810505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1942-799A-4F8F-8ECF-08E492B0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528F-45D7-4D6E-9A18-C1AAF38C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3C41-AD33-4089-9005-7D84B496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BE96-DF88-41F0-B78D-A21DAC02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66A1-F7BB-4BDE-B28F-7B14C40A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2E85-6DC0-47DA-A01A-627B066E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23BD-45A5-4839-9C2E-8D614828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A87B-D31E-460D-8E0D-87762277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BB37-3DFD-4E23-A2CD-6CE3A1C8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CD56D-D808-4C34-81D8-16773E7E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2528-C79A-41FA-8B5A-3A4373B2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42C1-E3B1-442A-9F2A-CF3A65AC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24AE-AFAF-449F-B20C-FFC61AA6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D8E9-6D17-4115-ABEF-237F430F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CE38-B18A-496D-8BA5-E0FCB269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4C99-0BBE-4050-894A-8D924F96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D8E5-31A6-4B35-97CD-4A5566E7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3A1-1782-469D-B6CA-EF111330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2D5C-624D-41B4-9A18-86E715E04BC1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8307-2ABA-4CAE-A70D-7BBA1442B9CD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F5B5-0876-46E0-90B3-B3BD570A672E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F35B-7793-4C73-837A-E4C48779C368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nat.org/" TargetMode="Externa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ednat.org/malattie_passato.htm" TargetMode="External"/><Relationship Id="rId2" Type="http://schemas.openxmlformats.org/officeDocument/2006/relationships/hyperlink" Target="http://www.mednat.org/filosofia/morte_cosasei.htm" TargetMode="External"/><Relationship Id="rId3" Type="http://schemas.openxmlformats.org/officeDocument/2006/relationships/hyperlink" Target="http://www.mednat.org/cure_natur/DNA.ht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ednat.org/medicina_allopatica.htm" TargetMode="External"/><Relationship Id="rId2" Type="http://schemas.openxmlformats.org/officeDocument/2006/relationships/hyperlink" Target="http://www.mednat.org/pericolo_farmaci.htm" TargetMode="External"/><Relationship Id="rId3" Type="http://schemas.openxmlformats.org/officeDocument/2006/relationships/hyperlink" Target="http://www.mednat.org/pericolo_farmaci.ht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ednat.org/cure_natur/nozione_terreno.htm" TargetMode="External"/><Relationship Id="rId2" Type="http://schemas.openxmlformats.org/officeDocument/2006/relationships/hyperlink" Target="http://www.mednat.org/ecologia/ecologia_base.htm" TargetMode="External"/><Relationship Id="rId3" Type="http://schemas.openxmlformats.org/officeDocument/2006/relationships/hyperlink" Target="http://www.mednat.org/alimentazione/alimentaz_base.htm" TargetMode="External"/><Relationship Id="rId4" Type="http://schemas.openxmlformats.org/officeDocument/2006/relationships/hyperlink" Target="http://www.mednat.org/medicinaturale2.htm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ednat.org/spirito/conflitti_spirituali.htm" TargetMode="External"/><Relationship Id="rId2" Type="http://schemas.openxmlformats.org/officeDocument/2006/relationships/hyperlink" Target="http://www.abc-transports.com/bamico.html" TargetMode="External"/><Relationship Id="rId3" Type="http://schemas.openxmlformats.org/officeDocument/2006/relationships/hyperlink" Target="http://www.mednat.org/spirito/spirito_base.htm" TargetMode="External"/><Relationship Id="rId4" Type="http://schemas.openxmlformats.org/officeDocument/2006/relationships/hyperlink" Target="http://www.abc-transports.com/bamico.html" TargetMode="External"/><Relationship Id="rId5" Type="http://schemas.openxmlformats.org/officeDocument/2006/relationships/hyperlink" Target="http://www.mednat.org/cure_natur/tecniche/naturismo.html" TargetMode="External"/><Relationship Id="rId6" Type="http://schemas.openxmlformats.org/officeDocument/2006/relationships/hyperlink" Target="http://www.mednat.org/cure_natur/cure_nat_base.htm" TargetMode="External"/><Relationship Id="rId7" Type="http://schemas.openxmlformats.org/officeDocument/2006/relationships/hyperlink" Target="http://www.mednat.org/medicina_allopatica.htm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3A95-7885-4F5D-92CC-319C65CEA574}" type="datetime"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53272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cc33"/>
                </a:solidFill>
                <a:latin typeface="Verdana"/>
              </a:rPr>
              <a:t>MEDICINA NATURALE</a:t>
            </a:r>
            <a:br>
              <a:rPr sz="4800"/>
            </a:br>
            <a:r>
              <a:rPr b="1" lang="it-IT" sz="4800" spc="-1" strike="noStrike">
                <a:solidFill>
                  <a:srgbClr val="33cc33"/>
                </a:solidFill>
                <a:latin typeface="Verdana"/>
              </a:rPr>
              <a:t>ALTERNATIVA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33"/>
                </a:solidFill>
                <a:latin typeface="Verdana"/>
              </a:rPr>
              <a:t>Madre di tutte le medi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</a:rPr>
              <a:t>è l’unica Medicina a misura d’uomo, NON invasiva e risolutiva per ogni malattia, dal raffreddore al Cancr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resentazione del dr. G. Paolo Vanoli, Giornalista (Albo speciale), Consulente in Scienza della Nutrizione e 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edicine Biologico Naturali (Ph.D. USA)  </a:t>
            </a:r>
            <a:br>
              <a:rPr sz="1600"/>
            </a:b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webmaster di </a:t>
            </a:r>
            <a:r>
              <a:rPr b="0" lang="it-IT" sz="1600" spc="-1" strike="noStrike" u="sng">
                <a:solidFill>
                  <a:srgbClr val="ff0033"/>
                </a:solidFill>
                <a:uFillTx/>
                <a:latin typeface="Arial"/>
                <a:hlinkClick r:id="rId1"/>
              </a:rPr>
              <a:t>www.mednat.org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7BC8-8BE7-4C35-9A4E-C0460B7E4EC4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La Medicina Biologico Naturale, Alternativa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7176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Essa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insegna ad 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applicare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correttamente le Regole Fondamentali per mantenere la 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Perfetta Salute 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nel suo insieme; questa metodologia implica una corrispettiva impostazione 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Etica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, comportamenti di Vita personali e sociali sempre più Perfet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Essa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è pertanto in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rimis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una 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Medicina Educativa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, perché richiede l'applicazione personale della propria volontà in ogni situazione di malEssere (essere nel male) per ricercare, trovare e risolvere le 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Vere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Cause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, cioè le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Trasgressione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alle Leggi del Cre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</a:rPr>
              <a:t>La DITTATURA SANITARIA</a:t>
            </a:r>
            <a:br>
              <a:rPr sz="3600"/>
            </a:br>
            <a:r>
              <a:rPr b="1" lang="it-IT" sz="3600" spc="-1" strike="noStrike">
                <a:solidFill>
                  <a:srgbClr val="ff0066"/>
                </a:solidFill>
                <a:latin typeface="Verdana"/>
              </a:rPr>
              <a:t>della medicina ufficial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"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Se non mettiamo la </a:t>
            </a:r>
            <a:r>
              <a:rPr b="1" i="1" lang="it-IT" sz="2000" spc="-1" strike="noStrike">
                <a:solidFill>
                  <a:srgbClr val="ffe0a3"/>
                </a:solidFill>
                <a:latin typeface="Verdana"/>
                <a:ea typeface="Verdana"/>
              </a:rPr>
              <a:t>Libertà delle Cure mediche</a:t>
            </a:r>
            <a:r>
              <a:rPr b="0" i="1" lang="it-IT" sz="2000" spc="-1" strike="noStrike">
                <a:solidFill>
                  <a:srgbClr val="ffe0a3"/>
                </a:solidFill>
                <a:latin typeface="Verdana"/>
                <a:ea typeface="Verdana"/>
              </a:rPr>
              <a:t>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nella Costituzione,  verrà il tempo in cui la medicina si organizzerà, piano piano e  senza farsene accorgere, in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una </a:t>
            </a:r>
            <a:r>
              <a:rPr b="1" i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Dittatura </a:t>
            </a:r>
            <a:r>
              <a:rPr b="1" i="1" lang="it-IT" sz="2000" spc="-1" strike="noStrike">
                <a:solidFill>
                  <a:srgbClr val="ffe0a3"/>
                </a:solidFill>
                <a:latin typeface="Verdana"/>
                <a:ea typeface="Verdana"/>
              </a:rPr>
              <a:t>nascosta</a:t>
            </a:r>
            <a:r>
              <a:rPr b="0" i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. E il tentativo di limitare l'arte della medicina solo ad una classe di persone, e la negazione di uguali privilegi alle altre “arti”, rappresenterà la Bastiglia della scienza medic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". </a:t>
            </a:r>
            <a:br>
              <a:rPr sz="2000"/>
            </a:br>
            <a:r>
              <a:rPr b="0" lang="it-IT" sz="1600" spc="-1" strike="noStrike">
                <a:solidFill>
                  <a:srgbClr val="ffe0a3"/>
                </a:solidFill>
                <a:latin typeface="Verdana"/>
                <a:ea typeface="Verdana"/>
              </a:rPr>
              <a:t>(By Benjamin Rush, firmatario  della Dichiarazione  d'Indipendenza USA - 17 Sett 1787)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vedi: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Rapporto Flexner e Dichiarazione di Alma 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+ Sindacato Rockefeller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ADA0-E402-42EC-94E8-FCCB56224810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</a:rPr>
              <a:t>La DITTATURA SANITARIA</a:t>
            </a:r>
            <a:br>
              <a:rPr sz="3600"/>
            </a:br>
            <a:r>
              <a:rPr b="1" lang="it-IT" sz="3600" spc="-1" strike="noStrike">
                <a:solidFill>
                  <a:srgbClr val="ff0066"/>
                </a:solidFill>
                <a:latin typeface="Verdana"/>
              </a:rPr>
              <a:t>della medicina imperante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I 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dittatori nascosti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(clandestini) della medicina ufficiale, d’altra parte li conosciamo molto bene…..; che vestano gli abiti dei “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ricercator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”, “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baron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” o degli “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scienziat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”, che si 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mimetizza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nelle “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obbies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accademiche” od operino nelle multinazionali del farmaci, sono loro quelli che “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conta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” e “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governa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” la medicina ufficiale.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Alle menti aperte e liberali il compito di reagire a questa marea montante di intolleranza anti-scientifica, prima che questi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nuovi tirann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arrivino ad insegnarci perfino</a:t>
            </a:r>
            <a:r>
              <a:rPr b="0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 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cosa e’ giusto e non e’ giusto pensa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…!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220 anni dopo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, questa situazione di 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dittatura sanitaria si e' realizzata </a:t>
            </a:r>
            <a:r>
              <a:rPr b="0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e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TU</a:t>
            </a:r>
            <a:r>
              <a:rPr b="0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caro lettore cosa fai 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per contrastarla</a:t>
            </a:r>
            <a:r>
              <a:rPr b="0" lang="it-IT" sz="1800" spc="-1" strike="noStrike">
                <a:solidFill>
                  <a:srgbClr val="ffe0a3"/>
                </a:solidFill>
                <a:latin typeface="Verdana"/>
                <a:ea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?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2ECC-41DE-4FB2-AE49-EB2F548799A7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Verdana"/>
              </a:rPr>
              <a:t>Codice Deontologico </a:t>
            </a:r>
            <a:br>
              <a:rPr sz="4400"/>
            </a:br>
            <a:r>
              <a:rPr b="1" lang="it-IT" sz="2800" spc="-1" strike="noStrike">
                <a:solidFill>
                  <a:srgbClr val="ff0066"/>
                </a:solidFill>
                <a:latin typeface="Verdana"/>
              </a:rPr>
              <a:t>della</a:t>
            </a:r>
            <a:r>
              <a:rPr b="1" lang="it-IT" sz="4400" spc="-1" strike="noStrike">
                <a:solidFill>
                  <a:srgbClr val="ff0066"/>
                </a:solidFill>
                <a:latin typeface="Verdana"/>
              </a:rPr>
              <a:t> Medicina Naturale </a:t>
            </a:r>
            <a:r>
              <a:rPr b="1" lang="it-IT" sz="2400" spc="-1" strike="noStrike">
                <a:solidFill>
                  <a:srgbClr val="ff0066"/>
                </a:solidFill>
                <a:latin typeface="Verdana"/>
              </a:rPr>
              <a:t>- 1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I 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Verdana"/>
              </a:rPr>
              <a:t>Princip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 che regolano il codice deontologico del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  <a:ea typeface="Verdana"/>
              </a:rPr>
              <a:t>Naturopat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 sono basati su antichi ma mai superati principi pratici teorici :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1 - </a:t>
            </a:r>
            <a:r>
              <a:rPr b="1" i="1" lang="it-IT" sz="2000" spc="-1" strike="noStrike">
                <a:solidFill>
                  <a:srgbClr val="ffff00"/>
                </a:solidFill>
                <a:latin typeface="Verdana"/>
                <a:ea typeface="Verdana"/>
              </a:rPr>
              <a:t>Vis medicatrix natura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: La natura porta con sé il potere della guarigione. Il naturopata incentiva e sostiene la forza vitale che è racchiusa nell'uomo e nella natura: la guarigione deriva dalla rimozione delle cause che impediscono la guarigione, piuttosto che la soppressione dei sintomi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2 - </a:t>
            </a:r>
            <a:r>
              <a:rPr b="1" i="1" lang="it-IT" sz="2000" spc="-1" strike="noStrike">
                <a:solidFill>
                  <a:srgbClr val="ffff00"/>
                </a:solidFill>
                <a:latin typeface="Verdana"/>
                <a:ea typeface="Verdana"/>
              </a:rPr>
              <a:t>Tolle causam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: il compito primario del naturopata è l' identificazione ed il trattamento delle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  <a:ea typeface="Verdana"/>
              </a:rPr>
              <a:t>cause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 che portano ad uno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  <a:ea typeface="Verdana"/>
              </a:rPr>
              <a:t>squilibri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 nelle condizioni di salute della perso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265D-70E7-4D14-9E13-390BDC719CB0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ttangolo 5"/>
          <p:cNvSpPr/>
          <p:nvPr/>
        </p:nvSpPr>
        <p:spPr>
          <a:xfrm>
            <a:off x="1071720" y="2071800"/>
            <a:ext cx="721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Verdana"/>
              </a:rPr>
              <a:t>Codice Deontologico </a:t>
            </a:r>
            <a:br>
              <a:rPr sz="4400"/>
            </a:br>
            <a:r>
              <a:rPr b="1" lang="it-IT" sz="2800" spc="-1" strike="noStrike">
                <a:solidFill>
                  <a:srgbClr val="ff0066"/>
                </a:solidFill>
                <a:latin typeface="Verdana"/>
              </a:rPr>
              <a:t>della</a:t>
            </a:r>
            <a:r>
              <a:rPr b="1" lang="it-IT" sz="4400" spc="-1" strike="noStrike">
                <a:solidFill>
                  <a:srgbClr val="ff0066"/>
                </a:solidFill>
                <a:latin typeface="Verdana"/>
              </a:rPr>
              <a:t> Medicina Naturale </a:t>
            </a:r>
            <a:r>
              <a:rPr b="1" lang="it-IT" sz="2400" spc="-1" strike="noStrike">
                <a:solidFill>
                  <a:srgbClr val="ff0066"/>
                </a:solidFill>
                <a:latin typeface="Verdana"/>
              </a:rPr>
              <a:t>- 2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714680"/>
            <a:ext cx="777240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3 - </a:t>
            </a:r>
            <a:r>
              <a:rPr b="1" i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Primum non noce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: si utilizzano tecniche e metodi che annullano o minimizzano il rischio di effetti collaterali. Il principio è l'utilizzo della forza minima necessaria per trattare le disfunzioni di energetiche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4 - </a:t>
            </a:r>
            <a:r>
              <a:rPr b="1" i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Autoresponsabilizzazi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nei confronti dello stile di vita che il soggetto conduce. L'educazione alla salute è alla base del benessere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5 - </a:t>
            </a:r>
            <a:r>
              <a:rPr b="1" i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Terapie Olistich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: vengono presi in considerazione i fattori fisici, emozionali, spirituali, ereditari, igienici alimentari e lavorativi oltreché ambientali e sociali, impostando un intervento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glob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in senso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olistic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6 - </a:t>
            </a:r>
            <a:r>
              <a:rPr b="1" i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Prevenzi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: il </a:t>
            </a:r>
            <a:r>
              <a:rPr b="0" lang="it-IT" sz="1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Terreno costituzion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, la struttura bioenergetica, la diatesi biologica sono prioritarie nell'accertamento dei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7 - </a:t>
            </a:r>
            <a:r>
              <a:rPr b="1" i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Fattori di Rischi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: Intervenendo in modo tale insegnando al soggetto come prevenirli ed evitarli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EA1C-38E0-4C49-B96B-A8B4942E0074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1B55-FFE3-4C45-BEA3-7E373773FF9E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5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</a:rPr>
              <a:t>DIRITTI e DOVERI </a:t>
            </a:r>
            <a:br>
              <a:rPr sz="3600"/>
            </a:br>
            <a:r>
              <a:rPr b="1" lang="it-IT" sz="3600" spc="-1" strike="noStrike">
                <a:solidFill>
                  <a:srgbClr val="ff0066"/>
                </a:solidFill>
                <a:latin typeface="Verdana"/>
              </a:rPr>
              <a:t>dei CITTADINI….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Da parte del singolo cittadino vi deve essere quindi il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DIRITTO -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DOVERE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ad imparare, cioè ad educarsi in materia di Salute e Prevenzione della stessa per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gestire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la propria Salute e quelle dei propri famigliar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Da parte delle strutture dello Stato (Sanitarie e Scolastiche), il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DOVERE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di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garantirne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l'insegnamen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Tutto cio’ farebbe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risparmiare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allo Stato: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miliardi di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Euros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it-IT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C89E-C9EB-4BA3-8B1C-BFC8D0B2666C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it-IT" sz="3200" spc="-1" strike="noStrike">
                <a:solidFill>
                  <a:srgbClr val="ff0066"/>
                </a:solidFill>
                <a:latin typeface="Verdana"/>
                <a:ea typeface="Times New Roman"/>
              </a:rPr>
              <a:t>Corso di Alimentazione e Nutrizione, secondo i principi della Medicina Naturale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Il Corso prevede 2 Sabati e Domeniche,  intervallati da 30 giorn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Dalle ore 10 del mattino alle 13 e nel pomeriggio dalle 14.30 alle 17.3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Presso: (indicare luogo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Prezzo a studente (da stabilire in funzione della quantita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4200" y="213840"/>
            <a:ext cx="8715600" cy="107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66"/>
                </a:solidFill>
                <a:latin typeface="Verdana"/>
              </a:rPr>
              <a:t>Definizione della parola MALATTI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a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1"/>
              </a:rPr>
              <a:t>Malatti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e’ una condizione in cui sono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alterat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la 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Psich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e quindi la sua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form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nel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fisic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, la struttura o la funzione di un organismo o di una sua parte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Essa e' quindi una malattia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MULTIFUNZIONALE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=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MULTIFATTORI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a </a:t>
            </a:r>
            <a:r>
              <a:rPr b="0" i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malatti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è anche un "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processo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evolutivo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che porta SEMPRE a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Consapevolezz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" che può giungere alla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guarigi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, oppure cronicizzarsi o condurre a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2"/>
              </a:rPr>
              <a:t>mort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a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malattia quindi e’ UNA SOLA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con tendenti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infinit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sintom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diversi da soggetto a soggetto !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Essa segue il percorso: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PsicoNeuroGastroIntestinalEndocrinoImmunologic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, deprimendo quindi le difese di reazione immunitarie naturali.. Inoltre la malattia qualsiasi essa sia, si trasmette facilmente attraverso il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3"/>
              </a:rPr>
              <a:t>DN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alle future generazioni, divenendo sempre più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precoc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,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Verdana"/>
              </a:rPr>
              <a:t>pericolos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e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virulent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59B6-0EFA-4257-B75C-AEB35195A5DD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35E2-D638-404C-938A-0278502750B0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Introduzione alla </a:t>
            </a:r>
            <a:r>
              <a:rPr b="1" lang="it-IT" sz="3200" spc="-1" strike="noStrike">
                <a:solidFill>
                  <a:srgbClr val="ff0066"/>
                </a:solidFill>
                <a:latin typeface="Verdana"/>
                <a:ea typeface="Times New Roman"/>
              </a:rPr>
              <a:t>MEDICINA BIOLOGICO, NATURALE, ALTERNATIVA</a:t>
            </a: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- 1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Essa è la Scienza che procede indagando sulle Vere cause che provocano le malattie, cercando di risolverle nel miglior ed unico modo possibile e cioè, rimuovendo tutte le cause ri-trovate, </a:t>
            </a:r>
            <a:r>
              <a:rPr b="1" lang="it-IT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senza</a:t>
            </a:r>
            <a:r>
              <a:rPr b="1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ricorrere se possibile ad interventi cruenti o tossico/nocivi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per gli stati fisiologici e psichici generali, seguendo procedure che siano in sintonia con le "Leggi Cosmiche Naturali”.</a:t>
            </a:r>
            <a:br>
              <a:rPr sz="2000"/>
            </a:br>
            <a:r>
              <a:rPr b="0" lang="it-IT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La medicina occidentale (detta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1"/>
              </a:rPr>
              <a:t>allopatica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) al contrario con un approccio riduzionista isola le parti malate e cura il </a:t>
            </a:r>
            <a:r>
              <a:rPr b="1" lang="it-IT" sz="2000" spc="-1" strike="noStrike">
                <a:solidFill>
                  <a:srgbClr val="ffe0a3"/>
                </a:solidFill>
                <a:latin typeface="Verdana"/>
                <a:ea typeface="Verdana"/>
              </a:rPr>
              <a:t>sintomo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 con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2"/>
              </a:rPr>
              <a:t>farma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 contenenti principi attivi </a:t>
            </a:r>
            <a:r>
              <a:rPr b="1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sintet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 (cioe’ </a:t>
            </a:r>
            <a:r>
              <a:rPr b="0" lang="it-IT" sz="20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3"/>
              </a:rPr>
              <a:t>tossici</a:t>
            </a:r>
            <a:r>
              <a:rPr b="0" lang="it-IT" sz="2000" spc="-1" strike="noStrike">
                <a:solidFill>
                  <a:srgbClr val="ffffff"/>
                </a:solidFill>
                <a:latin typeface="Verdana"/>
                <a:ea typeface="Verdana"/>
              </a:rPr>
              <a:t>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400" y="6091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La MEDICINA BIOLOGICO, NATURALE, ALTERNATIVA </a:t>
            </a:r>
            <a:r>
              <a:rPr b="1" lang="it-IT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- 2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Mentre l'approccio con le Medicine  Naturali Tradizionali e' olistico, la diagnosi e' totale e grande attenzione e' riservata all'ambiente (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1"/>
              </a:rPr>
              <a:t>corpore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ed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2"/>
              </a:rPr>
              <a:t>estern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), all'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3"/>
              </a:rPr>
              <a:t>alimentazion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ed all'utilizzo di </a:t>
            </a:r>
            <a:r>
              <a:rPr b="1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rimedi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non di sintesi chimica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a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4"/>
              </a:rPr>
              <a:t>Medicina Natur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tende a rimuovere il od i sintomi eliminandone le cause prime, con varie terapie basate su tecniche appropriate, le sole che si basano sulla concezione della Salute come lo stato di ordine, e cura ogni disordine patologico con “medicine-rimedi” di tre categorie (vegetale, animale, minerale) per determinare l’ordine e l’equilibrio con il temperamento individuale, ma e soprattutto con l’Alimentazione appropriata (crudista). 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5D333-B408-496A-A3B3-FB9399E68D5A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6091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66"/>
                </a:solidFill>
                <a:latin typeface="Verdana"/>
                <a:ea typeface="Times New Roman"/>
              </a:rPr>
              <a:t>La MEDICINA BIOLOGICO, NATURALE, ALTERNATIVA </a:t>
            </a:r>
            <a:r>
              <a:rPr b="1" lang="it-IT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- 3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a cura della propria guarigione consiste fondamentalmente in una trasmutazione-trasformazione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1"/>
              </a:rPr>
              <a:t>psico/mental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raggiunta con l’opportuna informazione fornita dalle Leggi della Medicina Naturale. Essa e' quindi tutta impostata per ottenere e mantenere il massimo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2"/>
              </a:rPr>
              <a:t>Benesser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3"/>
              </a:rPr>
              <a:t>Psico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–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4"/>
              </a:rPr>
              <a:t>fisico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a Salute la si riprende solo con la liberazione psichica e la Medicina Naturale tende, infatti, attraverso il sacrificio dell’applicazione della volonta’, a restituire l'individuo alla primordiale identita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a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5"/>
              </a:rPr>
              <a:t>Naturopati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e le cosiddette "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6"/>
              </a:rPr>
              <a:t>Tecniche Naturopatiche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" sono oggi qualificate come Medicine Complementari nel rispetto della </a:t>
            </a:r>
            <a:r>
              <a:rPr b="0" lang="it-IT" sz="1800" spc="-1" strike="noStrike" u="sng">
                <a:solidFill>
                  <a:srgbClr val="ff0033"/>
                </a:solidFill>
                <a:uFillTx/>
                <a:latin typeface="Verdana"/>
                <a:ea typeface="Verdana"/>
                <a:hlinkClick r:id="rId7"/>
              </a:rPr>
              <a:t>Medicina Allopatic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C43C-991B-4503-A73C-8AFD200C5CD3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5840" y="6091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La MEDICINA BIOLOGICO, NATURALE, ALTERNATIVA </a:t>
            </a:r>
            <a:r>
              <a:rPr b="1" lang="it-IT" sz="2400" spc="-1" strike="noStrike">
                <a:solidFill>
                  <a:srgbClr val="ff0066"/>
                </a:solidFill>
                <a:latin typeface="Verdana"/>
                <a:ea typeface="Times New Roman"/>
              </a:rPr>
              <a:t>- 4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L'interesse per questa antichissima disciplina, si sta diffondendo sempre di più in tutta Europa e nel Mondo. </a:t>
            </a:r>
            <a:br>
              <a:rPr sz="1800"/>
            </a:b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Paesi come la Germania la Spagna e Portogallo la Grecia e la Svezia già da decenni considerano il </a:t>
            </a:r>
            <a:r>
              <a:rPr b="0" lang="it-IT" sz="1800" spc="-1" strike="noStrike">
                <a:solidFill>
                  <a:srgbClr val="ff0000"/>
                </a:solidFill>
                <a:latin typeface="Verdana"/>
                <a:ea typeface="Verdana"/>
              </a:rPr>
              <a:t>Naturopata</a:t>
            </a: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 professionista il cui fine primario è prevenire l'insorgenza di forme patologiche ed è specializzato nel mantenere lo stato di benessere dell'uomo, insegnando al malato le Leggi della Natura e consigliandolo nel suo divenire verso la Salute Perfetta.</a:t>
            </a:r>
            <a:br>
              <a:rPr sz="1800"/>
            </a:br>
            <a:r>
              <a:rPr b="0" lang="it-IT" sz="1800" spc="-1" strike="noStrike">
                <a:solidFill>
                  <a:srgbClr val="ffffff"/>
                </a:solidFill>
                <a:latin typeface="Verdana"/>
                <a:ea typeface="Verdana"/>
              </a:rPr>
              <a:t>Per l’individuo divenire consapevole sul come mantenere la propria salute e’ ormai divenuta una soluzione IMPORTANTE anche per limitare le spese sanitarie dello Sta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8BAD-C59B-4EFC-95BD-34BDAE9C38D3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data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BB6A-7970-4F05-9A8B-10A3A3CF22BB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Segnaposto piè di pagina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Si tratta dell'applicazione, attraverso……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Educazione alla </a:t>
            </a:r>
            <a:r>
              <a:rPr b="1" lang="it-IT" sz="1800" spc="-1" strike="noStrike">
                <a:solidFill>
                  <a:srgbClr val="ffe0a3"/>
                </a:solidFill>
                <a:latin typeface="Verdana"/>
                <a:ea typeface="Times New Roman"/>
              </a:rPr>
              <a:t>Salute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 (Alimentare e Nutrizionale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Procedimenti fisici e psicologici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e0a3"/>
                </a:solidFill>
                <a:latin typeface="Verdana"/>
                <a:ea typeface="Times New Roman"/>
              </a:rPr>
              <a:t>Alimentazione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Biodinamica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 ed impiego di sostanze naturali ed atossiche, atte a ripristinare le "alterazioni" PsicoFisiche e le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intossicazioni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 intervenute nello stato di 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malatt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Utilizzo di particolari Tecniche della Medicina Natura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Per mantenere la Perfetta Salute occorre rispettare delle regole </a:t>
            </a:r>
            <a:r>
              <a:rPr b="1" lang="it-IT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Fondamentali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 che si possono sintetizzare nel saper controllare il corpo in modo che sia mantenuto 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il più possibile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pulito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, non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intossicato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, con un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pH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 fisiologico verso il </a:t>
            </a:r>
            <a:r>
              <a:rPr b="1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neutro</a:t>
            </a:r>
            <a:r>
              <a:rPr b="1" lang="it-IT" sz="1800" spc="-1" strike="noStrike">
                <a:solidFill>
                  <a:srgbClr val="ff0033"/>
                </a:solidFill>
                <a:latin typeface="Verdana"/>
                <a:ea typeface="Times New Roman"/>
              </a:rPr>
              <a:t> o leggermente Basico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, ciò per star bene e vivere il più possibile nel benEssere (essere nel Bene).</a:t>
            </a:r>
            <a:r>
              <a:rPr b="0" lang="it-IT" sz="1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90A0-1F8B-4FA9-A960-7AE477782E57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Per rimanere in quei limiti </a:t>
            </a:r>
            <a:br>
              <a:rPr sz="3600"/>
            </a:b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occorre che…..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62120" y="2214720"/>
            <a:ext cx="761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…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ci si alimenti con diete idriche di acque adatte a pH &gt; 7,3 e con pasti preparati con cibi integrali biodinamici il piu’ possibile CRUDI (dieta Crudista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- praticando ginnastiche o movimento all'aria aperta e con la pelle in contatto con il sole e l'aria, riposando adeguatamente, respirando bene e profondamente, cercando di non crearsi degli inutili </a:t>
            </a:r>
            <a:r>
              <a:rPr b="1" lang="it-IT" sz="2000" spc="-1" strike="noStrike">
                <a:solidFill>
                  <a:srgbClr val="ff0033"/>
                </a:solidFill>
                <a:latin typeface="Verdana"/>
                <a:ea typeface="Times New Roman"/>
              </a:rPr>
              <a:t>Conflitti Spirituali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  oltre a quelli che la vita stessa propone, arrivando a pensare in positivo il più possibile in modo da digerire bene anche tutte le asperità della vita…….e……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egnaposto data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947B-B8A4-4E77-A4C5-82402685572F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Segnaposto piè di pagina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Tratto da http://www.medna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66"/>
                </a:solidFill>
                <a:latin typeface="Verdana"/>
                <a:ea typeface="Times New Roman"/>
              </a:rPr>
              <a:t>Fare all'Amore spesso e bene con il proprio partne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……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meditare, riflettere, pregare, ascoltare o fare musica melodiosa, ballare con musiche rilassanti o gioiose, giocare e passeggiare in mezzo alla Natura… e fare all’Amore spesso con il proprio part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…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.sono le </a:t>
            </a:r>
            <a:r>
              <a:rPr b="1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medicine </a:t>
            </a:r>
            <a:r>
              <a:rPr b="1" lang="it-IT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gratuite</a:t>
            </a:r>
            <a:r>
              <a:rPr b="0" lang="it-IT" sz="2400" spc="-1" strike="noStrike">
                <a:solidFill>
                  <a:srgbClr val="ffff00"/>
                </a:solidFill>
                <a:latin typeface="Verdana"/>
                <a:ea typeface="Times New Roman"/>
              </a:rPr>
              <a:t> che vanno utilizzate il più possibile per mantenersi in Perfetta Salute.</a:t>
            </a:r>
            <a:br>
              <a:rPr sz="2400"/>
            </a:br>
            <a:r>
              <a:rPr b="0" lang="it-IT" sz="2400" spc="-1" strike="noStrike">
                <a:solidFill>
                  <a:srgbClr val="ff0033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3T18:59:58Z</dcterms:created>
  <dc:creator>vanoli</dc:creator>
  <dc:description/>
  <dc:language>en-US</dc:language>
  <cp:lastModifiedBy>G.Paolo</cp:lastModifiedBy>
  <dcterms:modified xsi:type="dcterms:W3CDTF">2012-05-16T10:09:31Z</dcterms:modified>
  <cp:revision>53</cp:revision>
  <dc:subject/>
  <dc:title>MEDICINA NATURALE</dc:title>
</cp:coreProperties>
</file>