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691-1DBF-4959-840F-0E661AE0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9C9-5644-457F-BC49-81BCBB1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4EB-B0B4-4270-BDCA-4BE90467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9E6-A2E5-43D7-8C12-32C1B881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FA4-1782-4AA8-86B6-BB7BC5F0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F41-306F-4772-A52A-3F190DFB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539-FC8C-4629-8719-1D9CDE0A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CE5-8B03-4B2D-BF15-3C20B17D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449-5185-4874-A068-A14F33AD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1ED-BEA1-441E-9B80-1B34A946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C68-2C4D-431B-9320-5E188526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8CF-1100-49DB-B5CC-E1196715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FA6E-51BE-43AB-9734-6C13B62DE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60480" y="0"/>
            <a:ext cx="10669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187956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e si potesse ridurre la popolazione del mondo in un villaggio di 100 personn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 mantenendo le proporzioni di tutti i popoli esistenti sulla Terr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questo villaggio sarebbe così compost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57 asiatici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1 europ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14 americani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Nord, Centro e Sud)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08 afric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84880" y="481824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E ALLOR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71600" y="0"/>
            <a:ext cx="784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avor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come se non avessi bisogno di denaro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m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come se nessuno ti avesse mai fatto soffrir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Ball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come se nessuno ti guardass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ant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come se nessuno ti ascoltass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Vivi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e se il paradiso fosse sulla T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2666880"/>
            <a:ext cx="822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nvia questo messaggio ai tuoi am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Quelli che tratteranno questo con stupidaggine lasc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nella loro immagine allo specchio dell’egocent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e non lo invii, non succederà nulla.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e l’invii, qualcuno potrà sorridere leggen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 questo sarebbe già tanto di guadagnato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71120" y="100188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LLORA BUONA GIORNA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EMPLICEMEN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30492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i sarebbero :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52 donne e 48 uomini 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30 bianchi e 70 non bianchi 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30 cristiani e 70 non cristian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89 eterosessuali  e 11 omosess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8456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6 persone possederebbero 59 % della ricchezz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totale e tutti sarebbero originari degli U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80 vivrebbero in case povere 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70 sarebbero analfabeti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50 soffrirebbero di malnutr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 starebbe per morire 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 starebbe per nascere 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 possiederebbe un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 (sì, uno solo) avrebbe una laurea universitaria</a:t>
            </a: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281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e si  considera il Mondo in questo mo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ahoma"/>
              </a:rPr>
              <a:t>Il bisogno di accettare e comprendere diventa evidente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a, prendete in considerazione anche ques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2602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 vi siete alzati questa mattina in buona salute, siete più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ortunati del milione di persone che non vedranno la prossima settimana.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219240" y="-12600"/>
            <a:ext cx="778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 non siete mai stati nel pericolo di una guerra,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olitudine di una prigione, nell’agonia della tortu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ella fame, state meglio di 500 milioni di pers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920" y="152280"/>
            <a:ext cx="87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 potete andare in chiesa senza paura di essere minaccia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orturati o uccisi, avete più fortuna di 3 miliardi di pers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371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 avete cibo nel vostro frigo, abiti addosso, un tetto sulla vostra testa e un luogo dove dormire, siete più ricchi del 75 % degli abitanti della T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e nello stesso tempo avete denaro in banca, nel portafoglio e monete in un salvadanaio, fate parte dell’8% dei privilegi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i questo Mo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800" y="76320"/>
            <a:ext cx="84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Se i vostri genitori sono ancora vivi e ancora sposa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siete una persona veramente rar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 qualcuno vi ha spedito questo messaggio, voi av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ppena ricevuto una doppia benedizi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erchè qualcuno ha pensato a voi e perchè non fate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i 2 miliardi di persone che non sanno leggere.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08:45:26Z</dcterms:created>
  <dc:creator/>
  <dc:description/>
  <dc:language>en-US</dc:language>
  <cp:lastModifiedBy>ZZZ</cp:lastModifiedBy>
  <dcterms:modified xsi:type="dcterms:W3CDTF">2005-11-18T13:45:42Z</dcterms:modified>
  <cp:revision>29</cp:revision>
  <dc:subject/>
  <dc:title>Diapositiva 1</dc:title>
</cp:coreProperties>
</file>