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9D5-494A-4939-92A8-E03D9BC3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D60-AA8D-4716-92D9-56D50EF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10C-E7C2-499E-A5F1-F70E28A0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810-19BF-4E59-82C3-B3B1FE9F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05A-6582-4508-A2BF-3511524B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555-7D42-4A7A-A9E6-EB493596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CBF-65C1-415F-8484-97809984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398B-E459-4EF0-866C-355D2F7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494-7592-47A0-AFEF-CD590E72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FD7-855F-46B7-AB94-05E5E941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23F3-293D-4547-A3C6-69D92298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AE3-2421-40B3-8CE5-379C9C2A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51C0-FBD1-4F83-BEDD-4CC57D4DD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60480" y="0"/>
            <a:ext cx="10669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1879560"/>
            <a:ext cx="7620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e si potesse ridurre la popolazione del mondo in un villaggio di 100 personn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, mantenendo le proporzioni di tutti i popoli esistenti sulla Terr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questo villaggio sarebbe così composto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57 asiatici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21 europ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14 americani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(Nord, Centro e Sud)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08 afric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84880" y="4818240"/>
            <a:ext cx="22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</a:rPr>
              <a:t>E ALLOR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71600" y="0"/>
            <a:ext cx="7843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Lavor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on avessi bisogno di denaro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m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avesse mai fatto soffrir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Ball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guardass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Canta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come se nessuno ti ascoltass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Vivi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me se il paradiso fosse sul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666880"/>
            <a:ext cx="822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nvia questo messaggio ai tuoi am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Quelli che tratteranno questo con stupidaggine las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nella loro immagine allo specchio dell’egocentr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non lo invii, non succederà nulla.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l’invii, qualcuno potrà sorridere leggen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E questo sarebbe già tanto di guadagnato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71120" y="1001880"/>
            <a:ext cx="43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ALLORA BUONA GIORNAT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SEMPLICEMENT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304920"/>
            <a:ext cx="609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Ci sarebbero :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52 donne e 48 uomini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30 bianchi e 70 non bianchi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30 cristiani e 70 non cristiani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89 eterosessuali  e 11 omosess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8456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53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6 persone possederebbero 59 % della ricchezz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totale e tutti sarebbero originari degli US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80 vivrebbero in case povere 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70 sarebbero analfabeti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50 soffrirebbero di malnutr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starebbe per morire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starebbe per nascere  </a:t>
            </a:r>
            <a:br>
              <a:rPr sz="2400"/>
            </a:b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possiederebbe un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1 (sì, uno solo) avrebbe una laurea universitaria</a:t>
            </a:r>
            <a:r>
              <a:rPr b="0" lang="fr-FR" sz="24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0"/>
            <a:ext cx="912816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si  considera il Mondo in questo mo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cccff"/>
                </a:solidFill>
                <a:latin typeface="Tahoma"/>
              </a:rPr>
              <a:t>Il bisogno di accettare e comprendere diventa evidente.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Ma, prendete in considerazione anche quest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260280"/>
            <a:ext cx="807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vi siete alzati questa mattina in buona salute, siete più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fortunati del milione di persone che non vedranno la prossima settimana.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-219240" y="-12600"/>
            <a:ext cx="7787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non siete mai stati nel pericolo di una guerra,n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olitudine di una prigione, nell’agonia della tortur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ella fame, state meglio di 500 milioni di pers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3920" y="152280"/>
            <a:ext cx="87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potete andare in chiesa senza paura di essere minacci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torturati o uccisi, avete più fortuna di 3 miliardi di pers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137160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avete cibo nel vostro frigo, abiti addosso, un tetto sulla vostra testa e un luogo dove dormire, siete più ricchi del 75 % degli abitanti della T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3049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Se nello stesso tempo avete denaro in banca, nel portafoglio e monete in un salvadanaio, fate parte dell’8% dei privilegi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i questo Mo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-1800" y="76320"/>
            <a:ext cx="84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Se i vostri genitori sono ancora vivi e ancora sposat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ahoma"/>
              </a:rPr>
              <a:t>siete una persona veramente rara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Se qualcuno vi ha spedito questo messaggio, voi ave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ppena ricevuto una doppia benedi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erchè qualcuno ha pensato a voi e perchè non fate p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 2 miliardi di persone che non sanno leggere.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8:45:26Z</dcterms:created>
  <dc:creator/>
  <dc:description/>
  <dc:language>en-US</dc:language>
  <cp:lastModifiedBy>ZZZ</cp:lastModifiedBy>
  <dcterms:modified xsi:type="dcterms:W3CDTF">2005-11-18T13:45:42Z</dcterms:modified>
  <cp:revision>29</cp:revision>
  <dc:subject/>
  <dc:title>Diapositiva 1</dc:title>
</cp:coreProperties>
</file>